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7C7C-E9A0-4F2D-975E-BBE65E9AB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077B-7B10-437C-AF6C-6890B4F0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9ADC-2EDD-4F07-977E-2FE153385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B78C-B4C9-481F-A1D8-FFF08FBBD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4868-AA42-4F0C-B438-F58FDE601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73C6-79FB-4E6B-8D57-312BC94BA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1212-61D8-4B8D-827A-C4E11F969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66AC-84F7-4CF8-88AB-DC85E3317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B423-9B00-4647-8451-965FE3115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B05A-0050-41D5-9BC9-57385F355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CE81-646D-485D-B764-FD0FE8CA2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F9EC-E6F5-4EA2-A420-4A6B35115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A0E9-4F78-429B-B5AA-B65E4F67A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D36A-B496-487A-AB35-999BDE567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5FF7-43BA-47E4-88AD-FF47928B10E9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a/Buncefield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PAWEL.KRAWCZYK@HEWITT.COM" TargetMode="External"/><Relationship Id="rId2" Type="http://schemas.openxmlformats.org/officeDocument/2006/relationships/hyperlink" Target="http://www.linkedin.com/in/pawelkrawczyk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77777"/>
                </a:solidFill>
                <a:latin typeface="Verdana"/>
              </a:rPr>
              <a:t>Real Life </a:t>
            </a:r>
            <a:br>
              <a:rPr sz="2800"/>
            </a:br>
            <a:r>
              <a:rPr b="1" lang="pl-PL" sz="2800" spc="-1" strike="noStrike">
                <a:solidFill>
                  <a:srgbClr val="777777"/>
                </a:solidFill>
                <a:latin typeface="Verdana"/>
              </a:rPr>
              <a:t>Information Security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69696"/>
                </a:solidFill>
                <a:latin typeface="Verdana"/>
              </a:rPr>
              <a:t>Bringing cost-benefit analysis into risk managemen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What makes Control cos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Roll-ou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Ob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Change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ot so ob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Managemen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ot so ob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End-user usage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Largely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Especially if out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5080" y="1987560"/>
            <a:ext cx="4041720" cy="344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57680" y="5251320"/>
            <a:ext cx="39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ource: Flickr (d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ve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5B9B-5024-4362-B6E9-B7F725D111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1920" y="3315960"/>
            <a:ext cx="7870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Verdana"/>
              </a:rPr>
              <a:t>Potential loss </a:t>
            </a:r>
            <a:r>
              <a:rPr b="1" lang="pl-PL" sz="2900" spc="-1" strike="noStrike">
                <a:solidFill>
                  <a:srgbClr val="000000"/>
                </a:solidFill>
                <a:latin typeface="Verdana"/>
                <a:ea typeface="Arial"/>
              </a:rPr>
              <a:t>→ Control → Real loss</a:t>
            </a:r>
            <a:br>
              <a:rPr sz="2900"/>
            </a:br>
            <a:br>
              <a:rPr sz="2900"/>
            </a:br>
            <a:r>
              <a:rPr b="1" lang="pl-PL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5613-6083-4D12-9D18-8DEFBB9B02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3760" y="2506320"/>
            <a:ext cx="7870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Case stud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D6A1-6FCE-4326-A5C1-B324635ACA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Qualified Certificate in ZUS*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ZUS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oll-out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ministration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Taxpayer costs (245’000 QC’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100-140 million PLN – one-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~40 million PLN – annual QC renew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Future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ttribute certificates (ZUS &amp; taxpayers)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e-PUAP trusted profiles” (ZUS)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4240" y="5834160"/>
            <a:ext cx="40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ource: Money.pl, Z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" y="5475240"/>
            <a:ext cx="56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* ZUS = Polish public pensions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CA34-DA90-44C6-86BE-7A423F2A07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Invoic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What’s the cost of invoic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People, paper, printing, postal,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verage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Arial"/>
              </a:rPr>
              <a:t>€1,4 per paper in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Arial"/>
              </a:rPr>
              <a:t>Ultimat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  <a:ea typeface="Arial"/>
              </a:rPr>
              <a:t>Give up VAT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  <a:ea typeface="Arial"/>
              </a:rPr>
              <a:t>When e-invoicing makes sen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9111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  <a:ea typeface="Arial"/>
              </a:rPr>
              <a:t>Electronic invoice TCO  &lt;&lt;  Paper invoice T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9111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  <a:ea typeface="Arial"/>
              </a:rPr>
              <a:t>Theory: €0,4 versus €1,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9111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  <a:ea typeface="Arial"/>
              </a:rPr>
              <a:t>Key word: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585720" y="5797440"/>
            <a:ext cx="42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ources: EU MEMO/00/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7597-4598-4062-8CF8-016A9F61A2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E-Invoicing in Europ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41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OCES &amp; other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OCES: Quite simple origin &amp; integrity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OCES: Proportional to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-invoicing ri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Around 66%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of all invoices are e-inv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4720" y="1294920"/>
            <a:ext cx="4041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Only QES &amp; EDI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EDI: supermarkets on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QES: Not designed for automatic sign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QES: More legal that real 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Around 5%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of companies use e-invo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834160"/>
            <a:ext cx="59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ources: EEI 2007, ITST, OECD; GUS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5F79-0D19-4C4B-AADD-2070F6AA5F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Risk Management in e-bank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295280"/>
          <a:ext cx="8229600" cy="4307040"/>
        </p:xfrm>
        <a:graphic>
          <a:graphicData uri="http://schemas.openxmlformats.org/drawingml/2006/table">
            <a:tbl>
              <a:tblPr/>
              <a:tblGrid>
                <a:gridCol w="1447920"/>
                <a:gridCol w="996840"/>
                <a:gridCol w="2781360"/>
                <a:gridCol w="3003480"/>
              </a:tblGrid>
              <a:tr h="50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 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vid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lions of cl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 non-repudiation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↑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le,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g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ud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g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ud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security,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↑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Low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ud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rtc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usable,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g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↑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repud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673200" y="5799240"/>
            <a:ext cx="65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Source: Bankier.pl report, October 2009 (selected data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6A77-39E4-46F4-8059-38FF2F9FE0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Laffer’s curve in secu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911240" y="1295280"/>
          <a:ext cx="53197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1295280"/>
                    <a:ext cx="53197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84360" y="597204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ource: Wikip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C1B6-6765-4ED9-9007-8CC7A41E56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Mayfield’s Paradox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01920" y="1301760"/>
            <a:ext cx="6249960" cy="4197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47720" y="5764320"/>
            <a:ext cx="75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ource: ISACA, „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thematical</a:t>
            </a: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 Proof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f Mayfield's Paradox</a:t>
            </a: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”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CBD2-868E-4B7E-B6F4-33395C36F0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9240" y="2715840"/>
            <a:ext cx="7870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How to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6ADF-A0E4-4C30-8C81-4D84F94325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Hewitt  Associa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Human Resources Outsour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~25’000 employee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Highly sensitive clients’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5837-2BC2-4197-B85C-3F12889565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Pitfall of „One-size fits all” approa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86000" y="1297080"/>
          <a:ext cx="637200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1297080"/>
                    <a:ext cx="637200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8A10-9004-4332-8162-D1825C4C14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092240" y="274680"/>
          <a:ext cx="6959520" cy="58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274680"/>
                    <a:ext cx="69595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6560" y="60310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ource: Willem Duiff, GE (SASMA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2822-5D8C-4744-BE80-5FEB5EAA41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Control ques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Before deploying a new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Do my controls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help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, instead of breaking proce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How do my controls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help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business do its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Before asking for new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What we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earned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on last projec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28B4-F7D5-4764-8E94-40FAD53075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Is security a cos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Security is an investment to prevent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Spend $100k to prevent losing $1m = 10x benef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OT: „Security again spent $100k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YES: „Security helped save $1M for just $100k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041F-7E0A-4DA1-B9D2-C1EBC59BA9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How FDE saves mone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Office break-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Four laptops st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All with full-disk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Cost of incident –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Verdan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Hardware – insu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ata confidentality – able to prove to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ata availability – backups &amp; network dr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Where’s ROI of F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No $$$ in f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No $$ in breach not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No $? in brand da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A70A-62BE-4F2A-8B79-979A39E301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Building a consistent security policy #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Should people should take their laptops ho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sn’t that increasing risk of thef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Laptop thef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Lose laptop ($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Los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data ($$$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661080" y="2454120"/>
            <a:ext cx="9720" cy="11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Crime pays. by aresnick."/>
          <p:cNvPicPr/>
          <p:nvPr/>
        </p:nvPicPr>
        <p:blipFill>
          <a:blip r:embed="rId2"/>
          <a:stretch/>
        </p:blipFill>
        <p:spPr>
          <a:xfrm>
            <a:off x="4581360" y="1901880"/>
            <a:ext cx="4265640" cy="307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9200" y="536400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0880" y="5823000"/>
            <a:ext cx="39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ource: Flickr (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resni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4CDF-9744-4FFD-B06E-37FE8F0268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Building a consistent security policy #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Laptop at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Work from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isaster recovery, business continu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Examples: UK snow (2009), London flood (2009), Hemel Hempstead explosion (200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Need to prevent the other r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File:Buncefield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5080" y="1987560"/>
            <a:ext cx="4041720" cy="3446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50880" y="5823000"/>
            <a:ext cx="39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ource: Wikip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3DA5-4B8B-46D4-8B31-E0CF514BAB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Building a consistent security policy #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7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End-use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Tahoma"/>
              </a:rPr>
              <a:t>Always take your laptop hom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DE is standard, non-optional pro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AE60-2957-4280-BA4B-C28DC80181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Things we learned when talking to bussine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void „weasel talk” and buzzw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6080" indent="-2246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Some attacks exist that might pose a significant risk..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Use as much facts and numbers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6080" indent="-2246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use industry repor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6080" indent="-2246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Be careful with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vendo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2520" indent="-224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Tahoma"/>
              </a:rPr>
              <a:t>How spam filtering helps preventing global warm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6080" indent="-2246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ilte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them through your company’s reality che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6080" indent="-2246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Lear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from historic incidents in your organi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erform periodic review of your contr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6080" indent="-2246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ake sure at the old threat is still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6080" indent="-2246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ake sure no new threats appe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110D-10D2-4DFB-AD4C-20728C7D8A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Questions, com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PAWEL.KRAWCZYK@HEWIT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linkedin.com/in/pawelkrawczy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5E2F-49DF-44CD-B7B0-CCD682A1F0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HRO Marke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Not </a:t>
            </a:r>
            <a:r>
              <a:rPr b="1" i="1" lang="pl-PL" sz="2800" spc="-1" strike="noStrike">
                <a:solidFill>
                  <a:srgbClr val="000000"/>
                </a:solidFill>
                <a:latin typeface="Verdana"/>
              </a:rPr>
              <a:t>purely</a:t>
            </a: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 fina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Mostly B2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Highly compet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Stay compet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Stay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91C9-18C9-489B-8B11-D92D6055D1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Shepherds or policemen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Very high pressure from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No „one size fits all”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Lessons lear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lk to 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Have real arg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lk 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Where do all these numbers come fr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634F-2D3B-4831-859E-56AFEB706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From the pa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5996160"/>
            <a:ext cx="3429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3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ource: DatalossDB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948040"/>
          <a:ext cx="82296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48040"/>
                    <a:ext cx="8229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854E-6221-4446-B5F3-3FB3816443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From market analytic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~$100 USD per 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No actual abuse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Losing control” i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 bad 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How much to spend and where to stop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1120" y="5553000"/>
            <a:ext cx="75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ource: Ponemon Institute, „2008 Annual Study: Cost of Data Breac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79DA-F8C4-496D-9D4B-74FDB105CD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From others’ fin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2468520"/>
          <a:ext cx="822960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68520"/>
                    <a:ext cx="82296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92280" y="5475240"/>
            <a:ext cx="47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Source: FSA, 22 Jul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B8A6-85DC-4B84-886B-A1F1568B54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From Risk Analysi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Verdana"/>
              </a:rPr>
              <a:t>Risk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  =  </a:t>
            </a:r>
            <a:r>
              <a:rPr b="0" i="1" lang="pl-PL" sz="3600" spc="-1" strike="noStrike">
                <a:solidFill>
                  <a:srgbClr val="000000"/>
                </a:solidFill>
                <a:latin typeface="Verdana"/>
              </a:rPr>
              <a:t>Potential Loss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  * </a:t>
            </a:r>
            <a:r>
              <a:rPr b="0" i="1" lang="pl-PL" sz="3600" spc="-1" strike="noStrike">
                <a:solidFill>
                  <a:srgbClr val="000000"/>
                </a:solidFill>
                <a:latin typeface="Verdana"/>
              </a:rPr>
              <a:t>Threat Probabil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Potential Loss ~ Asset Cost, Brand Value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935D-61D0-42B7-9CFE-5CD464A341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When Risk Analysis makes sens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8840" y="1406520"/>
            <a:ext cx="78850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4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Verdana"/>
              </a:rPr>
              <a:t>Control Cost  &lt;&lt;  Asset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Secure rubbish by » edouard."/>
          <p:cNvPicPr/>
          <p:nvPr/>
        </p:nvPicPr>
        <p:blipFill>
          <a:blip r:embed="rId1"/>
          <a:stretch/>
        </p:blipFill>
        <p:spPr>
          <a:xfrm>
            <a:off x="3409920" y="2641680"/>
            <a:ext cx="2463840" cy="3539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50880" y="58230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ource: Flickr (edou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0ACE-7FF6-4459-ACE6-8C6EA05323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Paweł Krawczyk</dc:creator>
  <dc:description>http://ipsec.pl/</dc:description>
  <cp:keywords>Information security Risk management</cp:keywords>
  <dc:language>en-US</dc:language>
  <cp:lastModifiedBy>a0105124</cp:lastModifiedBy>
  <dcterms:modified xsi:type="dcterms:W3CDTF">2009-12-22T09:14:59Z</dcterms:modified>
  <cp:revision>4</cp:revision>
  <dc:subject/>
  <dc:title>Real Life Information Secu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English</vt:lpwstr>
  </property>
  <property fmtid="{D5CDD505-2E9C-101B-9397-08002B2CF9AE}" pid="3" name="Telephone number">
    <vt:lpwstr>+48602776959</vt:lpwstr>
  </property>
</Properties>
</file>