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4A4C-F66F-4394-8262-B5DDA338CC3C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3763-A31F-472C-B42A-68E0E1398184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age is an example of how SSL should NOT be used – and how it is in fact used incorrectly by some very sensitive sites of major corporations (e.g. Chase, here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NOT tell for sure, from this page, that SSL is used – or that this site is authentic (although it is). The p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FE98-6CDA-4362-BF64-F8CBA0530D61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age is an example of how SSL should NOT be used – and how it is in fact used incorrectly by some very sensitive sites of major corporations (e.g. Chase, here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NOT tell for sure, from this page, that SSL is used – or that this site is authentic (although it is). The p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01ABB-5C52-436C-A40E-FC27BE9CB6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4CBB3-2E49-48DE-8C4C-8F2746048A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7F0A5-F16C-426E-B070-AD1A403420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002BE-DB43-45FE-B06C-63E844441B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B7F11-62DD-46FB-A03B-6FD000CDF1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68F1F-5455-4B2C-A41E-11161FC9C0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FC2FC-E865-4457-B7CF-6E97BF4EC1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B981E-9E42-4A43-B1D8-2E6E55C637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CA112-1387-4974-9A35-AF4FF3EEE8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5DF7A-7C88-4B89-A404-C72E0114B7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98265-56CA-471B-9830-1870B13CE9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3C16A-7CCF-4964-95C5-979A7035F6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0" y="6711840"/>
            <a:ext cx="9144000" cy="1526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9" descr="owasp"/>
          <p:cNvPicPr/>
          <p:nvPr/>
        </p:nvPicPr>
        <p:blipFill>
          <a:blip r:embed="rId2"/>
          <a:stretch/>
        </p:blipFill>
        <p:spPr>
          <a:xfrm>
            <a:off x="8077320" y="6248520"/>
            <a:ext cx="380880" cy="349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584920" y="6308280"/>
            <a:ext cx="406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000" spc="-1" strike="noStrike">
                <a:solidFill>
                  <a:srgbClr val="969696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5DB1-E3C0-4EEF-B6F1-0C9F4D4F3A16}" type="slidenum">
              <a:rPr b="1" lang="he-IL" sz="1000" spc="-1" strike="noStrike">
                <a:solidFill>
                  <a:srgbClr val="969696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30"/>
          <p:cNvSpPr/>
          <p:nvPr/>
        </p:nvSpPr>
        <p:spPr>
          <a:xfrm>
            <a:off x="5689440" y="6270480"/>
            <a:ext cx="23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Tahoma"/>
              </a:rPr>
              <a:t>OWA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5"/>
          <p:cNvSpPr/>
          <p:nvPr/>
        </p:nvSpPr>
        <p:spPr>
          <a:xfrm>
            <a:off x="1447920" y="762120"/>
            <a:ext cx="7696080" cy="4952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0" y="5715000"/>
            <a:ext cx="9144000" cy="114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1" descr="owasp"/>
          <p:cNvPicPr/>
          <p:nvPr/>
        </p:nvPicPr>
        <p:blipFill>
          <a:blip r:embed="rId2"/>
          <a:stretch/>
        </p:blipFill>
        <p:spPr>
          <a:xfrm>
            <a:off x="1676520" y="1066680"/>
            <a:ext cx="1371600" cy="12589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4038480" y="5165640"/>
            <a:ext cx="419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Copyright © The OWASP Found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Permission is granted to copy, distribute and/or modify this document under the terms of the OWASP Licens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0" y="609480"/>
            <a:ext cx="9144000" cy="152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6480" y="755640"/>
            <a:ext cx="1417680" cy="3740040"/>
          </a:xfrm>
          <a:prstGeom prst="rect">
            <a:avLst/>
          </a:prstGeom>
          <a:solidFill>
            <a:srgbClr val="0033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6480" y="5302080"/>
            <a:ext cx="1417680" cy="41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9"/>
          <p:cNvSpPr/>
          <p:nvPr/>
        </p:nvSpPr>
        <p:spPr>
          <a:xfrm>
            <a:off x="6480" y="4844880"/>
            <a:ext cx="1417680" cy="56520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0"/>
          <p:cNvSpPr/>
          <p:nvPr/>
        </p:nvSpPr>
        <p:spPr>
          <a:xfrm>
            <a:off x="6480" y="2666880"/>
            <a:ext cx="1417680" cy="1219320"/>
          </a:xfrm>
          <a:prstGeom prst="rect">
            <a:avLst/>
          </a:prstGeom>
          <a:solidFill>
            <a:srgbClr val="0033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1"/>
          <p:cNvSpPr/>
          <p:nvPr/>
        </p:nvSpPr>
        <p:spPr>
          <a:xfrm>
            <a:off x="145260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2"/>
          <p:cNvSpPr/>
          <p:nvPr/>
        </p:nvSpPr>
        <p:spPr>
          <a:xfrm>
            <a:off x="21700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0" y="2641680"/>
            <a:ext cx="914400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6"/>
          <p:cNvSpPr/>
          <p:nvPr/>
        </p:nvSpPr>
        <p:spPr>
          <a:xfrm>
            <a:off x="4038480" y="59371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The OWASP Foun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8"/>
          <p:cNvSpPr/>
          <p:nvPr/>
        </p:nvSpPr>
        <p:spPr>
          <a:xfrm>
            <a:off x="84628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reeform 29"/>
          <p:cNvSpPr/>
          <p:nvPr/>
        </p:nvSpPr>
        <p:spPr>
          <a:xfrm>
            <a:off x="2705040" y="2666880"/>
            <a:ext cx="1028880" cy="1219320"/>
          </a:xfrm>
          <a:prstGeom prst="pie">
            <a:avLst/>
          </a:pr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Freeform 30"/>
          <p:cNvSpPr/>
          <p:nvPr/>
        </p:nvSpPr>
        <p:spPr>
          <a:xfrm rot="10800000">
            <a:off x="7385040" y="2666520"/>
            <a:ext cx="1028880" cy="1219320"/>
          </a:xfrm>
          <a:prstGeom prst="pie">
            <a:avLst/>
          </a:pr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3"/>
          <p:cNvSpPr/>
          <p:nvPr/>
        </p:nvSpPr>
        <p:spPr>
          <a:xfrm>
            <a:off x="1523880" y="4229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OWA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4"/>
          <p:cNvSpPr/>
          <p:nvPr/>
        </p:nvSpPr>
        <p:spPr>
          <a:xfrm>
            <a:off x="4038480" y="632628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aeaea"/>
                </a:solidFill>
                <a:uFillTx/>
                <a:latin typeface="Tahoma"/>
              </a:rPr>
              <a:t>http://www.owasp.org</a:t>
            </a: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erzbea@macs.biu.ac.il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ite.com/page#paragraph" TargetMode="External"/><Relationship Id="rId2" Type="http://schemas.openxmlformats.org/officeDocument/2006/relationships/hyperlink" Target="http://site.com/page#paragraph" TargetMode="External"/><Relationship Id="rId3" Type="http://schemas.openxmlformats.org/officeDocument/2006/relationships/hyperlink" Target="http://site.com/page#paragraph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en.adida.net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Defending against Phishing without Client-side Code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962160" y="3276360"/>
            <a:ext cx="37335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mir Herzbe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Tahoma"/>
              </a:rPr>
              <a:t>Bar-Ila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erzbea@macs.biu.ac.i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1560240" y="464832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Tahoma"/>
              </a:rPr>
              <a:t>6 Sep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mitWeb: Realistic Phishing Experiment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Dvorkin+H]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use assignment sub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titive web and email activ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few `attacks’ over long period of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student pop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(2008) results: 492 BIU CS stud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andomly assigned one defense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domly (very rarely) attack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FA31-7C21-4F82-A3D4-237D06EADE05}" type="slidenum">
              <a:rPr b="1" lang="he-IL" sz="1000" spc="-1" strike="noStrike">
                <a:solidFill>
                  <a:srgbClr val="969696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Object 5" descr=""/>
          <p:cNvPicPr/>
          <p:nvPr/>
        </p:nvPicPr>
        <p:blipFill>
          <a:blip r:embed="rId1"/>
          <a:stretch/>
        </p:blipFill>
        <p:spPr>
          <a:xfrm>
            <a:off x="6400800" y="3581280"/>
            <a:ext cx="27432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mitWeb: Simulated Attack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184E-3BB6-47D4-A891-9E662AE3864C}" type="slidenum">
              <a:rPr b="1" lang="he-IL" sz="1000" spc="-1" strike="noStrike">
                <a:solidFill>
                  <a:srgbClr val="969696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4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2330280" cy="17161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2"/>
          <p:cNvSpPr/>
          <p:nvPr/>
        </p:nvSpPr>
        <p:spPr>
          <a:xfrm>
            <a:off x="4724280" y="10666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mograph Attack (redirection to  non-SSL pag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26" descr=""/>
          <p:cNvPicPr/>
          <p:nvPr/>
        </p:nvPicPr>
        <p:blipFill>
          <a:blip r:embed="rId2"/>
          <a:stretch/>
        </p:blipFill>
        <p:spPr>
          <a:xfrm>
            <a:off x="1143000" y="1816200"/>
            <a:ext cx="2308320" cy="1689120"/>
          </a:xfrm>
          <a:prstGeom prst="rect">
            <a:avLst/>
          </a:prstGeom>
          <a:ln w="0">
            <a:noFill/>
          </a:ln>
        </p:spPr>
      </p:pic>
      <p:sp>
        <p:nvSpPr>
          <p:cNvPr id="147" name="TextBox 14"/>
          <p:cNvSpPr/>
          <p:nvPr/>
        </p:nvSpPr>
        <p:spPr>
          <a:xfrm>
            <a:off x="838080" y="10666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mograph Attack (redirection to SSL pag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27"/>
          <p:cNvSpPr/>
          <p:nvPr/>
        </p:nvSpPr>
        <p:spPr>
          <a:xfrm>
            <a:off x="4952880" y="380988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rupted Certific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29"/>
          <p:cNvSpPr/>
          <p:nvPr/>
        </p:nvSpPr>
        <p:spPr>
          <a:xfrm>
            <a:off x="914400" y="37339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n-SSL (e.g. MIT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20" descr=""/>
          <p:cNvPicPr/>
          <p:nvPr/>
        </p:nvPicPr>
        <p:blipFill>
          <a:blip r:embed="rId3"/>
          <a:stretch/>
        </p:blipFill>
        <p:spPr>
          <a:xfrm>
            <a:off x="1143000" y="4343400"/>
            <a:ext cx="2362320" cy="1814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3" descr=""/>
          <p:cNvPicPr/>
          <p:nvPr/>
        </p:nvPicPr>
        <p:blipFill>
          <a:blip r:embed="rId4"/>
          <a:stretch/>
        </p:blipFill>
        <p:spPr>
          <a:xfrm>
            <a:off x="5334120" y="4311720"/>
            <a:ext cx="236196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mitWeb: Evaluated Defense Mechanism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D09B-C6FA-456F-9536-70C3DDE67053}" type="slidenum">
              <a:rPr b="1" lang="he-IL" sz="1000" spc="-1" strike="noStrike">
                <a:solidFill>
                  <a:srgbClr val="969696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380880" y="10666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ive indic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e (`classical’ browser indicator on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lay name of site (from certific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lay user-selected name for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indic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site user-selected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site user-selected 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n book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click on bookmark to 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mitWeb: Detection Rat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779D-8309-42C2-8136-86EF0E19F44B}" type="slidenum">
              <a:rPr b="1" lang="he-IL" sz="1000" spc="-1" strike="noStrike">
                <a:solidFill>
                  <a:srgbClr val="969696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Chart 4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381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rver-based Defense from Phishing: Agend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fbfb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Tahoma"/>
              </a:rPr>
              <a:t>Phishing attacks and defe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fbfb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Tahoma"/>
              </a:rPr>
              <a:t>Esp. SSL login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bfbfbf"/>
                </a:solidFill>
                <a:latin typeface="Tahoma"/>
              </a:rPr>
              <a:t>Secure-usability testing of phishing defenses: Submit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n Bookma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6B8E-275D-4105-9341-7ADA617E6A9B}" type="slidenum">
              <a:rPr b="1" lang="he-IL" sz="1000" spc="-1" strike="noStrike">
                <a:solidFill>
                  <a:srgbClr val="969696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about login bookmarks?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2797-684B-42D7-87BE-9EB12E0237D0}" type="slidenum">
              <a:rPr b="1" lang="he-IL" sz="1000" spc="-1" strike="noStrike">
                <a:solidFill>
                  <a:srgbClr val="969696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80880" y="10666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login bookmarks wor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generates special bookmark per u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`drags’ bookmark into brow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ogin, user must click on book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okmark contains key for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displays user-selected 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(confirms image and) enters pass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uthentication: password over SS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ong-URL, no-SSL attacks irrelev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focused on response to e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gin Bookmark: Resul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52CB-39CB-4244-AFD6-A3F4E2673FEA}" type="slidenum">
              <a:rPr b="1" lang="he-IL" sz="1000" spc="-1" strike="noStrike">
                <a:solidFill>
                  <a:srgbClr val="969696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380880" y="10666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n bookmark mechanism increases user security against phishing att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okmark reduced following links, succes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143000" y="2514600"/>
          <a:ext cx="6095880" cy="40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514600"/>
                    <a:ext cx="6095880" cy="40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gin Bookmark: Detail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dea: JavaScript (with `key’) in book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age can change JavaScript, hence access `key`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idea: use URL Fragment Identifier, e.g. 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site.com/page#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para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designate portion of p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wser scrolls to the appropriate location – if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ever sent to server but accessible from Java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ing fragments does not cause page re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0A0F-B490-4FEB-B9B3-CD6E765D7B91}" type="slidenum">
              <a:rPr b="1" lang="he-IL" sz="1000" spc="-1" strike="noStrike">
                <a:solidFill>
                  <a:srgbClr val="969696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gin with Bookmark + Interactive Im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0880" y="11426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liz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 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all bookmark (with ID,Key in fragme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n proces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clicks on https (SSL) bookmark, page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ript reads ID, Key, authenticates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sends secret image (over SS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ript displays 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must cl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mage, then script asks for passw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nters passw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ript sends password (over SS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917E-3BD0-4DCD-8A6B-D5499FA0F0AF}" type="slidenum">
              <a:rPr b="1" lang="he-IL" sz="1000" spc="-1" strike="noStrike">
                <a:solidFill>
                  <a:srgbClr val="969696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sistance to Specific Attack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1426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oofed site and prompt, user enters PW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word exposed, ID secr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user ignored no/wrong imag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 book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word exposed, ID still secr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ose bookmark (access to PC, tricking us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 exposed, password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gain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upted server site (XSS sending rogue scrip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gue CA (approved by user), spoofed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gue brow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D1C7-9EF6-4870-A5B5-5772D2D51199}" type="slidenum">
              <a:rPr b="1" lang="he-IL" sz="1000" spc="-1" strike="noStrike">
                <a:solidFill>
                  <a:srgbClr val="969696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rver-based Defense from Phishing: Agend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ishing attacks and defe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p. SSL login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-usability testing of phishing defenses: Submit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n Bookma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6F79-3B6A-418B-9398-092949DBE065}" type="slidenum">
              <a:rPr b="1" lang="he-IL" sz="1000" spc="-1" strike="noStrike">
                <a:solidFill>
                  <a:srgbClr val="969696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uture Plan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e, extend SubmitWeb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ata, more confi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e brow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e variants of bookmark def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rver sends few image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ay prevent `dictionary attack’ even from user with access to bookmark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usabilit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with anti-phishing filt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identify clone emai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toolkit, help for si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0869-101B-4164-BD1A-A59048B7D1D3}" type="slidenum">
              <a:rPr b="1" lang="he-IL" sz="1000" spc="-1" strike="noStrike">
                <a:solidFill>
                  <a:srgbClr val="969696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3368-ECBD-46F6-BBFC-838EF6C259A2}" type="slidenum">
              <a:rPr b="1" lang="he-IL" sz="1000" spc="-1" strike="noStrike">
                <a:solidFill>
                  <a:srgbClr val="969696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urc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presentation is based 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ustBar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related secure-usability experiments, with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hmad Jbara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BIU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mitWe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real-use phishing experiments, Joint work with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lex Dvorki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BIU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amAu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y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n Adid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se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ben.adida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oal: Server-based Defense from Phish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1426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ishing: stealing user’s credentials (passwo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 phishing vector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oofed email (usually with link to spoofed si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ttacker-controlled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-Sign On (or `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lic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login into your…`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, XSS or MITM/Pharming attacks (on victim site/`google`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preven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, block phishing em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, block phishing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vent expose of password to spoofed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thout new/extended brow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ut doesn’t SSL already do this?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887D-4FB5-445D-910B-8B6F8EC6B80C}" type="slidenum">
              <a:rPr b="1" lang="he-IL" sz="1000" spc="-1" strike="noStrike">
                <a:solidFill>
                  <a:srgbClr val="969696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c) Amir Herzbe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D53C-9CD4-41CE-83DD-142B49222886}" type="slidenum">
              <a:rPr b="1" lang="he-IL" sz="1000" spc="-1" strike="noStrike">
                <a:solidFill>
                  <a:srgbClr val="969696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In)Secure Login using SS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: login form in Chase’s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se must know what they do, righ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o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se’s site or Phisher’s sit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SL or misleading padlock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t: page loaded w/o S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SL invoked only on `submit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oofed page submits to Phisher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login sites are bett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 SSL, no misleading pad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e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3" descr="s005"/>
          <p:cNvPicPr/>
          <p:nvPr/>
        </p:nvPicPr>
        <p:blipFill>
          <a:blip r:embed="rId1"/>
          <a:stretch/>
        </p:blipFill>
        <p:spPr>
          <a:xfrm>
            <a:off x="6019920" y="2209680"/>
            <a:ext cx="29192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c) Amir Herzbe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17CE-E1C1-4F7A-B682-4C67A92C85FA}" type="slidenum">
              <a:rPr b="1" lang="he-IL" sz="1000" spc="-1" strike="noStrike">
                <a:solidFill>
                  <a:srgbClr val="969696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ypical Login Sites are Better…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, `good’ login si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 SSL (to authenticate page, encrypt P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misleading pad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duc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 for URL, padlock, htt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ver follow links in emails, sites (google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n’t this good enough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/should we do more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out changing the brows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ishing Attacks on Typical (`good’) Sit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ong URL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mographic: submitweb.com vs. submitvveb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sleading: submitweb.c6.com vs. c6.submitweb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rming/DNS Poisoning/MITM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TM sometimes easy, e.g. via WiF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NS often vulner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what of SSL? Three op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SL – will user notice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SL, using wrong UR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SL… with Phisher’s C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owser will ask user…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will user approve? Notice?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BB08-1833-4E32-BBE5-AF6395E6C924}" type="slidenum">
              <a:rPr b="1" lang="he-IL" sz="1000" spc="-1" strike="noStrike">
                <a:solidFill>
                  <a:srgbClr val="969696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rver-based Defense from Phishing: Agend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fbfb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Tahoma"/>
              </a:rPr>
              <a:t>Phishing attacks and defe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fbfb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Tahoma"/>
              </a:rPr>
              <a:t>Esp. SSL login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-usability testing of phishing defenses: Submit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n Bookma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FB98-40A4-4780-8EEC-C74BBB123039}" type="slidenum">
              <a:rPr b="1" lang="he-IL" sz="1000" spc="-1" strike="noStrike">
                <a:solidFill>
                  <a:srgbClr val="969696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 Users Notice ?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80880" y="11426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experiments with users… what a pain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H+Jbara] `Classical’  browser vs. Impro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(TrustBar): displays name/logo for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rate: 67%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96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improvemen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e positives: 19%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ision time: 15sec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s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in realit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most no false posit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ision time &lt; 1se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more realistic experimen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793D-1CC4-4EE3-8A4A-89FA5F288AEE}" type="slidenum">
              <a:rPr b="1" lang="he-IL" sz="1000" spc="-1" strike="noStrike">
                <a:solidFill>
                  <a:srgbClr val="969696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181480" y="2743200"/>
            <a:ext cx="38005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17:51:41Z</dcterms:created>
  <dc:creator>Jeff Williams</dc:creator>
  <dc:description>http://www.owasp.org</dc:description>
  <cp:keywords>Application Security</cp:keywords>
  <dc:language>en-US</dc:language>
  <cp:lastModifiedBy>Amir Herzberg</cp:lastModifiedBy>
  <dcterms:modified xsi:type="dcterms:W3CDTF">2008-09-14T06:04:34Z</dcterms:modified>
  <cp:revision>71</cp:revision>
  <dc:subject>Application Security</dc:subject>
  <dc:title>OWASP Plan - Strawman</dc:title>
</cp:coreProperties>
</file>