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BAA-E155-4734-A29E-5F6FC8B6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pring-rich-c.sourceforge.net/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Future: voting rights on OWASP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83 =&gt; 111 subscr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Only 6 respons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an idea of popul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Sec consultants? Developers? Industry? Fin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d It, Will come ag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, Recommen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an idea of popul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Sec consultants? Developers? Industry? Fin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Webappsec moderator, Guide 2.0 author, ajax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projec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release quality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Beta status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Alpha status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WebScarab 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pring Rich Client Interface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uto-update (Java-Web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al9000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script collection of web application security testing tools to aid manual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Panter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 of SpikeProxy to provide a powerful web application analysis eng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8B8E-C268-4BA4-9F74-57F04DF4D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48DE-6C91-49C2-A5BA-18637E23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CA83-1F54-4588-B080-8990C21D4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32FC-43DD-47B9-A3B8-D08F9238A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8BF8-9C4E-40EB-86EC-ECA428483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B55C-42E2-45A3-B93B-C496C60A2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CFFF-DFC7-44D0-9321-0ABF04CBF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E0C3-351B-4DFD-B4F4-7CD52B355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CB9D-10DD-40A4-A396-C60E85F4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5521-719E-449A-A0EE-ABA2F313A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0A37-84B0-4019-855B-8E8E109AE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42E8-910D-434D-BB55-3552C78D4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8F9F-9E44-4D45-94A0-D639CCCFEB5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2007 -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GNU Free Documentation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777777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Belgiu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autorisk.com/uslarge.gif&amp;imgrefurl=http://www.autorisk.com/Contractors.htm&amp;h=391&amp;w=360&amp;sz=13&amp;tbnid=8qosV4CPeQ0J:&amp;tbnh=119&amp;tbnw=110&amp;hl=nl&amp;start=13&amp;prev=/images%3Fq%3Dwe%2Bwant%2Byou%26hl%3Dnl%26lr%3D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asp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acketfocus.com/hacko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640" y="7650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77777"/>
                </a:solidFill>
                <a:latin typeface="Tahoma"/>
              </a:rPr>
              <a:t>OWASP Updat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79640" y="2781360"/>
            <a:ext cx="4647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69696"/>
                </a:solidFill>
                <a:latin typeface="Tahoma"/>
              </a:rPr>
              <a:t>Sebastien Deleersnyder</a:t>
            </a: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69696"/>
                </a:solidFill>
                <a:latin typeface="Tahoma"/>
              </a:rPr>
              <a:t>CISSP, BE Chapter Leader</a:t>
            </a: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69696"/>
                </a:solidFill>
                <a:latin typeface="Tahoma"/>
              </a:rPr>
              <a:t>Jan, 2007</a:t>
            </a: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69696"/>
                </a:solidFill>
                <a:latin typeface="Tahoma"/>
              </a:rPr>
              <a:t>seba@deleersnyder.eu</a:t>
            </a: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Membershi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ing OWASP mater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oin us and become memb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pport OWASP to continue to provide unbiased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ttp://www.owasp.org/index.php/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1A37-6347-46C1-AC78-03FC7A2AF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OWASP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gium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Poll 2006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7989-F2D8-4D86-9801-536EE3E63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</a:rPr>
              <a:t>Belgium Chapter 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we have to offer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uarterly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l Mail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entations &amp;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en forum for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et fellow InfoSec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 (Web)AppSec awareness in Belg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l pro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5AA9-078C-4106-9606-5BE2EBC9C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Belgium Chapter – House Ru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e &amp; open to every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glish prefer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ive language: no probl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vendor pitches or $ales 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pect for different opi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flaming (including M$ bas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 CISSP CPE for each hour of OWASP chapter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gn Sheet &amp; I’ll e-mail scan: you claim CPE cred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333B-7EF5-47B8-95F2-AC294DD8A6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Local Chapter Meetings 200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Me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esday May 10 2007 – (place?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egal Aspects (Web)AppSec (Jos Dumortier – Lawfo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ppSec Research Topics (KUL – to be confirm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rmal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hort OWASP in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esentation on introduction top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nel, workshop, round-table, … on more advanced top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ic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for inpu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152D-95AB-4CE9-B2A6-7B940D015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Confere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conference:  OWASP EU Ita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d or 3rd week of M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00EE-DF57-456A-89E7-7DDE396DA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OWASP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Belgium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ll 2006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35B7-0C10-4CB6-B27D-551D300D9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1: Do you consider yourself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"New to beginner" on (Web)AppSec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“Having some knowledge-experience” on (Web)AppSec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) "Advanced to expert" on (Web)AppSec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867640" cy="32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872C-D7AE-4FAF-900A-4E679BCA2A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2: How many chapter meetings would you like to attend in 200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)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)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)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)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6934320" cy="36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BC9E-B742-4A15-BB83-20E6241DE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3: If given some time to prepare a topic, would you consider preparing a session for a chapter meeting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605640" cy="34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8678-ED64-42C8-80DF-40ECA5EAB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ASP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gium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ll 2006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E850-1782-430F-AE58-33ED4D370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4: What is your opinion of the 2006 Owasp events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A waste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Somewhat interesting, but I will not come any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 liked it, and will maybe come to some chapter meetings next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) Great! I would recommend it to everybody implicated or interested in (Web)AppS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867280" cy="33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241-1B09-4D57-B676-5C37B5E5E2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5: What would you recommend to make our chapter meetings more interesting for you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 an OWASP introduction track (3-4 presentations on WebAppSec / small train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mall number of product related presentations (ex. WAF, XML gateway, ...) Technica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tay on the technical level (leave “high level” stuff to ISACA/IS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ked balance between technical / non-tech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F1B1-13EF-4EEA-B0F7-BA18C123CC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at’s it…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owasp.org/index.php/Belgium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ba@deleersnyder.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D070-EEA8-4880-99CE-7C827C62D4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Subscribe to BE Chapter mailing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Keep up to date! NEW: OWASP Newslett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st your (Web)AppSec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ribute to discuss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819520"/>
            <a:ext cx="3379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CBCE-C15F-45BA-BA77-69433B25E3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OWASP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Belgium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Poll 2006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A6F1-453B-412B-A622-536792F8BC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696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onsor this eve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rnst &amp; Young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for additional spo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apter meeting places &amp; ca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rt for local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cannot recommend the use of products, services, or recommend specific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050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8120-8D23-4D7B-B9B4-A34CD9DC5B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gram for this evening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h30 - 18h45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stien Deleersnyder, BE Chapter Lead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WASP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h45 - 19h45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ippe Bogaer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GOAT and the Pantera Web Assessment Studio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h45 - 20h00: Br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h00 - 21h0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rt De Win, KU Leu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urity implications of AOP for secur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6585-D58F-4C0F-BF05-E302070ED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ASP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Belgium Ch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ahoma"/>
              </a:rPr>
              <a:t>Poll 2006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4193-282F-40A0-B1C9-A5CD0CC18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Web Application Security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WASP Manifes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 open community dedicated to enabling organizations to develop, purchase, and maintain applications that can be tr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Non-profit, volunteer driven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All members are volunte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All work is donated by spons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diaWiki driven: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owasp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irector: Andrew Van der St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ew Owasp Evangelist: Dinis Cru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58BE-AA35-4050-B908-2F9D9AC57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ovide free resources to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ublications, Articles, Standard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ASP Top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ASP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esting and Training Software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Scar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NET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Local Chapters, Mailing Lists &amp; Con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ual license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Open Source Licen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ommercial License for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52D8-FC17-42A1-AA90-547DF2762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umn of Code 2006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onsoring contributions to OWASP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'last-mile'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ng Guide v2 (99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ebScarab 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ive CD (bet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acketfocus.com/hack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l9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WASP Report Generator and Site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nt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ebGoat 5.0 RC1 new less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1FE5-9E9B-48F7-A590-275D6AD5FF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20:01Z</dcterms:created>
  <dc:creator>Yvan Boily</dc:creator>
  <dc:description/>
  <dc:language>en-US</dc:language>
  <cp:lastModifiedBy>Seba</cp:lastModifiedBy>
  <dcterms:modified xsi:type="dcterms:W3CDTF">2007-01-23T14:52:44Z</dcterms:modified>
  <cp:revision>116</cp:revision>
  <dc:subject/>
  <dc:title>Alternative authorisation strategies</dc:title>
</cp:coreProperties>
</file>