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2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3"/>
          </p:nvPr>
        </p:nvSpPr>
        <p:spPr>
          <a:xfrm>
            <a:off x="0" y="8685360"/>
            <a:ext cx="296712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56E20-990D-4F51-A49B-59319B3E1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DejaVu Sans"/>
              </a:rPr>
              <a:t>True i False nie musza być zgodne z logiką odpowiedzi (prawidłowa/błąd). Stan True i False są umowne w zależności od konstrukcji ataku (z wykorzystaniem or/and). np. id=1 or 1=0 -&gt; True/ id=1 and 1=0 -&gt; False //Jeśli aplikacja zwróci błąd to dla and będzie False, a dla OR będzie True -&gt; odwrotna log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45A1B-D2D0-4B4F-BA83-BD4BCED7DF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96920"/>
            <a:ext cx="8224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224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816360"/>
            <a:ext cx="8224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89B19-A6B7-42AE-8746-115A16C87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96920"/>
            <a:ext cx="8224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136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1720" y="1295280"/>
            <a:ext cx="40136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816360"/>
            <a:ext cx="40136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1720" y="3816360"/>
            <a:ext cx="40136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D3F69-0987-413B-88BD-75B39070E5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96920"/>
            <a:ext cx="8224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26481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7840" y="1295280"/>
            <a:ext cx="26481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8840" y="1295280"/>
            <a:ext cx="26481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816360"/>
            <a:ext cx="26481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7840" y="3816360"/>
            <a:ext cx="26481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8840" y="3816360"/>
            <a:ext cx="26481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06E76-BFFE-467E-A309-CFB84E603F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96920"/>
            <a:ext cx="8224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8224920" cy="48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96920"/>
            <a:ext cx="8224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22492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96920"/>
            <a:ext cx="8224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1364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1720" y="1295280"/>
            <a:ext cx="401364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96920"/>
            <a:ext cx="8224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196920"/>
            <a:ext cx="822492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96920"/>
            <a:ext cx="8224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136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1720" y="1295280"/>
            <a:ext cx="401364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816360"/>
            <a:ext cx="40136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96920"/>
            <a:ext cx="8224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8224920" cy="48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0747D-55D1-4FB5-8FF6-D84AF4F639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96920"/>
            <a:ext cx="8224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1364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295280"/>
            <a:ext cx="40136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1720" y="3816360"/>
            <a:ext cx="40136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96920"/>
            <a:ext cx="8224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136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1720" y="1295280"/>
            <a:ext cx="40136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3816360"/>
            <a:ext cx="8224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96920"/>
            <a:ext cx="8224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224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3816360"/>
            <a:ext cx="8224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96920"/>
            <a:ext cx="8224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136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720" y="1295280"/>
            <a:ext cx="40136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3816360"/>
            <a:ext cx="40136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1720" y="3816360"/>
            <a:ext cx="40136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96920"/>
            <a:ext cx="8224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26481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7840" y="1295280"/>
            <a:ext cx="26481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8840" y="1295280"/>
            <a:ext cx="26481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3816360"/>
            <a:ext cx="26481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7840" y="3816360"/>
            <a:ext cx="26481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8840" y="3816360"/>
            <a:ext cx="26481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96920"/>
            <a:ext cx="8224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22492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E1828-2887-431F-BE03-4B3C91CD2E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96920"/>
            <a:ext cx="8224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1364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1720" y="1295280"/>
            <a:ext cx="401364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E461D-5D1A-4240-B739-57BD3AD46E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96920"/>
            <a:ext cx="8224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B8EE0-C8DC-44D4-A5BA-D35A46243B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96920"/>
            <a:ext cx="822492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8B85D-7C29-45F6-8AA9-4EE0B4318A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96920"/>
            <a:ext cx="8224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136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1720" y="1295280"/>
            <a:ext cx="401364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816360"/>
            <a:ext cx="40136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DD8AD-FC83-4F99-A516-FA2D93241C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96920"/>
            <a:ext cx="8224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1364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1720" y="1295280"/>
            <a:ext cx="40136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1720" y="3816360"/>
            <a:ext cx="40136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A1E73-AECF-480F-AABF-6511CADC3C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96920"/>
            <a:ext cx="8224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136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1720" y="1295280"/>
            <a:ext cx="40136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816360"/>
            <a:ext cx="8224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62244-75BB-4673-BE41-F4C5D7C733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96920"/>
            <a:ext cx="8224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95280"/>
            <a:ext cx="822492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711840"/>
            <a:ext cx="9144000" cy="1526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77320" y="6248520"/>
            <a:ext cx="380880" cy="349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584920" y="6308280"/>
            <a:ext cx="4014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pl-PL" sz="10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B75E2-03EC-406C-BD99-B7EA167653BC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89440" y="6270480"/>
            <a:ext cx="23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969696"/>
                </a:solidFill>
                <a:latin typeface="Tahoma"/>
              </a:rPr>
              <a:t>OWA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47920" y="762120"/>
            <a:ext cx="7696080" cy="4952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76360" y="762120"/>
            <a:ext cx="58626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715000"/>
            <a:ext cx="9144000" cy="114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676520" y="1066680"/>
            <a:ext cx="1371600" cy="1258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038480" y="5165640"/>
            <a:ext cx="419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969696"/>
                </a:solidFill>
                <a:latin typeface="Tahoma"/>
              </a:rPr>
              <a:t>Copyright © The OWASP Foun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969696"/>
                </a:solidFill>
                <a:latin typeface="Tahoma"/>
              </a:rPr>
              <a:t>Permission is granted to copy, distribute and/or modify this document under the terms of the OWASP Licen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09480"/>
            <a:ext cx="9144000" cy="152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0" y="755640"/>
            <a:ext cx="1417680" cy="3740040"/>
          </a:xfrm>
          <a:prstGeom prst="rect">
            <a:avLst/>
          </a:prstGeom>
          <a:solidFill>
            <a:srgbClr val="0033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80" y="5302080"/>
            <a:ext cx="1417680" cy="41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80" y="4844880"/>
            <a:ext cx="1417680" cy="56520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80" y="2666880"/>
            <a:ext cx="1417680" cy="1219320"/>
          </a:xfrm>
          <a:prstGeom prst="rect">
            <a:avLst/>
          </a:prstGeom>
          <a:solidFill>
            <a:srgbClr val="0033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5260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700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641680"/>
            <a:ext cx="914400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38480" y="59371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eaeaea"/>
                </a:solidFill>
                <a:latin typeface="Tahoma"/>
              </a:rPr>
              <a:t>The OWASP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4628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05040" y="2666880"/>
            <a:ext cx="1028880" cy="1219320"/>
          </a:xfrm>
          <a:custGeom>
            <a:avLst/>
            <a:gdLst/>
            <a:ahLst/>
            <a:rect l="l" t="t" r="r" b="b"/>
            <a:pathLst>
              <a:path w="456" h="528">
                <a:moveTo>
                  <a:pt x="0" y="0"/>
                </a:moveTo>
                <a:lnTo>
                  <a:pt x="0" y="528"/>
                </a:lnTo>
                <a:lnTo>
                  <a:pt x="192" y="528"/>
                </a:lnTo>
                <a:lnTo>
                  <a:pt x="452" y="260"/>
                </a:lnTo>
                <a:lnTo>
                  <a:pt x="456" y="1"/>
                </a:lnTo>
                <a:lnTo>
                  <a:pt x="0" y="0"/>
                </a:lnTo>
                <a:close/>
              </a:path>
            </a:pathLst>
          </a:cu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7385040" y="2671920"/>
            <a:ext cx="1028880" cy="1218960"/>
          </a:xfrm>
          <a:custGeom>
            <a:avLst/>
            <a:gdLst/>
            <a:ahLst/>
            <a:rect l="l" t="t" r="r" b="b"/>
            <a:pathLst>
              <a:path w="456" h="528">
                <a:moveTo>
                  <a:pt x="0" y="0"/>
                </a:moveTo>
                <a:lnTo>
                  <a:pt x="0" y="528"/>
                </a:lnTo>
                <a:lnTo>
                  <a:pt x="192" y="528"/>
                </a:lnTo>
                <a:lnTo>
                  <a:pt x="452" y="260"/>
                </a:lnTo>
                <a:lnTo>
                  <a:pt x="456" y="1"/>
                </a:lnTo>
                <a:lnTo>
                  <a:pt x="0" y="0"/>
                </a:lnTo>
                <a:close/>
              </a:path>
            </a:pathLst>
          </a:cu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4229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777777"/>
                </a:solidFill>
                <a:latin typeface="Tahoma"/>
              </a:rPr>
              <a:t>OWA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632628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 u="sng">
                <a:solidFill>
                  <a:srgbClr val="eaeaea"/>
                </a:solidFill>
                <a:uFillTx/>
                <a:latin typeface="Tahoma"/>
              </a:rPr>
              <a:t>http://www.owasp.org</a:t>
            </a: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OWASP Meeting</a:t>
            </a:r>
            <a:br>
              <a:rPr sz="2800"/>
            </a:b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Blind SQL Injection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343400" y="3260520"/>
            <a:ext cx="373392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969696"/>
                </a:solidFill>
                <a:latin typeface="Tahoma"/>
                <a:ea typeface="DejaVu Sans"/>
              </a:rPr>
              <a:t>Jacek Włodarczyk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  <a:p>
            <a:pPr lvl="1" marL="45720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969696"/>
                </a:solidFill>
                <a:latin typeface="Tahoma"/>
                <a:ea typeface="DejaVu Sans"/>
              </a:rPr>
              <a:t>jacekwlo@gmail.com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683000" y="468000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777777"/>
                </a:solidFill>
                <a:latin typeface="Tahoma"/>
              </a:rPr>
              <a:t>12.02.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Nazwa bazy danych/wersja DBM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816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Funkcja database()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Nazwa bazy danych nie jest konieczna do wykonania skutecznego atak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Funkcja version()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/*! ... *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DEMO: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1EBC9-810D-477C-A25A-82BC756D9A6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Nazwa tabel(i)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816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Select from – wiele wariantó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information_schema.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D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DEM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B9C81-7EE2-4FBC-9C92-DBEBD830C10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Ilość kolumn i wiersz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816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Group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Order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Union sel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Li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asc/des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DEM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283EB-90C4-47BE-8846-9AE8F82266E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Nazwy pó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816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Group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Order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Information_schema.colum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DEM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C503B-EDA3-4D48-B0B4-DC4A72D6FA9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Zawartość tabeli – wiele możliwości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816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Select i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And i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Asc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M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Subst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odzapytan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bench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23C70-0EB9-47BC-842F-E7BBF2ECDC6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Zawartość tabeli - C.D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816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Conc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load_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Li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Bit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Comp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DEM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A3ADA-C9DE-4625-9FAD-21AD303C4F4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Automatyzacj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816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Blind SQL Injection (brute force search) vs Blind SQL Injection (binary search)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Różna ilość odpytań serwe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Różnica w szybkośc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Wygoda w przypadku niestandardowych reakcji aplikacji (np. 302)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DEM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157ED-B1BD-49F2-A9F9-D964737CC97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41200"/>
            <a:ext cx="822636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Koniec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22636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ytani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A2ACA-CD13-4C99-AF5A-AA4E17F9B3B5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Forma prezentacji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Forma dzisiejszej prezentacji będzie składać się z omówienia ataków typu Blind SQL Injection na przykładach praktyczny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Wykorzystane środowisko to BT3 wraz z tym co oferuje ta wersja standardow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Wykorzystane przykłady dotyczą środowiska MySQL oraz aplikacji PH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B1B7F-EB40-48E5-BFA4-D57EA429126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Cel dzisiejszej prezentacji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816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rzegląd przydatnych informacji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oznanie nazwy/wersji bazy danych/DB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oznanie nazwy tabe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oznanie liczby kolumn w tabe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oznanie liczby wierszy w tabe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oznanie nazw pól tabe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oznanie zawartości pól tabe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osłużenie się automatem (skrypt)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Krótka analiza IDS eva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6B4CD-A8CC-40CE-934F-D1300775F64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Wstęp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aki typu Blind SQL Injection, są to ataki, które dostarczaja informacji o atakowanym systemie DBMS na podstawie odpowiedzi 'True'/'False'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dpowiedzi 'True'/'False' są wynikiem odpowiednio spreparowanych żądań do serwera WW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dpowiedzi 'True'/'False' mogą być przekazywane w różnych formach, w zależności od reakcji aplikacji na ata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BDE31-2311-4B4D-8218-D1B8AD291B0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Ważne fak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816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Unie działają od wersji MySQL &gt;= 4.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odzapytania (zapytania zagnieżdżone) od wersji MySQL &gt;= 4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Baza information_schema od wersji MySQL &gt;= 5.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40B38-33A7-40D1-AA0B-C00D9A72427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'true'='true' dla różnych konstrukcji zapytań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816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admin'-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' or 0=0 -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" or 0=0 -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or 0=0 -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' or 0=0 #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" or 0=0 #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or 0=0 #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' or 'x'='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" or "x"="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') or ('x'='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49D18-5508-414C-93AF-942FF54C354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'true'='true' dla różnych konstrukcji zapytań - C.D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816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' or ''='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' or a=a--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') or ('a'='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") or ("a"="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abc" or "a"="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abc" or 1=1 -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abc' or 1=1 -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abc' or 'a'='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abc') or ('a'='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abc")or("a"="a      ... it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24A94-3290-42D9-B32A-38C3A2959DC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' OR 1=1 - zamienniki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816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' OR 2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' O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' OR TR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' OR 'tekst' = concat('tek','st')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' OR 'tekst' = 'tekst'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' OR 'tekst' IN ('tekst')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' OR 'tekst' like 'teks%'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' OR 2 &gt;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E97CD-37F2-427B-B959-3687F018923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OR 1=1 – zamienniki C.D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816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' OR 2 BETWEEN 1 AND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' OR 'tekst' &gt; 't'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 kolei znak większości lub mniejszości można zastąpić predykatem BETWEEN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id&gt;1 może być wyrażone przez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id between 2 and 1e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911FA-9A49-4341-815C-DA38D98B8E6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ff Williams</dc:creator>
  <dc:description>http://www.owasp.org</dc:description>
  <cp:keywords>Application Security</cp:keywords>
  <dc:language>en-US</dc:language>
  <cp:lastModifiedBy>Jeff Williams</cp:lastModifiedBy>
  <cp:revision>0</cp:revision>
  <dc:subject/>
  <dc:title>OWASP Plan - Strawman</dc:title>
</cp:coreProperties>
</file>