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FD7-8810-4EFD-A08D-6C47BCD1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DAC-CFCD-4DC1-BBDC-7AEC2FE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54F-458F-4BF1-AB06-6A58324C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A916-DCB7-410D-A104-6AB7CB9F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155-DCD9-4A36-8390-E8AAAA69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9E4-A7C3-4680-AC7B-7FD08F9B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58E-80C0-477A-ADE6-1DF0EFA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3A9-0294-483F-999E-2FB5C37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67080" y="76320"/>
            <a:ext cx="47246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F08-7955-415B-A419-BE75677E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712-EA97-4B02-9656-780292D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F4C-4E53-45D4-8A2B-B4F0212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C264-D251-4609-B9B0-A9A7BC2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576B-DFCA-4B36-9647-4A32059E5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670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About Me</a:t>
            </a: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7315200" y="4724280"/>
            <a:ext cx="1371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6:23:37Z</dcterms:created>
  <dc:creator>OWASP Foundation</dc:creator>
  <dc:description/>
  <cp:keywords/>
  <dc:language>en-US</dc:language>
  <cp:lastModifiedBy>Mark Bristow</cp:lastModifiedBy>
  <dcterms:modified xsi:type="dcterms:W3CDTF">2012-04-03T14:59:30Z</dcterms:modified>
  <cp:revision>4</cp:revision>
  <dc:subject/>
  <dc:title>OWASP Presentation Template</dc:title>
</cp:coreProperties>
</file>