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E9DD-9A93-4F9C-B551-319DD6650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91C3-AF8E-47D0-88A6-1232812C6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A189-19C3-4870-BBEA-B4DFE5FC6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C3DE-08EC-43DC-8BFD-7C8FE9C50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A98E-C99C-4ACD-8CAA-116A48D55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3690-BFA0-49F0-82F6-8CE533BF0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C38F-059A-4D5A-A300-2EE70D36C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7C1A-DD1D-41BA-B1AC-FB00CB3BB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C54D-75F6-4CB2-AA3C-D4B0BB722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E42D-B274-4B43-A67D-6BBC569AA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3DF2-D0C5-48A8-B1CE-B2CE81947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93C4-20A6-4441-9CB6-336A4BD3B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3950-6048-47CB-B16A-0D1C4C608526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9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0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sa.org.pl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arlog.p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Po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 </a:t>
            </a:r>
            <a:r>
              <a:rPr b="1" lang="pl-PL" sz="2800" spc="-1" strike="noStrike">
                <a:solidFill>
                  <a:srgbClr val="777777"/>
                </a:solidFill>
                <a:latin typeface="Tahoma"/>
              </a:rPr>
              <a:t>News 10.03.201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Przemysław Skowr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OWASP Poland Lea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Alior Bank S.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69696"/>
                </a:solidFill>
                <a:latin typeface="Tahoma"/>
              </a:rPr>
              <a:t>przemyslaw.skowron@gmail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1553760" y="4648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77777"/>
                </a:solidFill>
                <a:latin typeface="Tahoma"/>
              </a:rPr>
              <a:t>2010.03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ymbol zastępczy numeru slajdu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A82-83BA-4E15-BDAC-D86C8F3F0D3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WASP &amp; ISSA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QL Injection: complete walktrough (not only) for PHP developers – Krzysztof Kotowi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ecure PHP Framework – Łukasz Pilo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ymbol zastępczy numeru slajdu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F3B-B47A-4A71-8415-052C9AED28C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OWASP New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WASP Poland był na SEMAFOR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zytywny feedback i oferty wsparcia OWASP w kraju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OWASP Poland już wkrótce w Warszawi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7 marca 2010, Warszawa –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issa.org.p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bsługa incydentów bezpieczeństwa: ataki na aplikacje webowe – Przemysław Skow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WASP Poland: patronat SEConference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-10 kwietnia 2010, Kra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WASP Poland: patronat CONFidence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5-26 maj 2010, Kra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ymbol zastępczy numeru slajdu 2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007-C6F8-4807-A31A-BCEC986CF38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SQL Injection: complete walktrough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(not only) for PHP developers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Krzysztof Kotowic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ymbol zastępczy numeru slajdu 2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71DC-7450-4B09-A8F2-81620844BB9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Secure PHP Framework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Łukasz Pilor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ymbol zastępczy numeru slajdu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75B-3F50-4709-A73E-4141902D7337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odsumowan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dziękowan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Hosting: Compendium (Piotrek Koniecz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reaming: ekipa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varlog.pl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– wstańcie chłopak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Łukasz Pilorz i Krzysiek Kotowicz – dziękuję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astępne spotkanie (prawdopodobnie) w maju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miętajcie o mailliście owasp-polan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ktualnie jest nas już ponad 70 osób (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mała aktywność!!!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2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F1DC-EC87-4002-9206-052C8B56FC3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ziękuję za uwagę: do zobaczenia!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pl-PL" sz="2400" spc="-1" strike="noStrike" u="sng">
                <a:solidFill>
                  <a:srgbClr val="009999"/>
                </a:solidFill>
                <a:uFillTx/>
                <a:latin typeface="Wingdings"/>
                <a:ea typeface="Wingdings"/>
                <a:hlinkClick r:id="rId1"/>
              </a:rPr>
              <a:t>http://www.owasp.org/index.php/Polan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Przemyslaw Skowron</dc:creator>
  <dc:description>http://www.owasp.org/index.php/Poland</dc:description>
  <cp:keywords>Application Security</cp:keywords>
  <dc:language>en-US</dc:language>
  <cp:lastModifiedBy>Przemysław Skowron</cp:lastModifiedBy>
  <dcterms:modified xsi:type="dcterms:W3CDTF">2010-03-10T14:10:26Z</dcterms:modified>
  <cp:revision>45</cp:revision>
  <dc:subject>Application Security</dc:subject>
  <dc:title>OWASP News &amp; Top 10 2010</dc:title>
</cp:coreProperties>
</file>