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D5F-15D7-42DA-8EC5-F1804DC40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25C3-3221-497E-A664-5374F0E2A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0AAF-D6AD-4268-B6C3-6E71683E1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D61F-9678-437E-8C78-E985DCD27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0316-16AA-4218-A7B2-244912BED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FA9E-734A-4519-8064-DBEDC9B8D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3290-0A1A-4EA2-84E4-353274E91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FC5-9FC9-4CA3-A2C7-6C8AE26A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689-2AE7-438D-A04D-A248DFE2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578-2676-4726-8AFF-01619E7A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05C-8DA8-47E6-B258-72DB0F87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AF57-C8EF-4360-94D9-F5BF8B4C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6612-C858-464D-B44E-6E088380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327F-A07E-4260-B8CA-2D458DE1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BF34-EB86-4AFF-A2D8-1FCDEDA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FFCA-EAA7-454A-BE3C-A9F80FD6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0558-FC50-495E-8DB4-7B32BBB9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479D-0BF4-4115-BD3C-01226595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6E6-7953-46D3-9771-05B78CEB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230A-D7D6-4F65-8217-46B296F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3CCE-29F6-464B-AE29-1E805F89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4D86-CF29-4E08-B01C-C188BE26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22F1-8878-4AE7-B5C0-81B9C4E6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4F68-85E6-4DF6-A3D3-CC59DF62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94AB-CFE6-489C-845F-5E4E1ADB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F20E-CE0F-4F00-A552-E8EF425F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EBA9-8E4F-41BE-A416-22A51DFB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DA9E-69BA-42CE-B0FA-C3A8CA54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E464-F3B8-4176-983C-2059D39A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591-3EB0-4748-B7FB-53D5A3B1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93D8-971B-4133-B5AD-41FE0575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8EC4-C85C-4757-93BA-63D71F2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D9B7-669F-4693-8005-54D15992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DC16-D40A-4431-AE76-9D285E1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1CBB-0ECB-4436-874B-1692ACC1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866E-BCAB-4E7F-9B1D-ECB127DB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B9CA-1ED6-4C37-9369-AE07E110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9D72-E08C-4800-A160-0353012B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9D3B-068F-4597-890F-EE3A4EA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D87F-728A-4FC0-8A67-13C9C874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53F-C0CA-43B4-91C9-C472E6C4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6194-7B78-4D36-B2BB-02776D9C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DACE-BF6D-4E25-B57C-68DD23FA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D7A5-066B-472B-BF89-9487CEEB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A19A-FCFA-4DEB-A981-18682AE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28A4E-8425-4480-B12A-D00FB2C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0FB26-60F5-4B75-B393-C109C14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D80A-DEB2-424D-B213-E4101E19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51D2-FB17-4634-9BFC-431D8144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C2B6-C9BF-48F9-A986-14856658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EB76-52AC-478E-9866-343026CD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CDE-DF08-4A12-805D-B0A7A69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DC3A8-9AEB-4277-B814-F201104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9324-2360-4AB8-81EC-23F9C14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DD89-4178-45BA-98C1-BCE29554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3674-1487-44C0-A37B-6C86F0F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5807-72A5-483A-A5B5-491CBFEE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769A-733F-41DE-B7EF-A7EDE24A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F468-70CC-4533-8146-D099F627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DB4C-20E2-49DA-B243-F5B4228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3BA6-E465-4E97-B619-B76EC659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558B-C0BE-407E-965A-C8C61D1D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EDB-724B-4F58-AB12-9B1EB189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765A-7BAF-4E49-B822-3820922C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30DF-9C0E-4416-BD43-63BC40E6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A6E6B-0B2E-4570-A6E2-560237B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08D86-0583-4928-A090-3E5445EB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6CB9-377C-45F0-8910-32F2AE97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AB77-C22B-4E67-AF16-F1F7D79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1957-1DBC-485B-90FC-2927945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51E5C-E626-4D42-9EC9-C59365C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B0F0D-ABF5-407B-972F-4EB129D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6B6C-0CC5-431B-82D3-C3176CB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3F9-7C1E-4D0D-95E5-95720015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E3681-0169-4B74-9971-0156365D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9BCA-85B8-4028-B7DB-20A75171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E4A7D-D18A-4A2F-8904-06A0EAD3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3F4E-B180-4907-A9DD-05829574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4B800-3203-48C9-BD67-CF726A8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73FF-280B-4CE5-B45C-DA722E42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B5C8-9359-4032-869E-11BCD74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9AFB7-92DB-4809-AF99-4C52D417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E404-CC82-48A4-91D2-EF2210FD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8AB45-CC84-4B10-9BAE-C9C3C8C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8CA-3E24-4707-A2F8-0C3DAA6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EC70-EF79-4773-82BE-28B67EF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0491A-70AB-46CF-97BC-D60F7ED0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54A3-2368-487E-A9A5-D4686053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A5BC2-357E-4B70-9B63-6F68DD1A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DF077-75BE-4ED4-B9CE-4B68D50E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D69-5451-4405-99F1-BE40C58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7439-EE97-4B94-A585-BD8CA2F390C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C229-DA69-471A-AF57-C88E858341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D56-8B18-4F2E-B923-B2020BBFAC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3702-F201-4B50-8C6E-A6C03E6CF51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1B81-5451-4945-89F2-8EF572A9DCC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995F-A089-4ED9-BBBE-8C667327ABF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EF5-5758-4876-B4E5-ED1603E4C8E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hyperlink" Target="http://images.google.com/imgres?imgurl=http://www.law.columbia.edu/ipimages/Information_technology/images/checkmark.png&amp;imgrefurl=http://www.law.columbia.edu/law_school/info_tech&amp;usg=__GqJ74JJWi4tA2IkkjpjQb5mHkGs=&amp;h=318&amp;w=364&amp;sz=36&amp;hl=en&amp;start=9&amp;um=1&amp;tbnid=7xi1LVPsRlhOgM:&amp;tbnh=106&amp;tbnw=121&amp;prev=/images?q=green+check&amp;hl=en&amp;sa=N&amp;um=1" TargetMode="External"/><Relationship Id="rId7" Type="http://schemas.openxmlformats.org/officeDocument/2006/relationships/image" Target="../media/image22.png"/><Relationship Id="rId8" Type="http://schemas.openxmlformats.org/officeDocument/2006/relationships/hyperlink" Target="http://images.google.com/imgres?imgurl=http://www.law.columbia.edu/ipimages/Information_technology/images/checkmark.png&amp;imgrefurl=http://www.law.columbia.edu/law_school/info_tech&amp;usg=__GqJ74JJWi4tA2IkkjpjQb5mHkGs=&amp;h=318&amp;w=364&amp;sz=36&amp;hl=en&amp;start=9&amp;um=1&amp;tbnid=7xi1LVPsRlhOgM:&amp;tbnh=106&amp;tbnw=121&amp;prev=/images?q=green+check&amp;hl=en&amp;sa=N&amp;um=1" TargetMode="External"/><Relationship Id="rId9" Type="http://schemas.openxmlformats.org/officeDocument/2006/relationships/image" Target="../media/image22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hyperlink" Target="http://images.google.com/imgres?imgurl=http://www.law.columbia.edu/ipimages/Information_technology/images/checkmark.png&amp;imgrefurl=http://www.law.columbia.edu/law_school/info_tech&amp;usg=__GqJ74JJWi4tA2IkkjpjQb5mHkGs=&amp;h=318&amp;w=364&amp;sz=36&amp;hl=en&amp;start=9&amp;um=1&amp;tbnid=7xi1LVPsRlhOgM:&amp;tbnh=106&amp;tbnw=121&amp;prev=/images?q=green+check&amp;hl=en&amp;sa=N&amp;um=1" TargetMode="External"/><Relationship Id="rId7" Type="http://schemas.openxmlformats.org/officeDocument/2006/relationships/image" Target="../media/image24.png"/><Relationship Id="rId8" Type="http://schemas.openxmlformats.org/officeDocument/2006/relationships/hyperlink" Target="http://www.clker.com/clipart-25772.html" TargetMode="External"/><Relationship Id="rId9" Type="http://schemas.openxmlformats.org/officeDocument/2006/relationships/image" Target="../media/image28.png"/><Relationship Id="rId10" Type="http://schemas.openxmlformats.org/officeDocument/2006/relationships/hyperlink" Target="http://www.clker.com/clipart-25772.html" TargetMode="External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hyperlink" Target="http://images.google.com/imgres?imgurl=http://www.law.columbia.edu/ipimages/Information_technology/images/checkmark.png&amp;imgrefurl=http://www.law.columbia.edu/law_school/info_tech&amp;usg=__GqJ74JJWi4tA2IkkjpjQb5mHkGs=&amp;h=318&amp;w=364&amp;sz=36&amp;hl=en&amp;start=9&amp;um=1&amp;tbnid=7xi1LVPsRlhOgM:&amp;tbnh=106&amp;tbnw=121&amp;prev=/images?q=green+check&amp;hl=en&amp;sa=N&amp;um=1" TargetMode="External"/><Relationship Id="rId7" Type="http://schemas.openxmlformats.org/officeDocument/2006/relationships/image" Target="../media/image22.png"/><Relationship Id="rId8" Type="http://schemas.openxmlformats.org/officeDocument/2006/relationships/hyperlink" Target="http://images.google.com/imgres?imgurl=http://www.law.columbia.edu/ipimages/Information_technology/images/checkmark.png&amp;imgrefurl=http://www.law.columbia.edu/law_school/info_tech&amp;usg=__GqJ74JJWi4tA2IkkjpjQb5mHkGs=&amp;h=318&amp;w=364&amp;sz=36&amp;hl=en&amp;start=9&amp;um=1&amp;tbnid=7xi1LVPsRlhOgM:&amp;tbnh=106&amp;tbnw=121&amp;prev=/images?q=green+check&amp;hl=en&amp;sa=N&amp;um=1" TargetMode="External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hyperlink" Target="http://images.google.com/imgres?imgurl=http://www.law.columbia.edu/ipimages/Information_technology/images/checkmark.png&amp;imgrefurl=http://www.law.columbia.edu/law_school/info_tech&amp;usg=__GqJ74JJWi4tA2IkkjpjQb5mHkGs=&amp;h=318&amp;w=364&amp;sz=36&amp;hl=en&amp;start=9&amp;um=1&amp;tbnid=7xi1LVPsRlhOgM:&amp;tbnh=106&amp;tbnw=121&amp;prev=/images?q=green+check&amp;hl=en&amp;sa=N&amp;um=1" TargetMode="External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3"/>
          <p:cNvSpPr/>
          <p:nvPr/>
        </p:nvSpPr>
        <p:spPr>
          <a:xfrm>
            <a:off x="7772400" y="6445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idetake Jo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226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ookies by default permit read/write access to cookie values if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2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domain is the same (Limited subdomain check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34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Foo.bar.com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bar.com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34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ar.com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 foo.bar.com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2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Does not respect port numbers!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2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Does not respect scheme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34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Unless you opt in to secure attribut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Diagram 3" descr=""/>
          <p:cNvPicPr/>
          <p:nvPr/>
        </p:nvPicPr>
        <p:blipFill>
          <a:blip r:embed="rId2"/>
          <a:stretch/>
        </p:blipFill>
        <p:spPr>
          <a:xfrm>
            <a:off x="1500120" y="4091040"/>
            <a:ext cx="6143760" cy="450720"/>
          </a:xfrm>
          <a:prstGeom prst="rect">
            <a:avLst/>
          </a:prstGeom>
          <a:ln w="0">
            <a:noFill/>
          </a:ln>
        </p:spPr>
      </p:pic>
      <p:pic>
        <p:nvPicPr>
          <p:cNvPr id="351" name="Diagram 4" descr=""/>
          <p:cNvPicPr/>
          <p:nvPr/>
        </p:nvPicPr>
        <p:blipFill>
          <a:blip r:embed="rId3"/>
          <a:stretch/>
        </p:blipFill>
        <p:spPr>
          <a:xfrm>
            <a:off x="1500120" y="4548240"/>
            <a:ext cx="6143760" cy="450720"/>
          </a:xfrm>
          <a:prstGeom prst="rect">
            <a:avLst/>
          </a:prstGeom>
          <a:ln w="0">
            <a:noFill/>
          </a:ln>
        </p:spPr>
      </p:pic>
      <p:pic>
        <p:nvPicPr>
          <p:cNvPr id="352" name="Diagram 5" descr=""/>
          <p:cNvPicPr/>
          <p:nvPr/>
        </p:nvPicPr>
        <p:blipFill>
          <a:blip r:embed="rId4"/>
          <a:stretch/>
        </p:blipFill>
        <p:spPr>
          <a:xfrm>
            <a:off x="1500120" y="5005440"/>
            <a:ext cx="6143760" cy="450720"/>
          </a:xfrm>
          <a:prstGeom prst="rect">
            <a:avLst/>
          </a:prstGeom>
          <a:ln w="0">
            <a:noFill/>
          </a:ln>
        </p:spPr>
      </p:pic>
      <p:pic>
        <p:nvPicPr>
          <p:cNvPr id="353" name="Diagram 6" descr=""/>
          <p:cNvPicPr/>
          <p:nvPr/>
        </p:nvPicPr>
        <p:blipFill>
          <a:blip r:embed="rId5"/>
          <a:stretch/>
        </p:blipFill>
        <p:spPr>
          <a:xfrm>
            <a:off x="1500120" y="5462640"/>
            <a:ext cx="6143760" cy="45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http://tbn1.google.com/images?q=tbn:7xi1LVPsRlhOgM:http://www.law.columbia.edu/ipimages/Information_technology/images/checkmark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7080" y="4956120"/>
            <a:ext cx="609840" cy="463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http://tbn1.google.com/images?q=tbn:7xi1LVPsRlhOgM:http://www.law.columbia.edu/ipimages/Information_technology/images/checkmark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67080" y="5413320"/>
            <a:ext cx="609840" cy="463680"/>
          </a:xfrm>
          <a:prstGeom prst="rect">
            <a:avLst/>
          </a:prstGeom>
          <a:ln w="0">
            <a:noFill/>
          </a:ln>
        </p:spPr>
      </p:pic>
      <p:pic>
        <p:nvPicPr>
          <p:cNvPr id="356" name="Diagram 9" descr=""/>
          <p:cNvPicPr/>
          <p:nvPr/>
        </p:nvPicPr>
        <p:blipFill>
          <a:blip r:embed="rId10"/>
          <a:stretch/>
        </p:blipFill>
        <p:spPr>
          <a:xfrm>
            <a:off x="1500120" y="5956200"/>
            <a:ext cx="6143760" cy="457200"/>
          </a:xfrm>
          <a:prstGeom prst="rect">
            <a:avLst/>
          </a:prstGeom>
          <a:ln w="0">
            <a:noFill/>
          </a:ln>
        </p:spPr>
      </p:pic>
      <p:sp>
        <p:nvSpPr>
          <p:cNvPr id="357" name="Multiply 11"/>
          <p:cNvSpPr/>
          <p:nvPr/>
        </p:nvSpPr>
        <p:spPr>
          <a:xfrm>
            <a:off x="4267080" y="5829480"/>
            <a:ext cx="685800" cy="60948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117084" y="199992"/>
                </a:moveTo>
                <a:lnTo>
                  <a:pt x="212340" y="92830"/>
                </a:lnTo>
                <a:lnTo>
                  <a:pt x="342900" y="208883"/>
                </a:lnTo>
                <a:lnTo>
                  <a:pt x="473460" y="92830"/>
                </a:lnTo>
                <a:lnTo>
                  <a:pt x="568716" y="199992"/>
                </a:lnTo>
                <a:lnTo>
                  <a:pt x="450806" y="304800"/>
                </a:lnTo>
                <a:lnTo>
                  <a:pt x="568716" y="409608"/>
                </a:lnTo>
                <a:lnTo>
                  <a:pt x="473460" y="516770"/>
                </a:lnTo>
                <a:lnTo>
                  <a:pt x="342900" y="400717"/>
                </a:lnTo>
                <a:lnTo>
                  <a:pt x="212340" y="516770"/>
                </a:lnTo>
                <a:lnTo>
                  <a:pt x="117084" y="409608"/>
                </a:lnTo>
                <a:lnTo>
                  <a:pt x="234994" y="304800"/>
                </a:lnTo>
                <a:lnTo>
                  <a:pt x="117084" y="199992"/>
                </a:lnTo>
                <a:close/>
              </a:path>
            </a:pathLst>
          </a:custGeom>
          <a:solidFill>
            <a:srgbClr val="ff00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o.bar.com can steal/poison cookie on bar.co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o.bar.com:1111 can steal/poison cookie on Foo.bar.com:2222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regards to cookie and subdomains and ports are of limited security boundar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440"/>
            <a:ext cx="8229600" cy="2568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E does not use ports during origin calcul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read/write/script betwe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Bar.com:80 and Bar.com:123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Diagram 3" descr=""/>
          <p:cNvPicPr/>
          <p:nvPr/>
        </p:nvPicPr>
        <p:blipFill>
          <a:blip r:embed="rId2"/>
          <a:stretch/>
        </p:blipFill>
        <p:spPr>
          <a:xfrm>
            <a:off x="1122480" y="4322880"/>
            <a:ext cx="6137280" cy="450720"/>
          </a:xfrm>
          <a:prstGeom prst="rect">
            <a:avLst/>
          </a:prstGeom>
          <a:ln w="0">
            <a:noFill/>
          </a:ln>
        </p:spPr>
      </p:pic>
      <p:pic>
        <p:nvPicPr>
          <p:cNvPr id="363" name="Diagram 4" descr=""/>
          <p:cNvPicPr/>
          <p:nvPr/>
        </p:nvPicPr>
        <p:blipFill>
          <a:blip r:embed="rId3"/>
          <a:stretch/>
        </p:blipFill>
        <p:spPr>
          <a:xfrm>
            <a:off x="1122480" y="4780080"/>
            <a:ext cx="6137280" cy="450720"/>
          </a:xfrm>
          <a:prstGeom prst="rect">
            <a:avLst/>
          </a:prstGeom>
          <a:ln w="0">
            <a:noFill/>
          </a:ln>
        </p:spPr>
      </p:pic>
      <p:pic>
        <p:nvPicPr>
          <p:cNvPr id="364" name="Diagram 5" descr=""/>
          <p:cNvPicPr/>
          <p:nvPr/>
        </p:nvPicPr>
        <p:blipFill>
          <a:blip r:embed="rId4"/>
          <a:stretch/>
        </p:blipFill>
        <p:spPr>
          <a:xfrm>
            <a:off x="1122480" y="5237280"/>
            <a:ext cx="6137280" cy="450720"/>
          </a:xfrm>
          <a:prstGeom prst="rect">
            <a:avLst/>
          </a:prstGeom>
          <a:ln w="0">
            <a:noFill/>
          </a:ln>
        </p:spPr>
      </p:pic>
      <p:pic>
        <p:nvPicPr>
          <p:cNvPr id="365" name="Diagram 6" descr=""/>
          <p:cNvPicPr/>
          <p:nvPr/>
        </p:nvPicPr>
        <p:blipFill>
          <a:blip r:embed="rId5"/>
          <a:stretch/>
        </p:blipFill>
        <p:spPr>
          <a:xfrm>
            <a:off x="1122480" y="5694480"/>
            <a:ext cx="6137280" cy="45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tbn1.google.com/images?q=tbn:7xi1LVPsRlhOgM:http://www.law.columbia.edu/ipimages/Information_technology/images/checkmark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89440" y="5181480"/>
            <a:ext cx="609480" cy="470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Empty Yellow Triangle Clipart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405120" y="-26036640"/>
            <a:ext cx="2859120" cy="2511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Empty Yellow Triangle Clipar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557400" y="-25884360"/>
            <a:ext cx="2859120" cy="2511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Empty Yellow Triangle Clipart"/>
          <p:cNvPicPr/>
          <p:nvPr/>
        </p:nvPicPr>
        <p:blipFill>
          <a:blip r:embed="rId12"/>
          <a:stretch/>
        </p:blipFill>
        <p:spPr>
          <a:xfrm>
            <a:off x="15710040" y="-25731720"/>
            <a:ext cx="2859120" cy="2511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ttp://tbn1.google.com/images?q=tbn:W3U1QPgpLIm7lM:http://www.clker.com/cliparts/c/9/4/0/12361970081368466730empty%2520yellow%2520triangle.svg.med.png"/>
          <p:cNvPicPr/>
          <p:nvPr/>
        </p:nvPicPr>
        <p:blipFill>
          <a:blip r:embed="rId13"/>
          <a:stretch/>
        </p:blipFill>
        <p:spPr>
          <a:xfrm>
            <a:off x="3889440" y="56386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371" name="Diagram 12" descr=""/>
          <p:cNvPicPr/>
          <p:nvPr/>
        </p:nvPicPr>
        <p:blipFill>
          <a:blip r:embed="rId14"/>
          <a:stretch/>
        </p:blipFill>
        <p:spPr>
          <a:xfrm>
            <a:off x="1122480" y="6151680"/>
            <a:ext cx="6137280" cy="450720"/>
          </a:xfrm>
          <a:prstGeom prst="rect">
            <a:avLst/>
          </a:prstGeom>
          <a:ln w="0">
            <a:noFill/>
          </a:ln>
        </p:spPr>
      </p:pic>
      <p:sp>
        <p:nvSpPr>
          <p:cNvPr id="372" name="Multiply 13"/>
          <p:cNvSpPr/>
          <p:nvPr/>
        </p:nvSpPr>
        <p:spPr>
          <a:xfrm>
            <a:off x="3886200" y="6019920"/>
            <a:ext cx="685800" cy="60948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117084" y="199992"/>
                </a:moveTo>
                <a:lnTo>
                  <a:pt x="212340" y="92830"/>
                </a:lnTo>
                <a:lnTo>
                  <a:pt x="342900" y="208883"/>
                </a:lnTo>
                <a:lnTo>
                  <a:pt x="473460" y="92830"/>
                </a:lnTo>
                <a:lnTo>
                  <a:pt x="568716" y="199992"/>
                </a:lnTo>
                <a:lnTo>
                  <a:pt x="450806" y="304800"/>
                </a:lnTo>
                <a:lnTo>
                  <a:pt x="568716" y="409608"/>
                </a:lnTo>
                <a:lnTo>
                  <a:pt x="473460" y="516770"/>
                </a:lnTo>
                <a:lnTo>
                  <a:pt x="342900" y="400717"/>
                </a:lnTo>
                <a:lnTo>
                  <a:pt x="212340" y="516770"/>
                </a:lnTo>
                <a:lnTo>
                  <a:pt x="117084" y="409608"/>
                </a:lnTo>
                <a:lnTo>
                  <a:pt x="234994" y="304800"/>
                </a:lnTo>
                <a:lnTo>
                  <a:pt x="117084" y="199992"/>
                </a:lnTo>
                <a:close/>
              </a:path>
            </a:pathLst>
          </a:custGeom>
          <a:solidFill>
            <a:srgbClr val="ff00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sting multiple web apps on different por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ould be avoided when possi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rts are not a security boundary for 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st web apps on separate doma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not issue request cross-domai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only read response on the same domai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restrictive Same Origin Poli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t it allows you to insert arbitrary header value when issuing request. (e.g. SOAPAction heade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Diagram 3" descr=""/>
          <p:cNvPicPr/>
          <p:nvPr/>
        </p:nvPicPr>
        <p:blipFill>
          <a:blip r:embed="rId2"/>
          <a:stretch/>
        </p:blipFill>
        <p:spPr>
          <a:xfrm>
            <a:off x="1347840" y="5389560"/>
            <a:ext cx="61434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0" y="17748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declarative secur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ermits you to expand origi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s is an opt-in policy/featur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476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Access-Control-Allow-Origin/Method Header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ows you to send request cross-doma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ows you to read response cross-doma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ore Inf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ross Origin Resource Sharing (Firefox 3.5, Safari 4.0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ttp://www.w3.org/TR/access-control/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XDomainRequest Object (IE8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ttp://msdn.microsoft.com/en-us/library/cc288060(VS.85).aspx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verly permissible poli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ind of like ACL on Window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mpting for frustrated developer to give everyone full contro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te where the binary lives is orig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te where the binary is embedded is also considered origin in some cas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.xap lives in foo.com and a page on bar.com is using it.  App now has access to bar.com and foo.co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Read/Write DOM on bar.com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ake network requests back to foo.com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ock these RIA runtimes down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ross-domain policy fi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For Flash and Silverlight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Easy to mess up: Tom found a major site that allowed all sites on the internet to read/write to their site for over a year.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mbed these applets with security flag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ilverlight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EnableHtmlAcces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Flash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llowScriptAcces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sting potentially evil RIA fi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n make network connection back to your ho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mbedding potentially evil RIA fi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n script on your si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sting overly permissive policy fi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n read and write against your domai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lash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lash.net.SharedObjec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apacity: 100KB by default (adjustable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ame Origin Polic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476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y Domain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476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y User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lnSpc>
                <a:spcPct val="80000"/>
              </a:lnSpc>
              <a:spcBef>
                <a:spcPts val="476"/>
              </a:spcBef>
              <a:buClr>
                <a:srgbClr val="e88651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Party Content (enabled by default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lverligh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ystem.IO.IsolatedStorage.IsolatedStorageFil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apacity: 1024KB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ame Origin Polic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476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y User + Assembly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476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y User + Domain + Assembly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security policy for the web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ccess from http://www.example.com/dir/test.htm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eant to prevent cross-site issu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vil.com can’t access content from bank.co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mple enough, righ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1298520" y="2743200"/>
            <a:ext cx="5370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ML 5 Fe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ables cross-domain Communic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rget.postMessage(msg, origi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implemenet listener by call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arget.attachEvent(“onmessage” , handler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arget.addEventListener(“message”, handler, useCapture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igin check in handler option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ck of optional origin che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usting potentially malicious orig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no origin check is done by desig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nitize incoming message before 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addition to Get/Post there is Put/Delete support for forms in HTML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ml 5 Spec supports this via fo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pefully this will not be allowed x-domain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ml 5 Fe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ables bi-directional binary/text com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ill unclear how it will be secu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able cross-domain communic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p to dev/test/pm to define the policy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d flag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telock techniqu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ntain usage to one domain.  (Different from SOP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enerally should follow the same-origin policy…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t which one??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strictest definition to be safes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ort, Domain, Subdomain, Protocol should match for read/write acces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y attempt at a summary table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Picture 4" descr="http://www.pcin.net/update/wp-content/uploads/minesweeper.jpg"/>
          <p:cNvPicPr/>
          <p:nvPr/>
        </p:nvPicPr>
        <p:blipFill>
          <a:blip r:embed="rId2"/>
          <a:stretch/>
        </p:blipFill>
        <p:spPr>
          <a:xfrm>
            <a:off x="7467480" y="2362320"/>
            <a:ext cx="1333800" cy="1952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914400" y="2590920"/>
            <a:ext cx="603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ross-domain Get/Post can introduce CSRF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ncorrectly configured RIA policy files and apps can introduce cross-site access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Lenient subdomain rule for cookie access makes hosting multiple sites a challeng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ross-domain resource sharing of script, json, xml, etc can introduce hijacking problems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E doesn’t utilize port for origin calculation.  Web apps should be hosted on distinct domains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One-off x-domain apis such as postmessage can catch developers off guar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Etc.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’re in a bad state with varying definition for same-origin polic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ard for developers to understand the risk with their desig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udit all the areas that can go wrong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ebservices that return includable dat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New ActiveX control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Features that leverage RIA platform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rossdomain policy fi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clarative security flag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Usage of apis that permit x-domain access by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eb service that permits state changing opera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opology of the web app setup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other other technology that needs to be looked a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ars, Air, Java, HTML 5 features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me-origin policy is inconsistent toda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will probably continue to stay this wa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compat reasons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ame-origin policy will probably evol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nce the definition in this deck may be obsolete so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hidetake\AppData\Local\Microsoft\Windows\Temporary Internet Files\Content.IE5\OV945NPV\MC900441498[1].png"/>
          <p:cNvPicPr/>
          <p:nvPr/>
        </p:nvPicPr>
        <p:blipFill>
          <a:blip r:embed="rId2"/>
          <a:stretch/>
        </p:blipFill>
        <p:spPr>
          <a:xfrm>
            <a:off x="2438280" y="19810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2133720" y="6095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f you have questions, concerns, corrections please mail me at:  hidejo@gmail.co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P is implemented everywhe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rowser features, RIA plugins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P is implemented different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eat but dangerou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s web developers life very interes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http://www.techdigest.tv/assets_c/2009/01/minesweeper-thumb-200x257-72557.png"/>
          <p:cNvPicPr/>
          <p:nvPr/>
        </p:nvPicPr>
        <p:blipFill>
          <a:blip r:embed="rId2"/>
          <a:stretch/>
        </p:blipFill>
        <p:spPr>
          <a:xfrm>
            <a:off x="6934320" y="4495680"/>
            <a:ext cx="1676160" cy="2165400"/>
          </a:xfrm>
          <a:prstGeom prst="rect">
            <a:avLst/>
          </a:prstGeom>
          <a:ln w="0">
            <a:noFill/>
          </a:ln>
        </p:spPr>
      </p:pic>
      <p:sp>
        <p:nvSpPr>
          <p:cNvPr id="318" name="Bent-Up Arrow 3"/>
          <p:cNvSpPr/>
          <p:nvPr/>
        </p:nvSpPr>
        <p:spPr>
          <a:xfrm rot="5400000">
            <a:off x="4260240" y="2825640"/>
            <a:ext cx="851040" cy="4190760"/>
          </a:xfrm>
          <a:custGeom>
            <a:avLst/>
            <a:gdLst/>
            <a:ahLst/>
            <a:rect l="l" t="t" r="r" b="b"/>
            <a:pathLst>
              <a:path w="850900" h="4191000">
                <a:moveTo>
                  <a:pt x="0" y="3978275"/>
                </a:moveTo>
                <a:lnTo>
                  <a:pt x="531813" y="3978275"/>
                </a:lnTo>
                <a:lnTo>
                  <a:pt x="531813" y="212725"/>
                </a:lnTo>
                <a:lnTo>
                  <a:pt x="425450" y="212725"/>
                </a:lnTo>
                <a:lnTo>
                  <a:pt x="638175" y="0"/>
                </a:lnTo>
                <a:lnTo>
                  <a:pt x="850900" y="212725"/>
                </a:lnTo>
                <a:lnTo>
                  <a:pt x="744538" y="212725"/>
                </a:lnTo>
                <a:lnTo>
                  <a:pt x="744538" y="4191000"/>
                </a:lnTo>
                <a:lnTo>
                  <a:pt x="0" y="4191000"/>
                </a:lnTo>
                <a:lnTo>
                  <a:pt x="0" y="3978275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gh level overview of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me Origin Policies by technolog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rowsers, Javascript, Cookies, RIA, et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mmary of delt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this affects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et/Post request can be made from one domain to another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et/Post response can only be read under the following condition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the ports match on both si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the domain + subdomain match on both si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Diagram 4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6137280" cy="450720"/>
          </a:xfrm>
          <a:prstGeom prst="rect">
            <a:avLst/>
          </a:prstGeom>
          <a:ln w="0">
            <a:noFill/>
          </a:ln>
        </p:spPr>
      </p:pic>
      <p:pic>
        <p:nvPicPr>
          <p:cNvPr id="324" name="Diagram 5" descr=""/>
          <p:cNvPicPr/>
          <p:nvPr/>
        </p:nvPicPr>
        <p:blipFill>
          <a:blip r:embed="rId3"/>
          <a:stretch/>
        </p:blipFill>
        <p:spPr>
          <a:xfrm>
            <a:off x="1274760" y="4475160"/>
            <a:ext cx="6137280" cy="450720"/>
          </a:xfrm>
          <a:prstGeom prst="rect">
            <a:avLst/>
          </a:prstGeom>
          <a:ln w="0">
            <a:noFill/>
          </a:ln>
        </p:spPr>
      </p:pic>
      <p:pic>
        <p:nvPicPr>
          <p:cNvPr id="325" name="Diagram 6" descr=""/>
          <p:cNvPicPr/>
          <p:nvPr/>
        </p:nvPicPr>
        <p:blipFill>
          <a:blip r:embed="rId4"/>
          <a:stretch/>
        </p:blipFill>
        <p:spPr>
          <a:xfrm>
            <a:off x="1274760" y="4932360"/>
            <a:ext cx="6137280" cy="450720"/>
          </a:xfrm>
          <a:prstGeom prst="rect">
            <a:avLst/>
          </a:prstGeom>
          <a:ln w="0">
            <a:noFill/>
          </a:ln>
        </p:spPr>
      </p:pic>
      <p:pic>
        <p:nvPicPr>
          <p:cNvPr id="326" name="Diagram 7" descr=""/>
          <p:cNvPicPr/>
          <p:nvPr/>
        </p:nvPicPr>
        <p:blipFill>
          <a:blip r:embed="rId5"/>
          <a:stretch/>
        </p:blipFill>
        <p:spPr>
          <a:xfrm>
            <a:off x="1274760" y="5389560"/>
            <a:ext cx="6137280" cy="450720"/>
          </a:xfrm>
          <a:prstGeom prst="rect">
            <a:avLst/>
          </a:prstGeom>
          <a:ln w="0">
            <a:noFill/>
          </a:ln>
        </p:spPr>
      </p:pic>
      <p:sp>
        <p:nvSpPr>
          <p:cNvPr id="327" name="Multiply 8"/>
          <p:cNvSpPr/>
          <p:nvPr/>
        </p:nvSpPr>
        <p:spPr>
          <a:xfrm>
            <a:off x="4038480" y="5257800"/>
            <a:ext cx="685800" cy="60948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117084" y="199992"/>
                </a:moveTo>
                <a:lnTo>
                  <a:pt x="212340" y="92830"/>
                </a:lnTo>
                <a:lnTo>
                  <a:pt x="342900" y="208883"/>
                </a:lnTo>
                <a:lnTo>
                  <a:pt x="473460" y="92830"/>
                </a:lnTo>
                <a:lnTo>
                  <a:pt x="568716" y="199992"/>
                </a:lnTo>
                <a:lnTo>
                  <a:pt x="450806" y="304800"/>
                </a:lnTo>
                <a:lnTo>
                  <a:pt x="568716" y="409608"/>
                </a:lnTo>
                <a:lnTo>
                  <a:pt x="473460" y="516770"/>
                </a:lnTo>
                <a:lnTo>
                  <a:pt x="342900" y="400717"/>
                </a:lnTo>
                <a:lnTo>
                  <a:pt x="212340" y="516770"/>
                </a:lnTo>
                <a:lnTo>
                  <a:pt x="117084" y="409608"/>
                </a:lnTo>
                <a:lnTo>
                  <a:pt x="234994" y="304800"/>
                </a:lnTo>
                <a:lnTo>
                  <a:pt x="117084" y="199992"/>
                </a:lnTo>
                <a:close/>
              </a:path>
            </a:pathLst>
          </a:custGeom>
          <a:solidFill>
            <a:srgbClr val="ff00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Diagram 9" descr=""/>
          <p:cNvPicPr/>
          <p:nvPr/>
        </p:nvPicPr>
        <p:blipFill>
          <a:blip r:embed="rId6"/>
          <a:stretch/>
        </p:blipFill>
        <p:spPr>
          <a:xfrm>
            <a:off x="1274760" y="5846760"/>
            <a:ext cx="6137280" cy="450720"/>
          </a:xfrm>
          <a:prstGeom prst="rect">
            <a:avLst/>
          </a:prstGeom>
          <a:ln w="0">
            <a:noFill/>
          </a:ln>
        </p:spPr>
      </p:pic>
      <p:sp>
        <p:nvSpPr>
          <p:cNvPr id="329" name="Multiply 10"/>
          <p:cNvSpPr/>
          <p:nvPr/>
        </p:nvSpPr>
        <p:spPr>
          <a:xfrm>
            <a:off x="4038480" y="5715000"/>
            <a:ext cx="685800" cy="60948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117084" y="199992"/>
                </a:moveTo>
                <a:lnTo>
                  <a:pt x="212340" y="92830"/>
                </a:lnTo>
                <a:lnTo>
                  <a:pt x="342900" y="208883"/>
                </a:lnTo>
                <a:lnTo>
                  <a:pt x="473460" y="92830"/>
                </a:lnTo>
                <a:lnTo>
                  <a:pt x="568716" y="199992"/>
                </a:lnTo>
                <a:lnTo>
                  <a:pt x="450806" y="304800"/>
                </a:lnTo>
                <a:lnTo>
                  <a:pt x="568716" y="409608"/>
                </a:lnTo>
                <a:lnTo>
                  <a:pt x="473460" y="516770"/>
                </a:lnTo>
                <a:lnTo>
                  <a:pt x="342900" y="400717"/>
                </a:lnTo>
                <a:lnTo>
                  <a:pt x="212340" y="516770"/>
                </a:lnTo>
                <a:lnTo>
                  <a:pt x="117084" y="409608"/>
                </a:lnTo>
                <a:lnTo>
                  <a:pt x="234994" y="304800"/>
                </a:lnTo>
                <a:lnTo>
                  <a:pt x="117084" y="199992"/>
                </a:lnTo>
                <a:close/>
              </a:path>
            </a:pathLst>
          </a:custGeom>
          <a:solidFill>
            <a:srgbClr val="ff00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Diagram 11" descr=""/>
          <p:cNvPicPr/>
          <p:nvPr/>
        </p:nvPicPr>
        <p:blipFill>
          <a:blip r:embed="rId7"/>
          <a:stretch/>
        </p:blipFill>
        <p:spPr>
          <a:xfrm>
            <a:off x="1274760" y="6303960"/>
            <a:ext cx="6137280" cy="450720"/>
          </a:xfrm>
          <a:prstGeom prst="rect">
            <a:avLst/>
          </a:prstGeom>
          <a:ln w="0">
            <a:noFill/>
          </a:ln>
        </p:spPr>
      </p:pic>
      <p:sp>
        <p:nvSpPr>
          <p:cNvPr id="331" name="Multiply 12"/>
          <p:cNvSpPr/>
          <p:nvPr/>
        </p:nvSpPr>
        <p:spPr>
          <a:xfrm>
            <a:off x="4038480" y="6172200"/>
            <a:ext cx="685800" cy="60948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117084" y="199992"/>
                </a:moveTo>
                <a:lnTo>
                  <a:pt x="212340" y="92830"/>
                </a:lnTo>
                <a:lnTo>
                  <a:pt x="342900" y="208883"/>
                </a:lnTo>
                <a:lnTo>
                  <a:pt x="473460" y="92830"/>
                </a:lnTo>
                <a:lnTo>
                  <a:pt x="568716" y="199992"/>
                </a:lnTo>
                <a:lnTo>
                  <a:pt x="450806" y="304800"/>
                </a:lnTo>
                <a:lnTo>
                  <a:pt x="568716" y="409608"/>
                </a:lnTo>
                <a:lnTo>
                  <a:pt x="473460" y="516770"/>
                </a:lnTo>
                <a:lnTo>
                  <a:pt x="342900" y="400717"/>
                </a:lnTo>
                <a:lnTo>
                  <a:pt x="212340" y="516770"/>
                </a:lnTo>
                <a:lnTo>
                  <a:pt x="117084" y="409608"/>
                </a:lnTo>
                <a:lnTo>
                  <a:pt x="234994" y="304800"/>
                </a:lnTo>
                <a:lnTo>
                  <a:pt x="117084" y="199992"/>
                </a:lnTo>
                <a:close/>
              </a:path>
            </a:pathLst>
          </a:custGeom>
          <a:solidFill>
            <a:srgbClr val="ff00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two different subdomains (different origin) is under the same domain.. And one is performing domain lower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lock.live.com vs Vulnerable.live.co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lock.live.com setting document.domain to live.co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ulnerable.live.com is owned then attacker can set domain to live.com and access clock.live.com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reats: All eggs in one basket (*.google.com or *.live.com).  Cross-subdomain communication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main Lowe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utting all the eggs in one bask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oss-Site Request Forge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etflix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ttp://www.webappsec.org/lists/websecurity/archive/2006-10/msg00063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t/Post request for adding movie to queu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t/Post works cross-domain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33520" y="167652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f you’re including or exposing resource cross-domain such as JSON, SCRIPT, etc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Forfeit trust to site exposing the script resource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ML/JS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Risk information disclosure if  you’re exposing resource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E.g. Read content of script, access  JSON array, retrieve XML data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SON: var data = { "social": "11-22-3333", "name": "Joe"}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XML: var data = &lt;info&gt;&lt;social&gt;11-22-3333&lt;/social&gt;&lt;name&gt;Joe&lt;/name&gt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Diagram 3" descr=""/>
          <p:cNvPicPr/>
          <p:nvPr/>
        </p:nvPicPr>
        <p:blipFill>
          <a:blip r:embed="rId2"/>
          <a:stretch/>
        </p:blipFill>
        <p:spPr>
          <a:xfrm>
            <a:off x="1652760" y="4243320"/>
            <a:ext cx="6143400" cy="451080"/>
          </a:xfrm>
          <a:prstGeom prst="rect">
            <a:avLst/>
          </a:prstGeom>
          <a:ln w="0">
            <a:noFill/>
          </a:ln>
        </p:spPr>
      </p:pic>
      <p:pic>
        <p:nvPicPr>
          <p:cNvPr id="339" name="Diagram 4" descr=""/>
          <p:cNvPicPr/>
          <p:nvPr/>
        </p:nvPicPr>
        <p:blipFill>
          <a:blip r:embed="rId3"/>
          <a:stretch/>
        </p:blipFill>
        <p:spPr>
          <a:xfrm>
            <a:off x="1652760" y="4700520"/>
            <a:ext cx="6143400" cy="451080"/>
          </a:xfrm>
          <a:prstGeom prst="rect">
            <a:avLst/>
          </a:prstGeom>
          <a:ln w="0">
            <a:noFill/>
          </a:ln>
        </p:spPr>
      </p:pic>
      <p:pic>
        <p:nvPicPr>
          <p:cNvPr id="340" name="Diagram 5" descr=""/>
          <p:cNvPicPr/>
          <p:nvPr/>
        </p:nvPicPr>
        <p:blipFill>
          <a:blip r:embed="rId4"/>
          <a:stretch/>
        </p:blipFill>
        <p:spPr>
          <a:xfrm>
            <a:off x="1652760" y="5157720"/>
            <a:ext cx="6143400" cy="451080"/>
          </a:xfrm>
          <a:prstGeom prst="rect">
            <a:avLst/>
          </a:prstGeom>
          <a:ln w="0">
            <a:noFill/>
          </a:ln>
        </p:spPr>
      </p:pic>
      <p:pic>
        <p:nvPicPr>
          <p:cNvPr id="341" name="Diagram 6" descr=""/>
          <p:cNvPicPr/>
          <p:nvPr/>
        </p:nvPicPr>
        <p:blipFill>
          <a:blip r:embed="rId5"/>
          <a:stretch/>
        </p:blipFill>
        <p:spPr>
          <a:xfrm>
            <a:off x="1652760" y="5614920"/>
            <a:ext cx="6143400" cy="451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tbn1.google.com/images?q=tbn:7xi1LVPsRlhOgM:http://www.law.columbia.edu/ipimages/Information_technology/images/checkmark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19720" y="5108400"/>
            <a:ext cx="609480" cy="463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ttp://tbn1.google.com/images?q=tbn:7xi1LVPsRlhOgM:http://www.law.columbia.edu/ipimages/Information_technology/images/checkmark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19720" y="5565600"/>
            <a:ext cx="609480" cy="463680"/>
          </a:xfrm>
          <a:prstGeom prst="rect">
            <a:avLst/>
          </a:prstGeom>
          <a:ln w="0">
            <a:noFill/>
          </a:ln>
        </p:spPr>
      </p:pic>
      <p:pic>
        <p:nvPicPr>
          <p:cNvPr id="344" name="Diagram 9" descr=""/>
          <p:cNvPicPr/>
          <p:nvPr/>
        </p:nvPicPr>
        <p:blipFill>
          <a:blip r:embed="rId10"/>
          <a:stretch/>
        </p:blipFill>
        <p:spPr>
          <a:xfrm>
            <a:off x="1652760" y="6151680"/>
            <a:ext cx="6143400" cy="450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http://tbn1.google.com/images?q=tbn:7xi1LVPsRlhOgM:http://www.law.columbia.edu/ipimages/Information_technology/images/checkmark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419720" y="6095880"/>
            <a:ext cx="6094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vascript\XML Hijack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ma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ttp://jeremiahgrossman.blogspot.com/2006/01/advanced-web-attack-techniques-using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osed script contained contacts inf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ript path was fully predict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ript can be included x-doma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ript content can be acces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nctions (e.g. function_name.toString() 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6:44:26Z</dcterms:created>
  <dc:creator/>
  <dc:description/>
  <dc:language>en-US</dc:language>
  <cp:lastModifiedBy/>
  <dcterms:modified xsi:type="dcterms:W3CDTF">2010-02-04T06:56:36Z</dcterms:modified>
  <cp:revision>1</cp:revision>
  <dc:subject/>
  <dc:title/>
</cp:coreProperties>
</file>