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0" y="0"/>
            <a:ext cx="2936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3884760" y="0"/>
            <a:ext cx="2936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0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0" y="8647200"/>
            <a:ext cx="2936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040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EC62A-49EE-4EB9-90C5-05C9C0730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8976A-EF87-4DFE-A05B-33D155AF5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F9C0-1F4B-46ED-8334-B5D3DF48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27DC1-30EC-4412-93A5-6E5096FC7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BDF8-57F3-4C2A-9ABC-4DF248B75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AAFAA-85DF-41AB-A39F-A412B2599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7A4A-4578-4E7A-B976-AC1EE9E3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561EB-92CC-407F-9C7D-2CA13028E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64C44-3EDC-435A-8DB9-40300931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3EEB9-84E0-4273-A9B2-DDC80A09B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A751E-3CCF-4689-83C1-96DFE4BC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FD8F-8D73-44E8-AC0D-2AEC70555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CEF4-5DA6-4AAA-B97B-BA45BED6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83882-DA76-4DD0-840D-E024B6843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82EE-9BCE-47E3-946A-7CE2786EF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10E41-3F12-40FD-9DF4-231627315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55641-A750-4A1B-A383-FCD815EFE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144440" y="685800"/>
            <a:ext cx="456264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B14CA-8D8E-4E0A-B00F-444E4B460F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E85DC-7BFB-4001-8C5C-E8DACE30F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1144440" y="685800"/>
            <a:ext cx="456264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2405-4331-4B91-B206-EC764CD75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2F947-46BD-48E8-ADB2-57BA2BDE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144440" y="685800"/>
            <a:ext cx="456264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074E-F737-4A41-AFA6-901270217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0866A-5C08-414F-B3A8-F608B971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144440" y="685800"/>
            <a:ext cx="456264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7872-954D-4C36-A1A8-F5CC769139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AEA4-9D51-4C97-A253-B661DBBC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3900C-4100-43A3-94B2-51DA11DDB9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D5D7D-F7BF-4A25-B4DC-DD974160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DE728-B236-4496-8248-5655195CD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681E9-72D1-4FB1-83AE-55496991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49CB6-7E3A-4B6D-AF8A-3292194A0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B53F-9881-4EDF-9E08-2C4025DA9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C778-D50F-4A76-A1C9-EE445D367A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A521-6A97-4C05-B431-7C8CC375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210E9-0437-428C-A098-6EE81CC6D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52F8-5398-4777-BFFB-D7740CE3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2B55-3244-49B3-B1A3-26E8B221B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D7E67-AC9E-4DD8-BA98-EBA0D6636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217ED-79C7-49B0-8612-784C9E896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ED3A-82DB-41B0-8C11-F8389220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26AA0-E659-4B54-A2D0-C309C4618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CC7E0-67D4-480C-B046-88033C74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prawdzic ansi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D7F5-98F0-44D5-B283-7FE7967A01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70E09-69A1-4A9F-A8E7-BB67C48D7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3AC1-0C10-438D-B743-5AE408F4D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AB442-FA13-4E57-B04A-02B31DEA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7408-994C-49C0-8AEC-DDD0C8D31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906A-FCE8-4237-B076-77CE4B38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7B8C-2BBA-4D6D-B592-CE2853A39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44A6-EC4F-4ADC-949F-6401A3B7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D954E-F815-41CE-9831-06963A72A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44B23-0509-4326-B605-8B9A9B3F9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4F3BC-2EE2-41A0-AAB6-335B577A8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1A2DD-D712-495D-8875-CF3DE557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FF01E-854E-4BCA-B546-C5A5EF730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DEBFC-CFD8-4BC5-AD63-A7093E8C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6EAD-3E91-40C9-B2B0-3DEFCE749B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449CF-FADB-491B-A137-9A2544DD2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1143000" y="685800"/>
            <a:ext cx="4541760" cy="33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934B-A6C9-464D-9CB7-7092D20B0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BE0B2-3772-4293-8B91-E81CF125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D59C5-6323-4485-97BB-C7AB660E5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CF6EC-2973-4ADE-A242-57EA1945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1143000" y="685800"/>
            <a:ext cx="454356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486C7-D353-40D4-96B4-4E6CDF9E8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36400-A234-4D5F-B725-3C9C5CC66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1143000" y="685800"/>
            <a:ext cx="454356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2495-22CC-4BB1-8F30-728E4FC1DE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DA81D-C895-4B3C-AD3D-F60A43C34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5B3AD-64FD-4B29-AD28-3B0F5389B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5C1E-3681-40EE-9164-C152A81B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4356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B0C1-7C69-41AB-B3AD-142BFF6C6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8B5D-03FB-4A6E-8826-3B34A057D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C6AF-BA21-4A3C-BF10-6B5E88DE8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54FB-32C9-4F48-B4C2-FEDFCDCB2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41952-BA60-4C03-8548-5DF74971E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79797-A639-4C34-B366-B8380BC2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9683E-EC19-4455-B930-ABD4372EF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E26C-F2E5-431D-A6F5-FCE83876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7D312-757A-477C-B09C-D3B5E3FBB4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86EF3-9AD1-4E4C-9B69-88B64E799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8392F-0487-4A17-AC5B-01BB32C30B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D0E4-C98D-4510-B28F-496880039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9304-CB14-419A-A332-1F64E3364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7F9B-32F9-4239-B385-079450AB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7737-CAAE-443F-B89F-6CAD36B40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0C52-E31F-462F-B631-4035D0E3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682E-2E92-4758-BD92-E9FA3E05E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6F13-65DA-4182-9337-D420B0D1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8451-0C6D-4FEA-8130-820B8A394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989AC-15B5-4D28-BC0A-B09BC91B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98F5A-B3F3-4913-AADB-F047380BB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A54D0-6C07-4F93-ADB9-355473CE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 tym dodac slajd, jak wywolac procedure w SQL (call / ex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02E0-0E5D-473E-94EB-CA741AE3BE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80DC-C958-44C2-B7E7-E2456955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779FE-00EA-4F3B-83C9-A29EFD82D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0A268-BA58-4EC5-86B8-F2D14E53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01F5F-DBD0-43B9-A9D4-019CA2F1F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C56B9-8D01-4749-A9BA-9D1474C7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1143000" y="685800"/>
            <a:ext cx="454500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14CB-2434-4662-99AC-FC309F2AE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9D506-A06E-44BA-8F60-68DF2135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91DA-AE14-4B2B-9B7F-72C39DCDB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0B60F-C340-4827-B932-E3D5DCAAE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FEED4-FB74-4D03-A1CA-A0545FF13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17366-48BE-44D7-9A74-1FC53D50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5B7A9-0A8F-43F6-B095-D8B95F3BF8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82A91-D5BA-4C7F-A2B2-801EC712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28B9-91D4-4BD1-AF5F-56A50CFFFE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A520D-A59A-4DFD-BB9A-B361454D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B9720-9EDA-4A06-B7BE-4D7EE2FF4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32BF5-4F10-489C-8C34-CDE63BD9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1143000" y="685800"/>
            <a:ext cx="454500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6BE4C-689B-481D-A91E-53888B77C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B05BB-4F06-4AC7-A12B-C9EFBB79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FA51-7807-4CAA-BB19-396883F97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A9AA-5858-4EEF-80CB-F137CB8EE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CDA0-F15D-44C8-9FEF-1DC1F0882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6146C-D6F4-4DEA-AE81-215DC61D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1143000" y="685800"/>
            <a:ext cx="454500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B7A60-B4E6-45E5-B552-D15AC7ABF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ECA3-FBD5-426E-A4E4-2E4FBC92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EACB4-3DA2-4793-946E-1C6D3E317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CB520-6BBA-439C-968A-CDC9A16DA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05D9-D567-42C8-976B-F0505A077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F99A-A931-4CB2-A33B-3AA2EB57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1144440" y="68580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00F10-2709-494A-B987-B16C3CE2A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5720-9045-4F8B-A9E1-993296789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0DA4F-62D4-48B7-B733-0C6940669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5D27A-3319-46F2-B649-3D79008E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2"/>
          <p:cNvSpPr/>
          <p:nvPr/>
        </p:nvSpPr>
        <p:spPr>
          <a:xfrm>
            <a:off x="3884760" y="8685360"/>
            <a:ext cx="2930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2B151-DE65-4C3C-92CA-03D1C4431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3884760" y="8685360"/>
            <a:ext cx="293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AAD88-39BE-44A5-848E-CDA505F5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68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C839-69E7-439A-82FF-20456CC85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65256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05DC-BB75-4276-B0AF-6021E68A2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F469-D73E-41DC-A095-AC77A76B0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52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52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14B8-126D-4C57-A61E-9DA631422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93680"/>
            <a:ext cx="818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5024-6377-4906-A1D9-086EDCB6F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26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65256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26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252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93640" y="129492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252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93640" y="3652560"/>
            <a:ext cx="26362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68DE-4C08-4F08-8E5B-16388D3A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0E11-C454-44BE-A760-DAA453A40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B5E-11C5-4224-B4DB-B4713F0B6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93680"/>
            <a:ext cx="818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2ADE-B043-4182-A9A7-923E1E3B5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883D-BF43-45FC-BB4A-56F4EBC7A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65256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E523-4F92-4C70-AAC1-22D2B80FF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294920"/>
            <a:ext cx="399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652560"/>
            <a:ext cx="81882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FD51-C590-40B7-8489-74677506C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818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5280" y="6308280"/>
            <a:ext cx="36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B837-0D12-4FE5-AA98-B8D4A67F4C56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82588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 rot="10800000">
            <a:off x="7385040" y="27079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882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7safe.com/breach_report/Breach_report_2010.pdf" TargetMode="External"/><Relationship Id="rId2" Type="http://schemas.openxmlformats.org/officeDocument/2006/relationships/hyperlink" Target="http://blogs.zdnet.com/security/?p=542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ebappsec.org/projects/articles/091007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ve.mitre.org/cgi-bin/cvename.cgi?name=CVE-2006-2314" TargetMode="External"/><Relationship Id="rId2" Type="http://schemas.openxmlformats.org/officeDocument/2006/relationships/hyperlink" Target="http://cve.mitre.org/cgi-bin/cvename.cgi?name=CVE-2006-275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3276720" y="762120"/>
            <a:ext cx="5867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777777"/>
                </a:solidFill>
                <a:latin typeface="Tahoma"/>
              </a:rPr>
              <a:t>Kompletny przewodnik po 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SQL injection </a:t>
            </a:r>
            <a:r>
              <a:rPr b="1" lang="pl-PL" sz="2800" spc="-1" strike="noStrike">
                <a:solidFill>
                  <a:srgbClr val="777777"/>
                </a:solidFill>
                <a:latin typeface="Tahoma"/>
              </a:rPr>
              <a:t>dla developerów PHP (i nie tylk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343400" y="3260880"/>
            <a:ext cx="3733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Krzysztof Kotowi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PHP Develo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http://web.eskot.p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969696"/>
                </a:solidFill>
                <a:latin typeface="Tahoma"/>
              </a:rPr>
              <a:t>Medycyna Praktycz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969696"/>
                </a:solidFill>
                <a:latin typeface="Tahoma"/>
              </a:rPr>
              <a:t>krzysztof@kotowicz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614600" y="4648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777777"/>
                </a:solidFill>
                <a:latin typeface="Tahoma"/>
              </a:rPr>
              <a:t>10.03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42D7E-25A7-4D8F-9086-3AD9545DC09C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9512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Kilka fak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odatności na injection na pierwszym miejscu OWASP Top 10 2010 R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Odpowiada za 40–60% przypadków wycieku danych </a:t>
            </a:r>
            <a:r>
              <a:rPr b="0" lang="pl-PL" sz="2000" spc="-1" strike="noStrike" u="sng">
                <a:solidFill>
                  <a:srgbClr val="0070c0"/>
                </a:solidFill>
                <a:uFillTx/>
                <a:latin typeface="Tahoma"/>
                <a:hlinkClick r:id="rId1"/>
              </a:rPr>
              <a:t>[1]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 u="sng">
                <a:solidFill>
                  <a:srgbClr val="0070c0"/>
                </a:solidFill>
                <a:uFillTx/>
                <a:latin typeface="Tahoma"/>
                <a:hlinkClick r:id="rId2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Obecne techniki ataku są bardzo zaawansowane i często automatyzow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atność nie tylko w części WHE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asem celem jest </a:t>
            </a:r>
            <a:r>
              <a:rPr b="0" i="1" lang="pl-PL" sz="2000" spc="-1" strike="noStrike">
                <a:solidFill>
                  <a:srgbClr val="000000"/>
                </a:solidFill>
                <a:latin typeface="Tahoma"/>
              </a:rPr>
              <a:t>zepsuc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pyt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dziennie znajdowane podatności, nawet w nowych aplikacj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24A12-9818-4DE4-A4B2-80B0AF2905A2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040360" y="1619280"/>
            <a:ext cx="4165560" cy="341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1706120" y="11177640"/>
            <a:ext cx="8229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72FA-C4AC-41D3-9047-9AA2933F0CEE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9512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 przed SQL inje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Źródło podatności - łączenie kodu z dany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etody obr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4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dzielenie kodu od dany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epared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tored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4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cape'owanie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55640" y="1989000"/>
            <a:ext cx="7345440" cy="648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5840" bIns="90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SELECT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*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FROM users WHERE login 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login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79C10-3742-433D-8B5A-FCC0539AACB9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914400" y="590544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epared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300720" y="2424240"/>
            <a:ext cx="3432240" cy="257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638B-8393-4934-8DE0-614F2430C98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93680"/>
            <a:ext cx="82249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– zasada dział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95280"/>
            <a:ext cx="82249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zygotowujemy polecenie SQL (st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miejsce danych wstawiamy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nacznik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zesyłamy polecenie na ser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ajemy zestaw danych do polec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konujemy polece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bieramy rezultat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, 4, 5 można powtarzać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9440" indent="-649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6494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6328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yścimy polece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780000" y="2349360"/>
            <a:ext cx="4824360" cy="432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WHERE a = ? ... WHERE a = :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7308720" y="2997360"/>
            <a:ext cx="1295640" cy="433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7308720" y="3933720"/>
            <a:ext cx="1295640" cy="43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EXEC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1BF9D-CE66-402A-882A-C38A964EE5AB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95120"/>
            <a:ext cx="8226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- przykł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1295280"/>
            <a:ext cx="822636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ykład działania (P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7040" y="1860480"/>
          <a:ext cx="8093160" cy="4368960"/>
        </p:xfrm>
        <a:graphic>
          <a:graphicData uri="http://schemas.openxmlformats.org/drawingml/2006/table">
            <a:tbl>
              <a:tblPr/>
              <a:tblGrid>
                <a:gridCol w="8093160"/>
              </a:tblGrid>
              <a:tr h="4368960">
                <a:tc>
                  <a:txBody>
                    <a:bodyPr lIns="90000" rIns="90000" tIns="195840" bIns="900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 przygotowujemy zapytan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h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INSERT INTO SUMMARIES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(name, sum) VALUES (:name, :sum)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 podajemy wartosci zmiennych – RAZEM Z TYPAMI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:nam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name, PDO::PARAM_STR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:sum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sum, PDO::PARAM_IN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  <a:ea typeface="Courier New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 podajemy wartości zmienny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name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omething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value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1234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 wykonujemy zapytan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null; 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zwalniamy pami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F59D2-43ED-4391-BF4D-56117AD8704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93680"/>
            <a:ext cx="8223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- zal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1295280"/>
            <a:ext cx="822312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cenia SQL są całkowicie oddzielone od przetwarzanych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rak możliwości wstrzyknięcia kodu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cenie SQL jest przez serwer kompilowane tylko raz – potencjalne zwiększenie wydajności zapyta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15880" y="3789360"/>
          <a:ext cx="8069400" cy="2112840"/>
        </p:xfrm>
        <a:graphic>
          <a:graphicData uri="http://schemas.openxmlformats.org/drawingml/2006/table">
            <a:tbl>
              <a:tblPr/>
              <a:tblGrid>
                <a:gridCol w="8069400"/>
              </a:tblGrid>
              <a:tr h="2112840">
                <a:tc>
                  <a:txBody>
                    <a:bodyPr lIns="90000" rIns="90000" tIns="145440" bIns="900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:nam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name, PDO::PARAM_STR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:sum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sum, PDO::PARAM_IN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Courier New"/>
                        </a:rPr>
                        <a:t>// petla po danych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oreach 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do_bazy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name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&gt;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valu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 {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6BA92-2439-4D2F-9E5E-5428680D6B1A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93680"/>
            <a:ext cx="8223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- uwa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17600" y="1260360"/>
            <a:ext cx="822312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 wszystkie typy poleceń można parametryzowa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 w każdym miejscu polecenia można wstawić parame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amo ich użycie 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nie wymusza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sowania parametr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em są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emulowa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ale to dobrz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44640" y="2717640"/>
          <a:ext cx="7048440" cy="2163960"/>
        </p:xfrm>
        <a:graphic>
          <a:graphicData uri="http://schemas.openxmlformats.org/drawingml/2006/table">
            <a:tbl>
              <a:tblPr/>
              <a:tblGrid>
                <a:gridCol w="7048440"/>
              </a:tblGrid>
              <a:tr h="2163960">
                <a:tc>
                  <a:txBody>
                    <a:bodyPr lIns="90000" rIns="90000" tIns="195840" bIns="900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-- b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tabe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funkcja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kolumna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wid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-- nie tego się spodziewac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tabela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WHERE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kolumna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tabela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GROUP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BY</a:t>
                      </a:r>
                      <a:r>
                        <a:rPr b="0" lang="pl-PL" sz="2000" spc="-1" strike="noStrike">
                          <a:solidFill>
                            <a:srgbClr val="e6e6e6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kolum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6D245-29A9-4FDF-8961-D5583E78C79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457200" y="193680"/>
            <a:ext cx="8223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w 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57200" y="1295280"/>
            <a:ext cx="822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żywa P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(emulacja dla Oracle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i prepared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miast SQL używa własnego języka – D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2421000"/>
            <a:ext cx="7705800" cy="3562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040" bIns="90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$q 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 Doctrine_Query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create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  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select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400" spc="-1" strike="noStrike">
                <a:solidFill>
                  <a:srgbClr val="61ce3c"/>
                </a:solidFill>
                <a:latin typeface="DejaVu Sans Mono"/>
              </a:rPr>
              <a:t>'u.id'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  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from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400" spc="-1" strike="noStrike">
                <a:solidFill>
                  <a:srgbClr val="61ce3c"/>
                </a:solidFill>
                <a:latin typeface="DejaVu Sans Mono"/>
              </a:rPr>
              <a:t>'User u'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  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where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400" spc="-1" strike="noStrike">
                <a:solidFill>
                  <a:srgbClr val="61ce3c"/>
                </a:solidFill>
                <a:latin typeface="DejaVu Sans Mono"/>
              </a:rPr>
              <a:t>'u.login = ?'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400" spc="-1" strike="noStrike">
                <a:solidFill>
                  <a:srgbClr val="61ce3c"/>
                </a:solidFill>
                <a:latin typeface="DejaVu Sans Mono"/>
              </a:rPr>
              <a:t>‘mylogin'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echo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 $q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getSqlQuery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aeaeae"/>
                </a:solidFill>
                <a:latin typeface="DejaVu Sans Mono"/>
              </a:rPr>
              <a:t>// SELECT u.id AS u__id FROM user u </a:t>
            </a:r>
            <a:br>
              <a:rPr sz="2400"/>
            </a:br>
            <a:r>
              <a:rPr b="0" lang="pl-PL" sz="2400" spc="-1" strike="noStrike">
                <a:solidFill>
                  <a:srgbClr val="aeaeae"/>
                </a:solidFill>
                <a:latin typeface="DejaVu Sans Mono"/>
              </a:rPr>
              <a:t>// WHERE (u.login = 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$users 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= 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$q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400" spc="-1" strike="noStrike">
                <a:solidFill>
                  <a:srgbClr val="f8f8f8"/>
                </a:solidFill>
                <a:latin typeface="DejaVu Sans Mono"/>
              </a:rPr>
              <a:t>execute</a:t>
            </a:r>
            <a:r>
              <a:rPr b="0" lang="pl-PL" sz="2400" spc="-1" strike="noStrike">
                <a:solidFill>
                  <a:srgbClr val="fbde2d"/>
                </a:solidFill>
                <a:latin typeface="DejaVu Sans Mono"/>
              </a:rPr>
              <a:t>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73D5C-A454-499E-9CF0-B56CDBBA365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457200" y="193680"/>
            <a:ext cx="8223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w Doctrine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7200" y="1295280"/>
            <a:ext cx="822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ciąż można „wpaść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Trzeba poprawić 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0880" indent="-65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088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63468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IGDY nie umieszczaj danych wejściowych bezpośrednio w treści zapyta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1560" y="1833480"/>
          <a:ext cx="7202520" cy="1379520"/>
        </p:xfrm>
        <a:graphic>
          <a:graphicData uri="http://schemas.openxmlformats.org/drawingml/2006/table">
            <a:tbl>
              <a:tblPr/>
              <a:tblGrid>
                <a:gridCol w="7202520"/>
              </a:tblGrid>
              <a:tr h="137952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Doctrine_Query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upda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Accoun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amoun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amount + 200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wher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id &gt; 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{$_GET['id']}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7740720" y="197964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141560" y="4162320"/>
          <a:ext cx="7202520" cy="509760"/>
        </p:xfrm>
        <a:graphic>
          <a:graphicData uri="http://schemas.openxmlformats.org/drawingml/2006/table">
            <a:tbl>
              <a:tblPr/>
              <a:tblGrid>
                <a:gridCol w="7202520"/>
              </a:tblGrid>
              <a:tr h="509760">
                <a:tc>
                  <a:txBody>
                    <a:bodyPr lIns="90000" rIns="90000" tIns="195840" bIns="900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14360"/>
                          <a:tab algn="l" pos="863640"/>
                          <a:tab algn="l" pos="1312920"/>
                          <a:tab algn="l" pos="1762200"/>
                          <a:tab algn="l" pos="2211480"/>
                          <a:tab algn="l" pos="2660760"/>
                          <a:tab algn="l" pos="3110040"/>
                          <a:tab algn="l" pos="3559320"/>
                          <a:tab algn="l" pos="4008600"/>
                          <a:tab algn="l" pos="4457880"/>
                          <a:tab algn="l" pos="4906800"/>
                          <a:tab algn="l" pos="5389560"/>
                          <a:tab algn="l" pos="5805360"/>
                          <a:tab algn="l" pos="6254640"/>
                          <a:tab algn="l" pos="6703920"/>
                          <a:tab algn="l" pos="7153200"/>
                          <a:tab algn="l" pos="7602480"/>
                          <a:tab algn="l" pos="8051760"/>
                          <a:tab algn="l" pos="8501040"/>
                          <a:tab algn="l" pos="8950320"/>
                          <a:tab algn="l" pos="8951760"/>
                          <a:tab algn="l" pos="9401040"/>
                          <a:tab algn="l" pos="9850320"/>
                          <a:tab algn="l" pos="1032192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wher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id &gt; ?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int)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['id']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F714-70D0-4165-A886-DDA02E98CB6F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47600"/>
            <a:ext cx="8197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lan prezentac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57200" y="1295280"/>
            <a:ext cx="81979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 to jest SQL inject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Dlaczego SQL injection jest groźne (demo)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repared stat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scape'owan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rocedury składow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Metody uzupełniają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odsumowan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928F6-987F-4EE1-A077-D1BE2DE1D5C5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457200" y="193680"/>
            <a:ext cx="8218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w Pro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57200" y="1295280"/>
            <a:ext cx="82184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dobnie jak Doctrine, oparty na P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95280" y="1989000"/>
            <a:ext cx="8424720" cy="39355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90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aeaeae"/>
                </a:solidFill>
                <a:latin typeface="DejaVu Sans Mono"/>
              </a:rPr>
              <a:t>// poprzez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c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new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Criteria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c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add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AuthorPeer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FIRST_NAM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"Karl"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authors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AuthorPeer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doSelect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c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aeaeae"/>
                </a:solidFill>
                <a:latin typeface="DejaVu Sans Mono"/>
              </a:rPr>
              <a:t>// poprzez customowy SQL (czasem jest latwie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pdo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Propel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getConnection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BookPeer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DATABASE_NAM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ql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"SELECT * FROM skomplikowany_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       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JOIN cos_jeszcze_gorszego USING cos_t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      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WHERE kolumna = :col)”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tmt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$pdo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prepar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ql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tmt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execut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array(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col'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Bye bye SQLi!'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88AD5-7975-4368-836E-DE28E4FC584F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457200" y="193680"/>
            <a:ext cx="8218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w Zend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457200" y="1295280"/>
            <a:ext cx="82184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DO (+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mysql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oci8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sqlsrv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1773360"/>
          <a:ext cx="8064360" cy="441648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416480">
                <a:tc>
                  <a:txBody>
                    <a:bodyPr lIns="90000" rIns="90000" tIns="135360" bIns="900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prepare + exec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NSERT INTO server (key,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value) VALUES (:key,:value)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key'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k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value'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v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oreach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DejaVu Sans Mono"/>
                        </a:rPr>
                        <a:t>$_SERVER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k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&gt;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v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prepare + execute w jednym kro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ery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ELECT * FROM bugs WHE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reported_by = ? AND bug_status = ?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rray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goofy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FIXED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while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ow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stm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fetch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cho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row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bug_description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8033F-AA44-4678-A115-70378A0EC997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57200" y="193680"/>
            <a:ext cx="8218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MD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57200" y="1295280"/>
            <a:ext cx="82184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party na konkretnych sterownikach baz danych (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mysql, oci8, mssql, ...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muluje PS, jeśli baza ich nie wsp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50920" y="2914560"/>
          <a:ext cx="6843600" cy="3171960"/>
        </p:xfrm>
        <a:graphic>
          <a:graphicData uri="http://schemas.openxmlformats.org/drawingml/2006/table">
            <a:tbl>
              <a:tblPr/>
              <a:tblGrid>
                <a:gridCol w="6843600"/>
              </a:tblGrid>
              <a:tr h="317196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types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rray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nteger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ex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ex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NSERT INTO nu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VALUES (:id, :name, :lang)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types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data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rray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d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1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name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on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lang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en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affectedRows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data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fre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1BDF-74B0-4B2E-8450-4944A708767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epared statements - podsumow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57200" y="1295280"/>
            <a:ext cx="8217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ferują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bardzo dobre zabezpiecze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(jeśli użyte poprawn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Łatwe w użyciu, niewielkie zmiany w kod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obre wsparcie we framework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ają swoje ogranicz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zasem muszą być uzupełniane innymi metodami zabezpiecze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58DD-3885-4C7D-9C32-045ACCEFD075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1706120" y="11177640"/>
            <a:ext cx="8229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Escape'owanie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5529240" y="2160720"/>
            <a:ext cx="3285720" cy="2113920"/>
            <a:chOff x="5529240" y="2160720"/>
            <a:chExt cx="3285720" cy="2113920"/>
          </a:xfrm>
        </p:grpSpPr>
        <p:pic>
          <p:nvPicPr>
            <p:cNvPr id="228" name="Picture 5" descr=""/>
            <p:cNvPicPr/>
            <p:nvPr/>
          </p:nvPicPr>
          <p:blipFill>
            <a:blip r:embed="rId1"/>
            <a:stretch/>
          </p:blipFill>
          <p:spPr>
            <a:xfrm>
              <a:off x="5529240" y="2177640"/>
              <a:ext cx="209736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19979" t="0" r="0" b="0"/>
            <a:stretch/>
          </p:blipFill>
          <p:spPr>
            <a:xfrm>
              <a:off x="7147440" y="2160720"/>
              <a:ext cx="1667520" cy="2096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EE997-694D-4050-8CBD-7615E304BC62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92240"/>
            <a:ext cx="8204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zasada dział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57200" y="1295280"/>
            <a:ext cx="82040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57200" y="1357200"/>
            <a:ext cx="8217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ane i polecenia wciąż trzymamy w jednej zmiennej, ale zabezpieczamy 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Licz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zutowanie na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(int)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(float)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– nie 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is_numeric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 u="sng">
                <a:solidFill>
                  <a:srgbClr val="0070c0"/>
                </a:solidFill>
                <a:uFillTx/>
                <a:latin typeface="Tahoma"/>
                <a:hlinkClick r:id="rId1"/>
              </a:rPr>
              <a:t>[1]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Teksty - zwykle otoczone apostrofami: </a:t>
            </a:r>
            <a:r>
              <a:rPr b="0" lang="pl-PL" sz="2200" spc="-1" strike="noStrike">
                <a:solidFill>
                  <a:srgbClr val="000000"/>
                </a:solidFill>
                <a:latin typeface="DejaVu Sans Mono"/>
              </a:rPr>
              <a:t>'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Jeśli w tekście również są apostrofy, trzeba je odróżnić od apostrofu „kończąceg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postrof wewnątrz danych jest poprzedzany znakiem specjalnym, np. "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\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Reguły escape'owania zależą od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ontekst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187280" y="3573360"/>
          <a:ext cx="7274160" cy="447840"/>
        </p:xfrm>
        <a:graphic>
          <a:graphicData uri="http://schemas.openxmlformats.org/drawingml/2006/table">
            <a:tbl>
              <a:tblPr/>
              <a:tblGrid>
                <a:gridCol w="72741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. WHERE pole =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DANE TEKSTOW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  <a:ea typeface="Lucida Sans Unicode"/>
                        </a:rPr>
                        <a:t> AND 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9292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412F7-F62C-4C34-8485-161B94A91175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kontek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95280"/>
            <a:ext cx="8217000" cy="45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addslashes() </a:t>
            </a:r>
            <a:br>
              <a:rPr sz="28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Returns a string with backslashes before characters that need to be quoted in database queries etc. These characters are single quote ('), double quote ("), backslash (\) and NUL (the NULL byte).   </a:t>
            </a:r>
            <a:br>
              <a:rPr sz="1600"/>
            </a:br>
            <a:r>
              <a:rPr b="0" i="1" lang="pl-PL" sz="1400" spc="-1" strike="noStrike">
                <a:solidFill>
                  <a:srgbClr val="000000"/>
                </a:solidFill>
                <a:latin typeface="DejaVu Sans Mono"/>
              </a:rPr>
              <a:t>/ Źródło: php.net manual 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880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880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6426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zy jesteś bezpieczn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1720" y="2925720"/>
          <a:ext cx="8083800" cy="2125800"/>
        </p:xfrm>
        <a:graphic>
          <a:graphicData uri="http://schemas.openxmlformats.org/drawingml/2006/table">
            <a:tbl>
              <a:tblPr/>
              <a:tblGrid>
                <a:gridCol w="8083800"/>
              </a:tblGrid>
              <a:tr h="2125800">
                <a:tc>
                  <a:txBody>
                    <a:bodyPr lIns="90000" rIns="90000" tIns="1152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user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addslashes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u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ass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addslashes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p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ql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SELECT * FROM users WHERE username =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  <a:ea typeface="Lucida Sans Unicode"/>
                        </a:rPr>
                        <a:t>{$user}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' AND password = 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  <a:ea typeface="Lucida Sans Unicode"/>
                        </a:rPr>
                        <a:t>{$pass}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'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  <a:ea typeface="Lucida Sans Unicode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e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exec_sql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ql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"/>
          <p:cNvSpPr/>
          <p:nvPr/>
        </p:nvSpPr>
        <p:spPr>
          <a:xfrm>
            <a:off x="2987640" y="2421000"/>
            <a:ext cx="3024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9600" spc="-1" strike="noStrike">
                <a:solidFill>
                  <a:srgbClr val="ff0000"/>
                </a:solidFill>
                <a:latin typeface="Tahoma"/>
              </a:rPr>
              <a:t>NI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00CA7-54E1-41B5-A08F-8741EB9C127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kontekst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295280"/>
            <a:ext cx="8217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Różne RDBMS mają różne sposoby escape'owania danych (zależy to też od konfiguracji baz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DejaVu Sans Mono"/>
              </a:rPr>
              <a:t>addslashes() 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tylko „przypadkiem” działa dla MySQ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565360"/>
          <a:ext cx="8229600" cy="3400560"/>
        </p:xfrm>
        <a:graphic>
          <a:graphicData uri="http://schemas.openxmlformats.org/drawingml/2006/table">
            <a:tbl>
              <a:tblPr/>
              <a:tblGrid>
                <a:gridCol w="1790640"/>
                <a:gridCol w="3473640"/>
                <a:gridCol w="2965320"/>
              </a:tblGrid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BD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kc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0" rIns="0" tIns="46440" bIns="0" anchor="ctr">
                      <a:noAutofit/>
                    </a:bodyPr>
                    <a:p>
                      <a:pPr algn="ctr"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'apostrofy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</a:tr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17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$pdo-&gt;quote($val, $typ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d (różni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ySQL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mysq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17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ysql_real_escape_str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\'apostrofy\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ySQL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mysql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17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ysqli_real_escape_str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\'apostrofy\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acle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oci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90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d - 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str_replace(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''apostrofy'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QL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17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sqlite_escape_str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''apostrofy'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2552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S SQL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(mssq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90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d - 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str_replace(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''apostrofy'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0" rIns="0" tIns="66600" bIns="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stgreSQ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17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pg_escape_string(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0" rIns="0" tIns="4428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mam ''apostrofy''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5CCAB-8D24-49BF-94AE-3BBC6949FF1C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kontekst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422280" y="4859280"/>
            <a:ext cx="8217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 używaj </a:t>
            </a:r>
            <a:r>
              <a:rPr b="0" lang="pl-PL" sz="2400" spc="-1" strike="noStrike">
                <a:solidFill>
                  <a:srgbClr val="000000"/>
                </a:solidFill>
                <a:latin typeface="DejaVu Sans Mono"/>
              </a:rPr>
              <a:t>addslashes(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używaj funkcji konkretnej baz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y teraz jesteś bezpieczn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88960" y="1054080"/>
          <a:ext cx="7743960" cy="3527280"/>
        </p:xfrm>
        <a:graphic>
          <a:graphicData uri="http://schemas.openxmlformats.org/drawingml/2006/table">
            <a:tbl>
              <a:tblPr/>
              <a:tblGrid>
                <a:gridCol w="7743960"/>
              </a:tblGrid>
              <a:tr h="3527280">
                <a:tc>
                  <a:txBody>
                    <a:bodyPr lIns="36000" rIns="36000" tIns="108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999999"/>
                          </a:solidFill>
                          <a:latin typeface="DejaVu Sans Mono"/>
                        </a:rPr>
                        <a:t>// SELECT * FROM users WHERE username =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999999"/>
                          </a:solidFill>
                          <a:latin typeface="DejaVu Sans Mono"/>
                        </a:rPr>
                        <a:t>// '{$user}' AND password = '{$pass}'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u'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cokolwiek'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p'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 or 1=1 -- 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MySQL widzi to tak: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 * FROM users WHERE username =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cokolwiek\''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 =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 or 1=1 -- '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SQLite / MS SQL / Oracle / PostgreSQL - tak: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 * FROM users WHERE username =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cokolwiek\''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AND password = '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or 1=1 </a:t>
                      </a:r>
                      <a:r>
                        <a:rPr b="0" lang="pl-PL" sz="19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-- '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B41F-6929-49BE-BB9F-2ECB2EBC50B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47600"/>
            <a:ext cx="8197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Omawiane bazy danych (RDB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1295280"/>
            <a:ext cx="81979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MS SQL Ser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W mniejszym stopniu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ostgreSQ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3760" indent="-54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SQL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6"/>
          <p:cNvSpPr/>
          <p:nvPr/>
        </p:nvSpPr>
        <p:spPr>
          <a:xfrm>
            <a:off x="1187280" y="2421000"/>
            <a:ext cx="65534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9600" spc="-1" strike="noStrike">
                <a:solidFill>
                  <a:srgbClr val="ff0000"/>
                </a:solidFill>
                <a:latin typeface="Tahoma"/>
              </a:rPr>
              <a:t>PRAWI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2E95-3AF8-4FE1-947A-36B3BE8D9DA7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ułapki escape'owania – zestawy znak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1295280"/>
            <a:ext cx="8217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Błędy wykryte w 2006 r. w PostgreSQL i MySQL </a:t>
            </a:r>
            <a:r>
              <a:rPr b="0" lang="pl-PL" sz="2200" spc="-1" strike="noStrike" u="sng">
                <a:solidFill>
                  <a:srgbClr val="0070c0"/>
                </a:solidFill>
                <a:uFillTx/>
                <a:latin typeface="Tahoma"/>
                <a:hlinkClick r:id="rId1"/>
              </a:rPr>
              <a:t>[1]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200" spc="-1" strike="noStrike" u="sng">
                <a:solidFill>
                  <a:srgbClr val="0070c0"/>
                </a:solidFill>
                <a:uFillTx/>
                <a:latin typeface="Tahoma"/>
                <a:hlinkClick r:id="rId2"/>
              </a:rPr>
              <a:t>[2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W niektórych wielobajtowych zestawach znaków pomimo escape’owania można doprowadzić do SQL inj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DejaVu Sans Mono"/>
              </a:rPr>
              <a:t>\ 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zostaje „połknięty” przez wielobajtowy zna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Przykła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61960" indent="-54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BF 27  [ </a:t>
            </a:r>
            <a:r>
              <a:rPr b="1" lang="pl-PL" sz="3000" spc="-1" strike="noStrike">
                <a:solidFill>
                  <a:srgbClr val="000000"/>
                </a:solidFill>
                <a:latin typeface="DejaVu Sans Mono"/>
              </a:rPr>
              <a:t>¬</a:t>
            </a: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 ' ]  </a:t>
            </a:r>
            <a:r>
              <a:rPr b="1" lang="pl-P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  BF 5C 27 [ </a:t>
            </a:r>
            <a:r>
              <a:rPr b="1" lang="pl-PL" sz="3000" spc="-1" strike="noStrike">
                <a:solidFill>
                  <a:srgbClr val="000000"/>
                </a:solidFill>
                <a:latin typeface="DejaVu Sans Mono"/>
              </a:rPr>
              <a:t>¬</a:t>
            </a: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 \ ' 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61960" indent="-54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Pierwsze dwa bajty to w charsecie GBK znak </a:t>
            </a:r>
            <a:r>
              <a:rPr b="1" lang="pl-PL" sz="3000" spc="-1" strike="noStrike">
                <a:solidFill>
                  <a:srgbClr val="000000"/>
                </a:solidFill>
                <a:latin typeface="Droid Sans"/>
              </a:rPr>
              <a:t>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61960" indent="-54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Serwer „zobaczy” ciąg </a:t>
            </a:r>
            <a:r>
              <a:rPr b="1" lang="pl-PL" sz="3000" spc="-1" strike="noStrike">
                <a:solidFill>
                  <a:srgbClr val="000000"/>
                </a:solidFill>
                <a:latin typeface="Droid Sans"/>
              </a:rPr>
              <a:t>¿'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7522-0AA2-49FD-B112-21FC8C05A10A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ułapki escape'owania – zestawy znak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295280"/>
            <a:ext cx="821196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atne są różne azjatyckie zestawy znak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szczęście nie UTF-8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ostgreSQL zastosowano escape'owanie poprzez </a:t>
            </a:r>
            <a:r>
              <a:rPr b="0" lang="pl-PL" sz="2400" spc="-1" strike="noStrike">
                <a:solidFill>
                  <a:srgbClr val="000000"/>
                </a:solidFill>
                <a:latin typeface="DejaVu Sans Mono"/>
              </a:rPr>
              <a:t>''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zamiast </a:t>
            </a:r>
            <a:r>
              <a:rPr b="0" lang="pl-PL" sz="2400" spc="-1" strike="noStrike">
                <a:solidFill>
                  <a:srgbClr val="000000"/>
                </a:solidFill>
                <a:latin typeface="DejaVu Sans Mono"/>
              </a:rPr>
              <a:t>\'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0" lang="pl-PL" sz="2400" spc="-1" strike="noStrike">
                <a:solidFill>
                  <a:srgbClr val="000000"/>
                </a:solidFill>
                <a:latin typeface="DejaVu Sans Mono"/>
              </a:rPr>
              <a:t>mysql_real_escape_string(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zastosowano uwzględnianie bieżącego zestawu znak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61960" indent="-54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ie zawsze zadziała! [1] 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ontekst to również zestaw znak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5D25A-AA08-4D7E-9776-B47376A256BA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nazwy obiek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57200" y="1295280"/>
            <a:ext cx="8217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azwy kolumn, tabel, ba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572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 ma dobrej ogólnej metody na ich escape'ow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572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różnych bazach różne listy słów zarezerwowanych, różne długości nazw it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śli musisz pobierać te nazwy od użytkownika, zastosuj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whitelisting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blacklisting w ostatecznoś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6609F-24C7-4067-9B56-2E2F98616D0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nazwy obiektów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57200" y="1295280"/>
            <a:ext cx="8217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ykład – sortowanie po kolum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Jest podatność w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$ord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, ale nie możesz użyć escape'ow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1880" y="2948040"/>
          <a:ext cx="8283600" cy="3171600"/>
        </p:xfrm>
        <a:graphic>
          <a:graphicData uri="http://schemas.openxmlformats.org/drawingml/2006/table">
            <a:tbl>
              <a:tblPr/>
              <a:tblGrid>
                <a:gridCol w="8283600"/>
              </a:tblGrid>
              <a:tr h="317160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cat_i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int)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cid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order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_G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[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column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]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pd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SELECT * FROM products WHE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cid = :cid ORDER BY </a:t>
                      </a: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DejaVu Sans Mono"/>
                        </a:rPr>
                        <a:t>$order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bindParam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:cid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cat_i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PD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ARAM_IN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f 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tm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) {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8099280" y="3060720"/>
            <a:ext cx="5400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5F3FD-D596-44C7-A17C-39AB1684EF0E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57200" y="193680"/>
            <a:ext cx="8217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– nazwy obiektów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57200" y="1295280"/>
            <a:ext cx="8217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hitel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lackl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49320" y="2023920"/>
          <a:ext cx="7334280" cy="1797120"/>
        </p:xfrm>
        <a:graphic>
          <a:graphicData uri="http://schemas.openxmlformats.org/drawingml/2006/table">
            <a:tbl>
              <a:tblPr/>
              <a:tblGrid>
                <a:gridCol w="7334280"/>
              </a:tblGrid>
              <a:tr h="1797120">
                <a:tc>
                  <a:txBody>
                    <a:bodyPr lIns="90000" rIns="90000" tIns="15804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columns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rray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lista dozwolonych kolum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product_name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cid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price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f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!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in_array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order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columns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true)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order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product_name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wartosc domysl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sp>
        <p:nvSpPr>
          <p:cNvPr id="267" name="Rectangle 8"/>
          <p:cNvSpPr/>
          <p:nvPr/>
        </p:nvSpPr>
        <p:spPr>
          <a:xfrm>
            <a:off x="949320" y="4540320"/>
            <a:ext cx="7334280" cy="1552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0" bIns="90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999999"/>
                </a:solidFill>
                <a:latin typeface="DejaVu Sans Mono"/>
              </a:rPr>
              <a:t>// tylko znaki a-z i _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$order 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preg_replace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1900" spc="-1" strike="noStrike">
                <a:solidFill>
                  <a:srgbClr val="61ce3c"/>
                </a:solidFill>
                <a:latin typeface="DejaVu Sans Mono"/>
              </a:rPr>
              <a:t>'/[^a-z_]/'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1900" spc="-1" strike="noStrike">
                <a:solidFill>
                  <a:srgbClr val="61ce3c"/>
                </a:solidFill>
                <a:latin typeface="DejaVu Sans Mono"/>
              </a:rPr>
              <a:t>''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$order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999999"/>
                </a:solidFill>
                <a:latin typeface="DejaVu Sans Mono"/>
              </a:rPr>
              <a:t>// max 40 znak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$order 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substr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$order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1900" spc="-1" strike="noStrike">
                <a:solidFill>
                  <a:srgbClr val="d8fa3c"/>
                </a:solidFill>
                <a:latin typeface="DejaVu Sans Mono"/>
              </a:rPr>
              <a:t>0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9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1900" spc="-1" strike="noStrike">
                <a:solidFill>
                  <a:srgbClr val="d8fa3c"/>
                </a:solidFill>
                <a:latin typeface="DejaVu Sans Mono"/>
              </a:rPr>
              <a:t>40</a:t>
            </a:r>
            <a:r>
              <a:rPr b="0" lang="pl-PL" sz="19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192240"/>
            <a:ext cx="8199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w P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295280"/>
            <a:ext cx="81993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PDO::quote($value, $type, $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ługość i typ bywają ignorowan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49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iczby najlepiej rzutuj na (int), (flo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49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ksty – obcinaj ręcz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0D21A-749F-4236-998B-F603F510A6E2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9640" y="3429000"/>
          <a:ext cx="7923240" cy="431640"/>
        </p:xfrm>
        <a:graphic>
          <a:graphicData uri="http://schemas.openxmlformats.org/drawingml/2006/table">
            <a:tbl>
              <a:tblPr/>
              <a:tblGrid>
                <a:gridCol w="7923240"/>
              </a:tblGrid>
              <a:tr h="43164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uote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pd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inpu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PD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ARAM_STR, 4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F3C01-CF08-42AE-B936-40A74898027E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57200" y="192240"/>
            <a:ext cx="82058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w 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57200" y="1295280"/>
            <a:ext cx="8205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waga na Doctrine'owe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quote(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60360" y="2000160"/>
          <a:ext cx="8504280" cy="4068720"/>
        </p:xfrm>
        <a:graphic>
          <a:graphicData uri="http://schemas.openxmlformats.org/drawingml/2006/table">
            <a:tbl>
              <a:tblPr/>
              <a:tblGrid>
                <a:gridCol w="8504280"/>
              </a:tblGrid>
              <a:tr h="406872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Doctrine_Query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999999"/>
                          </a:solidFill>
                          <a:latin typeface="DejaVu Sans Mono"/>
                        </a:rPr>
                        <a:t>// nie tak!!!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uote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q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Connection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inpu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ex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upda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User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usernam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quote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quote() zamienia ' na '' - exploit (MySQL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input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anything\\\' where 1=1 -- 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trzeba escape'owac poprzez PDO - getDbh(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uote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q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Connection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   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Dbh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   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input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PD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ARAM_STR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  <a:ea typeface="Lucida Sans Unicode"/>
                        </a:rPr>
                        <a:t>// 'anything \\\\\\\' where 1=1 -- 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8240760" y="2120760"/>
            <a:ext cx="57924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C1F88-D31B-482A-A60A-760CDEA9E842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92240"/>
            <a:ext cx="82011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w Pro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295280"/>
            <a:ext cx="820116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przez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PDO::quot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95280" y="2421000"/>
          <a:ext cx="8319960" cy="2349360"/>
        </p:xfrm>
        <a:graphic>
          <a:graphicData uri="http://schemas.openxmlformats.org/drawingml/2006/table">
            <a:tbl>
              <a:tblPr/>
              <a:tblGrid>
                <a:gridCol w="8319960"/>
              </a:tblGrid>
              <a:tr h="2349360">
                <a:tc>
                  <a:txBody>
                    <a:bodyPr lIns="90000" rIns="90000" tIns="1620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do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Propel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Connection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UserPeer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ATABASE_NAME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c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new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Criteria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c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add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UserPeer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ASSWORD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  <a:ea typeface="Lucida Sans Unicode"/>
                        </a:rPr>
                        <a:t>       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"MD5(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  <a:ea typeface="Lucida Sans Unicode"/>
                        </a:rPr>
                        <a:t>.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  <a:ea typeface="Lucida Sans Unicode"/>
                        </a:rPr>
                        <a:t>UserPeer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  <a:ea typeface="Lucida Sans Unicode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  <a:ea typeface="Lucida Sans Unicode"/>
                        </a:rPr>
                        <a:t>PASSWORD.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") "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  <a:ea typeface="Lucida Sans Unicode"/>
                        </a:rPr>
                        <a:t>" = "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pdo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assword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,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 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Criteria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CUSTOM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94B8-7E23-4C1E-A4E1-83A647AE8E72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457200" y="192240"/>
            <a:ext cx="82011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w Zend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1295280"/>
            <a:ext cx="8201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unkcje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quote(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quoteInto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95280" y="2492280"/>
          <a:ext cx="8283600" cy="2106720"/>
        </p:xfrm>
        <a:graphic>
          <a:graphicData uri="http://schemas.openxmlformats.org/drawingml/2006/table">
            <a:tbl>
              <a:tblPr/>
              <a:tblGrid>
                <a:gridCol w="8283600"/>
              </a:tblGrid>
              <a:tr h="210672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name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O'Reilly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999999"/>
                          </a:solidFill>
                          <a:latin typeface="DejaVu Sans Mono"/>
                        </a:rPr>
                        <a:t>// 'O\'Reilly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999999"/>
                          </a:solidFill>
                          <a:latin typeface="DejaVu Sans Mono"/>
                        </a:rPr>
                        <a:t>// uproszczone escape'owanie dla jednej zmienn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sql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Into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SELECT * FROM products WHERE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product_name = ?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any string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BBEC-2693-4A24-8D10-CA68BF47888A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46160"/>
            <a:ext cx="82040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Omawiane projekty 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1114560"/>
            <a:ext cx="8204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D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– PHP data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spólny interfejs dla różnych RDB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ctrine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ORM (Object Relational Mapper) używany m.in. we frameworku Symf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opel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ORM konkurencyjny dla Doctr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żywany we frameworku Symf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end Framework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.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pularny framework MVC dla 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MDB2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2.4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arstwa abstrakcji bazy danych (DB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ystrybuowany przez P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CE6F-5C5A-4AA7-BDDE-B084FE7667F5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92240"/>
            <a:ext cx="82011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w M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" y="1295280"/>
            <a:ext cx="820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74760" y="2085840"/>
          <a:ext cx="8283600" cy="2927520"/>
        </p:xfrm>
        <a:graphic>
          <a:graphicData uri="http://schemas.openxmlformats.org/drawingml/2006/table">
            <a:tbl>
              <a:tblPr/>
              <a:tblGrid>
                <a:gridCol w="8283600"/>
              </a:tblGrid>
              <a:tr h="292752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funkcja quote()- trzeba określić ty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uery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NSERT INTO table (id, itemname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saved_time) VALUES (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i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integer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, 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ext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, 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ti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imestamp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)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es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query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sp>
        <p:nvSpPr>
          <p:cNvPr id="289" name="Text Box 3"/>
          <p:cNvSpPr/>
          <p:nvPr/>
        </p:nvSpPr>
        <p:spPr>
          <a:xfrm>
            <a:off x="457200" y="1295280"/>
            <a:ext cx="82011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unkcja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quot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D73A9-580C-47AF-BDEE-5A2793A9789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457200" y="193680"/>
            <a:ext cx="8218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scape'owanie danych - podsumow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57200" y="1295280"/>
            <a:ext cx="8218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daje się proste – zastępowanie teks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stety, tylko się wyd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usimy znać kontekst (baza danych, chars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stnieją błędne implementac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kłania do stosowania niebezpiecznych konstruk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klejanie polece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gnorowanie zmiennych numery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sowanie dopuszczaln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ylk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jeś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gramujemy pod konkretną baz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55840" indent="-54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ie ma innej możliwoś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91268-0AC3-41DB-8DA1-DC1280672597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914400" y="590544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ocedury składow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5300640" y="1979640"/>
            <a:ext cx="334008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686E3-AB50-4503-8CC4-025B25026DF1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1295280"/>
            <a:ext cx="82137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cenie SQL (lub seria poleceń) zostaje przeniesione na serwer bazy danych i zapisane jako 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 stronie klienta procedura zostaje wywołana z określonymi parametrami (danymi) wejściowymi i wyjściowy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arametrach wyjściowych klient otrzymuje wyniki proced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ane są formalnie oddzielone od ko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o NIE wystarc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7308720" y="4653000"/>
            <a:ext cx="72252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713A8-2188-43E0-8886-D5869570669D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457200" y="1295280"/>
            <a:ext cx="82137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ykład w MS SQL – fragment podatnej proced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DejaVu Sans Mono"/>
              </a:rPr>
              <a:t>To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  <a:ea typeface="DejaVu Sans Mono"/>
              </a:rPr>
              <a:t>eval()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 kolejnym wcieleni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2276640"/>
            <a:ext cx="8099640" cy="2960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CREATE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PROCEDURE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SP_Product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@prodname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varchar(</a:t>
            </a:r>
            <a:r>
              <a:rPr b="0" lang="pl-PL" sz="2000" spc="-1" strike="noStrike">
                <a:solidFill>
                  <a:srgbClr val="d8fa3c"/>
                </a:solidFill>
                <a:latin typeface="DejaVu Sans Mono"/>
              </a:rPr>
              <a:t>400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DECLARE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@sql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nvarchar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d8fa3c"/>
                </a:solidFill>
                <a:latin typeface="DejaVu Sans Mono"/>
              </a:rPr>
              <a:t>4000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SELECT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@sql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SELECT ProductID, ProductNam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   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Category, Price FROM Product Where ProductName     </a:t>
            </a:r>
            <a:r>
              <a:rPr b="0" lang="pl-PL" sz="2000" spc="-1" strike="noStrike">
                <a:solidFill>
                  <a:srgbClr val="61ce3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61ce3c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LIKE '''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@prodname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''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EXEC</a:t>
            </a:r>
            <a:r>
              <a:rPr b="0" lang="pl-PL" sz="20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@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7920000" y="2519280"/>
            <a:ext cx="54468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3F1B9-BEFA-4B97-83E1-9E74FC65D9A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c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57200" y="1295280"/>
            <a:ext cx="82137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ykład tej samej podatności w Or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85720" y="2050920"/>
          <a:ext cx="7786800" cy="36086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361008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OR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REPLAC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ProductSearch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N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2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2(80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ELECT ProductID, ProductName,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Category, Price FROM Produc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WHERE ProductName LIKE '''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   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||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||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'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MMEDI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7736040" y="2160720"/>
            <a:ext cx="54432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F6AB8-9192-473A-9F40-E7C188170CFC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– Dynamic 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57200" y="1295280"/>
            <a:ext cx="82137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Źródło podatności –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ynamic 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ane znów „przemieszane” z kodem w jednej zmiennej, która zostaje wykonana jako polecenie 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o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ddziel kod od da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scape'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F1F9C-2740-4CF8-9161-7CDFE8BE2411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S 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7200" y="1295280"/>
            <a:ext cx="82137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ddzielenie danych od ko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żyj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sp_executesql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azem z listą parametr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85640" y="2724120"/>
          <a:ext cx="8163000" cy="3032280"/>
        </p:xfrm>
        <a:graphic>
          <a:graphicData uri="http://schemas.openxmlformats.org/drawingml/2006/table">
            <a:tbl>
              <a:tblPr/>
              <a:tblGrid>
                <a:gridCol w="8163000"/>
              </a:tblGrid>
              <a:tr h="303228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ProductSearch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(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NUL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DECLA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varchar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0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ELECT ProductID, ProductName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Category, Price FROM Product Where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ProductName LIKE @p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execute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,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@p varchar(400)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BB7D2-4298-42C2-A76F-43EDC1E080A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57200" y="192240"/>
            <a:ext cx="82058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S SQL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1295280"/>
            <a:ext cx="820584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scape'owanie zmiennych tekstow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scape'uj tylko wtedy, kiedy musisz!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używaj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sp_executesql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z parametra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116000" y="1916280"/>
          <a:ext cx="7302600" cy="1538280"/>
        </p:xfrm>
        <a:graphic>
          <a:graphicData uri="http://schemas.openxmlformats.org/drawingml/2006/table">
            <a:tbl>
              <a:tblPr/>
              <a:tblGrid>
                <a:gridCol w="2444760"/>
                <a:gridCol w="4857840"/>
              </a:tblGrid>
              <a:tr h="512640"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zwa obie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QUOTENAME(@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12640"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kst &lt;= 128 znakó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QUOTENAME(@v,''''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13000"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kst &gt; 128 znakó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6800" rIns="46800" tIns="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REPLACE(@v,'''',''''''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12"/>
          <p:cNvSpPr/>
          <p:nvPr/>
        </p:nvSpPr>
        <p:spPr>
          <a:xfrm>
            <a:off x="1116000" y="4437000"/>
            <a:ext cx="7383600" cy="7430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040" bIns="90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SET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f8f8f8"/>
                </a:solidFill>
                <a:latin typeface="DejaVu Sans Mono"/>
              </a:rPr>
              <a:t>@cmd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f8f8f8"/>
                </a:solidFill>
                <a:latin typeface="DejaVu Sans Mono"/>
              </a:rPr>
              <a:t>N</a:t>
            </a:r>
            <a:r>
              <a:rPr b="0" lang="pl-PL" sz="1800" spc="-1" strike="noStrike">
                <a:solidFill>
                  <a:srgbClr val="61ce3c"/>
                </a:solidFill>
                <a:latin typeface="DejaVu Sans Mono"/>
              </a:rPr>
              <a:t>'select * from authors where lname=''' 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REPLACE(</a:t>
            </a:r>
            <a:r>
              <a:rPr b="0" lang="pl-PL" sz="1800" spc="-1" strike="noStrike">
                <a:solidFill>
                  <a:srgbClr val="f8f8f8"/>
                </a:solidFill>
                <a:latin typeface="DejaVu Sans Mono"/>
              </a:rPr>
              <a:t>@lname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61ce3c"/>
                </a:solidFill>
                <a:latin typeface="DejaVu Sans Mono"/>
              </a:rPr>
              <a:t>''''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61ce3c"/>
                </a:solidFill>
                <a:latin typeface="DejaVu Sans Mono"/>
              </a:rPr>
              <a:t>''''''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fbde2d"/>
                </a:solidFill>
                <a:latin typeface="DejaVu Sans Mono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 </a:t>
            </a:r>
            <a:r>
              <a:rPr b="0" lang="pl-PL" sz="1800" spc="-1" strike="noStrike">
                <a:solidFill>
                  <a:srgbClr val="f8f8f8"/>
                </a:solidFill>
                <a:latin typeface="DejaVu Sans Mono"/>
              </a:rPr>
              <a:t>N</a:t>
            </a:r>
            <a:r>
              <a:rPr b="0" lang="pl-PL" sz="1800" spc="-1" strike="noStrike">
                <a:solidFill>
                  <a:srgbClr val="61ce3c"/>
                </a:solidFill>
                <a:latin typeface="DejaVu Sans Mono"/>
              </a:rPr>
              <a:t>'''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1031-43BE-4D61-BA74-F6AD3E25147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93680"/>
            <a:ext cx="82137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Or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457200" y="1295280"/>
            <a:ext cx="8213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racle - użyj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EXECUTE IMMEDIATE ..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scape'owanie - pakiet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DBMS_A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706120" y="11515680"/>
          <a:ext cx="8163000" cy="3032280"/>
        </p:xfrm>
        <a:graphic>
          <a:graphicData uri="http://schemas.openxmlformats.org/drawingml/2006/table">
            <a:tbl>
              <a:tblPr/>
              <a:tblGrid>
                <a:gridCol w="8163000"/>
              </a:tblGrid>
              <a:tr h="3032280">
                <a:tc>
                  <a:txBody>
                    <a:bodyPr lIns="90000" rIns="90000" tIns="73476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ProductSearch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(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NUL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DECLA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varchar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0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ELECT ProductID, ProductName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Category, Price FROM Product Where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ProductName LIKE @prodname'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executesql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,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@prodname varchar(400)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7960" y="2205000"/>
          <a:ext cx="7572240" cy="3024360"/>
        </p:xfrm>
        <a:graphic>
          <a:graphicData uri="http://schemas.openxmlformats.org/drawingml/2006/table">
            <a:tbl>
              <a:tblPr/>
              <a:tblGrid>
                <a:gridCol w="7572240"/>
              </a:tblGrid>
              <a:tr h="302436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OR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REPLAC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P_ProductSearch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od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N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2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2(80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SELECT ProductID, ProductName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Category, Price WHE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ProductName=:p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MMEDI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qltex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USING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rod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975D-6576-473D-AFB7-B6868E288F8D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0000" y="2700360"/>
            <a:ext cx="4319640" cy="306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39640" y="2700360"/>
            <a:ext cx="8204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Co to jest SQL inje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F97E-E49C-4DB1-9D5F-EDF26D12BE86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y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57200" y="1295280"/>
            <a:ext cx="8211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sparcie dla Dynamic SQL tylko poprzez prepared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apisanie podatnych procedur jest </a:t>
            </a:r>
            <a:r>
              <a:rPr b="0" i="1" lang="pl-PL" sz="2800" spc="-1" strike="noStrike">
                <a:solidFill>
                  <a:srgbClr val="000000"/>
                </a:solidFill>
                <a:latin typeface="Tahoma"/>
              </a:rPr>
              <a:t>trudniejsz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niż procedur zabezpieczonyc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ystarczy używać placeholderów zamiast doklejać wartości zmien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0E0D4-EA62-4D16-A5A5-E5277A42F3E1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ySQL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57200" y="1295280"/>
            <a:ext cx="8211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PREPARE / EXECUTE USING / DEALLOCATE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54040" y="2376360"/>
          <a:ext cx="8269200" cy="3436920"/>
        </p:xfrm>
        <a:graphic>
          <a:graphicData uri="http://schemas.openxmlformats.org/drawingml/2006/table">
            <a:tbl>
              <a:tblPr/>
              <a:tblGrid>
                <a:gridCol w="8269200"/>
              </a:tblGrid>
              <a:tr h="3436920">
                <a:tc>
                  <a:txBody>
                    <a:bodyPr lIns="90000" rIns="90000" tIns="16164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ELIMITER $$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_users_like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N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tains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(</a:t>
                      </a:r>
                      <a:r>
                        <a:rPr b="0" lang="pl-PL" sz="19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BEGI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lik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CAT(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%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tains,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%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SELECT * FROM users WHERE uname LIKE ?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_users_stmt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sql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UT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_users_stmt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USING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like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DEALLOCAT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EPAR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_users_stmt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ND$$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ELIMITER 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D7E5C-C0EA-4A4E-8B65-6D3170731824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ySQL c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57200" y="1295280"/>
            <a:ext cx="8211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Lub jeszcze prościej (bezpośredn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scape'owanie – funkcja </a:t>
            </a:r>
            <a:r>
              <a:rPr b="0" lang="pl-PL" sz="2800" spc="-1" strike="noStrike">
                <a:solidFill>
                  <a:srgbClr val="000000"/>
                </a:solidFill>
                <a:latin typeface="DejaVu Sans Mono"/>
              </a:rPr>
              <a:t>QUOT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54040" y="2376360"/>
          <a:ext cx="8269200" cy="2568600"/>
        </p:xfrm>
        <a:graphic>
          <a:graphicData uri="http://schemas.openxmlformats.org/drawingml/2006/table">
            <a:tbl>
              <a:tblPr/>
              <a:tblGrid>
                <a:gridCol w="8269200"/>
              </a:tblGrid>
              <a:tr h="2568600">
                <a:tc>
                  <a:txBody>
                    <a:bodyPr lIns="90000" rIns="90000" tIns="162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ELIMITER $$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_users_like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N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tains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(</a:t>
                      </a:r>
                      <a:r>
                        <a:rPr b="0" lang="pl-PL" sz="19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40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BEGI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@like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CAT(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%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ontains,</a:t>
                      </a: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9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%"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 * FROM users WHERE uname LIKE @like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ND$$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ELIMITER 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273A5-C5B1-48BA-BF6E-7FF339F2C90F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457200" y="192240"/>
            <a:ext cx="8202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457200" y="1295280"/>
            <a:ext cx="8202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óżne wsparcie w zależności od RDB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arcie zależy od konkretnego sterow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lne API (np. PDO) obsługuje tylko najprostsze wywoł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cedura nic nie zwr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cedura zwraca prosty rezultat w parametrze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óżna obsługa (lub brak) bardziej zaawansowanych wywoła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p. pobieranie rekordów z procedur, kurs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arcie we frameworkach ślad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ciąż występują błę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1B9B-55A2-4053-9C3A-909FD3941C67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P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1295280"/>
            <a:ext cx="8211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ywołanie proced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88880" y="2038320"/>
            <a:ext cx="8102520" cy="355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0" bIns="90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777777"/>
                </a:solidFill>
                <a:latin typeface="DejaVu Sans Mono"/>
              </a:rPr>
              <a:t>// My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ql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"CALL get_users_like(:contains)"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777777"/>
                </a:solidFill>
                <a:latin typeface="DejaVu Sans Mono"/>
              </a:rPr>
              <a:t>// MS SQL – EXEC get_users_like :cont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tmt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$pdo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prepar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ql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ret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$stmt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execute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array(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contains'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f0b0b"/>
                </a:solidFill>
                <a:latin typeface="DejaVu Sans Mono"/>
              </a:rPr>
              <a:t>$input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foreach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tmt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fetchAll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)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as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$users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  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var_dump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users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unset(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s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9933-4D58-430F-AD8B-F95190CDCAD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457200" y="193680"/>
            <a:ext cx="82105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Doctrine/Propel/Zend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457200" y="1295280"/>
            <a:ext cx="82105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octrin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- Brak wsparcia (użyj P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pel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– j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3480" indent="-66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348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64728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Zend Framework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– j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11280" y="1989000"/>
            <a:ext cx="8064360" cy="576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pdo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Doctrine_Manager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::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connection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)-&gt;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getDbh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11280" y="3573360"/>
          <a:ext cx="8064360" cy="6476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647640">
                <a:tc>
                  <a:txBody>
                    <a:bodyPr lIns="90000" rIns="90000" tIns="180000" bIns="18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do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Propel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Connection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UserPeer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DATABASE_NAME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1280" y="5086440"/>
          <a:ext cx="8064360" cy="6476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647640">
                <a:tc>
                  <a:txBody>
                    <a:bodyPr lIns="90000" rIns="90000" tIns="180000" bIns="18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do 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db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9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getConnection</a:t>
                      </a:r>
                      <a:r>
                        <a:rPr b="0" lang="pl-PL" sz="19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;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E95D1-9274-49D9-80FC-4D2802A1CD1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w MD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1295280"/>
            <a:ext cx="82119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7140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1400"/>
                <a:tab algn="l" pos="1119240"/>
                <a:tab algn="l" pos="1568520"/>
                <a:tab algn="l" pos="2017800"/>
                <a:tab algn="l" pos="2467080"/>
                <a:tab algn="l" pos="2916360"/>
                <a:tab algn="l" pos="3365640"/>
                <a:tab algn="l" pos="3814920"/>
                <a:tab algn="l" pos="4264200"/>
                <a:tab algn="l" pos="4713120"/>
                <a:tab algn="l" pos="5162400"/>
                <a:tab algn="l" pos="5611680"/>
                <a:tab algn="l" pos="6060960"/>
                <a:tab algn="l" pos="6510240"/>
                <a:tab algn="l" pos="6959520"/>
                <a:tab algn="l" pos="7408800"/>
                <a:tab algn="l" pos="7858080"/>
                <a:tab algn="l" pos="8307360"/>
                <a:tab algn="l" pos="8756640"/>
                <a:tab algn="l" pos="920592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Trzeba własnoręcznie escape'ować wszystkie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57360" y="2379600"/>
          <a:ext cx="8102520" cy="3679920"/>
        </p:xfrm>
        <a:graphic>
          <a:graphicData uri="http://schemas.openxmlformats.org/drawingml/2006/table">
            <a:tbl>
              <a:tblPr/>
              <a:tblGrid>
                <a:gridCol w="8102520"/>
              </a:tblGrid>
              <a:tr h="3679920">
                <a:tc>
                  <a:txBody>
                    <a:bodyPr lIns="90000" rIns="90000" tIns="15804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mdb2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loadModule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Function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multi_query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setOption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multi_query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true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if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!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PEAR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::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isError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multi_query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)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{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esult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mdb2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executeStoredProc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get_users_like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rray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mdb2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contains, </a:t>
                      </a:r>
                      <a:r>
                        <a:rPr b="0" lang="pl-PL" sz="18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text'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)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do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{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while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ow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$resul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fetchRow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)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{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var_dump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ow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}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}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while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resul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-&gt;</a:t>
                      </a:r>
                      <a:r>
                        <a:rPr b="0" lang="pl-PL" sz="18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nextResult</a:t>
                      </a: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)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}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3EA23-2193-43A0-8F82-E6F2FE997E2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57200" y="192240"/>
            <a:ext cx="82058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- pułap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57200" y="1295280"/>
            <a:ext cx="82058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66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8160"/>
                <a:tab algn="l" pos="1116000"/>
                <a:tab algn="l" pos="1565280"/>
                <a:tab algn="l" pos="2014560"/>
                <a:tab algn="l" pos="2463840"/>
                <a:tab algn="l" pos="2913120"/>
                <a:tab algn="l" pos="3362400"/>
                <a:tab algn="l" pos="3811680"/>
                <a:tab algn="l" pos="4260960"/>
                <a:tab algn="l" pos="4710240"/>
                <a:tab algn="l" pos="5159520"/>
                <a:tab algn="l" pos="5608800"/>
                <a:tab algn="l" pos="6058080"/>
                <a:tab algn="l" pos="6507000"/>
                <a:tab algn="l" pos="6956280"/>
                <a:tab algn="l" pos="7405560"/>
                <a:tab algn="l" pos="7854840"/>
                <a:tab algn="l" pos="8304120"/>
                <a:tab algn="l" pos="8753400"/>
                <a:tab algn="l" pos="9202680"/>
                <a:tab algn="l" pos="96519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ługość zmien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8360" y="1916280"/>
          <a:ext cx="8283600" cy="4132080"/>
        </p:xfrm>
        <a:graphic>
          <a:graphicData uri="http://schemas.openxmlformats.org/drawingml/2006/table">
            <a:tbl>
              <a:tblPr/>
              <a:tblGrid>
                <a:gridCol w="8283600"/>
              </a:tblGrid>
              <a:tr h="4132080">
                <a:tc>
                  <a:txBody>
                    <a:bodyPr lIns="90000" rIns="90000" tIns="165600" b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CREAT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PROCEDU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change_passwo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loginnam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varchar(50)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old varchar(50)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	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new varchar(5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DECLAR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command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varchar(</a:t>
                      </a:r>
                      <a:r>
                        <a:rPr b="0" lang="pl-PL" sz="2000" spc="-1" strike="noStrike">
                          <a:solidFill>
                            <a:srgbClr val="d8fa3c"/>
                          </a:solidFill>
                          <a:latin typeface="DejaVu Sans Mono"/>
                        </a:rPr>
                        <a:t>120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T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comman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UPDATE users SET password='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+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new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'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 WHERE loginname='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+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login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'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              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 AND password='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+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                 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QUOTENAME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ol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'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EXEC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(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@command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F9009-5ED7-4D18-A3BD-517425D0ACEA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457200" y="193680"/>
            <a:ext cx="82119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- podsumow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8040" y="976320"/>
            <a:ext cx="821196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ochłonne przenoszenie logiki SQL z aplikacji na ser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 są łatwo przenośne pomiędzy RDB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pisane bezpiecznych procedur i tak wymaga użycia prepared statements lub escape'owania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Źle zaimplementowane mogą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większyć podatnoś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równo wywołanie procedury, jak i jej kod jest podat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cedura może mieć większe uprawnienia niż kod ją wywołują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łe wsparcie w PHP i we framework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C02CC-D22F-4F51-8189-B25143D1DB0B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92240"/>
            <a:ext cx="8202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cedury składowane - podsumow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57200" y="1079640"/>
            <a:ext cx="82026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74640" indent="-671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Mają dużo zalet poza naszym obszarem zainteresowa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Można precyzyjnie zarządzać uprawnieniami do proced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Przydatne w wypadku stosowania różnych klientów (Java/.NET + PH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Mogą zwiększyć wydajność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I wiele innych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Wniosk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Pozwalają osiągnąć dobre zabezpieczenie przed SQL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injection, ale przy dużych kosztac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ahoma"/>
              </a:rPr>
              <a:t>Niezbędne jest zabezpieczanie samego kodu procedur przed SQL inje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6272-EE3F-46C1-A1FA-9D8CD865960B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SQL injection – krótka defini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1079640"/>
            <a:ext cx="82296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to rodzaj ataku na aplikacje internetow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ega na tym, że dane od użytkownik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hodzące z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4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ww.example.com?id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4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rzy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ail=a@exampl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4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ych elementów: np. cookie, nagłówki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stają zmanipulowane tak, że w podatnej apli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staje wykonane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strzyknięt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zez atakującego polecenie SQ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EE896-A6B5-45A0-9963-ECB223ECD086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11706120" y="11177640"/>
            <a:ext cx="8229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Jak się broni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Metody uzupełniają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5040360" y="1800360"/>
            <a:ext cx="3908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D738-ADCE-44F5-8F20-10FD22F2ABF3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57200" y="192240"/>
            <a:ext cx="8202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alidacja i filtrowanie da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95280" y="1079640"/>
            <a:ext cx="82645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ontrola poprawności danych zewnętrz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dbywa się przed przetwarzaniem tych da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ie myl z escape'owaniem!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lter INPUT - escape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74640" indent="-67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Osobne reguły walidacji dla każdego parametru - sprawdzaj m.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yp zmienne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kalar / ta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tości min / 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1680" indent="-55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ługość danych tekstowych!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[1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D5F5F-65A1-4A83-845C-558069953D6B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457200" y="192240"/>
            <a:ext cx="8204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Uzupełniające metody obr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57200" y="1295280"/>
            <a:ext cx="820404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73200" indent="-66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Komplementarne do poprzednic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sada najmniejszych uprawnień przy łączeniu się do bazy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łączenie nieużywanych funkcji, kont, pakietów dostarczanych z bazą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egularne aktualizowanie serwera bazy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bra konfiguracja PHP i baz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69880" indent="-55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magic_quotes_*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469880" indent="-55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DejaVu Sans Mono"/>
              </a:rPr>
              <a:t>display_errors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brze zaprojektowana baza da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EDE03-C043-4873-BC1B-03F1317454E8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457200" y="192240"/>
            <a:ext cx="8204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457200" y="1295280"/>
            <a:ext cx="82040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wracaj uwagę na SQL injection  - pojedynczy błąd może wiele kosztować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eferuj rozwiązania kompleksowe - np. framewor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iltruj wszystkie dane wejści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amiętaj o typach i długościach zmien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suj whitelisting zamiast blacklistingu - to drugie kiedyś zawiedzi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osuj prepared statements wszędzie, gdzie moż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nikaj escape'ow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rocedurach składowanych uważaj na Dynamic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3200" indent="-66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732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656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DC39D-AB6F-4647-95AF-A4E7D8929794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457200" y="193680"/>
            <a:ext cx="8218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Lin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5920" y="907920"/>
            <a:ext cx="82184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5560" indent="-65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Omawiane projek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sqlmap.sourceforge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php.net/manual/en/book.pdo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www.doctrine-projec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propel.phpdb.org/tr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framework.zend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pear.php.net/package/M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O SQL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www.owasp.org/index.php/SQL_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unixwiz.net/techtips/sql-injectio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delicious.com/koto/sql+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Hack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threats.pl/bezpieczenstwo-aplikacji-internet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ccccff"/>
                </a:solidFill>
                <a:latin typeface="Tahoma"/>
              </a:rPr>
              <a:t>tinyurl.com/webg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5520" indent="-59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avensecurity.com/dojo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92d050"/>
                </a:solidFill>
                <a:latin typeface="Tahoma"/>
              </a:rPr>
              <a:t>krzysztof@kotowicz.net     http://blog.kotowicz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55560" indent="-655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5556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6393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153CA-C0BA-4DAB-8DFF-1F3ADEB482A0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9512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– formularz logow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57200" y="1295280"/>
            <a:ext cx="82296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492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Użytkownik jest zalogowany bez znajomości loginu ani hasł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7280" y="1081080"/>
          <a:ext cx="7983360" cy="4000680"/>
        </p:xfrm>
        <a:graphic>
          <a:graphicData uri="http://schemas.openxmlformats.org/drawingml/2006/table">
            <a:tbl>
              <a:tblPr/>
              <a:tblGrid>
                <a:gridCol w="7983360"/>
              </a:tblGrid>
              <a:tr h="4000680">
                <a:tc>
                  <a:txBody>
                    <a:bodyPr lIns="90000" rIns="90000" tIns="120240" bIns="900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 WHERE login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login}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_hash = MD5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password}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login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' or 1=1 -- 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asswor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dowolne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zamierzalismy osiagnac to (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kod 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\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dane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 WHERE login =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 or 1=1 -- 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_hash = MD5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dowoln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serwer interpretuje to t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 WHERE login 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 or 1=1 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-- ' and password_hash = MD5('dowolne'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57280" y="1081080"/>
          <a:ext cx="7983360" cy="2828880"/>
        </p:xfrm>
        <a:graphic>
          <a:graphicData uri="http://schemas.openxmlformats.org/drawingml/2006/table">
            <a:tbl>
              <a:tblPr/>
              <a:tblGrid>
                <a:gridCol w="7983360"/>
              </a:tblGrid>
              <a:tr h="2828880">
                <a:tc>
                  <a:txBody>
                    <a:bodyPr lIns="90000" rIns="90000" tIns="120240" bIns="900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 WHERE login 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login}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_hash = MD5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password}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login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' or 1=1 -- 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$password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"dowolne"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// zamierzalismy osiagnac to (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kod 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\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dane</a:t>
                      </a:r>
                      <a:r>
                        <a:rPr b="0" lang="pl-PL" sz="2000" spc="-1" strike="noStrike">
                          <a:solidFill>
                            <a:srgbClr val="aeaeae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 WHERE login =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' or 1=1 -- 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_hash = MD5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dowolne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  <p:sp>
        <p:nvSpPr>
          <p:cNvPr id="156" name="Rectangle 9"/>
          <p:cNvSpPr/>
          <p:nvPr/>
        </p:nvSpPr>
        <p:spPr>
          <a:xfrm>
            <a:off x="557280" y="1081080"/>
            <a:ext cx="7983360" cy="1627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90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SELECT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*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FROM users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WHERE login =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{$login}'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and password_hash = MD5(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'{$password}'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login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"' or 1=1 -- "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$password 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=</a:t>
            </a:r>
            <a:r>
              <a:rPr b="0" lang="pl-PL" sz="2000" spc="-1" strike="noStrike">
                <a:solidFill>
                  <a:srgbClr val="f8f8f8"/>
                </a:solidFill>
                <a:latin typeface="DejaVu Sans Mono"/>
              </a:rPr>
              <a:t> </a:t>
            </a:r>
            <a:r>
              <a:rPr b="0" lang="pl-PL" sz="2000" spc="-1" strike="noStrike">
                <a:solidFill>
                  <a:srgbClr val="61ce3c"/>
                </a:solidFill>
                <a:latin typeface="DejaVu Sans Mono"/>
              </a:rPr>
              <a:t>"dowolne"</a:t>
            </a:r>
            <a:r>
              <a:rPr b="0" lang="pl-PL" sz="2000" spc="-1" strike="noStrike">
                <a:solidFill>
                  <a:srgbClr val="fbde2d"/>
                </a:solidFill>
                <a:latin typeface="DejaVu Sans Mon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57280" y="1081080"/>
          <a:ext cx="7983360" cy="782640"/>
        </p:xfrm>
        <a:graphic>
          <a:graphicData uri="http://schemas.openxmlformats.org/drawingml/2006/table">
            <a:tbl>
              <a:tblPr/>
              <a:tblGrid>
                <a:gridCol w="7983360"/>
              </a:tblGrid>
              <a:tr h="782640">
                <a:tc>
                  <a:txBody>
                    <a:bodyPr lIns="90000" rIns="90000" tIns="119880" bIns="8964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SELECT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*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FROM users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WHERE login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=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login}'</a:t>
                      </a:r>
                      <a:r>
                        <a:rPr b="0" lang="pl-PL" sz="2000" spc="-1" strike="noStrike">
                          <a:solidFill>
                            <a:srgbClr val="f8f8f8"/>
                          </a:solidFill>
                          <a:latin typeface="DejaVu Sans Mono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and password_hash = MD5(</a:t>
                      </a:r>
                      <a:r>
                        <a:rPr b="0" lang="pl-PL" sz="2000" spc="-1" strike="noStrike">
                          <a:solidFill>
                            <a:srgbClr val="61ce3c"/>
                          </a:solidFill>
                          <a:latin typeface="DejaVu Sans Mono"/>
                        </a:rPr>
                        <a:t>'{$password}'</a:t>
                      </a:r>
                      <a:r>
                        <a:rPr b="0" lang="pl-PL" sz="2000" spc="-1" strike="noStrike">
                          <a:solidFill>
                            <a:srgbClr val="fbde2d"/>
                          </a:solidFill>
                          <a:latin typeface="DejaVu Sans Mono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40585-3F80-4163-B4EF-38E90CC9C73D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19512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laczego jest groź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284800" y="1619280"/>
            <a:ext cx="371484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8585280" y="6308640"/>
            <a:ext cx="37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BBBA9-B73E-4529-A702-18897A07E2CC}" type="slidenum">
              <a:rPr b="1" lang="pl-PL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95120"/>
            <a:ext cx="8229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Czym grozi podatność na SQL inje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Nieuprawniony dostęp do aplikacj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Dostęp do całej zawartości bazy / baz na serwerz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Możliwość modyfikacji danych w baz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Przeczytanie / zapisanie pliku na serwer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ahoma"/>
              </a:rPr>
              <a:t>Wykonanie kodu na serwer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krzysztof@kotowicz.net</dc:creator>
  <dc:description>http://www.owasp.org
http://blog.kotowicz.net</dc:description>
  <cp:keywords>Application Security SQL injection PDO Doctrine Zend Framework Propel MySQL PostgreSQL MS SQL Oracle SQLite</cp:keywords>
  <dc:language>en-US</dc:language>
  <cp:lastModifiedBy>Krzysztof Kotowicz</cp:lastModifiedBy>
  <dcterms:modified xsi:type="dcterms:W3CDTF">2010-03-09T16:08:23Z</dcterms:modified>
  <cp:revision>120</cp:revision>
  <dc:subject>Application Security, SQL injection, PDO, Doctrine, Zend Framework, Propel, MySQL, PostgreSQL, MS SQL, Oracle, SQLite</dc:subject>
  <dc:title>Kompletny przewodnik po SQL injection dla developerów PHP (i nie tylko)</dc:title>
</cp:coreProperties>
</file>