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E372-CE1E-4465-B21B-A1234A9D9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8B5E-E0BB-40AC-87D9-A60C18AB0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0F16-81D5-44C6-9DE7-2D3B54677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6111-4296-4AC5-BFAF-2BE8E6226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E416-C60C-4801-A3B4-E8EBA84A9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8530-58D4-4F3C-A93A-8ED9C04A2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3FDD-22F3-4F43-AE57-5DAE6B0F3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5FCE-12B4-4C7E-A5E9-DA1D44951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29DB-97BC-4712-8C27-47823C234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A9F7-4179-42AD-9311-3C2708230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F5DB-8960-4BEC-A509-2A27EFFDE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6464-255A-4087-B039-382A9E8F7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5F96-CA0E-49D8-9731-E8012C273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0BAB-8081-430D-B2EF-B8F27A746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7A5C-6D99-4B79-A72E-E0E2A781E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E803-DDE6-487F-94C1-D376504D5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A718-9BAE-4908-A863-3B7D73E2A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7F25-20C6-49C0-8F80-2962C2AE1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F8C6-2963-41F7-897E-4FCD6C527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4F80-0928-4A07-93F7-29F56E0FC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2AD2-811D-4DAC-AF90-D1B97FEAC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D821-F0C0-47DF-A10B-172E7A175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A3C0-3A69-4864-B9F7-64D153EE0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865E-4525-48C8-9802-23B868CDC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F984-F362-4EBC-B737-EE2161EA9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86EE-65EB-41ED-801D-EDD04CC32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A755-4101-4B59-9969-A56FBAD1F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CC71-C115-4A51-AC5E-DF7B34B80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B3F0-3479-417B-A6BA-3620B15C1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C7A0-E28D-4356-9693-581E9AD78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3314-FA3D-4080-B1BB-48368FD20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925D-5FB8-4235-B203-0BFE2F134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AAF7-A33C-40AF-A162-E9219E6F1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C846-F846-4832-AF24-CD53F6929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E220-5FB7-4D8C-B2AF-E5A69E5A2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1CB1-7885-4A41-B38E-CFAD4E916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72C8-98B2-465C-88A5-E255CDBFB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BB0B-ABAD-4C22-AB54-12F93F70F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DF65-8D1C-430D-8DD9-6CFA3A6F1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3813-5021-42B8-BCA2-0EAE09ACC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24C8-F314-40B9-B242-132D5EB4E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5137-2C03-415F-A6F6-E5C79AD07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6A7F-CF1D-4B8D-A6E3-99CA773A4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D3E8-685C-47CB-8D1E-F820E7003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BA41-169E-41C7-A101-CFDC12455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7D7E-B37C-46B9-9E62-CDF3A7EF6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B790-84E0-41B5-A49B-F0D2E86C9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1267-419D-45A8-8367-F3A56DB24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F0D9-CB8C-4D43-965D-598CFA8DF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2DA7-8734-407A-B1FE-B59A9C568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EA7F-201D-4727-881B-2D39F1C18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099B-EE78-449B-AAA1-D9467C64D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D7F5-6CB3-4E7E-8711-3F16650E2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owasp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A913-F064-44D5-9732-5C62C3EB470B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30"/>
          <p:cNvSpPr/>
          <p:nvPr/>
        </p:nvSpPr>
        <p:spPr>
          <a:xfrm>
            <a:off x="2438280" y="6270480"/>
            <a:ext cx="568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 Israel 2008 Conference – Sep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6248520"/>
            <a:ext cx="280044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5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570852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" descr="owasp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4038480" y="5013360"/>
            <a:ext cx="4724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2007 - The OWASP Foun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Creative Commons Attribution-ShareAlike 2.5 License. To view this license, visit http://creativecommons.org/licenses/by-sa/2.5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4038480" y="602604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8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29"/>
          <p:cNvSpPr/>
          <p:nvPr/>
        </p:nvSpPr>
        <p:spPr>
          <a:xfrm>
            <a:off x="2705040" y="266688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30"/>
          <p:cNvSpPr/>
          <p:nvPr/>
        </p:nvSpPr>
        <p:spPr>
          <a:xfrm rot="10800000">
            <a:off x="7385040" y="266652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1523880" y="4005360"/>
            <a:ext cx="22100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ahoma"/>
              </a:rPr>
              <a:t>OWASP &amp; WASC AppSec 2007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San Jose – Nov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4114800" y="641520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7" descr=""/>
          <p:cNvPicPr/>
          <p:nvPr/>
        </p:nvPicPr>
        <p:blipFill>
          <a:blip r:embed="rId3"/>
          <a:stretch/>
        </p:blipFill>
        <p:spPr>
          <a:xfrm>
            <a:off x="492120" y="5919840"/>
            <a:ext cx="2335320" cy="533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4"/>
          <p:cNvSpPr/>
          <p:nvPr/>
        </p:nvSpPr>
        <p:spPr>
          <a:xfrm>
            <a:off x="380880" y="642456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webappsec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Testing the Tester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777777"/>
                </a:solidFill>
                <a:latin typeface="Tahoma"/>
              </a:rPr>
              <a:t>Measuring Quality of Security Test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038480" y="3048120"/>
            <a:ext cx="4648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ahoma"/>
              </a:rPr>
              <a:t>Ofer Ma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ahoma"/>
              </a:rPr>
              <a:t>CTO, Hack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4114800" y="3886200"/>
            <a:ext cx="1733400" cy="237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4114800" y="4267080"/>
            <a:ext cx="4524480" cy="676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1523880" y="4038480"/>
            <a:ext cx="2438640" cy="1678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ahoma"/>
              </a:rPr>
              <a:t>OWASP Israel AppSec 2008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1DF4-4627-4487-9B70-89ED39734075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verage Proble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ulnerability not te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ossible to test (Logical by Automated, Brute Force by Manual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ly Discovered Vulnerability (Not up to date yet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mingly Insignificant Vulner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ver-before seen vulnerability (Mostly logical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may impair availability or reli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nt not te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 many possible variants (common with injection problems) – may require very specific tweak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al vulnerability extremely dependant on actual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AF5C-2680-4CFA-A3E0-4CF39B847FF8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cope of Thre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o is Trying to Attack U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do They W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Just Security Testing - The entire security solution should be relative to the thr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Testing Cost-Effectiven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es a script-kiddie / automated tool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es an average hack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es focused attack with large resour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is a Missed Vulnerability Classified as “False Positive” (And when is it out of scope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8F95-027F-4404-B87B-4F8A09E3754D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alse Positives: Reas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Quality/Pro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orly defined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cted result not properly def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rly defined validation differentia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orly run test – lack of pro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changed / security measures ex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pea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ulner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neypo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ched” security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unable to correlate to other components (code revie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ical vulnerability – no thr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does correlate to context of the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3B9E-4B89-4BFB-8BD5-392F76091083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Valid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Tell if It’s Really Vulnerab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Tests – Attempt to determine validity by a set of tests and expected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oorly identify a result as a vulner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usceptible to honey p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o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a vulnerability to achieve an actual at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validity (Still might fall on honeypots thoug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effort and may pose a ris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2DD0-2358-452C-BFD1-54A102B31CE6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usiness Impac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Dangerous is This Vulnerabil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ill Controversial – Do we really want to fix just vulnerabilities posing immediate threa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we call it a vulnerability if it does noth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ng R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s usually prioritize effort by ris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we really give each vulnerability the same risk level in every syst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Contextual understanding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FC8E-A461-4DF8-AD61-71CDE93384EA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uality of Security Testing – Criteria Summ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se Neg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data co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o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quality / pro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pe of thr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se Pos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quality / pro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Effectiveness (% of acceptable False Negatives and Positiv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5054-7645-4183-8CC3-40F59BD6478F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Security Testing Approach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(Pros &amp; Cons)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3BE5-7F96-462C-B269-15C9D48A79DB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ecurity Testing Approaches (Pros &amp; Con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/Grey 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vulnerability scan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penetration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te 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code analyz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code 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27DD-930E-47CB-B71E-4F7C04F0FA7B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pplication Vulnerability Scann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Data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n terms of volume (Large applic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atic in contextual asp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lo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User Privile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data influences code execu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age of 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good with Technical Vulner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limited with Logical Vulner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nt Coverage – Wide, but not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8A13-6E36-472E-A77E-227DA1F1A019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pplication Vulnerability Scann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Quality / Pro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Good (Depends on product…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fails to adapt to changes and non standard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– Generally high rate of False Posi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(or very limited) Explo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differentiators suffer from test 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Imp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04F8-0998-4233-8173-1A0C55FCA59F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Testing is a Critical E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system’s security lifecy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in fact the QA of the security in th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the only way to assess the quality of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etheless, Quality is Uncer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way to measure quality of security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ertification or other type of quality ran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even worse – We only know our testing failed when it’s too l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PCI and other regulations avoid this iss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F505-634C-4AA9-8C19-44F321E38DF0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pplication Vulnerability Scann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pe of Thr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again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ript Kidd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 based att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-level Hack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insufficient with focused/advanced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Effectiv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High, under following circumstan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verage and Quality issues not present with tested techn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s of tools have sufficient security understa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 used for many sc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BFAA-2932-40DA-9D37-F52AAD3ACE4C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anual Penetration Test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Data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n contextual asp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properly utilizing the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ces between users are usually cl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problematic in volume asp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etheless, proper categorization can solve volume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age of 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good – if working methodolog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nt co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necessarily w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Proper testing allows finding the right varia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8682-F3CD-4FE4-A955-CC0747058A15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anual Penetration Test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Quality / Pro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entially good – but depends greatly on the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advantage – allows creativity and adaption to identify non standard vulner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good – Easier for person to identify false posi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perform explo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Imp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considered by t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ACBF-F611-420A-B56F-DC30F1452BC3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anual Penetration Test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pe of Thr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the actual effort and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face advanced focused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Effectiv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entially high. May suffer w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y large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only face automatic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ort invested (and cost) may vary grea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ADB7-9030-46C1-A91B-7D75125FE19D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anual Penetration Test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Key Asp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varies greatly between te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may also vary for the same tester (time, mood, inspiration, etc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 vs. grey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Gath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ly depends on tester’s understa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effort do we want to inve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7C07-58E5-43A0-8419-370947509763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tatic Code Analyz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Data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good (no crawling setback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atic when not all cod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age of 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good with technical vulner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limited with logical vulner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nt coverage – wide, but not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0C91-991D-4F67-9BEF-59505ECBB6EE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tatic Code Analyz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Quality / Pro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good in some aspects (Depends on product…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ccuracy in identifying code vio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not necessarily security vio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limited – high rate of false posi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violations may often not be exploi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blocked by external compon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Imp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e. There even is no application context (stat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46CD-0DC9-4717-863D-076EBDC86C1F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tatic Code Analyz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pe of Thr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again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ly syntax attacks (Injection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ly script kiddies / tool based att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insufficient with focused/advanced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Effectiv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enforcing proper coding pract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, however, performing modifications of code not necessarily vulner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43DC-3E76-4418-836F-156FA29171F2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anual Code Review (Static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Data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problematic – Usually impossible to go over every line of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smart analysis of what to review and what not to 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age of 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good with technical vulner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what limited with logical vulnerabilities (often hard to determine full logic of non running co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787A-4C95-4E71-9B5A-EAB47750B410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anual Code Review (Static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Quality / Pro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entially excellent (if properly done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identification of backdoors and rar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suffer from inability of understanding flow of complex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– Relatively high rate of false posi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violations may often not be exploi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blocked by external compon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Imp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al. Depends on preliminary prep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8F98-3203-44B9-9C14-4C9BCE7787B6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s a Huge Challenge for Organ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choose the right security testing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guarantee that security testing is su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Budget Decisions Harder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determine cost effectiv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al with purchasing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Presentation We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 aspects of security testing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 means of assessing quality of testing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3C40-D407-404A-AFD0-D2DE546E51B2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anual Code Review (Static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pe of Thr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again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level of attack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doors and rare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Effectiv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expensive, and only justifies costs in critical p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4438-EAA6-4843-A736-4A35B2C47896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hoosing the Right Approac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ing the Types of 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ing the Required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ighing Pros, Cons and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– A combination of approaches appl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Penetration Test + Partial Code 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Penetration Test + Scanner (Free/Commercial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nner + Partial Manual Penetration Test (Valid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nner + Static Code Analyzer (Corre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Code Analyzer + Manual Code Review (Valid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220C-45FF-4CE5-8E15-50D57C43571F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Testing the Tester: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Evaluating Quality of Security Testing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2974-CF34-46CF-A74A-3E38CB7F8692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Testing the Test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ardest Part – Determining the quality of security testing solu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onsists Of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% of false neg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% of false posi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aspec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Not discussed he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5A73-214F-4D78-9868-2F266D0ED55D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Testing the Test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NOT to Determine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ing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s p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gazine articles (Usually not professional enoug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chmarking on known applications (WebGoat, Hackme Bank, etc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What Should We D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(that we trust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ative analysis (on our sys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lly – Compare with a “perfect”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5F1F-DE7F-43F1-B155-1C64B71A069C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roduct Assess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 several products on a few systems in the enterp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 Neg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ally – compare against a report containing all findings – identify percent of false negative in each produc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ernatively – unite the real findings from all reports, and compare against t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 Posi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 validation of each finding to eliminate all false posi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 the amount of false positives in each prod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 other aspects (if needed) – Details of report, speed of execution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2B96-43D6-49C4-BC31-03CBD0F7BE6B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ervice Assess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Trick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ring a consultant is like hiring an employ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f All - 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references of customers with similar environments and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round yourself – the vendor will always provide you with their best referenc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the Specific Consul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’s not just about the company – it’s about the people involved in the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the resume, perform an int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4E05-54CC-4C39-9893-C4DF129C6D46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ervice Assess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product – great way of compar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problem – Usually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nt note – The benchmarking should be done without prior knowledge of the tester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 positive &amp; negative assess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ly simi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impact, however, now plays a role – a good tester should eliminate (or downgrade) non hazardous find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if testing includes strong validation (exploit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report and information gathered in it should also be exam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752E-EE0A-43FD-8AA8-7FE8987127FC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ome Techniques That (Sometimes) Hel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Data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(and approve) a test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all components/modules te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an automated tool in add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problem – usually increases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methodology / list of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problem – does not really improve variant co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ation – Require strong validation (Explo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A1D0-2FC1-4498-A257-304D71D97BF1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curity Testing is Hard to Measure or Quan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etheless – It is Important to Maintain Adequate Quality to Address the Thr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ality of Security (and Security Testing) Must be Guaranteed In Adv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ing Quality has an Associated Co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ing for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 products, best tools, best consul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the Balance is Cru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03C0-35BA-47E1-9C75-73F194995406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curity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 Positives / False Neg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age / 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Impact / Thr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Testing Approaches (Pros &amp; C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/Grey/White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etration Test vs. Code 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vs. Man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T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ing the Right Appro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ng Tools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ng Services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6492960" y="228600"/>
            <a:ext cx="26510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5EFA-E556-4587-B74F-BBB7AEE4ABD9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Discussion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&amp; Question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A997-CC2C-44F6-8B4F-6BBA175E8AFC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Quality of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Security Testing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6BAB-5D9E-4B4C-9F5D-27AADBF29EFC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uality of Security Test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Testing is Essentially Measured by Two Elem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se Negativ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Something was missed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obvious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ses the system to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se Positiv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Something was made up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prisingly – equal problem for enterp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redundant work and eff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s distrust (Cry Wolf Syndro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cessarily technological (the flaw is there – but poses no real threa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DE17-F157-481E-83C6-F78A44149B32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alse Negatives: Reas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age of Tested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L/parameter/component mi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 code section not reached in tested se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age of 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 vulnerability not te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 variant not te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1EF4-0777-4009-80F8-21AE76B1D3B1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alse Negatives: Reasons (Cont’d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Quality/Pro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orly defined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ack not properly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cted result not properly def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orly run test – lack of pro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changed / security measures ex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requires some modif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s evasion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s different analysis of 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3807-7284-4BB4-A76F-B5D82137D1B3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verage Proble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Data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crawling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ally infinite lin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-side created links (JS/AJA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er flow and context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rty components can not be tes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un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 many URLs/parameters/code to co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ufficient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5:35:24Z</dcterms:created>
  <dc:creator>OWASP</dc:creator>
  <dc:description>http://www.owasp.org</dc:description>
  <cp:keywords>Application Security</cp:keywords>
  <dc:language>en-US</dc:language>
  <cp:lastModifiedBy>Ofer Shezaf</cp:lastModifiedBy>
  <dcterms:modified xsi:type="dcterms:W3CDTF">2008-09-25T18:43:18Z</dcterms:modified>
  <cp:revision>79</cp:revision>
  <dc:subject>Application Security</dc:subject>
  <dc:title>OWASP AppSec 2004 Presentation</dc:title>
</cp:coreProperties>
</file>