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214A-F221-4FEB-BF1D-264C1729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 - hard to find: backdoors, really blind SQLi,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– hard to be sure about exploitability (though string analysis can show th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451B-22A2-4FA7-BE83-3C6117677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272880" y="4290480"/>
            <a:ext cx="63122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C3C-6016-422D-AAA1-FD678480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72880" y="4290480"/>
            <a:ext cx="63122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CBA7-0AA6-4D32-B988-72821031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272880" y="4290480"/>
            <a:ext cx="63122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9578-CD04-448D-8297-7E66199CB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49B0-CCCF-4553-BB8E-1B4F48F61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A693-9599-42FE-A6D0-C67E0297E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5518-6093-4250-BE09-78E3AD000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F6C3-5425-4259-862C-CD5F750EB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7AAA-4298-46D4-9377-E2A77E640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2595-56F3-4710-855D-5E733FCA4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5C76-1F38-4598-A143-749506DCA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D796-DE5F-43F8-AB37-190C108E0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6BD8-0CDF-41F0-AB2C-9876AAE17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58AD-306A-467C-A7E9-8977C2880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B2E9-E252-44E1-AB0A-32164630F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DB2D-A87F-4E8E-9327-A259E1A3CFC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Web Application Scanners</a:t>
            </a:r>
            <a:br>
              <a:rPr sz="2800"/>
            </a:b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Black Box vs. White Bo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4600" y="3457440"/>
            <a:ext cx="397692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Adi Sharabani </a:t>
            </a:r>
            <a:r>
              <a:rPr b="1" lang="en-US" sz="1000" spc="-1" strike="noStrike">
                <a:solidFill>
                  <a:srgbClr val="969696"/>
                </a:solidFill>
                <a:latin typeface="Tahoma"/>
              </a:rPr>
              <a:t>– Security Research Group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Dr. Yinnon Haviv </a:t>
            </a:r>
            <a:r>
              <a:rPr b="1" lang="en-US" sz="1000" spc="-1" strike="noStrike">
                <a:solidFill>
                  <a:srgbClr val="969696"/>
                </a:solidFill>
                <a:latin typeface="Tahoma"/>
              </a:rPr>
              <a:t>– Static Analysis Technical L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IBM Rational Application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{adish, yinnonh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464832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14/09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26160" y="4413240"/>
            <a:ext cx="990360" cy="206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2743200" cy="18176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790640" y="1066680"/>
            <a:ext cx="1176120" cy="1559160"/>
            <a:chOff x="1790640" y="1066680"/>
            <a:chExt cx="1176120" cy="1559160"/>
          </a:xfrm>
        </p:grpSpPr>
        <p:grpSp>
          <p:nvGrpSpPr>
            <p:cNvPr id="130" name=""/>
            <p:cNvGrpSpPr/>
            <p:nvPr/>
          </p:nvGrpSpPr>
          <p:grpSpPr>
            <a:xfrm>
              <a:off x="1790640" y="1066680"/>
              <a:ext cx="1176120" cy="1225800"/>
              <a:chOff x="1790640" y="1066680"/>
              <a:chExt cx="1176120" cy="1225800"/>
            </a:xfrm>
          </p:grpSpPr>
          <p:sp>
            <p:nvSpPr>
              <p:cNvPr id="131" name=""/>
              <p:cNvSpPr/>
              <p:nvPr/>
            </p:nvSpPr>
            <p:spPr>
              <a:xfrm>
                <a:off x="1790640" y="1290600"/>
                <a:ext cx="569880" cy="10018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396520" y="1290600"/>
                <a:ext cx="569880" cy="10018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97120" y="1066680"/>
                <a:ext cx="1162080" cy="522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952640" y="2257560"/>
              <a:ext cx="86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52480" y="1066680"/>
            <a:ext cx="1184760" cy="1563840"/>
            <a:chOff x="1752480" y="1066680"/>
            <a:chExt cx="1184760" cy="1563840"/>
          </a:xfrm>
        </p:grpSpPr>
        <p:sp>
          <p:nvSpPr>
            <p:cNvPr id="136" name=""/>
            <p:cNvSpPr/>
            <p:nvPr/>
          </p:nvSpPr>
          <p:spPr>
            <a:xfrm>
              <a:off x="1752480" y="1066680"/>
              <a:ext cx="1184040" cy="1251000"/>
            </a:xfrm>
            <a:custGeom>
              <a:avLst/>
              <a:gdLst/>
              <a:ahLst/>
              <a:rect l="l" t="t" r="r" b="b"/>
              <a:pathLst>
                <a:path w="746" h="788">
                  <a:moveTo>
                    <a:pt x="3" y="120"/>
                  </a:moveTo>
                  <a:lnTo>
                    <a:pt x="375" y="0"/>
                  </a:lnTo>
                  <a:lnTo>
                    <a:pt x="743" y="120"/>
                  </a:lnTo>
                  <a:lnTo>
                    <a:pt x="746" y="149"/>
                  </a:lnTo>
                  <a:lnTo>
                    <a:pt x="714" y="575"/>
                  </a:lnTo>
                  <a:lnTo>
                    <a:pt x="375" y="788"/>
                  </a:lnTo>
                  <a:lnTo>
                    <a:pt x="33" y="576"/>
                  </a:lnTo>
                  <a:lnTo>
                    <a:pt x="0" y="146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2003040" y="1198440"/>
              <a:ext cx="75528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847520" y="2262240"/>
              <a:ext cx="10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757160" y="1074600"/>
              <a:ext cx="1180080" cy="1230120"/>
              <a:chOff x="1757160" y="1074600"/>
              <a:chExt cx="1180080" cy="1230120"/>
            </a:xfrm>
          </p:grpSpPr>
          <p:sp>
            <p:nvSpPr>
              <p:cNvPr id="140" name=""/>
              <p:cNvSpPr/>
              <p:nvPr/>
            </p:nvSpPr>
            <p:spPr>
              <a:xfrm>
                <a:off x="1757160" y="1299960"/>
                <a:ext cx="571320" cy="100476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9e9">
                      <a:alpha val="0"/>
                    </a:srgbClr>
                  </a:gs>
                  <a:gs pos="100000">
                    <a:srgbClr val="d5d5d5">
                      <a:alpha val="79215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65560" y="1299960"/>
                <a:ext cx="571320" cy="100476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9494">
                      <a:alpha val="0"/>
                    </a:srgbClr>
                  </a:gs>
                  <a:gs pos="100000">
                    <a:srgbClr val="d5d5d5">
                      <a:alpha val="79215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61480" y="1074600"/>
                <a:ext cx="1168200" cy="522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b3b3">
                      <a:alpha val="70196"/>
                    </a:srgbClr>
                  </a:gs>
                  <a:gs pos="100000">
                    <a:srgbClr val="ececec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3886200" y="295596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B4C2-7006-46D4-B8C3-8FC81E61C20B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00174 0.45301 E">
                                      <p:cBhvr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55712 0.45556 E">
                                      <p:cBhvr>
                                        <p:cTn id="28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712 0.45556 L 0.55191 0.23056 E">
                                      <p:cBhvr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45301 L -0.05174 0.2419 E">
                                      <p:cBhvr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w BB Scanners Wor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3138480"/>
            <a:ext cx="152280" cy="138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329076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36708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3443400"/>
            <a:ext cx="15264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29076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329076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30621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90988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7576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29098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2986200"/>
            <a:ext cx="15264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4" idx="6"/>
            <a:endCxn id="275" idx="0"/>
          </p:cNvCxnSpPr>
          <p:nvPr/>
        </p:nvCxnSpPr>
        <p:spPr>
          <a:xfrm>
            <a:off x="4114440" y="3207960"/>
            <a:ext cx="22932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4" idx="5"/>
            <a:endCxn id="276" idx="0"/>
          </p:cNvCxnSpPr>
          <p:nvPr/>
        </p:nvCxnSpPr>
        <p:spPr>
          <a:xfrm flipH="1" rot="16200000">
            <a:off x="4047840" y="3299760"/>
            <a:ext cx="111960" cy="23040"/>
          </a:xfrm>
          <a:prstGeom prst="curvedConnector5">
            <a:avLst>
              <a:gd name="adj1" fmla="val 58387"/>
              <a:gd name="adj2" fmla="val 49206"/>
              <a:gd name="adj3" fmla="val 583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4" idx="4"/>
            <a:endCxn id="277" idx="0"/>
          </p:cNvCxnSpPr>
          <p:nvPr/>
        </p:nvCxnSpPr>
        <p:spPr>
          <a:xfrm rot="5400000">
            <a:off x="3878280" y="3283200"/>
            <a:ext cx="167040" cy="153000"/>
          </a:xfrm>
          <a:prstGeom prst="curvedConnector5">
            <a:avLst>
              <a:gd name="adj1" fmla="val 49460"/>
              <a:gd name="adj2" fmla="val 50000"/>
              <a:gd name="adj3" fmla="val 494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4" idx="2"/>
            <a:endCxn id="279" idx="0"/>
          </p:cNvCxnSpPr>
          <p:nvPr/>
        </p:nvCxnSpPr>
        <p:spPr>
          <a:xfrm flipV="1" rot="10800000">
            <a:off x="3886200" y="3207240"/>
            <a:ext cx="7668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4" idx="2"/>
            <a:endCxn id="278" idx="0"/>
          </p:cNvCxnSpPr>
          <p:nvPr/>
        </p:nvCxnSpPr>
        <p:spPr>
          <a:xfrm flipV="1" rot="10800000">
            <a:off x="3656880" y="3207240"/>
            <a:ext cx="30564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4" idx="1"/>
            <a:endCxn id="280" idx="6"/>
          </p:cNvCxnSpPr>
          <p:nvPr/>
        </p:nvCxnSpPr>
        <p:spPr>
          <a:xfrm flipV="1" rot="16200000">
            <a:off x="3882960" y="3057480"/>
            <a:ext cx="27720" cy="175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4" idx="0"/>
            <a:endCxn id="281" idx="6"/>
          </p:cNvCxnSpPr>
          <p:nvPr/>
        </p:nvCxnSpPr>
        <p:spPr>
          <a:xfrm flipV="1" rot="16200000">
            <a:off x="3920400" y="3020400"/>
            <a:ext cx="15948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4" idx="0"/>
            <a:endCxn id="282" idx="5"/>
          </p:cNvCxnSpPr>
          <p:nvPr/>
        </p:nvCxnSpPr>
        <p:spPr>
          <a:xfrm flipH="1" flipV="1" rot="5400000">
            <a:off x="3933360" y="2979360"/>
            <a:ext cx="264240" cy="54720"/>
          </a:xfrm>
          <a:prstGeom prst="curvedConnector5">
            <a:avLst>
              <a:gd name="adj1" fmla="val 46248"/>
              <a:gd name="adj2" fmla="val 49668"/>
              <a:gd name="adj3" fmla="val 462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4" idx="7"/>
            <a:endCxn id="283" idx="4"/>
          </p:cNvCxnSpPr>
          <p:nvPr/>
        </p:nvCxnSpPr>
        <p:spPr>
          <a:xfrm flipH="1" flipV="1" rot="5400000">
            <a:off x="4086000" y="3053880"/>
            <a:ext cx="111600" cy="99360"/>
          </a:xfrm>
          <a:prstGeom prst="curvedConnector5">
            <a:avLst>
              <a:gd name="adj1" fmla="val 59870"/>
              <a:gd name="adj2" fmla="val 49818"/>
              <a:gd name="adj3" fmla="val 5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4" idx="6"/>
            <a:endCxn id="284" idx="3"/>
          </p:cNvCxnSpPr>
          <p:nvPr/>
        </p:nvCxnSpPr>
        <p:spPr>
          <a:xfrm flipV="1">
            <a:off x="4114440" y="3102840"/>
            <a:ext cx="175320" cy="10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895480" y="4357800"/>
            <a:ext cx="152640" cy="137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5100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45864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46623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45100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45100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42814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41292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397656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41292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42051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"/>
          <p:cNvCxnSpPr>
            <a:stCxn id="295" idx="6"/>
            <a:endCxn id="296" idx="0"/>
          </p:cNvCxnSpPr>
          <p:nvPr/>
        </p:nvCxnSpPr>
        <p:spPr>
          <a:xfrm>
            <a:off x="3047760" y="4427280"/>
            <a:ext cx="22932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5" idx="5"/>
            <a:endCxn id="297" idx="0"/>
          </p:cNvCxnSpPr>
          <p:nvPr/>
        </p:nvCxnSpPr>
        <p:spPr>
          <a:xfrm flipH="1" rot="16200000">
            <a:off x="2981160" y="4519080"/>
            <a:ext cx="111960" cy="23040"/>
          </a:xfrm>
          <a:prstGeom prst="curvedConnector5">
            <a:avLst>
              <a:gd name="adj1" fmla="val 58387"/>
              <a:gd name="adj2" fmla="val 49206"/>
              <a:gd name="adj3" fmla="val 583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4"/>
            <a:endCxn id="298" idx="0"/>
          </p:cNvCxnSpPr>
          <p:nvPr/>
        </p:nvCxnSpPr>
        <p:spPr>
          <a:xfrm rot="5400000">
            <a:off x="2811600" y="4502160"/>
            <a:ext cx="167040" cy="153000"/>
          </a:xfrm>
          <a:prstGeom prst="curvedConnector5">
            <a:avLst>
              <a:gd name="adj1" fmla="val 49460"/>
              <a:gd name="adj2" fmla="val 50000"/>
              <a:gd name="adj3" fmla="val 494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5" idx="2"/>
            <a:endCxn id="300" idx="0"/>
          </p:cNvCxnSpPr>
          <p:nvPr/>
        </p:nvCxnSpPr>
        <p:spPr>
          <a:xfrm flipV="1" rot="10800000">
            <a:off x="2818800" y="4426560"/>
            <a:ext cx="7668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5" idx="2"/>
            <a:endCxn id="299" idx="0"/>
          </p:cNvCxnSpPr>
          <p:nvPr/>
        </p:nvCxnSpPr>
        <p:spPr>
          <a:xfrm flipV="1" rot="10800000">
            <a:off x="2590200" y="4426560"/>
            <a:ext cx="30528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5" idx="1"/>
            <a:endCxn id="301" idx="6"/>
          </p:cNvCxnSpPr>
          <p:nvPr/>
        </p:nvCxnSpPr>
        <p:spPr>
          <a:xfrm flipV="1" rot="16200000">
            <a:off x="2816280" y="4276800"/>
            <a:ext cx="27720" cy="175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295" idx="0"/>
            <a:endCxn id="302" idx="6"/>
          </p:cNvCxnSpPr>
          <p:nvPr/>
        </p:nvCxnSpPr>
        <p:spPr>
          <a:xfrm flipV="1" rot="16200000">
            <a:off x="2854080" y="4239720"/>
            <a:ext cx="15948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295" idx="0"/>
            <a:endCxn id="303" idx="5"/>
          </p:cNvCxnSpPr>
          <p:nvPr/>
        </p:nvCxnSpPr>
        <p:spPr>
          <a:xfrm flipH="1" flipV="1" rot="5400000">
            <a:off x="2866680" y="4198680"/>
            <a:ext cx="264240" cy="54720"/>
          </a:xfrm>
          <a:prstGeom prst="curvedConnector5">
            <a:avLst>
              <a:gd name="adj1" fmla="val 46248"/>
              <a:gd name="adj2" fmla="val 49668"/>
              <a:gd name="adj3" fmla="val 462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7"/>
            <a:endCxn id="304" idx="4"/>
          </p:cNvCxnSpPr>
          <p:nvPr/>
        </p:nvCxnSpPr>
        <p:spPr>
          <a:xfrm flipH="1" flipV="1" rot="5400000">
            <a:off x="3018960" y="4272840"/>
            <a:ext cx="111960" cy="99000"/>
          </a:xfrm>
          <a:prstGeom prst="curvedConnector5">
            <a:avLst>
              <a:gd name="adj1" fmla="val 60000"/>
              <a:gd name="adj2" fmla="val 50000"/>
              <a:gd name="adj3" fmla="val 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5" idx="6"/>
            <a:endCxn id="305" idx="3"/>
          </p:cNvCxnSpPr>
          <p:nvPr/>
        </p:nvCxnSpPr>
        <p:spPr>
          <a:xfrm flipV="1">
            <a:off x="3047760" y="4322160"/>
            <a:ext cx="175320" cy="10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5029200" y="3900600"/>
            <a:ext cx="152280" cy="137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4120" y="40528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1292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42051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40528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40528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382428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6720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35193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3672000"/>
            <a:ext cx="15264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37479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16" idx="6"/>
            <a:endCxn id="317" idx="0"/>
          </p:cNvCxnSpPr>
          <p:nvPr/>
        </p:nvCxnSpPr>
        <p:spPr>
          <a:xfrm>
            <a:off x="5181120" y="3970080"/>
            <a:ext cx="22932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6" idx="5"/>
            <a:endCxn id="318" idx="0"/>
          </p:cNvCxnSpPr>
          <p:nvPr/>
        </p:nvCxnSpPr>
        <p:spPr>
          <a:xfrm flipH="1" rot="16200000">
            <a:off x="5113800" y="4062240"/>
            <a:ext cx="111960" cy="22680"/>
          </a:xfrm>
          <a:prstGeom prst="curvedConnector5">
            <a:avLst>
              <a:gd name="adj1" fmla="val 58387"/>
              <a:gd name="adj2" fmla="val 50000"/>
              <a:gd name="adj3" fmla="val 583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16" idx="4"/>
            <a:endCxn id="319" idx="0"/>
          </p:cNvCxnSpPr>
          <p:nvPr/>
        </p:nvCxnSpPr>
        <p:spPr>
          <a:xfrm rot="5400000">
            <a:off x="4945320" y="4044960"/>
            <a:ext cx="167040" cy="153360"/>
          </a:xfrm>
          <a:prstGeom prst="curvedConnector5">
            <a:avLst>
              <a:gd name="adj1" fmla="val 49460"/>
              <a:gd name="adj2" fmla="val 49882"/>
              <a:gd name="adj3" fmla="val 494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6" idx="2"/>
            <a:endCxn id="321" idx="0"/>
          </p:cNvCxnSpPr>
          <p:nvPr/>
        </p:nvCxnSpPr>
        <p:spPr>
          <a:xfrm flipV="1" rot="10800000">
            <a:off x="4952880" y="3969360"/>
            <a:ext cx="7668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6" idx="2"/>
            <a:endCxn id="320" idx="0"/>
          </p:cNvCxnSpPr>
          <p:nvPr/>
        </p:nvCxnSpPr>
        <p:spPr>
          <a:xfrm flipV="1" rot="10800000">
            <a:off x="4723560" y="3969360"/>
            <a:ext cx="30564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16" idx="1"/>
            <a:endCxn id="322" idx="6"/>
          </p:cNvCxnSpPr>
          <p:nvPr/>
        </p:nvCxnSpPr>
        <p:spPr>
          <a:xfrm flipV="1" rot="16200000">
            <a:off x="4950000" y="3819600"/>
            <a:ext cx="27720" cy="175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16" idx="0"/>
            <a:endCxn id="323" idx="6"/>
          </p:cNvCxnSpPr>
          <p:nvPr/>
        </p:nvCxnSpPr>
        <p:spPr>
          <a:xfrm flipV="1" rot="16200000">
            <a:off x="4987800" y="3782520"/>
            <a:ext cx="15948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16" idx="0"/>
            <a:endCxn id="324" idx="5"/>
          </p:cNvCxnSpPr>
          <p:nvPr/>
        </p:nvCxnSpPr>
        <p:spPr>
          <a:xfrm flipH="1" flipV="1" rot="5400000">
            <a:off x="5000400" y="3741480"/>
            <a:ext cx="264240" cy="54720"/>
          </a:xfrm>
          <a:prstGeom prst="curvedConnector5">
            <a:avLst>
              <a:gd name="adj1" fmla="val 46248"/>
              <a:gd name="adj2" fmla="val 49668"/>
              <a:gd name="adj3" fmla="val 462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16" idx="7"/>
            <a:endCxn id="325" idx="4"/>
          </p:cNvCxnSpPr>
          <p:nvPr/>
        </p:nvCxnSpPr>
        <p:spPr>
          <a:xfrm flipH="1" flipV="1" rot="5400000">
            <a:off x="5152680" y="3815640"/>
            <a:ext cx="111960" cy="99000"/>
          </a:xfrm>
          <a:prstGeom prst="curvedConnector5">
            <a:avLst>
              <a:gd name="adj1" fmla="val 60000"/>
              <a:gd name="adj2" fmla="val 50000"/>
              <a:gd name="adj3" fmla="val 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16" idx="6"/>
            <a:endCxn id="326" idx="3"/>
          </p:cNvCxnSpPr>
          <p:nvPr/>
        </p:nvCxnSpPr>
        <p:spPr>
          <a:xfrm flipV="1">
            <a:off x="5181120" y="3864960"/>
            <a:ext cx="175320" cy="10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4267080" y="5195880"/>
            <a:ext cx="152640" cy="138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53481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54244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55008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53481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53481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51195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49672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4815000"/>
            <a:ext cx="15264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49672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0436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"/>
          <p:cNvCxnSpPr>
            <a:stCxn id="337" idx="6"/>
            <a:endCxn id="338" idx="0"/>
          </p:cNvCxnSpPr>
          <p:nvPr/>
        </p:nvCxnSpPr>
        <p:spPr>
          <a:xfrm>
            <a:off x="4419360" y="5265360"/>
            <a:ext cx="22932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7" idx="5"/>
            <a:endCxn id="339" idx="0"/>
          </p:cNvCxnSpPr>
          <p:nvPr/>
        </p:nvCxnSpPr>
        <p:spPr>
          <a:xfrm flipH="1" rot="16200000">
            <a:off x="4352760" y="5357160"/>
            <a:ext cx="111960" cy="23040"/>
          </a:xfrm>
          <a:prstGeom prst="curvedConnector5">
            <a:avLst>
              <a:gd name="adj1" fmla="val 58387"/>
              <a:gd name="adj2" fmla="val 49206"/>
              <a:gd name="adj3" fmla="val 583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7" idx="4"/>
            <a:endCxn id="340" idx="0"/>
          </p:cNvCxnSpPr>
          <p:nvPr/>
        </p:nvCxnSpPr>
        <p:spPr>
          <a:xfrm rot="5400000">
            <a:off x="4183200" y="5340600"/>
            <a:ext cx="167040" cy="153000"/>
          </a:xfrm>
          <a:prstGeom prst="curvedConnector5">
            <a:avLst>
              <a:gd name="adj1" fmla="val 49460"/>
              <a:gd name="adj2" fmla="val 50000"/>
              <a:gd name="adj3" fmla="val 494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7" idx="2"/>
            <a:endCxn id="342" idx="0"/>
          </p:cNvCxnSpPr>
          <p:nvPr/>
        </p:nvCxnSpPr>
        <p:spPr>
          <a:xfrm flipV="1" rot="10800000">
            <a:off x="4190400" y="5264640"/>
            <a:ext cx="7668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37" idx="2"/>
            <a:endCxn id="341" idx="0"/>
          </p:cNvCxnSpPr>
          <p:nvPr/>
        </p:nvCxnSpPr>
        <p:spPr>
          <a:xfrm flipV="1" rot="10800000">
            <a:off x="3961800" y="5264640"/>
            <a:ext cx="30528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37" idx="1"/>
            <a:endCxn id="343" idx="6"/>
          </p:cNvCxnSpPr>
          <p:nvPr/>
        </p:nvCxnSpPr>
        <p:spPr>
          <a:xfrm flipV="1" rot="16200000">
            <a:off x="4187880" y="5114880"/>
            <a:ext cx="27720" cy="175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37" idx="0"/>
            <a:endCxn id="344" idx="6"/>
          </p:cNvCxnSpPr>
          <p:nvPr/>
        </p:nvCxnSpPr>
        <p:spPr>
          <a:xfrm flipV="1" rot="16200000">
            <a:off x="4225680" y="5077800"/>
            <a:ext cx="15948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7" idx="0"/>
            <a:endCxn id="345" idx="5"/>
          </p:cNvCxnSpPr>
          <p:nvPr/>
        </p:nvCxnSpPr>
        <p:spPr>
          <a:xfrm flipH="1" flipV="1" rot="5400000">
            <a:off x="4238280" y="5036760"/>
            <a:ext cx="264240" cy="54720"/>
          </a:xfrm>
          <a:prstGeom prst="curvedConnector5">
            <a:avLst>
              <a:gd name="adj1" fmla="val 46248"/>
              <a:gd name="adj2" fmla="val 49668"/>
              <a:gd name="adj3" fmla="val 462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37" idx="7"/>
            <a:endCxn id="346" idx="4"/>
          </p:cNvCxnSpPr>
          <p:nvPr/>
        </p:nvCxnSpPr>
        <p:spPr>
          <a:xfrm flipH="1" flipV="1" rot="5400000">
            <a:off x="4390560" y="5111280"/>
            <a:ext cx="111600" cy="99000"/>
          </a:xfrm>
          <a:prstGeom prst="curvedConnector5">
            <a:avLst>
              <a:gd name="adj1" fmla="val 59870"/>
              <a:gd name="adj2" fmla="val 50000"/>
              <a:gd name="adj3" fmla="val 5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37" idx="6"/>
            <a:endCxn id="347" idx="3"/>
          </p:cNvCxnSpPr>
          <p:nvPr/>
        </p:nvCxnSpPr>
        <p:spPr>
          <a:xfrm flipV="1">
            <a:off x="4419360" y="5160240"/>
            <a:ext cx="175320" cy="10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6248520" y="4586400"/>
            <a:ext cx="152280" cy="137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473868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15000"/>
            <a:ext cx="15264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489096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473868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473868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451008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357800"/>
            <a:ext cx="15264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4205160"/>
            <a:ext cx="15228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00800" y="4357800"/>
            <a:ext cx="152280" cy="13788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4433760"/>
            <a:ext cx="152640" cy="1382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58" idx="6"/>
            <a:endCxn id="359" idx="0"/>
          </p:cNvCxnSpPr>
          <p:nvPr/>
        </p:nvCxnSpPr>
        <p:spPr>
          <a:xfrm>
            <a:off x="6400440" y="4655880"/>
            <a:ext cx="22932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8" idx="5"/>
            <a:endCxn id="360" idx="0"/>
          </p:cNvCxnSpPr>
          <p:nvPr/>
        </p:nvCxnSpPr>
        <p:spPr>
          <a:xfrm flipH="1" rot="16200000">
            <a:off x="6333840" y="4747680"/>
            <a:ext cx="111960" cy="23040"/>
          </a:xfrm>
          <a:prstGeom prst="curvedConnector5">
            <a:avLst>
              <a:gd name="adj1" fmla="val 58387"/>
              <a:gd name="adj2" fmla="val 49206"/>
              <a:gd name="adj3" fmla="val 583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8" idx="4"/>
            <a:endCxn id="361" idx="0"/>
          </p:cNvCxnSpPr>
          <p:nvPr/>
        </p:nvCxnSpPr>
        <p:spPr>
          <a:xfrm rot="5400000">
            <a:off x="6164280" y="4730760"/>
            <a:ext cx="167040" cy="153000"/>
          </a:xfrm>
          <a:prstGeom prst="curvedConnector5">
            <a:avLst>
              <a:gd name="adj1" fmla="val 49460"/>
              <a:gd name="adj2" fmla="val 50000"/>
              <a:gd name="adj3" fmla="val 494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58" idx="2"/>
            <a:endCxn id="363" idx="0"/>
          </p:cNvCxnSpPr>
          <p:nvPr/>
        </p:nvCxnSpPr>
        <p:spPr>
          <a:xfrm flipV="1" rot="10800000">
            <a:off x="6172200" y="4655160"/>
            <a:ext cx="7668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58" idx="2"/>
            <a:endCxn id="362" idx="0"/>
          </p:cNvCxnSpPr>
          <p:nvPr/>
        </p:nvCxnSpPr>
        <p:spPr>
          <a:xfrm flipV="1" rot="10800000">
            <a:off x="5942880" y="4655160"/>
            <a:ext cx="305640" cy="83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58" idx="1"/>
            <a:endCxn id="364" idx="6"/>
          </p:cNvCxnSpPr>
          <p:nvPr/>
        </p:nvCxnSpPr>
        <p:spPr>
          <a:xfrm flipV="1" rot="16200000">
            <a:off x="6168960" y="4505400"/>
            <a:ext cx="27720" cy="175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58" idx="0"/>
            <a:endCxn id="365" idx="6"/>
          </p:cNvCxnSpPr>
          <p:nvPr/>
        </p:nvCxnSpPr>
        <p:spPr>
          <a:xfrm flipV="1" rot="16200000">
            <a:off x="6206400" y="4468320"/>
            <a:ext cx="15948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58" idx="0"/>
            <a:endCxn id="366" idx="5"/>
          </p:cNvCxnSpPr>
          <p:nvPr/>
        </p:nvCxnSpPr>
        <p:spPr>
          <a:xfrm flipH="1" flipV="1" rot="5400000">
            <a:off x="6219360" y="4427280"/>
            <a:ext cx="264240" cy="54720"/>
          </a:xfrm>
          <a:prstGeom prst="curvedConnector5">
            <a:avLst>
              <a:gd name="adj1" fmla="val 46248"/>
              <a:gd name="adj2" fmla="val 49668"/>
              <a:gd name="adj3" fmla="val 462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58" idx="7"/>
            <a:endCxn id="367" idx="4"/>
          </p:cNvCxnSpPr>
          <p:nvPr/>
        </p:nvCxnSpPr>
        <p:spPr>
          <a:xfrm flipH="1" flipV="1" rot="5400000">
            <a:off x="6372000" y="4501440"/>
            <a:ext cx="111960" cy="99360"/>
          </a:xfrm>
          <a:prstGeom prst="curvedConnector5">
            <a:avLst>
              <a:gd name="adj1" fmla="val 60000"/>
              <a:gd name="adj2" fmla="val 49818"/>
              <a:gd name="adj3" fmla="val 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58" idx="6"/>
            <a:endCxn id="368" idx="3"/>
          </p:cNvCxnSpPr>
          <p:nvPr/>
        </p:nvCxnSpPr>
        <p:spPr>
          <a:xfrm flipV="1">
            <a:off x="6400440" y="4550760"/>
            <a:ext cx="175320" cy="10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274" idx="6"/>
            <a:endCxn id="316" idx="0"/>
          </p:cNvCxnSpPr>
          <p:nvPr/>
        </p:nvCxnSpPr>
        <p:spPr>
          <a:xfrm>
            <a:off x="4114800" y="3207960"/>
            <a:ext cx="99144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16" idx="6"/>
            <a:endCxn id="358" idx="0"/>
          </p:cNvCxnSpPr>
          <p:nvPr/>
        </p:nvCxnSpPr>
        <p:spPr>
          <a:xfrm>
            <a:off x="5181120" y="3970080"/>
            <a:ext cx="114372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16" idx="4"/>
          </p:cNvCxnSpPr>
          <p:nvPr/>
        </p:nvCxnSpPr>
        <p:spPr>
          <a:xfrm rot="5400000">
            <a:off x="4145040" y="4235400"/>
            <a:ext cx="1157760" cy="762840"/>
          </a:xfrm>
          <a:prstGeom prst="curvedConnector5">
            <a:avLst>
              <a:gd name="adj1" fmla="val 49922"/>
              <a:gd name="adj2" fmla="val 50000"/>
              <a:gd name="adj3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274" idx="4"/>
          </p:cNvCxnSpPr>
          <p:nvPr/>
        </p:nvCxnSpPr>
        <p:spPr>
          <a:xfrm rot="5400000">
            <a:off x="2963880" y="3283560"/>
            <a:ext cx="1081800" cy="106740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1: Crawling as an hones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2: Testing by tampering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676C-BC94-47FC-AEC1-B3AC5F046909}" type="slidenum">
              <a:t>10</a:t>
            </a:fld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1">
                                  <p:stCondLst>
                                    <p:cond delay="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1">
                                  <p:stCondLst>
                                    <p:cond delay="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1">
                                  <p:stCondLst>
                                    <p:cond delay="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1">
                                  <p:stCondLst>
                                    <p:cond delay="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1">
                                  <p:stCondLst>
                                    <p:cond delay="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scann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scan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r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exampl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aling with validatio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743120"/>
            <a:ext cx="3047760" cy="3952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A9AF-D456-4535-972C-E2771993FE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7 L 5.55112E-017 0.0537 E">
                                      <p:cBhvr>
                                        <p:cTn id="810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41400" y="1603440"/>
            <a:ext cx="7458120" cy="33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username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password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password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* from tUsers where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"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useri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u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ername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AND passwor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password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ResultSet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cting SQL Injection (White Box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6083280" y="3581280"/>
            <a:ext cx="3060720" cy="750960"/>
          </a:xfrm>
          <a:prstGeom prst="wedgeRoundRectCallout">
            <a:avLst>
              <a:gd name="adj1" fmla="val -107365"/>
              <a:gd name="adj2" fmla="val -74736"/>
              <a:gd name="adj3" fmla="val 16667"/>
            </a:avLst>
          </a:prstGeom>
          <a:gradFill rotWithShape="0">
            <a:gsLst>
              <a:gs pos="0">
                <a:srgbClr val="baccdd"/>
              </a:gs>
              <a:gs pos="100000">
                <a:srgbClr val="f4f7f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 can change executed SQL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49840" y="5448240"/>
            <a:ext cx="2376360" cy="723960"/>
          </a:xfrm>
          <a:prstGeom prst="wedgeRoundRectCallout">
            <a:avLst>
              <a:gd name="adj1" fmla="val -64694"/>
              <a:gd name="adj2" fmla="val -177412"/>
              <a:gd name="adj3" fmla="val 16667"/>
            </a:avLst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a potent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gerou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066680"/>
            <a:ext cx="3060720" cy="750960"/>
          </a:xfrm>
          <a:prstGeom prst="wedgeRoundRectCallout">
            <a:avLst>
              <a:gd name="adj1" fmla="val -70851"/>
              <a:gd name="adj2" fmla="val 78754"/>
              <a:gd name="adj3" fmla="val 16667"/>
            </a:avLst>
          </a:prstGeom>
          <a:gradFill rotWithShape="0">
            <a:gsLst>
              <a:gs pos="0">
                <a:srgbClr val="baccdd"/>
              </a:gs>
              <a:gs pos="100000">
                <a:srgbClr val="f4f7f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a method returning tainted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FDFA-B3F5-4D8A-A5F9-C2B321A1EA22}" type="slidenum">
              <a:t>12</a:t>
            </a:fld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41400" y="1603440"/>
            <a:ext cx="7458120" cy="33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password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password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useri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u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ername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AND passwor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password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1295280"/>
            <a:ext cx="655308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b6db"/>
              </a:gs>
              <a:gs pos="100000">
                <a:srgbClr val="a6c3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tring username = request.getParameter</a:t>
            </a:r>
            <a:r>
              <a:rPr b="1" sz="18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"</a:t>
            </a:r>
            <a:r>
              <a:rPr b="1" sz="18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29292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3581280"/>
            <a:ext cx="601992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b6db"/>
              </a:gs>
              <a:gs pos="100000">
                <a:srgbClr val="a6c3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tring 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…"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us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4800600"/>
            <a:ext cx="601956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ResultSet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49280" y="200016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username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49280" y="298116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* from tUsers where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"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+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57200" y="420840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ResultSet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3962520"/>
            <a:ext cx="3791160" cy="1003320"/>
          </a:xfrm>
          <a:custGeom>
            <a:avLst/>
            <a:gdLst/>
            <a:ahLst/>
            <a:rect l="l" t="t" r="r" b="b"/>
            <a:pathLst>
              <a:path w="2388" h="632">
                <a:moveTo>
                  <a:pt x="0" y="0"/>
                </a:moveTo>
                <a:cubicBezTo>
                  <a:pt x="196" y="300"/>
                  <a:pt x="2216" y="136"/>
                  <a:pt x="2388" y="632"/>
                </a:cubicBezTo>
              </a:path>
            </a:pathLst>
          </a:custGeom>
          <a:noFill/>
          <a:ln w="5724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1828800"/>
            <a:ext cx="2743200" cy="1905120"/>
          </a:xfrm>
          <a:custGeom>
            <a:avLst/>
            <a:gdLst/>
            <a:ahLst/>
            <a:rect l="l" t="t" r="r" b="b"/>
            <a:pathLst>
              <a:path w="1776" h="1296">
                <a:moveTo>
                  <a:pt x="0" y="0"/>
                </a:moveTo>
                <a:cubicBezTo>
                  <a:pt x="196" y="300"/>
                  <a:pt x="1604" y="800"/>
                  <a:pt x="1776" y="1296"/>
                </a:cubicBezTo>
              </a:path>
            </a:pathLst>
          </a:custGeom>
          <a:noFill/>
          <a:ln w="5724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876920" y="874800"/>
            <a:ext cx="608040" cy="649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cting SQL Injection (White Box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AF00-44B1-40D3-B139-4C82EBA5732A}" type="slidenum">
              <a:t>13</a:t>
            </a:fld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526E-006 C -8.33333E-007 0.00023 0.08629 0.0326 0.09306 0.09896 E">
                                      <p:cBhvr>
                                        <p:cTn id="83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C 0.00782 -0.03264 0.00521 -0.0831 -0.01493 -0.08773 E">
                                      <p:cBhvr>
                                        <p:cTn id="835" dur="1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6763E-006 C 0.02049 0.02104 0.02691 0.07815 0.02639 0.10358 E">
                                      <p:cBhvr>
                                        <p:cTn id="837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-0.27482 1.48148E-006 E">
                                      <p:cBhvr>
                                        <p:cTn id="867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82 1.48148E-006 C -0.2651 0.02106 -0.2658 0.07731 -0.21649 0.12662 C -0.16718 0.17592 -0.02743 0.26088 0.02101 0.29606 C 0.06945 0.33125 0.06302 0.32893 0.07414 0.33773 E">
                                      <p:cBhvr>
                                        <p:cTn id="875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05 0.33634 L -0.26024 0.33634 E">
                                      <p:cBhvr>
                                        <p:cTn id="878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0.33611 C -0.2493 0.34954 -0.25434 0.39421 -0.19461 0.4169 C -0.18107 0.42778 0.03247 0.45648 0.09809 0.47245 C 0.16372 0.48842 0.17813 0.5044 0.19914 0.51273 E">
                                      <p:cBhvr>
                                        <p:cTn id="885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0" dur="250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250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81000" y="1603440"/>
            <a:ext cx="7458120" cy="33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username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password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password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* from tUsers where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"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useri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u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ername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AND passwor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password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ResultSet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81000" y="1604880"/>
            <a:ext cx="7458120" cy="33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username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password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password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* from tUsers where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"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useri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Encode(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u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ername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)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AND passwor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Encode(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password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)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ResultSet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mmon Fix (not the best on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5257800"/>
            <a:ext cx="3962520" cy="1066680"/>
          </a:xfrm>
          <a:prstGeom prst="wedgeRoundRectCallout">
            <a:avLst>
              <a:gd name="adj1" fmla="val 21953"/>
              <a:gd name="adj2" fmla="val -211310"/>
              <a:gd name="adj3" fmla="val 16667"/>
            </a:avLst>
          </a:prstGeom>
          <a:gradFill rotWithShape="0">
            <a:gsLst>
              <a:gs pos="0">
                <a:srgbClr val="91db96"/>
              </a:gs>
              <a:gs pos="100000">
                <a:srgbClr val="a6e1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nitiz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ethod retu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non-tainted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160640" y="5105520"/>
            <a:ext cx="896760" cy="1066680"/>
            <a:chOff x="1160640" y="5105520"/>
            <a:chExt cx="896760" cy="1066680"/>
          </a:xfrm>
        </p:grpSpPr>
        <p:sp>
          <p:nvSpPr>
            <p:cNvPr id="408" name=""/>
            <p:cNvSpPr/>
            <p:nvPr/>
          </p:nvSpPr>
          <p:spPr>
            <a:xfrm>
              <a:off x="1473840" y="5562000"/>
              <a:ext cx="512280" cy="199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160640" y="5105520"/>
              <a:ext cx="8967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041D-CFB2-480B-A77A-DE2C0600371A}" type="slidenum">
              <a:t>14</a:t>
            </a:fld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638680" y="4162320"/>
            <a:ext cx="221004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76520" y="1295280"/>
            <a:ext cx="25146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WB Scanners Wor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1981080" y="1461960"/>
            <a:ext cx="379440" cy="366840"/>
          </a:xfrm>
          <a:prstGeom prst="ellipse">
            <a:avLst/>
          </a:prstGeom>
          <a:gradFill rotWithShape="0">
            <a:gsLst>
              <a:gs pos="0">
                <a:srgbClr val="91b6db"/>
              </a:gs>
              <a:gs pos="100000">
                <a:srgbClr val="a6c3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2209680"/>
            <a:ext cx="379440" cy="366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1461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5910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in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3762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nitiz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447920"/>
            <a:ext cx="379440" cy="366480"/>
          </a:xfrm>
          <a:prstGeom prst="ellipse">
            <a:avLst/>
          </a:prstGeom>
          <a:gradFill rotWithShape="0">
            <a:gsLst>
              <a:gs pos="0">
                <a:srgbClr val="91b6db"/>
              </a:gs>
              <a:gs pos="100000">
                <a:srgbClr val="a6c3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83080" y="1461960"/>
            <a:ext cx="379440" cy="366840"/>
          </a:xfrm>
          <a:prstGeom prst="ellipse">
            <a:avLst/>
          </a:prstGeom>
          <a:gradFill rotWithShape="0">
            <a:gsLst>
              <a:gs pos="0">
                <a:srgbClr val="91b6db"/>
              </a:gs>
              <a:gs pos="100000">
                <a:srgbClr val="a6c3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76520" y="5715000"/>
            <a:ext cx="4114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1080" y="5881680"/>
            <a:ext cx="379440" cy="3668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5867280"/>
            <a:ext cx="379440" cy="3668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83080" y="5881680"/>
            <a:ext cx="379440" cy="3668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5881680"/>
            <a:ext cx="379440" cy="3668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3280" y="5881680"/>
            <a:ext cx="379440" cy="366840"/>
          </a:xfrm>
          <a:prstGeom prst="ellipse">
            <a:avLst/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3581280"/>
            <a:ext cx="35049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81080" y="3747960"/>
            <a:ext cx="379440" cy="366840"/>
          </a:xfrm>
          <a:prstGeom prst="ellipse">
            <a:avLst/>
          </a:prstGeom>
          <a:gradFill rotWithShape="0">
            <a:gsLst>
              <a:gs pos="0">
                <a:srgbClr val="91db96"/>
              </a:gs>
              <a:gs pos="100000">
                <a:srgbClr val="a6e1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3733920"/>
            <a:ext cx="379440" cy="366480"/>
          </a:xfrm>
          <a:prstGeom prst="ellipse">
            <a:avLst/>
          </a:prstGeom>
          <a:gradFill rotWithShape="0">
            <a:gsLst>
              <a:gs pos="0">
                <a:srgbClr val="91db96"/>
              </a:gs>
              <a:gs pos="100000">
                <a:srgbClr val="a6e1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83080" y="3747960"/>
            <a:ext cx="379440" cy="366840"/>
          </a:xfrm>
          <a:prstGeom prst="ellipse">
            <a:avLst/>
          </a:prstGeom>
          <a:gradFill rotWithShape="0">
            <a:gsLst>
              <a:gs pos="0">
                <a:srgbClr val="91db96"/>
              </a:gs>
              <a:gs pos="100000">
                <a:srgbClr val="a6e1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419720" y="3747960"/>
            <a:ext cx="379440" cy="366840"/>
          </a:xfrm>
          <a:prstGeom prst="ellipse">
            <a:avLst/>
          </a:prstGeom>
          <a:gradFill rotWithShape="0">
            <a:gsLst>
              <a:gs pos="0">
                <a:srgbClr val="91db96"/>
              </a:gs>
              <a:gs pos="100000">
                <a:srgbClr val="a6e1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1320" y="4343400"/>
            <a:ext cx="379440" cy="366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2590920"/>
            <a:ext cx="379440" cy="366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2590920"/>
            <a:ext cx="379440" cy="366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74760" y="1828800"/>
            <a:ext cx="568440" cy="533520"/>
          </a:xfrm>
          <a:custGeom>
            <a:avLst/>
            <a:gdLst/>
            <a:ahLst/>
            <a:rect l="l" t="t" r="r" b="b"/>
            <a:pathLst>
              <a:path w="358" h="336">
                <a:moveTo>
                  <a:pt x="22" y="0"/>
                </a:moveTo>
                <a:cubicBezTo>
                  <a:pt x="28" y="30"/>
                  <a:pt x="0" y="127"/>
                  <a:pt x="56" y="183"/>
                </a:cubicBezTo>
                <a:cubicBezTo>
                  <a:pt x="112" y="239"/>
                  <a:pt x="295" y="304"/>
                  <a:pt x="358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2327400"/>
            <a:ext cx="685800" cy="263520"/>
          </a:xfrm>
          <a:custGeom>
            <a:avLst/>
            <a:gdLst/>
            <a:ahLst/>
            <a:rect l="l" t="t" r="r" b="b"/>
            <a:pathLst>
              <a:path w="432" h="166">
                <a:moveTo>
                  <a:pt x="0" y="22"/>
                </a:moveTo>
                <a:cubicBezTo>
                  <a:pt x="51" y="22"/>
                  <a:pt x="237" y="0"/>
                  <a:pt x="309" y="24"/>
                </a:cubicBezTo>
                <a:cubicBezTo>
                  <a:pt x="381" y="48"/>
                  <a:pt x="407" y="137"/>
                  <a:pt x="432" y="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2933640"/>
            <a:ext cx="838080" cy="80028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96" y="24"/>
                </a:moveTo>
                <a:cubicBezTo>
                  <a:pt x="48" y="12"/>
                  <a:pt x="0" y="0"/>
                  <a:pt x="48" y="24"/>
                </a:cubicBezTo>
                <a:cubicBezTo>
                  <a:pt x="96" y="48"/>
                  <a:pt x="336" y="120"/>
                  <a:pt x="384" y="168"/>
                </a:cubicBezTo>
                <a:cubicBezTo>
                  <a:pt x="432" y="216"/>
                  <a:pt x="312" y="256"/>
                  <a:pt x="336" y="312"/>
                </a:cubicBezTo>
                <a:cubicBezTo>
                  <a:pt x="360" y="368"/>
                  <a:pt x="444" y="436"/>
                  <a:pt x="528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13240" y="4114800"/>
            <a:ext cx="247680" cy="801720"/>
          </a:xfrm>
          <a:custGeom>
            <a:avLst/>
            <a:gdLst/>
            <a:ahLst/>
            <a:rect l="l" t="t" r="r" b="b"/>
            <a:pathLst>
              <a:path w="156" h="505">
                <a:moveTo>
                  <a:pt x="108" y="0"/>
                </a:moveTo>
                <a:cubicBezTo>
                  <a:pt x="91" y="34"/>
                  <a:pt x="0" y="144"/>
                  <a:pt x="8" y="205"/>
                </a:cubicBezTo>
                <a:cubicBezTo>
                  <a:pt x="16" y="266"/>
                  <a:pt x="152" y="319"/>
                  <a:pt x="154" y="369"/>
                </a:cubicBezTo>
                <a:cubicBezTo>
                  <a:pt x="156" y="419"/>
                  <a:pt x="46" y="477"/>
                  <a:pt x="17" y="5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2819520"/>
            <a:ext cx="1981080" cy="1523880"/>
          </a:xfrm>
          <a:custGeom>
            <a:avLst/>
            <a:gdLst/>
            <a:ahLst/>
            <a:rect l="l" t="t" r="r" b="b"/>
            <a:pathLst>
              <a:path w="1248" h="960">
                <a:moveTo>
                  <a:pt x="0" y="0"/>
                </a:moveTo>
                <a:cubicBezTo>
                  <a:pt x="228" y="4"/>
                  <a:pt x="456" y="8"/>
                  <a:pt x="624" y="48"/>
                </a:cubicBezTo>
                <a:cubicBezTo>
                  <a:pt x="792" y="88"/>
                  <a:pt x="904" y="88"/>
                  <a:pt x="1008" y="240"/>
                </a:cubicBezTo>
                <a:cubicBezTo>
                  <a:pt x="1112" y="392"/>
                  <a:pt x="1180" y="676"/>
                  <a:pt x="124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4724280"/>
            <a:ext cx="1219320" cy="1143000"/>
          </a:xfrm>
          <a:custGeom>
            <a:avLst/>
            <a:gdLst/>
            <a:ahLst/>
            <a:rect l="l" t="t" r="r" b="b"/>
            <a:pathLst>
              <a:path w="768" h="720">
                <a:moveTo>
                  <a:pt x="768" y="0"/>
                </a:moveTo>
                <a:cubicBezTo>
                  <a:pt x="640" y="16"/>
                  <a:pt x="512" y="32"/>
                  <a:pt x="480" y="96"/>
                </a:cubicBezTo>
                <a:cubicBezTo>
                  <a:pt x="448" y="160"/>
                  <a:pt x="656" y="280"/>
                  <a:pt x="576" y="384"/>
                </a:cubicBezTo>
                <a:cubicBezTo>
                  <a:pt x="496" y="488"/>
                  <a:pt x="248" y="604"/>
                  <a:pt x="0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314280"/>
            <a:ext cx="4038840" cy="235260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Many injection 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SQLi, X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LogForging, PathTravers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Remote code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Courier Ne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206800" y="2576520"/>
            <a:ext cx="717480" cy="196920"/>
          </a:xfrm>
          <a:custGeom>
            <a:avLst/>
            <a:gdLst/>
            <a:ahLst/>
            <a:rect l="l" t="t" r="r" b="b"/>
            <a:pathLst>
              <a:path w="452" h="124">
                <a:moveTo>
                  <a:pt x="452" y="9"/>
                </a:moveTo>
                <a:cubicBezTo>
                  <a:pt x="438" y="28"/>
                  <a:pt x="410" y="124"/>
                  <a:pt x="365" y="123"/>
                </a:cubicBezTo>
                <a:cubicBezTo>
                  <a:pt x="320" y="122"/>
                  <a:pt x="244" y="8"/>
                  <a:pt x="183" y="4"/>
                </a:cubicBezTo>
                <a:cubicBezTo>
                  <a:pt x="122" y="0"/>
                  <a:pt x="38" y="77"/>
                  <a:pt x="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465120" cy="4971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465120" cy="497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1676520" y="2398680"/>
            <a:ext cx="465120" cy="496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3429000" y="2362320"/>
            <a:ext cx="465120" cy="4968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5"/>
          <a:stretch/>
        </p:blipFill>
        <p:spPr>
          <a:xfrm>
            <a:off x="5638680" y="4191120"/>
            <a:ext cx="465120" cy="4968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6"/>
          <a:stretch/>
        </p:blipFill>
        <p:spPr>
          <a:xfrm>
            <a:off x="4267080" y="5675400"/>
            <a:ext cx="465120" cy="496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7"/>
          <a:stretch/>
        </p:blipFill>
        <p:spPr>
          <a:xfrm>
            <a:off x="3429000" y="2362320"/>
            <a:ext cx="465120" cy="496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V="1" rot="16200000">
            <a:off x="3520440" y="4860720"/>
            <a:ext cx="160560" cy="801720"/>
          </a:xfrm>
          <a:custGeom>
            <a:avLst/>
            <a:gdLst/>
            <a:ahLst/>
            <a:rect l="l" t="t" r="r" b="b"/>
            <a:pathLst>
              <a:path w="156" h="505">
                <a:moveTo>
                  <a:pt x="108" y="0"/>
                </a:moveTo>
                <a:cubicBezTo>
                  <a:pt x="91" y="34"/>
                  <a:pt x="0" y="144"/>
                  <a:pt x="8" y="205"/>
                </a:cubicBezTo>
                <a:cubicBezTo>
                  <a:pt x="16" y="266"/>
                  <a:pt x="152" y="319"/>
                  <a:pt x="154" y="369"/>
                </a:cubicBezTo>
                <a:cubicBezTo>
                  <a:pt x="156" y="419"/>
                  <a:pt x="46" y="477"/>
                  <a:pt x="17" y="5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8"/>
          <a:stretch/>
        </p:blipFill>
        <p:spPr>
          <a:xfrm>
            <a:off x="4419720" y="3733920"/>
            <a:ext cx="514080" cy="4413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276960" y="4343400"/>
            <a:ext cx="379440" cy="366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50000" y="4343400"/>
            <a:ext cx="379440" cy="366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4343400"/>
            <a:ext cx="379440" cy="366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72080" y="4724280"/>
            <a:ext cx="1717560" cy="1148040"/>
          </a:xfrm>
          <a:custGeom>
            <a:avLst/>
            <a:gdLst/>
            <a:ahLst/>
            <a:rect l="l" t="t" r="r" b="b"/>
            <a:pathLst>
              <a:path w="1082" h="723">
                <a:moveTo>
                  <a:pt x="906" y="0"/>
                </a:moveTo>
                <a:cubicBezTo>
                  <a:pt x="921" y="45"/>
                  <a:pt x="1082" y="221"/>
                  <a:pt x="994" y="271"/>
                </a:cubicBezTo>
                <a:cubicBezTo>
                  <a:pt x="906" y="321"/>
                  <a:pt x="544" y="224"/>
                  <a:pt x="378" y="299"/>
                </a:cubicBezTo>
                <a:cubicBezTo>
                  <a:pt x="212" y="374"/>
                  <a:pt x="79" y="635"/>
                  <a:pt x="0" y="7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6172200" y="5486400"/>
            <a:ext cx="479520" cy="4856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5867280" y="4267080"/>
            <a:ext cx="465120" cy="497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705720" y="5334120"/>
            <a:ext cx="1676160" cy="642600"/>
          </a:xfrm>
          <a:prstGeom prst="rect">
            <a:avLst/>
          </a:prstGeom>
          <a:solidFill>
            <a:srgbClr val="e3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decidabl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B335-A1C0-4B72-A411-4589314752CD}" type="slidenum">
              <a:t>15</a:t>
            </a:fld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125 C 0.00104 0.01828 -0.00677 0.03449 0.00486 0.04722 C 0.01649 0.05995 0.06024 0.07638 0.06944 0.08888 C 0.07864 0.10138 0.0533 0.10486 0.06007 0.12152 C 0.06684 0.13819 0.0993 0.175 0.10955 0.18888 E">
                                      <p:cBhvr>
                                        <p:cTn id="1023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0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C 0.00382 -0.00139 0.00781 -0.00278 0.00417 0.00764 C 0.00052 0.01806 -0.02222 0.04421 -0.02188 0.06181 C -0.02153 0.0794 0.0118 0.09722 0.00625 0.11319 C 0.00069 0.12917 -0.04236 0.14884 -0.05521 0.1581 E">
                                      <p:cBhvr>
                                        <p:cTn id="1032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4300"/>
                            </p:stCondLst>
                            <p:childTnLst>
                              <p:par>
                                <p:cTn id="10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48148E-006 C 0.0257 -0.00578 0.05139 -0.01134 0.06667 -0.00393 C 0.08195 0.00348 0.08785 0.03288 0.09219 0.04445 C 0.09653 0.05602 0.09514 0.06135 0.09219 0.06551 C 0.08924 0.06968 0.08872 0.06899 0.07465 0.06945 C 0.06059 0.06991 0.02604 0.06505 0.00799 0.06806 C -0.01007 0.07107 -0.02378 0.08033 -0.03333 0.08774 C -0.04288 0.09514 -0.0441 0.10301 -0.05 0.1125 C -0.0559 0.122 -0.06337 0.13519 -0.06857 0.14514 C -0.07378 0.1551 -0.07969 0.16019 -0.08125 0.17269 C -0.08281 0.18519 -0.08055 0.20232 -0.0783 0.21968 E">
                                      <p:cBhvr>
                                        <p:cTn id="1129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scann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scan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r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exampl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aling with validatio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1176480" y="2090880"/>
            <a:ext cx="3319200" cy="3952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0561-2A14-4DD8-BCCD-1B58A9BEC2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-0.03889 0.06297 E">
                                      <p:cBhvr>
                                        <p:cTn id="117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B vs. WB – Paradigm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838080" y="1219320"/>
            <a:ext cx="7391160" cy="4800600"/>
            <a:chOff x="838080" y="1219320"/>
            <a:chExt cx="7391160" cy="4800600"/>
          </a:xfrm>
        </p:grpSpPr>
        <p:sp>
          <p:nvSpPr>
            <p:cNvPr id="463" name=""/>
            <p:cNvSpPr/>
            <p:nvPr/>
          </p:nvSpPr>
          <p:spPr>
            <a:xfrm>
              <a:off x="838080" y="1219320"/>
              <a:ext cx="7391160" cy="4800600"/>
            </a:xfrm>
            <a:prstGeom prst="roundRect">
              <a:avLst>
                <a:gd name="adj" fmla="val 9194"/>
              </a:avLst>
            </a:prstGeom>
            <a:gradFill rotWithShape="0">
              <a:gsLst>
                <a:gs pos="0">
                  <a:srgbClr val="7faad5"/>
                </a:gs>
                <a:gs pos="100000">
                  <a:srgbClr val="b9d0e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28440" y="1219320"/>
              <a:ext cx="0" cy="4800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3645000"/>
              <a:ext cx="739116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905120" y="1219320"/>
            <a:ext cx="5867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verly “guessing” behaviors that may introduce vulner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3657600"/>
            <a:ext cx="5867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s infinite numbers of behaviors in a finit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990720" y="2057400"/>
            <a:ext cx="731880" cy="1068120"/>
            <a:chOff x="990720" y="2057400"/>
            <a:chExt cx="731880" cy="1068120"/>
          </a:xfrm>
        </p:grpSpPr>
        <p:grpSp>
          <p:nvGrpSpPr>
            <p:cNvPr id="469" name=""/>
            <p:cNvGrpSpPr/>
            <p:nvPr/>
          </p:nvGrpSpPr>
          <p:grpSpPr>
            <a:xfrm>
              <a:off x="990720" y="2057400"/>
              <a:ext cx="731880" cy="761760"/>
              <a:chOff x="990720" y="2057400"/>
              <a:chExt cx="731880" cy="761760"/>
            </a:xfrm>
          </p:grpSpPr>
          <p:sp>
            <p:nvSpPr>
              <p:cNvPr id="470" name=""/>
              <p:cNvSpPr/>
              <p:nvPr/>
            </p:nvSpPr>
            <p:spPr>
              <a:xfrm>
                <a:off x="99072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136836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94320" y="2057400"/>
                <a:ext cx="723240" cy="324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1119600" y="275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990720" y="4343400"/>
            <a:ext cx="731880" cy="1068120"/>
            <a:chOff x="990720" y="4343400"/>
            <a:chExt cx="731880" cy="106812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1143000" y="4419360"/>
              <a:ext cx="46836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028880" y="50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990720" y="4343400"/>
              <a:ext cx="731880" cy="761760"/>
              <a:chOff x="990720" y="4343400"/>
              <a:chExt cx="731880" cy="761760"/>
            </a:xfrm>
          </p:grpSpPr>
          <p:sp>
            <p:nvSpPr>
              <p:cNvPr id="478" name=""/>
              <p:cNvSpPr/>
              <p:nvPr/>
            </p:nvSpPr>
            <p:spPr>
              <a:xfrm>
                <a:off x="990720" y="4483080"/>
                <a:ext cx="35388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1368360" y="4483080"/>
                <a:ext cx="35424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93600" y="4343400"/>
                <a:ext cx="723960" cy="32364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ececec">
                  <a:alpha val="70000"/>
                </a:srgbClr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6705720" y="2362320"/>
            <a:ext cx="1218600" cy="1051920"/>
            <a:chOff x="6705720" y="2362320"/>
            <a:chExt cx="1218600" cy="1051920"/>
          </a:xfrm>
        </p:grpSpPr>
        <p:sp>
          <p:nvSpPr>
            <p:cNvPr id="482" name=""/>
            <p:cNvSpPr/>
            <p:nvPr/>
          </p:nvSpPr>
          <p:spPr>
            <a:xfrm>
              <a:off x="7259760" y="2849040"/>
              <a:ext cx="221040" cy="176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02560" y="3043440"/>
              <a:ext cx="221760" cy="17640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70280" y="3140640"/>
              <a:ext cx="221760" cy="17604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38000" y="3237840"/>
              <a:ext cx="221760" cy="17640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5720" y="3043440"/>
              <a:ext cx="221760" cy="17640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38000" y="3043440"/>
              <a:ext cx="221760" cy="17640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16600" y="2751480"/>
              <a:ext cx="221040" cy="17640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8000" y="2557080"/>
              <a:ext cx="221760" cy="17604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59760" y="2362320"/>
              <a:ext cx="221040" cy="17640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481160" y="2557080"/>
              <a:ext cx="221040" cy="17604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02560" y="2653920"/>
              <a:ext cx="221760" cy="17640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2" idx="6"/>
              <a:endCxn id="483" idx="0"/>
            </p:cNvCxnSpPr>
            <p:nvPr/>
          </p:nvCxnSpPr>
          <p:spPr>
            <a:xfrm>
              <a:off x="7480800" y="2937960"/>
              <a:ext cx="333000" cy="105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2" idx="5"/>
              <a:endCxn id="484" idx="0"/>
            </p:cNvCxnSpPr>
            <p:nvPr/>
          </p:nvCxnSpPr>
          <p:spPr>
            <a:xfrm flipH="1" rot="16200000">
              <a:off x="7394040" y="3053520"/>
              <a:ext cx="142200" cy="32760"/>
            </a:xfrm>
            <a:prstGeom prst="curvedConnector5">
              <a:avLst>
                <a:gd name="adj1" fmla="val 58629"/>
                <a:gd name="adj2" fmla="val 50000"/>
                <a:gd name="adj3" fmla="val 586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4"/>
              <a:endCxn id="485" idx="0"/>
            </p:cNvCxnSpPr>
            <p:nvPr/>
          </p:nvCxnSpPr>
          <p:spPr>
            <a:xfrm rot="5400000">
              <a:off x="7152480" y="3020760"/>
              <a:ext cx="213480" cy="221760"/>
            </a:xfrm>
            <a:prstGeom prst="curvedConnector5">
              <a:avLst>
                <a:gd name="adj1" fmla="val 49493"/>
                <a:gd name="adj2" fmla="val 49918"/>
                <a:gd name="adj3" fmla="val 494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82" idx="2"/>
              <a:endCxn id="487" idx="0"/>
            </p:cNvCxnSpPr>
            <p:nvPr/>
          </p:nvCxnSpPr>
          <p:spPr>
            <a:xfrm flipV="1" rot="10800000">
              <a:off x="7148160" y="2937600"/>
              <a:ext cx="111600" cy="105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82" idx="2"/>
              <a:endCxn id="486" idx="0"/>
            </p:cNvCxnSpPr>
            <p:nvPr/>
          </p:nvCxnSpPr>
          <p:spPr>
            <a:xfrm flipV="1" rot="10800000">
              <a:off x="6815880" y="2937600"/>
              <a:ext cx="443880" cy="105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82" idx="1"/>
              <a:endCxn id="488" idx="6"/>
            </p:cNvCxnSpPr>
            <p:nvPr/>
          </p:nvCxnSpPr>
          <p:spPr>
            <a:xfrm flipV="1" rot="16200000">
              <a:off x="7147080" y="2730240"/>
              <a:ext cx="34920" cy="2545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82" idx="0"/>
              <a:endCxn id="489" idx="6"/>
            </p:cNvCxnSpPr>
            <p:nvPr/>
          </p:nvCxnSpPr>
          <p:spPr>
            <a:xfrm flipV="1" rot="16200000">
              <a:off x="7212960" y="2691720"/>
              <a:ext cx="203400" cy="110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82" idx="0"/>
              <a:endCxn id="490" idx="5"/>
            </p:cNvCxnSpPr>
            <p:nvPr/>
          </p:nvCxnSpPr>
          <p:spPr>
            <a:xfrm flipH="1" flipV="1" rot="5400000">
              <a:off x="7241400" y="2641320"/>
              <a:ext cx="336600" cy="79200"/>
            </a:xfrm>
            <a:prstGeom prst="curvedConnector5">
              <a:avLst>
                <a:gd name="adj1" fmla="val 46359"/>
                <a:gd name="adj2" fmla="val 49771"/>
                <a:gd name="adj3" fmla="val 463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"/>
            <p:cNvCxnSpPr>
              <a:stCxn id="482" idx="7"/>
              <a:endCxn id="491" idx="4"/>
            </p:cNvCxnSpPr>
            <p:nvPr/>
          </p:nvCxnSpPr>
          <p:spPr>
            <a:xfrm flipH="1" flipV="1" rot="5400000">
              <a:off x="7449480" y="2732400"/>
              <a:ext cx="142200" cy="144000"/>
            </a:xfrm>
            <a:prstGeom prst="curvedConnector5">
              <a:avLst>
                <a:gd name="adj1" fmla="val 59898"/>
                <a:gd name="adj2" fmla="val 49874"/>
                <a:gd name="adj3" fmla="val 598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82" idx="6"/>
              <a:endCxn id="492" idx="3"/>
            </p:cNvCxnSpPr>
            <p:nvPr/>
          </p:nvCxnSpPr>
          <p:spPr>
            <a:xfrm flipV="1">
              <a:off x="7480800" y="2803680"/>
              <a:ext cx="254520" cy="134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3" name=""/>
          <p:cNvGrpSpPr/>
          <p:nvPr/>
        </p:nvGrpSpPr>
        <p:grpSpPr>
          <a:xfrm>
            <a:off x="5867280" y="5181480"/>
            <a:ext cx="2210040" cy="762120"/>
            <a:chOff x="5867280" y="5181480"/>
            <a:chExt cx="2210040" cy="762120"/>
          </a:xfrm>
        </p:grpSpPr>
        <p:sp>
          <p:nvSpPr>
            <p:cNvPr id="504" name=""/>
            <p:cNvSpPr/>
            <p:nvPr/>
          </p:nvSpPr>
          <p:spPr>
            <a:xfrm>
              <a:off x="5867280" y="5181480"/>
              <a:ext cx="2210040" cy="7621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19920" y="5362560"/>
              <a:ext cx="379440" cy="366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" descr=""/>
            <p:cNvPicPr/>
            <p:nvPr/>
          </p:nvPicPr>
          <p:blipFill>
            <a:blip r:embed="rId2"/>
            <a:stretch/>
          </p:blipFill>
          <p:spPr>
            <a:xfrm>
              <a:off x="5867280" y="5209920"/>
              <a:ext cx="46512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496200" y="5362560"/>
              <a:ext cx="379440" cy="366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1200" y="5362560"/>
              <a:ext cx="379440" cy="366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7480" y="5362560"/>
              <a:ext cx="379440" cy="366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0516-1DBE-4BB5-BCAD-3D43A1D557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B vs. WB - Perspectiv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38080" y="1219320"/>
            <a:ext cx="7391160" cy="4800600"/>
            <a:chOff x="838080" y="1219320"/>
            <a:chExt cx="7391160" cy="4800600"/>
          </a:xfrm>
        </p:grpSpPr>
        <p:sp>
          <p:nvSpPr>
            <p:cNvPr id="512" name=""/>
            <p:cNvSpPr/>
            <p:nvPr/>
          </p:nvSpPr>
          <p:spPr>
            <a:xfrm>
              <a:off x="838080" y="1219320"/>
              <a:ext cx="7391160" cy="4800600"/>
            </a:xfrm>
            <a:prstGeom prst="roundRect">
              <a:avLst>
                <a:gd name="adj" fmla="val 9194"/>
              </a:avLst>
            </a:prstGeom>
            <a:gradFill rotWithShape="0">
              <a:gsLst>
                <a:gs pos="0">
                  <a:srgbClr val="7faad5"/>
                </a:gs>
                <a:gs pos="100000">
                  <a:srgbClr val="b9d0e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28440" y="1219320"/>
              <a:ext cx="0" cy="4800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8080" y="3645000"/>
              <a:ext cx="739116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905120" y="1219320"/>
            <a:ext cx="5867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orks as an att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TTP awarenes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orks on the big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05120" y="3657600"/>
            <a:ext cx="5867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embles code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spects the small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ard to “connect the do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90720" y="2057400"/>
            <a:ext cx="731880" cy="1068120"/>
            <a:chOff x="990720" y="2057400"/>
            <a:chExt cx="731880" cy="1068120"/>
          </a:xfrm>
        </p:grpSpPr>
        <p:grpSp>
          <p:nvGrpSpPr>
            <p:cNvPr id="518" name=""/>
            <p:cNvGrpSpPr/>
            <p:nvPr/>
          </p:nvGrpSpPr>
          <p:grpSpPr>
            <a:xfrm>
              <a:off x="990720" y="2057400"/>
              <a:ext cx="731880" cy="761760"/>
              <a:chOff x="990720" y="2057400"/>
              <a:chExt cx="731880" cy="761760"/>
            </a:xfrm>
          </p:grpSpPr>
          <p:sp>
            <p:nvSpPr>
              <p:cNvPr id="519" name=""/>
              <p:cNvSpPr/>
              <p:nvPr/>
            </p:nvSpPr>
            <p:spPr>
              <a:xfrm>
                <a:off x="99072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36836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94320" y="2057400"/>
                <a:ext cx="723240" cy="324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1119600" y="275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90720" y="4343400"/>
            <a:ext cx="731880" cy="1068120"/>
            <a:chOff x="990720" y="4343400"/>
            <a:chExt cx="731880" cy="1068120"/>
          </a:xfrm>
        </p:grpSpPr>
        <p:pic>
          <p:nvPicPr>
            <p:cNvPr id="524" name="" descr=""/>
            <p:cNvPicPr/>
            <p:nvPr/>
          </p:nvPicPr>
          <p:blipFill>
            <a:blip r:embed="rId1"/>
            <a:stretch/>
          </p:blipFill>
          <p:spPr>
            <a:xfrm>
              <a:off x="1143000" y="4419360"/>
              <a:ext cx="46836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1028880" y="50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990720" y="4343400"/>
              <a:ext cx="731880" cy="761760"/>
              <a:chOff x="990720" y="4343400"/>
              <a:chExt cx="731880" cy="761760"/>
            </a:xfrm>
          </p:grpSpPr>
          <p:sp>
            <p:nvSpPr>
              <p:cNvPr id="527" name=""/>
              <p:cNvSpPr/>
              <p:nvPr/>
            </p:nvSpPr>
            <p:spPr>
              <a:xfrm>
                <a:off x="990720" y="4483080"/>
                <a:ext cx="35388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368360" y="4483080"/>
                <a:ext cx="35424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93600" y="4343400"/>
                <a:ext cx="723960" cy="32364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ececec">
                  <a:alpha val="70000"/>
                </a:srgbClr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5867280" y="3809880"/>
            <a:ext cx="3143520" cy="1629000"/>
            <a:chOff x="5867280" y="3809880"/>
            <a:chExt cx="3143520" cy="1629000"/>
          </a:xfrm>
        </p:grpSpPr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>
              <a:off x="5867280" y="3809880"/>
              <a:ext cx="3143520" cy="16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6838920" y="4638600"/>
              <a:ext cx="1066680" cy="137520"/>
            </a:xfrm>
            <a:prstGeom prst="rect">
              <a:avLst/>
            </a:prstGeom>
            <a:solidFill>
              <a:srgbClr val="ffff66">
                <a:alpha val="70000"/>
              </a:srgbClr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QL Injection Fou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1293840" cy="13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62ED-E72C-47AA-A48F-7233958B02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B vs. WB – Prerequisi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838080" y="1219320"/>
            <a:ext cx="7391160" cy="4800600"/>
            <a:chOff x="838080" y="1219320"/>
            <a:chExt cx="7391160" cy="4800600"/>
          </a:xfrm>
        </p:grpSpPr>
        <p:sp>
          <p:nvSpPr>
            <p:cNvPr id="536" name=""/>
            <p:cNvSpPr/>
            <p:nvPr/>
          </p:nvSpPr>
          <p:spPr>
            <a:xfrm>
              <a:off x="838080" y="1219320"/>
              <a:ext cx="7391160" cy="4800600"/>
            </a:xfrm>
            <a:prstGeom prst="roundRect">
              <a:avLst>
                <a:gd name="adj" fmla="val 9194"/>
              </a:avLst>
            </a:prstGeom>
            <a:gradFill rotWithShape="0">
              <a:gsLst>
                <a:gs pos="0">
                  <a:srgbClr val="7faad5"/>
                </a:gs>
                <a:gs pos="100000">
                  <a:srgbClr val="b9d0e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28440" y="1219320"/>
              <a:ext cx="0" cy="4800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8080" y="3645000"/>
              <a:ext cx="739116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05120" y="1219320"/>
            <a:ext cx="5867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ny deploye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inly used during testing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05120" y="3657600"/>
            <a:ext cx="5867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ppli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inly used in development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990720" y="2057400"/>
            <a:ext cx="731880" cy="1068120"/>
            <a:chOff x="990720" y="2057400"/>
            <a:chExt cx="731880" cy="1068120"/>
          </a:xfrm>
        </p:grpSpPr>
        <p:grpSp>
          <p:nvGrpSpPr>
            <p:cNvPr id="542" name=""/>
            <p:cNvGrpSpPr/>
            <p:nvPr/>
          </p:nvGrpSpPr>
          <p:grpSpPr>
            <a:xfrm>
              <a:off x="990720" y="2057400"/>
              <a:ext cx="731880" cy="761760"/>
              <a:chOff x="990720" y="2057400"/>
              <a:chExt cx="731880" cy="761760"/>
            </a:xfrm>
          </p:grpSpPr>
          <p:sp>
            <p:nvSpPr>
              <p:cNvPr id="543" name=""/>
              <p:cNvSpPr/>
              <p:nvPr/>
            </p:nvSpPr>
            <p:spPr>
              <a:xfrm>
                <a:off x="99072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136836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994320" y="2057400"/>
                <a:ext cx="723240" cy="324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1119600" y="275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990720" y="4343400"/>
            <a:ext cx="731880" cy="1068120"/>
            <a:chOff x="990720" y="4343400"/>
            <a:chExt cx="731880" cy="106812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1143000" y="4419360"/>
              <a:ext cx="46836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028880" y="50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990720" y="4343400"/>
              <a:ext cx="731880" cy="761760"/>
              <a:chOff x="990720" y="4343400"/>
              <a:chExt cx="731880" cy="761760"/>
            </a:xfrm>
          </p:grpSpPr>
          <p:sp>
            <p:nvSpPr>
              <p:cNvPr id="551" name=""/>
              <p:cNvSpPr/>
              <p:nvPr/>
            </p:nvSpPr>
            <p:spPr>
              <a:xfrm>
                <a:off x="990720" y="4483080"/>
                <a:ext cx="35388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1368360" y="4483080"/>
                <a:ext cx="35424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93600" y="4343400"/>
                <a:ext cx="723960" cy="32364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ececec">
                  <a:alpha val="70000"/>
                </a:srgbClr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7277040" y="3008160"/>
            <a:ext cx="933480" cy="5731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6705720" y="3124080"/>
            <a:ext cx="428400" cy="45720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6629400" y="4038480"/>
            <a:ext cx="1744200" cy="1143360"/>
            <a:chOff x="6629400" y="4038480"/>
            <a:chExt cx="1744200" cy="1143360"/>
          </a:xfrm>
        </p:grpSpPr>
        <p:pic>
          <p:nvPicPr>
            <p:cNvPr id="557" name="" descr=""/>
            <p:cNvPicPr/>
            <p:nvPr/>
          </p:nvPicPr>
          <p:blipFill>
            <a:blip r:embed="rId4"/>
            <a:stretch/>
          </p:blipFill>
          <p:spPr>
            <a:xfrm>
              <a:off x="6629400" y="4038480"/>
              <a:ext cx="167616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20608800">
              <a:off x="7070400" y="425988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rdia New"/>
                </a:rPr>
                <a:t>Bank.w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263C-0793-43B9-B5F3-1674996D7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scann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scan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r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exampl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aling with validatio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00280" y="1341360"/>
            <a:ext cx="3047760" cy="3952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963F-FDD2-46C0-A279-9492CC97C9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B vs. WB – Development Effor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838080" y="1219320"/>
            <a:ext cx="7391160" cy="4800600"/>
            <a:chOff x="838080" y="1219320"/>
            <a:chExt cx="7391160" cy="4800600"/>
          </a:xfrm>
        </p:grpSpPr>
        <p:sp>
          <p:nvSpPr>
            <p:cNvPr id="561" name=""/>
            <p:cNvSpPr/>
            <p:nvPr/>
          </p:nvSpPr>
          <p:spPr>
            <a:xfrm>
              <a:off x="838080" y="1219320"/>
              <a:ext cx="7391160" cy="4800600"/>
            </a:xfrm>
            <a:prstGeom prst="roundRect">
              <a:avLst>
                <a:gd name="adj" fmla="val 9194"/>
              </a:avLst>
            </a:prstGeom>
            <a:gradFill rotWithShape="0">
              <a:gsLst>
                <a:gs pos="0">
                  <a:srgbClr val="7faad5"/>
                </a:gs>
                <a:gs pos="100000">
                  <a:srgbClr val="b9d0e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28440" y="1219320"/>
              <a:ext cx="0" cy="4800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3645000"/>
              <a:ext cx="739116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828800" y="1219320"/>
            <a:ext cx="6095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blivious to differen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fferent communication protoco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requi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0512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fferent languages requir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me framework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blivious to communicatio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990720" y="2057400"/>
            <a:ext cx="731880" cy="1068120"/>
            <a:chOff x="990720" y="2057400"/>
            <a:chExt cx="731880" cy="1068120"/>
          </a:xfrm>
        </p:grpSpPr>
        <p:grpSp>
          <p:nvGrpSpPr>
            <p:cNvPr id="567" name=""/>
            <p:cNvGrpSpPr/>
            <p:nvPr/>
          </p:nvGrpSpPr>
          <p:grpSpPr>
            <a:xfrm>
              <a:off x="990720" y="2057400"/>
              <a:ext cx="731880" cy="761760"/>
              <a:chOff x="990720" y="2057400"/>
              <a:chExt cx="731880" cy="761760"/>
            </a:xfrm>
          </p:grpSpPr>
          <p:sp>
            <p:nvSpPr>
              <p:cNvPr id="568" name=""/>
              <p:cNvSpPr/>
              <p:nvPr/>
            </p:nvSpPr>
            <p:spPr>
              <a:xfrm>
                <a:off x="99072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6836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94320" y="2057400"/>
                <a:ext cx="723240" cy="324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1119600" y="275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990720" y="4343400"/>
            <a:ext cx="731880" cy="1068120"/>
            <a:chOff x="990720" y="4343400"/>
            <a:chExt cx="731880" cy="1068120"/>
          </a:xfrm>
        </p:grpSpPr>
        <p:pic>
          <p:nvPicPr>
            <p:cNvPr id="573" name="" descr=""/>
            <p:cNvPicPr/>
            <p:nvPr/>
          </p:nvPicPr>
          <p:blipFill>
            <a:blip r:embed="rId1"/>
            <a:stretch/>
          </p:blipFill>
          <p:spPr>
            <a:xfrm>
              <a:off x="1143000" y="4419360"/>
              <a:ext cx="46836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028880" y="50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990720" y="4343400"/>
              <a:ext cx="731880" cy="761760"/>
              <a:chOff x="990720" y="4343400"/>
              <a:chExt cx="731880" cy="761760"/>
            </a:xfrm>
          </p:grpSpPr>
          <p:sp>
            <p:nvSpPr>
              <p:cNvPr id="576" name=""/>
              <p:cNvSpPr/>
              <p:nvPr/>
            </p:nvSpPr>
            <p:spPr>
              <a:xfrm>
                <a:off x="990720" y="4483080"/>
                <a:ext cx="35388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368360" y="4483080"/>
                <a:ext cx="35424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93600" y="4343400"/>
                <a:ext cx="723960" cy="32364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ececec">
                  <a:alpha val="70000"/>
                </a:srgbClr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999A-2DB0-47B1-ADF7-33D5D0B1DE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B vs. WB – Scop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838080" y="1219320"/>
            <a:ext cx="7391160" cy="4800600"/>
            <a:chOff x="838080" y="1219320"/>
            <a:chExt cx="7391160" cy="4800600"/>
          </a:xfrm>
        </p:grpSpPr>
        <p:sp>
          <p:nvSpPr>
            <p:cNvPr id="581" name=""/>
            <p:cNvSpPr/>
            <p:nvPr/>
          </p:nvSpPr>
          <p:spPr>
            <a:xfrm>
              <a:off x="838080" y="1219320"/>
              <a:ext cx="7391160" cy="4800600"/>
            </a:xfrm>
            <a:prstGeom prst="roundRect">
              <a:avLst>
                <a:gd name="adj" fmla="val 9194"/>
              </a:avLst>
            </a:prstGeom>
            <a:gradFill rotWithShape="0">
              <a:gsLst>
                <a:gs pos="0">
                  <a:srgbClr val="7faad5"/>
                </a:gs>
                <a:gs pos="100000">
                  <a:srgbClr val="b9d0e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28440" y="1219320"/>
              <a:ext cx="0" cy="4800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8080" y="3645000"/>
              <a:ext cx="739116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828800" y="1219320"/>
            <a:ext cx="6095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cans the entir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ervers (Application, Http, D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ternal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etwork,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90512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fies issues regardless of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990720" y="2057400"/>
            <a:ext cx="731880" cy="1068120"/>
            <a:chOff x="990720" y="2057400"/>
            <a:chExt cx="731880" cy="1068120"/>
          </a:xfrm>
        </p:grpSpPr>
        <p:grpSp>
          <p:nvGrpSpPr>
            <p:cNvPr id="587" name=""/>
            <p:cNvGrpSpPr/>
            <p:nvPr/>
          </p:nvGrpSpPr>
          <p:grpSpPr>
            <a:xfrm>
              <a:off x="990720" y="2057400"/>
              <a:ext cx="731880" cy="761760"/>
              <a:chOff x="990720" y="2057400"/>
              <a:chExt cx="731880" cy="761760"/>
            </a:xfrm>
          </p:grpSpPr>
          <p:sp>
            <p:nvSpPr>
              <p:cNvPr id="588" name=""/>
              <p:cNvSpPr/>
              <p:nvPr/>
            </p:nvSpPr>
            <p:spPr>
              <a:xfrm>
                <a:off x="99072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36836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94320" y="2057400"/>
                <a:ext cx="723240" cy="324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119600" y="275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990720" y="4343400"/>
            <a:ext cx="731880" cy="1068120"/>
            <a:chOff x="990720" y="4343400"/>
            <a:chExt cx="731880" cy="1068120"/>
          </a:xfrm>
        </p:grpSpPr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>
              <a:off x="1143000" y="4419360"/>
              <a:ext cx="46836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028880" y="50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990720" y="4343400"/>
              <a:ext cx="731880" cy="761760"/>
              <a:chOff x="990720" y="4343400"/>
              <a:chExt cx="731880" cy="761760"/>
            </a:xfrm>
          </p:grpSpPr>
          <p:sp>
            <p:nvSpPr>
              <p:cNvPr id="596" name=""/>
              <p:cNvSpPr/>
              <p:nvPr/>
            </p:nvSpPr>
            <p:spPr>
              <a:xfrm>
                <a:off x="990720" y="4483080"/>
                <a:ext cx="35388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368360" y="4483080"/>
                <a:ext cx="35424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93600" y="4343400"/>
                <a:ext cx="723960" cy="32364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ececec">
                  <a:alpha val="70000"/>
                </a:srgbClr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5531400" y="2438280"/>
            <a:ext cx="1991880" cy="1105200"/>
            <a:chOff x="5531400" y="2438280"/>
            <a:chExt cx="1991880" cy="110520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5843520" y="2438280"/>
              <a:ext cx="21276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3"/>
            <a:stretch/>
          </p:blipFill>
          <p:spPr>
            <a:xfrm>
              <a:off x="7165800" y="2719440"/>
              <a:ext cx="35748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4"/>
            <a:stretch/>
          </p:blipFill>
          <p:spPr>
            <a:xfrm>
              <a:off x="5843520" y="3251160"/>
              <a:ext cx="21276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5"/>
            <a:stretch/>
          </p:blipFill>
          <p:spPr>
            <a:xfrm>
              <a:off x="5843520" y="2860560"/>
              <a:ext cx="21276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6"/>
            <a:stretch/>
          </p:blipFill>
          <p:spPr>
            <a:xfrm>
              <a:off x="6143760" y="2803680"/>
              <a:ext cx="3124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6873840" y="3230640"/>
              <a:ext cx="177840" cy="226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73840" y="2889360"/>
              <a:ext cx="177840" cy="226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73840" y="2549520"/>
              <a:ext cx="177840" cy="2253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8" name=""/>
            <p:cNvCxnSpPr>
              <a:stCxn id="607" idx="2"/>
              <a:endCxn id="605" idx="2"/>
            </p:cNvCxnSpPr>
            <p:nvPr/>
          </p:nvCxnSpPr>
          <p:spPr>
            <a:xfrm flipH="1" flipV="1" rot="10800000">
              <a:off x="6872760" y="2662200"/>
              <a:ext cx="2520" cy="6829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9" name=""/>
            <p:cNvCxnSpPr>
              <a:stCxn id="604" idx="3"/>
              <a:endCxn id="606" idx="2"/>
            </p:cNvCxnSpPr>
            <p:nvPr/>
          </p:nvCxnSpPr>
          <p:spPr>
            <a:xfrm flipV="1">
              <a:off x="6456240" y="3002760"/>
              <a:ext cx="418320" cy="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0" name=""/>
            <p:cNvCxnSpPr>
              <a:stCxn id="606" idx="4"/>
              <a:endCxn id="601" idx="1"/>
            </p:cNvCxnSpPr>
            <p:nvPr/>
          </p:nvCxnSpPr>
          <p:spPr>
            <a:xfrm flipV="1">
              <a:off x="7051320" y="3001680"/>
              <a:ext cx="1148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1" name=""/>
            <p:cNvCxnSpPr>
              <a:stCxn id="600" idx="1"/>
              <a:endCxn id="602" idx="1"/>
            </p:cNvCxnSpPr>
            <p:nvPr/>
          </p:nvCxnSpPr>
          <p:spPr>
            <a:xfrm flipH="1" flipV="1" rot="10800000">
              <a:off x="5842440" y="2585520"/>
              <a:ext cx="2520" cy="81216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2" name=""/>
            <p:cNvCxnSpPr>
              <a:endCxn id="603" idx="1"/>
            </p:cNvCxnSpPr>
            <p:nvPr/>
          </p:nvCxnSpPr>
          <p:spPr>
            <a:xfrm>
              <a:off x="5562720" y="3007800"/>
              <a:ext cx="2815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3" name=""/>
            <p:cNvCxnSpPr>
              <a:stCxn id="603" idx="3"/>
              <a:endCxn id="604" idx="1"/>
            </p:cNvCxnSpPr>
            <p:nvPr/>
          </p:nvCxnSpPr>
          <p:spPr>
            <a:xfrm flipV="1">
              <a:off x="6055920" y="3004920"/>
              <a:ext cx="87840" cy="3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614" name=""/>
          <p:cNvCxnSpPr>
            <a:stCxn id="601" idx="3"/>
          </p:cNvCxnSpPr>
          <p:nvPr/>
        </p:nvCxnSpPr>
        <p:spPr>
          <a:xfrm>
            <a:off x="7523280" y="3001680"/>
            <a:ext cx="1324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pic>
        <p:nvPicPr>
          <p:cNvPr id="615" name="" descr=""/>
          <p:cNvPicPr/>
          <p:nvPr/>
        </p:nvPicPr>
        <p:blipFill>
          <a:blip r:embed="rId7"/>
          <a:stretch/>
        </p:blipFill>
        <p:spPr>
          <a:xfrm>
            <a:off x="7574040" y="2619360"/>
            <a:ext cx="503280" cy="64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CACE-B3D5-4C7F-920B-6DBEF7B512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5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5" dur="250" autoRev="1" fill="hold"/>
                                        <p:tgtEl>
                                          <p:spTgt spid="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9" dur="250" autoRev="1" fill="hold"/>
                                        <p:tgtEl>
                                          <p:spTgt spid="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1" nodeType="afterEffect" fill="hold" presetClass="path" presetID="5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3.7037E-006 C -3.33333E-006 -0.04861 0.00052 -0.06203 0.00157 -0.06203 C 0.00278 -0.06203 0.00365 -0.04791 0.00365 -3.7037E-006 C 0.00365 -0.02407 0.004 -0.04861 0.00452 -0.04861 C 0.00504 -0.04861 0.00573 -0.02476 0.00573 -3.7037E-006 C 0.00573 -0.0125 0.00591 -0.02407 0.00625 -0.02407 C 0.00643 -0.02407 0.00677 -0.0118 0.00677 -3.7037E-006 C 0.00677 -0.00625 0.00695 -0.0125 0.00695 -0.01226 C 0.00712 -0.0125 0.0073 -0.00625 0.0073 -3.7037E-006 C 0.0073 -0.00324 0.0073 -0.00625 0.00747 -0.00625 C 0.00747 -0.00555 0.00764 -0.00324 0.00764 -3.7037E-006 C 0.00764 -0.00162 0.00764 -0.00324 0.00764 -0.00301 C 0.00764 -0.00231 0.00764 -0.00162 0.00764 -3.7037E-006 C 0.00764 -0.00092 0.00764 -0.00162 0.00764 -0.00231 C 0.00782 -0.00231 0.00782 -0.00162 0.00782 -0.00069 C 0.00782 -0.00046 0.00782 -0.00162 0.00782 -0.00231 C 0.00816 -0.00231 0.00816 -0.00162 0.00816 -0.00069 E">
                                      <p:cBhvr>
                                        <p:cTn id="1202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4" nodeType="afterEffect" fill="hold" presetClass="path" presetID="41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0816 -0.0007 C 0.00816 -0.06227 0.00625 -0.06273 0.0059 -0.06273 C 0.00573 -0.06273 0.00417 -0.06134 0.00417 -0.0007 C 0.00417 -0.03125 0.00365 -0.04884 0.00312 -0.04884 C 0.0026 -0.04884 0.00208 -0.03241 0.00208 -0.0007 C 0.00208 -0.0169 0.00174 -0.03125 0.00156 -0.03125 C 0.00121 -0.03125 0.00104 -0.01574 0.00104 -0.0007 C 0.00104 -0.00903 0.00087 -0.0169 0.00069 -0.0169 C 0.00069 -0.01621 0.00052 -0.00903 0.00052 -0.0007 C 0.00052 -0.00509 0.00052 -0.00903 0.00035 -0.00903 C 0.00035 -0.00996 0.00017 -0.00509 0.00017 -0.0007 C 0.00017 -0.00324 0.00017 -0.00509 0.00017 -0.00463 C 0.00017 -0.00371 0.00017 -0.00278 0.00017 -0.0007 C 0.00017 -0.00232 0.00017 -0.00324 0.00017 -0.00371 C 5.55556000000012E-007 -0.00371 5.55556E-007 -0.00278 5.55556E-007 -0.00185 C 5.55556E-007 -0.00139 5.55556E-007 -0.00278 5.55556E-007 -0.00371 C 5.55556E-007 -0.00324 5.55556E-007 -0.00278 5.55556E-007 -0.00185 E">
                                      <p:cBhvr>
                                        <p:cTn id="1205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1.48148E-006 L -0.05 1.48148E-006 E">
                                      <p:cBhvr>
                                        <p:cTn id="1208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211" dur="500" fill="hold"/>
                                        <p:tgtEl>
                                          <p:spTgt spid="61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212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 -3.7037E-006 L -0.08108 -3.7037E-006 E">
                                      <p:cBhvr>
                                        <p:cTn id="1213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5" nodeType="afterEffect" fill="hold" presetClass="exit" presetID="5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B vs. WB – Time/Accurac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38080" y="1219320"/>
            <a:ext cx="7391160" cy="4800600"/>
            <a:chOff x="838080" y="1219320"/>
            <a:chExt cx="7391160" cy="4800600"/>
          </a:xfrm>
        </p:grpSpPr>
        <p:sp>
          <p:nvSpPr>
            <p:cNvPr id="618" name=""/>
            <p:cNvSpPr/>
            <p:nvPr/>
          </p:nvSpPr>
          <p:spPr>
            <a:xfrm>
              <a:off x="838080" y="1219320"/>
              <a:ext cx="7391160" cy="4800600"/>
            </a:xfrm>
            <a:prstGeom prst="roundRect">
              <a:avLst>
                <a:gd name="adj" fmla="val 9194"/>
              </a:avLst>
            </a:prstGeom>
            <a:gradFill rotWithShape="0">
              <a:gsLst>
                <a:gs pos="0">
                  <a:srgbClr val="7faad5"/>
                </a:gs>
                <a:gs pos="100000">
                  <a:srgbClr val="b9d0e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440" y="1219320"/>
              <a:ext cx="0" cy="4800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8080" y="3645000"/>
              <a:ext cx="739116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905120" y="12193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rawling 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sting mutations tak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(infinite)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05120" y="3657600"/>
            <a:ext cx="5867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fined model consume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nd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nalyzing only “important”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pproximating the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990720" y="2057400"/>
            <a:ext cx="731880" cy="1068120"/>
            <a:chOff x="990720" y="2057400"/>
            <a:chExt cx="731880" cy="1068120"/>
          </a:xfrm>
        </p:grpSpPr>
        <p:grpSp>
          <p:nvGrpSpPr>
            <p:cNvPr id="624" name=""/>
            <p:cNvGrpSpPr/>
            <p:nvPr/>
          </p:nvGrpSpPr>
          <p:grpSpPr>
            <a:xfrm>
              <a:off x="990720" y="2057400"/>
              <a:ext cx="731880" cy="761760"/>
              <a:chOff x="990720" y="2057400"/>
              <a:chExt cx="731880" cy="761760"/>
            </a:xfrm>
          </p:grpSpPr>
          <p:sp>
            <p:nvSpPr>
              <p:cNvPr id="625" name=""/>
              <p:cNvSpPr/>
              <p:nvPr/>
            </p:nvSpPr>
            <p:spPr>
              <a:xfrm>
                <a:off x="99072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36836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994320" y="2057400"/>
                <a:ext cx="723240" cy="324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119600" y="275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990720" y="4343400"/>
            <a:ext cx="731880" cy="1068120"/>
            <a:chOff x="990720" y="4343400"/>
            <a:chExt cx="731880" cy="1068120"/>
          </a:xfrm>
        </p:grpSpPr>
        <p:pic>
          <p:nvPicPr>
            <p:cNvPr id="630" name="" descr=""/>
            <p:cNvPicPr/>
            <p:nvPr/>
          </p:nvPicPr>
          <p:blipFill>
            <a:blip r:embed="rId1"/>
            <a:stretch/>
          </p:blipFill>
          <p:spPr>
            <a:xfrm>
              <a:off x="1143000" y="4419360"/>
              <a:ext cx="46836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028880" y="50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990720" y="4343400"/>
              <a:ext cx="731880" cy="761760"/>
              <a:chOff x="990720" y="4343400"/>
              <a:chExt cx="731880" cy="761760"/>
            </a:xfrm>
          </p:grpSpPr>
          <p:sp>
            <p:nvSpPr>
              <p:cNvPr id="633" name=""/>
              <p:cNvSpPr/>
              <p:nvPr/>
            </p:nvSpPr>
            <p:spPr>
              <a:xfrm>
                <a:off x="990720" y="4483080"/>
                <a:ext cx="35388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368360" y="4483080"/>
                <a:ext cx="35424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93600" y="4343400"/>
                <a:ext cx="723960" cy="32364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ececec">
                  <a:alpha val="70000"/>
                </a:srgbClr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6" name=""/>
          <p:cNvGrpSpPr/>
          <p:nvPr/>
        </p:nvGrpSpPr>
        <p:grpSpPr>
          <a:xfrm>
            <a:off x="6248520" y="2209680"/>
            <a:ext cx="1904760" cy="1371240"/>
            <a:chOff x="6248520" y="2209680"/>
            <a:chExt cx="1904760" cy="1371240"/>
          </a:xfrm>
        </p:grpSpPr>
        <p:sp>
          <p:nvSpPr>
            <p:cNvPr id="637" name=""/>
            <p:cNvSpPr/>
            <p:nvPr/>
          </p:nvSpPr>
          <p:spPr>
            <a:xfrm>
              <a:off x="7176600" y="2465280"/>
              <a:ext cx="97560" cy="9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71720" y="25675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25200" y="261864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78680" y="26701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32160" y="25675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78680" y="25675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1120" y="2414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78680" y="23119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76600" y="22096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74160" y="23119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71720" y="236304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8" name=""/>
            <p:cNvCxnSpPr>
              <a:stCxn id="637" idx="6"/>
              <a:endCxn id="638" idx="0"/>
            </p:cNvCxnSpPr>
            <p:nvPr/>
          </p:nvCxnSpPr>
          <p:spPr>
            <a:xfrm>
              <a:off x="7273800" y="2511720"/>
              <a:ext cx="1472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9" name=""/>
            <p:cNvCxnSpPr>
              <a:stCxn id="637" idx="5"/>
              <a:endCxn id="639" idx="0"/>
            </p:cNvCxnSpPr>
            <p:nvPr/>
          </p:nvCxnSpPr>
          <p:spPr>
            <a:xfrm flipH="1" rot="16200000">
              <a:off x="7228440" y="2574000"/>
              <a:ext cx="75240" cy="14760"/>
            </a:xfrm>
            <a:prstGeom prst="curvedConnector5">
              <a:avLst>
                <a:gd name="adj1" fmla="val 58173"/>
                <a:gd name="adj2" fmla="val 50000"/>
                <a:gd name="adj3" fmla="val 581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stCxn id="637" idx="4"/>
              <a:endCxn id="640" idx="0"/>
            </p:cNvCxnSpPr>
            <p:nvPr/>
          </p:nvCxnSpPr>
          <p:spPr>
            <a:xfrm rot="5400000">
              <a:off x="7119720" y="2565000"/>
              <a:ext cx="112320" cy="98280"/>
            </a:xfrm>
            <a:prstGeom prst="curvedConnector5">
              <a:avLst>
                <a:gd name="adj1" fmla="val 49517"/>
                <a:gd name="adj2" fmla="val 50000"/>
                <a:gd name="adj3" fmla="val 495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stCxn id="637" idx="2"/>
              <a:endCxn id="642" idx="0"/>
            </p:cNvCxnSpPr>
            <p:nvPr/>
          </p:nvCxnSpPr>
          <p:spPr>
            <a:xfrm flipV="1" rot="10800000">
              <a:off x="7126920" y="2511000"/>
              <a:ext cx="4932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"/>
            <p:cNvCxnSpPr>
              <a:stCxn id="637" idx="2"/>
              <a:endCxn id="641" idx="0"/>
            </p:cNvCxnSpPr>
            <p:nvPr/>
          </p:nvCxnSpPr>
          <p:spPr>
            <a:xfrm flipV="1" rot="10800000">
              <a:off x="6980400" y="2511000"/>
              <a:ext cx="1958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"/>
            <p:cNvCxnSpPr>
              <a:stCxn id="637" idx="1"/>
              <a:endCxn id="643" idx="6"/>
            </p:cNvCxnSpPr>
            <p:nvPr/>
          </p:nvCxnSpPr>
          <p:spPr>
            <a:xfrm flipV="1" rot="16200000">
              <a:off x="7125120" y="2413440"/>
              <a:ext cx="18720" cy="11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"/>
            <p:cNvCxnSpPr>
              <a:stCxn id="637" idx="0"/>
              <a:endCxn id="644" idx="6"/>
            </p:cNvCxnSpPr>
            <p:nvPr/>
          </p:nvCxnSpPr>
          <p:spPr>
            <a:xfrm flipV="1" rot="16200000">
              <a:off x="7147080" y="2387160"/>
              <a:ext cx="107280" cy="4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5" name=""/>
            <p:cNvCxnSpPr>
              <a:stCxn id="637" idx="0"/>
              <a:endCxn id="645" idx="5"/>
            </p:cNvCxnSpPr>
            <p:nvPr/>
          </p:nvCxnSpPr>
          <p:spPr>
            <a:xfrm flipH="1" flipV="1" rot="5400000">
              <a:off x="7153920" y="2358720"/>
              <a:ext cx="177480" cy="35280"/>
            </a:xfrm>
            <a:prstGeom prst="curvedConnector5">
              <a:avLst>
                <a:gd name="adj1" fmla="val 46341"/>
                <a:gd name="adj2" fmla="val 49484"/>
                <a:gd name="adj3" fmla="val 46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"/>
            <p:cNvCxnSpPr>
              <a:stCxn id="637" idx="7"/>
              <a:endCxn id="646" idx="4"/>
            </p:cNvCxnSpPr>
            <p:nvPr/>
          </p:nvCxnSpPr>
          <p:spPr>
            <a:xfrm flipH="1" flipV="1" rot="5400000">
              <a:off x="7253640" y="2410200"/>
              <a:ext cx="74520" cy="63360"/>
            </a:xfrm>
            <a:prstGeom prst="curvedConnector5">
              <a:avLst>
                <a:gd name="adj1" fmla="val 60194"/>
                <a:gd name="adj2" fmla="val 49714"/>
                <a:gd name="adj3" fmla="val 601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"/>
            <p:cNvCxnSpPr>
              <a:stCxn id="637" idx="6"/>
              <a:endCxn id="647" idx="3"/>
            </p:cNvCxnSpPr>
            <p:nvPr/>
          </p:nvCxnSpPr>
          <p:spPr>
            <a:xfrm flipV="1">
              <a:off x="7274160" y="2441160"/>
              <a:ext cx="112320" cy="7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8" name=""/>
            <p:cNvSpPr/>
            <p:nvPr/>
          </p:nvSpPr>
          <p:spPr>
            <a:xfrm>
              <a:off x="6492600" y="3283920"/>
              <a:ext cx="97560" cy="9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88080" y="3386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41560" y="34372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95040" y="348840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48520" y="3386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95040" y="3386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97120" y="323280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95040" y="31305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492600" y="30279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90160" y="31305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88080" y="31813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58" idx="6"/>
              <a:endCxn id="659" idx="0"/>
            </p:cNvCxnSpPr>
            <p:nvPr/>
          </p:nvCxnSpPr>
          <p:spPr>
            <a:xfrm>
              <a:off x="6589800" y="3330360"/>
              <a:ext cx="1472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58" idx="5"/>
              <a:endCxn id="660" idx="0"/>
            </p:cNvCxnSpPr>
            <p:nvPr/>
          </p:nvCxnSpPr>
          <p:spPr>
            <a:xfrm flipH="1" rot="16200000">
              <a:off x="6544800" y="3392640"/>
              <a:ext cx="75240" cy="14760"/>
            </a:xfrm>
            <a:prstGeom prst="curvedConnector5">
              <a:avLst>
                <a:gd name="adj1" fmla="val 58173"/>
                <a:gd name="adj2" fmla="val 50000"/>
                <a:gd name="adj3" fmla="val 581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1" name=""/>
            <p:cNvCxnSpPr>
              <a:stCxn id="658" idx="4"/>
              <a:endCxn id="661" idx="0"/>
            </p:cNvCxnSpPr>
            <p:nvPr/>
          </p:nvCxnSpPr>
          <p:spPr>
            <a:xfrm rot="5400000">
              <a:off x="6435720" y="3383280"/>
              <a:ext cx="112320" cy="98280"/>
            </a:xfrm>
            <a:prstGeom prst="curvedConnector5">
              <a:avLst>
                <a:gd name="adj1" fmla="val 49517"/>
                <a:gd name="adj2" fmla="val 50000"/>
                <a:gd name="adj3" fmla="val 495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2" name=""/>
            <p:cNvCxnSpPr>
              <a:stCxn id="658" idx="2"/>
              <a:endCxn id="663" idx="0"/>
            </p:cNvCxnSpPr>
            <p:nvPr/>
          </p:nvCxnSpPr>
          <p:spPr>
            <a:xfrm flipV="1" rot="10800000">
              <a:off x="6442920" y="3329640"/>
              <a:ext cx="4932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3" name=""/>
            <p:cNvCxnSpPr>
              <a:stCxn id="658" idx="2"/>
              <a:endCxn id="662" idx="0"/>
            </p:cNvCxnSpPr>
            <p:nvPr/>
          </p:nvCxnSpPr>
          <p:spPr>
            <a:xfrm flipV="1" rot="10800000">
              <a:off x="6296400" y="3329640"/>
              <a:ext cx="1958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4" name=""/>
            <p:cNvCxnSpPr>
              <a:stCxn id="658" idx="1"/>
              <a:endCxn id="664" idx="6"/>
            </p:cNvCxnSpPr>
            <p:nvPr/>
          </p:nvCxnSpPr>
          <p:spPr>
            <a:xfrm flipV="1" rot="16200000">
              <a:off x="6441480" y="3232080"/>
              <a:ext cx="18720" cy="11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5" name=""/>
            <p:cNvCxnSpPr>
              <a:stCxn id="658" idx="0"/>
              <a:endCxn id="665" idx="6"/>
            </p:cNvCxnSpPr>
            <p:nvPr/>
          </p:nvCxnSpPr>
          <p:spPr>
            <a:xfrm flipV="1" rot="16200000">
              <a:off x="6463080" y="3205800"/>
              <a:ext cx="107280" cy="4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6" name=""/>
            <p:cNvCxnSpPr>
              <a:stCxn id="658" idx="0"/>
              <a:endCxn id="666" idx="5"/>
            </p:cNvCxnSpPr>
            <p:nvPr/>
          </p:nvCxnSpPr>
          <p:spPr>
            <a:xfrm flipH="1" flipV="1" rot="5400000">
              <a:off x="6470280" y="3177360"/>
              <a:ext cx="177480" cy="35280"/>
            </a:xfrm>
            <a:prstGeom prst="curvedConnector5">
              <a:avLst>
                <a:gd name="adj1" fmla="val 46341"/>
                <a:gd name="adj2" fmla="val 49484"/>
                <a:gd name="adj3" fmla="val 46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7" name=""/>
            <p:cNvCxnSpPr>
              <a:stCxn id="658" idx="7"/>
              <a:endCxn id="667" idx="4"/>
            </p:cNvCxnSpPr>
            <p:nvPr/>
          </p:nvCxnSpPr>
          <p:spPr>
            <a:xfrm flipH="1" flipV="1" rot="5400000">
              <a:off x="6570000" y="3228480"/>
              <a:ext cx="75240" cy="63360"/>
            </a:xfrm>
            <a:prstGeom prst="curvedConnector5">
              <a:avLst>
                <a:gd name="adj1" fmla="val 59615"/>
                <a:gd name="adj2" fmla="val 49714"/>
                <a:gd name="adj3" fmla="val 596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8" name=""/>
            <p:cNvCxnSpPr>
              <a:stCxn id="658" idx="6"/>
              <a:endCxn id="668" idx="3"/>
            </p:cNvCxnSpPr>
            <p:nvPr/>
          </p:nvCxnSpPr>
          <p:spPr>
            <a:xfrm flipV="1">
              <a:off x="6590160" y="3259800"/>
              <a:ext cx="112320" cy="7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9" name=""/>
            <p:cNvSpPr/>
            <p:nvPr/>
          </p:nvSpPr>
          <p:spPr>
            <a:xfrm>
              <a:off x="7860240" y="2976840"/>
              <a:ext cx="97560" cy="9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55720" y="30790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09200" y="31305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62680" y="31813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16160" y="30790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62680" y="30790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64760" y="29257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2680" y="28234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60240" y="27208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57800" y="28234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55720" y="287460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79" idx="6"/>
              <a:endCxn id="680" idx="0"/>
            </p:cNvCxnSpPr>
            <p:nvPr/>
          </p:nvCxnSpPr>
          <p:spPr>
            <a:xfrm>
              <a:off x="7957440" y="3023640"/>
              <a:ext cx="1472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1" name=""/>
            <p:cNvCxnSpPr>
              <a:stCxn id="679" idx="5"/>
              <a:endCxn id="681" idx="0"/>
            </p:cNvCxnSpPr>
            <p:nvPr/>
          </p:nvCxnSpPr>
          <p:spPr>
            <a:xfrm flipH="1" rot="16200000">
              <a:off x="7912440" y="3085560"/>
              <a:ext cx="75240" cy="14760"/>
            </a:xfrm>
            <a:prstGeom prst="curvedConnector5">
              <a:avLst>
                <a:gd name="adj1" fmla="val 58173"/>
                <a:gd name="adj2" fmla="val 50000"/>
                <a:gd name="adj3" fmla="val 581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2" name=""/>
            <p:cNvCxnSpPr>
              <a:stCxn id="679" idx="4"/>
              <a:endCxn id="682" idx="0"/>
            </p:cNvCxnSpPr>
            <p:nvPr/>
          </p:nvCxnSpPr>
          <p:spPr>
            <a:xfrm rot="5400000">
              <a:off x="7803360" y="3076200"/>
              <a:ext cx="112320" cy="98280"/>
            </a:xfrm>
            <a:prstGeom prst="curvedConnector5">
              <a:avLst>
                <a:gd name="adj1" fmla="val 49517"/>
                <a:gd name="adj2" fmla="val 50000"/>
                <a:gd name="adj3" fmla="val 495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3" name=""/>
            <p:cNvCxnSpPr>
              <a:stCxn id="679" idx="2"/>
              <a:endCxn id="684" idx="0"/>
            </p:cNvCxnSpPr>
            <p:nvPr/>
          </p:nvCxnSpPr>
          <p:spPr>
            <a:xfrm flipV="1" rot="10800000">
              <a:off x="7810560" y="3022920"/>
              <a:ext cx="4932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4" name=""/>
            <p:cNvCxnSpPr>
              <a:stCxn id="679" idx="2"/>
              <a:endCxn id="683" idx="0"/>
            </p:cNvCxnSpPr>
            <p:nvPr/>
          </p:nvCxnSpPr>
          <p:spPr>
            <a:xfrm flipV="1" rot="10800000">
              <a:off x="7664040" y="3022920"/>
              <a:ext cx="1958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5" name=""/>
            <p:cNvCxnSpPr>
              <a:stCxn id="679" idx="1"/>
              <a:endCxn id="685" idx="6"/>
            </p:cNvCxnSpPr>
            <p:nvPr/>
          </p:nvCxnSpPr>
          <p:spPr>
            <a:xfrm flipV="1" rot="16200000">
              <a:off x="7809120" y="2925000"/>
              <a:ext cx="18720" cy="11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79" idx="0"/>
              <a:endCxn id="686" idx="6"/>
            </p:cNvCxnSpPr>
            <p:nvPr/>
          </p:nvCxnSpPr>
          <p:spPr>
            <a:xfrm flipV="1" rot="16200000">
              <a:off x="7830720" y="2898720"/>
              <a:ext cx="107280" cy="4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7" name=""/>
            <p:cNvCxnSpPr>
              <a:stCxn id="679" idx="0"/>
              <a:endCxn id="687" idx="5"/>
            </p:cNvCxnSpPr>
            <p:nvPr/>
          </p:nvCxnSpPr>
          <p:spPr>
            <a:xfrm flipH="1" flipV="1" rot="5400000">
              <a:off x="7837920" y="2870640"/>
              <a:ext cx="177480" cy="35280"/>
            </a:xfrm>
            <a:prstGeom prst="curvedConnector5">
              <a:avLst>
                <a:gd name="adj1" fmla="val 46341"/>
                <a:gd name="adj2" fmla="val 49484"/>
                <a:gd name="adj3" fmla="val 46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79" idx="7"/>
              <a:endCxn id="688" idx="4"/>
            </p:cNvCxnSpPr>
            <p:nvPr/>
          </p:nvCxnSpPr>
          <p:spPr>
            <a:xfrm flipH="1" flipV="1" rot="5400000">
              <a:off x="7937640" y="2921400"/>
              <a:ext cx="75240" cy="63360"/>
            </a:xfrm>
            <a:prstGeom prst="curvedConnector5">
              <a:avLst>
                <a:gd name="adj1" fmla="val 59615"/>
                <a:gd name="adj2" fmla="val 49714"/>
                <a:gd name="adj3" fmla="val 596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79" idx="6"/>
              <a:endCxn id="689" idx="3"/>
            </p:cNvCxnSpPr>
            <p:nvPr/>
          </p:nvCxnSpPr>
          <p:spPr>
            <a:xfrm flipV="1">
              <a:off x="7957800" y="2952720"/>
              <a:ext cx="112320" cy="7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37" idx="6"/>
              <a:endCxn id="679" idx="0"/>
            </p:cNvCxnSpPr>
            <p:nvPr/>
          </p:nvCxnSpPr>
          <p:spPr>
            <a:xfrm>
              <a:off x="7274160" y="2511720"/>
              <a:ext cx="635760" cy="465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1" name=""/>
            <p:cNvCxnSpPr>
              <a:stCxn id="637" idx="4"/>
            </p:cNvCxnSpPr>
            <p:nvPr/>
          </p:nvCxnSpPr>
          <p:spPr>
            <a:xfrm rot="5400000">
              <a:off x="6519600" y="2579040"/>
              <a:ext cx="726480" cy="684360"/>
            </a:xfrm>
            <a:prstGeom prst="curvedConnector5">
              <a:avLst>
                <a:gd name="adj1" fmla="val 49925"/>
                <a:gd name="adj2" fmla="val 50000"/>
                <a:gd name="adj3" fmla="val 49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2" name=""/>
          <p:cNvGrpSpPr/>
          <p:nvPr/>
        </p:nvGrpSpPr>
        <p:grpSpPr>
          <a:xfrm>
            <a:off x="6781680" y="4776840"/>
            <a:ext cx="1380960" cy="1237320"/>
            <a:chOff x="6781680" y="4776840"/>
            <a:chExt cx="1380960" cy="123732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tretch/>
          </p:blipFill>
          <p:spPr>
            <a:xfrm>
              <a:off x="7637040" y="4817520"/>
              <a:ext cx="525600" cy="62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3"/>
            <a:stretch/>
          </p:blipFill>
          <p:spPr>
            <a:xfrm flipH="1">
              <a:off x="7138080" y="4776840"/>
              <a:ext cx="525600" cy="62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6781680" y="5100120"/>
              <a:ext cx="52560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5"/>
            <a:stretch/>
          </p:blipFill>
          <p:spPr>
            <a:xfrm rot="6361800">
              <a:off x="7429320" y="5369040"/>
              <a:ext cx="548640" cy="59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7" name=""/>
          <p:cNvSpPr/>
          <p:nvPr/>
        </p:nvSpPr>
        <p:spPr>
          <a:xfrm>
            <a:off x="838080" y="63244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&gt;&gt;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C949-B0C0-40DC-9B6C-4B1BCFF06F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scann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scan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r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exampl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aling with validatio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838080" y="2519280"/>
            <a:ext cx="4572000" cy="3952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47760" y="3381480"/>
            <a:ext cx="2409840" cy="32364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D426-53A9-4AB8-AC79-F0A85F0231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0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3.33333E-006 0.06135 E">
                                      <p:cBhvr>
                                        <p:cTn id="1227" dur="5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41400" y="1603440"/>
            <a:ext cx="7458120" cy="33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password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password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if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 (username.matches(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\\w*"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)) {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useri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u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ername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AND passwor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password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3520" y="1143000"/>
            <a:ext cx="8381880" cy="3809880"/>
            <a:chOff x="533520" y="1143000"/>
            <a:chExt cx="8381880" cy="3809880"/>
          </a:xfrm>
        </p:grpSpPr>
        <p:sp>
          <p:nvSpPr>
            <p:cNvPr id="714" name=""/>
            <p:cNvSpPr/>
            <p:nvPr/>
          </p:nvSpPr>
          <p:spPr>
            <a:xfrm>
              <a:off x="533520" y="2362320"/>
              <a:ext cx="83055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9480" y="1143000"/>
              <a:ext cx="822960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2971800"/>
              <a:ext cx="8305920" cy="457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9480" y="3429000"/>
              <a:ext cx="82296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143000" y="1295280"/>
            <a:ext cx="655308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b6db"/>
              </a:gs>
              <a:gs pos="100000">
                <a:srgbClr val="a6c3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tring username = request.getParameter</a:t>
            </a:r>
            <a:r>
              <a:rPr b="1" sz="18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"</a:t>
            </a:r>
            <a:r>
              <a:rPr b="1" sz="18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29292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23880" y="3581280"/>
            <a:ext cx="601992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b6db"/>
              </a:gs>
              <a:gs pos="100000">
                <a:srgbClr val="a6c3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tring 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…"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us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33720" y="4800600"/>
            <a:ext cx="601956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b9191"/>
              </a:gs>
              <a:gs pos="100000">
                <a:srgbClr val="e1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ResultSet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49280" y="200016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username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49280" y="298116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    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* from tUsers where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"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+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32080" y="4006800"/>
            <a:ext cx="60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ResultSet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95480" y="3962520"/>
            <a:ext cx="3791160" cy="1003320"/>
          </a:xfrm>
          <a:custGeom>
            <a:avLst/>
            <a:gdLst/>
            <a:ahLst/>
            <a:rect l="l" t="t" r="r" b="b"/>
            <a:pathLst>
              <a:path w="2388" h="632">
                <a:moveTo>
                  <a:pt x="0" y="0"/>
                </a:moveTo>
                <a:cubicBezTo>
                  <a:pt x="196" y="300"/>
                  <a:pt x="2216" y="136"/>
                  <a:pt x="2388" y="632"/>
                </a:cubicBezTo>
              </a:path>
            </a:pathLst>
          </a:custGeom>
          <a:noFill/>
          <a:ln w="5724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1828800"/>
            <a:ext cx="2743200" cy="1905120"/>
          </a:xfrm>
          <a:custGeom>
            <a:avLst/>
            <a:gdLst/>
            <a:ahLst/>
            <a:rect l="l" t="t" r="r" b="b"/>
            <a:pathLst>
              <a:path w="1776" h="1296">
                <a:moveTo>
                  <a:pt x="0" y="0"/>
                </a:moveTo>
                <a:cubicBezTo>
                  <a:pt x="196" y="300"/>
                  <a:pt x="1604" y="800"/>
                  <a:pt x="1776" y="1296"/>
                </a:cubicBezTo>
              </a:path>
            </a:pathLst>
          </a:custGeom>
          <a:noFill/>
          <a:ln w="5724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4876920" y="874800"/>
            <a:ext cx="608040" cy="6490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ndling Validation Code in WB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A955-1244-46BB-AAF9-5F005193EE38}" type="slidenum">
              <a:t>24</a:t>
            </a:fld>
          </a:p>
        </p:txBody>
      </p:sp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C 4.16667E-006 -1.11111E-006 -0.01372 0.04236 -0.01441 0.13195 E">
                                      <p:cBhvr>
                                        <p:cTn id="1255" dur="1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4971E-006 C 0.00782 -0.0326 0.00868 -0.08324 -0.01146 -0.08786 E">
                                      <p:cBhvr>
                                        <p:cTn id="1257" dur="1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C -0.05885 0.02106 -0.07673 0.07824 -0.07552 0.10347 E">
                                      <p:cBhvr>
                                        <p:cTn id="1259" dur="1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-0.27482 1.48148E-006 E">
                                      <p:cBhvr>
                                        <p:cTn id="1288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82 1.48148E-006 C -0.2651 0.02106 -0.2658 0.07731 -0.21649 0.12662 C -0.16718 0.17592 -0.02743 0.26088 0.02101 0.29606 C 0.06945 0.33125 0.06302 0.32893 0.07414 0.33773 E">
                                      <p:cBhvr>
                                        <p:cTn id="1295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05 0.33634 L -0.26024 0.33634 E">
                                      <p:cBhvr>
                                        <p:cTn id="1298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0.33611 C -0.2493 0.34954 -0.25434 0.39421 -0.19461 0.4169 C -0.18107 0.42778 0.03247 0.45648 0.09809 0.47245 C 0.16372 0.48842 0.17813 0.5044 0.19914 0.51273 E">
                                      <p:cBhvr>
                                        <p:cTn id="1305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9" dur="250" autoRev="1" fill="hold"/>
                                        <p:tgtEl>
                                          <p:spTgt spid="7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3" dur="250" autoRev="1" fill="hold"/>
                                        <p:tgtEl>
                                          <p:spTgt spid="7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scann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scan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r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exampl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aling with validatio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2943360"/>
            <a:ext cx="4572000" cy="3952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47760" y="3381480"/>
            <a:ext cx="2409840" cy="32364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4446-83AE-479B-A995-B42AC740AE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8.33333E-007 0.05416 E">
                                      <p:cBhvr>
                                        <p:cTn id="1327" dur="5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ndling Validation Code in BB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82520" y="1646280"/>
            <a:ext cx="1905120" cy="273060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298080" y="2471760"/>
            <a:ext cx="282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5600" y="2995560"/>
            <a:ext cx="1095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133720" y="1219320"/>
            <a:ext cx="6769080" cy="4552920"/>
            <a:chOff x="2133720" y="1219320"/>
            <a:chExt cx="6769080" cy="4552920"/>
          </a:xfrm>
        </p:grpSpPr>
        <p:grpSp>
          <p:nvGrpSpPr>
            <p:cNvPr id="737" name=""/>
            <p:cNvGrpSpPr/>
            <p:nvPr/>
          </p:nvGrpSpPr>
          <p:grpSpPr>
            <a:xfrm>
              <a:off x="2133720" y="1219320"/>
              <a:ext cx="6769080" cy="4552920"/>
              <a:chOff x="2133720" y="1219320"/>
              <a:chExt cx="6769080" cy="455292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2133720" y="1219320"/>
                <a:ext cx="6769080" cy="4552920"/>
                <a:chOff x="2133720" y="1219320"/>
                <a:chExt cx="6769080" cy="4552920"/>
              </a:xfrm>
            </p:grpSpPr>
            <p:pic>
              <p:nvPicPr>
                <p:cNvPr id="73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33720" y="1238400"/>
                  <a:ext cx="6769080" cy="453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3"/>
                <a:srcRect l="24979" t="-415" r="29764" b="94371"/>
                <a:stretch/>
              </p:blipFill>
              <p:spPr>
                <a:xfrm>
                  <a:off x="2589120" y="1219320"/>
                  <a:ext cx="30639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9920" y="1978200"/>
                <a:ext cx="1181160" cy="34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2" name=""/>
            <p:cNvSpPr/>
            <p:nvPr/>
          </p:nvSpPr>
          <p:spPr>
            <a:xfrm>
              <a:off x="3533760" y="2692440"/>
              <a:ext cx="495288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Login Fail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We’re sorry but this username is not vali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Please insert a valid username and try agai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5"/>
            <a:stretch/>
          </p:blipFill>
          <p:spPr>
            <a:xfrm>
              <a:off x="3581280" y="3543480"/>
              <a:ext cx="304812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4" name=""/>
          <p:cNvSpPr/>
          <p:nvPr/>
        </p:nvSpPr>
        <p:spPr>
          <a:xfrm>
            <a:off x="1857240" y="3057480"/>
            <a:ext cx="7010640" cy="30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username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= request.getParameter(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username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password = request.getParameter(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password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if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 (username.length() &gt; 5) {</a:t>
            </a:r>
            <a:r>
              <a:rPr b="1" sz="16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91af"/>
                </a:solidFill>
                <a:latin typeface="Courier New"/>
                <a:ea typeface="Arial"/>
              </a:rPr>
              <a:t>     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String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query =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SELECT * from tUsers where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"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+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useri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</a:t>
            </a:r>
            <a:r>
              <a:rPr b="1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u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sername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 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    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  <a:ea typeface="Arial"/>
              </a:rPr>
              <a:t>"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AND password=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+ password + </a:t>
            </a:r>
            <a:r>
              <a:rPr b="1" sz="1600" spc="-1" strike="noStrike">
                <a:solidFill>
                  <a:srgbClr val="a31515"/>
                </a:solidFill>
                <a:latin typeface="Courier New"/>
                <a:ea typeface="Arial"/>
              </a:rPr>
              <a:t>"'"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	</a:t>
            </a:r>
            <a:r>
              <a:rPr b="1" sz="1600" spc="-1" strike="noStrike">
                <a:solidFill>
                  <a:srgbClr val="2b91af"/>
                </a:solidFill>
                <a:latin typeface="Courier New"/>
                <a:ea typeface="Arial"/>
              </a:rPr>
              <a:t>ResultSet</a:t>
            </a:r>
            <a:r>
              <a:rPr b="1" sz="1600" spc="-1" strike="noStrike">
                <a:solidFill>
                  <a:srgbClr val="292929"/>
                </a:solidFill>
                <a:latin typeface="Courier New"/>
                <a:ea typeface="Arial"/>
              </a:rPr>
              <a:t> rs = stmt.executeQuery(que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Courier Ne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5400000">
            <a:off x="903960" y="4104360"/>
            <a:ext cx="982800" cy="1324080"/>
          </a:xfrm>
          <a:custGeom>
            <a:avLst/>
            <a:gdLst>
              <a:gd name="textAreaLeft" fmla="*/ 141120 w 982800"/>
              <a:gd name="textAreaRight" fmla="*/ 898920 w 982800"/>
              <a:gd name="textAreaTop" fmla="*/ 1046160 h 1324080"/>
              <a:gd name="textAreaBottom" fmla="*/ 1210680 h 1324080"/>
            </a:gdLst>
            <a:ahLst/>
            <a:rect l="textAreaLeft" t="textAreaTop" r="textAreaRight" b="textAreaBottom"/>
            <a:pathLst>
              <a:path w="21600" h="21600">
                <a:moveTo>
                  <a:pt x="0" y="18914"/>
                </a:moveTo>
                <a:lnTo>
                  <a:pt x="17064" y="18914"/>
                </a:lnTo>
                <a:lnTo>
                  <a:pt x="17064" y="3107"/>
                </a:lnTo>
                <a:lnTo>
                  <a:pt x="15214" y="3107"/>
                </a:lnTo>
                <a:lnTo>
                  <a:pt x="18407" y="0"/>
                </a:lnTo>
                <a:lnTo>
                  <a:pt x="21600" y="3107"/>
                </a:lnTo>
                <a:lnTo>
                  <a:pt x="19750" y="3107"/>
                </a:lnTo>
                <a:lnTo>
                  <a:pt x="19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889fb"/>
          </a:solidFill>
          <a:ln w="1260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0D0C-2943-4E01-AC17-ADB973FA0D9A}" type="slidenum">
              <a:t>26</a:t>
            </a:fld>
          </a:p>
        </p:txBody>
      </p:sp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B vs. WB – Accuracy Challeng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38080" y="1219320"/>
            <a:ext cx="7391160" cy="4800600"/>
            <a:chOff x="838080" y="1219320"/>
            <a:chExt cx="7391160" cy="4800600"/>
          </a:xfrm>
        </p:grpSpPr>
        <p:sp>
          <p:nvSpPr>
            <p:cNvPr id="748" name=""/>
            <p:cNvSpPr/>
            <p:nvPr/>
          </p:nvSpPr>
          <p:spPr>
            <a:xfrm>
              <a:off x="838080" y="1219320"/>
              <a:ext cx="7391160" cy="4800600"/>
            </a:xfrm>
            <a:prstGeom prst="roundRect">
              <a:avLst>
                <a:gd name="adj" fmla="val 9194"/>
              </a:avLst>
            </a:prstGeom>
            <a:gradFill rotWithShape="0">
              <a:gsLst>
                <a:gs pos="0">
                  <a:srgbClr val="7faad5"/>
                </a:gs>
                <a:gs pos="100000">
                  <a:srgbClr val="b9d0e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440" y="1219320"/>
              <a:ext cx="0" cy="4800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38080" y="3645000"/>
              <a:ext cx="739116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1905120" y="12193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halle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ver all attack 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905120" y="3657600"/>
            <a:ext cx="5867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halle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liminate non-exploitabl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990720" y="2057400"/>
            <a:ext cx="731880" cy="1068120"/>
            <a:chOff x="990720" y="2057400"/>
            <a:chExt cx="731880" cy="1068120"/>
          </a:xfrm>
        </p:grpSpPr>
        <p:grpSp>
          <p:nvGrpSpPr>
            <p:cNvPr id="754" name=""/>
            <p:cNvGrpSpPr/>
            <p:nvPr/>
          </p:nvGrpSpPr>
          <p:grpSpPr>
            <a:xfrm>
              <a:off x="990720" y="2057400"/>
              <a:ext cx="731880" cy="761760"/>
              <a:chOff x="990720" y="2057400"/>
              <a:chExt cx="731880" cy="761760"/>
            </a:xfrm>
          </p:grpSpPr>
          <p:sp>
            <p:nvSpPr>
              <p:cNvPr id="755" name=""/>
              <p:cNvSpPr/>
              <p:nvPr/>
            </p:nvSpPr>
            <p:spPr>
              <a:xfrm>
                <a:off x="99072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368360" y="2196720"/>
                <a:ext cx="354240" cy="62244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94320" y="2057400"/>
                <a:ext cx="723240" cy="32436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1119600" y="275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990720" y="4343400"/>
            <a:ext cx="731880" cy="1068120"/>
            <a:chOff x="990720" y="4343400"/>
            <a:chExt cx="731880" cy="1068120"/>
          </a:xfrm>
        </p:grpSpPr>
        <p:pic>
          <p:nvPicPr>
            <p:cNvPr id="760" name="" descr=""/>
            <p:cNvPicPr/>
            <p:nvPr/>
          </p:nvPicPr>
          <p:blipFill>
            <a:blip r:embed="rId1"/>
            <a:stretch/>
          </p:blipFill>
          <p:spPr>
            <a:xfrm>
              <a:off x="1143000" y="4419360"/>
              <a:ext cx="46836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1028880" y="50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990720" y="4343400"/>
              <a:ext cx="731880" cy="761760"/>
              <a:chOff x="990720" y="4343400"/>
              <a:chExt cx="731880" cy="761760"/>
            </a:xfrm>
          </p:grpSpPr>
          <p:sp>
            <p:nvSpPr>
              <p:cNvPr id="763" name=""/>
              <p:cNvSpPr/>
              <p:nvPr/>
            </p:nvSpPr>
            <p:spPr>
              <a:xfrm>
                <a:off x="990720" y="4483080"/>
                <a:ext cx="35388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1368360" y="4483080"/>
                <a:ext cx="354240" cy="622080"/>
              </a:xfrm>
              <a:custGeom>
                <a:avLst/>
                <a:gdLst/>
                <a:ahLst/>
                <a:rect l="l" t="t" r="r" b="b"/>
                <a:pathLst>
                  <a:path w="354" h="597">
                    <a:moveTo>
                      <a:pt x="0" y="0"/>
                    </a:moveTo>
                    <a:lnTo>
                      <a:pt x="354" y="195"/>
                    </a:lnTo>
                    <a:lnTo>
                      <a:pt x="354" y="597"/>
                    </a:lnTo>
                    <a:lnTo>
                      <a:pt x="34" y="40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d5d5d5">
                      <a:alpha val="25098"/>
                    </a:srgbClr>
                  </a:gs>
                </a:gsLst>
                <a:lin ang="5400000"/>
              </a:gra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993600" y="4343400"/>
                <a:ext cx="723960" cy="323640"/>
              </a:xfrm>
              <a:custGeom>
                <a:avLst/>
                <a:gdLst/>
                <a:ahLst/>
                <a:rect l="l" t="t" r="r" b="b"/>
                <a:pathLst>
                  <a:path w="1712" h="768">
                    <a:moveTo>
                      <a:pt x="0" y="276"/>
                    </a:moveTo>
                    <a:lnTo>
                      <a:pt x="858" y="768"/>
                    </a:lnTo>
                    <a:lnTo>
                      <a:pt x="1712" y="278"/>
                    </a:lnTo>
                    <a:lnTo>
                      <a:pt x="852" y="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ececec">
                  <a:alpha val="70000"/>
                </a:srgbClr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6248520" y="2209680"/>
            <a:ext cx="1904760" cy="1371240"/>
            <a:chOff x="6248520" y="2209680"/>
            <a:chExt cx="1904760" cy="1371240"/>
          </a:xfrm>
        </p:grpSpPr>
        <p:sp>
          <p:nvSpPr>
            <p:cNvPr id="767" name=""/>
            <p:cNvSpPr/>
            <p:nvPr/>
          </p:nvSpPr>
          <p:spPr>
            <a:xfrm>
              <a:off x="7176600" y="2465280"/>
              <a:ext cx="97560" cy="9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71720" y="25675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25200" y="261864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78680" y="26701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32160" y="25675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78680" y="25675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81120" y="2414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78680" y="23119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76600" y="22096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74160" y="23119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71720" y="236304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67" idx="6"/>
              <a:endCxn id="768" idx="0"/>
            </p:cNvCxnSpPr>
            <p:nvPr/>
          </p:nvCxnSpPr>
          <p:spPr>
            <a:xfrm>
              <a:off x="7273800" y="2511720"/>
              <a:ext cx="1472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9" name=""/>
            <p:cNvCxnSpPr>
              <a:stCxn id="767" idx="5"/>
              <a:endCxn id="769" idx="0"/>
            </p:cNvCxnSpPr>
            <p:nvPr/>
          </p:nvCxnSpPr>
          <p:spPr>
            <a:xfrm flipH="1" rot="16200000">
              <a:off x="7228440" y="2574000"/>
              <a:ext cx="75240" cy="14760"/>
            </a:xfrm>
            <a:prstGeom prst="curvedConnector5">
              <a:avLst>
                <a:gd name="adj1" fmla="val 58173"/>
                <a:gd name="adj2" fmla="val 50000"/>
                <a:gd name="adj3" fmla="val 581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0" name=""/>
            <p:cNvCxnSpPr>
              <a:stCxn id="767" idx="4"/>
              <a:endCxn id="770" idx="0"/>
            </p:cNvCxnSpPr>
            <p:nvPr/>
          </p:nvCxnSpPr>
          <p:spPr>
            <a:xfrm rot="5400000">
              <a:off x="7119720" y="2565000"/>
              <a:ext cx="112320" cy="98280"/>
            </a:xfrm>
            <a:prstGeom prst="curvedConnector5">
              <a:avLst>
                <a:gd name="adj1" fmla="val 49517"/>
                <a:gd name="adj2" fmla="val 50000"/>
                <a:gd name="adj3" fmla="val 495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1" name=""/>
            <p:cNvCxnSpPr>
              <a:stCxn id="767" idx="2"/>
              <a:endCxn id="772" idx="0"/>
            </p:cNvCxnSpPr>
            <p:nvPr/>
          </p:nvCxnSpPr>
          <p:spPr>
            <a:xfrm flipV="1" rot="10800000">
              <a:off x="7126920" y="2511000"/>
              <a:ext cx="4932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2" name=""/>
            <p:cNvCxnSpPr>
              <a:stCxn id="767" idx="2"/>
              <a:endCxn id="771" idx="0"/>
            </p:cNvCxnSpPr>
            <p:nvPr/>
          </p:nvCxnSpPr>
          <p:spPr>
            <a:xfrm flipV="1" rot="10800000">
              <a:off x="6980400" y="2511000"/>
              <a:ext cx="1958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3" name=""/>
            <p:cNvCxnSpPr>
              <a:stCxn id="767" idx="1"/>
              <a:endCxn id="773" idx="6"/>
            </p:cNvCxnSpPr>
            <p:nvPr/>
          </p:nvCxnSpPr>
          <p:spPr>
            <a:xfrm flipV="1" rot="16200000">
              <a:off x="7125120" y="2413440"/>
              <a:ext cx="18720" cy="11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4" name=""/>
            <p:cNvCxnSpPr>
              <a:stCxn id="767" idx="0"/>
              <a:endCxn id="774" idx="6"/>
            </p:cNvCxnSpPr>
            <p:nvPr/>
          </p:nvCxnSpPr>
          <p:spPr>
            <a:xfrm flipV="1" rot="16200000">
              <a:off x="7147080" y="2387160"/>
              <a:ext cx="107280" cy="4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5" name=""/>
            <p:cNvCxnSpPr>
              <a:stCxn id="767" idx="0"/>
              <a:endCxn id="775" idx="5"/>
            </p:cNvCxnSpPr>
            <p:nvPr/>
          </p:nvCxnSpPr>
          <p:spPr>
            <a:xfrm flipH="1" flipV="1" rot="5400000">
              <a:off x="7153920" y="2358720"/>
              <a:ext cx="177480" cy="35280"/>
            </a:xfrm>
            <a:prstGeom prst="curvedConnector5">
              <a:avLst>
                <a:gd name="adj1" fmla="val 46341"/>
                <a:gd name="adj2" fmla="val 49484"/>
                <a:gd name="adj3" fmla="val 46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6" name=""/>
            <p:cNvCxnSpPr>
              <a:stCxn id="767" idx="7"/>
              <a:endCxn id="776" idx="4"/>
            </p:cNvCxnSpPr>
            <p:nvPr/>
          </p:nvCxnSpPr>
          <p:spPr>
            <a:xfrm flipH="1" flipV="1" rot="5400000">
              <a:off x="7253640" y="2410200"/>
              <a:ext cx="74520" cy="63360"/>
            </a:xfrm>
            <a:prstGeom prst="curvedConnector5">
              <a:avLst>
                <a:gd name="adj1" fmla="val 60194"/>
                <a:gd name="adj2" fmla="val 49714"/>
                <a:gd name="adj3" fmla="val 601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7" name=""/>
            <p:cNvCxnSpPr>
              <a:stCxn id="767" idx="6"/>
              <a:endCxn id="777" idx="3"/>
            </p:cNvCxnSpPr>
            <p:nvPr/>
          </p:nvCxnSpPr>
          <p:spPr>
            <a:xfrm flipV="1">
              <a:off x="7274160" y="2441160"/>
              <a:ext cx="112320" cy="7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8" name=""/>
            <p:cNvSpPr/>
            <p:nvPr/>
          </p:nvSpPr>
          <p:spPr>
            <a:xfrm>
              <a:off x="6492600" y="3283920"/>
              <a:ext cx="97560" cy="9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88080" y="3386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41560" y="34372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95040" y="348840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48520" y="3386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95040" y="33861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97120" y="323280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395040" y="31305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92600" y="30279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90160" y="31305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88080" y="31813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9" name=""/>
            <p:cNvCxnSpPr>
              <a:stCxn id="788" idx="6"/>
              <a:endCxn id="789" idx="0"/>
            </p:cNvCxnSpPr>
            <p:nvPr/>
          </p:nvCxnSpPr>
          <p:spPr>
            <a:xfrm>
              <a:off x="6589800" y="3330360"/>
              <a:ext cx="1472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88" idx="5"/>
              <a:endCxn id="790" idx="0"/>
            </p:cNvCxnSpPr>
            <p:nvPr/>
          </p:nvCxnSpPr>
          <p:spPr>
            <a:xfrm flipH="1" rot="16200000">
              <a:off x="6544800" y="3392640"/>
              <a:ext cx="75240" cy="14760"/>
            </a:xfrm>
            <a:prstGeom prst="curvedConnector5">
              <a:avLst>
                <a:gd name="adj1" fmla="val 58173"/>
                <a:gd name="adj2" fmla="val 50000"/>
                <a:gd name="adj3" fmla="val 581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1" name=""/>
            <p:cNvCxnSpPr>
              <a:stCxn id="788" idx="4"/>
              <a:endCxn id="791" idx="0"/>
            </p:cNvCxnSpPr>
            <p:nvPr/>
          </p:nvCxnSpPr>
          <p:spPr>
            <a:xfrm rot="5400000">
              <a:off x="6435720" y="3383280"/>
              <a:ext cx="112320" cy="98280"/>
            </a:xfrm>
            <a:prstGeom prst="curvedConnector5">
              <a:avLst>
                <a:gd name="adj1" fmla="val 49517"/>
                <a:gd name="adj2" fmla="val 50000"/>
                <a:gd name="adj3" fmla="val 495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2" name=""/>
            <p:cNvCxnSpPr>
              <a:stCxn id="788" idx="2"/>
              <a:endCxn id="793" idx="0"/>
            </p:cNvCxnSpPr>
            <p:nvPr/>
          </p:nvCxnSpPr>
          <p:spPr>
            <a:xfrm flipV="1" rot="10800000">
              <a:off x="6442920" y="3329640"/>
              <a:ext cx="4932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3" name=""/>
            <p:cNvCxnSpPr>
              <a:stCxn id="788" idx="2"/>
              <a:endCxn id="792" idx="0"/>
            </p:cNvCxnSpPr>
            <p:nvPr/>
          </p:nvCxnSpPr>
          <p:spPr>
            <a:xfrm flipV="1" rot="10800000">
              <a:off x="6296400" y="3329640"/>
              <a:ext cx="1958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4" name=""/>
            <p:cNvCxnSpPr>
              <a:stCxn id="788" idx="1"/>
              <a:endCxn id="794" idx="6"/>
            </p:cNvCxnSpPr>
            <p:nvPr/>
          </p:nvCxnSpPr>
          <p:spPr>
            <a:xfrm flipV="1" rot="16200000">
              <a:off x="6441480" y="3232080"/>
              <a:ext cx="18720" cy="11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5" name=""/>
            <p:cNvCxnSpPr>
              <a:stCxn id="788" idx="0"/>
              <a:endCxn id="795" idx="6"/>
            </p:cNvCxnSpPr>
            <p:nvPr/>
          </p:nvCxnSpPr>
          <p:spPr>
            <a:xfrm flipV="1" rot="16200000">
              <a:off x="6463080" y="3205800"/>
              <a:ext cx="107280" cy="4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6" name=""/>
            <p:cNvCxnSpPr>
              <a:stCxn id="788" idx="0"/>
              <a:endCxn id="796" idx="5"/>
            </p:cNvCxnSpPr>
            <p:nvPr/>
          </p:nvCxnSpPr>
          <p:spPr>
            <a:xfrm flipH="1" flipV="1" rot="5400000">
              <a:off x="6470280" y="3177360"/>
              <a:ext cx="177480" cy="35280"/>
            </a:xfrm>
            <a:prstGeom prst="curvedConnector5">
              <a:avLst>
                <a:gd name="adj1" fmla="val 46341"/>
                <a:gd name="adj2" fmla="val 49484"/>
                <a:gd name="adj3" fmla="val 46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7" name=""/>
            <p:cNvCxnSpPr>
              <a:stCxn id="788" idx="7"/>
              <a:endCxn id="797" idx="4"/>
            </p:cNvCxnSpPr>
            <p:nvPr/>
          </p:nvCxnSpPr>
          <p:spPr>
            <a:xfrm flipH="1" flipV="1" rot="5400000">
              <a:off x="6570000" y="3228480"/>
              <a:ext cx="75240" cy="63360"/>
            </a:xfrm>
            <a:prstGeom prst="curvedConnector5">
              <a:avLst>
                <a:gd name="adj1" fmla="val 59615"/>
                <a:gd name="adj2" fmla="val 49714"/>
                <a:gd name="adj3" fmla="val 596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8" name=""/>
            <p:cNvCxnSpPr>
              <a:stCxn id="788" idx="6"/>
              <a:endCxn id="798" idx="3"/>
            </p:cNvCxnSpPr>
            <p:nvPr/>
          </p:nvCxnSpPr>
          <p:spPr>
            <a:xfrm flipV="1">
              <a:off x="6590160" y="3259800"/>
              <a:ext cx="112320" cy="7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9" name=""/>
            <p:cNvSpPr/>
            <p:nvPr/>
          </p:nvSpPr>
          <p:spPr>
            <a:xfrm>
              <a:off x="7860240" y="2976840"/>
              <a:ext cx="97560" cy="9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55720" y="30790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09200" y="313056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62680" y="31813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16160" y="30790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62680" y="30790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64760" y="292572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62680" y="28234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60240" y="27208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57800" y="282348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55720" y="2874600"/>
              <a:ext cx="97560" cy="9252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09" idx="6"/>
              <a:endCxn id="810" idx="0"/>
            </p:cNvCxnSpPr>
            <p:nvPr/>
          </p:nvCxnSpPr>
          <p:spPr>
            <a:xfrm>
              <a:off x="7957440" y="3023640"/>
              <a:ext cx="1472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1" name=""/>
            <p:cNvCxnSpPr>
              <a:stCxn id="809" idx="5"/>
              <a:endCxn id="811" idx="0"/>
            </p:cNvCxnSpPr>
            <p:nvPr/>
          </p:nvCxnSpPr>
          <p:spPr>
            <a:xfrm flipH="1" rot="16200000">
              <a:off x="7912440" y="3085560"/>
              <a:ext cx="75240" cy="14760"/>
            </a:xfrm>
            <a:prstGeom prst="curvedConnector5">
              <a:avLst>
                <a:gd name="adj1" fmla="val 58173"/>
                <a:gd name="adj2" fmla="val 50000"/>
                <a:gd name="adj3" fmla="val 581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2" name=""/>
            <p:cNvCxnSpPr>
              <a:stCxn id="809" idx="4"/>
              <a:endCxn id="812" idx="0"/>
            </p:cNvCxnSpPr>
            <p:nvPr/>
          </p:nvCxnSpPr>
          <p:spPr>
            <a:xfrm rot="5400000">
              <a:off x="7803360" y="3076200"/>
              <a:ext cx="112320" cy="98280"/>
            </a:xfrm>
            <a:prstGeom prst="curvedConnector5">
              <a:avLst>
                <a:gd name="adj1" fmla="val 49517"/>
                <a:gd name="adj2" fmla="val 50000"/>
                <a:gd name="adj3" fmla="val 495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3" name=""/>
            <p:cNvCxnSpPr>
              <a:stCxn id="809" idx="2"/>
              <a:endCxn id="814" idx="0"/>
            </p:cNvCxnSpPr>
            <p:nvPr/>
          </p:nvCxnSpPr>
          <p:spPr>
            <a:xfrm flipV="1" rot="10800000">
              <a:off x="7810560" y="3022920"/>
              <a:ext cx="4932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4" name=""/>
            <p:cNvCxnSpPr>
              <a:stCxn id="809" idx="2"/>
              <a:endCxn id="813" idx="0"/>
            </p:cNvCxnSpPr>
            <p:nvPr/>
          </p:nvCxnSpPr>
          <p:spPr>
            <a:xfrm flipV="1" rot="10800000">
              <a:off x="7664040" y="3022920"/>
              <a:ext cx="195840" cy="5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5" name=""/>
            <p:cNvCxnSpPr>
              <a:stCxn id="809" idx="1"/>
              <a:endCxn id="815" idx="6"/>
            </p:cNvCxnSpPr>
            <p:nvPr/>
          </p:nvCxnSpPr>
          <p:spPr>
            <a:xfrm flipV="1" rot="16200000">
              <a:off x="7809120" y="2925000"/>
              <a:ext cx="18720" cy="11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6" name=""/>
            <p:cNvCxnSpPr>
              <a:stCxn id="809" idx="0"/>
              <a:endCxn id="816" idx="6"/>
            </p:cNvCxnSpPr>
            <p:nvPr/>
          </p:nvCxnSpPr>
          <p:spPr>
            <a:xfrm flipV="1" rot="16200000">
              <a:off x="7830720" y="2898720"/>
              <a:ext cx="107280" cy="4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7" name=""/>
            <p:cNvCxnSpPr>
              <a:stCxn id="809" idx="0"/>
              <a:endCxn id="817" idx="5"/>
            </p:cNvCxnSpPr>
            <p:nvPr/>
          </p:nvCxnSpPr>
          <p:spPr>
            <a:xfrm flipH="1" flipV="1" rot="5400000">
              <a:off x="7837920" y="2870640"/>
              <a:ext cx="177480" cy="35280"/>
            </a:xfrm>
            <a:prstGeom prst="curvedConnector5">
              <a:avLst>
                <a:gd name="adj1" fmla="val 46341"/>
                <a:gd name="adj2" fmla="val 49484"/>
                <a:gd name="adj3" fmla="val 46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8" name=""/>
            <p:cNvCxnSpPr>
              <a:stCxn id="809" idx="7"/>
              <a:endCxn id="818" idx="4"/>
            </p:cNvCxnSpPr>
            <p:nvPr/>
          </p:nvCxnSpPr>
          <p:spPr>
            <a:xfrm flipH="1" flipV="1" rot="5400000">
              <a:off x="7937640" y="2921400"/>
              <a:ext cx="75240" cy="63360"/>
            </a:xfrm>
            <a:prstGeom prst="curvedConnector5">
              <a:avLst>
                <a:gd name="adj1" fmla="val 59615"/>
                <a:gd name="adj2" fmla="val 49714"/>
                <a:gd name="adj3" fmla="val 596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9" name=""/>
            <p:cNvCxnSpPr>
              <a:stCxn id="809" idx="6"/>
              <a:endCxn id="819" idx="3"/>
            </p:cNvCxnSpPr>
            <p:nvPr/>
          </p:nvCxnSpPr>
          <p:spPr>
            <a:xfrm flipV="1">
              <a:off x="7957800" y="2952720"/>
              <a:ext cx="112320" cy="7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0" name=""/>
            <p:cNvCxnSpPr>
              <a:stCxn id="767" idx="6"/>
              <a:endCxn id="809" idx="0"/>
            </p:cNvCxnSpPr>
            <p:nvPr/>
          </p:nvCxnSpPr>
          <p:spPr>
            <a:xfrm>
              <a:off x="7274160" y="2511720"/>
              <a:ext cx="635760" cy="465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1" name=""/>
            <p:cNvCxnSpPr>
              <a:stCxn id="767" idx="4"/>
            </p:cNvCxnSpPr>
            <p:nvPr/>
          </p:nvCxnSpPr>
          <p:spPr>
            <a:xfrm rot="5400000">
              <a:off x="6519600" y="2579040"/>
              <a:ext cx="726480" cy="684360"/>
            </a:xfrm>
            <a:prstGeom prst="curvedConnector5">
              <a:avLst>
                <a:gd name="adj1" fmla="val 49925"/>
                <a:gd name="adj2" fmla="val 50000"/>
                <a:gd name="adj3" fmla="val 49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2" name=""/>
          <p:cNvGrpSpPr/>
          <p:nvPr/>
        </p:nvGrpSpPr>
        <p:grpSpPr>
          <a:xfrm>
            <a:off x="6477120" y="4191120"/>
            <a:ext cx="1600200" cy="1371600"/>
            <a:chOff x="6477120" y="4191120"/>
            <a:chExt cx="1600200" cy="1371600"/>
          </a:xfrm>
        </p:grpSpPr>
        <p:sp>
          <p:nvSpPr>
            <p:cNvPr id="833" name=""/>
            <p:cNvSpPr/>
            <p:nvPr/>
          </p:nvSpPr>
          <p:spPr>
            <a:xfrm>
              <a:off x="6875640" y="4427640"/>
              <a:ext cx="1201680" cy="4158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27960" y="5362560"/>
              <a:ext cx="206280" cy="200160"/>
            </a:xfrm>
            <a:prstGeom prst="ellipse">
              <a:avLst/>
            </a:prstGeom>
            <a:gradFill rotWithShape="0">
              <a:gsLst>
                <a:gs pos="0">
                  <a:srgbClr val="db9191"/>
                </a:gs>
                <a:gs pos="100000">
                  <a:srgbClr val="e1a6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59520" y="4525920"/>
              <a:ext cx="206280" cy="200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77120" y="4191120"/>
              <a:ext cx="563400" cy="334800"/>
            </a:xfrm>
            <a:custGeom>
              <a:avLst/>
              <a:gdLst/>
              <a:ahLst/>
              <a:rect l="l" t="t" r="r" b="b"/>
              <a:pathLst>
                <a:path w="1248" h="960">
                  <a:moveTo>
                    <a:pt x="0" y="0"/>
                  </a:moveTo>
                  <a:cubicBezTo>
                    <a:pt x="228" y="4"/>
                    <a:pt x="456" y="8"/>
                    <a:pt x="624" y="48"/>
                  </a:cubicBezTo>
                  <a:cubicBezTo>
                    <a:pt x="792" y="88"/>
                    <a:pt x="904" y="88"/>
                    <a:pt x="1008" y="240"/>
                  </a:cubicBezTo>
                  <a:cubicBezTo>
                    <a:pt x="1112" y="392"/>
                    <a:pt x="1180" y="676"/>
                    <a:pt x="1248" y="9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7" name="" descr=""/>
            <p:cNvPicPr/>
            <p:nvPr/>
          </p:nvPicPr>
          <p:blipFill>
            <a:blip r:embed="rId2"/>
            <a:stretch/>
          </p:blipFill>
          <p:spPr>
            <a:xfrm>
              <a:off x="6875640" y="4444920"/>
              <a:ext cx="25236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3"/>
            <a:stretch/>
          </p:blipFill>
          <p:spPr>
            <a:xfrm>
              <a:off x="6564240" y="5249880"/>
              <a:ext cx="2556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7221600" y="4525920"/>
              <a:ext cx="206280" cy="200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80440" y="4525920"/>
              <a:ext cx="206280" cy="200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45400" y="4525920"/>
              <a:ext cx="206280" cy="200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40360" y="4734000"/>
              <a:ext cx="932040" cy="623880"/>
            </a:xfrm>
            <a:custGeom>
              <a:avLst/>
              <a:gdLst/>
              <a:ahLst/>
              <a:rect l="l" t="t" r="r" b="b"/>
              <a:pathLst>
                <a:path w="1082" h="723">
                  <a:moveTo>
                    <a:pt x="906" y="0"/>
                  </a:moveTo>
                  <a:cubicBezTo>
                    <a:pt x="921" y="45"/>
                    <a:pt x="1082" y="221"/>
                    <a:pt x="994" y="271"/>
                  </a:cubicBezTo>
                  <a:cubicBezTo>
                    <a:pt x="906" y="321"/>
                    <a:pt x="544" y="224"/>
                    <a:pt x="378" y="299"/>
                  </a:cubicBezTo>
                  <a:cubicBezTo>
                    <a:pt x="212" y="374"/>
                    <a:pt x="79" y="635"/>
                    <a:pt x="0" y="7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E21B-75D0-48A1-9F04-F0B49361C5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Two approaches to web application sc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BB automates attacker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WB automates code 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Challenges and issue coverage are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1952640" y="3809880"/>
            <a:ext cx="3657600" cy="2210040"/>
          </a:xfrm>
          <a:prstGeom prst="ellipse">
            <a:avLst/>
          </a:prstGeom>
          <a:gradFill rotWithShape="0">
            <a:gsLst>
              <a:gs pos="0">
                <a:srgbClr val="3a3a3a"/>
              </a:gs>
              <a:gs pos="100000">
                <a:srgbClr val="08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76720" y="3809880"/>
            <a:ext cx="3657600" cy="2210040"/>
          </a:xfrm>
          <a:prstGeom prst="ellipse">
            <a:avLst/>
          </a:prstGeom>
          <a:gradFill rotWithShape="0">
            <a:gsLst>
              <a:gs pos="0">
                <a:srgbClr val="ececec">
                  <a:alpha val="50196"/>
                </a:srgbClr>
              </a:gs>
              <a:gs pos="100000">
                <a:srgbClr val="d3d3d3">
                  <a:alpha val="5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96244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t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23AC-15A2-43FE-9D57-4522E591F0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Franklin Gothic Demi"/>
                <a:ea typeface="Courier New"/>
              </a:rPr>
              <a:t>?</a:t>
            </a:r>
            <a:endParaRPr b="0" lang="en-US" sz="25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1295280" y="-1143000"/>
            <a:ext cx="6553440" cy="91440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00520" y="2273400"/>
            <a:ext cx="1500120" cy="1320840"/>
          </a:xfrm>
          <a:custGeom>
            <a:avLst/>
            <a:gdLst/>
            <a:ahLst/>
            <a:rect l="l" t="t" r="r" b="b"/>
            <a:pathLst>
              <a:path w="945" h="832">
                <a:moveTo>
                  <a:pt x="0" y="452"/>
                </a:moveTo>
                <a:cubicBezTo>
                  <a:pt x="0" y="452"/>
                  <a:pt x="135" y="471"/>
                  <a:pt x="270" y="490"/>
                </a:cubicBezTo>
                <a:cubicBezTo>
                  <a:pt x="288" y="269"/>
                  <a:pt x="385" y="246"/>
                  <a:pt x="464" y="244"/>
                </a:cubicBezTo>
                <a:cubicBezTo>
                  <a:pt x="543" y="242"/>
                  <a:pt x="617" y="290"/>
                  <a:pt x="623" y="409"/>
                </a:cubicBezTo>
                <a:cubicBezTo>
                  <a:pt x="630" y="599"/>
                  <a:pt x="332" y="602"/>
                  <a:pt x="339" y="832"/>
                </a:cubicBezTo>
                <a:cubicBezTo>
                  <a:pt x="641" y="616"/>
                  <a:pt x="944" y="400"/>
                  <a:pt x="944" y="400"/>
                </a:cubicBezTo>
                <a:cubicBezTo>
                  <a:pt x="945" y="262"/>
                  <a:pt x="852" y="4"/>
                  <a:pt x="485" y="2"/>
                </a:cubicBezTo>
                <a:cubicBezTo>
                  <a:pt x="118" y="0"/>
                  <a:pt x="24" y="284"/>
                  <a:pt x="0" y="4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1470-2096-43BD-A645-7021CCA997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666880" y="2362320"/>
            <a:ext cx="2486160" cy="2857320"/>
            <a:chOff x="2666880" y="2362320"/>
            <a:chExt cx="2486160" cy="28573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2666880" y="2362320"/>
              <a:ext cx="248616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0981400">
              <a:off x="3965400" y="4114800"/>
              <a:ext cx="454320" cy="352440"/>
            </a:xfrm>
            <a:custGeom>
              <a:avLst/>
              <a:gdLst/>
              <a:ahLst/>
              <a:rect l="l" t="t" r="r" b="b"/>
              <a:pathLst>
                <a:path w="286" h="222">
                  <a:moveTo>
                    <a:pt x="0" y="222"/>
                  </a:moveTo>
                  <a:cubicBezTo>
                    <a:pt x="73" y="69"/>
                    <a:pt x="178" y="143"/>
                    <a:pt x="232" y="120"/>
                  </a:cubicBezTo>
                  <a:cubicBezTo>
                    <a:pt x="286" y="97"/>
                    <a:pt x="286" y="0"/>
                    <a:pt x="220" y="10"/>
                  </a:cubicBezTo>
                  <a:cubicBezTo>
                    <a:pt x="154" y="20"/>
                    <a:pt x="31" y="34"/>
                    <a:pt x="0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2d1c14"/>
                </a:gs>
                <a:gs pos="100000">
                  <a:srgbClr val="623d2c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20982000">
              <a:off x="4419720" y="4038120"/>
              <a:ext cx="453960" cy="352800"/>
            </a:xfrm>
            <a:custGeom>
              <a:avLst/>
              <a:gdLst/>
              <a:ahLst/>
              <a:rect l="l" t="t" r="r" b="b"/>
              <a:pathLst>
                <a:path w="286" h="222">
                  <a:moveTo>
                    <a:pt x="0" y="222"/>
                  </a:moveTo>
                  <a:cubicBezTo>
                    <a:pt x="73" y="69"/>
                    <a:pt x="178" y="143"/>
                    <a:pt x="232" y="120"/>
                  </a:cubicBezTo>
                  <a:cubicBezTo>
                    <a:pt x="286" y="97"/>
                    <a:pt x="286" y="0"/>
                    <a:pt x="220" y="10"/>
                  </a:cubicBezTo>
                  <a:cubicBezTo>
                    <a:pt x="154" y="20"/>
                    <a:pt x="31" y="34"/>
                    <a:pt x="0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2d1c14"/>
                </a:gs>
                <a:gs pos="100000">
                  <a:srgbClr val="623d2c"/>
                </a:gs>
              </a:gsLst>
              <a:lin ang="4782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87120" y="2593440"/>
            <a:ext cx="1361160" cy="2127960"/>
            <a:chOff x="4587120" y="2593440"/>
            <a:chExt cx="1361160" cy="2127960"/>
          </a:xfrm>
        </p:grpSpPr>
        <p:sp>
          <p:nvSpPr>
            <p:cNvPr id="154" name=""/>
            <p:cNvSpPr/>
            <p:nvPr/>
          </p:nvSpPr>
          <p:spPr>
            <a:xfrm rot="12352800">
              <a:off x="5028480" y="2590560"/>
              <a:ext cx="477720" cy="2133360"/>
            </a:xfrm>
            <a:custGeom>
              <a:avLst/>
              <a:gdLst/>
              <a:ahLst/>
              <a:rect l="l" t="t" r="r" b="b"/>
              <a:pathLst>
                <a:path w="608" h="2711">
                  <a:moveTo>
                    <a:pt x="244" y="29"/>
                  </a:moveTo>
                  <a:lnTo>
                    <a:pt x="220" y="32"/>
                  </a:lnTo>
                  <a:lnTo>
                    <a:pt x="196" y="33"/>
                  </a:lnTo>
                  <a:lnTo>
                    <a:pt x="172" y="36"/>
                  </a:lnTo>
                  <a:lnTo>
                    <a:pt x="147" y="39"/>
                  </a:lnTo>
                  <a:lnTo>
                    <a:pt x="122" y="41"/>
                  </a:lnTo>
                  <a:lnTo>
                    <a:pt x="98" y="42"/>
                  </a:lnTo>
                  <a:lnTo>
                    <a:pt x="74" y="42"/>
                  </a:lnTo>
                  <a:lnTo>
                    <a:pt x="50" y="42"/>
                  </a:lnTo>
                  <a:lnTo>
                    <a:pt x="2" y="53"/>
                  </a:lnTo>
                  <a:lnTo>
                    <a:pt x="0" y="80"/>
                  </a:lnTo>
                  <a:lnTo>
                    <a:pt x="3" y="119"/>
                  </a:lnTo>
                  <a:lnTo>
                    <a:pt x="6" y="153"/>
                  </a:lnTo>
                  <a:lnTo>
                    <a:pt x="9" y="172"/>
                  </a:lnTo>
                  <a:lnTo>
                    <a:pt x="12" y="176"/>
                  </a:lnTo>
                  <a:lnTo>
                    <a:pt x="23" y="181"/>
                  </a:lnTo>
                  <a:lnTo>
                    <a:pt x="36" y="185"/>
                  </a:lnTo>
                  <a:lnTo>
                    <a:pt x="53" y="187"/>
                  </a:lnTo>
                  <a:lnTo>
                    <a:pt x="71" y="188"/>
                  </a:lnTo>
                  <a:lnTo>
                    <a:pt x="89" y="188"/>
                  </a:lnTo>
                  <a:lnTo>
                    <a:pt x="105" y="187"/>
                  </a:lnTo>
                  <a:lnTo>
                    <a:pt x="117" y="182"/>
                  </a:lnTo>
                  <a:lnTo>
                    <a:pt x="128" y="250"/>
                  </a:lnTo>
                  <a:lnTo>
                    <a:pt x="138" y="326"/>
                  </a:lnTo>
                  <a:lnTo>
                    <a:pt x="151" y="408"/>
                  </a:lnTo>
                  <a:lnTo>
                    <a:pt x="161" y="487"/>
                  </a:lnTo>
                  <a:lnTo>
                    <a:pt x="172" y="563"/>
                  </a:lnTo>
                  <a:lnTo>
                    <a:pt x="181" y="629"/>
                  </a:lnTo>
                  <a:lnTo>
                    <a:pt x="187" y="680"/>
                  </a:lnTo>
                  <a:lnTo>
                    <a:pt x="190" y="710"/>
                  </a:lnTo>
                  <a:lnTo>
                    <a:pt x="191" y="712"/>
                  </a:lnTo>
                  <a:lnTo>
                    <a:pt x="191" y="713"/>
                  </a:lnTo>
                  <a:lnTo>
                    <a:pt x="193" y="715"/>
                  </a:lnTo>
                  <a:lnTo>
                    <a:pt x="193" y="716"/>
                  </a:lnTo>
                  <a:lnTo>
                    <a:pt x="175" y="719"/>
                  </a:lnTo>
                  <a:lnTo>
                    <a:pt x="152" y="724"/>
                  </a:lnTo>
                  <a:lnTo>
                    <a:pt x="128" y="728"/>
                  </a:lnTo>
                  <a:lnTo>
                    <a:pt x="102" y="733"/>
                  </a:lnTo>
                  <a:lnTo>
                    <a:pt x="80" y="736"/>
                  </a:lnTo>
                  <a:lnTo>
                    <a:pt x="62" y="740"/>
                  </a:lnTo>
                  <a:lnTo>
                    <a:pt x="48" y="743"/>
                  </a:lnTo>
                  <a:lnTo>
                    <a:pt x="42" y="745"/>
                  </a:lnTo>
                  <a:lnTo>
                    <a:pt x="41" y="763"/>
                  </a:lnTo>
                  <a:lnTo>
                    <a:pt x="47" y="797"/>
                  </a:lnTo>
                  <a:lnTo>
                    <a:pt x="54" y="832"/>
                  </a:lnTo>
                  <a:lnTo>
                    <a:pt x="57" y="847"/>
                  </a:lnTo>
                  <a:lnTo>
                    <a:pt x="62" y="850"/>
                  </a:lnTo>
                  <a:lnTo>
                    <a:pt x="71" y="853"/>
                  </a:lnTo>
                  <a:lnTo>
                    <a:pt x="84" y="853"/>
                  </a:lnTo>
                  <a:lnTo>
                    <a:pt x="101" y="855"/>
                  </a:lnTo>
                  <a:lnTo>
                    <a:pt x="119" y="853"/>
                  </a:lnTo>
                  <a:lnTo>
                    <a:pt x="135" y="853"/>
                  </a:lnTo>
                  <a:lnTo>
                    <a:pt x="151" y="850"/>
                  </a:lnTo>
                  <a:lnTo>
                    <a:pt x="163" y="849"/>
                  </a:lnTo>
                  <a:lnTo>
                    <a:pt x="166" y="895"/>
                  </a:lnTo>
                  <a:lnTo>
                    <a:pt x="175" y="1010"/>
                  </a:lnTo>
                  <a:lnTo>
                    <a:pt x="190" y="1170"/>
                  </a:lnTo>
                  <a:lnTo>
                    <a:pt x="208" y="1360"/>
                  </a:lnTo>
                  <a:lnTo>
                    <a:pt x="227" y="1554"/>
                  </a:lnTo>
                  <a:lnTo>
                    <a:pt x="247" y="1733"/>
                  </a:lnTo>
                  <a:lnTo>
                    <a:pt x="265" y="1876"/>
                  </a:lnTo>
                  <a:lnTo>
                    <a:pt x="281" y="1962"/>
                  </a:lnTo>
                  <a:lnTo>
                    <a:pt x="290" y="1972"/>
                  </a:lnTo>
                  <a:lnTo>
                    <a:pt x="304" y="1978"/>
                  </a:lnTo>
                  <a:lnTo>
                    <a:pt x="317" y="1981"/>
                  </a:lnTo>
                  <a:lnTo>
                    <a:pt x="323" y="1981"/>
                  </a:lnTo>
                  <a:lnTo>
                    <a:pt x="325" y="1983"/>
                  </a:lnTo>
                  <a:lnTo>
                    <a:pt x="326" y="1983"/>
                  </a:lnTo>
                  <a:lnTo>
                    <a:pt x="328" y="1984"/>
                  </a:lnTo>
                  <a:lnTo>
                    <a:pt x="329" y="1986"/>
                  </a:lnTo>
                  <a:lnTo>
                    <a:pt x="332" y="2008"/>
                  </a:lnTo>
                  <a:lnTo>
                    <a:pt x="337" y="2030"/>
                  </a:lnTo>
                  <a:lnTo>
                    <a:pt x="345" y="2051"/>
                  </a:lnTo>
                  <a:lnTo>
                    <a:pt x="354" y="2072"/>
                  </a:lnTo>
                  <a:lnTo>
                    <a:pt x="363" y="2091"/>
                  </a:lnTo>
                  <a:lnTo>
                    <a:pt x="376" y="2111"/>
                  </a:lnTo>
                  <a:lnTo>
                    <a:pt x="390" y="2129"/>
                  </a:lnTo>
                  <a:lnTo>
                    <a:pt x="405" y="2145"/>
                  </a:lnTo>
                  <a:lnTo>
                    <a:pt x="414" y="2153"/>
                  </a:lnTo>
                  <a:lnTo>
                    <a:pt x="424" y="2157"/>
                  </a:lnTo>
                  <a:lnTo>
                    <a:pt x="436" y="2160"/>
                  </a:lnTo>
                  <a:lnTo>
                    <a:pt x="447" y="2159"/>
                  </a:lnTo>
                  <a:lnTo>
                    <a:pt x="495" y="2576"/>
                  </a:lnTo>
                  <a:lnTo>
                    <a:pt x="527" y="2711"/>
                  </a:lnTo>
                  <a:lnTo>
                    <a:pt x="527" y="2573"/>
                  </a:lnTo>
                  <a:lnTo>
                    <a:pt x="480" y="2168"/>
                  </a:lnTo>
                  <a:lnTo>
                    <a:pt x="486" y="2166"/>
                  </a:lnTo>
                  <a:lnTo>
                    <a:pt x="492" y="2162"/>
                  </a:lnTo>
                  <a:lnTo>
                    <a:pt x="496" y="2159"/>
                  </a:lnTo>
                  <a:lnTo>
                    <a:pt x="501" y="2153"/>
                  </a:lnTo>
                  <a:lnTo>
                    <a:pt x="516" y="2141"/>
                  </a:lnTo>
                  <a:lnTo>
                    <a:pt x="527" y="2126"/>
                  </a:lnTo>
                  <a:lnTo>
                    <a:pt x="534" y="2111"/>
                  </a:lnTo>
                  <a:lnTo>
                    <a:pt x="540" y="2093"/>
                  </a:lnTo>
                  <a:lnTo>
                    <a:pt x="545" y="2075"/>
                  </a:lnTo>
                  <a:lnTo>
                    <a:pt x="548" y="2055"/>
                  </a:lnTo>
                  <a:lnTo>
                    <a:pt x="549" y="2037"/>
                  </a:lnTo>
                  <a:lnTo>
                    <a:pt x="551" y="2019"/>
                  </a:lnTo>
                  <a:lnTo>
                    <a:pt x="551" y="2004"/>
                  </a:lnTo>
                  <a:lnTo>
                    <a:pt x="549" y="1987"/>
                  </a:lnTo>
                  <a:lnTo>
                    <a:pt x="545" y="1972"/>
                  </a:lnTo>
                  <a:lnTo>
                    <a:pt x="537" y="1959"/>
                  </a:lnTo>
                  <a:lnTo>
                    <a:pt x="542" y="1959"/>
                  </a:lnTo>
                  <a:lnTo>
                    <a:pt x="551" y="1959"/>
                  </a:lnTo>
                  <a:lnTo>
                    <a:pt x="563" y="1957"/>
                  </a:lnTo>
                  <a:lnTo>
                    <a:pt x="575" y="1957"/>
                  </a:lnTo>
                  <a:lnTo>
                    <a:pt x="588" y="1954"/>
                  </a:lnTo>
                  <a:lnTo>
                    <a:pt x="599" y="1953"/>
                  </a:lnTo>
                  <a:lnTo>
                    <a:pt x="605" y="1948"/>
                  </a:lnTo>
                  <a:lnTo>
                    <a:pt x="606" y="1942"/>
                  </a:lnTo>
                  <a:lnTo>
                    <a:pt x="608" y="1944"/>
                  </a:lnTo>
                  <a:lnTo>
                    <a:pt x="602" y="1897"/>
                  </a:lnTo>
                  <a:lnTo>
                    <a:pt x="587" y="1775"/>
                  </a:lnTo>
                  <a:lnTo>
                    <a:pt x="564" y="1604"/>
                  </a:lnTo>
                  <a:lnTo>
                    <a:pt x="537" y="1407"/>
                  </a:lnTo>
                  <a:lnTo>
                    <a:pt x="510" y="1205"/>
                  </a:lnTo>
                  <a:lnTo>
                    <a:pt x="487" y="1023"/>
                  </a:lnTo>
                  <a:lnTo>
                    <a:pt x="469" y="886"/>
                  </a:lnTo>
                  <a:lnTo>
                    <a:pt x="460" y="815"/>
                  </a:lnTo>
                  <a:lnTo>
                    <a:pt x="468" y="815"/>
                  </a:lnTo>
                  <a:lnTo>
                    <a:pt x="480" y="812"/>
                  </a:lnTo>
                  <a:lnTo>
                    <a:pt x="493" y="809"/>
                  </a:lnTo>
                  <a:lnTo>
                    <a:pt x="508" y="806"/>
                  </a:lnTo>
                  <a:lnTo>
                    <a:pt x="522" y="802"/>
                  </a:lnTo>
                  <a:lnTo>
                    <a:pt x="534" y="799"/>
                  </a:lnTo>
                  <a:lnTo>
                    <a:pt x="542" y="797"/>
                  </a:lnTo>
                  <a:lnTo>
                    <a:pt x="545" y="796"/>
                  </a:lnTo>
                  <a:lnTo>
                    <a:pt x="546" y="761"/>
                  </a:lnTo>
                  <a:lnTo>
                    <a:pt x="542" y="718"/>
                  </a:lnTo>
                  <a:lnTo>
                    <a:pt x="537" y="683"/>
                  </a:lnTo>
                  <a:lnTo>
                    <a:pt x="534" y="669"/>
                  </a:lnTo>
                  <a:lnTo>
                    <a:pt x="522" y="671"/>
                  </a:lnTo>
                  <a:lnTo>
                    <a:pt x="508" y="672"/>
                  </a:lnTo>
                  <a:lnTo>
                    <a:pt x="495" y="674"/>
                  </a:lnTo>
                  <a:lnTo>
                    <a:pt x="480" y="677"/>
                  </a:lnTo>
                  <a:lnTo>
                    <a:pt x="463" y="680"/>
                  </a:lnTo>
                  <a:lnTo>
                    <a:pt x="450" y="683"/>
                  </a:lnTo>
                  <a:lnTo>
                    <a:pt x="436" y="685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0" y="642"/>
                  </a:lnTo>
                  <a:lnTo>
                    <a:pt x="414" y="600"/>
                  </a:lnTo>
                  <a:lnTo>
                    <a:pt x="406" y="558"/>
                  </a:lnTo>
                  <a:lnTo>
                    <a:pt x="399" y="515"/>
                  </a:lnTo>
                  <a:lnTo>
                    <a:pt x="390" y="472"/>
                  </a:lnTo>
                  <a:lnTo>
                    <a:pt x="379" y="430"/>
                  </a:lnTo>
                  <a:lnTo>
                    <a:pt x="370" y="387"/>
                  </a:lnTo>
                  <a:lnTo>
                    <a:pt x="360" y="343"/>
                  </a:lnTo>
                  <a:lnTo>
                    <a:pt x="351" y="299"/>
                  </a:lnTo>
                  <a:lnTo>
                    <a:pt x="345" y="256"/>
                  </a:lnTo>
                  <a:lnTo>
                    <a:pt x="339" y="214"/>
                  </a:lnTo>
                  <a:lnTo>
                    <a:pt x="329" y="170"/>
                  </a:lnTo>
                  <a:lnTo>
                    <a:pt x="335" y="170"/>
                  </a:lnTo>
                  <a:lnTo>
                    <a:pt x="346" y="168"/>
                  </a:lnTo>
                  <a:lnTo>
                    <a:pt x="360" y="167"/>
                  </a:lnTo>
                  <a:lnTo>
                    <a:pt x="376" y="164"/>
                  </a:lnTo>
                  <a:lnTo>
                    <a:pt x="391" y="161"/>
                  </a:lnTo>
                  <a:lnTo>
                    <a:pt x="405" y="159"/>
                  </a:lnTo>
                  <a:lnTo>
                    <a:pt x="415" y="156"/>
                  </a:lnTo>
                  <a:lnTo>
                    <a:pt x="418" y="156"/>
                  </a:lnTo>
                  <a:lnTo>
                    <a:pt x="426" y="131"/>
                  </a:lnTo>
                  <a:lnTo>
                    <a:pt x="433" y="78"/>
                  </a:lnTo>
                  <a:lnTo>
                    <a:pt x="436" y="27"/>
                  </a:lnTo>
                  <a:lnTo>
                    <a:pt x="438" y="3"/>
                  </a:lnTo>
                  <a:lnTo>
                    <a:pt x="430" y="0"/>
                  </a:lnTo>
                  <a:lnTo>
                    <a:pt x="412" y="0"/>
                  </a:lnTo>
                  <a:lnTo>
                    <a:pt x="387" y="3"/>
                  </a:lnTo>
                  <a:lnTo>
                    <a:pt x="357" y="9"/>
                  </a:lnTo>
                  <a:lnTo>
                    <a:pt x="323" y="15"/>
                  </a:lnTo>
                  <a:lnTo>
                    <a:pt x="293" y="21"/>
                  </a:lnTo>
                  <a:lnTo>
                    <a:pt x="265" y="26"/>
                  </a:lnTo>
                  <a:lnTo>
                    <a:pt x="2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2352800">
              <a:off x="5360400" y="3067560"/>
              <a:ext cx="99720" cy="11700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88" y="149"/>
                  </a:moveTo>
                  <a:lnTo>
                    <a:pt x="64" y="140"/>
                  </a:lnTo>
                  <a:lnTo>
                    <a:pt x="46" y="129"/>
                  </a:lnTo>
                  <a:lnTo>
                    <a:pt x="33" y="114"/>
                  </a:lnTo>
                  <a:lnTo>
                    <a:pt x="22" y="98"/>
                  </a:lnTo>
                  <a:lnTo>
                    <a:pt x="15" y="80"/>
                  </a:lnTo>
                  <a:lnTo>
                    <a:pt x="9" y="60"/>
                  </a:lnTo>
                  <a:lnTo>
                    <a:pt x="4" y="39"/>
                  </a:lnTo>
                  <a:lnTo>
                    <a:pt x="0" y="18"/>
                  </a:lnTo>
                  <a:lnTo>
                    <a:pt x="16" y="16"/>
                  </a:lnTo>
                  <a:lnTo>
                    <a:pt x="33" y="13"/>
                  </a:lnTo>
                  <a:lnTo>
                    <a:pt x="49" y="12"/>
                  </a:lnTo>
                  <a:lnTo>
                    <a:pt x="64" y="10"/>
                  </a:lnTo>
                  <a:lnTo>
                    <a:pt x="81" y="7"/>
                  </a:lnTo>
                  <a:lnTo>
                    <a:pt x="96" y="6"/>
                  </a:lnTo>
                  <a:lnTo>
                    <a:pt x="111" y="3"/>
                  </a:lnTo>
                  <a:lnTo>
                    <a:pt x="127" y="0"/>
                  </a:lnTo>
                  <a:lnTo>
                    <a:pt x="126" y="16"/>
                  </a:lnTo>
                  <a:lnTo>
                    <a:pt x="124" y="34"/>
                  </a:lnTo>
                  <a:lnTo>
                    <a:pt x="124" y="53"/>
                  </a:lnTo>
                  <a:lnTo>
                    <a:pt x="124" y="72"/>
                  </a:lnTo>
                  <a:lnTo>
                    <a:pt x="120" y="92"/>
                  </a:lnTo>
                  <a:lnTo>
                    <a:pt x="114" y="111"/>
                  </a:lnTo>
                  <a:lnTo>
                    <a:pt x="103" y="131"/>
                  </a:lnTo>
                  <a:lnTo>
                    <a:pt x="88" y="149"/>
                  </a:lnTo>
                  <a:close/>
                </a:path>
              </a:pathLst>
            </a:custGeom>
            <a:solidFill>
              <a:srgbClr val="93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2352800">
              <a:off x="5067360" y="3195360"/>
              <a:ext cx="365400" cy="972360"/>
            </a:xfrm>
            <a:custGeom>
              <a:avLst/>
              <a:gdLst/>
              <a:ahLst/>
              <a:rect l="l" t="t" r="r" b="b"/>
              <a:pathLst>
                <a:path w="465" h="1236">
                  <a:moveTo>
                    <a:pt x="414" y="75"/>
                  </a:moveTo>
                  <a:lnTo>
                    <a:pt x="406" y="75"/>
                  </a:lnTo>
                  <a:lnTo>
                    <a:pt x="396" y="75"/>
                  </a:lnTo>
                  <a:lnTo>
                    <a:pt x="384" y="78"/>
                  </a:lnTo>
                  <a:lnTo>
                    <a:pt x="370" y="79"/>
                  </a:lnTo>
                  <a:lnTo>
                    <a:pt x="360" y="82"/>
                  </a:lnTo>
                  <a:lnTo>
                    <a:pt x="349" y="85"/>
                  </a:lnTo>
                  <a:lnTo>
                    <a:pt x="343" y="90"/>
                  </a:lnTo>
                  <a:lnTo>
                    <a:pt x="340" y="94"/>
                  </a:lnTo>
                  <a:lnTo>
                    <a:pt x="343" y="114"/>
                  </a:lnTo>
                  <a:lnTo>
                    <a:pt x="351" y="150"/>
                  </a:lnTo>
                  <a:lnTo>
                    <a:pt x="360" y="191"/>
                  </a:lnTo>
                  <a:lnTo>
                    <a:pt x="366" y="224"/>
                  </a:lnTo>
                  <a:lnTo>
                    <a:pt x="367" y="227"/>
                  </a:lnTo>
                  <a:lnTo>
                    <a:pt x="367" y="230"/>
                  </a:lnTo>
                  <a:lnTo>
                    <a:pt x="367" y="234"/>
                  </a:lnTo>
                  <a:lnTo>
                    <a:pt x="367" y="237"/>
                  </a:lnTo>
                  <a:lnTo>
                    <a:pt x="229" y="252"/>
                  </a:lnTo>
                  <a:lnTo>
                    <a:pt x="233" y="285"/>
                  </a:lnTo>
                  <a:lnTo>
                    <a:pt x="372" y="269"/>
                  </a:lnTo>
                  <a:lnTo>
                    <a:pt x="373" y="293"/>
                  </a:lnTo>
                  <a:lnTo>
                    <a:pt x="373" y="317"/>
                  </a:lnTo>
                  <a:lnTo>
                    <a:pt x="373" y="343"/>
                  </a:lnTo>
                  <a:lnTo>
                    <a:pt x="375" y="367"/>
                  </a:lnTo>
                  <a:lnTo>
                    <a:pt x="244" y="382"/>
                  </a:lnTo>
                  <a:lnTo>
                    <a:pt x="248" y="413"/>
                  </a:lnTo>
                  <a:lnTo>
                    <a:pt x="375" y="398"/>
                  </a:lnTo>
                  <a:lnTo>
                    <a:pt x="375" y="412"/>
                  </a:lnTo>
                  <a:lnTo>
                    <a:pt x="375" y="424"/>
                  </a:lnTo>
                  <a:lnTo>
                    <a:pt x="375" y="437"/>
                  </a:lnTo>
                  <a:lnTo>
                    <a:pt x="376" y="451"/>
                  </a:lnTo>
                  <a:lnTo>
                    <a:pt x="378" y="461"/>
                  </a:lnTo>
                  <a:lnTo>
                    <a:pt x="379" y="472"/>
                  </a:lnTo>
                  <a:lnTo>
                    <a:pt x="379" y="483"/>
                  </a:lnTo>
                  <a:lnTo>
                    <a:pt x="381" y="493"/>
                  </a:lnTo>
                  <a:lnTo>
                    <a:pt x="259" y="507"/>
                  </a:lnTo>
                  <a:lnTo>
                    <a:pt x="264" y="540"/>
                  </a:lnTo>
                  <a:lnTo>
                    <a:pt x="385" y="526"/>
                  </a:lnTo>
                  <a:lnTo>
                    <a:pt x="388" y="552"/>
                  </a:lnTo>
                  <a:lnTo>
                    <a:pt x="391" y="576"/>
                  </a:lnTo>
                  <a:lnTo>
                    <a:pt x="394" y="601"/>
                  </a:lnTo>
                  <a:lnTo>
                    <a:pt x="397" y="627"/>
                  </a:lnTo>
                  <a:lnTo>
                    <a:pt x="274" y="642"/>
                  </a:lnTo>
                  <a:lnTo>
                    <a:pt x="279" y="674"/>
                  </a:lnTo>
                  <a:lnTo>
                    <a:pt x="402" y="660"/>
                  </a:lnTo>
                  <a:lnTo>
                    <a:pt x="406" y="686"/>
                  </a:lnTo>
                  <a:lnTo>
                    <a:pt x="411" y="713"/>
                  </a:lnTo>
                  <a:lnTo>
                    <a:pt x="414" y="740"/>
                  </a:lnTo>
                  <a:lnTo>
                    <a:pt x="418" y="765"/>
                  </a:lnTo>
                  <a:lnTo>
                    <a:pt x="288" y="780"/>
                  </a:lnTo>
                  <a:lnTo>
                    <a:pt x="291" y="814"/>
                  </a:lnTo>
                  <a:lnTo>
                    <a:pt x="423" y="798"/>
                  </a:lnTo>
                  <a:lnTo>
                    <a:pt x="426" y="824"/>
                  </a:lnTo>
                  <a:lnTo>
                    <a:pt x="430" y="850"/>
                  </a:lnTo>
                  <a:lnTo>
                    <a:pt x="435" y="877"/>
                  </a:lnTo>
                  <a:lnTo>
                    <a:pt x="438" y="902"/>
                  </a:lnTo>
                  <a:lnTo>
                    <a:pt x="309" y="917"/>
                  </a:lnTo>
                  <a:lnTo>
                    <a:pt x="312" y="949"/>
                  </a:lnTo>
                  <a:lnTo>
                    <a:pt x="442" y="934"/>
                  </a:lnTo>
                  <a:lnTo>
                    <a:pt x="445" y="959"/>
                  </a:lnTo>
                  <a:lnTo>
                    <a:pt x="449" y="987"/>
                  </a:lnTo>
                  <a:lnTo>
                    <a:pt x="450" y="1012"/>
                  </a:lnTo>
                  <a:lnTo>
                    <a:pt x="453" y="1039"/>
                  </a:lnTo>
                  <a:lnTo>
                    <a:pt x="319" y="1054"/>
                  </a:lnTo>
                  <a:lnTo>
                    <a:pt x="322" y="1086"/>
                  </a:lnTo>
                  <a:lnTo>
                    <a:pt x="456" y="1071"/>
                  </a:lnTo>
                  <a:lnTo>
                    <a:pt x="456" y="1072"/>
                  </a:lnTo>
                  <a:lnTo>
                    <a:pt x="456" y="1072"/>
                  </a:lnTo>
                  <a:lnTo>
                    <a:pt x="456" y="1072"/>
                  </a:lnTo>
                  <a:lnTo>
                    <a:pt x="456" y="1074"/>
                  </a:lnTo>
                  <a:lnTo>
                    <a:pt x="459" y="1108"/>
                  </a:lnTo>
                  <a:lnTo>
                    <a:pt x="461" y="1143"/>
                  </a:lnTo>
                  <a:lnTo>
                    <a:pt x="462" y="1176"/>
                  </a:lnTo>
                  <a:lnTo>
                    <a:pt x="465" y="1211"/>
                  </a:lnTo>
                  <a:lnTo>
                    <a:pt x="438" y="1217"/>
                  </a:lnTo>
                  <a:lnTo>
                    <a:pt x="409" y="1223"/>
                  </a:lnTo>
                  <a:lnTo>
                    <a:pt x="381" y="1227"/>
                  </a:lnTo>
                  <a:lnTo>
                    <a:pt x="352" y="1230"/>
                  </a:lnTo>
                  <a:lnTo>
                    <a:pt x="325" y="1233"/>
                  </a:lnTo>
                  <a:lnTo>
                    <a:pt x="297" y="1236"/>
                  </a:lnTo>
                  <a:lnTo>
                    <a:pt x="271" y="1236"/>
                  </a:lnTo>
                  <a:lnTo>
                    <a:pt x="247" y="1236"/>
                  </a:lnTo>
                  <a:lnTo>
                    <a:pt x="241" y="1188"/>
                  </a:lnTo>
                  <a:lnTo>
                    <a:pt x="226" y="1060"/>
                  </a:lnTo>
                  <a:lnTo>
                    <a:pt x="206" y="880"/>
                  </a:lnTo>
                  <a:lnTo>
                    <a:pt x="182" y="672"/>
                  </a:lnTo>
                  <a:lnTo>
                    <a:pt x="158" y="464"/>
                  </a:lnTo>
                  <a:lnTo>
                    <a:pt x="136" y="284"/>
                  </a:lnTo>
                  <a:lnTo>
                    <a:pt x="121" y="156"/>
                  </a:lnTo>
                  <a:lnTo>
                    <a:pt x="112" y="108"/>
                  </a:lnTo>
                  <a:lnTo>
                    <a:pt x="109" y="108"/>
                  </a:lnTo>
                  <a:lnTo>
                    <a:pt x="101" y="108"/>
                  </a:lnTo>
                  <a:lnTo>
                    <a:pt x="89" y="109"/>
                  </a:lnTo>
                  <a:lnTo>
                    <a:pt x="76" y="109"/>
                  </a:lnTo>
                  <a:lnTo>
                    <a:pt x="59" y="111"/>
                  </a:lnTo>
                  <a:lnTo>
                    <a:pt x="44" y="112"/>
                  </a:lnTo>
                  <a:lnTo>
                    <a:pt x="30" y="115"/>
                  </a:lnTo>
                  <a:lnTo>
                    <a:pt x="20" y="117"/>
                  </a:lnTo>
                  <a:lnTo>
                    <a:pt x="20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20" y="112"/>
                  </a:lnTo>
                  <a:lnTo>
                    <a:pt x="17" y="102"/>
                  </a:lnTo>
                  <a:lnTo>
                    <a:pt x="11" y="91"/>
                  </a:lnTo>
                  <a:lnTo>
                    <a:pt x="5" y="81"/>
                  </a:lnTo>
                  <a:lnTo>
                    <a:pt x="0" y="70"/>
                  </a:lnTo>
                  <a:lnTo>
                    <a:pt x="27" y="66"/>
                  </a:lnTo>
                  <a:lnTo>
                    <a:pt x="53" y="63"/>
                  </a:lnTo>
                  <a:lnTo>
                    <a:pt x="80" y="60"/>
                  </a:lnTo>
                  <a:lnTo>
                    <a:pt x="107" y="57"/>
                  </a:lnTo>
                  <a:lnTo>
                    <a:pt x="134" y="54"/>
                  </a:lnTo>
                  <a:lnTo>
                    <a:pt x="161" y="51"/>
                  </a:lnTo>
                  <a:lnTo>
                    <a:pt x="187" y="48"/>
                  </a:lnTo>
                  <a:lnTo>
                    <a:pt x="214" y="43"/>
                  </a:lnTo>
                  <a:lnTo>
                    <a:pt x="241" y="40"/>
                  </a:lnTo>
                  <a:lnTo>
                    <a:pt x="268" y="37"/>
                  </a:lnTo>
                  <a:lnTo>
                    <a:pt x="294" y="33"/>
                  </a:lnTo>
                  <a:lnTo>
                    <a:pt x="321" y="27"/>
                  </a:lnTo>
                  <a:lnTo>
                    <a:pt x="346" y="22"/>
                  </a:lnTo>
                  <a:lnTo>
                    <a:pt x="373" y="15"/>
                  </a:lnTo>
                  <a:lnTo>
                    <a:pt x="399" y="7"/>
                  </a:lnTo>
                  <a:lnTo>
                    <a:pt x="424" y="0"/>
                  </a:lnTo>
                  <a:lnTo>
                    <a:pt x="421" y="18"/>
                  </a:lnTo>
                  <a:lnTo>
                    <a:pt x="418" y="37"/>
                  </a:lnTo>
                  <a:lnTo>
                    <a:pt x="417" y="55"/>
                  </a:lnTo>
                  <a:lnTo>
                    <a:pt x="414" y="75"/>
                  </a:lnTo>
                  <a:close/>
                </a:path>
              </a:pathLst>
            </a:custGeom>
            <a:solidFill>
              <a:srgbClr val="f9c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2352800">
              <a:off x="4859280" y="4119120"/>
              <a:ext cx="267840" cy="520200"/>
            </a:xfrm>
            <a:custGeom>
              <a:avLst/>
              <a:gdLst/>
              <a:ahLst/>
              <a:rect l="l" t="t" r="r" b="b"/>
              <a:pathLst>
                <a:path w="341" h="661">
                  <a:moveTo>
                    <a:pt x="240" y="89"/>
                  </a:moveTo>
                  <a:lnTo>
                    <a:pt x="242" y="107"/>
                  </a:lnTo>
                  <a:lnTo>
                    <a:pt x="249" y="152"/>
                  </a:lnTo>
                  <a:lnTo>
                    <a:pt x="263" y="218"/>
                  </a:lnTo>
                  <a:lnTo>
                    <a:pt x="279" y="300"/>
                  </a:lnTo>
                  <a:lnTo>
                    <a:pt x="296" y="388"/>
                  </a:lnTo>
                  <a:lnTo>
                    <a:pt x="313" y="480"/>
                  </a:lnTo>
                  <a:lnTo>
                    <a:pt x="326" y="566"/>
                  </a:lnTo>
                  <a:lnTo>
                    <a:pt x="335" y="641"/>
                  </a:lnTo>
                  <a:lnTo>
                    <a:pt x="317" y="644"/>
                  </a:lnTo>
                  <a:lnTo>
                    <a:pt x="301" y="646"/>
                  </a:lnTo>
                  <a:lnTo>
                    <a:pt x="282" y="649"/>
                  </a:lnTo>
                  <a:lnTo>
                    <a:pt x="266" y="650"/>
                  </a:lnTo>
                  <a:lnTo>
                    <a:pt x="248" y="653"/>
                  </a:lnTo>
                  <a:lnTo>
                    <a:pt x="230" y="655"/>
                  </a:lnTo>
                  <a:lnTo>
                    <a:pt x="213" y="658"/>
                  </a:lnTo>
                  <a:lnTo>
                    <a:pt x="195" y="661"/>
                  </a:lnTo>
                  <a:lnTo>
                    <a:pt x="191" y="635"/>
                  </a:lnTo>
                  <a:lnTo>
                    <a:pt x="180" y="570"/>
                  </a:lnTo>
                  <a:lnTo>
                    <a:pt x="164" y="480"/>
                  </a:lnTo>
                  <a:lnTo>
                    <a:pt x="146" y="378"/>
                  </a:lnTo>
                  <a:lnTo>
                    <a:pt x="128" y="275"/>
                  </a:lnTo>
                  <a:lnTo>
                    <a:pt x="111" y="185"/>
                  </a:lnTo>
                  <a:lnTo>
                    <a:pt x="99" y="124"/>
                  </a:lnTo>
                  <a:lnTo>
                    <a:pt x="93" y="99"/>
                  </a:lnTo>
                  <a:lnTo>
                    <a:pt x="82" y="96"/>
                  </a:lnTo>
                  <a:lnTo>
                    <a:pt x="70" y="95"/>
                  </a:lnTo>
                  <a:lnTo>
                    <a:pt x="58" y="95"/>
                  </a:lnTo>
                  <a:lnTo>
                    <a:pt x="48" y="96"/>
                  </a:lnTo>
                  <a:lnTo>
                    <a:pt x="36" y="98"/>
                  </a:lnTo>
                  <a:lnTo>
                    <a:pt x="24" y="101"/>
                  </a:lnTo>
                  <a:lnTo>
                    <a:pt x="12" y="102"/>
                  </a:lnTo>
                  <a:lnTo>
                    <a:pt x="1" y="104"/>
                  </a:lnTo>
                  <a:lnTo>
                    <a:pt x="3" y="86"/>
                  </a:lnTo>
                  <a:lnTo>
                    <a:pt x="3" y="68"/>
                  </a:lnTo>
                  <a:lnTo>
                    <a:pt x="1" y="51"/>
                  </a:lnTo>
                  <a:lnTo>
                    <a:pt x="0" y="33"/>
                  </a:lnTo>
                  <a:lnTo>
                    <a:pt x="21" y="35"/>
                  </a:lnTo>
                  <a:lnTo>
                    <a:pt x="42" y="36"/>
                  </a:lnTo>
                  <a:lnTo>
                    <a:pt x="64" y="36"/>
                  </a:lnTo>
                  <a:lnTo>
                    <a:pt x="85" y="36"/>
                  </a:lnTo>
                  <a:lnTo>
                    <a:pt x="107" y="35"/>
                  </a:lnTo>
                  <a:lnTo>
                    <a:pt x="128" y="35"/>
                  </a:lnTo>
                  <a:lnTo>
                    <a:pt x="150" y="32"/>
                  </a:lnTo>
                  <a:lnTo>
                    <a:pt x="171" y="30"/>
                  </a:lnTo>
                  <a:lnTo>
                    <a:pt x="192" y="27"/>
                  </a:lnTo>
                  <a:lnTo>
                    <a:pt x="213" y="24"/>
                  </a:lnTo>
                  <a:lnTo>
                    <a:pt x="234" y="20"/>
                  </a:lnTo>
                  <a:lnTo>
                    <a:pt x="255" y="17"/>
                  </a:lnTo>
                  <a:lnTo>
                    <a:pt x="276" y="12"/>
                  </a:lnTo>
                  <a:lnTo>
                    <a:pt x="298" y="9"/>
                  </a:lnTo>
                  <a:lnTo>
                    <a:pt x="319" y="5"/>
                  </a:lnTo>
                  <a:lnTo>
                    <a:pt x="340" y="0"/>
                  </a:lnTo>
                  <a:lnTo>
                    <a:pt x="340" y="17"/>
                  </a:lnTo>
                  <a:lnTo>
                    <a:pt x="341" y="33"/>
                  </a:lnTo>
                  <a:lnTo>
                    <a:pt x="341" y="51"/>
                  </a:lnTo>
                  <a:lnTo>
                    <a:pt x="341" y="66"/>
                  </a:lnTo>
                  <a:lnTo>
                    <a:pt x="332" y="68"/>
                  </a:lnTo>
                  <a:lnTo>
                    <a:pt x="320" y="69"/>
                  </a:lnTo>
                  <a:lnTo>
                    <a:pt x="305" y="72"/>
                  </a:lnTo>
                  <a:lnTo>
                    <a:pt x="290" y="75"/>
                  </a:lnTo>
                  <a:lnTo>
                    <a:pt x="275" y="78"/>
                  </a:lnTo>
                  <a:lnTo>
                    <a:pt x="260" y="81"/>
                  </a:lnTo>
                  <a:lnTo>
                    <a:pt x="249" y="84"/>
                  </a:lnTo>
                  <a:lnTo>
                    <a:pt x="240" y="89"/>
                  </a:lnTo>
                  <a:close/>
                </a:path>
              </a:pathLst>
            </a:custGeom>
            <a:solidFill>
              <a:srgbClr val="cc3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DC7D-7079-4BC7-930D-0ED508A93B25}" type="slidenum">
              <a:t>3</a:t>
            </a:fld>
          </a:p>
        </p:txBody>
      </p:sp>
    </p:spTree>
  </p:cSld>
  <p:transition advTm="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2486160" cy="2857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20981400">
            <a:off x="3965400" y="4114800"/>
            <a:ext cx="454320" cy="352440"/>
          </a:xfrm>
          <a:custGeom>
            <a:avLst/>
            <a:gdLst/>
            <a:ahLst/>
            <a:rect l="l" t="t" r="r" b="b"/>
            <a:pathLst>
              <a:path w="286" h="222">
                <a:moveTo>
                  <a:pt x="0" y="222"/>
                </a:moveTo>
                <a:cubicBezTo>
                  <a:pt x="73" y="69"/>
                  <a:pt x="178" y="143"/>
                  <a:pt x="232" y="120"/>
                </a:cubicBezTo>
                <a:cubicBezTo>
                  <a:pt x="286" y="97"/>
                  <a:pt x="286" y="0"/>
                  <a:pt x="220" y="10"/>
                </a:cubicBezTo>
                <a:cubicBezTo>
                  <a:pt x="154" y="20"/>
                  <a:pt x="31" y="34"/>
                  <a:pt x="0" y="222"/>
                </a:cubicBezTo>
                <a:close/>
              </a:path>
            </a:pathLst>
          </a:custGeom>
          <a:gradFill rotWithShape="0">
            <a:gsLst>
              <a:gs pos="0">
                <a:srgbClr val="2d1c14"/>
              </a:gs>
              <a:gs pos="100000">
                <a:srgbClr val="623d2c"/>
              </a:gs>
            </a:gsLst>
            <a:lin ang="601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20982000">
            <a:off x="4419720" y="4038120"/>
            <a:ext cx="453960" cy="352800"/>
          </a:xfrm>
          <a:custGeom>
            <a:avLst/>
            <a:gdLst/>
            <a:ahLst/>
            <a:rect l="l" t="t" r="r" b="b"/>
            <a:pathLst>
              <a:path w="286" h="222">
                <a:moveTo>
                  <a:pt x="0" y="222"/>
                </a:moveTo>
                <a:cubicBezTo>
                  <a:pt x="73" y="69"/>
                  <a:pt x="178" y="143"/>
                  <a:pt x="232" y="120"/>
                </a:cubicBezTo>
                <a:cubicBezTo>
                  <a:pt x="286" y="97"/>
                  <a:pt x="286" y="0"/>
                  <a:pt x="220" y="10"/>
                </a:cubicBezTo>
                <a:cubicBezTo>
                  <a:pt x="154" y="20"/>
                  <a:pt x="31" y="34"/>
                  <a:pt x="0" y="222"/>
                </a:cubicBezTo>
                <a:close/>
              </a:path>
            </a:pathLst>
          </a:custGeom>
          <a:gradFill rotWithShape="0">
            <a:gsLst>
              <a:gs pos="0">
                <a:srgbClr val="2d1c14"/>
              </a:gs>
              <a:gs pos="100000">
                <a:srgbClr val="623d2c"/>
              </a:gs>
            </a:gsLst>
            <a:lin ang="478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87120" y="2593440"/>
            <a:ext cx="1361160" cy="2127960"/>
            <a:chOff x="4587120" y="2593440"/>
            <a:chExt cx="1361160" cy="2127960"/>
          </a:xfrm>
        </p:grpSpPr>
        <p:sp>
          <p:nvSpPr>
            <p:cNvPr id="163" name=""/>
            <p:cNvSpPr/>
            <p:nvPr/>
          </p:nvSpPr>
          <p:spPr>
            <a:xfrm rot="12352800">
              <a:off x="5028480" y="2590560"/>
              <a:ext cx="477720" cy="2133360"/>
            </a:xfrm>
            <a:custGeom>
              <a:avLst/>
              <a:gdLst/>
              <a:ahLst/>
              <a:rect l="l" t="t" r="r" b="b"/>
              <a:pathLst>
                <a:path w="608" h="2711">
                  <a:moveTo>
                    <a:pt x="244" y="29"/>
                  </a:moveTo>
                  <a:lnTo>
                    <a:pt x="220" y="32"/>
                  </a:lnTo>
                  <a:lnTo>
                    <a:pt x="196" y="33"/>
                  </a:lnTo>
                  <a:lnTo>
                    <a:pt x="172" y="36"/>
                  </a:lnTo>
                  <a:lnTo>
                    <a:pt x="147" y="39"/>
                  </a:lnTo>
                  <a:lnTo>
                    <a:pt x="122" y="41"/>
                  </a:lnTo>
                  <a:lnTo>
                    <a:pt x="98" y="42"/>
                  </a:lnTo>
                  <a:lnTo>
                    <a:pt x="74" y="42"/>
                  </a:lnTo>
                  <a:lnTo>
                    <a:pt x="50" y="42"/>
                  </a:lnTo>
                  <a:lnTo>
                    <a:pt x="2" y="53"/>
                  </a:lnTo>
                  <a:lnTo>
                    <a:pt x="0" y="80"/>
                  </a:lnTo>
                  <a:lnTo>
                    <a:pt x="3" y="119"/>
                  </a:lnTo>
                  <a:lnTo>
                    <a:pt x="6" y="153"/>
                  </a:lnTo>
                  <a:lnTo>
                    <a:pt x="9" y="172"/>
                  </a:lnTo>
                  <a:lnTo>
                    <a:pt x="12" y="176"/>
                  </a:lnTo>
                  <a:lnTo>
                    <a:pt x="23" y="181"/>
                  </a:lnTo>
                  <a:lnTo>
                    <a:pt x="36" y="185"/>
                  </a:lnTo>
                  <a:lnTo>
                    <a:pt x="53" y="187"/>
                  </a:lnTo>
                  <a:lnTo>
                    <a:pt x="71" y="188"/>
                  </a:lnTo>
                  <a:lnTo>
                    <a:pt x="89" y="188"/>
                  </a:lnTo>
                  <a:lnTo>
                    <a:pt x="105" y="187"/>
                  </a:lnTo>
                  <a:lnTo>
                    <a:pt x="117" y="182"/>
                  </a:lnTo>
                  <a:lnTo>
                    <a:pt x="128" y="250"/>
                  </a:lnTo>
                  <a:lnTo>
                    <a:pt x="138" y="326"/>
                  </a:lnTo>
                  <a:lnTo>
                    <a:pt x="151" y="408"/>
                  </a:lnTo>
                  <a:lnTo>
                    <a:pt x="161" y="487"/>
                  </a:lnTo>
                  <a:lnTo>
                    <a:pt x="172" y="563"/>
                  </a:lnTo>
                  <a:lnTo>
                    <a:pt x="181" y="629"/>
                  </a:lnTo>
                  <a:lnTo>
                    <a:pt x="187" y="680"/>
                  </a:lnTo>
                  <a:lnTo>
                    <a:pt x="190" y="710"/>
                  </a:lnTo>
                  <a:lnTo>
                    <a:pt x="191" y="712"/>
                  </a:lnTo>
                  <a:lnTo>
                    <a:pt x="191" y="713"/>
                  </a:lnTo>
                  <a:lnTo>
                    <a:pt x="193" y="715"/>
                  </a:lnTo>
                  <a:lnTo>
                    <a:pt x="193" y="716"/>
                  </a:lnTo>
                  <a:lnTo>
                    <a:pt x="175" y="719"/>
                  </a:lnTo>
                  <a:lnTo>
                    <a:pt x="152" y="724"/>
                  </a:lnTo>
                  <a:lnTo>
                    <a:pt x="128" y="728"/>
                  </a:lnTo>
                  <a:lnTo>
                    <a:pt x="102" y="733"/>
                  </a:lnTo>
                  <a:lnTo>
                    <a:pt x="80" y="736"/>
                  </a:lnTo>
                  <a:lnTo>
                    <a:pt x="62" y="740"/>
                  </a:lnTo>
                  <a:lnTo>
                    <a:pt x="48" y="743"/>
                  </a:lnTo>
                  <a:lnTo>
                    <a:pt x="42" y="745"/>
                  </a:lnTo>
                  <a:lnTo>
                    <a:pt x="41" y="763"/>
                  </a:lnTo>
                  <a:lnTo>
                    <a:pt x="47" y="797"/>
                  </a:lnTo>
                  <a:lnTo>
                    <a:pt x="54" y="832"/>
                  </a:lnTo>
                  <a:lnTo>
                    <a:pt x="57" y="847"/>
                  </a:lnTo>
                  <a:lnTo>
                    <a:pt x="62" y="850"/>
                  </a:lnTo>
                  <a:lnTo>
                    <a:pt x="71" y="853"/>
                  </a:lnTo>
                  <a:lnTo>
                    <a:pt x="84" y="853"/>
                  </a:lnTo>
                  <a:lnTo>
                    <a:pt x="101" y="855"/>
                  </a:lnTo>
                  <a:lnTo>
                    <a:pt x="119" y="853"/>
                  </a:lnTo>
                  <a:lnTo>
                    <a:pt x="135" y="853"/>
                  </a:lnTo>
                  <a:lnTo>
                    <a:pt x="151" y="850"/>
                  </a:lnTo>
                  <a:lnTo>
                    <a:pt x="163" y="849"/>
                  </a:lnTo>
                  <a:lnTo>
                    <a:pt x="166" y="895"/>
                  </a:lnTo>
                  <a:lnTo>
                    <a:pt x="175" y="1010"/>
                  </a:lnTo>
                  <a:lnTo>
                    <a:pt x="190" y="1170"/>
                  </a:lnTo>
                  <a:lnTo>
                    <a:pt x="208" y="1360"/>
                  </a:lnTo>
                  <a:lnTo>
                    <a:pt x="227" y="1554"/>
                  </a:lnTo>
                  <a:lnTo>
                    <a:pt x="247" y="1733"/>
                  </a:lnTo>
                  <a:lnTo>
                    <a:pt x="265" y="1876"/>
                  </a:lnTo>
                  <a:lnTo>
                    <a:pt x="281" y="1962"/>
                  </a:lnTo>
                  <a:lnTo>
                    <a:pt x="290" y="1972"/>
                  </a:lnTo>
                  <a:lnTo>
                    <a:pt x="304" y="1978"/>
                  </a:lnTo>
                  <a:lnTo>
                    <a:pt x="317" y="1981"/>
                  </a:lnTo>
                  <a:lnTo>
                    <a:pt x="323" y="1981"/>
                  </a:lnTo>
                  <a:lnTo>
                    <a:pt x="325" y="1983"/>
                  </a:lnTo>
                  <a:lnTo>
                    <a:pt x="326" y="1983"/>
                  </a:lnTo>
                  <a:lnTo>
                    <a:pt x="328" y="1984"/>
                  </a:lnTo>
                  <a:lnTo>
                    <a:pt x="329" y="1986"/>
                  </a:lnTo>
                  <a:lnTo>
                    <a:pt x="332" y="2008"/>
                  </a:lnTo>
                  <a:lnTo>
                    <a:pt x="337" y="2030"/>
                  </a:lnTo>
                  <a:lnTo>
                    <a:pt x="345" y="2051"/>
                  </a:lnTo>
                  <a:lnTo>
                    <a:pt x="354" y="2072"/>
                  </a:lnTo>
                  <a:lnTo>
                    <a:pt x="363" y="2091"/>
                  </a:lnTo>
                  <a:lnTo>
                    <a:pt x="376" y="2111"/>
                  </a:lnTo>
                  <a:lnTo>
                    <a:pt x="390" y="2129"/>
                  </a:lnTo>
                  <a:lnTo>
                    <a:pt x="405" y="2145"/>
                  </a:lnTo>
                  <a:lnTo>
                    <a:pt x="414" y="2153"/>
                  </a:lnTo>
                  <a:lnTo>
                    <a:pt x="424" y="2157"/>
                  </a:lnTo>
                  <a:lnTo>
                    <a:pt x="436" y="2160"/>
                  </a:lnTo>
                  <a:lnTo>
                    <a:pt x="447" y="2159"/>
                  </a:lnTo>
                  <a:lnTo>
                    <a:pt x="495" y="2576"/>
                  </a:lnTo>
                  <a:lnTo>
                    <a:pt x="527" y="2711"/>
                  </a:lnTo>
                  <a:lnTo>
                    <a:pt x="527" y="2573"/>
                  </a:lnTo>
                  <a:lnTo>
                    <a:pt x="480" y="2168"/>
                  </a:lnTo>
                  <a:lnTo>
                    <a:pt x="486" y="2166"/>
                  </a:lnTo>
                  <a:lnTo>
                    <a:pt x="492" y="2162"/>
                  </a:lnTo>
                  <a:lnTo>
                    <a:pt x="496" y="2159"/>
                  </a:lnTo>
                  <a:lnTo>
                    <a:pt x="501" y="2153"/>
                  </a:lnTo>
                  <a:lnTo>
                    <a:pt x="516" y="2141"/>
                  </a:lnTo>
                  <a:lnTo>
                    <a:pt x="527" y="2126"/>
                  </a:lnTo>
                  <a:lnTo>
                    <a:pt x="534" y="2111"/>
                  </a:lnTo>
                  <a:lnTo>
                    <a:pt x="540" y="2093"/>
                  </a:lnTo>
                  <a:lnTo>
                    <a:pt x="545" y="2075"/>
                  </a:lnTo>
                  <a:lnTo>
                    <a:pt x="548" y="2055"/>
                  </a:lnTo>
                  <a:lnTo>
                    <a:pt x="549" y="2037"/>
                  </a:lnTo>
                  <a:lnTo>
                    <a:pt x="551" y="2019"/>
                  </a:lnTo>
                  <a:lnTo>
                    <a:pt x="551" y="2004"/>
                  </a:lnTo>
                  <a:lnTo>
                    <a:pt x="549" y="1987"/>
                  </a:lnTo>
                  <a:lnTo>
                    <a:pt x="545" y="1972"/>
                  </a:lnTo>
                  <a:lnTo>
                    <a:pt x="537" y="1959"/>
                  </a:lnTo>
                  <a:lnTo>
                    <a:pt x="542" y="1959"/>
                  </a:lnTo>
                  <a:lnTo>
                    <a:pt x="551" y="1959"/>
                  </a:lnTo>
                  <a:lnTo>
                    <a:pt x="563" y="1957"/>
                  </a:lnTo>
                  <a:lnTo>
                    <a:pt x="575" y="1957"/>
                  </a:lnTo>
                  <a:lnTo>
                    <a:pt x="588" y="1954"/>
                  </a:lnTo>
                  <a:lnTo>
                    <a:pt x="599" y="1953"/>
                  </a:lnTo>
                  <a:lnTo>
                    <a:pt x="605" y="1948"/>
                  </a:lnTo>
                  <a:lnTo>
                    <a:pt x="606" y="1942"/>
                  </a:lnTo>
                  <a:lnTo>
                    <a:pt x="608" y="1944"/>
                  </a:lnTo>
                  <a:lnTo>
                    <a:pt x="602" y="1897"/>
                  </a:lnTo>
                  <a:lnTo>
                    <a:pt x="587" y="1775"/>
                  </a:lnTo>
                  <a:lnTo>
                    <a:pt x="564" y="1604"/>
                  </a:lnTo>
                  <a:lnTo>
                    <a:pt x="537" y="1407"/>
                  </a:lnTo>
                  <a:lnTo>
                    <a:pt x="510" y="1205"/>
                  </a:lnTo>
                  <a:lnTo>
                    <a:pt x="487" y="1023"/>
                  </a:lnTo>
                  <a:lnTo>
                    <a:pt x="469" y="886"/>
                  </a:lnTo>
                  <a:lnTo>
                    <a:pt x="460" y="815"/>
                  </a:lnTo>
                  <a:lnTo>
                    <a:pt x="468" y="815"/>
                  </a:lnTo>
                  <a:lnTo>
                    <a:pt x="480" y="812"/>
                  </a:lnTo>
                  <a:lnTo>
                    <a:pt x="493" y="809"/>
                  </a:lnTo>
                  <a:lnTo>
                    <a:pt x="508" y="806"/>
                  </a:lnTo>
                  <a:lnTo>
                    <a:pt x="522" y="802"/>
                  </a:lnTo>
                  <a:lnTo>
                    <a:pt x="534" y="799"/>
                  </a:lnTo>
                  <a:lnTo>
                    <a:pt x="542" y="797"/>
                  </a:lnTo>
                  <a:lnTo>
                    <a:pt x="545" y="796"/>
                  </a:lnTo>
                  <a:lnTo>
                    <a:pt x="546" y="761"/>
                  </a:lnTo>
                  <a:lnTo>
                    <a:pt x="542" y="718"/>
                  </a:lnTo>
                  <a:lnTo>
                    <a:pt x="537" y="683"/>
                  </a:lnTo>
                  <a:lnTo>
                    <a:pt x="534" y="669"/>
                  </a:lnTo>
                  <a:lnTo>
                    <a:pt x="522" y="671"/>
                  </a:lnTo>
                  <a:lnTo>
                    <a:pt x="508" y="672"/>
                  </a:lnTo>
                  <a:lnTo>
                    <a:pt x="495" y="674"/>
                  </a:lnTo>
                  <a:lnTo>
                    <a:pt x="480" y="677"/>
                  </a:lnTo>
                  <a:lnTo>
                    <a:pt x="463" y="680"/>
                  </a:lnTo>
                  <a:lnTo>
                    <a:pt x="450" y="683"/>
                  </a:lnTo>
                  <a:lnTo>
                    <a:pt x="436" y="685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4" y="686"/>
                  </a:lnTo>
                  <a:lnTo>
                    <a:pt x="420" y="642"/>
                  </a:lnTo>
                  <a:lnTo>
                    <a:pt x="414" y="600"/>
                  </a:lnTo>
                  <a:lnTo>
                    <a:pt x="406" y="558"/>
                  </a:lnTo>
                  <a:lnTo>
                    <a:pt x="399" y="515"/>
                  </a:lnTo>
                  <a:lnTo>
                    <a:pt x="390" y="472"/>
                  </a:lnTo>
                  <a:lnTo>
                    <a:pt x="379" y="430"/>
                  </a:lnTo>
                  <a:lnTo>
                    <a:pt x="370" y="387"/>
                  </a:lnTo>
                  <a:lnTo>
                    <a:pt x="360" y="343"/>
                  </a:lnTo>
                  <a:lnTo>
                    <a:pt x="351" y="299"/>
                  </a:lnTo>
                  <a:lnTo>
                    <a:pt x="345" y="256"/>
                  </a:lnTo>
                  <a:lnTo>
                    <a:pt x="339" y="214"/>
                  </a:lnTo>
                  <a:lnTo>
                    <a:pt x="329" y="170"/>
                  </a:lnTo>
                  <a:lnTo>
                    <a:pt x="335" y="170"/>
                  </a:lnTo>
                  <a:lnTo>
                    <a:pt x="346" y="168"/>
                  </a:lnTo>
                  <a:lnTo>
                    <a:pt x="360" y="167"/>
                  </a:lnTo>
                  <a:lnTo>
                    <a:pt x="376" y="164"/>
                  </a:lnTo>
                  <a:lnTo>
                    <a:pt x="391" y="161"/>
                  </a:lnTo>
                  <a:lnTo>
                    <a:pt x="405" y="159"/>
                  </a:lnTo>
                  <a:lnTo>
                    <a:pt x="415" y="156"/>
                  </a:lnTo>
                  <a:lnTo>
                    <a:pt x="418" y="156"/>
                  </a:lnTo>
                  <a:lnTo>
                    <a:pt x="426" y="131"/>
                  </a:lnTo>
                  <a:lnTo>
                    <a:pt x="433" y="78"/>
                  </a:lnTo>
                  <a:lnTo>
                    <a:pt x="436" y="27"/>
                  </a:lnTo>
                  <a:lnTo>
                    <a:pt x="438" y="3"/>
                  </a:lnTo>
                  <a:lnTo>
                    <a:pt x="430" y="0"/>
                  </a:lnTo>
                  <a:lnTo>
                    <a:pt x="412" y="0"/>
                  </a:lnTo>
                  <a:lnTo>
                    <a:pt x="387" y="3"/>
                  </a:lnTo>
                  <a:lnTo>
                    <a:pt x="357" y="9"/>
                  </a:lnTo>
                  <a:lnTo>
                    <a:pt x="323" y="15"/>
                  </a:lnTo>
                  <a:lnTo>
                    <a:pt x="293" y="21"/>
                  </a:lnTo>
                  <a:lnTo>
                    <a:pt x="265" y="26"/>
                  </a:lnTo>
                  <a:lnTo>
                    <a:pt x="2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2352800">
              <a:off x="5360400" y="3067560"/>
              <a:ext cx="99720" cy="11700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88" y="149"/>
                  </a:moveTo>
                  <a:lnTo>
                    <a:pt x="64" y="140"/>
                  </a:lnTo>
                  <a:lnTo>
                    <a:pt x="46" y="129"/>
                  </a:lnTo>
                  <a:lnTo>
                    <a:pt x="33" y="114"/>
                  </a:lnTo>
                  <a:lnTo>
                    <a:pt x="22" y="98"/>
                  </a:lnTo>
                  <a:lnTo>
                    <a:pt x="15" y="80"/>
                  </a:lnTo>
                  <a:lnTo>
                    <a:pt x="9" y="60"/>
                  </a:lnTo>
                  <a:lnTo>
                    <a:pt x="4" y="39"/>
                  </a:lnTo>
                  <a:lnTo>
                    <a:pt x="0" y="18"/>
                  </a:lnTo>
                  <a:lnTo>
                    <a:pt x="16" y="16"/>
                  </a:lnTo>
                  <a:lnTo>
                    <a:pt x="33" y="13"/>
                  </a:lnTo>
                  <a:lnTo>
                    <a:pt x="49" y="12"/>
                  </a:lnTo>
                  <a:lnTo>
                    <a:pt x="64" y="10"/>
                  </a:lnTo>
                  <a:lnTo>
                    <a:pt x="81" y="7"/>
                  </a:lnTo>
                  <a:lnTo>
                    <a:pt x="96" y="6"/>
                  </a:lnTo>
                  <a:lnTo>
                    <a:pt x="111" y="3"/>
                  </a:lnTo>
                  <a:lnTo>
                    <a:pt x="127" y="0"/>
                  </a:lnTo>
                  <a:lnTo>
                    <a:pt x="126" y="16"/>
                  </a:lnTo>
                  <a:lnTo>
                    <a:pt x="124" y="34"/>
                  </a:lnTo>
                  <a:lnTo>
                    <a:pt x="124" y="53"/>
                  </a:lnTo>
                  <a:lnTo>
                    <a:pt x="124" y="72"/>
                  </a:lnTo>
                  <a:lnTo>
                    <a:pt x="120" y="92"/>
                  </a:lnTo>
                  <a:lnTo>
                    <a:pt x="114" y="111"/>
                  </a:lnTo>
                  <a:lnTo>
                    <a:pt x="103" y="131"/>
                  </a:lnTo>
                  <a:lnTo>
                    <a:pt x="88" y="149"/>
                  </a:lnTo>
                  <a:close/>
                </a:path>
              </a:pathLst>
            </a:custGeom>
            <a:solidFill>
              <a:srgbClr val="93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2352800">
              <a:off x="5067360" y="3195360"/>
              <a:ext cx="365400" cy="972360"/>
            </a:xfrm>
            <a:custGeom>
              <a:avLst/>
              <a:gdLst/>
              <a:ahLst/>
              <a:rect l="l" t="t" r="r" b="b"/>
              <a:pathLst>
                <a:path w="465" h="1236">
                  <a:moveTo>
                    <a:pt x="414" y="75"/>
                  </a:moveTo>
                  <a:lnTo>
                    <a:pt x="406" y="75"/>
                  </a:lnTo>
                  <a:lnTo>
                    <a:pt x="396" y="75"/>
                  </a:lnTo>
                  <a:lnTo>
                    <a:pt x="384" y="78"/>
                  </a:lnTo>
                  <a:lnTo>
                    <a:pt x="370" y="79"/>
                  </a:lnTo>
                  <a:lnTo>
                    <a:pt x="360" y="82"/>
                  </a:lnTo>
                  <a:lnTo>
                    <a:pt x="349" y="85"/>
                  </a:lnTo>
                  <a:lnTo>
                    <a:pt x="343" y="90"/>
                  </a:lnTo>
                  <a:lnTo>
                    <a:pt x="340" y="94"/>
                  </a:lnTo>
                  <a:lnTo>
                    <a:pt x="343" y="114"/>
                  </a:lnTo>
                  <a:lnTo>
                    <a:pt x="351" y="150"/>
                  </a:lnTo>
                  <a:lnTo>
                    <a:pt x="360" y="191"/>
                  </a:lnTo>
                  <a:lnTo>
                    <a:pt x="366" y="224"/>
                  </a:lnTo>
                  <a:lnTo>
                    <a:pt x="367" y="227"/>
                  </a:lnTo>
                  <a:lnTo>
                    <a:pt x="367" y="230"/>
                  </a:lnTo>
                  <a:lnTo>
                    <a:pt x="367" y="234"/>
                  </a:lnTo>
                  <a:lnTo>
                    <a:pt x="367" y="237"/>
                  </a:lnTo>
                  <a:lnTo>
                    <a:pt x="229" y="252"/>
                  </a:lnTo>
                  <a:lnTo>
                    <a:pt x="233" y="285"/>
                  </a:lnTo>
                  <a:lnTo>
                    <a:pt x="372" y="269"/>
                  </a:lnTo>
                  <a:lnTo>
                    <a:pt x="373" y="293"/>
                  </a:lnTo>
                  <a:lnTo>
                    <a:pt x="373" y="317"/>
                  </a:lnTo>
                  <a:lnTo>
                    <a:pt x="373" y="343"/>
                  </a:lnTo>
                  <a:lnTo>
                    <a:pt x="375" y="367"/>
                  </a:lnTo>
                  <a:lnTo>
                    <a:pt x="244" y="382"/>
                  </a:lnTo>
                  <a:lnTo>
                    <a:pt x="248" y="413"/>
                  </a:lnTo>
                  <a:lnTo>
                    <a:pt x="375" y="398"/>
                  </a:lnTo>
                  <a:lnTo>
                    <a:pt x="375" y="412"/>
                  </a:lnTo>
                  <a:lnTo>
                    <a:pt x="375" y="424"/>
                  </a:lnTo>
                  <a:lnTo>
                    <a:pt x="375" y="437"/>
                  </a:lnTo>
                  <a:lnTo>
                    <a:pt x="376" y="451"/>
                  </a:lnTo>
                  <a:lnTo>
                    <a:pt x="378" y="461"/>
                  </a:lnTo>
                  <a:lnTo>
                    <a:pt x="379" y="472"/>
                  </a:lnTo>
                  <a:lnTo>
                    <a:pt x="379" y="483"/>
                  </a:lnTo>
                  <a:lnTo>
                    <a:pt x="381" y="493"/>
                  </a:lnTo>
                  <a:lnTo>
                    <a:pt x="259" y="507"/>
                  </a:lnTo>
                  <a:lnTo>
                    <a:pt x="264" y="540"/>
                  </a:lnTo>
                  <a:lnTo>
                    <a:pt x="385" y="526"/>
                  </a:lnTo>
                  <a:lnTo>
                    <a:pt x="388" y="552"/>
                  </a:lnTo>
                  <a:lnTo>
                    <a:pt x="391" y="576"/>
                  </a:lnTo>
                  <a:lnTo>
                    <a:pt x="394" y="601"/>
                  </a:lnTo>
                  <a:lnTo>
                    <a:pt x="397" y="627"/>
                  </a:lnTo>
                  <a:lnTo>
                    <a:pt x="274" y="642"/>
                  </a:lnTo>
                  <a:lnTo>
                    <a:pt x="279" y="674"/>
                  </a:lnTo>
                  <a:lnTo>
                    <a:pt x="402" y="660"/>
                  </a:lnTo>
                  <a:lnTo>
                    <a:pt x="406" y="686"/>
                  </a:lnTo>
                  <a:lnTo>
                    <a:pt x="411" y="713"/>
                  </a:lnTo>
                  <a:lnTo>
                    <a:pt x="414" y="740"/>
                  </a:lnTo>
                  <a:lnTo>
                    <a:pt x="418" y="765"/>
                  </a:lnTo>
                  <a:lnTo>
                    <a:pt x="288" y="780"/>
                  </a:lnTo>
                  <a:lnTo>
                    <a:pt x="291" y="814"/>
                  </a:lnTo>
                  <a:lnTo>
                    <a:pt x="423" y="798"/>
                  </a:lnTo>
                  <a:lnTo>
                    <a:pt x="426" y="824"/>
                  </a:lnTo>
                  <a:lnTo>
                    <a:pt x="430" y="850"/>
                  </a:lnTo>
                  <a:lnTo>
                    <a:pt x="435" y="877"/>
                  </a:lnTo>
                  <a:lnTo>
                    <a:pt x="438" y="902"/>
                  </a:lnTo>
                  <a:lnTo>
                    <a:pt x="309" y="917"/>
                  </a:lnTo>
                  <a:lnTo>
                    <a:pt x="312" y="949"/>
                  </a:lnTo>
                  <a:lnTo>
                    <a:pt x="442" y="934"/>
                  </a:lnTo>
                  <a:lnTo>
                    <a:pt x="445" y="959"/>
                  </a:lnTo>
                  <a:lnTo>
                    <a:pt x="449" y="987"/>
                  </a:lnTo>
                  <a:lnTo>
                    <a:pt x="450" y="1012"/>
                  </a:lnTo>
                  <a:lnTo>
                    <a:pt x="453" y="1039"/>
                  </a:lnTo>
                  <a:lnTo>
                    <a:pt x="319" y="1054"/>
                  </a:lnTo>
                  <a:lnTo>
                    <a:pt x="322" y="1086"/>
                  </a:lnTo>
                  <a:lnTo>
                    <a:pt x="456" y="1071"/>
                  </a:lnTo>
                  <a:lnTo>
                    <a:pt x="456" y="1072"/>
                  </a:lnTo>
                  <a:lnTo>
                    <a:pt x="456" y="1072"/>
                  </a:lnTo>
                  <a:lnTo>
                    <a:pt x="456" y="1072"/>
                  </a:lnTo>
                  <a:lnTo>
                    <a:pt x="456" y="1074"/>
                  </a:lnTo>
                  <a:lnTo>
                    <a:pt x="459" y="1108"/>
                  </a:lnTo>
                  <a:lnTo>
                    <a:pt x="461" y="1143"/>
                  </a:lnTo>
                  <a:lnTo>
                    <a:pt x="462" y="1176"/>
                  </a:lnTo>
                  <a:lnTo>
                    <a:pt x="465" y="1211"/>
                  </a:lnTo>
                  <a:lnTo>
                    <a:pt x="438" y="1217"/>
                  </a:lnTo>
                  <a:lnTo>
                    <a:pt x="409" y="1223"/>
                  </a:lnTo>
                  <a:lnTo>
                    <a:pt x="381" y="1227"/>
                  </a:lnTo>
                  <a:lnTo>
                    <a:pt x="352" y="1230"/>
                  </a:lnTo>
                  <a:lnTo>
                    <a:pt x="325" y="1233"/>
                  </a:lnTo>
                  <a:lnTo>
                    <a:pt x="297" y="1236"/>
                  </a:lnTo>
                  <a:lnTo>
                    <a:pt x="271" y="1236"/>
                  </a:lnTo>
                  <a:lnTo>
                    <a:pt x="247" y="1236"/>
                  </a:lnTo>
                  <a:lnTo>
                    <a:pt x="241" y="1188"/>
                  </a:lnTo>
                  <a:lnTo>
                    <a:pt x="226" y="1060"/>
                  </a:lnTo>
                  <a:lnTo>
                    <a:pt x="206" y="880"/>
                  </a:lnTo>
                  <a:lnTo>
                    <a:pt x="182" y="672"/>
                  </a:lnTo>
                  <a:lnTo>
                    <a:pt x="158" y="464"/>
                  </a:lnTo>
                  <a:lnTo>
                    <a:pt x="136" y="284"/>
                  </a:lnTo>
                  <a:lnTo>
                    <a:pt x="121" y="156"/>
                  </a:lnTo>
                  <a:lnTo>
                    <a:pt x="112" y="108"/>
                  </a:lnTo>
                  <a:lnTo>
                    <a:pt x="109" y="108"/>
                  </a:lnTo>
                  <a:lnTo>
                    <a:pt x="101" y="108"/>
                  </a:lnTo>
                  <a:lnTo>
                    <a:pt x="89" y="109"/>
                  </a:lnTo>
                  <a:lnTo>
                    <a:pt x="76" y="109"/>
                  </a:lnTo>
                  <a:lnTo>
                    <a:pt x="59" y="111"/>
                  </a:lnTo>
                  <a:lnTo>
                    <a:pt x="44" y="112"/>
                  </a:lnTo>
                  <a:lnTo>
                    <a:pt x="30" y="115"/>
                  </a:lnTo>
                  <a:lnTo>
                    <a:pt x="20" y="117"/>
                  </a:lnTo>
                  <a:lnTo>
                    <a:pt x="20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20" y="112"/>
                  </a:lnTo>
                  <a:lnTo>
                    <a:pt x="17" y="102"/>
                  </a:lnTo>
                  <a:lnTo>
                    <a:pt x="11" y="91"/>
                  </a:lnTo>
                  <a:lnTo>
                    <a:pt x="5" y="81"/>
                  </a:lnTo>
                  <a:lnTo>
                    <a:pt x="0" y="70"/>
                  </a:lnTo>
                  <a:lnTo>
                    <a:pt x="27" y="66"/>
                  </a:lnTo>
                  <a:lnTo>
                    <a:pt x="53" y="63"/>
                  </a:lnTo>
                  <a:lnTo>
                    <a:pt x="80" y="60"/>
                  </a:lnTo>
                  <a:lnTo>
                    <a:pt x="107" y="57"/>
                  </a:lnTo>
                  <a:lnTo>
                    <a:pt x="134" y="54"/>
                  </a:lnTo>
                  <a:lnTo>
                    <a:pt x="161" y="51"/>
                  </a:lnTo>
                  <a:lnTo>
                    <a:pt x="187" y="48"/>
                  </a:lnTo>
                  <a:lnTo>
                    <a:pt x="214" y="43"/>
                  </a:lnTo>
                  <a:lnTo>
                    <a:pt x="241" y="40"/>
                  </a:lnTo>
                  <a:lnTo>
                    <a:pt x="268" y="37"/>
                  </a:lnTo>
                  <a:lnTo>
                    <a:pt x="294" y="33"/>
                  </a:lnTo>
                  <a:lnTo>
                    <a:pt x="321" y="27"/>
                  </a:lnTo>
                  <a:lnTo>
                    <a:pt x="346" y="22"/>
                  </a:lnTo>
                  <a:lnTo>
                    <a:pt x="373" y="15"/>
                  </a:lnTo>
                  <a:lnTo>
                    <a:pt x="399" y="7"/>
                  </a:lnTo>
                  <a:lnTo>
                    <a:pt x="424" y="0"/>
                  </a:lnTo>
                  <a:lnTo>
                    <a:pt x="421" y="18"/>
                  </a:lnTo>
                  <a:lnTo>
                    <a:pt x="418" y="37"/>
                  </a:lnTo>
                  <a:lnTo>
                    <a:pt x="417" y="55"/>
                  </a:lnTo>
                  <a:lnTo>
                    <a:pt x="414" y="75"/>
                  </a:lnTo>
                  <a:close/>
                </a:path>
              </a:pathLst>
            </a:custGeom>
            <a:solidFill>
              <a:srgbClr val="f9c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2352800">
              <a:off x="4859280" y="4119120"/>
              <a:ext cx="267840" cy="520200"/>
            </a:xfrm>
            <a:custGeom>
              <a:avLst/>
              <a:gdLst/>
              <a:ahLst/>
              <a:rect l="l" t="t" r="r" b="b"/>
              <a:pathLst>
                <a:path w="341" h="661">
                  <a:moveTo>
                    <a:pt x="240" y="89"/>
                  </a:moveTo>
                  <a:lnTo>
                    <a:pt x="242" y="107"/>
                  </a:lnTo>
                  <a:lnTo>
                    <a:pt x="249" y="152"/>
                  </a:lnTo>
                  <a:lnTo>
                    <a:pt x="263" y="218"/>
                  </a:lnTo>
                  <a:lnTo>
                    <a:pt x="279" y="300"/>
                  </a:lnTo>
                  <a:lnTo>
                    <a:pt x="296" y="388"/>
                  </a:lnTo>
                  <a:lnTo>
                    <a:pt x="313" y="480"/>
                  </a:lnTo>
                  <a:lnTo>
                    <a:pt x="326" y="566"/>
                  </a:lnTo>
                  <a:lnTo>
                    <a:pt x="335" y="641"/>
                  </a:lnTo>
                  <a:lnTo>
                    <a:pt x="317" y="644"/>
                  </a:lnTo>
                  <a:lnTo>
                    <a:pt x="301" y="646"/>
                  </a:lnTo>
                  <a:lnTo>
                    <a:pt x="282" y="649"/>
                  </a:lnTo>
                  <a:lnTo>
                    <a:pt x="266" y="650"/>
                  </a:lnTo>
                  <a:lnTo>
                    <a:pt x="248" y="653"/>
                  </a:lnTo>
                  <a:lnTo>
                    <a:pt x="230" y="655"/>
                  </a:lnTo>
                  <a:lnTo>
                    <a:pt x="213" y="658"/>
                  </a:lnTo>
                  <a:lnTo>
                    <a:pt x="195" y="661"/>
                  </a:lnTo>
                  <a:lnTo>
                    <a:pt x="191" y="635"/>
                  </a:lnTo>
                  <a:lnTo>
                    <a:pt x="180" y="570"/>
                  </a:lnTo>
                  <a:lnTo>
                    <a:pt x="164" y="480"/>
                  </a:lnTo>
                  <a:lnTo>
                    <a:pt x="146" y="378"/>
                  </a:lnTo>
                  <a:lnTo>
                    <a:pt x="128" y="275"/>
                  </a:lnTo>
                  <a:lnTo>
                    <a:pt x="111" y="185"/>
                  </a:lnTo>
                  <a:lnTo>
                    <a:pt x="99" y="124"/>
                  </a:lnTo>
                  <a:lnTo>
                    <a:pt x="93" y="99"/>
                  </a:lnTo>
                  <a:lnTo>
                    <a:pt x="82" y="96"/>
                  </a:lnTo>
                  <a:lnTo>
                    <a:pt x="70" y="95"/>
                  </a:lnTo>
                  <a:lnTo>
                    <a:pt x="58" y="95"/>
                  </a:lnTo>
                  <a:lnTo>
                    <a:pt x="48" y="96"/>
                  </a:lnTo>
                  <a:lnTo>
                    <a:pt x="36" y="98"/>
                  </a:lnTo>
                  <a:lnTo>
                    <a:pt x="24" y="101"/>
                  </a:lnTo>
                  <a:lnTo>
                    <a:pt x="12" y="102"/>
                  </a:lnTo>
                  <a:lnTo>
                    <a:pt x="1" y="104"/>
                  </a:lnTo>
                  <a:lnTo>
                    <a:pt x="3" y="86"/>
                  </a:lnTo>
                  <a:lnTo>
                    <a:pt x="3" y="68"/>
                  </a:lnTo>
                  <a:lnTo>
                    <a:pt x="1" y="51"/>
                  </a:lnTo>
                  <a:lnTo>
                    <a:pt x="0" y="33"/>
                  </a:lnTo>
                  <a:lnTo>
                    <a:pt x="21" y="35"/>
                  </a:lnTo>
                  <a:lnTo>
                    <a:pt x="42" y="36"/>
                  </a:lnTo>
                  <a:lnTo>
                    <a:pt x="64" y="36"/>
                  </a:lnTo>
                  <a:lnTo>
                    <a:pt x="85" y="36"/>
                  </a:lnTo>
                  <a:lnTo>
                    <a:pt x="107" y="35"/>
                  </a:lnTo>
                  <a:lnTo>
                    <a:pt x="128" y="35"/>
                  </a:lnTo>
                  <a:lnTo>
                    <a:pt x="150" y="32"/>
                  </a:lnTo>
                  <a:lnTo>
                    <a:pt x="171" y="30"/>
                  </a:lnTo>
                  <a:lnTo>
                    <a:pt x="192" y="27"/>
                  </a:lnTo>
                  <a:lnTo>
                    <a:pt x="213" y="24"/>
                  </a:lnTo>
                  <a:lnTo>
                    <a:pt x="234" y="20"/>
                  </a:lnTo>
                  <a:lnTo>
                    <a:pt x="255" y="17"/>
                  </a:lnTo>
                  <a:lnTo>
                    <a:pt x="276" y="12"/>
                  </a:lnTo>
                  <a:lnTo>
                    <a:pt x="298" y="9"/>
                  </a:lnTo>
                  <a:lnTo>
                    <a:pt x="319" y="5"/>
                  </a:lnTo>
                  <a:lnTo>
                    <a:pt x="340" y="0"/>
                  </a:lnTo>
                  <a:lnTo>
                    <a:pt x="340" y="17"/>
                  </a:lnTo>
                  <a:lnTo>
                    <a:pt x="341" y="33"/>
                  </a:lnTo>
                  <a:lnTo>
                    <a:pt x="341" y="51"/>
                  </a:lnTo>
                  <a:lnTo>
                    <a:pt x="341" y="66"/>
                  </a:lnTo>
                  <a:lnTo>
                    <a:pt x="332" y="68"/>
                  </a:lnTo>
                  <a:lnTo>
                    <a:pt x="320" y="69"/>
                  </a:lnTo>
                  <a:lnTo>
                    <a:pt x="305" y="72"/>
                  </a:lnTo>
                  <a:lnTo>
                    <a:pt x="290" y="75"/>
                  </a:lnTo>
                  <a:lnTo>
                    <a:pt x="275" y="78"/>
                  </a:lnTo>
                  <a:lnTo>
                    <a:pt x="260" y="81"/>
                  </a:lnTo>
                  <a:lnTo>
                    <a:pt x="249" y="84"/>
                  </a:lnTo>
                  <a:lnTo>
                    <a:pt x="240" y="89"/>
                  </a:lnTo>
                  <a:close/>
                </a:path>
              </a:pathLst>
            </a:custGeom>
            <a:solidFill>
              <a:srgbClr val="cc3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E8AD-FE87-4CDD-AFDD-2A0F2232B5F5}" type="slidenum">
              <a:t>4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-4.44444E-006 C 2.77778E-006 0.0095 0.00017 0.01667 0.00052 0.01667 C 0.00069 0.01667 0.00087 0.0095 0.00087 -4.44444E-006 C 0.00104 0.0095 0.00121 0.01667 0.00139 0.01667 C 0.00173 0.01667 0.00191 0.0095 0.00191 -4.44444E-006 C 0.00208 0.0095 0.00225 0.01667 0.00243 0.01667 C 0.0026 0.01667 0.00295 0.0095 0.00295 -4.44444E-006 C 0.00312 0.0095 0.0033 0.01667 0.00347 0.01667 C 0.00364 0.01667 0.00399 0.0095 0.00399 -4.44444E-006 C 0.00399 0.0095 0.00434 0.01667 0.00451 0.01667 C 0.00468 0.01667 0.00486 0.0095 0.00503 -4.44444E-006 C 0.00503 0.0095 0.00538 0.01667 0.00555 0.01667 C 0.00573 0.01667 0.0059 0.0095 0.00607 -4.44444E-006 C 0.00607 0.0095 0.00625 0.01667 0.00659 0.01667 C 0.00677 0.01667 0.00694 0.0095 0.00712 -4.44444E-006 C 0.00712 0.0095 0.00729 0.01667 0.00764 0.01667 C 0.00781 0.01667 0.00798 0.0095 0.00816 -4.44444E-006 E">
                                      <p:cBhvr>
                                        <p:cTn id="14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-3.33333E-006 C -2.77778E-006 0.00949 -2.77778E-006 0.01667 0.00035 0.01667 C 0.00052 0.01667 0.0007 0.00949 0.00087 -3.33333E-006 C 0.00087 0.00949 0.00104 0.01667 0.00139 0.01667 C 0.00157 0.01667 0.00174 0.00949 0.00191 -3.33333E-006 C 0.00191 0.00949 0.00209 0.01667 0.00243 0.01667 C 0.00261 0.01667 0.00295 0.00949 0.00295 -3.33333E-006 C 0.00295 0.00949 0.0033 0.01667 0.00348 0.01667 C 0.00365 0.01667 0.004 0.00949 0.004 -3.33333E-006 C 0.004 0.00949 0.00417 0.01667 0.00434 0.01667 C 0.00452 0.01667 0.00486 0.00949 0.00486 -3.33333E-006 C 0.00504 0.00949 0.00521 0.01667 0.00538 0.01667 C 0.00573 0.01667 0.00591 0.00949 0.00591 -3.33333E-006 C 0.00608 0.00949 0.00625 0.01667 0.00643 0.01667 C 0.00677 0.01667 0.00695 0.00949 0.00695 -3.33333E-006 C 0.00712 0.00949 0.00729 0.01667 0.00764 0.01667 C 0.00782 0.01667 0.00799 0.00949 0.00816 -3.33333E-006 E">
                                      <p:cBhvr>
                                        <p:cTn id="143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6840" y="5386320"/>
            <a:ext cx="7808760" cy="128628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5560" indent="-11955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  <a:ea typeface="Courier New"/>
              </a:rPr>
              <a:t>SELECT * from tUsers where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  <a:ea typeface="Courier New"/>
              </a:rPr>
              <a:t>userid='            ' AND password='bar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51680" y="560520"/>
            <a:ext cx="1905120" cy="2730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64771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input is embedd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-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predefined SQL statement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828800"/>
            <a:ext cx="60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5560" indent="-11955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= "SELECT * from tUsers where userid='" +         + "' AND password='" +           + "'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4552920"/>
            <a:ext cx="878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ker supplies input that modifies the original SQL statement,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UserI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32080" y="48769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' or 1=1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" y="3602160"/>
            <a:ext cx="7886520" cy="128628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5560" indent="-11955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  <a:ea typeface="Courier New"/>
              </a:rPr>
              <a:t>SELECT * from tUsers where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  <a:ea typeface="Courier New"/>
              </a:rPr>
              <a:t>userid=‘jsmith' AND password=‘demo1234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56240" y="5421240"/>
            <a:ext cx="3233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' AND password='bar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53880" y="5349960"/>
            <a:ext cx="7829640" cy="933480"/>
            <a:chOff x="353880" y="5349960"/>
            <a:chExt cx="7829640" cy="933480"/>
          </a:xfrm>
        </p:grpSpPr>
        <p:sp>
          <p:nvSpPr>
            <p:cNvPr id="177" name=""/>
            <p:cNvSpPr/>
            <p:nvPr/>
          </p:nvSpPr>
          <p:spPr>
            <a:xfrm>
              <a:off x="353880" y="5349960"/>
              <a:ext cx="7829640" cy="933480"/>
            </a:xfrm>
            <a:prstGeom prst="flowChartAlternateProcess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3f3f3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71720" y="5850000"/>
              <a:ext cx="928440" cy="287280"/>
            </a:xfrm>
            <a:prstGeom prst="rightArrow">
              <a:avLst>
                <a:gd name="adj1" fmla="val 50278"/>
                <a:gd name="adj2" fmla="val 65459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46800" y="5815080"/>
              <a:ext cx="1449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Administ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8400" y="5815080"/>
              <a:ext cx="12384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$#kaoeFor5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0440" y="5815080"/>
              <a:ext cx="11379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adm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8000" y="5815080"/>
              <a:ext cx="892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46800" y="5511960"/>
              <a:ext cx="14493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8400" y="5511960"/>
              <a:ext cx="1238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Pass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0440" y="551196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User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78000" y="5511960"/>
              <a:ext cx="892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Use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78000" y="5511960"/>
              <a:ext cx="4718160" cy="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78000" y="5815080"/>
              <a:ext cx="4718160" cy="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8000" y="6167520"/>
              <a:ext cx="4718160" cy="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8000" y="5511960"/>
              <a:ext cx="0" cy="65556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70440" y="5511960"/>
              <a:ext cx="0" cy="65556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8400" y="5511960"/>
              <a:ext cx="0" cy="65556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6800" y="5511960"/>
              <a:ext cx="0" cy="65556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96160" y="5511960"/>
              <a:ext cx="0" cy="65556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7800" y="3581280"/>
            <a:ext cx="7932600" cy="933480"/>
            <a:chOff x="307800" y="3581280"/>
            <a:chExt cx="7932600" cy="933480"/>
          </a:xfrm>
        </p:grpSpPr>
        <p:sp>
          <p:nvSpPr>
            <p:cNvPr id="196" name=""/>
            <p:cNvSpPr/>
            <p:nvPr/>
          </p:nvSpPr>
          <p:spPr>
            <a:xfrm>
              <a:off x="307800" y="3581280"/>
              <a:ext cx="7932600" cy="933480"/>
            </a:xfrm>
            <a:prstGeom prst="flowChartAlternateProcess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3f3f3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35000" y="4081320"/>
              <a:ext cx="940680" cy="287280"/>
            </a:xfrm>
            <a:prstGeom prst="rightArrow">
              <a:avLst>
                <a:gd name="adj1" fmla="val 50278"/>
                <a:gd name="adj2" fmla="val 66322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67680" y="4046400"/>
              <a:ext cx="1468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John Sm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3080" y="4046400"/>
              <a:ext cx="1254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demo12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60000" y="4046400"/>
              <a:ext cx="11527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jsm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5680" y="4046400"/>
              <a:ext cx="9039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ahoma"/>
                </a:rPr>
                <a:t>18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67680" y="3743280"/>
              <a:ext cx="1468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3080" y="3743280"/>
              <a:ext cx="1254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Pass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60000" y="3743280"/>
              <a:ext cx="115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User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55680" y="3743280"/>
              <a:ext cx="903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Use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55680" y="3743280"/>
              <a:ext cx="4780080" cy="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55680" y="4046400"/>
              <a:ext cx="4780080" cy="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5680" y="4398840"/>
              <a:ext cx="4780080" cy="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55680" y="3743280"/>
              <a:ext cx="0" cy="65556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0000" y="3743280"/>
              <a:ext cx="0" cy="65556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3080" y="3743280"/>
              <a:ext cx="0" cy="65556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67680" y="3743280"/>
              <a:ext cx="0" cy="655560"/>
            </a:xfrm>
            <a:prstGeom prst="line">
              <a:avLst/>
            </a:prstGeom>
            <a:ln w="1260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6120" y="3743280"/>
              <a:ext cx="0" cy="655560"/>
            </a:xfrm>
            <a:prstGeom prst="line">
              <a:avLst/>
            </a:prstGeom>
            <a:ln cap="sq" w="2844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722040" y="2297160"/>
            <a:ext cx="979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Us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2616120"/>
            <a:ext cx="1323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9040" y="1378080"/>
            <a:ext cx="85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24040" y="190332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emo1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66880" y="2362320"/>
            <a:ext cx="3281400" cy="2857320"/>
            <a:chOff x="2666880" y="2362320"/>
            <a:chExt cx="3281400" cy="28573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66880" y="2362320"/>
              <a:ext cx="248616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rot="20981400">
              <a:off x="3965400" y="4114800"/>
              <a:ext cx="454320" cy="352440"/>
            </a:xfrm>
            <a:custGeom>
              <a:avLst/>
              <a:gdLst/>
              <a:ahLst/>
              <a:rect l="l" t="t" r="r" b="b"/>
              <a:pathLst>
                <a:path w="286" h="222">
                  <a:moveTo>
                    <a:pt x="0" y="222"/>
                  </a:moveTo>
                  <a:cubicBezTo>
                    <a:pt x="73" y="69"/>
                    <a:pt x="178" y="143"/>
                    <a:pt x="232" y="120"/>
                  </a:cubicBezTo>
                  <a:cubicBezTo>
                    <a:pt x="286" y="97"/>
                    <a:pt x="286" y="0"/>
                    <a:pt x="220" y="10"/>
                  </a:cubicBezTo>
                  <a:cubicBezTo>
                    <a:pt x="154" y="20"/>
                    <a:pt x="31" y="34"/>
                    <a:pt x="0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2d1c14"/>
                </a:gs>
                <a:gs pos="100000">
                  <a:srgbClr val="623d2c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20982000">
              <a:off x="4419720" y="4038120"/>
              <a:ext cx="453960" cy="352800"/>
            </a:xfrm>
            <a:custGeom>
              <a:avLst/>
              <a:gdLst/>
              <a:ahLst/>
              <a:rect l="l" t="t" r="r" b="b"/>
              <a:pathLst>
                <a:path w="286" h="222">
                  <a:moveTo>
                    <a:pt x="0" y="222"/>
                  </a:moveTo>
                  <a:cubicBezTo>
                    <a:pt x="73" y="69"/>
                    <a:pt x="178" y="143"/>
                    <a:pt x="232" y="120"/>
                  </a:cubicBezTo>
                  <a:cubicBezTo>
                    <a:pt x="286" y="97"/>
                    <a:pt x="286" y="0"/>
                    <a:pt x="220" y="10"/>
                  </a:cubicBezTo>
                  <a:cubicBezTo>
                    <a:pt x="154" y="20"/>
                    <a:pt x="31" y="34"/>
                    <a:pt x="0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2d1c14"/>
                </a:gs>
                <a:gs pos="100000">
                  <a:srgbClr val="623d2c"/>
                </a:gs>
              </a:gsLst>
              <a:lin ang="4782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587120" y="2593440"/>
              <a:ext cx="1361160" cy="2127960"/>
              <a:chOff x="4587120" y="2593440"/>
              <a:chExt cx="1361160" cy="2127960"/>
            </a:xfrm>
          </p:grpSpPr>
          <p:sp>
            <p:nvSpPr>
              <p:cNvPr id="223" name=""/>
              <p:cNvSpPr/>
              <p:nvPr/>
            </p:nvSpPr>
            <p:spPr>
              <a:xfrm rot="12352800">
                <a:off x="5028480" y="2590560"/>
                <a:ext cx="477720" cy="2133360"/>
              </a:xfrm>
              <a:custGeom>
                <a:avLst/>
                <a:gdLst/>
                <a:ahLst/>
                <a:rect l="l" t="t" r="r" b="b"/>
                <a:pathLst>
                  <a:path w="608" h="2711">
                    <a:moveTo>
                      <a:pt x="244" y="29"/>
                    </a:moveTo>
                    <a:lnTo>
                      <a:pt x="220" y="32"/>
                    </a:lnTo>
                    <a:lnTo>
                      <a:pt x="196" y="33"/>
                    </a:lnTo>
                    <a:lnTo>
                      <a:pt x="172" y="36"/>
                    </a:lnTo>
                    <a:lnTo>
                      <a:pt x="147" y="39"/>
                    </a:lnTo>
                    <a:lnTo>
                      <a:pt x="122" y="41"/>
                    </a:lnTo>
                    <a:lnTo>
                      <a:pt x="98" y="42"/>
                    </a:lnTo>
                    <a:lnTo>
                      <a:pt x="74" y="42"/>
                    </a:lnTo>
                    <a:lnTo>
                      <a:pt x="50" y="42"/>
                    </a:lnTo>
                    <a:lnTo>
                      <a:pt x="2" y="53"/>
                    </a:lnTo>
                    <a:lnTo>
                      <a:pt x="0" y="80"/>
                    </a:lnTo>
                    <a:lnTo>
                      <a:pt x="3" y="119"/>
                    </a:lnTo>
                    <a:lnTo>
                      <a:pt x="6" y="153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23" y="181"/>
                    </a:lnTo>
                    <a:lnTo>
                      <a:pt x="36" y="185"/>
                    </a:lnTo>
                    <a:lnTo>
                      <a:pt x="53" y="187"/>
                    </a:lnTo>
                    <a:lnTo>
                      <a:pt x="71" y="188"/>
                    </a:lnTo>
                    <a:lnTo>
                      <a:pt x="89" y="188"/>
                    </a:lnTo>
                    <a:lnTo>
                      <a:pt x="105" y="187"/>
                    </a:lnTo>
                    <a:lnTo>
                      <a:pt x="117" y="182"/>
                    </a:lnTo>
                    <a:lnTo>
                      <a:pt x="128" y="250"/>
                    </a:lnTo>
                    <a:lnTo>
                      <a:pt x="138" y="326"/>
                    </a:lnTo>
                    <a:lnTo>
                      <a:pt x="151" y="408"/>
                    </a:lnTo>
                    <a:lnTo>
                      <a:pt x="161" y="487"/>
                    </a:lnTo>
                    <a:lnTo>
                      <a:pt x="172" y="563"/>
                    </a:lnTo>
                    <a:lnTo>
                      <a:pt x="181" y="629"/>
                    </a:lnTo>
                    <a:lnTo>
                      <a:pt x="187" y="680"/>
                    </a:lnTo>
                    <a:lnTo>
                      <a:pt x="190" y="710"/>
                    </a:lnTo>
                    <a:lnTo>
                      <a:pt x="191" y="712"/>
                    </a:lnTo>
                    <a:lnTo>
                      <a:pt x="191" y="713"/>
                    </a:lnTo>
                    <a:lnTo>
                      <a:pt x="193" y="715"/>
                    </a:lnTo>
                    <a:lnTo>
                      <a:pt x="193" y="716"/>
                    </a:lnTo>
                    <a:lnTo>
                      <a:pt x="175" y="719"/>
                    </a:lnTo>
                    <a:lnTo>
                      <a:pt x="152" y="724"/>
                    </a:lnTo>
                    <a:lnTo>
                      <a:pt x="128" y="728"/>
                    </a:lnTo>
                    <a:lnTo>
                      <a:pt x="102" y="733"/>
                    </a:lnTo>
                    <a:lnTo>
                      <a:pt x="80" y="736"/>
                    </a:lnTo>
                    <a:lnTo>
                      <a:pt x="62" y="740"/>
                    </a:lnTo>
                    <a:lnTo>
                      <a:pt x="48" y="743"/>
                    </a:lnTo>
                    <a:lnTo>
                      <a:pt x="42" y="745"/>
                    </a:lnTo>
                    <a:lnTo>
                      <a:pt x="41" y="763"/>
                    </a:lnTo>
                    <a:lnTo>
                      <a:pt x="47" y="797"/>
                    </a:lnTo>
                    <a:lnTo>
                      <a:pt x="54" y="832"/>
                    </a:lnTo>
                    <a:lnTo>
                      <a:pt x="57" y="847"/>
                    </a:lnTo>
                    <a:lnTo>
                      <a:pt x="62" y="850"/>
                    </a:lnTo>
                    <a:lnTo>
                      <a:pt x="71" y="853"/>
                    </a:lnTo>
                    <a:lnTo>
                      <a:pt x="84" y="853"/>
                    </a:lnTo>
                    <a:lnTo>
                      <a:pt x="101" y="855"/>
                    </a:lnTo>
                    <a:lnTo>
                      <a:pt x="119" y="853"/>
                    </a:lnTo>
                    <a:lnTo>
                      <a:pt x="135" y="853"/>
                    </a:lnTo>
                    <a:lnTo>
                      <a:pt x="151" y="850"/>
                    </a:lnTo>
                    <a:lnTo>
                      <a:pt x="163" y="849"/>
                    </a:lnTo>
                    <a:lnTo>
                      <a:pt x="166" y="895"/>
                    </a:lnTo>
                    <a:lnTo>
                      <a:pt x="175" y="1010"/>
                    </a:lnTo>
                    <a:lnTo>
                      <a:pt x="190" y="1170"/>
                    </a:lnTo>
                    <a:lnTo>
                      <a:pt x="208" y="1360"/>
                    </a:lnTo>
                    <a:lnTo>
                      <a:pt x="227" y="1554"/>
                    </a:lnTo>
                    <a:lnTo>
                      <a:pt x="247" y="1733"/>
                    </a:lnTo>
                    <a:lnTo>
                      <a:pt x="265" y="1876"/>
                    </a:lnTo>
                    <a:lnTo>
                      <a:pt x="281" y="1962"/>
                    </a:lnTo>
                    <a:lnTo>
                      <a:pt x="290" y="1972"/>
                    </a:lnTo>
                    <a:lnTo>
                      <a:pt x="304" y="1978"/>
                    </a:lnTo>
                    <a:lnTo>
                      <a:pt x="317" y="1981"/>
                    </a:lnTo>
                    <a:lnTo>
                      <a:pt x="323" y="1981"/>
                    </a:lnTo>
                    <a:lnTo>
                      <a:pt x="325" y="1983"/>
                    </a:lnTo>
                    <a:lnTo>
                      <a:pt x="326" y="1983"/>
                    </a:lnTo>
                    <a:lnTo>
                      <a:pt x="328" y="1984"/>
                    </a:lnTo>
                    <a:lnTo>
                      <a:pt x="329" y="1986"/>
                    </a:lnTo>
                    <a:lnTo>
                      <a:pt x="332" y="2008"/>
                    </a:lnTo>
                    <a:lnTo>
                      <a:pt x="337" y="2030"/>
                    </a:lnTo>
                    <a:lnTo>
                      <a:pt x="345" y="2051"/>
                    </a:lnTo>
                    <a:lnTo>
                      <a:pt x="354" y="2072"/>
                    </a:lnTo>
                    <a:lnTo>
                      <a:pt x="363" y="2091"/>
                    </a:lnTo>
                    <a:lnTo>
                      <a:pt x="376" y="2111"/>
                    </a:lnTo>
                    <a:lnTo>
                      <a:pt x="390" y="2129"/>
                    </a:lnTo>
                    <a:lnTo>
                      <a:pt x="405" y="2145"/>
                    </a:lnTo>
                    <a:lnTo>
                      <a:pt x="414" y="2153"/>
                    </a:lnTo>
                    <a:lnTo>
                      <a:pt x="424" y="2157"/>
                    </a:lnTo>
                    <a:lnTo>
                      <a:pt x="436" y="2160"/>
                    </a:lnTo>
                    <a:lnTo>
                      <a:pt x="447" y="2159"/>
                    </a:lnTo>
                    <a:lnTo>
                      <a:pt x="495" y="2576"/>
                    </a:lnTo>
                    <a:lnTo>
                      <a:pt x="527" y="2711"/>
                    </a:lnTo>
                    <a:lnTo>
                      <a:pt x="527" y="2573"/>
                    </a:lnTo>
                    <a:lnTo>
                      <a:pt x="480" y="2168"/>
                    </a:lnTo>
                    <a:lnTo>
                      <a:pt x="486" y="2166"/>
                    </a:lnTo>
                    <a:lnTo>
                      <a:pt x="492" y="2162"/>
                    </a:lnTo>
                    <a:lnTo>
                      <a:pt x="496" y="2159"/>
                    </a:lnTo>
                    <a:lnTo>
                      <a:pt x="501" y="2153"/>
                    </a:lnTo>
                    <a:lnTo>
                      <a:pt x="516" y="2141"/>
                    </a:lnTo>
                    <a:lnTo>
                      <a:pt x="527" y="2126"/>
                    </a:lnTo>
                    <a:lnTo>
                      <a:pt x="534" y="2111"/>
                    </a:lnTo>
                    <a:lnTo>
                      <a:pt x="540" y="2093"/>
                    </a:lnTo>
                    <a:lnTo>
                      <a:pt x="545" y="2075"/>
                    </a:lnTo>
                    <a:lnTo>
                      <a:pt x="548" y="2055"/>
                    </a:lnTo>
                    <a:lnTo>
                      <a:pt x="549" y="2037"/>
                    </a:lnTo>
                    <a:lnTo>
                      <a:pt x="551" y="2019"/>
                    </a:lnTo>
                    <a:lnTo>
                      <a:pt x="551" y="2004"/>
                    </a:lnTo>
                    <a:lnTo>
                      <a:pt x="549" y="1987"/>
                    </a:lnTo>
                    <a:lnTo>
                      <a:pt x="545" y="1972"/>
                    </a:lnTo>
                    <a:lnTo>
                      <a:pt x="537" y="1959"/>
                    </a:lnTo>
                    <a:lnTo>
                      <a:pt x="542" y="1959"/>
                    </a:lnTo>
                    <a:lnTo>
                      <a:pt x="551" y="1959"/>
                    </a:lnTo>
                    <a:lnTo>
                      <a:pt x="563" y="1957"/>
                    </a:lnTo>
                    <a:lnTo>
                      <a:pt x="575" y="1957"/>
                    </a:lnTo>
                    <a:lnTo>
                      <a:pt x="588" y="1954"/>
                    </a:lnTo>
                    <a:lnTo>
                      <a:pt x="599" y="1953"/>
                    </a:lnTo>
                    <a:lnTo>
                      <a:pt x="605" y="1948"/>
                    </a:lnTo>
                    <a:lnTo>
                      <a:pt x="606" y="1942"/>
                    </a:lnTo>
                    <a:lnTo>
                      <a:pt x="608" y="1944"/>
                    </a:lnTo>
                    <a:lnTo>
                      <a:pt x="602" y="1897"/>
                    </a:lnTo>
                    <a:lnTo>
                      <a:pt x="587" y="1775"/>
                    </a:lnTo>
                    <a:lnTo>
                      <a:pt x="564" y="1604"/>
                    </a:lnTo>
                    <a:lnTo>
                      <a:pt x="537" y="1407"/>
                    </a:lnTo>
                    <a:lnTo>
                      <a:pt x="510" y="1205"/>
                    </a:lnTo>
                    <a:lnTo>
                      <a:pt x="487" y="1023"/>
                    </a:lnTo>
                    <a:lnTo>
                      <a:pt x="469" y="886"/>
                    </a:lnTo>
                    <a:lnTo>
                      <a:pt x="460" y="815"/>
                    </a:lnTo>
                    <a:lnTo>
                      <a:pt x="468" y="815"/>
                    </a:lnTo>
                    <a:lnTo>
                      <a:pt x="480" y="812"/>
                    </a:lnTo>
                    <a:lnTo>
                      <a:pt x="493" y="809"/>
                    </a:lnTo>
                    <a:lnTo>
                      <a:pt x="508" y="806"/>
                    </a:lnTo>
                    <a:lnTo>
                      <a:pt x="522" y="802"/>
                    </a:lnTo>
                    <a:lnTo>
                      <a:pt x="534" y="799"/>
                    </a:lnTo>
                    <a:lnTo>
                      <a:pt x="542" y="797"/>
                    </a:lnTo>
                    <a:lnTo>
                      <a:pt x="545" y="796"/>
                    </a:lnTo>
                    <a:lnTo>
                      <a:pt x="546" y="761"/>
                    </a:lnTo>
                    <a:lnTo>
                      <a:pt x="542" y="718"/>
                    </a:lnTo>
                    <a:lnTo>
                      <a:pt x="537" y="683"/>
                    </a:lnTo>
                    <a:lnTo>
                      <a:pt x="534" y="669"/>
                    </a:lnTo>
                    <a:lnTo>
                      <a:pt x="522" y="671"/>
                    </a:lnTo>
                    <a:lnTo>
                      <a:pt x="508" y="672"/>
                    </a:lnTo>
                    <a:lnTo>
                      <a:pt x="495" y="674"/>
                    </a:lnTo>
                    <a:lnTo>
                      <a:pt x="480" y="677"/>
                    </a:lnTo>
                    <a:lnTo>
                      <a:pt x="463" y="680"/>
                    </a:lnTo>
                    <a:lnTo>
                      <a:pt x="450" y="683"/>
                    </a:lnTo>
                    <a:lnTo>
                      <a:pt x="436" y="685"/>
                    </a:lnTo>
                    <a:lnTo>
                      <a:pt x="424" y="686"/>
                    </a:lnTo>
                    <a:lnTo>
                      <a:pt x="424" y="686"/>
                    </a:lnTo>
                    <a:lnTo>
                      <a:pt x="424" y="686"/>
                    </a:lnTo>
                    <a:lnTo>
                      <a:pt x="424" y="686"/>
                    </a:lnTo>
                    <a:lnTo>
                      <a:pt x="424" y="686"/>
                    </a:lnTo>
                    <a:lnTo>
                      <a:pt x="420" y="642"/>
                    </a:lnTo>
                    <a:lnTo>
                      <a:pt x="414" y="600"/>
                    </a:lnTo>
                    <a:lnTo>
                      <a:pt x="406" y="558"/>
                    </a:lnTo>
                    <a:lnTo>
                      <a:pt x="399" y="515"/>
                    </a:lnTo>
                    <a:lnTo>
                      <a:pt x="390" y="472"/>
                    </a:lnTo>
                    <a:lnTo>
                      <a:pt x="379" y="430"/>
                    </a:lnTo>
                    <a:lnTo>
                      <a:pt x="370" y="387"/>
                    </a:lnTo>
                    <a:lnTo>
                      <a:pt x="360" y="343"/>
                    </a:lnTo>
                    <a:lnTo>
                      <a:pt x="351" y="299"/>
                    </a:lnTo>
                    <a:lnTo>
                      <a:pt x="345" y="256"/>
                    </a:lnTo>
                    <a:lnTo>
                      <a:pt x="339" y="214"/>
                    </a:lnTo>
                    <a:lnTo>
                      <a:pt x="329" y="170"/>
                    </a:lnTo>
                    <a:lnTo>
                      <a:pt x="335" y="170"/>
                    </a:lnTo>
                    <a:lnTo>
                      <a:pt x="346" y="168"/>
                    </a:lnTo>
                    <a:lnTo>
                      <a:pt x="360" y="167"/>
                    </a:lnTo>
                    <a:lnTo>
                      <a:pt x="376" y="164"/>
                    </a:lnTo>
                    <a:lnTo>
                      <a:pt x="391" y="161"/>
                    </a:lnTo>
                    <a:lnTo>
                      <a:pt x="405" y="159"/>
                    </a:lnTo>
                    <a:lnTo>
                      <a:pt x="415" y="156"/>
                    </a:lnTo>
                    <a:lnTo>
                      <a:pt x="418" y="156"/>
                    </a:lnTo>
                    <a:lnTo>
                      <a:pt x="426" y="131"/>
                    </a:lnTo>
                    <a:lnTo>
                      <a:pt x="433" y="78"/>
                    </a:lnTo>
                    <a:lnTo>
                      <a:pt x="436" y="27"/>
                    </a:lnTo>
                    <a:lnTo>
                      <a:pt x="438" y="3"/>
                    </a:lnTo>
                    <a:lnTo>
                      <a:pt x="430" y="0"/>
                    </a:lnTo>
                    <a:lnTo>
                      <a:pt x="412" y="0"/>
                    </a:lnTo>
                    <a:lnTo>
                      <a:pt x="387" y="3"/>
                    </a:lnTo>
                    <a:lnTo>
                      <a:pt x="357" y="9"/>
                    </a:lnTo>
                    <a:lnTo>
                      <a:pt x="323" y="15"/>
                    </a:lnTo>
                    <a:lnTo>
                      <a:pt x="293" y="21"/>
                    </a:lnTo>
                    <a:lnTo>
                      <a:pt x="265" y="26"/>
                    </a:lnTo>
                    <a:lnTo>
                      <a:pt x="24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2352800">
                <a:off x="5360400" y="3067560"/>
                <a:ext cx="99720" cy="117000"/>
              </a:xfrm>
              <a:custGeom>
                <a:avLst/>
                <a:gdLst/>
                <a:ahLst/>
                <a:rect l="l" t="t" r="r" b="b"/>
                <a:pathLst>
                  <a:path w="127" h="149">
                    <a:moveTo>
                      <a:pt x="88" y="149"/>
                    </a:moveTo>
                    <a:lnTo>
                      <a:pt x="64" y="140"/>
                    </a:lnTo>
                    <a:lnTo>
                      <a:pt x="46" y="129"/>
                    </a:lnTo>
                    <a:lnTo>
                      <a:pt x="33" y="114"/>
                    </a:lnTo>
                    <a:lnTo>
                      <a:pt x="22" y="98"/>
                    </a:lnTo>
                    <a:lnTo>
                      <a:pt x="15" y="80"/>
                    </a:lnTo>
                    <a:lnTo>
                      <a:pt x="9" y="60"/>
                    </a:lnTo>
                    <a:lnTo>
                      <a:pt x="4" y="39"/>
                    </a:lnTo>
                    <a:lnTo>
                      <a:pt x="0" y="18"/>
                    </a:lnTo>
                    <a:lnTo>
                      <a:pt x="16" y="16"/>
                    </a:lnTo>
                    <a:lnTo>
                      <a:pt x="33" y="13"/>
                    </a:lnTo>
                    <a:lnTo>
                      <a:pt x="49" y="12"/>
                    </a:lnTo>
                    <a:lnTo>
                      <a:pt x="64" y="10"/>
                    </a:lnTo>
                    <a:lnTo>
                      <a:pt x="81" y="7"/>
                    </a:lnTo>
                    <a:lnTo>
                      <a:pt x="96" y="6"/>
                    </a:lnTo>
                    <a:lnTo>
                      <a:pt x="111" y="3"/>
                    </a:lnTo>
                    <a:lnTo>
                      <a:pt x="127" y="0"/>
                    </a:lnTo>
                    <a:lnTo>
                      <a:pt x="126" y="16"/>
                    </a:lnTo>
                    <a:lnTo>
                      <a:pt x="124" y="34"/>
                    </a:lnTo>
                    <a:lnTo>
                      <a:pt x="124" y="53"/>
                    </a:lnTo>
                    <a:lnTo>
                      <a:pt x="124" y="72"/>
                    </a:lnTo>
                    <a:lnTo>
                      <a:pt x="120" y="92"/>
                    </a:lnTo>
                    <a:lnTo>
                      <a:pt x="114" y="111"/>
                    </a:lnTo>
                    <a:lnTo>
                      <a:pt x="103" y="131"/>
                    </a:lnTo>
                    <a:lnTo>
                      <a:pt x="88" y="149"/>
                    </a:lnTo>
                    <a:close/>
                  </a:path>
                </a:pathLst>
              </a:custGeom>
              <a:solidFill>
                <a:srgbClr val="93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2352800">
                <a:off x="5067360" y="3195360"/>
                <a:ext cx="365400" cy="972360"/>
              </a:xfrm>
              <a:custGeom>
                <a:avLst/>
                <a:gdLst/>
                <a:ahLst/>
                <a:rect l="l" t="t" r="r" b="b"/>
                <a:pathLst>
                  <a:path w="465" h="1236">
                    <a:moveTo>
                      <a:pt x="414" y="75"/>
                    </a:moveTo>
                    <a:lnTo>
                      <a:pt x="406" y="75"/>
                    </a:lnTo>
                    <a:lnTo>
                      <a:pt x="396" y="75"/>
                    </a:lnTo>
                    <a:lnTo>
                      <a:pt x="384" y="78"/>
                    </a:lnTo>
                    <a:lnTo>
                      <a:pt x="370" y="79"/>
                    </a:lnTo>
                    <a:lnTo>
                      <a:pt x="360" y="82"/>
                    </a:lnTo>
                    <a:lnTo>
                      <a:pt x="349" y="85"/>
                    </a:lnTo>
                    <a:lnTo>
                      <a:pt x="343" y="90"/>
                    </a:lnTo>
                    <a:lnTo>
                      <a:pt x="340" y="94"/>
                    </a:lnTo>
                    <a:lnTo>
                      <a:pt x="343" y="114"/>
                    </a:lnTo>
                    <a:lnTo>
                      <a:pt x="351" y="150"/>
                    </a:lnTo>
                    <a:lnTo>
                      <a:pt x="360" y="191"/>
                    </a:lnTo>
                    <a:lnTo>
                      <a:pt x="366" y="224"/>
                    </a:lnTo>
                    <a:lnTo>
                      <a:pt x="367" y="227"/>
                    </a:lnTo>
                    <a:lnTo>
                      <a:pt x="367" y="230"/>
                    </a:lnTo>
                    <a:lnTo>
                      <a:pt x="367" y="234"/>
                    </a:lnTo>
                    <a:lnTo>
                      <a:pt x="367" y="237"/>
                    </a:lnTo>
                    <a:lnTo>
                      <a:pt x="229" y="252"/>
                    </a:lnTo>
                    <a:lnTo>
                      <a:pt x="233" y="285"/>
                    </a:lnTo>
                    <a:lnTo>
                      <a:pt x="372" y="269"/>
                    </a:lnTo>
                    <a:lnTo>
                      <a:pt x="373" y="293"/>
                    </a:lnTo>
                    <a:lnTo>
                      <a:pt x="373" y="317"/>
                    </a:lnTo>
                    <a:lnTo>
                      <a:pt x="373" y="343"/>
                    </a:lnTo>
                    <a:lnTo>
                      <a:pt x="375" y="367"/>
                    </a:lnTo>
                    <a:lnTo>
                      <a:pt x="244" y="382"/>
                    </a:lnTo>
                    <a:lnTo>
                      <a:pt x="248" y="413"/>
                    </a:lnTo>
                    <a:lnTo>
                      <a:pt x="375" y="398"/>
                    </a:lnTo>
                    <a:lnTo>
                      <a:pt x="375" y="412"/>
                    </a:lnTo>
                    <a:lnTo>
                      <a:pt x="375" y="424"/>
                    </a:lnTo>
                    <a:lnTo>
                      <a:pt x="375" y="437"/>
                    </a:lnTo>
                    <a:lnTo>
                      <a:pt x="376" y="451"/>
                    </a:lnTo>
                    <a:lnTo>
                      <a:pt x="378" y="461"/>
                    </a:lnTo>
                    <a:lnTo>
                      <a:pt x="379" y="472"/>
                    </a:lnTo>
                    <a:lnTo>
                      <a:pt x="379" y="483"/>
                    </a:lnTo>
                    <a:lnTo>
                      <a:pt x="381" y="493"/>
                    </a:lnTo>
                    <a:lnTo>
                      <a:pt x="259" y="507"/>
                    </a:lnTo>
                    <a:lnTo>
                      <a:pt x="264" y="540"/>
                    </a:lnTo>
                    <a:lnTo>
                      <a:pt x="385" y="526"/>
                    </a:lnTo>
                    <a:lnTo>
                      <a:pt x="388" y="552"/>
                    </a:lnTo>
                    <a:lnTo>
                      <a:pt x="391" y="576"/>
                    </a:lnTo>
                    <a:lnTo>
                      <a:pt x="394" y="601"/>
                    </a:lnTo>
                    <a:lnTo>
                      <a:pt x="397" y="627"/>
                    </a:lnTo>
                    <a:lnTo>
                      <a:pt x="274" y="642"/>
                    </a:lnTo>
                    <a:lnTo>
                      <a:pt x="279" y="674"/>
                    </a:lnTo>
                    <a:lnTo>
                      <a:pt x="402" y="660"/>
                    </a:lnTo>
                    <a:lnTo>
                      <a:pt x="406" y="686"/>
                    </a:lnTo>
                    <a:lnTo>
                      <a:pt x="411" y="713"/>
                    </a:lnTo>
                    <a:lnTo>
                      <a:pt x="414" y="740"/>
                    </a:lnTo>
                    <a:lnTo>
                      <a:pt x="418" y="765"/>
                    </a:lnTo>
                    <a:lnTo>
                      <a:pt x="288" y="780"/>
                    </a:lnTo>
                    <a:lnTo>
                      <a:pt x="291" y="814"/>
                    </a:lnTo>
                    <a:lnTo>
                      <a:pt x="423" y="798"/>
                    </a:lnTo>
                    <a:lnTo>
                      <a:pt x="426" y="824"/>
                    </a:lnTo>
                    <a:lnTo>
                      <a:pt x="430" y="850"/>
                    </a:lnTo>
                    <a:lnTo>
                      <a:pt x="435" y="877"/>
                    </a:lnTo>
                    <a:lnTo>
                      <a:pt x="438" y="902"/>
                    </a:lnTo>
                    <a:lnTo>
                      <a:pt x="309" y="917"/>
                    </a:lnTo>
                    <a:lnTo>
                      <a:pt x="312" y="949"/>
                    </a:lnTo>
                    <a:lnTo>
                      <a:pt x="442" y="934"/>
                    </a:lnTo>
                    <a:lnTo>
                      <a:pt x="445" y="959"/>
                    </a:lnTo>
                    <a:lnTo>
                      <a:pt x="449" y="987"/>
                    </a:lnTo>
                    <a:lnTo>
                      <a:pt x="450" y="1012"/>
                    </a:lnTo>
                    <a:lnTo>
                      <a:pt x="453" y="1039"/>
                    </a:lnTo>
                    <a:lnTo>
                      <a:pt x="319" y="1054"/>
                    </a:lnTo>
                    <a:lnTo>
                      <a:pt x="322" y="1086"/>
                    </a:lnTo>
                    <a:lnTo>
                      <a:pt x="456" y="1071"/>
                    </a:lnTo>
                    <a:lnTo>
                      <a:pt x="456" y="1072"/>
                    </a:lnTo>
                    <a:lnTo>
                      <a:pt x="456" y="1072"/>
                    </a:lnTo>
                    <a:lnTo>
                      <a:pt x="456" y="1072"/>
                    </a:lnTo>
                    <a:lnTo>
                      <a:pt x="456" y="1074"/>
                    </a:lnTo>
                    <a:lnTo>
                      <a:pt x="459" y="1108"/>
                    </a:lnTo>
                    <a:lnTo>
                      <a:pt x="461" y="1143"/>
                    </a:lnTo>
                    <a:lnTo>
                      <a:pt x="462" y="1176"/>
                    </a:lnTo>
                    <a:lnTo>
                      <a:pt x="465" y="1211"/>
                    </a:lnTo>
                    <a:lnTo>
                      <a:pt x="438" y="1217"/>
                    </a:lnTo>
                    <a:lnTo>
                      <a:pt x="409" y="1223"/>
                    </a:lnTo>
                    <a:lnTo>
                      <a:pt x="381" y="1227"/>
                    </a:lnTo>
                    <a:lnTo>
                      <a:pt x="352" y="1230"/>
                    </a:lnTo>
                    <a:lnTo>
                      <a:pt x="325" y="1233"/>
                    </a:lnTo>
                    <a:lnTo>
                      <a:pt x="297" y="1236"/>
                    </a:lnTo>
                    <a:lnTo>
                      <a:pt x="271" y="1236"/>
                    </a:lnTo>
                    <a:lnTo>
                      <a:pt x="247" y="1236"/>
                    </a:lnTo>
                    <a:lnTo>
                      <a:pt x="241" y="1188"/>
                    </a:lnTo>
                    <a:lnTo>
                      <a:pt x="226" y="1060"/>
                    </a:lnTo>
                    <a:lnTo>
                      <a:pt x="206" y="880"/>
                    </a:lnTo>
                    <a:lnTo>
                      <a:pt x="182" y="672"/>
                    </a:lnTo>
                    <a:lnTo>
                      <a:pt x="158" y="464"/>
                    </a:lnTo>
                    <a:lnTo>
                      <a:pt x="136" y="284"/>
                    </a:lnTo>
                    <a:lnTo>
                      <a:pt x="121" y="156"/>
                    </a:lnTo>
                    <a:lnTo>
                      <a:pt x="112" y="108"/>
                    </a:lnTo>
                    <a:lnTo>
                      <a:pt x="109" y="108"/>
                    </a:lnTo>
                    <a:lnTo>
                      <a:pt x="101" y="108"/>
                    </a:lnTo>
                    <a:lnTo>
                      <a:pt x="89" y="109"/>
                    </a:lnTo>
                    <a:lnTo>
                      <a:pt x="76" y="109"/>
                    </a:lnTo>
                    <a:lnTo>
                      <a:pt x="59" y="111"/>
                    </a:lnTo>
                    <a:lnTo>
                      <a:pt x="44" y="112"/>
                    </a:lnTo>
                    <a:lnTo>
                      <a:pt x="30" y="115"/>
                    </a:lnTo>
                    <a:lnTo>
                      <a:pt x="20" y="117"/>
                    </a:lnTo>
                    <a:lnTo>
                      <a:pt x="20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20" y="112"/>
                    </a:lnTo>
                    <a:lnTo>
                      <a:pt x="17" y="102"/>
                    </a:lnTo>
                    <a:lnTo>
                      <a:pt x="11" y="91"/>
                    </a:lnTo>
                    <a:lnTo>
                      <a:pt x="5" y="81"/>
                    </a:lnTo>
                    <a:lnTo>
                      <a:pt x="0" y="70"/>
                    </a:lnTo>
                    <a:lnTo>
                      <a:pt x="27" y="66"/>
                    </a:lnTo>
                    <a:lnTo>
                      <a:pt x="53" y="63"/>
                    </a:lnTo>
                    <a:lnTo>
                      <a:pt x="80" y="60"/>
                    </a:lnTo>
                    <a:lnTo>
                      <a:pt x="107" y="57"/>
                    </a:lnTo>
                    <a:lnTo>
                      <a:pt x="134" y="54"/>
                    </a:lnTo>
                    <a:lnTo>
                      <a:pt x="161" y="51"/>
                    </a:lnTo>
                    <a:lnTo>
                      <a:pt x="187" y="48"/>
                    </a:lnTo>
                    <a:lnTo>
                      <a:pt x="214" y="43"/>
                    </a:lnTo>
                    <a:lnTo>
                      <a:pt x="241" y="40"/>
                    </a:lnTo>
                    <a:lnTo>
                      <a:pt x="268" y="37"/>
                    </a:lnTo>
                    <a:lnTo>
                      <a:pt x="294" y="33"/>
                    </a:lnTo>
                    <a:lnTo>
                      <a:pt x="321" y="27"/>
                    </a:lnTo>
                    <a:lnTo>
                      <a:pt x="346" y="22"/>
                    </a:lnTo>
                    <a:lnTo>
                      <a:pt x="373" y="15"/>
                    </a:lnTo>
                    <a:lnTo>
                      <a:pt x="399" y="7"/>
                    </a:lnTo>
                    <a:lnTo>
                      <a:pt x="424" y="0"/>
                    </a:lnTo>
                    <a:lnTo>
                      <a:pt x="421" y="18"/>
                    </a:lnTo>
                    <a:lnTo>
                      <a:pt x="418" y="37"/>
                    </a:lnTo>
                    <a:lnTo>
                      <a:pt x="417" y="55"/>
                    </a:lnTo>
                    <a:lnTo>
                      <a:pt x="414" y="75"/>
                    </a:lnTo>
                    <a:close/>
                  </a:path>
                </a:pathLst>
              </a:custGeom>
              <a:solidFill>
                <a:srgbClr val="f9c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2352800">
                <a:off x="4859280" y="4119120"/>
                <a:ext cx="267840" cy="520200"/>
              </a:xfrm>
              <a:custGeom>
                <a:avLst/>
                <a:gdLst/>
                <a:ahLst/>
                <a:rect l="l" t="t" r="r" b="b"/>
                <a:pathLst>
                  <a:path w="341" h="661">
                    <a:moveTo>
                      <a:pt x="240" y="89"/>
                    </a:moveTo>
                    <a:lnTo>
                      <a:pt x="242" y="107"/>
                    </a:lnTo>
                    <a:lnTo>
                      <a:pt x="249" y="152"/>
                    </a:lnTo>
                    <a:lnTo>
                      <a:pt x="263" y="218"/>
                    </a:lnTo>
                    <a:lnTo>
                      <a:pt x="279" y="300"/>
                    </a:lnTo>
                    <a:lnTo>
                      <a:pt x="296" y="388"/>
                    </a:lnTo>
                    <a:lnTo>
                      <a:pt x="313" y="480"/>
                    </a:lnTo>
                    <a:lnTo>
                      <a:pt x="326" y="566"/>
                    </a:lnTo>
                    <a:lnTo>
                      <a:pt x="335" y="641"/>
                    </a:lnTo>
                    <a:lnTo>
                      <a:pt x="317" y="644"/>
                    </a:lnTo>
                    <a:lnTo>
                      <a:pt x="301" y="646"/>
                    </a:lnTo>
                    <a:lnTo>
                      <a:pt x="282" y="649"/>
                    </a:lnTo>
                    <a:lnTo>
                      <a:pt x="266" y="650"/>
                    </a:lnTo>
                    <a:lnTo>
                      <a:pt x="248" y="653"/>
                    </a:lnTo>
                    <a:lnTo>
                      <a:pt x="230" y="655"/>
                    </a:lnTo>
                    <a:lnTo>
                      <a:pt x="213" y="658"/>
                    </a:lnTo>
                    <a:lnTo>
                      <a:pt x="195" y="661"/>
                    </a:lnTo>
                    <a:lnTo>
                      <a:pt x="191" y="635"/>
                    </a:lnTo>
                    <a:lnTo>
                      <a:pt x="180" y="570"/>
                    </a:lnTo>
                    <a:lnTo>
                      <a:pt x="164" y="480"/>
                    </a:lnTo>
                    <a:lnTo>
                      <a:pt x="146" y="378"/>
                    </a:lnTo>
                    <a:lnTo>
                      <a:pt x="128" y="275"/>
                    </a:lnTo>
                    <a:lnTo>
                      <a:pt x="111" y="185"/>
                    </a:lnTo>
                    <a:lnTo>
                      <a:pt x="99" y="124"/>
                    </a:lnTo>
                    <a:lnTo>
                      <a:pt x="93" y="99"/>
                    </a:lnTo>
                    <a:lnTo>
                      <a:pt x="82" y="96"/>
                    </a:lnTo>
                    <a:lnTo>
                      <a:pt x="70" y="95"/>
                    </a:lnTo>
                    <a:lnTo>
                      <a:pt x="58" y="95"/>
                    </a:lnTo>
                    <a:lnTo>
                      <a:pt x="48" y="96"/>
                    </a:lnTo>
                    <a:lnTo>
                      <a:pt x="36" y="98"/>
                    </a:lnTo>
                    <a:lnTo>
                      <a:pt x="24" y="101"/>
                    </a:lnTo>
                    <a:lnTo>
                      <a:pt x="12" y="102"/>
                    </a:lnTo>
                    <a:lnTo>
                      <a:pt x="1" y="104"/>
                    </a:lnTo>
                    <a:lnTo>
                      <a:pt x="3" y="86"/>
                    </a:lnTo>
                    <a:lnTo>
                      <a:pt x="3" y="68"/>
                    </a:lnTo>
                    <a:lnTo>
                      <a:pt x="1" y="51"/>
                    </a:lnTo>
                    <a:lnTo>
                      <a:pt x="0" y="33"/>
                    </a:lnTo>
                    <a:lnTo>
                      <a:pt x="21" y="35"/>
                    </a:lnTo>
                    <a:lnTo>
                      <a:pt x="42" y="36"/>
                    </a:lnTo>
                    <a:lnTo>
                      <a:pt x="64" y="36"/>
                    </a:lnTo>
                    <a:lnTo>
                      <a:pt x="85" y="36"/>
                    </a:lnTo>
                    <a:lnTo>
                      <a:pt x="107" y="35"/>
                    </a:lnTo>
                    <a:lnTo>
                      <a:pt x="128" y="35"/>
                    </a:lnTo>
                    <a:lnTo>
                      <a:pt x="150" y="32"/>
                    </a:lnTo>
                    <a:lnTo>
                      <a:pt x="171" y="30"/>
                    </a:lnTo>
                    <a:lnTo>
                      <a:pt x="192" y="27"/>
                    </a:lnTo>
                    <a:lnTo>
                      <a:pt x="213" y="24"/>
                    </a:lnTo>
                    <a:lnTo>
                      <a:pt x="234" y="20"/>
                    </a:lnTo>
                    <a:lnTo>
                      <a:pt x="255" y="17"/>
                    </a:lnTo>
                    <a:lnTo>
                      <a:pt x="276" y="12"/>
                    </a:lnTo>
                    <a:lnTo>
                      <a:pt x="298" y="9"/>
                    </a:lnTo>
                    <a:lnTo>
                      <a:pt x="319" y="5"/>
                    </a:lnTo>
                    <a:lnTo>
                      <a:pt x="340" y="0"/>
                    </a:lnTo>
                    <a:lnTo>
                      <a:pt x="340" y="17"/>
                    </a:lnTo>
                    <a:lnTo>
                      <a:pt x="341" y="33"/>
                    </a:lnTo>
                    <a:lnTo>
                      <a:pt x="341" y="51"/>
                    </a:lnTo>
                    <a:lnTo>
                      <a:pt x="341" y="66"/>
                    </a:lnTo>
                    <a:lnTo>
                      <a:pt x="332" y="68"/>
                    </a:lnTo>
                    <a:lnTo>
                      <a:pt x="320" y="69"/>
                    </a:lnTo>
                    <a:lnTo>
                      <a:pt x="305" y="72"/>
                    </a:lnTo>
                    <a:lnTo>
                      <a:pt x="290" y="75"/>
                    </a:lnTo>
                    <a:lnTo>
                      <a:pt x="275" y="78"/>
                    </a:lnTo>
                    <a:lnTo>
                      <a:pt x="260" y="81"/>
                    </a:lnTo>
                    <a:lnTo>
                      <a:pt x="249" y="84"/>
                    </a:lnTo>
                    <a:lnTo>
                      <a:pt x="240" y="89"/>
                    </a:lnTo>
                    <a:close/>
                  </a:path>
                </a:pathLst>
              </a:custGeom>
              <a:solidFill>
                <a:srgbClr val="cc3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3D55-3CE6-43C6-B9C0-A943C87C3EA8}" type="slidenum">
              <a:t>5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83237E-006 C -0.04462 0.01618 -0.18889 0.03537 -0.26684 0.1015 C -0.34479 0.16716 -0.42569 0.33387 -0.46753 0.39537 E">
                                      <p:cBhvr>
                                        <p:cTn id="18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7.51445E-007 C -0.01111 0.01341 -0.04653 0.02682 -0.06458 0.08 C -0.08264 0.13341 -0.09948 0.26983 -0.10833 0.32 E">
                                      <p:cBhvr>
                                        <p:cTn id="184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6 C 0.00573 -0.02986 0.01198 -0.05694 0.01979 -0.03657 C 0.02743 -0.01319 0.04062 0.11042 0.04548 0.14259 E">
                                      <p:cBhvr>
                                        <p:cTn id="21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scann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scan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ri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exampl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aling with validatio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Box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800280" y="1341360"/>
            <a:ext cx="3047760" cy="3952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DAF2-DCCB-4CAF-9FDB-2A80FED3B5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4514 0.0581 E">
                                      <p:cBhvr>
                                        <p:cTn id="228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cting SQL Injection (Black Box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149560" y="1600200"/>
            <a:ext cx="6769080" cy="4552920"/>
            <a:chOff x="2149560" y="1600200"/>
            <a:chExt cx="6769080" cy="4552920"/>
          </a:xfrm>
        </p:grpSpPr>
        <p:grpSp>
          <p:nvGrpSpPr>
            <p:cNvPr id="232" name=""/>
            <p:cNvGrpSpPr/>
            <p:nvPr/>
          </p:nvGrpSpPr>
          <p:grpSpPr>
            <a:xfrm>
              <a:off x="2149560" y="1600200"/>
              <a:ext cx="6769080" cy="4552920"/>
              <a:chOff x="2149560" y="1600200"/>
              <a:chExt cx="6769080" cy="4552920"/>
            </a:xfrm>
          </p:grpSpPr>
          <p:pic>
            <p:nvPicPr>
              <p:cNvPr id="2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9560" y="1619280"/>
                <a:ext cx="6769080" cy="45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2"/>
              <a:srcRect l="24979" t="-415" r="29764" b="94371"/>
              <a:stretch/>
            </p:blipFill>
            <p:spPr>
              <a:xfrm>
                <a:off x="2604960" y="1600200"/>
                <a:ext cx="306396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2255760" y="2359080"/>
              <a:ext cx="1181160" cy="3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82520" y="1646280"/>
            <a:ext cx="1905120" cy="2730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080" y="2471760"/>
            <a:ext cx="282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1018080" y="3989880"/>
            <a:ext cx="1257480" cy="1827360"/>
          </a:xfrm>
          <a:custGeom>
            <a:avLst/>
            <a:gdLst>
              <a:gd name="textAreaLeft" fmla="*/ 154440 w 1257480"/>
              <a:gd name="textAreaRight" fmla="*/ 1162440 w 1257480"/>
              <a:gd name="textAreaTop" fmla="*/ 1550520 h 1827360"/>
              <a:gd name="textAreaBottom" fmla="*/ 1689120 h 1827360"/>
            </a:gdLst>
            <a:ahLst/>
            <a:rect l="textAreaLeft" t="textAreaTop" r="textAreaRight" b="textAreaBottom"/>
            <a:pathLst>
              <a:path w="21600" h="21600">
                <a:moveTo>
                  <a:pt x="0" y="19963"/>
                </a:moveTo>
                <a:lnTo>
                  <a:pt x="18326" y="19963"/>
                </a:lnTo>
                <a:lnTo>
                  <a:pt x="18326" y="2656"/>
                </a:lnTo>
                <a:lnTo>
                  <a:pt x="16689" y="2656"/>
                </a:lnTo>
                <a:lnTo>
                  <a:pt x="19145" y="0"/>
                </a:lnTo>
                <a:lnTo>
                  <a:pt x="21600" y="2656"/>
                </a:lnTo>
                <a:lnTo>
                  <a:pt x="19963" y="2656"/>
                </a:lnTo>
                <a:lnTo>
                  <a:pt x="199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889fb"/>
          </a:solidFill>
          <a:ln w="1260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" y="2995560"/>
            <a:ext cx="1095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52640" y="4959360"/>
            <a:ext cx="6066000" cy="892080"/>
          </a:xfrm>
          <a:prstGeom prst="flowChartAlternateProcess">
            <a:avLst/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  <a:ea typeface="Courier New"/>
              </a:rPr>
              <a:t>SELECT * from tUsers where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  <a:ea typeface="Courier New"/>
              </a:rPr>
              <a:t>userid=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‘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’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  <a:ea typeface="Courier New"/>
              </a:rPr>
              <a:t> AND password=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‘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foobar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4102-9D88-4089-BBA3-9A03DC30BCA3}" type="slidenum">
              <a:t>7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w BB Scanners Wor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5181120" y="3970080"/>
            <a:ext cx="114372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>
            <a:off x="4114800" y="3207960"/>
            <a:ext cx="99144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/>
          <p:nvPr/>
        </p:nvCxnSpPr>
        <p:spPr>
          <a:xfrm rot="5400000">
            <a:off x="4145040" y="4235400"/>
            <a:ext cx="1157760" cy="762840"/>
          </a:xfrm>
          <a:prstGeom prst="curvedConnector5">
            <a:avLst>
              <a:gd name="adj1" fmla="val 49922"/>
              <a:gd name="adj2" fmla="val 50000"/>
              <a:gd name="adj3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rot="5400000">
            <a:off x="2963880" y="3283560"/>
            <a:ext cx="1081800" cy="106740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1: Crawling as an hones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905360" y="4429080"/>
            <a:ext cx="28195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editProfile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981160"/>
            <a:ext cx="164772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3743280"/>
            <a:ext cx="22860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login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38360" y="4162320"/>
            <a:ext cx="26668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feedback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5105520"/>
            <a:ext cx="24386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logout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838600" y="2911320"/>
            <a:ext cx="5140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581280" y="3673440"/>
            <a:ext cx="514440" cy="441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238400" y="4054320"/>
            <a:ext cx="514080" cy="441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514760" y="4343400"/>
            <a:ext cx="514440" cy="441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2743200" y="5029200"/>
            <a:ext cx="514440" cy="4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1681-DC97-4584-A990-D0346C5ED7D4}" type="slidenum">
              <a:t>8</a:t>
            </a:fld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8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6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4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62520" y="3138480"/>
            <a:ext cx="152280" cy="138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4357800"/>
            <a:ext cx="152640" cy="137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3900600"/>
            <a:ext cx="152280" cy="137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5195880"/>
            <a:ext cx="152640" cy="138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586400"/>
            <a:ext cx="152280" cy="137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w BB Scanners Wor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5181120" y="3970080"/>
            <a:ext cx="114372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/>
          <p:nvPr/>
        </p:nvCxnSpPr>
        <p:spPr>
          <a:xfrm>
            <a:off x="4114800" y="3207960"/>
            <a:ext cx="99144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 rot="5400000">
            <a:off x="4145040" y="4235400"/>
            <a:ext cx="1157760" cy="762840"/>
          </a:xfrm>
          <a:prstGeom prst="curvedConnector5">
            <a:avLst>
              <a:gd name="adj1" fmla="val 49922"/>
              <a:gd name="adj2" fmla="val 50000"/>
              <a:gd name="adj3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"/>
          <p:cNvCxnSpPr/>
          <p:nvPr/>
        </p:nvCxnSpPr>
        <p:spPr>
          <a:xfrm rot="5400000">
            <a:off x="2963880" y="3283560"/>
            <a:ext cx="1081800" cy="106740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1: Crawling as an hones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905360" y="4429080"/>
            <a:ext cx="28195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editProfile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981160"/>
            <a:ext cx="164772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743280"/>
            <a:ext cx="22860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login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38360" y="4162320"/>
            <a:ext cx="26668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feedback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105520"/>
            <a:ext cx="24386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d5d5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mySite/logout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BF12-55E6-416F-860E-D042DEAF6979}" type="slidenum">
              <a:t>9</a:t>
            </a:fld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5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5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5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5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5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Adi Sharabani &amp; Yinnon Haviv</dc:creator>
  <dc:description/>
  <cp:keywords>Application Security AppScan Watchfire IBM</cp:keywords>
  <dc:language>en-US</dc:language>
  <cp:lastModifiedBy>Adi Sharabani</cp:lastModifiedBy>
  <dcterms:modified xsi:type="dcterms:W3CDTF">2008-09-14T09:22:26Z</dcterms:modified>
  <cp:revision>171</cp:revision>
  <dc:subject>Black Box vs. Whitebox</dc:subject>
  <dc:title>Web Application Scanners</dc:title>
</cp:coreProperties>
</file>