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96B8-7235-43F0-ABAB-7BA67654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B887-D91B-41A7-890E-931B6B17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6946-DD75-4BAF-94D9-BC965D1BA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48D4-3CD6-40A6-8259-37963D699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9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6365-5900-44AB-956C-91F3F512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4C8A-1919-482F-B9A3-F271832F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4DEA-86A7-4806-B597-9637AEC1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1EBA-EDB8-4C44-BC27-D99929B4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9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6895-B7A4-41A6-B727-4ED2F1D4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DBCE-01D9-4687-966C-02775144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9397-9039-4E39-9D57-93084259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6AF0-9394-477E-BE63-3592A7CA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GB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GB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GB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GB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GB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FB11-6F7C-447F-AA00-F6957D6AE642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GB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eorge.chlapoutakis@secbible.org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s://grsecurity.net/)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alibri Light"/>
              </a:rPr>
              <a:t>Security </a:t>
            </a: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Calibri Light"/>
              </a:rPr>
              <a:t>in a </a:t>
            </a: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Calibri Light"/>
              </a:rPr>
              <a:t>World of Containerisation</a:t>
            </a:r>
            <a:endParaRPr b="0" lang="en-GB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9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eorge Chlapoutakis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9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0" lang="en-GB" sz="2400" spc="-1" strike="noStrike">
                <a:solidFill>
                  <a:srgbClr val="0563c1"/>
                </a:solidFill>
                <a:latin typeface="Calibri"/>
                <a:hlinkClick r:id="rId1"/>
              </a:rPr>
              <a:t>george.chlapoutakis@secbible.or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) 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So, what’s Docker, then?</a:t>
            </a: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1000" y="1825200"/>
            <a:ext cx="1211112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ffectively? An easier and more streamlined LXC creation process.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moditised LXC!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ecause containerisation is the new cool way to 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uild, ship, deploy and run your apps!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ocker takes LXC as a base and runs the container OS + an init system.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sulting container: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only run a single app at a time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moves storage persistence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uilds the file system with layers of aufs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Why are they all the rage nowadays?</a:t>
            </a: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need to run OS on top of OS anymore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duced resources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icro-services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velopment, testing, production benefits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ble to test complex setups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ble to run multiple complex tests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ble to package, deploy and run a complete application quikly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void dependency conflict issues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Let’s go back to the rock and see it at 440!!</a:t>
            </a: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fferences between VMs and Containers</a:t>
            </a:r>
            <a:endParaRPr b="0" lang="en-GB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But from a security perspective</a:t>
            </a:r>
            <a:endParaRPr b="0" lang="en-GB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ts “Complicated”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endParaRPr b="0" lang="en-GB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ontainers were built for consolidation and ease of deployment</a:t>
            </a:r>
            <a:endParaRPr b="0" lang="en-GB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t security!</a:t>
            </a:r>
            <a:endParaRPr b="0" lang="en-GB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dinary containers:</a:t>
            </a:r>
            <a:endParaRPr b="0" lang="en-GB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crack in the ice!</a:t>
            </a:r>
            <a:endParaRPr b="0" lang="en-GB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hared libs? Shared pain!</a:t>
            </a:r>
            <a:endParaRPr b="0" lang="en-GB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hared kernel? Shared p0wnage!!!! 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Syscalls being buggy (vmsplice)</a:t>
            </a:r>
            <a:endParaRPr b="0" lang="en-GB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nd how the hell do you update without breaking stuff???</a:t>
            </a:r>
            <a:endParaRPr b="0" lang="en-GB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Tell me about your kernel!</a:t>
            </a: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tainers will, by design, share the same kernel.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Vulnerabilities in the kernel interface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yscalls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g. Vmsplice</a:t>
            </a:r>
            <a:endParaRPr b="0" lang="en-GB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be exploited by the container to harm the host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long with all other containers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ll it takes is one container going down to take the rest with it</a:t>
            </a:r>
            <a:endParaRPr b="0" lang="en-GB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Vmsplice vuln aside….</a:t>
            </a: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﻿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CVE-2014-4943 (l2tp_ppp)</a:t>
            </a:r>
            <a:endParaRPr b="0" lang="en-GB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CVE-2014-4699 (ptrace, public exploit!)</a:t>
            </a:r>
            <a:endParaRPr b="0" lang="en-GB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CVE-2014-3153 (futex, public exploit!)</a:t>
            </a:r>
            <a:endParaRPr b="0" lang="en-GB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CVE-2014-2523 (dccp)</a:t>
            </a:r>
            <a:endParaRPr b="0" lang="en-GB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CVE-2014-1737 (floppy)</a:t>
            </a:r>
            <a:endParaRPr b="0" lang="en-GB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CVE-2014-0196 (tty)</a:t>
            </a:r>
            <a:endParaRPr b="0" lang="en-GB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CVE-2014-0038 (x86_32 recvmmsg, public exploit!)</a:t>
            </a:r>
            <a:endParaRPr b="0" lang="en-GB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And many more…</a:t>
            </a:r>
            <a:endParaRPr b="0" lang="en-GB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﻿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Many of these could be triggered from inside a LXC container and require no elevated privileges.</a:t>
            </a:r>
            <a:endParaRPr b="0" lang="en-GB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Tell me about your defaults!!</a:t>
            </a: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fault container settings…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ull permissions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ull priviledges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Greater attack surface</a:t>
            </a:r>
            <a:endParaRPr b="0" lang="en-GB" sz="3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FULL p0wnage potential</a:t>
            </a:r>
            <a:endParaRPr b="0" lang="en-GB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Privileges and Security: More == Less</a:t>
            </a: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tainers require extra priviledges to: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ccess network interfaces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ulticast, broadcast, sniff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ccessing raw resources 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remember, we’re not emulating them)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ounting resources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More priviledges == Less Security </a:t>
            </a: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(Greater Attack Surface)</a:t>
            </a: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Even worse…. Running Docker as root?!</a:t>
            </a: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containers (and applications) with Docker implies running the Docker daemon. This daemon currently requires root privileges, and you should therefore be aware of some important details.” (Docker manual)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Yes, good idea…NOT!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st servers START as root, THEN DROP PRIVS!!!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ut not docker!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# in docker + lax defaults = # in host!!!!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838080" y="138240"/>
            <a:ext cx="10515600" cy="61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7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oot@precise64:~# docker run gabrtv/shocker</a:t>
            </a:r>
            <a:endParaRPr b="0" lang="en-GB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[***] docker VMM-container breakout Po(C) 2014             [***]</a:t>
            </a:r>
            <a:endParaRPr b="0" lang="en-GB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[***] The tea from the 90's kicks your sekurity again.     [***]</a:t>
            </a:r>
            <a:endParaRPr b="0" lang="en-GB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[***] If you have pending sec consulting, I'll happily     [***]</a:t>
            </a:r>
            <a:endParaRPr b="0" lang="en-GB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[***] forward to my friends who drink secury-tea too!      [***]</a:t>
            </a:r>
            <a:endParaRPr b="0" lang="en-GB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[*] Resolving 'etc/shadow’</a:t>
            </a:r>
            <a:endParaRPr b="0" lang="en-GB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[*] Found vmlinuz</a:t>
            </a:r>
            <a:endParaRPr b="0" lang="en-GB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GB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[*] Found shadow</a:t>
            </a:r>
            <a:endParaRPr b="0" lang="en-GB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[+] Match: shadow ino=3935729</a:t>
            </a:r>
            <a:endParaRPr b="0" lang="en-GB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[*] Brute forcing remaining 32bit. This can take a while...</a:t>
            </a:r>
            <a:endParaRPr b="0" lang="en-GB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[*] (shadow) Trying: 0x00000000</a:t>
            </a:r>
            <a:endParaRPr b="0" lang="en-GB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[*] #=8, 1, char nh[] = {0xf1, 0x0d, 0x3c, 0x00, 0x00, 0x00, 0x00, 0x00};</a:t>
            </a:r>
            <a:endParaRPr b="0" lang="en-GB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[!] Got a final handle!</a:t>
            </a:r>
            <a:endParaRPr b="0" lang="en-GB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[*] #=8, 1, char nh[] = {0xf1, 0x0d, 0x3c, 0x00, 0x00, 0x00, 0x00, 0x00};</a:t>
            </a:r>
            <a:endParaRPr b="0" lang="en-GB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[!] Win! /etc/shadow output follows:</a:t>
            </a:r>
            <a:endParaRPr b="0" lang="en-GB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oot:!:15597:0:99999:7:::</a:t>
            </a:r>
            <a:endParaRPr b="0" lang="en-GB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3830760" y="6470640"/>
            <a:ext cx="34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ttps://github.com/gabrtv/shocker</a:t>
            </a:r>
            <a:endParaRPr b="0" lang="en-GB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What did shocker do?</a:t>
            </a: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hocker relies on a kernel capability that allows a process to open any file in the host based on its inode.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file system struct of the container is shared with the host 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ich allows a program on the container to run that can open file handles which consist of a 64-bit string and a 32-bit inode number 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arting at an inode value of 2, which is / (root filesystem), the file system path is then walked 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nd we then brute force the 32-bit inode number to find the desired file.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en Docker is run as root, a container can rwx whatever root can! Which is everything!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Who am I? Why am I here?</a:t>
            </a: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orge Chlapoutakis (DarkSYN, @SecurityBible)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ve Services Specialist @ Sage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tSec &amp; DF Researcher &amp; Developer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en a member of the netsec community for a very very long time.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0wning stuff since 1997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rently in the process of becoming more of a cloudy DevOps person.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 a brave new world!!!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Security in Docker = Complicated!</a:t>
            </a: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? Because containerisation is not piecemeal virtualisation!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VMs: isolated virtual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chine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tainers: packaged &amp; somewhat isolated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inimal instance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names + Namespaces + Kernel + libs + aufs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tainers were built with packaging + deployment + run convenience in mind!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venience dictates the terms, not security.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tainers are comprised of, and have, too many moving parts!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ego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refore any approach we take to secure them has to take this into account.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ayered security, as usual, then!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Security in Docker = Complicated! (2)</a:t>
            </a: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flexibility of containers makes it easy to run multiple instances of applications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docker images at varying patch levels.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solation provided by Docker is not as robust as the segregation established by hypervisors for virtual machines.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cess running in the container with UID 1000, will have the privileges of UID 1000 on the underlying host as well.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process running as root (UID 0) in a container has root-level privileges on the underlying host when interacting with the kernel.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use and management of application containers is not well-understood by the broader ops, infosec, dev and auditors community yet 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Security in Docker = Complicated! (3)</a:t>
            </a: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or example, let’s take patching: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VMs: yum update &lt;package&gt;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tainers: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pdate base image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build application image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op existing containers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art new containers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nd between update &amp; rebuild: 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 algn="ctr">
              <a:lnSpc>
                <a:spcPct val="9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esting… etc.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Security Models for Containerisation (1)</a:t>
            </a: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 physical host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9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 VM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9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 Container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9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 Application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85880" y="13046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tainers are not necessarily a "security" boundry, there are many "leaks" across it, and you should use it only as a way to logically partition off users/processes in a way that makes it easier to manage and maintain complex systems.” 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Greg Kroah-Hartman, Linux Kernel Developer)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Security Models for Containerisation (2)</a:t>
            </a: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rvices inside a container: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ich of them require root?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ich of them require root constantly?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ich of them can drop privs?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</a:tabLst>
            </a:pP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</a:tabLst>
            </a:pP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UID Binaries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many do you have?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 you NEED all of them?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f not, get rid of unneeded!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5246640" y="3363840"/>
            <a:ext cx="6743880" cy="316224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6783480" y="6597720"/>
            <a:ext cx="349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http://linux-audit.com/finding-setuid-binaries-on-linux-and-bsd/</a:t>
            </a:r>
            <a:endParaRPr b="0" lang="en-GB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Security Models for Containerisation (3)</a:t>
            </a: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ccomp</a:t>
            </a:r>
            <a:endParaRPr b="0" lang="en-GB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Limit syscalls available to the containers</a:t>
            </a:r>
            <a:endParaRPr b="0" lang="en-GB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Limit their arguments</a:t>
            </a:r>
            <a:endParaRPr b="0" lang="en-GB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ow many syscalls can you afford to drop without losing needed functionality?</a:t>
            </a:r>
            <a:endParaRPr b="0" lang="en-GB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ow many syscalls should you drop?</a:t>
            </a:r>
            <a:endParaRPr b="0" lang="en-GB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hi-IN" sz="2600" spc="-1" strike="noStrike">
                <a:solidFill>
                  <a:srgbClr val="000000"/>
                </a:solidFill>
                <a:latin typeface="Calibri"/>
              </a:rPr>
              <a:t>﻿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it make a difference though? </a:t>
            </a:r>
            <a:endParaRPr b="0" lang="en-GB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ven the most benign syscalls can contain a bug which leads to arbitrary code execution.</a:t>
            </a:r>
            <a:endParaRPr b="0" lang="en-GB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mum security lies somewhere in the middle</a:t>
            </a:r>
            <a:endParaRPr b="0" lang="en-GB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 just have to think about it before implementing it</a:t>
            </a:r>
            <a:endParaRPr b="0" lang="en-GB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Security Models for Containerisation (4)</a:t>
            </a: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RSec &amp; PaX (</a:t>
            </a:r>
            <a:r>
              <a:rPr b="0" lang="en-GB" sz="2800" spc="-1" strike="noStrike">
                <a:solidFill>
                  <a:srgbClr val="0563c1"/>
                </a:solidFill>
                <a:latin typeface="Calibri"/>
                <a:hlinkClick r:id="rId1"/>
              </a:rPr>
              <a:t>https://grsecurity.net/)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ssentially, Linux Kernel Hardening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n-executable stack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SLR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ad-only kernel function pointers, etc.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f configured correctly it should not only secure your containers, themselves, but also your apps.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658880" y="336600"/>
            <a:ext cx="8971200" cy="4241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3355920" y="5037120"/>
            <a:ext cx="5575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Security Models for Containerisation (5)</a:t>
            </a: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Linux &amp; AppArmor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llow you to define permissions for how all processes interact with other parts of the system such as files, devices, sockets, ports, and other processes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other words, Mandatory Access Control.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able them!!!!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figure them!!!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Use them right!!</a:t>
            </a: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Before the dawn of time…..</a:t>
            </a: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666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ach application was housed in servers like these!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ach box housed “a” database, “a” service (eg web, mail, etc).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en you wanted to start a new database, you bought one of these (or cleaned one up)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7881840" y="1484280"/>
            <a:ext cx="399420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Security Models for Containerisation (6)</a:t>
            </a: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ayers of Security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Kernel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bs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S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rspace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tainer infrastructure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tainers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tainerised Applications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DS/IPS/WAF/DPI-Firewall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ayer it right, then secure each layer!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7270920" y="1655640"/>
            <a:ext cx="46098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Recent Docker-specific Improvements</a:t>
            </a: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s of May, docker has increased its default security: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arting with Docker version 1.3.0 all images are verified after downloading 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ill work in progress: warning only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ST API accessible locally only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Linux &amp; AppArmor can now be easily enabled and configured.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ogfiles can now be accessed outside the container, and exported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 lot of CAP_SYS_* modules from being accessible by default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 lot of syscalls have been dropped from being accessible by default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And to finish off</a:t>
            </a: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tainers (modern ones) are a blessing and a curse.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lessing: they allow us to build, ship, deploy and run our apps quickly and in pretty much an automated way.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tinuous Development &amp; Integration is the way the world works now…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urse: they allow us to shoot ourselves in the foot from a netsec perspective.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y contain, but they don’t constrain/secure. Why do we expect them to, though?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ke everything else in NetSec, if you want to secure it, layer your security around it!!!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 algn="ctr">
              <a:lnSpc>
                <a:spcPct val="9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???? Questions ????</a:t>
            </a: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It was the age of (Bare)Metal (servers)!</a:t>
            </a: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1"/>
          <a:stretch/>
        </p:blipFill>
        <p:spPr>
          <a:xfrm>
            <a:off x="1469880" y="1782720"/>
            <a:ext cx="895356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Then came the Age of Virtualisation</a:t>
            </a: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process of creating logical computing resources from available physical resources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ayer of abstraction between workloads and the underlying physical hardware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ny virtual servers living and breathing on one physical server!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998"/>
              </a:spcBef>
              <a:buNone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nd we could virtualise at Server, Storage, Network, Desktop, Application level!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752400" y="144360"/>
            <a:ext cx="10698120" cy="65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Now comes the…. Age of Containerisation</a:t>
            </a: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1573200" y="1677960"/>
            <a:ext cx="842004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041480" y="20520"/>
            <a:ext cx="9839160" cy="631980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4062240" y="6481800"/>
            <a:ext cx="362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http://www.theplatform.net/2015/03/23/hpc-schedulers-snap-to-docker/</a:t>
            </a:r>
            <a:endParaRPr b="0" lang="en-GB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LXC Containers</a:t>
            </a: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ffectively advanced chroot jails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set of processes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solated from the rest of the machine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ing namespaces to have some limited view of the system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d cgroups to have some limited control of resources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9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  <a:tab algn="l" pos="98298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ke VMs, but MUCH slinkier!!</a:t>
            </a: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ut-down versions of the OS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sposable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VERY lightweight!!!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7T23:33:16Z</dcterms:created>
  <dc:creator>Chlapoutakis, George</dc:creator>
  <dc:description/>
  <dc:language>en-US</dc:language>
  <cp:lastModifiedBy>Chlapoutakis, George</cp:lastModifiedBy>
  <dcterms:modified xsi:type="dcterms:W3CDTF">2015-08-05T09:38:13Z</dcterms:modified>
  <cp:revision>35</cp:revision>
  <dc:subject/>
  <dc:title>Security in a World of Containerisation</dc:title>
</cp:coreProperties>
</file>