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F11-D79A-4679-835A-9BCDEDD5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366-69F7-49F0-8B33-FB229BC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3BE-F79D-4D70-8EB2-0324CB6F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A7F-624C-46C2-9D2E-D426E6A6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02DB-4C16-4F77-AEEC-CE4F0DFC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997-16A5-4EAE-9334-201A2C51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399-A577-44AB-A11C-C9BCE388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37C-0F5F-4BEF-BBF9-71B81BA9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2DC-4A91-46A4-ACCF-F1C82B08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811-187B-45B1-AB0B-85C2813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135-5052-4BBD-A58E-7AA623E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B31-1915-4093-A899-5EB69DC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3090-E6BD-4DA7-82D3-5E122A09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4DD-528C-4E61-9029-0447ED6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8E5C-B25F-4571-A86B-D94792B1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4684-F47D-4FDD-99C5-400CE86C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AADB-C313-4E89-84D6-FA9DF192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AD4-2EEF-4353-8275-4B02CD37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A8D-DC4E-429B-9D24-9F01862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81F-D1C6-4DFC-8B17-17C50B5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648-C5C2-419A-AC07-18F000F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C97-6C94-4B2E-AB4A-F28826A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305-AFA7-4D52-ABBF-84CEF40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E42-9F06-47F0-97A4-00A67CB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C03-69CF-4EB4-8368-7B5C2F5129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356600" y="6553080"/>
            <a:ext cx="1347840" cy="115920"/>
            <a:chOff x="7356600" y="6553080"/>
            <a:chExt cx="1347840" cy="115920"/>
          </a:xfrm>
        </p:grpSpPr>
        <p:sp>
          <p:nvSpPr>
            <p:cNvPr id="8" name=""/>
            <p:cNvSpPr/>
            <p:nvPr/>
          </p:nvSpPr>
          <p:spPr>
            <a:xfrm flipV="1">
              <a:off x="7356600" y="6553080"/>
              <a:ext cx="115920" cy="115920"/>
            </a:xfrm>
            <a:prstGeom prst="rtTriangl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7766280" y="6553080"/>
              <a:ext cx="115920" cy="115920"/>
            </a:xfrm>
            <a:prstGeom prst="rtTriangl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8177400" y="6553080"/>
              <a:ext cx="115920" cy="115920"/>
            </a:xfrm>
            <a:prstGeom prst="rtTriangl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8588520" y="6553080"/>
              <a:ext cx="115920" cy="115920"/>
            </a:xfrm>
            <a:prstGeom prst="rtTriangl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76440" y="1341360"/>
            <a:ext cx="7128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573A-AD9F-4AE2-B9CF-49F4952E39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cri.be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Verdana"/>
              </a:rPr>
              <a:t>Legal Aspects of Web Application Secur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280" y="5013000"/>
            <a:ext cx="4348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Jos Dumor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Professor of Law – K.U.Leuv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Lawyer – Bar of Bruss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jos.dumortier@law.kuleuven.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96360" y="4869000"/>
            <a:ext cx="865080" cy="1145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308720" y="6165720"/>
            <a:ext cx="1428840" cy="4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24000" y="3106800"/>
            <a:ext cx="56167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Information security audi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2723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Verdana"/>
              </a:rPr>
              <a:t>Internal (employment law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Processor”  (works following the instructions of the “controller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20D-0AAF-428A-BDB3-6C92E3BE41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Liability of the audit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General l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Specific liab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Personal data protection law: art. 15bis D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E21-CBBF-4CDA-81D4-4B993A87EB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3. Actions to avo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72723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Circumvention of technical measures (DRM): art. 79bis Author’s Righs Law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Reproduction, decompilation, … of copyright protected material (ex. Software) without permission of the copyright owner.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Computer hacking (art. 550bis Criminal Code) without malicious intention or intention to damage: “lawful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17E-774B-4230-A997-0E93846CF145}" type="slidenum">
              <a:t>12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4. Recommenda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699920"/>
            <a:ext cx="727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precise and explicit in the objecti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 processing of personal data as far as possible (pseudonyms, codes, de-anonymous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security policy and contractual liability clau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ual measures between controller and  process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ual measures between (primary) processor and secondary proces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6A7-F933-4A7C-8A54-7B54948DE2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Questions and discu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106992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51640" y="3213000"/>
            <a:ext cx="1031760" cy="18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F2F-D427-453C-B2FB-7A0EB637B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80000" y="2781000"/>
            <a:ext cx="496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s Dumor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.U.Leuven – I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cri.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os.dumortier@law.kuleuven.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2492280"/>
            <a:ext cx="14144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A15-E56C-45A3-9396-13922AF5638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s application security (also) a legal oblig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uch application security can you contractually demand for when you outsource your application developmen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 is legally responsible when you personal data is exposed through hacking activity in Belgium?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w far can you go when testing application security?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…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(YOUR QUES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931-D13C-4DA5-8F9E-84D29118A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1. Legal obligation?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727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Duty to be secure?</a:t>
            </a:r>
            <a:br>
              <a:rPr sz="3000"/>
            </a:b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Duty to test securit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75E-AF78-4121-AC27-17BEBF63CC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1.a) Duty to secure 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1640" y="1881000"/>
            <a:ext cx="727236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Different kinds of oblig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Contractual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Legal oblig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Object of these oblig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vailabi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B4F-298A-4280-8B19-EF1276F56C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Contractual du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Positive duties (result, best effo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example: duty to reach a specified security level (SL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25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Negative duties (obligation not to d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example: prohibition to share confidenti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5832360" cy="131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6DD-AADD-4A85-AD1A-238151E2D7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Legal oblig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272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25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General duty of c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ts val="25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hich are the risks that are reasonably foresee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ts val="25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hat can be expected from a careful person in a similar situ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25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Specific legal du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ts val="25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Protection of personal data (art 16 DP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ecific sectoral provisions (banks, healthcare, electronic communication: art. 114 EC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Corporate en IT governanc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Codes and Recommendations (CBFA, 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CE8-1FCF-46F4-B2B0-DD3236ADDD22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1.b) Duty to control securit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Direct oblig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Examples: qualified certification providers, trusted third parties, public procurement, authorisations) </a:t>
            </a:r>
            <a:br>
              <a:rPr sz="2600"/>
            </a:b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Verdana"/>
              </a:rPr>
              <a:t>Indirect oblig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Examples: “adequate security measures” ISO 17799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294-CBA3-4EC1-8673-43BFF80DF9F4}" type="slidenum">
              <a:t>7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4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000" y="1844280"/>
            <a:ext cx="727236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61440" indent="-3614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dequate security without control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has “as its unique objective to control the functioning of the network and to guarantee the provision of the service” (art. 125, §1, 2° ECOM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 one of the exceptions on the prohibition to read another's private commun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F8D-BE3F-4D27-8B1B-B6FEA44B53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2. Legal status of  the security audi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2723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Status of the audi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external aud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nternal auditor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Status of the security audi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Law on private en special security (“enterprises for security advice)”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Status of the “information security auditor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C21-1EB2-42A7-B54A-9D55225689A4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1:36:29Z</dcterms:created>
  <dc:creator>Geert Somers</dc:creator>
  <dc:description/>
  <dc:language>en-US</dc:language>
  <cp:lastModifiedBy>Sebastien Deleersnyder</cp:lastModifiedBy>
  <cp:lastPrinted>2001-07-12T08:22:56Z</cp:lastPrinted>
  <dcterms:modified xsi:type="dcterms:W3CDTF">2007-05-11T05:20:19Z</dcterms:modified>
  <cp:revision>344</cp:revision>
  <dc:subject/>
  <dc:title>No Slide Title</dc:title>
</cp:coreProperties>
</file>