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7777"/>
                </a:solidFill>
                <a:latin typeface="Tahoma"/>
              </a:rPr>
              <a:t>Click to move the slide</a:t>
            </a:r>
            <a:endParaRPr b="1" lang="en-US" sz="2800" spc="-1" strike="noStrike">
              <a:solidFill>
                <a:srgbClr val="777777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858AC-77EE-4FF5-90F2-54631DC6A43C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70358-4A2B-4C75-B721-8C65BE0FBB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81EDD-530D-4219-88D5-F7D93DA92C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622A4-E8B4-4564-A167-4D29E2E9F4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9A7EF-DDB5-49F6-BF3A-FA564D6006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E3A07-D547-423E-866A-16D225ABD2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8D17C-AE60-43BB-BB92-4B1AFDC1C7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41E26-1099-4BB9-9DFC-3A89FE31C3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4669D-F336-434D-8CAF-D8FFF7C45A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BD282-6869-4393-848F-A54C4632A5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EDBCA-5432-4696-8F38-0075F195A0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B960E-39A2-4887-8963-F7C3053E4A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A23E8-B3A9-4658-BF34-0DCE077366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711840"/>
            <a:ext cx="9144000" cy="15264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077320" y="6248520"/>
            <a:ext cx="380880" cy="349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8584920" y="6308280"/>
            <a:ext cx="406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000" spc="-1" strike="noStrike">
                <a:solidFill>
                  <a:srgbClr val="969696"/>
                </a:solidFill>
                <a:latin typeface="Tahom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19C01-C15F-4B27-8398-19C41CC18CE0}" type="slidenum">
              <a:rPr b="1" lang="he-IL" sz="1000" spc="-1" strike="noStrike">
                <a:solidFill>
                  <a:srgbClr val="969696"/>
                </a:solidFill>
                <a:latin typeface="Tahom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89440" y="6270480"/>
            <a:ext cx="238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69696"/>
                </a:solidFill>
                <a:latin typeface="Tahoma"/>
              </a:rPr>
              <a:t>OWA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457200" y="6211800"/>
            <a:ext cx="1752480" cy="46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47920" y="762120"/>
            <a:ext cx="7696080" cy="4952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76720" y="761760"/>
            <a:ext cx="58672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7777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777777"/>
              </a:solidFill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715000"/>
            <a:ext cx="9144000" cy="11494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676520" y="1066680"/>
            <a:ext cx="1371600" cy="1258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419720" y="5105520"/>
            <a:ext cx="4190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ahoma"/>
              </a:rPr>
              <a:t>Copyright © The OWASP Found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ahoma"/>
              </a:rPr>
              <a:t>Permission is granted to copy, distribute and/or modify this document under the terms of the OWASP Licens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09480"/>
            <a:ext cx="9144000" cy="1526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80" y="755640"/>
            <a:ext cx="1417680" cy="3740040"/>
          </a:xfrm>
          <a:prstGeom prst="rect">
            <a:avLst/>
          </a:prstGeom>
          <a:solidFill>
            <a:srgbClr val="003399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80" y="5302080"/>
            <a:ext cx="1417680" cy="412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80" y="4844880"/>
            <a:ext cx="1417680" cy="56520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80" y="2666880"/>
            <a:ext cx="1417680" cy="1219320"/>
          </a:xfrm>
          <a:prstGeom prst="rect">
            <a:avLst/>
          </a:prstGeom>
          <a:solidFill>
            <a:srgbClr val="00336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5260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7008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641680"/>
            <a:ext cx="9144000" cy="2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59371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The OWASP Foun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46288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05040" y="2666880"/>
            <a:ext cx="1028880" cy="1219320"/>
          </a:xfrm>
          <a:custGeom>
            <a:avLst/>
            <a:gdLst/>
            <a:ahLst/>
            <a:rect l="l" t="t" r="r" b="b"/>
            <a:pathLst>
              <a:path w="456" h="528">
                <a:moveTo>
                  <a:pt x="0" y="0"/>
                </a:moveTo>
                <a:lnTo>
                  <a:pt x="0" y="528"/>
                </a:lnTo>
                <a:lnTo>
                  <a:pt x="192" y="528"/>
                </a:lnTo>
                <a:lnTo>
                  <a:pt x="452" y="260"/>
                </a:lnTo>
                <a:lnTo>
                  <a:pt x="456" y="1"/>
                </a:lnTo>
                <a:lnTo>
                  <a:pt x="0" y="0"/>
                </a:lnTo>
                <a:close/>
              </a:path>
            </a:pathLst>
          </a:custGeom>
          <a:solidFill>
            <a:srgbClr val="339933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0800000">
            <a:off x="7385040" y="2666520"/>
            <a:ext cx="1028880" cy="1219320"/>
          </a:xfrm>
          <a:custGeom>
            <a:avLst/>
            <a:gdLst/>
            <a:ahLst/>
            <a:rect l="l" t="t" r="r" b="b"/>
            <a:pathLst>
              <a:path w="456" h="528">
                <a:moveTo>
                  <a:pt x="0" y="0"/>
                </a:moveTo>
                <a:lnTo>
                  <a:pt x="0" y="528"/>
                </a:lnTo>
                <a:lnTo>
                  <a:pt x="192" y="528"/>
                </a:lnTo>
                <a:lnTo>
                  <a:pt x="452" y="260"/>
                </a:lnTo>
                <a:lnTo>
                  <a:pt x="456" y="1"/>
                </a:lnTo>
                <a:lnTo>
                  <a:pt x="0" y="0"/>
                </a:lnTo>
                <a:close/>
              </a:path>
            </a:pathLst>
          </a:custGeom>
          <a:solidFill>
            <a:srgbClr val="339933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23880" y="38862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7777"/>
                </a:solidFill>
                <a:latin typeface="Tahoma"/>
              </a:rPr>
              <a:t>OWA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38480" y="632628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aeaea"/>
                </a:solidFill>
                <a:uFillTx/>
                <a:latin typeface="Tahoma"/>
              </a:rPr>
              <a:t>http://www.owasp.org</a:t>
            </a: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69696"/>
                </a:solidFill>
                <a:latin typeface="Tahoma"/>
              </a:rPr>
              <a:t>Click to edit the outline text format</a:t>
            </a: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76720" y="761760"/>
            <a:ext cx="58672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7777"/>
                </a:solidFill>
                <a:latin typeface="Tahoma"/>
              </a:rPr>
              <a:t>CAPTCHA</a:t>
            </a:r>
            <a:br>
              <a:rPr sz="2800"/>
            </a:br>
            <a:r>
              <a:rPr b="1" lang="en-US" sz="2400" spc="-1" strike="noStrike">
                <a:solidFill>
                  <a:srgbClr val="777777"/>
                </a:solidFill>
                <a:latin typeface="Tahoma"/>
              </a:rPr>
              <a:t>The Image We All Love To Hate</a:t>
            </a:r>
            <a:endParaRPr b="1" lang="en-US" sz="2400" spc="-1" strike="noStrike">
              <a:solidFill>
                <a:srgbClr val="777777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733560" y="2971440"/>
            <a:ext cx="518148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ahoma"/>
              </a:rPr>
              <a:t>Shay Zalalichin and Avi Douglen</a:t>
            </a:r>
            <a:endParaRPr b="0" lang="en-US" sz="2000" spc="-1" strike="noStrike">
              <a:solidFill>
                <a:srgbClr val="969696"/>
              </a:solidFill>
              <a:latin typeface="Tahoma"/>
            </a:endParaRPr>
          </a:p>
          <a:p>
            <a:pPr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ahoma"/>
              </a:rPr>
              <a:t>Comsec Consulting</a:t>
            </a:r>
            <a:endParaRPr b="0" lang="en-US" sz="2000" spc="-1" strike="noStrike">
              <a:solidFill>
                <a:srgbClr val="969696"/>
              </a:solidFill>
              <a:latin typeface="Tahoma"/>
            </a:endParaRPr>
          </a:p>
          <a:p>
            <a:pPr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ahoma"/>
              </a:rPr>
              <a:t>http://www.ComsecGlobal.com/</a:t>
            </a:r>
            <a:endParaRPr b="0" lang="en-US" sz="20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1526040" y="4648320"/>
            <a:ext cx="1515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Tahoma"/>
              </a:rPr>
              <a:t>Israel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Tahoma"/>
              </a:rPr>
              <a:t>September 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419720" y="4495680"/>
            <a:ext cx="2514600" cy="57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762120" y="0"/>
            <a:ext cx="7619760" cy="6705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F428C-5FBD-4088-B9BE-E2A36CEFC3B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ther Approach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1294920"/>
            <a:ext cx="8229600" cy="48308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80880" y="1295280"/>
            <a:ext cx="8344080" cy="487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027C0-E3FA-46FD-B602-7EBBD28A16D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55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52717-375B-40F6-AF84-734522E3469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Hot CAPTCHA"/>
          <p:cNvPicPr/>
          <p:nvPr/>
        </p:nvPicPr>
        <p:blipFill>
          <a:blip r:embed="rId2"/>
          <a:stretch/>
        </p:blipFill>
        <p:spPr>
          <a:xfrm>
            <a:off x="1371600" y="228600"/>
            <a:ext cx="6477120" cy="6019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30CE0-EE97-4437-A9AB-753E692519C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ttacks using the Human Fact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PTCHA Prox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rnography si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PTCHA Fa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 Wo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an / Romanian / Far East / …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2$ - 4$ per 1000 CAPTCH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826EE-8310-4E6D-A508-AB987CC8D49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0" cy="6035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191120" y="6111720"/>
            <a:ext cx="304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 Jeremiah Grossman, Blackhat 2008,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Get Rich or Die Try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A1238-73AF-4665-B13F-E1B009EC862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191440" cy="6477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55E75-0C7C-40F1-81E5-C00CA1EEB0B2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PTCHA doesn’t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t does do, does bad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it’s broken, besides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d solution for the wrong probl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meantim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use CAPTCHA for sensitive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DF7FE-1865-4A06-B539-58C6EB97063A}" type="slidenum">
              <a:t>17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mpletely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tomate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blic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ing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 to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l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mputers an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man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" descr="A series of CAPTCHA visual verification tests"/>
          <p:cNvPicPr/>
          <p:nvPr/>
        </p:nvPicPr>
        <p:blipFill>
          <a:blip r:embed="rId1"/>
          <a:stretch/>
        </p:blipFill>
        <p:spPr>
          <a:xfrm>
            <a:off x="1752480" y="2666880"/>
            <a:ext cx="5715000" cy="350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8BF53-2F70-4E35-A4BB-F5CB1C89AC7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APTCHA Techniqu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384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r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turb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8320" y="1294920"/>
            <a:ext cx="40384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Alph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w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EB756-F8D2-42F3-A396-8EFD3A12EAD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mmon Us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 Regist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g Com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ct Us For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um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ine Po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Engine Bo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SR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9CAF1-0BF1-4336-A1B0-3CB368F15C8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mplementation Attacks – Exampl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tcha_image.php?x=-8&amp;y=20&amp;l=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x + 12, y – 17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input type="hidden" name=“cap" 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="c4ca4238a0b923820dcc509a6f75849b"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09480" y="1467000"/>
            <a:ext cx="1857600" cy="6667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429000" y="6095880"/>
            <a:ext cx="380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 Mike Spinde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cott Torbor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DEFCON 16, CAPTCHAs Are they hopel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598A0-7DA7-4DDA-8DE4-CA2697597076}" type="slidenum">
              <a:t>5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mplementation Attacks – More Exampl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lution as part of Image 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ic Solution per Image 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lution Attempts on Single Im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mall number of repeated images / Limited solution sp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flow Byp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7073E-0405-4CF2-9A2B-7BF5215BE3E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ttacks – Automatic Recogni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Character Recognition (O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% success for Gma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-35% success for Hotma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-90% success for most others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-to-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B920C-C802-48DB-8BC1-EC064AEFBDC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0" cy="60422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581280" y="6172200"/>
            <a:ext cx="381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 Mike Spinde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cott Torbor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DEFCON 16, CAPTCHAs Are they hopel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A8A94-A2D5-47D9-8F1B-05C969531A4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0" cy="60436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581280" y="6172200"/>
            <a:ext cx="381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 Mike Spinde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cott Torbor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DEFCON 16, CAPTCHAs Are they hopel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AA131-48AA-467C-9B16-F2030FCBA44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4T17:51:41Z</dcterms:created>
  <dc:creator>Jeff Williams</dc:creator>
  <dc:description>http://www.owasp.org</dc:description>
  <cp:keywords>Application Security</cp:keywords>
  <dc:language>en-US</dc:language>
  <cp:lastModifiedBy>Avi Douglen</cp:lastModifiedBy>
  <dcterms:modified xsi:type="dcterms:W3CDTF">2008-09-17T19:14:49Z</dcterms:modified>
  <cp:revision>66</cp:revision>
  <dc:subject>Application Security</dc:subject>
  <dc:title>OWASP Plan - Strawman</dc:title>
</cp:coreProperties>
</file>