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4BB-564D-4848-B1E8-AF4AB233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382-F2E4-4C44-851E-6DCB99A2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organizations with various development groups consisting of ‘cowboy’ developers mitigate this problem throughout? Ans: It’s a balance act that requires a well defined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olutions are bullet-proof in theory but greatly hinder the usability of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olutions are strong, but fail in certain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trate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 information on all development groups: what technologies, what applic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opportunity to raise awareness of th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the risk associated with each of the applications in each development group and PRIORITIZE WHAT APPS AND BUSINESS FUNCTIONS NEED TO BE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a ‘visible but transparent’ solution that can be incorporated into each development group. Things to consid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technology utilized by the dev group facilitate the ‘drop, configure, deploy’ approach ? (i.e. J2EE, .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re actual code changes to the applications that must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time, effort, and money needs to be spent to implement this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we affecting the usability of our ap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time for testing! Some application code changes will be signific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graph: ‘Mission Critical vs. Everyday vs. Lunch Menu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5DFE-1041-48B3-9699-44BA4238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6840" y="0"/>
            <a:ext cx="6772320" cy="5079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remaining questions that we haven’t addressed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ny questions about application security, please don’t hesitate to call me or send an email. I’d be happy to help you work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, Demonstrations, Stories,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B17D-4D56-48AD-966C-58F32AD45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DC49-ADA0-4045-A3BC-C115055D1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E2C0-3C4D-4107-A274-780DB7815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308D-728F-4938-843D-C885F4098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DA82-42BC-47E7-A0FB-BB4AD3C45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EC46-BA08-4C98-A977-322E57C8B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E066-F94F-408E-AF2C-72436A6DB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7799-A0D7-4237-B8EC-E7E05EE04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D8DE-0462-4B9E-A1A8-2665F5DAF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C7A1-0447-408A-9E8B-AE44C5514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CF72-81A0-47DD-819C-8898CDBB2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AA6A-B9DA-4B6F-A667-72AD988BE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746-D671-4760-8400-D5A4ACF04DD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689440" y="6270480"/>
            <a:ext cx="238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-95400" y="5865840"/>
            <a:ext cx="177192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1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2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6" descr="ologo.gif"/>
          <p:cNvPicPr/>
          <p:nvPr/>
        </p:nvPicPr>
        <p:blipFill>
          <a:blip r:embed="rId2"/>
          <a:stretch/>
        </p:blipFill>
        <p:spPr>
          <a:xfrm>
            <a:off x="1752480" y="109548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6400800" y="4876920"/>
            <a:ext cx="2514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.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4267080" cy="202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owasp.org/images/c/c9/CSRF_DangerDetectionDefenses.ppt" TargetMode="External"/><Relationship Id="rId3" Type="http://schemas.openxmlformats.org/officeDocument/2006/relationships/hyperlink" Target="http://www.owasp.org/images/c/c9/CSRF_DangerDetectionDefenses.ppt" TargetMode="External"/><Relationship Id="rId4" Type="http://schemas.openxmlformats.org/officeDocument/2006/relationships/hyperlink" Target="http://www.owasp.org/images/c/c9/CSRF_DangerDetectionDefense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4.png"/><Relationship Id="rId7" Type="http://schemas.openxmlformats.org/officeDocument/2006/relationships/hyperlink" Target="https://vg.com/fn?param=1" TargetMode="External"/><Relationship Id="rId8" Type="http://schemas.openxmlformats.org/officeDocument/2006/relationships/image" Target="../media/image15.png"/><Relationship Id="rId9" Type="http://schemas.openxmlformats.org/officeDocument/2006/relationships/hyperlink" Target="https://vg.com/fn?param=1" TargetMode="External"/><Relationship Id="rId10" Type="http://schemas.openxmlformats.org/officeDocument/2006/relationships/image" Target="../media/image16.png"/><Relationship Id="rId11" Type="http://schemas.openxmlformats.org/officeDocument/2006/relationships/hyperlink" Target="https://bank.com/fn?param=1" TargetMode="External"/><Relationship Id="rId12" Type="http://schemas.openxmlformats.org/officeDocument/2006/relationships/hyperlink" Target="https://bank.com/fn?param=1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vg.com/fn?param=1" TargetMode="External"/><Relationship Id="rId2" Type="http://schemas.openxmlformats.org/officeDocument/2006/relationships/hyperlink" Target="http://vg.com/function?param=1" TargetMode="External"/><Relationship Id="rId3" Type="http://schemas.openxmlformats.org/officeDocument/2006/relationships/hyperlink" Target="https://bank.com/xhr.js" TargetMode="External"/><Relationship Id="rId4" Type="http://schemas.openxmlformats.org/officeDocument/2006/relationships/hyperlink" Target="https://vg.com/fn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PHP_CSRF_Guard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66000" y="1553760"/>
            <a:ext cx="30780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69696"/>
                </a:solidFill>
                <a:latin typeface="Tahoma"/>
              </a:rPr>
              <a:t>Ofer Shezaf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69696"/>
                </a:solidFill>
                <a:latin typeface="Tahoma"/>
              </a:rPr>
              <a:t>CTO, Breach 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69696"/>
                </a:solidFill>
                <a:latin typeface="Tahoma"/>
              </a:rPr>
              <a:t>ofers@breach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30440" y="8380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77777"/>
                </a:solidFill>
                <a:latin typeface="Tahoma"/>
              </a:rPr>
              <a:t>CSRF Bas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erprise CSRF Mitigation Strateg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Between Security, Usability, and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CAEB-5904-42FF-8ADB-E53A1AF2C38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scale_of_justice.jpg"/>
          <p:cNvPicPr/>
          <p:nvPr/>
        </p:nvPicPr>
        <p:blipFill>
          <a:blip r:embed="rId1"/>
          <a:stretch/>
        </p:blipFill>
        <p:spPr>
          <a:xfrm>
            <a:off x="7620120" y="304920"/>
            <a:ext cx="1371600" cy="1585800"/>
          </a:xfrm>
          <a:prstGeom prst="rect">
            <a:avLst/>
          </a:prstGeom>
          <a:ln w="0">
            <a:noFill/>
          </a:ln>
        </p:spPr>
      </p:pic>
      <p:pic>
        <p:nvPicPr>
          <p:cNvPr id="191" name="Diagram 15" descr=""/>
          <p:cNvPicPr/>
          <p:nvPr/>
        </p:nvPicPr>
        <p:blipFill>
          <a:blip r:embed="rId2"/>
          <a:stretch/>
        </p:blipFill>
        <p:spPr>
          <a:xfrm>
            <a:off x="1311120" y="2011320"/>
            <a:ext cx="6216840" cy="420048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16" descr=""/>
          <p:cNvPicPr/>
          <p:nvPr/>
        </p:nvPicPr>
        <p:blipFill>
          <a:blip r:embed="rId3"/>
          <a:stretch/>
        </p:blipFill>
        <p:spPr>
          <a:xfrm>
            <a:off x="1609560" y="2109960"/>
            <a:ext cx="1987560" cy="126180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17" descr=""/>
          <p:cNvPicPr/>
          <p:nvPr/>
        </p:nvPicPr>
        <p:blipFill>
          <a:blip r:embed="rId4"/>
          <a:stretch/>
        </p:blipFill>
        <p:spPr>
          <a:xfrm>
            <a:off x="1590840" y="3548160"/>
            <a:ext cx="1987560" cy="126180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8" descr=""/>
          <p:cNvPicPr/>
          <p:nvPr/>
        </p:nvPicPr>
        <p:blipFill>
          <a:blip r:embed="rId5"/>
          <a:stretch/>
        </p:blipFill>
        <p:spPr>
          <a:xfrm>
            <a:off x="1657440" y="4925880"/>
            <a:ext cx="18414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rcRect l="24450" t="26754" r="17342" b="5722"/>
          <a:stretch/>
        </p:blipFill>
        <p:spPr>
          <a:xfrm>
            <a:off x="2666880" y="38088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231840" y="4419720"/>
            <a:ext cx="87627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anks to Eric Sheridan, who’s presentation at OWASP San Jose 2007 is the base for this one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owasp.org/images/c/c9/CSRF_DangerDetectionDefenses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so se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owasp.org/index.php/Cross-Site_Request_Fo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cgisecurity.com/articles/csrf-faq.s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e Origin Polic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60640"/>
            <a:ext cx="24382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 of the sandbox which forms the basic Web secur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“browser window” can access only the site from which it was fetched, sandboxing two applications one f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6C12-C0A8-47AE-B7FF-B9BFA00E4F0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3229200" cy="3392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7772400" y="1447920"/>
            <a:ext cx="1023840" cy="135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8077320" y="4343400"/>
            <a:ext cx="102384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1"/>
          <p:cNvSpPr/>
          <p:nvPr/>
        </p:nvSpPr>
        <p:spPr>
          <a:xfrm>
            <a:off x="3708360" y="2516040"/>
            <a:ext cx="2654280" cy="25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4748040" y="3645000"/>
            <a:ext cx="1592280" cy="15602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4"/>
          <p:cNvSpPr/>
          <p:nvPr/>
        </p:nvSpPr>
        <p:spPr>
          <a:xfrm>
            <a:off x="7508880" y="104472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5"/>
          <p:cNvSpPr/>
          <p:nvPr/>
        </p:nvSpPr>
        <p:spPr>
          <a:xfrm>
            <a:off x="8409600" y="516564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11"/>
          <p:cNvSpPr/>
          <p:nvPr/>
        </p:nvSpPr>
        <p:spPr>
          <a:xfrm rot="20650200">
            <a:off x="5308200" y="2412720"/>
            <a:ext cx="2422440" cy="368280"/>
          </a:xfrm>
          <a:prstGeom prst="pie">
            <a:avLst/>
          </a:prstGeom>
          <a:noFill/>
          <a:ln w="63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 rot="775200">
            <a:off x="5370480" y="3430440"/>
            <a:ext cx="2811600" cy="130032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 rot="21329400">
            <a:off x="6449760" y="4505040"/>
            <a:ext cx="1450800" cy="658800"/>
          </a:xfrm>
          <a:prstGeom prst="pie">
            <a:avLst/>
          </a:prstGeom>
          <a:noFill/>
          <a:ln w="63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 rot="19208400">
            <a:off x="5927760" y="2923920"/>
            <a:ext cx="2043000" cy="67464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Folded Corner 15"/>
          <p:cNvGrpSpPr/>
          <p:nvPr/>
        </p:nvGrpSpPr>
        <p:grpSpPr>
          <a:xfrm>
            <a:off x="6699240" y="2432160"/>
            <a:ext cx="835200" cy="596880"/>
            <a:chOff x="6699240" y="2432160"/>
            <a:chExt cx="835200" cy="596880"/>
          </a:xfrm>
        </p:grpSpPr>
        <p:pic>
          <p:nvPicPr>
            <p:cNvPr id="125" name="Folded Corner 15" descr=""/>
            <p:cNvPicPr/>
            <p:nvPr/>
          </p:nvPicPr>
          <p:blipFill>
            <a:blip r:embed="rId5"/>
            <a:stretch/>
          </p:blipFill>
          <p:spPr>
            <a:xfrm>
              <a:off x="6699240" y="2432160"/>
              <a:ext cx="835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0" y="2590920"/>
              <a:ext cx="519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X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Folded Corner 16"/>
          <p:cNvGrpSpPr/>
          <p:nvPr/>
        </p:nvGrpSpPr>
        <p:grpSpPr>
          <a:xfrm>
            <a:off x="7083360" y="3803760"/>
            <a:ext cx="835200" cy="596880"/>
            <a:chOff x="7083360" y="3803760"/>
            <a:chExt cx="835200" cy="596880"/>
          </a:xfrm>
        </p:grpSpPr>
        <p:pic>
          <p:nvPicPr>
            <p:cNvPr id="128" name="Folded Corner 16" descr=""/>
            <p:cNvPicPr/>
            <p:nvPr/>
          </p:nvPicPr>
          <p:blipFill>
            <a:blip r:embed="rId6"/>
            <a:stretch/>
          </p:blipFill>
          <p:spPr>
            <a:xfrm>
              <a:off x="7083360" y="3803760"/>
              <a:ext cx="835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238880" y="3962520"/>
              <a:ext cx="519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X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Rectangle 17"/>
          <p:cNvSpPr/>
          <p:nvPr/>
        </p:nvSpPr>
        <p:spPr>
          <a:xfrm>
            <a:off x="2778120" y="540864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, cook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8"/>
          <p:cNvSpPr/>
          <p:nvPr/>
        </p:nvSpPr>
        <p:spPr>
          <a:xfrm rot="775200">
            <a:off x="5384520" y="3448080"/>
            <a:ext cx="2768400" cy="807840"/>
          </a:xfrm>
          <a:prstGeom prst="pie">
            <a:avLst/>
          </a:prstGeom>
          <a:noFill/>
          <a:ln w="6336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9"/>
          <p:cNvSpPr/>
          <p:nvPr/>
        </p:nvSpPr>
        <p:spPr>
          <a:xfrm rot="19208400">
            <a:off x="6040440" y="3252600"/>
            <a:ext cx="2013120" cy="585720"/>
          </a:xfrm>
          <a:prstGeom prst="pie">
            <a:avLst/>
          </a:prstGeom>
          <a:noFill/>
          <a:ln w="6336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Folded Corner 20"/>
          <p:cNvGrpSpPr/>
          <p:nvPr/>
        </p:nvGrpSpPr>
        <p:grpSpPr>
          <a:xfrm>
            <a:off x="6851520" y="2816280"/>
            <a:ext cx="835200" cy="596880"/>
            <a:chOff x="6851520" y="2816280"/>
            <a:chExt cx="835200" cy="596880"/>
          </a:xfrm>
        </p:grpSpPr>
        <p:pic>
          <p:nvPicPr>
            <p:cNvPr id="134" name="Folded Corner 20" descr=""/>
            <p:cNvPicPr/>
            <p:nvPr/>
          </p:nvPicPr>
          <p:blipFill>
            <a:blip r:embed="rId7"/>
            <a:stretch/>
          </p:blipFill>
          <p:spPr>
            <a:xfrm>
              <a:off x="6851520" y="2816280"/>
              <a:ext cx="835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010280" y="2971800"/>
              <a:ext cx="519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Folded Corner 21"/>
          <p:cNvGrpSpPr/>
          <p:nvPr/>
        </p:nvGrpSpPr>
        <p:grpSpPr>
          <a:xfrm>
            <a:off x="7156440" y="3882960"/>
            <a:ext cx="835200" cy="596880"/>
            <a:chOff x="7156440" y="3882960"/>
            <a:chExt cx="835200" cy="596880"/>
          </a:xfrm>
        </p:grpSpPr>
        <p:pic>
          <p:nvPicPr>
            <p:cNvPr id="137" name="Folded Corner 21" descr=""/>
            <p:cNvPicPr/>
            <p:nvPr/>
          </p:nvPicPr>
          <p:blipFill>
            <a:blip r:embed="rId8"/>
            <a:stretch/>
          </p:blipFill>
          <p:spPr>
            <a:xfrm>
              <a:off x="7156440" y="3882960"/>
              <a:ext cx="835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15200" y="4038480"/>
              <a:ext cx="519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A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&quot;No&quot; Symbol 23"/>
          <p:cNvSpPr/>
          <p:nvPr/>
        </p:nvSpPr>
        <p:spPr>
          <a:xfrm>
            <a:off x="6324480" y="3200400"/>
            <a:ext cx="611280" cy="60948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9"/>
          <a:stretch/>
        </p:blipFill>
        <p:spPr>
          <a:xfrm>
            <a:off x="3736800" y="2481120"/>
            <a:ext cx="1670400" cy="168912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25"/>
          <p:cNvSpPr/>
          <p:nvPr/>
        </p:nvSpPr>
        <p:spPr>
          <a:xfrm rot="13660200">
            <a:off x="3087360" y="4033080"/>
            <a:ext cx="1493640" cy="137340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Folded Corner 26"/>
          <p:cNvGrpSpPr/>
          <p:nvPr/>
        </p:nvGrpSpPr>
        <p:grpSpPr>
          <a:xfrm>
            <a:off x="2871720" y="4608360"/>
            <a:ext cx="835200" cy="603360"/>
            <a:chOff x="2871720" y="4608360"/>
            <a:chExt cx="835200" cy="603360"/>
          </a:xfrm>
        </p:grpSpPr>
        <p:pic>
          <p:nvPicPr>
            <p:cNvPr id="143" name="Folded Corner 26" descr=""/>
            <p:cNvPicPr/>
            <p:nvPr/>
          </p:nvPicPr>
          <p:blipFill>
            <a:blip r:embed="rId10"/>
            <a:stretch/>
          </p:blipFill>
          <p:spPr>
            <a:xfrm>
              <a:off x="2871720" y="4608360"/>
              <a:ext cx="8352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027240" y="4770360"/>
              <a:ext cx="5191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J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&quot;No&quot; Symbol 27"/>
          <p:cNvSpPr/>
          <p:nvPr/>
        </p:nvSpPr>
        <p:spPr>
          <a:xfrm>
            <a:off x="3100320" y="4197240"/>
            <a:ext cx="609840" cy="61128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ks Against Same Origin Polic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lware – a malicious software is installed on the victim’s compu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ull control of the victim’s computer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 vulnerability necessar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owser Bug – victim’s browser (or related software) is unpatch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vel of cross domain risk depends on the specific bug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 many cases allows full control of victim’s computer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eavily used by Malwar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SS - Exploiting a server side vulnerability to run scripts in server’s context on victim’s brow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ffectively breaks same origin policy for vulnerable site (and others that might trust it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asy to mitigate if input is normally simple (i.e. no tags in input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SRF - ?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73B-7138-4F88-AF42-057407B5450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0"/>
          <p:cNvGrpSpPr/>
          <p:nvPr/>
        </p:nvGrpSpPr>
        <p:grpSpPr>
          <a:xfrm>
            <a:off x="3657600" y="1905120"/>
            <a:ext cx="3228840" cy="3392280"/>
            <a:chOff x="3657600" y="1905120"/>
            <a:chExt cx="3228840" cy="3392280"/>
          </a:xfrm>
        </p:grpSpPr>
        <p:pic>
          <p:nvPicPr>
            <p:cNvPr id="150" name="Picture 2" descr=""/>
            <p:cNvPicPr/>
            <p:nvPr/>
          </p:nvPicPr>
          <p:blipFill>
            <a:blip r:embed="rId1"/>
            <a:stretch/>
          </p:blipFill>
          <p:spPr>
            <a:xfrm>
              <a:off x="3657600" y="1905120"/>
              <a:ext cx="3228840" cy="33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8"/>
            <p:cNvSpPr/>
            <p:nvPr/>
          </p:nvSpPr>
          <p:spPr>
            <a:xfrm>
              <a:off x="4012920" y="2363760"/>
              <a:ext cx="2654280" cy="25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Picture 17" descr=""/>
            <p:cNvPicPr/>
            <p:nvPr/>
          </p:nvPicPr>
          <p:blipFill>
            <a:blip r:embed="rId2"/>
            <a:stretch/>
          </p:blipFill>
          <p:spPr>
            <a:xfrm>
              <a:off x="5053680" y="3493080"/>
              <a:ext cx="159084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" descr=""/>
            <p:cNvPicPr/>
            <p:nvPr/>
          </p:nvPicPr>
          <p:blipFill>
            <a:blip r:embed="rId3"/>
            <a:stretch/>
          </p:blipFill>
          <p:spPr>
            <a:xfrm>
              <a:off x="4041360" y="2328480"/>
              <a:ext cx="1670400" cy="168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Cross Site Request Forgery (CSRF)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9528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nding requests to other applications is not controlled by same origin policy. Only receiving result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s allows an attacker to perform actions within the victim’s authenticated session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5D0-1CA2-4190-8E28-03E66DB9A7F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7940520" y="1600200"/>
            <a:ext cx="1024200" cy="13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5"/>
          <a:stretch/>
        </p:blipFill>
        <p:spPr>
          <a:xfrm>
            <a:off x="8093160" y="3581280"/>
            <a:ext cx="1023840" cy="1357560"/>
          </a:xfrm>
          <a:prstGeom prst="rect">
            <a:avLst/>
          </a:prstGeom>
          <a:ln w="0">
            <a:noFill/>
          </a:ln>
        </p:spPr>
      </p:pic>
      <p:sp>
        <p:nvSpPr>
          <p:cNvPr id="159" name="Freeform 12"/>
          <p:cNvSpPr/>
          <p:nvPr/>
        </p:nvSpPr>
        <p:spPr>
          <a:xfrm rot="20650200">
            <a:off x="5608800" y="2217600"/>
            <a:ext cx="2251080" cy="435240"/>
          </a:xfrm>
          <a:prstGeom prst="pie">
            <a:avLst/>
          </a:prstGeom>
          <a:noFill/>
          <a:ln w="63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9"/>
          <p:cNvSpPr/>
          <p:nvPr/>
        </p:nvSpPr>
        <p:spPr>
          <a:xfrm rot="19208400">
            <a:off x="5597280" y="3071520"/>
            <a:ext cx="2546280" cy="596880"/>
          </a:xfrm>
          <a:prstGeom prst="pie">
            <a:avLst/>
          </a:prstGeom>
          <a:noFill/>
          <a:ln w="6336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Folded Corner 10"/>
          <p:cNvGrpSpPr/>
          <p:nvPr/>
        </p:nvGrpSpPr>
        <p:grpSpPr>
          <a:xfrm>
            <a:off x="5937120" y="2736720"/>
            <a:ext cx="2792520" cy="901800"/>
            <a:chOff x="5937120" y="2736720"/>
            <a:chExt cx="2792520" cy="901800"/>
          </a:xfrm>
        </p:grpSpPr>
        <p:pic>
          <p:nvPicPr>
            <p:cNvPr id="162" name="Folded Corner 10" descr=""/>
            <p:cNvPicPr/>
            <p:nvPr/>
          </p:nvPicPr>
          <p:blipFill>
            <a:blip r:embed="rId6"/>
            <a:stretch/>
          </p:blipFill>
          <p:spPr>
            <a:xfrm>
              <a:off x="5937120" y="2736720"/>
              <a:ext cx="279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095880" y="2895480"/>
              <a:ext cx="2471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 to Transfer Asse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9999"/>
                  </a:solidFill>
                  <a:uFillTx/>
                  <a:latin typeface="Courier New"/>
                  <a:ea typeface="Courier New"/>
                  <a:hlinkClick r:id="rId7"/>
                </a:rPr>
                <a:t>https://bank.com/fn?param=1</a:t>
              </a:r>
              <a:r>
                <a:rPr b="0" lang="en-US" sz="11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Freeform 17"/>
          <p:cNvSpPr/>
          <p:nvPr/>
        </p:nvSpPr>
        <p:spPr>
          <a:xfrm rot="21329400">
            <a:off x="6729120" y="4257360"/>
            <a:ext cx="1265040" cy="210960"/>
          </a:xfrm>
          <a:prstGeom prst="pie">
            <a:avLst/>
          </a:prstGeom>
          <a:noFill/>
          <a:ln w="63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Folded Corner 12"/>
          <p:cNvGrpSpPr/>
          <p:nvPr/>
        </p:nvGrpSpPr>
        <p:grpSpPr>
          <a:xfrm>
            <a:off x="6016680" y="2889360"/>
            <a:ext cx="2786040" cy="901440"/>
            <a:chOff x="6016680" y="2889360"/>
            <a:chExt cx="2786040" cy="901440"/>
          </a:xfrm>
        </p:grpSpPr>
        <p:pic>
          <p:nvPicPr>
            <p:cNvPr id="166" name="Folded Corner 12" descr=""/>
            <p:cNvPicPr/>
            <p:nvPr/>
          </p:nvPicPr>
          <p:blipFill>
            <a:blip r:embed="rId8"/>
            <a:stretch/>
          </p:blipFill>
          <p:spPr>
            <a:xfrm>
              <a:off x="6016680" y="2889360"/>
              <a:ext cx="27860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72200" y="3048120"/>
              <a:ext cx="2471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ct Fund and Amou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9999"/>
                  </a:solidFill>
                  <a:uFillTx/>
                  <a:latin typeface="Courier New"/>
                  <a:ea typeface="Courier New"/>
                  <a:hlinkClick r:id="rId9"/>
                </a:rPr>
                <a:t>https://bank.com/fn?param=1</a:t>
              </a:r>
              <a:r>
                <a:rPr b="0" lang="en-US" sz="11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Folded Corner 15"/>
          <p:cNvGrpSpPr/>
          <p:nvPr/>
        </p:nvGrpSpPr>
        <p:grpSpPr>
          <a:xfrm>
            <a:off x="6168960" y="2998800"/>
            <a:ext cx="2786040" cy="1353960"/>
            <a:chOff x="6168960" y="2998800"/>
            <a:chExt cx="2786040" cy="1353960"/>
          </a:xfrm>
        </p:grpSpPr>
        <p:pic>
          <p:nvPicPr>
            <p:cNvPr id="169" name="Folded Corner 15" descr=""/>
            <p:cNvPicPr/>
            <p:nvPr/>
          </p:nvPicPr>
          <p:blipFill>
            <a:blip r:embed="rId10"/>
            <a:stretch/>
          </p:blipFill>
          <p:spPr>
            <a:xfrm>
              <a:off x="6168960" y="2998800"/>
              <a:ext cx="27860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324480" y="3156120"/>
              <a:ext cx="247176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ubmit Transac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redentials included!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9999"/>
                  </a:solidFill>
                  <a:uFillTx/>
                  <a:latin typeface="Courier New"/>
                  <a:ea typeface="Courier New"/>
                  <a:hlinkClick r:id="rId11"/>
                </a:rPr>
                <a:t>https://</a:t>
              </a:r>
              <a:r>
                <a:rPr b="0" lang="en-US" sz="1100" spc="-1" strike="noStrike" u="sng">
                  <a:solidFill>
                    <a:srgbClr val="009999"/>
                  </a:solidFill>
                  <a:uFillTx/>
                  <a:latin typeface="Courier New"/>
                  <a:ea typeface="Courier New"/>
                  <a:hlinkClick r:id="rId12"/>
                </a:rPr>
                <a:t>bank.com/fn?param=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JSESSIONID=AC934234…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oes CSRF Wor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mg src=“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1"/>
              </a:rPr>
              <a:t>https://bank.com/fn?param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frame src=“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2"/>
              </a:rPr>
              <a:t>https://bank.com/fn?param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t src=“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3"/>
              </a:rPr>
              <a:t>https://bank.com/fn?param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posting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 onload="document.forms[0].submit()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“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4"/>
              </a:rPr>
              <a:t>https://bank.com/f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hidden" name="sp" value="8109"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Http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0AE-C76D-4552-B257-E0C4F9D546E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Can Attackers Do with CSRF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nyt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uthenticated user can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l out and submit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 all the steps of a wizard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striction from same origin policy, excep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ers cannot read responses from other ori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e impact on accoun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entries reflect the actions a victim was tricked into exec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2EF-F9C8-4017-99E8-A4B9F5D834A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tial solu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accept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s simple link-based attacks (IMG, frames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hidden POST requests can be created with frames, scripts, etc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r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users prohibit referers, so you can’t just require referer hea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acker ca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Flash to forge  the refer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iques to selectively create HTTP request without referers ex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s attacks harder and can be a supporting mechanism. Might be valuable in controlled environ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ing multi-step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RF attack can perform each step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ill makes the attack much more comple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-authentication - Better, but less useful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-authenticating for crucial a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atomic, i.e. performed together with the critical ac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urden for us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use of passwords tend to make them weaker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eople choose simpler passwords, or write them down for the duration of the session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tch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alternative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authenticatio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usability stand-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implementations known to be break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ill needs to be atom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916-B46A-47C5-B35B-89EEEF0F0ED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MG58quVZFemRc1S0jWmiUZtZ2_DYxx3VgvbYd6cne0EF4TTjw9svRJGs3OTs5M4hN7Fy"/>
          <p:cNvPicPr/>
          <p:nvPr/>
        </p:nvPicPr>
        <p:blipFill>
          <a:blip r:embed="rId1"/>
          <a:stretch/>
        </p:blipFill>
        <p:spPr>
          <a:xfrm>
            <a:off x="5562720" y="3505320"/>
            <a:ext cx="3200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kens - Best, but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ng a token or a signature to linkable elements to ensure proper flo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yptographically strong referr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a lot of tun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ust be consistent from point of authentic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eep linking, bookmarks must be taken into accoun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reference implementation, but not standard in frameworks ye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WASP CRSFguard: http://www.owasp.org/index.php/CSRFGuard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HP CSRFGuard: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owasp.org/index.php/PHP_CSRF_Guar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JSCK: http://www.thespanner.co.uk/2007/10/19/jsck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FAF-89DE-463C-8294-F30C2DF0CEE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Content Placeholder 4" descr="csrfguard_screenshot.jpg"/>
          <p:cNvPicPr/>
          <p:nvPr/>
        </p:nvPicPr>
        <p:blipFill>
          <a:blip r:embed="rId2"/>
          <a:srcRect l="0" t="0" r="0" b="78372"/>
          <a:stretch/>
        </p:blipFill>
        <p:spPr>
          <a:xfrm>
            <a:off x="533520" y="4724280"/>
            <a:ext cx="800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20:01Z</dcterms:created>
  <dc:creator>Yvan Boily</dc:creator>
  <dc:description/>
  <dc:language>en-US</dc:language>
  <cp:lastModifiedBy>Ofer Shezaf</cp:lastModifiedBy>
  <dcterms:modified xsi:type="dcterms:W3CDTF">2007-12-03T07:59:59Z</dcterms:modified>
  <cp:revision>191</cp:revision>
  <dc:subject/>
  <dc:title>Alternative authorisation strategies</dc:title>
</cp:coreProperties>
</file>