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0FEC-3B2B-4AD4-9E20-D4FF620B6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2B61-4B57-4FEA-A66C-0FA3B4722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A426-590D-4444-94CB-C93CA47CA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FD1D-7D5C-4EF7-9772-B14B040FA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D405C-6DAD-42DC-A578-373944C9A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66A55-1253-4A87-8D27-450E33EE1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4606D-9299-458C-9DC9-1DE358FC0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85341-9CD0-46BC-8D44-306577C22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A4DA3-C6C9-4BF6-AA03-A6B67503C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A077E-B6ED-4AFB-911A-F1195CD84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A8707-439E-48D2-AA45-A3902457D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F24EF-DB08-4A78-9C7C-9C73D9ECA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71CD6-EBF0-4E43-9CAE-10B41085E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EDBE6-CB22-4C56-8FC4-710214D8F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AA47-C029-4532-82AE-B18BE524F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9" descr="owasp"/>
          <p:cNvPicPr/>
          <p:nvPr/>
        </p:nvPicPr>
        <p:blipFill>
          <a:blip r:embed="rId2"/>
          <a:stretch/>
        </p:blipFill>
        <p:spPr>
          <a:xfrm>
            <a:off x="8077320" y="6248520"/>
            <a:ext cx="380880" cy="349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584920" y="630828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CC0F-C523-46F2-8851-480ABE6BF79B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30"/>
          <p:cNvSpPr/>
          <p:nvPr/>
        </p:nvSpPr>
        <p:spPr>
          <a:xfrm>
            <a:off x="1752480" y="6270480"/>
            <a:ext cx="636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Tahoma"/>
              </a:rPr>
              <a:t>OWASP &amp; WASC AppSec 2007 Conference – San Jose – Nov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5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0" y="570852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" descr="owasp"/>
          <p:cNvPicPr/>
          <p:nvPr/>
        </p:nvPicPr>
        <p:blipFill>
          <a:blip r:embed="rId2"/>
          <a:stretch/>
        </p:blipFill>
        <p:spPr>
          <a:xfrm>
            <a:off x="1676520" y="106668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4038480" y="5013360"/>
            <a:ext cx="4724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Copyright © 2007 - The OWASP Found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Creative Commons Attribution-ShareAlike 2.5 License. To view this license, visit http://creativecommons.org/licenses/by-sa/2.5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9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0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1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6"/>
          <p:cNvSpPr/>
          <p:nvPr/>
        </p:nvSpPr>
        <p:spPr>
          <a:xfrm>
            <a:off x="4038480" y="602604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8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29"/>
          <p:cNvSpPr/>
          <p:nvPr/>
        </p:nvSpPr>
        <p:spPr>
          <a:xfrm>
            <a:off x="2705040" y="2666880"/>
            <a:ext cx="1028880" cy="1219320"/>
          </a:xfrm>
          <a:prstGeom prst="pie">
            <a:avLst/>
          </a:pr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reeform 30"/>
          <p:cNvSpPr/>
          <p:nvPr/>
        </p:nvSpPr>
        <p:spPr>
          <a:xfrm rot="10800000">
            <a:off x="7385040" y="2666520"/>
            <a:ext cx="1028880" cy="1219320"/>
          </a:xfrm>
          <a:prstGeom prst="pie">
            <a:avLst/>
          </a:pr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3"/>
          <p:cNvSpPr/>
          <p:nvPr/>
        </p:nvSpPr>
        <p:spPr>
          <a:xfrm>
            <a:off x="1523880" y="4005360"/>
            <a:ext cx="22100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Tahoma"/>
              </a:rPr>
              <a:t>OWASP &amp; WASC AppSec 2007 Co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Tahoma"/>
              </a:rPr>
              <a:t>San Jose – Nov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4"/>
          <p:cNvSpPr/>
          <p:nvPr/>
        </p:nvSpPr>
        <p:spPr>
          <a:xfrm>
            <a:off x="4114800" y="641520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7" descr=""/>
          <p:cNvPicPr/>
          <p:nvPr/>
        </p:nvPicPr>
        <p:blipFill>
          <a:blip r:embed="rId3"/>
          <a:stretch/>
        </p:blipFill>
        <p:spPr>
          <a:xfrm>
            <a:off x="492120" y="5919840"/>
            <a:ext cx="2335320" cy="5335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4"/>
          <p:cNvSpPr/>
          <p:nvPr/>
        </p:nvSpPr>
        <p:spPr>
          <a:xfrm>
            <a:off x="380880" y="642456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webappsec.org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ybank.com/...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ybank.com/...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Defeating Web 2.0 Attacks without Recoding Applica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038480" y="3260520"/>
            <a:ext cx="46483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Tahoma"/>
              </a:rPr>
              <a:t>Amichai Shulm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Tahoma"/>
              </a:rPr>
              <a:t>CTO, Imperv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shulman@imperva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972-3-68401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5" descr="imperva_logo"/>
          <p:cNvPicPr/>
          <p:nvPr/>
        </p:nvPicPr>
        <p:blipFill>
          <a:blip r:embed="rId1"/>
          <a:stretch/>
        </p:blipFill>
        <p:spPr>
          <a:xfrm>
            <a:off x="4114800" y="4511520"/>
            <a:ext cx="3048120" cy="4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teway Based Solution - Motiv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require code changes. Can be used for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ty components as well as deployed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disrupt application availability – no need to redeploy existing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s all instances of JS Hijacking vulnerabilities within the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protection and detection regardless of new vulnerabilities being introduced into existing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detection as well as protection, including feedback for potential victi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ateway Based Solution – Some Observat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“malicious” request is sent from the victim’s browser rather than an attacker’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“malicious” request is sent over an existing authenticated session (otherwise it would not make sen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“malicious” request is invoked by a visit to an attacker’s controlled page outside of the application’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egedly “malicious” behavior can be the result of mashup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is in Javascrip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teway Based Solution - Detai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 suspicious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 with end user to resolve the ev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quest that belongs to an authenticated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omain in the “referer” header field is not part of the application (either manual setup or dynamically profiled behavior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ponse is in Javascrip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teway Based Solution – Details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 with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fix the Javascript code in the response with code to interact with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lay an alert box that includes information about the source domain and requires user appro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nd-user approves then the response is further processed by the browser, otherwise processing of the response is stopped before sensitive information is available to the brow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teway Based Solution – Dem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209680" y="2574720"/>
            <a:ext cx="4724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808080"/>
                </a:solidFill>
                <a:latin typeface="Times New Roman"/>
              </a:rPr>
              <a:t>DEMO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teway Based Solution – Extens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jected code can be further enhanced to accommodate a rich choice of user decis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block for the specific source 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allow for the specific 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bother me anymore during this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ver bother me ag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he above can be implemented using browser controlled cookies inspected by the security gate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teway Based Solution – Fraud Detec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jected code can be further enhanced to report the decision back to the security gateway (either explicitly or through a cooki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gateway behavior can be enhanced to detect attempted fraud and provide automatic re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pecific domain is reported by a variety of application users during a short perio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omain is flagged as malicious in the gateway’s 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requests invoked by pages from the malicious domain are immediately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hort Introduction to CSRF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 been discussed extensively in previous s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uses the server’s trust in a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 advantage of stateless modules with simple paramete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used to invoke application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not be (generally) used to compromise sensitiv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roduction to CSRF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aptop"/>
          <p:cNvSpPr/>
          <p:nvPr/>
        </p:nvSpPr>
        <p:spPr>
          <a:xfrm>
            <a:off x="3657600" y="4800600"/>
            <a:ext cx="1209600" cy="8334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erver"/>
          <p:cNvSpPr/>
          <p:nvPr/>
        </p:nvSpPr>
        <p:spPr>
          <a:xfrm>
            <a:off x="1066680" y="1371600"/>
            <a:ext cx="1600200" cy="1523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.mybank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mainfrm"/>
          <p:cNvSpPr/>
          <p:nvPr/>
        </p:nvSpPr>
        <p:spPr>
          <a:xfrm>
            <a:off x="4800600" y="1371600"/>
            <a:ext cx="1295280" cy="12952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.attackercontrolled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6"/>
          <p:cNvSpPr/>
          <p:nvPr/>
        </p:nvSpPr>
        <p:spPr>
          <a:xfrm>
            <a:off x="2666880" y="2514600"/>
            <a:ext cx="1447920" cy="2209680"/>
          </a:xfrm>
          <a:prstGeom prst="pie">
            <a:avLst/>
          </a:prstGeom>
          <a:noFill/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2362320" y="2895480"/>
            <a:ext cx="1447560" cy="2286000"/>
          </a:xfrm>
          <a:prstGeom prst="pie">
            <a:avLst/>
          </a:prstGeom>
          <a:noFill/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905120" y="3429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in and retrieve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4724280" y="2666880"/>
            <a:ext cx="1333800" cy="2438640"/>
          </a:xfrm>
          <a:prstGeom prst="pie">
            <a:avLst/>
          </a:prstGeom>
          <a:noFill/>
          <a:ln w="381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0"/>
          <p:cNvSpPr/>
          <p:nvPr/>
        </p:nvSpPr>
        <p:spPr>
          <a:xfrm>
            <a:off x="4444920" y="2666880"/>
            <a:ext cx="812880" cy="2133720"/>
          </a:xfrm>
          <a:prstGeom prst="pie">
            <a:avLst/>
          </a:prstGeom>
          <a:noFill/>
          <a:ln w="381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5638680" y="3048120"/>
            <a:ext cx="2514600" cy="132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html&gt;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img src=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mybank.com/..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cript&gt;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12"/>
          <p:cNvSpPr/>
          <p:nvPr/>
        </p:nvSpPr>
        <p:spPr>
          <a:xfrm>
            <a:off x="2666880" y="2438280"/>
            <a:ext cx="1460520" cy="236232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SRF – Short Dem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209680" y="2574720"/>
            <a:ext cx="4724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808080"/>
                </a:solidFill>
                <a:latin typeface="Times New Roman"/>
              </a:rPr>
              <a:t>DEMO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9D5C-B5EE-494D-88BC-081657C36BE4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oals and Agend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Mitigation of JS-Hijacking and CSRF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ack int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based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 based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ng Fraud Attempts that Exploit CSRF and JS-Hijacking Vulner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de Based Solutions for CSRF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Typ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k a session nonce (see earlier in this ses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e CAPTCHA for sensitive mod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com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earlier in this session regarding code 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CAPTCHA is introduced then redundant user interaction is required for each sensitive op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ways possible to introduce CAPTCHA without breaking the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teway Based Solution - Challeng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of suspicious request is ea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quest that belongs to an authenticated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omain in the “referer” header field is not part of the application (either manual setup or dynamically profiled behavior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on with user must occur before request is conveyed to th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jecting code into response may break the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teway Based Solution – Security Monit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 code running on the client side on behalf of the security gate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lized when browser forms an authenticated session with the server through the security gate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ly waiting on commands from the security gate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nstance of the security monitor is assigned a session n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SRF and the Security Monito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CSRF is sus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 internally flags the session as susp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s HTTP 307 response to the original UR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sending 307 response until a resolution is given through the Security Moni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ernatively store request locally and redirect using HTTP 302 to a void URL (together with a unique request 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SRF and the Security Monito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code to Security Moni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play an alert message requesting user authorization (could be simple acknowledgement or CAPTCH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 should include a digest of the request in qu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choice is communicated back to the gateway (together with the session nonce and the request dige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er authorized the request the session is released from suspension and requests are conveyed to th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request is dropped (or HTTP 403 is sent b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urity Monitor and CSRF – Dem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2209680" y="2574720"/>
            <a:ext cx="4724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808080"/>
                </a:solidFill>
                <a:latin typeface="Times New Roman"/>
              </a:rPr>
              <a:t>DEMO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SRF and Security Monitor - Extens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jected code can be further enhanced to accommodate a rich choice of user dec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ud detection as described earl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SRF and Security Monitor - Optimiz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ing Security Monitor using standard protocol stack may incur a heavy burden on gateway (double the number of active connec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n overwhelming portion of the sessions the Security Monitor is never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ose session that actually use the Security Monitor it is used for an extremely small portion of the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ally it’s idle most of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SRF and Security Monitor – Optimization (2)                                                       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 a lightweight TCP stack on a dedicated gateway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“lightweight” connection is represented by a four-touple, sequence and ack numb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ngle thread / process is used to monitor the por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s are expected to be single frames and so are responses – thus buffering, reassembly and retransmissions are not required by server side st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Twist in the Plot – Nonce Injec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not use a gateway to generate and track the non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hat the nonce be introduced into each and every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understanding of application logic embedded into HTML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highly in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 bla b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y CSRF and JS-Hijack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S-Hijacking is a newly discovered web 2.0 related vulne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SRF has been given a lot of attention lately. Experts predict that it’s becoming the major issue in web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mitigation techniques are not suitable for cost-effective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-date businesses are not properly protected against web frau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nce Injec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ittle Engine Who Cou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JAX applications, whether they use a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ty framework or an in house developed infrastructure have their request generation code concentrated in an easily identifiable 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dedicated script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distinctive piece of code within each respon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easy to inject into the existing engine code additional code that embeds a session nonce into each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nce Injection with DW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2209680" y="2574720"/>
            <a:ext cx="4724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808080"/>
                </a:solidFill>
                <a:latin typeface="Times New Roman"/>
              </a:rPr>
              <a:t>DEMO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nce Injection - Advantag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unified solution for an enterprise, regardless of the AJAX framework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customized for in house developed infra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applied to frameworks where the actual code cannot be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flexible configuration of protected paths vs. unprotected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mmary and Implica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S Hijacking and CSRF are two of the most common threats in Web 2.0 environments, expected to substantially affect the security of those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, code based solutions are very costly and in many situations inappropriate for web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mmary and Implica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based solutions can be designed to combine gateway side detection with end-user confi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based solution a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 effec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fast and convenient integration into existing deployments and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ty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for continuous protection for the ever changing web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expanded to detect large scale frau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7"/>
          <p:cNvSpPr/>
          <p:nvPr/>
        </p:nvSpPr>
        <p:spPr>
          <a:xfrm>
            <a:off x="2705040" y="2711160"/>
            <a:ext cx="373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Q&amp;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2645280" y="451008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information at www.imperva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roduction to JS Hijack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d by Fortify on March 12,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to applications who use Javascript as data transfer format – AJAX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uses a loophole in the browser’s Same Origin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cript from any domain can be included and executed in the context of any other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script is used for application data transfer (it contains sensitive data in the form of JS arrays) that sensitive information can be accessed by code from a different 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notable example: gmail contac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roduction to JS Hijack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aptop"/>
          <p:cNvSpPr/>
          <p:nvPr/>
        </p:nvSpPr>
        <p:spPr>
          <a:xfrm>
            <a:off x="3657600" y="4800600"/>
            <a:ext cx="1209600" cy="8334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erver"/>
          <p:cNvSpPr/>
          <p:nvPr/>
        </p:nvSpPr>
        <p:spPr>
          <a:xfrm>
            <a:off x="1066680" y="1371600"/>
            <a:ext cx="1600200" cy="1523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.mybank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mainfrm"/>
          <p:cNvSpPr/>
          <p:nvPr/>
        </p:nvSpPr>
        <p:spPr>
          <a:xfrm>
            <a:off x="4800600" y="1371600"/>
            <a:ext cx="1295280" cy="12952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.attackercontrolled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7"/>
          <p:cNvSpPr/>
          <p:nvPr/>
        </p:nvSpPr>
        <p:spPr>
          <a:xfrm>
            <a:off x="2666880" y="2514600"/>
            <a:ext cx="1447920" cy="2209680"/>
          </a:xfrm>
          <a:prstGeom prst="pie">
            <a:avLst/>
          </a:prstGeom>
          <a:noFill/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8"/>
          <p:cNvSpPr/>
          <p:nvPr/>
        </p:nvSpPr>
        <p:spPr>
          <a:xfrm>
            <a:off x="2362320" y="2895480"/>
            <a:ext cx="1447560" cy="2286000"/>
          </a:xfrm>
          <a:prstGeom prst="pie">
            <a:avLst/>
          </a:prstGeom>
          <a:noFill/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905120" y="3429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in and retrieve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4724280" y="2666880"/>
            <a:ext cx="1333800" cy="2438640"/>
          </a:xfrm>
          <a:prstGeom prst="pie">
            <a:avLst/>
          </a:prstGeom>
          <a:noFill/>
          <a:ln w="381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11"/>
          <p:cNvSpPr/>
          <p:nvPr/>
        </p:nvSpPr>
        <p:spPr>
          <a:xfrm>
            <a:off x="4444920" y="2666880"/>
            <a:ext cx="812880" cy="2133720"/>
          </a:xfrm>
          <a:prstGeom prst="pie">
            <a:avLst/>
          </a:prstGeom>
          <a:noFill/>
          <a:ln w="381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5638680" y="3048120"/>
            <a:ext cx="2514600" cy="132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html&gt;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cript src=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mybank.com/..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cript&gt;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13"/>
          <p:cNvSpPr/>
          <p:nvPr/>
        </p:nvSpPr>
        <p:spPr>
          <a:xfrm>
            <a:off x="2666880" y="2438280"/>
            <a:ext cx="1460520" cy="236232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14"/>
          <p:cNvSpPr/>
          <p:nvPr/>
        </p:nvSpPr>
        <p:spPr>
          <a:xfrm>
            <a:off x="2349360" y="2895480"/>
            <a:ext cx="1460520" cy="227340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5"/>
          <p:cNvSpPr/>
          <p:nvPr/>
        </p:nvSpPr>
        <p:spPr>
          <a:xfrm>
            <a:off x="4648320" y="2590920"/>
            <a:ext cx="1396800" cy="259056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roduction to JS Hijack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209680" y="2574720"/>
            <a:ext cx="4724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808080"/>
                </a:solidFill>
                <a:latin typeface="Times New Roman"/>
              </a:rPr>
              <a:t>DEMO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de Based Solutions for JS Hijack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ggested by Fortify and oth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ck a session n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random number generated per each new session (could be the session cooki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the random number in each form /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ate the random element of each incoming form / link against the cookie / internal session p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ject requests with invalid rand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response format (use subverted Javascrip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hortcomings of Code Based Solu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arty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for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ty components cannot be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loyed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ing deployed applications is impractical extremely expensive and interrupts ongoing function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ing 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forcing secure coding practices is expensive and does not cover every loophole in an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hortcomings of Code Based Solutions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 for Victi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ctim is unaware of att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ersonnel is unaware of attack until it is too late (the attacker has changed serv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upport for Mash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application by Mashups would be rejected (unless more coding effort is put into the mash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05:35:24Z</dcterms:created>
  <dc:creator>OWASP</dc:creator>
  <dc:description>http://www.owasp.org</dc:description>
  <cp:keywords>Application Security</cp:keywords>
  <dc:language>en-US</dc:language>
  <cp:lastModifiedBy>dwichers</cp:lastModifiedBy>
  <dcterms:modified xsi:type="dcterms:W3CDTF">2007-11-19T23:49:35Z</dcterms:modified>
  <cp:revision>86</cp:revision>
  <dc:subject>Application Security</dc:subject>
  <dc:title>OWASP AppSec 2004 Presentation</dc:title>
</cp:coreProperties>
</file>