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EA17-D958-4271-9F5F-29310602E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negie Mellon University (Silicon Vall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  <a:cs typeface="Arial"/>
              </a:rPr>
              <a:t>מי מכיר את ההתקפה הזו</a:t>
            </a:r>
            <a:r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C439-5D26-47F8-9BCB-F644EF877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  <a:cs typeface="Arial"/>
              </a:rPr>
              <a:t>לא שיחררו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 סתם – זה בא לפתור משהו.  בוא נגלה מה זה בא לפתור ונייצר התקפ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BC23-2CE9-4EFB-91CC-7477A4DEE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B08C-D16D-424C-AA49-E04615B84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U is built upon a whole-system emulator, QE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45FB-249A-4E9C-9DB5-EA70F4392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A580-64AE-4862-A9BA-55D93B6F3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B8C0-B441-45B6-B0FD-FDF21742B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BD730-63C3-451A-A620-4B38CE9F3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B65B-8641-4751-82FC-3DCD91637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00C8-C062-4923-B67B-C5B164656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8618-9BF9-42D6-94C7-559705454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A34F-A06E-4E3F-901D-CAE11D2B7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B570A-08E4-4992-9A27-0251733781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2051-61E8-4637-8554-8608DDBEE7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0F91D-8670-4533-8C61-0E94202E35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B3906-C3BC-4DA4-B297-F7A6B1E6C2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2ECD2-ABE4-4432-BF59-979873E118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E1D4-BBC5-4E43-9E53-D0E85A2F90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C606B-374E-46DD-9C17-C907AEE23F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03FB-FF19-483E-9C36-729932B820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DBB54-D0A8-4435-9055-62D9CFBB68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2CF3B-3FBE-410A-A3E8-E7AA05D3A2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75470-B04F-49AC-B18D-7683D68118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EF7AB-A29E-43F0-B301-08B85890D5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9CD88-3700-4039-AF58-6C540AB05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A8B0-DE13-4C28-B8D8-C42024733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4FE8-311F-4F49-8E6F-8E0ABB272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28F0-6FBF-4608-B489-7E3598B98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DDD50-DC6D-437D-A56F-2155D2F9A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F9762-C0A6-4400-8CD0-3896C9D68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95C2-E2F4-4720-A618-9CB6718F7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hyperlink" Target="http://bit.ly/apeg" TargetMode="Externa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owasp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3990-C63E-4C2B-B4C3-78458AD330BA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30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5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owasp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9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6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29"/>
          <p:cNvSpPr/>
          <p:nvPr/>
        </p:nvSpPr>
        <p:spPr>
          <a:xfrm>
            <a:off x="2705040" y="266688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30"/>
          <p:cNvSpPr/>
          <p:nvPr/>
        </p:nvSpPr>
        <p:spPr>
          <a:xfrm rot="10800000">
            <a:off x="7385040" y="266652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3"/>
          <p:cNvSpPr/>
          <p:nvPr/>
        </p:nvSpPr>
        <p:spPr>
          <a:xfrm>
            <a:off x="1523880" y="4229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4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9" descr="owasp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0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905120" y="54864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bit.ly/ape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A6F6-33FF-42F3-BB8E-A14B757519CD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ss.oy.ne.ro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Automatic Patch-Based Exploit Gene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038480" y="3260880"/>
            <a:ext cx="4648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By David Brumley, Pongsin Poosankam, Dawn Song, and Jiang Zheng (IEEE Security and Privacy Symposium, May, 2008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Presented in OWASP IL 2008 by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Yossi Or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ere’s a Situation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just released a patch over Windows 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Internet connection is fast, so you got it 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have 1 hour to create an explo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you do i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an you do it?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14400" y="1981080"/>
          <a:ext cx="7772400" cy="3017880"/>
        </p:xfrm>
        <a:graphic>
          <a:graphicData uri="http://schemas.openxmlformats.org/drawingml/2006/table">
            <a:tbl>
              <a:tblPr/>
              <a:tblGrid>
                <a:gridCol w="5257800"/>
                <a:gridCol w="2514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ulnera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me to Exploit (in second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PNet Filter Information Disclosure (MS06-03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DI Integer Overﬂow (MS07-04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GMP Denial of Service (MS06-00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.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NG Buffer Overﬂow (MS05-02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4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w APEG work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patched binary and old binary using a bin-diffing tool (eEye EB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new input sanitization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candidate exploits (they fail the new checks but pass the old on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ify candidate exploits using a taint analyzer (BitBlaze TEM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untermeasur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fuscate pa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 patches, distribute the key only when everybody’s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up patch distribution via P2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nore the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e information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Down Arrow 3"/>
          <p:cNvSpPr/>
          <p:nvPr/>
        </p:nvSpPr>
        <p:spPr>
          <a:xfrm>
            <a:off x="3809880" y="1981080"/>
            <a:ext cx="1981440" cy="327672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7:51:41Z</dcterms:created>
  <dc:creator>Jeff Williams</dc:creator>
  <dc:description>http://www.owasp.org</dc:description>
  <cp:keywords>Application Security</cp:keywords>
  <dc:language>en-US</dc:language>
  <cp:lastModifiedBy>Localhost</cp:lastModifiedBy>
  <dcterms:modified xsi:type="dcterms:W3CDTF">2008-09-15T17:41:22Z</dcterms:modified>
  <cp:revision>3</cp:revision>
  <dc:subject>Application Security</dc:subject>
  <dc:title>OWASP Plan - Strawman</dc:title>
</cp:coreProperties>
</file>