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69A43-8180-4B80-A983-7772DFCF6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7F3FC-4698-4F7A-A34E-3AC1294F7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258CD-3522-4880-8F7B-52B795758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87F29-6F7C-44BC-8D15-EA4B5722A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4CE66-7E97-4504-8B41-EEFD237BD6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1C341-4A26-4947-A9AF-75FE51869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4C28D-5651-481A-89E4-A9A746259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E14D-E4B4-426F-87B4-1BB7B1B42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37B63-B4A8-4762-99FF-4522895C3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5DB6F-5DF8-446E-8245-4AC65E8CAC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15EC9-610C-4187-8956-2A7F918A3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1F7D1-A0CB-4D06-AC61-C3CC1D161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77320" y="6248520"/>
            <a:ext cx="380880" cy="349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584920" y="630828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3E7C-0B8D-4252-9085-728F2880F624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89440" y="6270480"/>
            <a:ext cx="23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Tahoma"/>
              </a:rPr>
              <a:t>OW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38480" y="516564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Copyright © The OWASP Foun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OWASP Licen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5937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5040" y="266688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7385040" y="266652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4229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OW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63262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oberski_michael@bah.com" TargetMode="External"/><Relationship Id="rId2" Type="http://schemas.openxmlformats.org/officeDocument/2006/relationships/hyperlink" Target="mailto:jeff.williams@aspectsecurity.com" TargetMode="External"/><Relationship Id="rId3" Type="http://schemas.openxmlformats.org/officeDocument/2006/relationships/hyperlink" Target="mailto:dave.wichers@aspectsecurity.com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owasp.org/index.php/ASVS" TargetMode="External"/><Relationship Id="rId2" Type="http://schemas.openxmlformats.org/officeDocument/2006/relationships/image" Target="../media/image3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OWASP Application Security Verification Standard</a:t>
            </a:r>
            <a:br>
              <a:rPr sz="2800"/>
            </a:b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038480" y="2895480"/>
            <a:ext cx="373392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Mike Boberski (Booz Allen Hamilton)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boberski_michael@bah.com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Jeff Williams (Aspect Security)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jeff.williams@aspectsecurity.com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Dave Wichers (Aspect Security)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dave.wichers@aspectsecurity.com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557720" y="4648320"/>
            <a:ext cx="71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Tahoma"/>
              </a:rPr>
              <a:t>12/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219320"/>
            <a:ext cx="5867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– </a:t>
            </a: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Web Application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371600" y="914400"/>
            <a:ext cx="5968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vel 1 in more detai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ed verification of a web application or web service treated as groups of components within single monolithic entit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2362320" y="3276720"/>
            <a:ext cx="4324320" cy="23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18475-AAAD-4C10-9621-92C3D28F3F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pplication Security Verification Techniqu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81080" y="129528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ind Vulnerabili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Using the Running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4448160" y="1905120"/>
            <a:ext cx="0" cy="4343400"/>
          </a:xfrm>
          <a:prstGeom prst="line">
            <a:avLst/>
          </a:prstGeom>
          <a:ln w="38160">
            <a:solidFill>
              <a:srgbClr val="2d2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5667480" y="1295280"/>
            <a:ext cx="312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ind Vulnera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Using the Source Cod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AutoShape 9"/>
          <p:cNvGrpSpPr/>
          <p:nvPr/>
        </p:nvGrpSpPr>
        <p:grpSpPr>
          <a:xfrm>
            <a:off x="407880" y="4554360"/>
            <a:ext cx="2646360" cy="1281240"/>
            <a:chOff x="407880" y="4554360"/>
            <a:chExt cx="2646360" cy="1281240"/>
          </a:xfrm>
        </p:grpSpPr>
        <p:pic>
          <p:nvPicPr>
            <p:cNvPr id="157" name="AutoShape 9" descr=""/>
            <p:cNvPicPr/>
            <p:nvPr/>
          </p:nvPicPr>
          <p:blipFill>
            <a:blip r:embed="rId1"/>
            <a:stretch/>
          </p:blipFill>
          <p:spPr>
            <a:xfrm>
              <a:off x="407880" y="4554360"/>
              <a:ext cx="264636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30280" y="4832280"/>
              <a:ext cx="241308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utomated Application Vulnerability Sca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AutoShape 10"/>
          <p:cNvGrpSpPr/>
          <p:nvPr/>
        </p:nvGrpSpPr>
        <p:grpSpPr>
          <a:xfrm>
            <a:off x="6072120" y="4762440"/>
            <a:ext cx="2797200" cy="920880"/>
            <a:chOff x="6072120" y="4762440"/>
            <a:chExt cx="2797200" cy="920880"/>
          </a:xfrm>
        </p:grpSpPr>
        <p:pic>
          <p:nvPicPr>
            <p:cNvPr id="160" name="AutoShape 10" descr=""/>
            <p:cNvPicPr/>
            <p:nvPr/>
          </p:nvPicPr>
          <p:blipFill>
            <a:blip r:embed="rId2"/>
            <a:stretch/>
          </p:blipFill>
          <p:spPr>
            <a:xfrm>
              <a:off x="6072120" y="4762440"/>
              <a:ext cx="279720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202440" y="4867200"/>
              <a:ext cx="2544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tomated Static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 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AutoShape 11"/>
          <p:cNvGrpSpPr/>
          <p:nvPr/>
        </p:nvGrpSpPr>
        <p:grpSpPr>
          <a:xfrm>
            <a:off x="426960" y="2184480"/>
            <a:ext cx="2640240" cy="901440"/>
            <a:chOff x="426960" y="2184480"/>
            <a:chExt cx="2640240" cy="901440"/>
          </a:xfrm>
        </p:grpSpPr>
        <p:pic>
          <p:nvPicPr>
            <p:cNvPr id="163" name="AutoShape 11" descr=""/>
            <p:cNvPicPr/>
            <p:nvPr/>
          </p:nvPicPr>
          <p:blipFill>
            <a:blip r:embed="rId3"/>
            <a:stretch/>
          </p:blipFill>
          <p:spPr>
            <a:xfrm>
              <a:off x="426960" y="2184480"/>
              <a:ext cx="264024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38200" y="2273400"/>
              <a:ext cx="2422440" cy="68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anual Application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enetration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AutoShape 12"/>
          <p:cNvGrpSpPr/>
          <p:nvPr/>
        </p:nvGrpSpPr>
        <p:grpSpPr>
          <a:xfrm>
            <a:off x="6053040" y="2171880"/>
            <a:ext cx="2816280" cy="957240"/>
            <a:chOff x="6053040" y="2171880"/>
            <a:chExt cx="2816280" cy="957240"/>
          </a:xfrm>
        </p:grpSpPr>
        <p:pic>
          <p:nvPicPr>
            <p:cNvPr id="166" name="AutoShape 12" descr=""/>
            <p:cNvPicPr/>
            <p:nvPr/>
          </p:nvPicPr>
          <p:blipFill>
            <a:blip r:embed="rId4"/>
            <a:stretch/>
          </p:blipFill>
          <p:spPr>
            <a:xfrm>
              <a:off x="6053040" y="2171880"/>
              <a:ext cx="28162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172200" y="2267280"/>
              <a:ext cx="258768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nual Security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 Re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AutoShape 14"/>
          <p:cNvGrpSpPr/>
          <p:nvPr/>
        </p:nvGrpSpPr>
        <p:grpSpPr>
          <a:xfrm>
            <a:off x="2766960" y="2738520"/>
            <a:ext cx="939960" cy="817560"/>
            <a:chOff x="2766960" y="2738520"/>
            <a:chExt cx="939960" cy="817560"/>
          </a:xfrm>
        </p:grpSpPr>
        <p:pic>
          <p:nvPicPr>
            <p:cNvPr id="169" name="AutoShape 14" descr=""/>
            <p:cNvPicPr/>
            <p:nvPr/>
          </p:nvPicPr>
          <p:blipFill>
            <a:blip r:embed="rId5"/>
            <a:stretch/>
          </p:blipFill>
          <p:spPr>
            <a:xfrm>
              <a:off x="2766960" y="2738520"/>
              <a:ext cx="9399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 rot="2368800">
              <a:off x="2923920" y="3081240"/>
              <a:ext cx="7174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AutoShape 15"/>
          <p:cNvGrpSpPr/>
          <p:nvPr/>
        </p:nvGrpSpPr>
        <p:grpSpPr>
          <a:xfrm>
            <a:off x="2712960" y="4354560"/>
            <a:ext cx="938160" cy="815760"/>
            <a:chOff x="2712960" y="4354560"/>
            <a:chExt cx="938160" cy="815760"/>
          </a:xfrm>
        </p:grpSpPr>
        <p:pic>
          <p:nvPicPr>
            <p:cNvPr id="172" name="AutoShape 15" descr=""/>
            <p:cNvPicPr/>
            <p:nvPr/>
          </p:nvPicPr>
          <p:blipFill>
            <a:blip r:embed="rId6"/>
            <a:stretch/>
          </p:blipFill>
          <p:spPr>
            <a:xfrm>
              <a:off x="2712960" y="4354560"/>
              <a:ext cx="93816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 rot="8431200">
              <a:off x="2868120" y="4600080"/>
              <a:ext cx="7178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AutoShape 16"/>
          <p:cNvGrpSpPr/>
          <p:nvPr/>
        </p:nvGrpSpPr>
        <p:grpSpPr>
          <a:xfrm>
            <a:off x="5389560" y="2744640"/>
            <a:ext cx="938160" cy="822240"/>
            <a:chOff x="5389560" y="2744640"/>
            <a:chExt cx="938160" cy="822240"/>
          </a:xfrm>
        </p:grpSpPr>
        <p:pic>
          <p:nvPicPr>
            <p:cNvPr id="175" name="AutoShape 16" descr=""/>
            <p:cNvPicPr/>
            <p:nvPr/>
          </p:nvPicPr>
          <p:blipFill>
            <a:blip r:embed="rId7"/>
            <a:stretch/>
          </p:blipFill>
          <p:spPr>
            <a:xfrm>
              <a:off x="5389560" y="2744640"/>
              <a:ext cx="9381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9231800">
              <a:off x="5462640" y="3088800"/>
              <a:ext cx="71748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AutoShape 17"/>
          <p:cNvGrpSpPr/>
          <p:nvPr/>
        </p:nvGrpSpPr>
        <p:grpSpPr>
          <a:xfrm>
            <a:off x="5394240" y="4361040"/>
            <a:ext cx="946080" cy="815760"/>
            <a:chOff x="5394240" y="4361040"/>
            <a:chExt cx="946080" cy="815760"/>
          </a:xfrm>
        </p:grpSpPr>
        <p:pic>
          <p:nvPicPr>
            <p:cNvPr id="178" name="AutoShape 17" descr=""/>
            <p:cNvPicPr/>
            <p:nvPr/>
          </p:nvPicPr>
          <p:blipFill>
            <a:blip r:embed="rId8"/>
            <a:stretch/>
          </p:blipFill>
          <p:spPr>
            <a:xfrm>
              <a:off x="5394240" y="4361040"/>
              <a:ext cx="94608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 rot="13168200">
              <a:off x="5470200" y="4609440"/>
              <a:ext cx="71748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F6DCE-3EDE-496C-86E0-70C81417DC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ols – At Best 45%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57600" y="1294920"/>
            <a:ext cx="5029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TRE found that all application security tool vendors’ claims put together cover only 45% of the known vulnerability types (69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found very little overlap between tools, so to get 45% you need them all (assuming their claims are tru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Content Placeholder 3"/>
          <p:cNvGraphicFramePr/>
          <p:nvPr/>
        </p:nvGraphicFramePr>
        <p:xfrm>
          <a:off x="228600" y="990720"/>
          <a:ext cx="4114800" cy="38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41148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4" name="Group 28"/>
          <p:cNvGrpSpPr/>
          <p:nvPr/>
        </p:nvGrpSpPr>
        <p:grpSpPr>
          <a:xfrm>
            <a:off x="552600" y="4876920"/>
            <a:ext cx="8057880" cy="1135080"/>
            <a:chOff x="552600" y="4876920"/>
            <a:chExt cx="8057880" cy="1135080"/>
          </a:xfrm>
        </p:grpSpPr>
        <p:pic>
          <p:nvPicPr>
            <p:cNvPr id="185" name="Picture 26" descr="Picture 1"/>
            <p:cNvPicPr/>
            <p:nvPr/>
          </p:nvPicPr>
          <p:blipFill>
            <a:blip r:embed="rId3"/>
            <a:stretch/>
          </p:blipFill>
          <p:spPr>
            <a:xfrm>
              <a:off x="552600" y="4876920"/>
              <a:ext cx="651060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27" descr="Picture 2"/>
            <p:cNvPicPr/>
            <p:nvPr/>
          </p:nvPicPr>
          <p:blipFill>
            <a:blip r:embed="rId4"/>
            <a:stretch/>
          </p:blipFill>
          <p:spPr>
            <a:xfrm>
              <a:off x="7056360" y="4920840"/>
              <a:ext cx="1554120" cy="107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589CE-4B04-4628-96F6-54D6A5EF2C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vel 2 in more detai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 verification of a web application or web service organized into a high-level architec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600200" y="2895480"/>
            <a:ext cx="57150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C0B61-D259-4CB3-AB06-0477867BD3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vel 2 Op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45920"/>
            <a:ext cx="4114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2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 Penetration 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1646280"/>
            <a:ext cx="41148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2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 Code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81080" y="3780000"/>
            <a:ext cx="48006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O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a full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requirements can be filled by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E5875-BD6D-42E3-A93F-6B6A3479B8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vel 3 in more detai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 verification of a web application or web service organized into a high-level architec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1192320" y="2409840"/>
            <a:ext cx="6761160" cy="399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35C2F-041A-4073-906E-D77C5D2BB1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vel 4 in more detai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erification by searching for malicious code (not malware) and examining how security controls wo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990720" y="2619360"/>
            <a:ext cx="6980040" cy="41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85B52-F79F-4411-8EAA-14CC8C4A4A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are ASVS verification requirement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architecture verificatio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control verificatio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6095880" y="3124080"/>
            <a:ext cx="2324160" cy="18478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1523880" y="3733920"/>
            <a:ext cx="3810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ecurity architecture information puts verification results into context and helps testers and reviewers to determine if the verification was accurate and 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914400" y="373392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Webdings"/>
                <a:ea typeface="Webdings"/>
              </a:rPr>
              <a:t>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E024-33A2-4F52-AFE7-DBDA697749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positive approac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ester shal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earch for XSS ho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erify th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application performs input validation and output encoding on all user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F3A24-59EC-43E1-9183-8EDA5080A1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quirement Summa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7200" y="1295280"/>
          <a:ext cx="8229240" cy="4830480"/>
        </p:xfrm>
        <a:graphic>
          <a:graphicData uri="http://schemas.openxmlformats.org/drawingml/2006/table">
            <a:tbl>
              <a:tblPr/>
              <a:tblGrid>
                <a:gridCol w="4115880"/>
                <a:gridCol w="685080"/>
                <a:gridCol w="685800"/>
                <a:gridCol w="685440"/>
                <a:gridCol w="685800"/>
                <a:gridCol w="685440"/>
                <a:gridCol w="6858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curity Are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v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v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v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v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vel 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vel 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 – Security Architecture Verification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2 – Authentication Verification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3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3 – Session Management Verification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4 – Access Control Verification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5 – Input Validation Verification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6 – Output Encoding/Escaping Verification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7 – Cryptography Verification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8 – Error Handling and Logging Verification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9 – Data Protection Verification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0 – Communication Security Verification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1 – HTTP Security Verification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2 – Security Configuration Verification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3 – Malicious Code Search Verification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4 – Internal Security Verification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FDD56-D6DE-493D-9670-1A0262BC25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7"/>
          <p:cNvSpPr/>
          <p:nvPr/>
        </p:nvSpPr>
        <p:spPr>
          <a:xfrm>
            <a:off x="3048120" y="160020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dddddd"/>
                </a:solidFill>
                <a:latin typeface="Arial"/>
              </a:rPr>
              <a:t>?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6172200" y="388620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dddddd"/>
                </a:solidFill>
                <a:latin typeface="Arial"/>
              </a:rPr>
              <a:t>?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562720" y="45720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dddddd"/>
                </a:solidFill>
                <a:latin typeface="Arial"/>
              </a:rPr>
              <a:t>?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questions does ASVS answer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I know how much trust can be placed in a web application or web servic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I know what features to build into security controls used by a web application or web servic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I acquire a web application or web service that is verified to have a certain range in coverage and level of rigo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C051F-DB04-40A2-8BA7-5D5C1862D4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are ASVS reporting requirement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1 – Report 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2 – Application/Service De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3 – Application/Service Security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4 – Verification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6095880" y="3581280"/>
            <a:ext cx="2448000" cy="22669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6"/>
          <p:cNvSpPr/>
          <p:nvPr/>
        </p:nvSpPr>
        <p:spPr>
          <a:xfrm>
            <a:off x="1447920" y="4038480"/>
            <a:ext cx="3809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s the report sufficiently detailed to make verification repeat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es the report have sufficient types of information to allow a reviewer to determine if the verification was accurate and comple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838080" y="38862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Webdings"/>
                <a:ea typeface="Webdings"/>
              </a:rPr>
              <a:t>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838080" y="45720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Webdings"/>
                <a:ea typeface="Webdings"/>
              </a:rPr>
              <a:t>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FD464-7EC6-4945-98AF-A33FD3BD2D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ere do I go from here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can download a copy from the project web page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owasp.org/index.php/ASV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can send comments and suggestions for improvement using the project mailing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“</a:t>
            </a: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Mailing List/Subscri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link on project web p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343400" y="4343400"/>
            <a:ext cx="1066680" cy="5968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09480" y="1905120"/>
            <a:ext cx="59688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0FE00-1275-4066-8655-EDC4A753FE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743200" y="2819520"/>
            <a:ext cx="3657600" cy="20476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800600" y="762120"/>
            <a:ext cx="2362320" cy="18288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E315-6853-446D-AF05-D9A7840FEE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w is the ASVS intended to be used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can be used to provide a yardstick with which to assess the degree of trust that can be placed in their web applications and service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can be used to provide guidance to security control developers as to what to build into their commercial products in order to satisfy web application and service security requirements,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can be used to provide a basis for specifying web application and web service security requirements in contra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400800" y="55008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400800" y="405288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400800" y="20574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A5DD-6AEE-44EC-9F63-428D458DB3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is the status of the ASVS as an OWASP standard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/8/2008 - OWASP ASVS Final assistance required! Please join the mailing list for more information and assign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/5/2008 - OWASP ASVS exits the Summer of Code 2008! The Beta draft of the Web Application Edition is released! Mike Boberski, Jeff Williams, and Dave Wichers are the primary autho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/3/2008 - OWASP ASVS Alpha draft is released! Mike Boberski is the primary auth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/16/2008 - OWASP ASVS Summer of Code 2008 proposal submitted by Mike Boberski win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6095880" y="5353200"/>
            <a:ext cx="987480" cy="1352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172200" y="4395960"/>
            <a:ext cx="1066680" cy="596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095880" y="3305160"/>
            <a:ext cx="1219320" cy="6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51609-008C-4282-8F4A-25BBE8783F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does the ASVS look like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ification Levels” s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Verification Requirements” s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ification Reporting Requirements” s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295280" y="3038400"/>
            <a:ext cx="6496200" cy="305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70C03-A929-4E16-8D8F-283D6B0CD0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are ASVS verification level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69636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9ECC-B654-4E13-B0E6-1A4CBCD078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arning a level…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Content Placeholder 3" descr=""/>
          <p:cNvPicPr/>
          <p:nvPr/>
        </p:nvPicPr>
        <p:blipFill>
          <a:blip r:embed="rId1"/>
          <a:stretch/>
        </p:blipFill>
        <p:spPr>
          <a:xfrm>
            <a:off x="171360" y="1481040"/>
            <a:ext cx="8691480" cy="459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A9CF8-20BA-439F-AC2B-04CB3D0AEB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vels in more detai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1 – Automated Ver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vel 1A – Dynamic Scan (Partial Automated Verific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vel 1B – Source Code Scan (Partial Automated Verific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2 – Manual Ver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vel 2A – Penetration Test (Partial Manual Verific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vel 2B – Code Review (Partial Manual Verific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3 – Design Ver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4 – Internal Ver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C94B0-B0BD-4E5F-8A70-F4B25B9030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ver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0" name="Group 11"/>
          <p:cNvGrpSpPr/>
          <p:nvPr/>
        </p:nvGrpSpPr>
        <p:grpSpPr>
          <a:xfrm>
            <a:off x="1495440" y="1614600"/>
            <a:ext cx="6629400" cy="3657600"/>
            <a:chOff x="1495440" y="1614600"/>
            <a:chExt cx="6629400" cy="3657600"/>
          </a:xfrm>
        </p:grpSpPr>
        <p:grpSp>
          <p:nvGrpSpPr>
            <p:cNvPr id="131" name="Rectangle 10"/>
            <p:cNvGrpSpPr/>
            <p:nvPr/>
          </p:nvGrpSpPr>
          <p:grpSpPr>
            <a:xfrm>
              <a:off x="1495440" y="1614600"/>
              <a:ext cx="6629400" cy="3657600"/>
              <a:chOff x="1495440" y="1614600"/>
              <a:chExt cx="6629400" cy="3657600"/>
            </a:xfrm>
          </p:grpSpPr>
          <p:pic>
            <p:nvPicPr>
              <p:cNvPr id="132" name="Rectangle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5440" y="1614600"/>
                <a:ext cx="6629400" cy="365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1598040" y="1672200"/>
                <a:ext cx="6471720" cy="352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No malicious develop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Rectangle 9"/>
            <p:cNvGrpSpPr/>
            <p:nvPr/>
          </p:nvGrpSpPr>
          <p:grpSpPr>
            <a:xfrm>
              <a:off x="1495440" y="2337840"/>
              <a:ext cx="5594040" cy="2934360"/>
              <a:chOff x="1495440" y="2337840"/>
              <a:chExt cx="5594040" cy="2934360"/>
            </a:xfrm>
          </p:grpSpPr>
          <p:pic>
            <p:nvPicPr>
              <p:cNvPr id="135" name="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1495440" y="2337840"/>
                <a:ext cx="5594040" cy="293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1598040" y="2395800"/>
                <a:ext cx="5437080" cy="28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The design has to be righ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Rectangle 8"/>
            <p:cNvGrpSpPr/>
            <p:nvPr/>
          </p:nvGrpSpPr>
          <p:grpSpPr>
            <a:xfrm>
              <a:off x="1495440" y="3072960"/>
              <a:ext cx="4998960" cy="2199240"/>
              <a:chOff x="1495440" y="3072960"/>
              <a:chExt cx="4998960" cy="2199240"/>
            </a:xfrm>
          </p:grpSpPr>
          <p:pic>
            <p:nvPicPr>
              <p:cNvPr id="138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495440" y="3072960"/>
                <a:ext cx="4998960" cy="219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1598040" y="3130920"/>
                <a:ext cx="4842000" cy="20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The controls have to be righ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Rectangle 7"/>
            <p:cNvGrpSpPr/>
            <p:nvPr/>
          </p:nvGrpSpPr>
          <p:grpSpPr>
            <a:xfrm>
              <a:off x="1495440" y="4102200"/>
              <a:ext cx="1451880" cy="1170000"/>
              <a:chOff x="1495440" y="4102200"/>
              <a:chExt cx="1451880" cy="1170000"/>
            </a:xfrm>
          </p:grpSpPr>
          <p:pic>
            <p:nvPicPr>
              <p:cNvPr id="141" name="Rectangle 7" descr=""/>
              <p:cNvPicPr/>
              <p:nvPr/>
            </p:nvPicPr>
            <p:blipFill>
              <a:blip r:embed="rId4"/>
              <a:stretch/>
            </p:blipFill>
            <p:spPr>
              <a:xfrm>
                <a:off x="1495440" y="4102200"/>
                <a:ext cx="1451880" cy="117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1598040" y="4160160"/>
                <a:ext cx="1294200" cy="10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Sc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3" name="Up-Down Arrow 13" descr=""/>
          <p:cNvPicPr/>
          <p:nvPr/>
        </p:nvPicPr>
        <p:blipFill>
          <a:blip r:embed="rId5"/>
          <a:stretch/>
        </p:blipFill>
        <p:spPr>
          <a:xfrm>
            <a:off x="841320" y="1262160"/>
            <a:ext cx="652680" cy="4284720"/>
          </a:xfrm>
          <a:prstGeom prst="rect">
            <a:avLst/>
          </a:prstGeom>
          <a:ln w="0">
            <a:noFill/>
          </a:ln>
        </p:spPr>
      </p:pic>
      <p:pic>
        <p:nvPicPr>
          <p:cNvPr id="144" name="Up-Down Arrow 14" descr=""/>
          <p:cNvPicPr/>
          <p:nvPr/>
        </p:nvPicPr>
        <p:blipFill>
          <a:blip r:embed="rId6"/>
          <a:stretch/>
        </p:blipFill>
        <p:spPr>
          <a:xfrm>
            <a:off x="1225440" y="5278320"/>
            <a:ext cx="7266240" cy="6652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2"/>
          <p:cNvSpPr/>
          <p:nvPr/>
        </p:nvSpPr>
        <p:spPr>
          <a:xfrm>
            <a:off x="1708920" y="4518000"/>
            <a:ext cx="63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582160" y="3278160"/>
            <a:ext cx="63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6357240" y="2408400"/>
            <a:ext cx="64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7"/>
          <p:cNvSpPr/>
          <p:nvPr/>
        </p:nvSpPr>
        <p:spPr>
          <a:xfrm>
            <a:off x="7406640" y="1663560"/>
            <a:ext cx="63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BDFF5-FFE4-494D-960B-ABD14BEC04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7:51:41Z</dcterms:created>
  <dc:creator>Jeff Williams</dc:creator>
  <dc:description>http://www.owasp.org</dc:description>
  <cp:keywords>Application Security</cp:keywords>
  <dc:language>en-US</dc:language>
  <cp:lastModifiedBy>Michael Boberski</cp:lastModifiedBy>
  <dcterms:modified xsi:type="dcterms:W3CDTF">2008-12-04T16:34:12Z</dcterms:modified>
  <cp:revision>53</cp:revision>
  <dc:subject>Application Security</dc:subject>
  <dc:title>OWASP Plan - Strawman</dc:title>
</cp:coreProperties>
</file>