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BA83-4DA3-45D8-A9B7-6126BD102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C43-2180-4D7A-81EF-2724DD00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337-DF0F-4E15-84C6-2D44A3F2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996-1C05-48B4-ACEB-0C6977B7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2C0-F4B8-4AD6-BE43-B5563DF6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353-C652-41DD-9FE4-B56585B7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9E93-8B9D-4B10-8544-E8A55EC6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A2BA-18AE-4EC9-940A-2421651E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BFC-A2CC-4B13-81A4-F2F06E57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362-B0B2-4B7A-9CC1-724C65B8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C28-DE7F-409E-A940-D4ADF3D6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BE4-E455-443D-AB3C-7E1F604E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3DE-0FF2-48CF-91A0-ED143486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B492-3B6E-4AA4-9CB8-0A45C43732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tremovsky@gmail.com" TargetMode="External"/><Relationship Id="rId3" Type="http://schemas.openxmlformats.org/officeDocument/2006/relationships/hyperlink" Target="http://www.greensql.net/" TargetMode="External"/><Relationship Id="rId4" Type="http://schemas.openxmlformats.org/officeDocument/2006/relationships/hyperlink" Target="http://www.greensql.net/" TargetMode="External"/><Relationship Id="rId5" Type="http://schemas.openxmlformats.org/officeDocument/2006/relationships/hyperlink" Target="http://www.greensql.net/" TargetMode="External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inux.com/" TargetMode="External"/><Relationship Id="rId3" Type="http://schemas.openxmlformats.org/officeDocument/2006/relationships/hyperlink" Target="http://www.phpmagazine.net/" TargetMode="External"/><Relationship Id="rId4" Type="http://schemas.openxmlformats.org/officeDocument/2006/relationships/hyperlink" Target="http://www.tecchannel.de/" TargetMode="External"/><Relationship Id="rId5" Type="http://schemas.openxmlformats.org/officeDocument/2006/relationships/hyperlink" Target="http://www.tecchannel.de/" TargetMode="External"/><Relationship Id="rId6" Type="http://schemas.openxmlformats.org/officeDocument/2006/relationships/hyperlink" Target="http://www.tecchannel.de/" TargetMode="External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mo.greensql.net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tremovsky@gmail.com" TargetMode="External"/><Relationship Id="rId3" Type="http://schemas.openxmlformats.org/officeDocument/2006/relationships/hyperlink" Target="http://www.greensql.net/" TargetMode="External"/><Relationship Id="rId4" Type="http://schemas.openxmlformats.org/officeDocument/2006/relationships/hyperlink" Target="http://www.greensql.net/" TargetMode="External"/><Relationship Id="rId5" Type="http://schemas.openxmlformats.org/officeDocument/2006/relationships/hyperlink" Target="http://www.greensql.net/" TargetMode="External"/><Relationship Id="rId6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reensql.net/publications/backdoor-webserver-using-mysql-sql-injection" TargetMode="External"/><Relationship Id="rId3" Type="http://schemas.openxmlformats.org/officeDocument/2006/relationships/hyperlink" Target="&quot;C:\Program Files\Internet Explorer\IEXPLORE.EXE&quot; http://buster.com/green/demo/login.php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Green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uli Stremov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/MSN/Gtal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removsky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greensql.net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GreenSQL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14400" y="2286000"/>
            <a:ext cx="72295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GreenSQ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 Pro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backend DB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loyment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installed together with the DB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installed on specialized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How Query is Bloc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y result is sent back to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can continue grac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CP reset is s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rrors is gen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GreenSQL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/ learning / active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Recognition (signat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uristics (risk calcu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GreenSQL Advantag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application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free security solution for My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Friendly WEB GUI/Management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Supported m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suspicious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overall query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list patterns of used SQL command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new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ng queries in Whitelist will be bloc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Easy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in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Pattern Recog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s administrative commands lik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able/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 table/data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 tabl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s information disclosure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() / current_user() / show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s privileged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ll() / create_user() / load_fil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80866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Heurist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sensitive tables increases risk query (users, accounts, credit informa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y password st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t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ON t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tautology (true stat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1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at is SQL Inj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MO: Backdoor we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GreenSQL: Detailed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MO: Green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ther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Examples - Bloc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853416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Examples - Bloc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80010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White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8229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Positive &amp; Negative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uristic Analy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Multiplatform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 ba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OS / OpenSUSE / Fedora / Mandr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an / Ubu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D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(be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Rapid De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build packages for popular Linux distributions and for FreeB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installation and configuration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nfiguratio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configuration / DB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SQL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Not only for Web Ap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se in depth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ori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legacy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require application configuration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configured to listen on the original DB socket which database uses a different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L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Q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Well establis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dreds of newsletter subscri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unch of the security reviews and hundreds bug 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support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unch of blog re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forge version for more that a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d by popular re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inux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hpmagazine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tecchannel.d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Console - 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 version is available 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emo.greensql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What is SQL</a:t>
            </a: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Injectio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Legitimate Que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* from users where username = ‘Alice’ and password = ‘123456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Injected SQL c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* from users where username = ‘Alice’ and password = ‘123456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’ or ‘1’=‘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Related OS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rt IDS/Pre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QL built in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IDS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Sn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Level insp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/ICPM re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sion of sign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L support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Mod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che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ture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PH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ture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d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Kernel 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r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API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MySQL built in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/ table user access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 permission (FI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TANT Permission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queries/connections/updates per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Comma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p-show-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Future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User per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Postgre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heuristic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uli Stremov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/MSN/Gtal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removsky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info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greensql.net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Google Database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807732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SQL Attacks Haz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ypass Logi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ad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rite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mp sensitiv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ecute system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reate database back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ew Attack: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Distribution of Troj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Demo: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QL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 “text” into outfile “file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directory with write per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s_c / templates / te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s / files /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C99 Web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67053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Simple Web Sh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e system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Web sh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?php system($_GET['cmd']);  ?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()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_GET['cmd'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_POST['cmd'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_REQUEST['cmd'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MySQL Attack 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info 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reensql.net/publications/backdoor-webserver-using-mysql-sql-inj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3"/>
          </p:cNvPr>
          <p:cNvSpPr/>
          <p:nvPr/>
        </p:nvSpPr>
        <p:spPr>
          <a:xfrm>
            <a:off x="3962520" y="4038480"/>
            <a:ext cx="1600200" cy="6426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What is GreenSQ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GreenSQL is a database firewal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tects against SQL injection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nagement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ySQL built in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remy</cp:lastModifiedBy>
  <dcterms:modified xsi:type="dcterms:W3CDTF">2008-09-14T07:56:22Z</dcterms:modified>
  <cp:revision>4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