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2FC-0AB8-4D5E-AEF1-9C98E26D4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ietraszek and Vanden Bergh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taint analysis in 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against injection attac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guyen-Thuong et 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vshits and Lam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protects against SQL injections and X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specifies taint problems in PQL and applies them to Java byte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user can examine problems in ecli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vanovic et al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bescherming tegen X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PIXY werkt via alias analysis in 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4139-FFD4-4108-8662-B666EB9A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5EC5-607F-4939-8AF8-FC0CFF851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8480" y="417672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A6DE-9174-446B-931A-0880A5F14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2060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0D5E-5BCA-48F7-84A2-A0D4C05D2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1024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8200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03848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61024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8200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9ACC-0489-4A2F-8ED1-F20DD49A7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276720" y="761760"/>
            <a:ext cx="58672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6892-93C9-4A9E-A623-107C6162D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060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38480" y="417672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42060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1024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182000" y="326088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03848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561024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182000" y="4176720"/>
            <a:ext cx="149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44A3-0991-4B7E-9AAA-74C2BA273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E144-36B9-4CA1-A0C1-62DC7F812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05F1-DCDF-4343-94D4-5373DF8B0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76720" y="761760"/>
            <a:ext cx="58672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85A9-65B4-4502-95DC-1A3873856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7809-CE41-4715-8596-6E604F648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420600" y="417672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A087-C11D-4B31-9B2F-1598AEE86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3848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20600" y="3260880"/>
            <a:ext cx="226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038480" y="4176720"/>
            <a:ext cx="4648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4BA2-5BE4-4ADD-AC6A-558DD9499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457840" y="630828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B212-75B0-4790-99B9-C0314D54288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r>
              <a:rPr b="1" lang="en-US" sz="1000" spc="-1" strike="noStrike">
                <a:solidFill>
                  <a:srgbClr val="969696"/>
                </a:solidFill>
                <a:latin typeface="Tahoma"/>
              </a:rPr>
              <a:t>/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63000" y="6477120"/>
            <a:ext cx="37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Lieven Desmet – BeLux Chapter meeting – May 10</a:t>
            </a:r>
            <a:r>
              <a:rPr b="0" lang="en-GB" sz="1200" spc="-1" strike="noStrike" baseline="30000">
                <a:solidFill>
                  <a:srgbClr val="808080"/>
                </a:solidFill>
                <a:latin typeface="Times New Roman"/>
              </a:rPr>
              <a:t>th</a:t>
            </a: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Tahoma"/>
              </a:rPr>
              <a:t>Formal absence of implementation bugs in web applications:</a:t>
            </a:r>
            <a:r>
              <a:rPr b="1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IE" sz="2500" spc="-1" strike="noStrike">
                <a:solidFill>
                  <a:srgbClr val="777777"/>
                </a:solidFill>
                <a:latin typeface="Tahoma"/>
              </a:rPr>
              <a:t>A case study on indirect data sharing</a:t>
            </a:r>
            <a:endParaRPr b="1" lang="en-US" sz="25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343400" y="3260520"/>
            <a:ext cx="37339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Lieven Desme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DistriNet Research Group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Katholieke Universiteit Leuven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Lieven.Desmet@cs.kuleuven.be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+32 16 32 79 53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563480" y="4630680"/>
            <a:ext cx="164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Times New Roman"/>
              </a:rPr>
              <a:t>BeLux Chap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May 10</a:t>
            </a:r>
            <a:r>
              <a:rPr b="0" lang="en-US" sz="1600" spc="-1" strike="noStrike" baseline="30000">
                <a:solidFill>
                  <a:srgbClr val="777777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,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endar composition examp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835280" y="1628640"/>
            <a:ext cx="7495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53360" y="4300560"/>
            <a:ext cx="87120" cy="123840"/>
          </a:xfrm>
          <a:custGeom>
            <a:avLst/>
            <a:gdLst/>
            <a:ahLst/>
            <a:rect l="l" t="t" r="r" b="b"/>
            <a:pathLst>
              <a:path w="108" h="121">
                <a:moveTo>
                  <a:pt x="108" y="0"/>
                </a:moveTo>
                <a:lnTo>
                  <a:pt x="108" y="121"/>
                </a:lnTo>
                <a:lnTo>
                  <a:pt x="0" y="48"/>
                </a:lnTo>
                <a:lnTo>
                  <a:pt x="10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3662280"/>
            <a:ext cx="11160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36640" y="3606840"/>
            <a:ext cx="100080" cy="111240"/>
          </a:xfrm>
          <a:custGeom>
            <a:avLst/>
            <a:gdLst/>
            <a:ahLst/>
            <a:rect l="l" t="t" r="r" b="b"/>
            <a:pathLst>
              <a:path w="122" h="110">
                <a:moveTo>
                  <a:pt x="0" y="0"/>
                </a:moveTo>
                <a:lnTo>
                  <a:pt x="122" y="54"/>
                </a:lnTo>
                <a:lnTo>
                  <a:pt x="0" y="1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360" y="3538440"/>
            <a:ext cx="217440" cy="246240"/>
          </a:xfrm>
          <a:custGeom>
            <a:avLst/>
            <a:gdLst/>
            <a:ahLst/>
            <a:rect l="l" t="t" r="r" b="b"/>
            <a:pathLst>
              <a:path w="264" h="238">
                <a:moveTo>
                  <a:pt x="0" y="118"/>
                </a:moveTo>
                <a:lnTo>
                  <a:pt x="1" y="107"/>
                </a:lnTo>
                <a:lnTo>
                  <a:pt x="3" y="94"/>
                </a:lnTo>
                <a:lnTo>
                  <a:pt x="7" y="83"/>
                </a:lnTo>
                <a:lnTo>
                  <a:pt x="11" y="73"/>
                </a:lnTo>
                <a:lnTo>
                  <a:pt x="17" y="62"/>
                </a:lnTo>
                <a:lnTo>
                  <a:pt x="22" y="53"/>
                </a:lnTo>
                <a:lnTo>
                  <a:pt x="30" y="43"/>
                </a:lnTo>
                <a:lnTo>
                  <a:pt x="39" y="35"/>
                </a:lnTo>
                <a:lnTo>
                  <a:pt x="49" y="26"/>
                </a:lnTo>
                <a:lnTo>
                  <a:pt x="58" y="20"/>
                </a:lnTo>
                <a:lnTo>
                  <a:pt x="70" y="14"/>
                </a:lnTo>
                <a:lnTo>
                  <a:pt x="81" y="9"/>
                </a:lnTo>
                <a:lnTo>
                  <a:pt x="93" y="5"/>
                </a:lnTo>
                <a:lnTo>
                  <a:pt x="106" y="2"/>
                </a:lnTo>
                <a:lnTo>
                  <a:pt x="118" y="0"/>
                </a:lnTo>
                <a:lnTo>
                  <a:pt x="132" y="0"/>
                </a:lnTo>
                <a:lnTo>
                  <a:pt x="146" y="0"/>
                </a:lnTo>
                <a:lnTo>
                  <a:pt x="159" y="2"/>
                </a:lnTo>
                <a:lnTo>
                  <a:pt x="172" y="5"/>
                </a:lnTo>
                <a:lnTo>
                  <a:pt x="184" y="9"/>
                </a:lnTo>
                <a:lnTo>
                  <a:pt x="195" y="14"/>
                </a:lnTo>
                <a:lnTo>
                  <a:pt x="206" y="20"/>
                </a:lnTo>
                <a:lnTo>
                  <a:pt x="216" y="26"/>
                </a:lnTo>
                <a:lnTo>
                  <a:pt x="226" y="35"/>
                </a:lnTo>
                <a:lnTo>
                  <a:pt x="234" y="43"/>
                </a:lnTo>
                <a:lnTo>
                  <a:pt x="241" y="53"/>
                </a:lnTo>
                <a:lnTo>
                  <a:pt x="248" y="62"/>
                </a:lnTo>
                <a:lnTo>
                  <a:pt x="254" y="73"/>
                </a:lnTo>
                <a:lnTo>
                  <a:pt x="258" y="83"/>
                </a:lnTo>
                <a:lnTo>
                  <a:pt x="261" y="94"/>
                </a:lnTo>
                <a:lnTo>
                  <a:pt x="264" y="107"/>
                </a:lnTo>
                <a:lnTo>
                  <a:pt x="264" y="118"/>
                </a:lnTo>
                <a:lnTo>
                  <a:pt x="264" y="118"/>
                </a:lnTo>
                <a:lnTo>
                  <a:pt x="264" y="131"/>
                </a:lnTo>
                <a:lnTo>
                  <a:pt x="261" y="142"/>
                </a:lnTo>
                <a:lnTo>
                  <a:pt x="258" y="154"/>
                </a:lnTo>
                <a:lnTo>
                  <a:pt x="254" y="165"/>
                </a:lnTo>
                <a:lnTo>
                  <a:pt x="248" y="175"/>
                </a:lnTo>
                <a:lnTo>
                  <a:pt x="241" y="185"/>
                </a:lnTo>
                <a:lnTo>
                  <a:pt x="234" y="194"/>
                </a:lnTo>
                <a:lnTo>
                  <a:pt x="226" y="203"/>
                </a:lnTo>
                <a:lnTo>
                  <a:pt x="216" y="211"/>
                </a:lnTo>
                <a:lnTo>
                  <a:pt x="206" y="218"/>
                </a:lnTo>
                <a:lnTo>
                  <a:pt x="195" y="223"/>
                </a:lnTo>
                <a:lnTo>
                  <a:pt x="184" y="228"/>
                </a:lnTo>
                <a:lnTo>
                  <a:pt x="172" y="233"/>
                </a:lnTo>
                <a:lnTo>
                  <a:pt x="159" y="236"/>
                </a:lnTo>
                <a:lnTo>
                  <a:pt x="146" y="237"/>
                </a:lnTo>
                <a:lnTo>
                  <a:pt x="132" y="238"/>
                </a:lnTo>
                <a:lnTo>
                  <a:pt x="118" y="237"/>
                </a:lnTo>
                <a:lnTo>
                  <a:pt x="106" y="236"/>
                </a:lnTo>
                <a:lnTo>
                  <a:pt x="93" y="233"/>
                </a:lnTo>
                <a:lnTo>
                  <a:pt x="81" y="228"/>
                </a:lnTo>
                <a:lnTo>
                  <a:pt x="70" y="223"/>
                </a:lnTo>
                <a:lnTo>
                  <a:pt x="58" y="218"/>
                </a:lnTo>
                <a:lnTo>
                  <a:pt x="49" y="211"/>
                </a:lnTo>
                <a:lnTo>
                  <a:pt x="39" y="203"/>
                </a:lnTo>
                <a:lnTo>
                  <a:pt x="30" y="194"/>
                </a:lnTo>
                <a:lnTo>
                  <a:pt x="22" y="185"/>
                </a:lnTo>
                <a:lnTo>
                  <a:pt x="17" y="175"/>
                </a:lnTo>
                <a:lnTo>
                  <a:pt x="11" y="165"/>
                </a:lnTo>
                <a:lnTo>
                  <a:pt x="7" y="154"/>
                </a:lnTo>
                <a:lnTo>
                  <a:pt x="3" y="142"/>
                </a:lnTo>
                <a:lnTo>
                  <a:pt x="1" y="131"/>
                </a:lnTo>
                <a:lnTo>
                  <a:pt x="0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360" y="3538440"/>
            <a:ext cx="217440" cy="246240"/>
          </a:xfrm>
          <a:custGeom>
            <a:avLst/>
            <a:gdLst/>
            <a:ahLst/>
            <a:rect l="l" t="t" r="r" b="b"/>
            <a:pathLst>
              <a:path w="264" h="238">
                <a:moveTo>
                  <a:pt x="132" y="0"/>
                </a:moveTo>
                <a:lnTo>
                  <a:pt x="0" y="118"/>
                </a:lnTo>
                <a:lnTo>
                  <a:pt x="132" y="238"/>
                </a:lnTo>
                <a:lnTo>
                  <a:pt x="264" y="118"/>
                </a:lnTo>
                <a:lnTo>
                  <a:pt x="132" y="0"/>
                </a:lnTo>
                <a:lnTo>
                  <a:pt x="1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3538440"/>
            <a:ext cx="217440" cy="246240"/>
          </a:xfrm>
          <a:custGeom>
            <a:avLst/>
            <a:gdLst/>
            <a:ahLst/>
            <a:rect l="l" t="t" r="r" b="b"/>
            <a:pathLst>
              <a:path w="264" h="238">
                <a:moveTo>
                  <a:pt x="0" y="118"/>
                </a:moveTo>
                <a:lnTo>
                  <a:pt x="1" y="107"/>
                </a:lnTo>
                <a:lnTo>
                  <a:pt x="3" y="94"/>
                </a:lnTo>
                <a:lnTo>
                  <a:pt x="7" y="83"/>
                </a:lnTo>
                <a:lnTo>
                  <a:pt x="11" y="73"/>
                </a:lnTo>
                <a:lnTo>
                  <a:pt x="17" y="62"/>
                </a:lnTo>
                <a:lnTo>
                  <a:pt x="22" y="53"/>
                </a:lnTo>
                <a:lnTo>
                  <a:pt x="30" y="43"/>
                </a:lnTo>
                <a:lnTo>
                  <a:pt x="39" y="35"/>
                </a:lnTo>
                <a:lnTo>
                  <a:pt x="49" y="26"/>
                </a:lnTo>
                <a:lnTo>
                  <a:pt x="58" y="20"/>
                </a:lnTo>
                <a:lnTo>
                  <a:pt x="70" y="14"/>
                </a:lnTo>
                <a:lnTo>
                  <a:pt x="81" y="9"/>
                </a:lnTo>
                <a:lnTo>
                  <a:pt x="93" y="5"/>
                </a:lnTo>
                <a:lnTo>
                  <a:pt x="106" y="2"/>
                </a:lnTo>
                <a:lnTo>
                  <a:pt x="118" y="0"/>
                </a:lnTo>
                <a:lnTo>
                  <a:pt x="132" y="0"/>
                </a:lnTo>
                <a:lnTo>
                  <a:pt x="146" y="0"/>
                </a:lnTo>
                <a:lnTo>
                  <a:pt x="159" y="2"/>
                </a:lnTo>
                <a:lnTo>
                  <a:pt x="172" y="5"/>
                </a:lnTo>
                <a:lnTo>
                  <a:pt x="184" y="9"/>
                </a:lnTo>
                <a:lnTo>
                  <a:pt x="195" y="14"/>
                </a:lnTo>
                <a:lnTo>
                  <a:pt x="206" y="20"/>
                </a:lnTo>
                <a:lnTo>
                  <a:pt x="216" y="26"/>
                </a:lnTo>
                <a:lnTo>
                  <a:pt x="226" y="35"/>
                </a:lnTo>
                <a:lnTo>
                  <a:pt x="234" y="43"/>
                </a:lnTo>
                <a:lnTo>
                  <a:pt x="241" y="53"/>
                </a:lnTo>
                <a:lnTo>
                  <a:pt x="248" y="62"/>
                </a:lnTo>
                <a:lnTo>
                  <a:pt x="254" y="73"/>
                </a:lnTo>
                <a:lnTo>
                  <a:pt x="258" y="83"/>
                </a:lnTo>
                <a:lnTo>
                  <a:pt x="261" y="94"/>
                </a:lnTo>
                <a:lnTo>
                  <a:pt x="264" y="107"/>
                </a:lnTo>
                <a:lnTo>
                  <a:pt x="264" y="118"/>
                </a:lnTo>
                <a:lnTo>
                  <a:pt x="264" y="118"/>
                </a:lnTo>
                <a:lnTo>
                  <a:pt x="264" y="131"/>
                </a:lnTo>
                <a:lnTo>
                  <a:pt x="261" y="142"/>
                </a:lnTo>
                <a:lnTo>
                  <a:pt x="258" y="154"/>
                </a:lnTo>
                <a:lnTo>
                  <a:pt x="254" y="165"/>
                </a:lnTo>
                <a:lnTo>
                  <a:pt x="248" y="175"/>
                </a:lnTo>
                <a:lnTo>
                  <a:pt x="241" y="185"/>
                </a:lnTo>
                <a:lnTo>
                  <a:pt x="234" y="194"/>
                </a:lnTo>
                <a:lnTo>
                  <a:pt x="226" y="203"/>
                </a:lnTo>
                <a:lnTo>
                  <a:pt x="216" y="211"/>
                </a:lnTo>
                <a:lnTo>
                  <a:pt x="206" y="218"/>
                </a:lnTo>
                <a:lnTo>
                  <a:pt x="195" y="223"/>
                </a:lnTo>
                <a:lnTo>
                  <a:pt x="184" y="228"/>
                </a:lnTo>
                <a:lnTo>
                  <a:pt x="172" y="233"/>
                </a:lnTo>
                <a:lnTo>
                  <a:pt x="159" y="236"/>
                </a:lnTo>
                <a:lnTo>
                  <a:pt x="146" y="237"/>
                </a:lnTo>
                <a:lnTo>
                  <a:pt x="132" y="238"/>
                </a:lnTo>
                <a:lnTo>
                  <a:pt x="118" y="237"/>
                </a:lnTo>
                <a:lnTo>
                  <a:pt x="106" y="236"/>
                </a:lnTo>
                <a:lnTo>
                  <a:pt x="93" y="233"/>
                </a:lnTo>
                <a:lnTo>
                  <a:pt x="81" y="228"/>
                </a:lnTo>
                <a:lnTo>
                  <a:pt x="70" y="223"/>
                </a:lnTo>
                <a:lnTo>
                  <a:pt x="58" y="218"/>
                </a:lnTo>
                <a:lnTo>
                  <a:pt x="49" y="211"/>
                </a:lnTo>
                <a:lnTo>
                  <a:pt x="39" y="203"/>
                </a:lnTo>
                <a:lnTo>
                  <a:pt x="30" y="194"/>
                </a:lnTo>
                <a:lnTo>
                  <a:pt x="22" y="185"/>
                </a:lnTo>
                <a:lnTo>
                  <a:pt x="17" y="175"/>
                </a:lnTo>
                <a:lnTo>
                  <a:pt x="11" y="165"/>
                </a:lnTo>
                <a:lnTo>
                  <a:pt x="7" y="154"/>
                </a:lnTo>
                <a:lnTo>
                  <a:pt x="3" y="142"/>
                </a:lnTo>
                <a:lnTo>
                  <a:pt x="1" y="131"/>
                </a:lnTo>
                <a:lnTo>
                  <a:pt x="0" y="118"/>
                </a:lnTo>
                <a:lnTo>
                  <a:pt x="0" y="11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0" y="3359160"/>
            <a:ext cx="723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360" y="3359160"/>
            <a:ext cx="1480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d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6720" y="3294000"/>
            <a:ext cx="1312920" cy="735120"/>
          </a:xfrm>
          <a:custGeom>
            <a:avLst/>
            <a:gdLst/>
            <a:ahLst/>
            <a:rect l="l" t="t" r="r" b="b"/>
            <a:pathLst>
              <a:path w="1583" h="716">
                <a:moveTo>
                  <a:pt x="264" y="716"/>
                </a:moveTo>
                <a:lnTo>
                  <a:pt x="1319" y="716"/>
                </a:lnTo>
                <a:lnTo>
                  <a:pt x="1332" y="716"/>
                </a:lnTo>
                <a:lnTo>
                  <a:pt x="1346" y="715"/>
                </a:lnTo>
                <a:lnTo>
                  <a:pt x="1359" y="714"/>
                </a:lnTo>
                <a:lnTo>
                  <a:pt x="1373" y="711"/>
                </a:lnTo>
                <a:lnTo>
                  <a:pt x="1385" y="709"/>
                </a:lnTo>
                <a:lnTo>
                  <a:pt x="1398" y="705"/>
                </a:lnTo>
                <a:lnTo>
                  <a:pt x="1410" y="701"/>
                </a:lnTo>
                <a:lnTo>
                  <a:pt x="1421" y="697"/>
                </a:lnTo>
                <a:lnTo>
                  <a:pt x="1434" y="692"/>
                </a:lnTo>
                <a:lnTo>
                  <a:pt x="1445" y="687"/>
                </a:lnTo>
                <a:lnTo>
                  <a:pt x="1456" y="681"/>
                </a:lnTo>
                <a:lnTo>
                  <a:pt x="1466" y="674"/>
                </a:lnTo>
                <a:lnTo>
                  <a:pt x="1477" y="668"/>
                </a:lnTo>
                <a:lnTo>
                  <a:pt x="1487" y="662"/>
                </a:lnTo>
                <a:lnTo>
                  <a:pt x="1497" y="654"/>
                </a:lnTo>
                <a:lnTo>
                  <a:pt x="1505" y="645"/>
                </a:lnTo>
                <a:lnTo>
                  <a:pt x="1515" y="638"/>
                </a:lnTo>
                <a:lnTo>
                  <a:pt x="1522" y="629"/>
                </a:lnTo>
                <a:lnTo>
                  <a:pt x="1530" y="620"/>
                </a:lnTo>
                <a:lnTo>
                  <a:pt x="1537" y="610"/>
                </a:lnTo>
                <a:lnTo>
                  <a:pt x="1544" y="601"/>
                </a:lnTo>
                <a:lnTo>
                  <a:pt x="1551" y="591"/>
                </a:lnTo>
                <a:lnTo>
                  <a:pt x="1557" y="581"/>
                </a:lnTo>
                <a:lnTo>
                  <a:pt x="1562" y="570"/>
                </a:lnTo>
                <a:lnTo>
                  <a:pt x="1567" y="560"/>
                </a:lnTo>
                <a:lnTo>
                  <a:pt x="1571" y="548"/>
                </a:lnTo>
                <a:lnTo>
                  <a:pt x="1575" y="537"/>
                </a:lnTo>
                <a:lnTo>
                  <a:pt x="1578" y="525"/>
                </a:lnTo>
                <a:lnTo>
                  <a:pt x="1579" y="514"/>
                </a:lnTo>
                <a:lnTo>
                  <a:pt x="1582" y="501"/>
                </a:lnTo>
                <a:lnTo>
                  <a:pt x="1582" y="490"/>
                </a:lnTo>
                <a:lnTo>
                  <a:pt x="1583" y="477"/>
                </a:lnTo>
                <a:lnTo>
                  <a:pt x="1583" y="477"/>
                </a:lnTo>
                <a:lnTo>
                  <a:pt x="1583" y="239"/>
                </a:lnTo>
                <a:lnTo>
                  <a:pt x="1582" y="226"/>
                </a:lnTo>
                <a:lnTo>
                  <a:pt x="1582" y="215"/>
                </a:lnTo>
                <a:lnTo>
                  <a:pt x="1579" y="202"/>
                </a:lnTo>
                <a:lnTo>
                  <a:pt x="1578" y="191"/>
                </a:lnTo>
                <a:lnTo>
                  <a:pt x="1575" y="179"/>
                </a:lnTo>
                <a:lnTo>
                  <a:pt x="1571" y="168"/>
                </a:lnTo>
                <a:lnTo>
                  <a:pt x="1567" y="157"/>
                </a:lnTo>
                <a:lnTo>
                  <a:pt x="1562" y="145"/>
                </a:lnTo>
                <a:lnTo>
                  <a:pt x="1557" y="135"/>
                </a:lnTo>
                <a:lnTo>
                  <a:pt x="1551" y="125"/>
                </a:lnTo>
                <a:lnTo>
                  <a:pt x="1544" y="115"/>
                </a:lnTo>
                <a:lnTo>
                  <a:pt x="1537" y="105"/>
                </a:lnTo>
                <a:lnTo>
                  <a:pt x="1530" y="96"/>
                </a:lnTo>
                <a:lnTo>
                  <a:pt x="1522" y="87"/>
                </a:lnTo>
                <a:lnTo>
                  <a:pt x="1515" y="78"/>
                </a:lnTo>
                <a:lnTo>
                  <a:pt x="1505" y="69"/>
                </a:lnTo>
                <a:lnTo>
                  <a:pt x="1497" y="62"/>
                </a:lnTo>
                <a:lnTo>
                  <a:pt x="1487" y="54"/>
                </a:lnTo>
                <a:lnTo>
                  <a:pt x="1477" y="47"/>
                </a:lnTo>
                <a:lnTo>
                  <a:pt x="1466" y="40"/>
                </a:lnTo>
                <a:lnTo>
                  <a:pt x="1456" y="34"/>
                </a:lnTo>
                <a:lnTo>
                  <a:pt x="1445" y="29"/>
                </a:lnTo>
                <a:lnTo>
                  <a:pt x="1434" y="24"/>
                </a:lnTo>
                <a:lnTo>
                  <a:pt x="1421" y="19"/>
                </a:lnTo>
                <a:lnTo>
                  <a:pt x="1410" y="14"/>
                </a:lnTo>
                <a:lnTo>
                  <a:pt x="1398" y="10"/>
                </a:lnTo>
                <a:lnTo>
                  <a:pt x="1385" y="8"/>
                </a:lnTo>
                <a:lnTo>
                  <a:pt x="1373" y="5"/>
                </a:lnTo>
                <a:lnTo>
                  <a:pt x="1359" y="3"/>
                </a:lnTo>
                <a:lnTo>
                  <a:pt x="1346" y="1"/>
                </a:lnTo>
                <a:lnTo>
                  <a:pt x="1332" y="0"/>
                </a:lnTo>
                <a:lnTo>
                  <a:pt x="1319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3"/>
                </a:lnTo>
                <a:lnTo>
                  <a:pt x="211" y="5"/>
                </a:lnTo>
                <a:lnTo>
                  <a:pt x="198" y="8"/>
                </a:lnTo>
                <a:lnTo>
                  <a:pt x="186" y="10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0"/>
                </a:lnTo>
                <a:lnTo>
                  <a:pt x="106" y="47"/>
                </a:lnTo>
                <a:lnTo>
                  <a:pt x="96" y="54"/>
                </a:lnTo>
                <a:lnTo>
                  <a:pt x="86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2" y="96"/>
                </a:lnTo>
                <a:lnTo>
                  <a:pt x="45" y="105"/>
                </a:lnTo>
                <a:lnTo>
                  <a:pt x="38" y="115"/>
                </a:lnTo>
                <a:lnTo>
                  <a:pt x="32" y="125"/>
                </a:lnTo>
                <a:lnTo>
                  <a:pt x="25" y="135"/>
                </a:lnTo>
                <a:lnTo>
                  <a:pt x="21" y="145"/>
                </a:lnTo>
                <a:lnTo>
                  <a:pt x="15" y="157"/>
                </a:lnTo>
                <a:lnTo>
                  <a:pt x="11" y="168"/>
                </a:lnTo>
                <a:lnTo>
                  <a:pt x="8" y="179"/>
                </a:lnTo>
                <a:lnTo>
                  <a:pt x="5" y="191"/>
                </a:lnTo>
                <a:lnTo>
                  <a:pt x="3" y="202"/>
                </a:lnTo>
                <a:lnTo>
                  <a:pt x="1" y="215"/>
                </a:lnTo>
                <a:lnTo>
                  <a:pt x="0" y="226"/>
                </a:lnTo>
                <a:lnTo>
                  <a:pt x="0" y="239"/>
                </a:lnTo>
                <a:lnTo>
                  <a:pt x="0" y="239"/>
                </a:lnTo>
                <a:lnTo>
                  <a:pt x="0" y="477"/>
                </a:lnTo>
                <a:lnTo>
                  <a:pt x="0" y="490"/>
                </a:lnTo>
                <a:lnTo>
                  <a:pt x="1" y="501"/>
                </a:lnTo>
                <a:lnTo>
                  <a:pt x="3" y="514"/>
                </a:lnTo>
                <a:lnTo>
                  <a:pt x="5" y="525"/>
                </a:lnTo>
                <a:lnTo>
                  <a:pt x="8" y="537"/>
                </a:lnTo>
                <a:lnTo>
                  <a:pt x="11" y="548"/>
                </a:lnTo>
                <a:lnTo>
                  <a:pt x="15" y="560"/>
                </a:lnTo>
                <a:lnTo>
                  <a:pt x="21" y="570"/>
                </a:lnTo>
                <a:lnTo>
                  <a:pt x="25" y="581"/>
                </a:lnTo>
                <a:lnTo>
                  <a:pt x="32" y="591"/>
                </a:lnTo>
                <a:lnTo>
                  <a:pt x="38" y="601"/>
                </a:lnTo>
                <a:lnTo>
                  <a:pt x="45" y="610"/>
                </a:lnTo>
                <a:lnTo>
                  <a:pt x="52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6" y="654"/>
                </a:lnTo>
                <a:lnTo>
                  <a:pt x="96" y="662"/>
                </a:lnTo>
                <a:lnTo>
                  <a:pt x="106" y="668"/>
                </a:lnTo>
                <a:lnTo>
                  <a:pt x="116" y="674"/>
                </a:lnTo>
                <a:lnTo>
                  <a:pt x="127" y="681"/>
                </a:lnTo>
                <a:lnTo>
                  <a:pt x="138" y="687"/>
                </a:lnTo>
                <a:lnTo>
                  <a:pt x="149" y="692"/>
                </a:lnTo>
                <a:lnTo>
                  <a:pt x="160" y="697"/>
                </a:lnTo>
                <a:lnTo>
                  <a:pt x="173" y="701"/>
                </a:lnTo>
                <a:lnTo>
                  <a:pt x="186" y="705"/>
                </a:lnTo>
                <a:lnTo>
                  <a:pt x="198" y="709"/>
                </a:lnTo>
                <a:lnTo>
                  <a:pt x="211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6720" y="3294000"/>
            <a:ext cx="1312920" cy="735120"/>
          </a:xfrm>
          <a:custGeom>
            <a:avLst/>
            <a:gdLst/>
            <a:ahLst/>
            <a:rect l="l" t="t" r="r" b="b"/>
            <a:pathLst>
              <a:path w="1583" h="716">
                <a:moveTo>
                  <a:pt x="264" y="716"/>
                </a:moveTo>
                <a:lnTo>
                  <a:pt x="1319" y="716"/>
                </a:lnTo>
                <a:lnTo>
                  <a:pt x="1332" y="716"/>
                </a:lnTo>
                <a:lnTo>
                  <a:pt x="1346" y="715"/>
                </a:lnTo>
                <a:lnTo>
                  <a:pt x="1359" y="714"/>
                </a:lnTo>
                <a:lnTo>
                  <a:pt x="1373" y="711"/>
                </a:lnTo>
                <a:lnTo>
                  <a:pt x="1385" y="709"/>
                </a:lnTo>
                <a:lnTo>
                  <a:pt x="1398" y="705"/>
                </a:lnTo>
                <a:lnTo>
                  <a:pt x="1410" y="701"/>
                </a:lnTo>
                <a:lnTo>
                  <a:pt x="1421" y="697"/>
                </a:lnTo>
                <a:lnTo>
                  <a:pt x="1434" y="692"/>
                </a:lnTo>
                <a:lnTo>
                  <a:pt x="1445" y="687"/>
                </a:lnTo>
                <a:lnTo>
                  <a:pt x="1456" y="681"/>
                </a:lnTo>
                <a:lnTo>
                  <a:pt x="1466" y="674"/>
                </a:lnTo>
                <a:lnTo>
                  <a:pt x="1477" y="668"/>
                </a:lnTo>
                <a:lnTo>
                  <a:pt x="1487" y="662"/>
                </a:lnTo>
                <a:lnTo>
                  <a:pt x="1497" y="654"/>
                </a:lnTo>
                <a:lnTo>
                  <a:pt x="1505" y="645"/>
                </a:lnTo>
                <a:lnTo>
                  <a:pt x="1515" y="638"/>
                </a:lnTo>
                <a:lnTo>
                  <a:pt x="1522" y="629"/>
                </a:lnTo>
                <a:lnTo>
                  <a:pt x="1530" y="620"/>
                </a:lnTo>
                <a:lnTo>
                  <a:pt x="1537" y="610"/>
                </a:lnTo>
                <a:lnTo>
                  <a:pt x="1544" y="601"/>
                </a:lnTo>
                <a:lnTo>
                  <a:pt x="1551" y="591"/>
                </a:lnTo>
                <a:lnTo>
                  <a:pt x="1557" y="581"/>
                </a:lnTo>
                <a:lnTo>
                  <a:pt x="1562" y="570"/>
                </a:lnTo>
                <a:lnTo>
                  <a:pt x="1567" y="560"/>
                </a:lnTo>
                <a:lnTo>
                  <a:pt x="1571" y="548"/>
                </a:lnTo>
                <a:lnTo>
                  <a:pt x="1575" y="537"/>
                </a:lnTo>
                <a:lnTo>
                  <a:pt x="1578" y="525"/>
                </a:lnTo>
                <a:lnTo>
                  <a:pt x="1579" y="514"/>
                </a:lnTo>
                <a:lnTo>
                  <a:pt x="1582" y="501"/>
                </a:lnTo>
                <a:lnTo>
                  <a:pt x="1582" y="490"/>
                </a:lnTo>
                <a:lnTo>
                  <a:pt x="1583" y="477"/>
                </a:lnTo>
                <a:lnTo>
                  <a:pt x="1583" y="477"/>
                </a:lnTo>
                <a:lnTo>
                  <a:pt x="1583" y="239"/>
                </a:lnTo>
                <a:lnTo>
                  <a:pt x="1582" y="226"/>
                </a:lnTo>
                <a:lnTo>
                  <a:pt x="1582" y="215"/>
                </a:lnTo>
                <a:lnTo>
                  <a:pt x="1579" y="202"/>
                </a:lnTo>
                <a:lnTo>
                  <a:pt x="1578" y="191"/>
                </a:lnTo>
                <a:lnTo>
                  <a:pt x="1575" y="179"/>
                </a:lnTo>
                <a:lnTo>
                  <a:pt x="1571" y="168"/>
                </a:lnTo>
                <a:lnTo>
                  <a:pt x="1567" y="157"/>
                </a:lnTo>
                <a:lnTo>
                  <a:pt x="1562" y="145"/>
                </a:lnTo>
                <a:lnTo>
                  <a:pt x="1557" y="135"/>
                </a:lnTo>
                <a:lnTo>
                  <a:pt x="1551" y="125"/>
                </a:lnTo>
                <a:lnTo>
                  <a:pt x="1544" y="115"/>
                </a:lnTo>
                <a:lnTo>
                  <a:pt x="1537" y="105"/>
                </a:lnTo>
                <a:lnTo>
                  <a:pt x="1530" y="96"/>
                </a:lnTo>
                <a:lnTo>
                  <a:pt x="1522" y="87"/>
                </a:lnTo>
                <a:lnTo>
                  <a:pt x="1515" y="78"/>
                </a:lnTo>
                <a:lnTo>
                  <a:pt x="1505" y="69"/>
                </a:lnTo>
                <a:lnTo>
                  <a:pt x="1497" y="62"/>
                </a:lnTo>
                <a:lnTo>
                  <a:pt x="1487" y="54"/>
                </a:lnTo>
                <a:lnTo>
                  <a:pt x="1477" y="47"/>
                </a:lnTo>
                <a:lnTo>
                  <a:pt x="1466" y="40"/>
                </a:lnTo>
                <a:lnTo>
                  <a:pt x="1456" y="34"/>
                </a:lnTo>
                <a:lnTo>
                  <a:pt x="1445" y="29"/>
                </a:lnTo>
                <a:lnTo>
                  <a:pt x="1434" y="24"/>
                </a:lnTo>
                <a:lnTo>
                  <a:pt x="1421" y="19"/>
                </a:lnTo>
                <a:lnTo>
                  <a:pt x="1410" y="14"/>
                </a:lnTo>
                <a:lnTo>
                  <a:pt x="1398" y="10"/>
                </a:lnTo>
                <a:lnTo>
                  <a:pt x="1385" y="8"/>
                </a:lnTo>
                <a:lnTo>
                  <a:pt x="1373" y="5"/>
                </a:lnTo>
                <a:lnTo>
                  <a:pt x="1359" y="3"/>
                </a:lnTo>
                <a:lnTo>
                  <a:pt x="1346" y="1"/>
                </a:lnTo>
                <a:lnTo>
                  <a:pt x="1332" y="0"/>
                </a:lnTo>
                <a:lnTo>
                  <a:pt x="1319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3"/>
                </a:lnTo>
                <a:lnTo>
                  <a:pt x="211" y="5"/>
                </a:lnTo>
                <a:lnTo>
                  <a:pt x="198" y="8"/>
                </a:lnTo>
                <a:lnTo>
                  <a:pt x="186" y="10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0"/>
                </a:lnTo>
                <a:lnTo>
                  <a:pt x="106" y="47"/>
                </a:lnTo>
                <a:lnTo>
                  <a:pt x="96" y="54"/>
                </a:lnTo>
                <a:lnTo>
                  <a:pt x="86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2" y="96"/>
                </a:lnTo>
                <a:lnTo>
                  <a:pt x="45" y="105"/>
                </a:lnTo>
                <a:lnTo>
                  <a:pt x="38" y="115"/>
                </a:lnTo>
                <a:lnTo>
                  <a:pt x="32" y="125"/>
                </a:lnTo>
                <a:lnTo>
                  <a:pt x="25" y="135"/>
                </a:lnTo>
                <a:lnTo>
                  <a:pt x="21" y="145"/>
                </a:lnTo>
                <a:lnTo>
                  <a:pt x="15" y="157"/>
                </a:lnTo>
                <a:lnTo>
                  <a:pt x="11" y="168"/>
                </a:lnTo>
                <a:lnTo>
                  <a:pt x="8" y="179"/>
                </a:lnTo>
                <a:lnTo>
                  <a:pt x="5" y="191"/>
                </a:lnTo>
                <a:lnTo>
                  <a:pt x="3" y="202"/>
                </a:lnTo>
                <a:lnTo>
                  <a:pt x="1" y="215"/>
                </a:lnTo>
                <a:lnTo>
                  <a:pt x="0" y="226"/>
                </a:lnTo>
                <a:lnTo>
                  <a:pt x="0" y="239"/>
                </a:lnTo>
                <a:lnTo>
                  <a:pt x="0" y="239"/>
                </a:lnTo>
                <a:lnTo>
                  <a:pt x="0" y="477"/>
                </a:lnTo>
                <a:lnTo>
                  <a:pt x="0" y="490"/>
                </a:lnTo>
                <a:lnTo>
                  <a:pt x="1" y="501"/>
                </a:lnTo>
                <a:lnTo>
                  <a:pt x="3" y="514"/>
                </a:lnTo>
                <a:lnTo>
                  <a:pt x="5" y="525"/>
                </a:lnTo>
                <a:lnTo>
                  <a:pt x="8" y="537"/>
                </a:lnTo>
                <a:lnTo>
                  <a:pt x="11" y="548"/>
                </a:lnTo>
                <a:lnTo>
                  <a:pt x="15" y="560"/>
                </a:lnTo>
                <a:lnTo>
                  <a:pt x="21" y="570"/>
                </a:lnTo>
                <a:lnTo>
                  <a:pt x="25" y="581"/>
                </a:lnTo>
                <a:lnTo>
                  <a:pt x="32" y="591"/>
                </a:lnTo>
                <a:lnTo>
                  <a:pt x="38" y="601"/>
                </a:lnTo>
                <a:lnTo>
                  <a:pt x="45" y="610"/>
                </a:lnTo>
                <a:lnTo>
                  <a:pt x="52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6" y="654"/>
                </a:lnTo>
                <a:lnTo>
                  <a:pt x="96" y="662"/>
                </a:lnTo>
                <a:lnTo>
                  <a:pt x="106" y="668"/>
                </a:lnTo>
                <a:lnTo>
                  <a:pt x="116" y="674"/>
                </a:lnTo>
                <a:lnTo>
                  <a:pt x="127" y="681"/>
                </a:lnTo>
                <a:lnTo>
                  <a:pt x="138" y="687"/>
                </a:lnTo>
                <a:lnTo>
                  <a:pt x="149" y="692"/>
                </a:lnTo>
                <a:lnTo>
                  <a:pt x="160" y="697"/>
                </a:lnTo>
                <a:lnTo>
                  <a:pt x="173" y="701"/>
                </a:lnTo>
                <a:lnTo>
                  <a:pt x="186" y="705"/>
                </a:lnTo>
                <a:lnTo>
                  <a:pt x="198" y="709"/>
                </a:lnTo>
                <a:lnTo>
                  <a:pt x="211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46720" y="3408480"/>
            <a:ext cx="162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300" spc="-1" strike="noStrike">
                <a:solidFill>
                  <a:srgbClr val="000000"/>
                </a:solidFill>
                <a:latin typeface="Arial"/>
              </a:rPr>
              <a:t>AddMee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51200" y="3657600"/>
            <a:ext cx="1192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3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3300480"/>
            <a:ext cx="1208160" cy="733320"/>
          </a:xfrm>
          <a:custGeom>
            <a:avLst/>
            <a:gdLst/>
            <a:ahLst/>
            <a:rect l="l" t="t" r="r" b="b"/>
            <a:pathLst>
              <a:path w="1456" h="716">
                <a:moveTo>
                  <a:pt x="264" y="716"/>
                </a:moveTo>
                <a:lnTo>
                  <a:pt x="1192" y="716"/>
                </a:lnTo>
                <a:lnTo>
                  <a:pt x="1206" y="716"/>
                </a:lnTo>
                <a:lnTo>
                  <a:pt x="1219" y="715"/>
                </a:lnTo>
                <a:lnTo>
                  <a:pt x="1233" y="714"/>
                </a:lnTo>
                <a:lnTo>
                  <a:pt x="1245" y="711"/>
                </a:lnTo>
                <a:lnTo>
                  <a:pt x="1258" y="709"/>
                </a:lnTo>
                <a:lnTo>
                  <a:pt x="1271" y="705"/>
                </a:lnTo>
                <a:lnTo>
                  <a:pt x="1283" y="701"/>
                </a:lnTo>
                <a:lnTo>
                  <a:pt x="1294" y="697"/>
                </a:lnTo>
                <a:lnTo>
                  <a:pt x="1307" y="692"/>
                </a:lnTo>
                <a:lnTo>
                  <a:pt x="1318" y="687"/>
                </a:lnTo>
                <a:lnTo>
                  <a:pt x="1329" y="681"/>
                </a:lnTo>
                <a:lnTo>
                  <a:pt x="1340" y="676"/>
                </a:lnTo>
                <a:lnTo>
                  <a:pt x="1350" y="668"/>
                </a:lnTo>
                <a:lnTo>
                  <a:pt x="1360" y="662"/>
                </a:lnTo>
                <a:lnTo>
                  <a:pt x="1370" y="654"/>
                </a:lnTo>
                <a:lnTo>
                  <a:pt x="1379" y="645"/>
                </a:lnTo>
                <a:lnTo>
                  <a:pt x="1388" y="638"/>
                </a:lnTo>
                <a:lnTo>
                  <a:pt x="1396" y="629"/>
                </a:lnTo>
                <a:lnTo>
                  <a:pt x="1403" y="620"/>
                </a:lnTo>
                <a:lnTo>
                  <a:pt x="1412" y="610"/>
                </a:lnTo>
                <a:lnTo>
                  <a:pt x="1419" y="601"/>
                </a:lnTo>
                <a:lnTo>
                  <a:pt x="1424" y="591"/>
                </a:lnTo>
                <a:lnTo>
                  <a:pt x="1430" y="581"/>
                </a:lnTo>
                <a:lnTo>
                  <a:pt x="1435" y="570"/>
                </a:lnTo>
                <a:lnTo>
                  <a:pt x="1440" y="560"/>
                </a:lnTo>
                <a:lnTo>
                  <a:pt x="1444" y="548"/>
                </a:lnTo>
                <a:lnTo>
                  <a:pt x="1448" y="537"/>
                </a:lnTo>
                <a:lnTo>
                  <a:pt x="1451" y="525"/>
                </a:lnTo>
                <a:lnTo>
                  <a:pt x="1454" y="514"/>
                </a:lnTo>
                <a:lnTo>
                  <a:pt x="1455" y="501"/>
                </a:lnTo>
                <a:lnTo>
                  <a:pt x="1456" y="490"/>
                </a:lnTo>
                <a:lnTo>
                  <a:pt x="1456" y="477"/>
                </a:lnTo>
                <a:lnTo>
                  <a:pt x="1456" y="477"/>
                </a:lnTo>
                <a:lnTo>
                  <a:pt x="1456" y="477"/>
                </a:lnTo>
                <a:lnTo>
                  <a:pt x="1456" y="239"/>
                </a:lnTo>
                <a:lnTo>
                  <a:pt x="1456" y="226"/>
                </a:lnTo>
                <a:lnTo>
                  <a:pt x="1455" y="215"/>
                </a:lnTo>
                <a:lnTo>
                  <a:pt x="1454" y="202"/>
                </a:lnTo>
                <a:lnTo>
                  <a:pt x="1451" y="191"/>
                </a:lnTo>
                <a:lnTo>
                  <a:pt x="1448" y="179"/>
                </a:lnTo>
                <a:lnTo>
                  <a:pt x="1444" y="168"/>
                </a:lnTo>
                <a:lnTo>
                  <a:pt x="1440" y="157"/>
                </a:lnTo>
                <a:lnTo>
                  <a:pt x="1435" y="145"/>
                </a:lnTo>
                <a:lnTo>
                  <a:pt x="1430" y="135"/>
                </a:lnTo>
                <a:lnTo>
                  <a:pt x="1424" y="125"/>
                </a:lnTo>
                <a:lnTo>
                  <a:pt x="1419" y="115"/>
                </a:lnTo>
                <a:lnTo>
                  <a:pt x="1412" y="105"/>
                </a:lnTo>
                <a:lnTo>
                  <a:pt x="1403" y="96"/>
                </a:lnTo>
                <a:lnTo>
                  <a:pt x="1396" y="87"/>
                </a:lnTo>
                <a:lnTo>
                  <a:pt x="1388" y="78"/>
                </a:lnTo>
                <a:lnTo>
                  <a:pt x="1379" y="69"/>
                </a:lnTo>
                <a:lnTo>
                  <a:pt x="1370" y="62"/>
                </a:lnTo>
                <a:lnTo>
                  <a:pt x="1360" y="54"/>
                </a:lnTo>
                <a:lnTo>
                  <a:pt x="1350" y="48"/>
                </a:lnTo>
                <a:lnTo>
                  <a:pt x="1340" y="40"/>
                </a:lnTo>
                <a:lnTo>
                  <a:pt x="1329" y="34"/>
                </a:lnTo>
                <a:lnTo>
                  <a:pt x="1318" y="29"/>
                </a:lnTo>
                <a:lnTo>
                  <a:pt x="1307" y="24"/>
                </a:lnTo>
                <a:lnTo>
                  <a:pt x="1296" y="19"/>
                </a:lnTo>
                <a:lnTo>
                  <a:pt x="1283" y="14"/>
                </a:lnTo>
                <a:lnTo>
                  <a:pt x="1271" y="11"/>
                </a:lnTo>
                <a:lnTo>
                  <a:pt x="1258" y="8"/>
                </a:lnTo>
                <a:lnTo>
                  <a:pt x="1245" y="5"/>
                </a:lnTo>
                <a:lnTo>
                  <a:pt x="1233" y="3"/>
                </a:lnTo>
                <a:lnTo>
                  <a:pt x="1219" y="1"/>
                </a:lnTo>
                <a:lnTo>
                  <a:pt x="1206" y="0"/>
                </a:lnTo>
                <a:lnTo>
                  <a:pt x="1192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3"/>
                </a:lnTo>
                <a:lnTo>
                  <a:pt x="209" y="5"/>
                </a:lnTo>
                <a:lnTo>
                  <a:pt x="197" y="8"/>
                </a:lnTo>
                <a:lnTo>
                  <a:pt x="184" y="11"/>
                </a:lnTo>
                <a:lnTo>
                  <a:pt x="172" y="14"/>
                </a:lnTo>
                <a:lnTo>
                  <a:pt x="160" y="19"/>
                </a:lnTo>
                <a:lnTo>
                  <a:pt x="149" y="24"/>
                </a:lnTo>
                <a:lnTo>
                  <a:pt x="137" y="29"/>
                </a:lnTo>
                <a:lnTo>
                  <a:pt x="126" y="34"/>
                </a:lnTo>
                <a:lnTo>
                  <a:pt x="116" y="40"/>
                </a:lnTo>
                <a:lnTo>
                  <a:pt x="105" y="48"/>
                </a:lnTo>
                <a:lnTo>
                  <a:pt x="95" y="54"/>
                </a:lnTo>
                <a:lnTo>
                  <a:pt x="85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2" y="96"/>
                </a:lnTo>
                <a:lnTo>
                  <a:pt x="45" y="105"/>
                </a:lnTo>
                <a:lnTo>
                  <a:pt x="38" y="115"/>
                </a:lnTo>
                <a:lnTo>
                  <a:pt x="31" y="125"/>
                </a:lnTo>
                <a:lnTo>
                  <a:pt x="25" y="135"/>
                </a:lnTo>
                <a:lnTo>
                  <a:pt x="19" y="145"/>
                </a:lnTo>
                <a:lnTo>
                  <a:pt x="15" y="157"/>
                </a:lnTo>
                <a:lnTo>
                  <a:pt x="11" y="168"/>
                </a:lnTo>
                <a:lnTo>
                  <a:pt x="7" y="179"/>
                </a:lnTo>
                <a:lnTo>
                  <a:pt x="4" y="191"/>
                </a:lnTo>
                <a:lnTo>
                  <a:pt x="3" y="202"/>
                </a:lnTo>
                <a:lnTo>
                  <a:pt x="0" y="215"/>
                </a:lnTo>
                <a:lnTo>
                  <a:pt x="0" y="226"/>
                </a:lnTo>
                <a:lnTo>
                  <a:pt x="0" y="239"/>
                </a:lnTo>
                <a:lnTo>
                  <a:pt x="0" y="239"/>
                </a:lnTo>
                <a:lnTo>
                  <a:pt x="0" y="477"/>
                </a:lnTo>
                <a:lnTo>
                  <a:pt x="0" y="490"/>
                </a:lnTo>
                <a:lnTo>
                  <a:pt x="0" y="501"/>
                </a:lnTo>
                <a:lnTo>
                  <a:pt x="3" y="514"/>
                </a:lnTo>
                <a:lnTo>
                  <a:pt x="4" y="525"/>
                </a:lnTo>
                <a:lnTo>
                  <a:pt x="7" y="537"/>
                </a:lnTo>
                <a:lnTo>
                  <a:pt x="11" y="548"/>
                </a:lnTo>
                <a:lnTo>
                  <a:pt x="15" y="560"/>
                </a:lnTo>
                <a:lnTo>
                  <a:pt x="19" y="570"/>
                </a:lnTo>
                <a:lnTo>
                  <a:pt x="25" y="581"/>
                </a:lnTo>
                <a:lnTo>
                  <a:pt x="31" y="591"/>
                </a:lnTo>
                <a:lnTo>
                  <a:pt x="38" y="601"/>
                </a:lnTo>
                <a:lnTo>
                  <a:pt x="45" y="610"/>
                </a:lnTo>
                <a:lnTo>
                  <a:pt x="52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5" y="654"/>
                </a:lnTo>
                <a:lnTo>
                  <a:pt x="95" y="662"/>
                </a:lnTo>
                <a:lnTo>
                  <a:pt x="105" y="668"/>
                </a:lnTo>
                <a:lnTo>
                  <a:pt x="116" y="676"/>
                </a:lnTo>
                <a:lnTo>
                  <a:pt x="126" y="681"/>
                </a:lnTo>
                <a:lnTo>
                  <a:pt x="137" y="687"/>
                </a:lnTo>
                <a:lnTo>
                  <a:pt x="149" y="692"/>
                </a:lnTo>
                <a:lnTo>
                  <a:pt x="160" y="697"/>
                </a:lnTo>
                <a:lnTo>
                  <a:pt x="172" y="701"/>
                </a:lnTo>
                <a:lnTo>
                  <a:pt x="184" y="705"/>
                </a:lnTo>
                <a:lnTo>
                  <a:pt x="197" y="709"/>
                </a:lnTo>
                <a:lnTo>
                  <a:pt x="209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05240" y="3427560"/>
            <a:ext cx="1648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mailNot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9640" y="3656160"/>
            <a:ext cx="1433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tion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292560"/>
            <a:ext cx="1319400" cy="734760"/>
          </a:xfrm>
          <a:custGeom>
            <a:avLst/>
            <a:gdLst/>
            <a:ahLst/>
            <a:rect l="l" t="t" r="r" b="b"/>
            <a:pathLst>
              <a:path w="1592" h="716">
                <a:moveTo>
                  <a:pt x="264" y="716"/>
                </a:moveTo>
                <a:lnTo>
                  <a:pt x="1328" y="716"/>
                </a:lnTo>
                <a:lnTo>
                  <a:pt x="1342" y="716"/>
                </a:lnTo>
                <a:lnTo>
                  <a:pt x="1354" y="715"/>
                </a:lnTo>
                <a:lnTo>
                  <a:pt x="1368" y="713"/>
                </a:lnTo>
                <a:lnTo>
                  <a:pt x="1381" y="711"/>
                </a:lnTo>
                <a:lnTo>
                  <a:pt x="1393" y="708"/>
                </a:lnTo>
                <a:lnTo>
                  <a:pt x="1406" y="705"/>
                </a:lnTo>
                <a:lnTo>
                  <a:pt x="1419" y="701"/>
                </a:lnTo>
                <a:lnTo>
                  <a:pt x="1430" y="697"/>
                </a:lnTo>
                <a:lnTo>
                  <a:pt x="1442" y="692"/>
                </a:lnTo>
                <a:lnTo>
                  <a:pt x="1453" y="687"/>
                </a:lnTo>
                <a:lnTo>
                  <a:pt x="1465" y="681"/>
                </a:lnTo>
                <a:lnTo>
                  <a:pt x="1476" y="675"/>
                </a:lnTo>
                <a:lnTo>
                  <a:pt x="1486" y="668"/>
                </a:lnTo>
                <a:lnTo>
                  <a:pt x="1495" y="662"/>
                </a:lnTo>
                <a:lnTo>
                  <a:pt x="1505" y="654"/>
                </a:lnTo>
                <a:lnTo>
                  <a:pt x="1515" y="645"/>
                </a:lnTo>
                <a:lnTo>
                  <a:pt x="1523" y="638"/>
                </a:lnTo>
                <a:lnTo>
                  <a:pt x="1532" y="629"/>
                </a:lnTo>
                <a:lnTo>
                  <a:pt x="1539" y="620"/>
                </a:lnTo>
                <a:lnTo>
                  <a:pt x="1547" y="610"/>
                </a:lnTo>
                <a:lnTo>
                  <a:pt x="1554" y="601"/>
                </a:lnTo>
                <a:lnTo>
                  <a:pt x="1560" y="591"/>
                </a:lnTo>
                <a:lnTo>
                  <a:pt x="1565" y="581"/>
                </a:lnTo>
                <a:lnTo>
                  <a:pt x="1571" y="569"/>
                </a:lnTo>
                <a:lnTo>
                  <a:pt x="1575" y="559"/>
                </a:lnTo>
                <a:lnTo>
                  <a:pt x="1579" y="548"/>
                </a:lnTo>
                <a:lnTo>
                  <a:pt x="1583" y="537"/>
                </a:lnTo>
                <a:lnTo>
                  <a:pt x="1586" y="525"/>
                </a:lnTo>
                <a:lnTo>
                  <a:pt x="1589" y="514"/>
                </a:lnTo>
                <a:lnTo>
                  <a:pt x="1590" y="501"/>
                </a:lnTo>
                <a:lnTo>
                  <a:pt x="1592" y="490"/>
                </a:lnTo>
                <a:lnTo>
                  <a:pt x="1592" y="477"/>
                </a:lnTo>
                <a:lnTo>
                  <a:pt x="1592" y="477"/>
                </a:lnTo>
                <a:lnTo>
                  <a:pt x="1592" y="477"/>
                </a:lnTo>
                <a:lnTo>
                  <a:pt x="1592" y="238"/>
                </a:lnTo>
                <a:lnTo>
                  <a:pt x="1592" y="226"/>
                </a:lnTo>
                <a:lnTo>
                  <a:pt x="1590" y="214"/>
                </a:lnTo>
                <a:lnTo>
                  <a:pt x="1589" y="202"/>
                </a:lnTo>
                <a:lnTo>
                  <a:pt x="1586" y="190"/>
                </a:lnTo>
                <a:lnTo>
                  <a:pt x="1583" y="179"/>
                </a:lnTo>
                <a:lnTo>
                  <a:pt x="1579" y="168"/>
                </a:lnTo>
                <a:lnTo>
                  <a:pt x="1575" y="156"/>
                </a:lnTo>
                <a:lnTo>
                  <a:pt x="1571" y="145"/>
                </a:lnTo>
                <a:lnTo>
                  <a:pt x="1565" y="135"/>
                </a:lnTo>
                <a:lnTo>
                  <a:pt x="1560" y="125"/>
                </a:lnTo>
                <a:lnTo>
                  <a:pt x="1554" y="115"/>
                </a:lnTo>
                <a:lnTo>
                  <a:pt x="1547" y="105"/>
                </a:lnTo>
                <a:lnTo>
                  <a:pt x="1539" y="96"/>
                </a:lnTo>
                <a:lnTo>
                  <a:pt x="1532" y="87"/>
                </a:lnTo>
                <a:lnTo>
                  <a:pt x="1523" y="78"/>
                </a:lnTo>
                <a:lnTo>
                  <a:pt x="1515" y="69"/>
                </a:lnTo>
                <a:lnTo>
                  <a:pt x="1505" y="62"/>
                </a:lnTo>
                <a:lnTo>
                  <a:pt x="1495" y="54"/>
                </a:lnTo>
                <a:lnTo>
                  <a:pt x="1486" y="48"/>
                </a:lnTo>
                <a:lnTo>
                  <a:pt x="1476" y="40"/>
                </a:lnTo>
                <a:lnTo>
                  <a:pt x="1465" y="34"/>
                </a:lnTo>
                <a:lnTo>
                  <a:pt x="1453" y="29"/>
                </a:lnTo>
                <a:lnTo>
                  <a:pt x="1442" y="24"/>
                </a:lnTo>
                <a:lnTo>
                  <a:pt x="1431" y="19"/>
                </a:lnTo>
                <a:lnTo>
                  <a:pt x="1419" y="14"/>
                </a:lnTo>
                <a:lnTo>
                  <a:pt x="1406" y="11"/>
                </a:lnTo>
                <a:lnTo>
                  <a:pt x="1393" y="7"/>
                </a:lnTo>
                <a:lnTo>
                  <a:pt x="1381" y="5"/>
                </a:lnTo>
                <a:lnTo>
                  <a:pt x="1368" y="2"/>
                </a:lnTo>
                <a:lnTo>
                  <a:pt x="1354" y="1"/>
                </a:lnTo>
                <a:lnTo>
                  <a:pt x="1342" y="0"/>
                </a:lnTo>
                <a:lnTo>
                  <a:pt x="1328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2"/>
                </a:lnTo>
                <a:lnTo>
                  <a:pt x="211" y="5"/>
                </a:lnTo>
                <a:lnTo>
                  <a:pt x="198" y="7"/>
                </a:lnTo>
                <a:lnTo>
                  <a:pt x="186" y="11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0"/>
                </a:lnTo>
                <a:lnTo>
                  <a:pt x="106" y="48"/>
                </a:lnTo>
                <a:lnTo>
                  <a:pt x="96" y="54"/>
                </a:lnTo>
                <a:lnTo>
                  <a:pt x="86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1" y="96"/>
                </a:lnTo>
                <a:lnTo>
                  <a:pt x="44" y="105"/>
                </a:lnTo>
                <a:lnTo>
                  <a:pt x="38" y="115"/>
                </a:lnTo>
                <a:lnTo>
                  <a:pt x="32" y="125"/>
                </a:lnTo>
                <a:lnTo>
                  <a:pt x="26" y="135"/>
                </a:lnTo>
                <a:lnTo>
                  <a:pt x="21" y="145"/>
                </a:lnTo>
                <a:lnTo>
                  <a:pt x="15" y="156"/>
                </a:lnTo>
                <a:lnTo>
                  <a:pt x="11" y="168"/>
                </a:lnTo>
                <a:lnTo>
                  <a:pt x="8" y="179"/>
                </a:lnTo>
                <a:lnTo>
                  <a:pt x="5" y="190"/>
                </a:lnTo>
                <a:lnTo>
                  <a:pt x="3" y="202"/>
                </a:lnTo>
                <a:lnTo>
                  <a:pt x="1" y="214"/>
                </a:lnTo>
                <a:lnTo>
                  <a:pt x="0" y="226"/>
                </a:lnTo>
                <a:lnTo>
                  <a:pt x="0" y="238"/>
                </a:lnTo>
                <a:lnTo>
                  <a:pt x="0" y="238"/>
                </a:lnTo>
                <a:lnTo>
                  <a:pt x="0" y="477"/>
                </a:lnTo>
                <a:lnTo>
                  <a:pt x="0" y="490"/>
                </a:lnTo>
                <a:lnTo>
                  <a:pt x="1" y="501"/>
                </a:lnTo>
                <a:lnTo>
                  <a:pt x="3" y="514"/>
                </a:lnTo>
                <a:lnTo>
                  <a:pt x="5" y="525"/>
                </a:lnTo>
                <a:lnTo>
                  <a:pt x="8" y="537"/>
                </a:lnTo>
                <a:lnTo>
                  <a:pt x="11" y="548"/>
                </a:lnTo>
                <a:lnTo>
                  <a:pt x="15" y="559"/>
                </a:lnTo>
                <a:lnTo>
                  <a:pt x="21" y="569"/>
                </a:lnTo>
                <a:lnTo>
                  <a:pt x="25" y="581"/>
                </a:lnTo>
                <a:lnTo>
                  <a:pt x="32" y="591"/>
                </a:lnTo>
                <a:lnTo>
                  <a:pt x="38" y="601"/>
                </a:lnTo>
                <a:lnTo>
                  <a:pt x="44" y="610"/>
                </a:lnTo>
                <a:lnTo>
                  <a:pt x="51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6" y="654"/>
                </a:lnTo>
                <a:lnTo>
                  <a:pt x="96" y="662"/>
                </a:lnTo>
                <a:lnTo>
                  <a:pt x="106" y="668"/>
                </a:lnTo>
                <a:lnTo>
                  <a:pt x="116" y="675"/>
                </a:lnTo>
                <a:lnTo>
                  <a:pt x="127" y="681"/>
                </a:lnTo>
                <a:lnTo>
                  <a:pt x="138" y="687"/>
                </a:lnTo>
                <a:lnTo>
                  <a:pt x="149" y="692"/>
                </a:lnTo>
                <a:lnTo>
                  <a:pt x="160" y="697"/>
                </a:lnTo>
                <a:lnTo>
                  <a:pt x="173" y="701"/>
                </a:lnTo>
                <a:lnTo>
                  <a:pt x="186" y="705"/>
                </a:lnTo>
                <a:lnTo>
                  <a:pt x="198" y="708"/>
                </a:lnTo>
                <a:lnTo>
                  <a:pt x="211" y="711"/>
                </a:lnTo>
                <a:lnTo>
                  <a:pt x="223" y="713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3292560"/>
            <a:ext cx="1319400" cy="734760"/>
          </a:xfrm>
          <a:custGeom>
            <a:avLst/>
            <a:gdLst/>
            <a:ahLst/>
            <a:rect l="l" t="t" r="r" b="b"/>
            <a:pathLst>
              <a:path w="1592" h="716">
                <a:moveTo>
                  <a:pt x="264" y="716"/>
                </a:moveTo>
                <a:lnTo>
                  <a:pt x="1328" y="716"/>
                </a:lnTo>
                <a:lnTo>
                  <a:pt x="1342" y="716"/>
                </a:lnTo>
                <a:lnTo>
                  <a:pt x="1354" y="715"/>
                </a:lnTo>
                <a:lnTo>
                  <a:pt x="1368" y="713"/>
                </a:lnTo>
                <a:lnTo>
                  <a:pt x="1381" y="711"/>
                </a:lnTo>
                <a:lnTo>
                  <a:pt x="1393" y="708"/>
                </a:lnTo>
                <a:lnTo>
                  <a:pt x="1406" y="705"/>
                </a:lnTo>
                <a:lnTo>
                  <a:pt x="1419" y="701"/>
                </a:lnTo>
                <a:lnTo>
                  <a:pt x="1430" y="697"/>
                </a:lnTo>
                <a:lnTo>
                  <a:pt x="1442" y="692"/>
                </a:lnTo>
                <a:lnTo>
                  <a:pt x="1453" y="687"/>
                </a:lnTo>
                <a:lnTo>
                  <a:pt x="1465" y="681"/>
                </a:lnTo>
                <a:lnTo>
                  <a:pt x="1476" y="675"/>
                </a:lnTo>
                <a:lnTo>
                  <a:pt x="1486" y="668"/>
                </a:lnTo>
                <a:lnTo>
                  <a:pt x="1495" y="662"/>
                </a:lnTo>
                <a:lnTo>
                  <a:pt x="1505" y="654"/>
                </a:lnTo>
                <a:lnTo>
                  <a:pt x="1515" y="645"/>
                </a:lnTo>
                <a:lnTo>
                  <a:pt x="1523" y="638"/>
                </a:lnTo>
                <a:lnTo>
                  <a:pt x="1532" y="629"/>
                </a:lnTo>
                <a:lnTo>
                  <a:pt x="1539" y="620"/>
                </a:lnTo>
                <a:lnTo>
                  <a:pt x="1547" y="610"/>
                </a:lnTo>
                <a:lnTo>
                  <a:pt x="1554" y="601"/>
                </a:lnTo>
                <a:lnTo>
                  <a:pt x="1560" y="591"/>
                </a:lnTo>
                <a:lnTo>
                  <a:pt x="1565" y="581"/>
                </a:lnTo>
                <a:lnTo>
                  <a:pt x="1571" y="569"/>
                </a:lnTo>
                <a:lnTo>
                  <a:pt x="1575" y="559"/>
                </a:lnTo>
                <a:lnTo>
                  <a:pt x="1579" y="548"/>
                </a:lnTo>
                <a:lnTo>
                  <a:pt x="1583" y="537"/>
                </a:lnTo>
                <a:lnTo>
                  <a:pt x="1586" y="525"/>
                </a:lnTo>
                <a:lnTo>
                  <a:pt x="1589" y="514"/>
                </a:lnTo>
                <a:lnTo>
                  <a:pt x="1590" y="501"/>
                </a:lnTo>
                <a:lnTo>
                  <a:pt x="1592" y="490"/>
                </a:lnTo>
                <a:lnTo>
                  <a:pt x="1592" y="477"/>
                </a:lnTo>
                <a:lnTo>
                  <a:pt x="1592" y="477"/>
                </a:lnTo>
                <a:lnTo>
                  <a:pt x="1592" y="477"/>
                </a:lnTo>
                <a:lnTo>
                  <a:pt x="1592" y="238"/>
                </a:lnTo>
                <a:lnTo>
                  <a:pt x="1592" y="226"/>
                </a:lnTo>
                <a:lnTo>
                  <a:pt x="1590" y="214"/>
                </a:lnTo>
                <a:lnTo>
                  <a:pt x="1589" y="202"/>
                </a:lnTo>
                <a:lnTo>
                  <a:pt x="1586" y="190"/>
                </a:lnTo>
                <a:lnTo>
                  <a:pt x="1583" y="179"/>
                </a:lnTo>
                <a:lnTo>
                  <a:pt x="1579" y="168"/>
                </a:lnTo>
                <a:lnTo>
                  <a:pt x="1575" y="156"/>
                </a:lnTo>
                <a:lnTo>
                  <a:pt x="1571" y="145"/>
                </a:lnTo>
                <a:lnTo>
                  <a:pt x="1565" y="135"/>
                </a:lnTo>
                <a:lnTo>
                  <a:pt x="1560" y="125"/>
                </a:lnTo>
                <a:lnTo>
                  <a:pt x="1554" y="115"/>
                </a:lnTo>
                <a:lnTo>
                  <a:pt x="1547" y="105"/>
                </a:lnTo>
                <a:lnTo>
                  <a:pt x="1539" y="96"/>
                </a:lnTo>
                <a:lnTo>
                  <a:pt x="1532" y="87"/>
                </a:lnTo>
                <a:lnTo>
                  <a:pt x="1523" y="78"/>
                </a:lnTo>
                <a:lnTo>
                  <a:pt x="1515" y="69"/>
                </a:lnTo>
                <a:lnTo>
                  <a:pt x="1505" y="62"/>
                </a:lnTo>
                <a:lnTo>
                  <a:pt x="1495" y="54"/>
                </a:lnTo>
                <a:lnTo>
                  <a:pt x="1486" y="48"/>
                </a:lnTo>
                <a:lnTo>
                  <a:pt x="1476" y="40"/>
                </a:lnTo>
                <a:lnTo>
                  <a:pt x="1465" y="34"/>
                </a:lnTo>
                <a:lnTo>
                  <a:pt x="1453" y="29"/>
                </a:lnTo>
                <a:lnTo>
                  <a:pt x="1442" y="24"/>
                </a:lnTo>
                <a:lnTo>
                  <a:pt x="1431" y="19"/>
                </a:lnTo>
                <a:lnTo>
                  <a:pt x="1419" y="14"/>
                </a:lnTo>
                <a:lnTo>
                  <a:pt x="1406" y="11"/>
                </a:lnTo>
                <a:lnTo>
                  <a:pt x="1393" y="7"/>
                </a:lnTo>
                <a:lnTo>
                  <a:pt x="1381" y="5"/>
                </a:lnTo>
                <a:lnTo>
                  <a:pt x="1368" y="2"/>
                </a:lnTo>
                <a:lnTo>
                  <a:pt x="1354" y="1"/>
                </a:lnTo>
                <a:lnTo>
                  <a:pt x="1342" y="0"/>
                </a:lnTo>
                <a:lnTo>
                  <a:pt x="1328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2"/>
                </a:lnTo>
                <a:lnTo>
                  <a:pt x="211" y="5"/>
                </a:lnTo>
                <a:lnTo>
                  <a:pt x="198" y="7"/>
                </a:lnTo>
                <a:lnTo>
                  <a:pt x="186" y="11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0"/>
                </a:lnTo>
                <a:lnTo>
                  <a:pt x="106" y="48"/>
                </a:lnTo>
                <a:lnTo>
                  <a:pt x="96" y="54"/>
                </a:lnTo>
                <a:lnTo>
                  <a:pt x="86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1" y="96"/>
                </a:lnTo>
                <a:lnTo>
                  <a:pt x="44" y="105"/>
                </a:lnTo>
                <a:lnTo>
                  <a:pt x="38" y="115"/>
                </a:lnTo>
                <a:lnTo>
                  <a:pt x="32" y="125"/>
                </a:lnTo>
                <a:lnTo>
                  <a:pt x="26" y="135"/>
                </a:lnTo>
                <a:lnTo>
                  <a:pt x="21" y="145"/>
                </a:lnTo>
                <a:lnTo>
                  <a:pt x="15" y="156"/>
                </a:lnTo>
                <a:lnTo>
                  <a:pt x="11" y="168"/>
                </a:lnTo>
                <a:lnTo>
                  <a:pt x="8" y="179"/>
                </a:lnTo>
                <a:lnTo>
                  <a:pt x="5" y="190"/>
                </a:lnTo>
                <a:lnTo>
                  <a:pt x="3" y="202"/>
                </a:lnTo>
                <a:lnTo>
                  <a:pt x="1" y="214"/>
                </a:lnTo>
                <a:lnTo>
                  <a:pt x="0" y="226"/>
                </a:lnTo>
                <a:lnTo>
                  <a:pt x="0" y="238"/>
                </a:lnTo>
                <a:lnTo>
                  <a:pt x="0" y="238"/>
                </a:lnTo>
                <a:lnTo>
                  <a:pt x="0" y="477"/>
                </a:lnTo>
                <a:lnTo>
                  <a:pt x="0" y="490"/>
                </a:lnTo>
                <a:lnTo>
                  <a:pt x="1" y="501"/>
                </a:lnTo>
                <a:lnTo>
                  <a:pt x="3" y="514"/>
                </a:lnTo>
                <a:lnTo>
                  <a:pt x="5" y="525"/>
                </a:lnTo>
                <a:lnTo>
                  <a:pt x="8" y="537"/>
                </a:lnTo>
                <a:lnTo>
                  <a:pt x="11" y="548"/>
                </a:lnTo>
                <a:lnTo>
                  <a:pt x="15" y="559"/>
                </a:lnTo>
                <a:lnTo>
                  <a:pt x="21" y="569"/>
                </a:lnTo>
                <a:lnTo>
                  <a:pt x="25" y="581"/>
                </a:lnTo>
                <a:lnTo>
                  <a:pt x="32" y="591"/>
                </a:lnTo>
                <a:lnTo>
                  <a:pt x="38" y="601"/>
                </a:lnTo>
                <a:lnTo>
                  <a:pt x="44" y="610"/>
                </a:lnTo>
                <a:lnTo>
                  <a:pt x="51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6" y="654"/>
                </a:lnTo>
                <a:lnTo>
                  <a:pt x="96" y="662"/>
                </a:lnTo>
                <a:lnTo>
                  <a:pt x="106" y="668"/>
                </a:lnTo>
                <a:lnTo>
                  <a:pt x="116" y="675"/>
                </a:lnTo>
                <a:lnTo>
                  <a:pt x="127" y="681"/>
                </a:lnTo>
                <a:lnTo>
                  <a:pt x="138" y="687"/>
                </a:lnTo>
                <a:lnTo>
                  <a:pt x="149" y="692"/>
                </a:lnTo>
                <a:lnTo>
                  <a:pt x="160" y="697"/>
                </a:lnTo>
                <a:lnTo>
                  <a:pt x="173" y="701"/>
                </a:lnTo>
                <a:lnTo>
                  <a:pt x="186" y="705"/>
                </a:lnTo>
                <a:lnTo>
                  <a:pt x="198" y="708"/>
                </a:lnTo>
                <a:lnTo>
                  <a:pt x="211" y="711"/>
                </a:lnTo>
                <a:lnTo>
                  <a:pt x="223" y="713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43800" y="3425760"/>
            <a:ext cx="1730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de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77880" y="3652920"/>
            <a:ext cx="1029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70720" y="3662280"/>
            <a:ext cx="1022040" cy="1800"/>
          </a:xfrm>
          <a:custGeom>
            <a:avLst/>
            <a:gdLst/>
            <a:ahLst/>
            <a:rect l="l" t="t" r="r" b="b"/>
            <a:pathLst>
              <a:path w="1235" h="2">
                <a:moveTo>
                  <a:pt x="0" y="2"/>
                </a:moveTo>
                <a:lnTo>
                  <a:pt x="252" y="2"/>
                </a:lnTo>
                <a:lnTo>
                  <a:pt x="252" y="0"/>
                </a:lnTo>
                <a:lnTo>
                  <a:pt x="123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81960" y="3605040"/>
            <a:ext cx="99720" cy="111240"/>
          </a:xfrm>
          <a:custGeom>
            <a:avLst/>
            <a:gdLst/>
            <a:ahLst/>
            <a:rect l="l" t="t" r="r" b="b"/>
            <a:pathLst>
              <a:path w="120" h="110">
                <a:moveTo>
                  <a:pt x="0" y="0"/>
                </a:moveTo>
                <a:lnTo>
                  <a:pt x="120" y="55"/>
                </a:lnTo>
                <a:lnTo>
                  <a:pt x="0" y="1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13360" y="3546360"/>
            <a:ext cx="660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7760" y="3546360"/>
            <a:ext cx="1231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49640" y="3662280"/>
            <a:ext cx="1225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2480" y="3606840"/>
            <a:ext cx="98280" cy="111240"/>
          </a:xfrm>
          <a:custGeom>
            <a:avLst/>
            <a:gdLst/>
            <a:ahLst/>
            <a:rect l="l" t="t" r="r" b="b"/>
            <a:pathLst>
              <a:path w="120" h="110">
                <a:moveTo>
                  <a:pt x="0" y="0"/>
                </a:moveTo>
                <a:lnTo>
                  <a:pt x="120" y="54"/>
                </a:lnTo>
                <a:lnTo>
                  <a:pt x="0" y="1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4160" y="3546360"/>
            <a:ext cx="6508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1800" y="3548160"/>
            <a:ext cx="1231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49640" y="3662280"/>
            <a:ext cx="3543120" cy="1130400"/>
          </a:xfrm>
          <a:custGeom>
            <a:avLst/>
            <a:gdLst/>
            <a:ahLst/>
            <a:rect l="l" t="t" r="r" b="b"/>
            <a:pathLst>
              <a:path w="4275" h="1101">
                <a:moveTo>
                  <a:pt x="0" y="0"/>
                </a:moveTo>
                <a:lnTo>
                  <a:pt x="252" y="0"/>
                </a:lnTo>
                <a:lnTo>
                  <a:pt x="252" y="1101"/>
                </a:lnTo>
                <a:lnTo>
                  <a:pt x="4275" y="110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81960" y="4734000"/>
            <a:ext cx="99720" cy="114120"/>
          </a:xfrm>
          <a:custGeom>
            <a:avLst/>
            <a:gdLst/>
            <a:ahLst/>
            <a:rect l="l" t="t" r="r" b="b"/>
            <a:pathLst>
              <a:path w="120" h="110">
                <a:moveTo>
                  <a:pt x="0" y="0"/>
                </a:moveTo>
                <a:lnTo>
                  <a:pt x="120" y="56"/>
                </a:lnTo>
                <a:lnTo>
                  <a:pt x="0" y="1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44840" y="4678200"/>
            <a:ext cx="28584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4400" y="4678200"/>
            <a:ext cx="875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4424400"/>
            <a:ext cx="1319400" cy="735120"/>
          </a:xfrm>
          <a:custGeom>
            <a:avLst/>
            <a:gdLst/>
            <a:ahLst/>
            <a:rect l="l" t="t" r="r" b="b"/>
            <a:pathLst>
              <a:path w="1592" h="716">
                <a:moveTo>
                  <a:pt x="264" y="716"/>
                </a:moveTo>
                <a:lnTo>
                  <a:pt x="1328" y="716"/>
                </a:lnTo>
                <a:lnTo>
                  <a:pt x="1342" y="716"/>
                </a:lnTo>
                <a:lnTo>
                  <a:pt x="1354" y="715"/>
                </a:lnTo>
                <a:lnTo>
                  <a:pt x="1368" y="714"/>
                </a:lnTo>
                <a:lnTo>
                  <a:pt x="1381" y="711"/>
                </a:lnTo>
                <a:lnTo>
                  <a:pt x="1393" y="709"/>
                </a:lnTo>
                <a:lnTo>
                  <a:pt x="1406" y="706"/>
                </a:lnTo>
                <a:lnTo>
                  <a:pt x="1419" y="703"/>
                </a:lnTo>
                <a:lnTo>
                  <a:pt x="1430" y="698"/>
                </a:lnTo>
                <a:lnTo>
                  <a:pt x="1442" y="692"/>
                </a:lnTo>
                <a:lnTo>
                  <a:pt x="1453" y="687"/>
                </a:lnTo>
                <a:lnTo>
                  <a:pt x="1465" y="682"/>
                </a:lnTo>
                <a:lnTo>
                  <a:pt x="1476" y="676"/>
                </a:lnTo>
                <a:lnTo>
                  <a:pt x="1486" y="668"/>
                </a:lnTo>
                <a:lnTo>
                  <a:pt x="1495" y="662"/>
                </a:lnTo>
                <a:lnTo>
                  <a:pt x="1505" y="655"/>
                </a:lnTo>
                <a:lnTo>
                  <a:pt x="1515" y="647"/>
                </a:lnTo>
                <a:lnTo>
                  <a:pt x="1523" y="638"/>
                </a:lnTo>
                <a:lnTo>
                  <a:pt x="1532" y="629"/>
                </a:lnTo>
                <a:lnTo>
                  <a:pt x="1539" y="620"/>
                </a:lnTo>
                <a:lnTo>
                  <a:pt x="1547" y="612"/>
                </a:lnTo>
                <a:lnTo>
                  <a:pt x="1554" y="602"/>
                </a:lnTo>
                <a:lnTo>
                  <a:pt x="1560" y="591"/>
                </a:lnTo>
                <a:lnTo>
                  <a:pt x="1565" y="581"/>
                </a:lnTo>
                <a:lnTo>
                  <a:pt x="1571" y="571"/>
                </a:lnTo>
                <a:lnTo>
                  <a:pt x="1575" y="560"/>
                </a:lnTo>
                <a:lnTo>
                  <a:pt x="1579" y="548"/>
                </a:lnTo>
                <a:lnTo>
                  <a:pt x="1583" y="537"/>
                </a:lnTo>
                <a:lnTo>
                  <a:pt x="1586" y="526"/>
                </a:lnTo>
                <a:lnTo>
                  <a:pt x="1589" y="514"/>
                </a:lnTo>
                <a:lnTo>
                  <a:pt x="1590" y="502"/>
                </a:lnTo>
                <a:lnTo>
                  <a:pt x="1592" y="490"/>
                </a:lnTo>
                <a:lnTo>
                  <a:pt x="1592" y="478"/>
                </a:lnTo>
                <a:lnTo>
                  <a:pt x="1592" y="478"/>
                </a:lnTo>
                <a:lnTo>
                  <a:pt x="1592" y="478"/>
                </a:lnTo>
                <a:lnTo>
                  <a:pt x="1592" y="239"/>
                </a:lnTo>
                <a:lnTo>
                  <a:pt x="1592" y="226"/>
                </a:lnTo>
                <a:lnTo>
                  <a:pt x="1590" y="215"/>
                </a:lnTo>
                <a:lnTo>
                  <a:pt x="1589" y="202"/>
                </a:lnTo>
                <a:lnTo>
                  <a:pt x="1586" y="191"/>
                </a:lnTo>
                <a:lnTo>
                  <a:pt x="1583" y="180"/>
                </a:lnTo>
                <a:lnTo>
                  <a:pt x="1579" y="168"/>
                </a:lnTo>
                <a:lnTo>
                  <a:pt x="1575" y="157"/>
                </a:lnTo>
                <a:lnTo>
                  <a:pt x="1571" y="146"/>
                </a:lnTo>
                <a:lnTo>
                  <a:pt x="1565" y="135"/>
                </a:lnTo>
                <a:lnTo>
                  <a:pt x="1560" y="125"/>
                </a:lnTo>
                <a:lnTo>
                  <a:pt x="1554" y="115"/>
                </a:lnTo>
                <a:lnTo>
                  <a:pt x="1547" y="105"/>
                </a:lnTo>
                <a:lnTo>
                  <a:pt x="1539" y="96"/>
                </a:lnTo>
                <a:lnTo>
                  <a:pt x="1532" y="88"/>
                </a:lnTo>
                <a:lnTo>
                  <a:pt x="1523" y="79"/>
                </a:lnTo>
                <a:lnTo>
                  <a:pt x="1515" y="70"/>
                </a:lnTo>
                <a:lnTo>
                  <a:pt x="1505" y="62"/>
                </a:lnTo>
                <a:lnTo>
                  <a:pt x="1495" y="55"/>
                </a:lnTo>
                <a:lnTo>
                  <a:pt x="1486" y="48"/>
                </a:lnTo>
                <a:lnTo>
                  <a:pt x="1476" y="41"/>
                </a:lnTo>
                <a:lnTo>
                  <a:pt x="1465" y="34"/>
                </a:lnTo>
                <a:lnTo>
                  <a:pt x="1453" y="29"/>
                </a:lnTo>
                <a:lnTo>
                  <a:pt x="1442" y="24"/>
                </a:lnTo>
                <a:lnTo>
                  <a:pt x="1431" y="19"/>
                </a:lnTo>
                <a:lnTo>
                  <a:pt x="1419" y="14"/>
                </a:lnTo>
                <a:lnTo>
                  <a:pt x="1406" y="12"/>
                </a:lnTo>
                <a:lnTo>
                  <a:pt x="1393" y="8"/>
                </a:lnTo>
                <a:lnTo>
                  <a:pt x="1381" y="5"/>
                </a:lnTo>
                <a:lnTo>
                  <a:pt x="1368" y="3"/>
                </a:lnTo>
                <a:lnTo>
                  <a:pt x="1354" y="2"/>
                </a:lnTo>
                <a:lnTo>
                  <a:pt x="1342" y="0"/>
                </a:lnTo>
                <a:lnTo>
                  <a:pt x="1328" y="0"/>
                </a:lnTo>
                <a:lnTo>
                  <a:pt x="264" y="0"/>
                </a:lnTo>
                <a:lnTo>
                  <a:pt x="250" y="0"/>
                </a:lnTo>
                <a:lnTo>
                  <a:pt x="236" y="2"/>
                </a:lnTo>
                <a:lnTo>
                  <a:pt x="223" y="3"/>
                </a:lnTo>
                <a:lnTo>
                  <a:pt x="211" y="5"/>
                </a:lnTo>
                <a:lnTo>
                  <a:pt x="198" y="8"/>
                </a:lnTo>
                <a:lnTo>
                  <a:pt x="186" y="12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1"/>
                </a:lnTo>
                <a:lnTo>
                  <a:pt x="106" y="48"/>
                </a:lnTo>
                <a:lnTo>
                  <a:pt x="96" y="55"/>
                </a:lnTo>
                <a:lnTo>
                  <a:pt x="86" y="62"/>
                </a:lnTo>
                <a:lnTo>
                  <a:pt x="77" y="70"/>
                </a:lnTo>
                <a:lnTo>
                  <a:pt x="68" y="79"/>
                </a:lnTo>
                <a:lnTo>
                  <a:pt x="60" y="88"/>
                </a:lnTo>
                <a:lnTo>
                  <a:pt x="51" y="96"/>
                </a:lnTo>
                <a:lnTo>
                  <a:pt x="44" y="105"/>
                </a:lnTo>
                <a:lnTo>
                  <a:pt x="38" y="115"/>
                </a:lnTo>
                <a:lnTo>
                  <a:pt x="32" y="125"/>
                </a:lnTo>
                <a:lnTo>
                  <a:pt x="26" y="135"/>
                </a:lnTo>
                <a:lnTo>
                  <a:pt x="21" y="146"/>
                </a:lnTo>
                <a:lnTo>
                  <a:pt x="15" y="157"/>
                </a:lnTo>
                <a:lnTo>
                  <a:pt x="11" y="168"/>
                </a:lnTo>
                <a:lnTo>
                  <a:pt x="8" y="180"/>
                </a:lnTo>
                <a:lnTo>
                  <a:pt x="5" y="191"/>
                </a:lnTo>
                <a:lnTo>
                  <a:pt x="3" y="202"/>
                </a:lnTo>
                <a:lnTo>
                  <a:pt x="1" y="215"/>
                </a:lnTo>
                <a:lnTo>
                  <a:pt x="0" y="226"/>
                </a:lnTo>
                <a:lnTo>
                  <a:pt x="0" y="239"/>
                </a:lnTo>
                <a:lnTo>
                  <a:pt x="0" y="478"/>
                </a:lnTo>
                <a:lnTo>
                  <a:pt x="0" y="490"/>
                </a:lnTo>
                <a:lnTo>
                  <a:pt x="1" y="502"/>
                </a:lnTo>
                <a:lnTo>
                  <a:pt x="3" y="514"/>
                </a:lnTo>
                <a:lnTo>
                  <a:pt x="5" y="526"/>
                </a:lnTo>
                <a:lnTo>
                  <a:pt x="8" y="537"/>
                </a:lnTo>
                <a:lnTo>
                  <a:pt x="11" y="548"/>
                </a:lnTo>
                <a:lnTo>
                  <a:pt x="15" y="560"/>
                </a:lnTo>
                <a:lnTo>
                  <a:pt x="21" y="571"/>
                </a:lnTo>
                <a:lnTo>
                  <a:pt x="25" y="581"/>
                </a:lnTo>
                <a:lnTo>
                  <a:pt x="32" y="591"/>
                </a:lnTo>
                <a:lnTo>
                  <a:pt x="38" y="602"/>
                </a:lnTo>
                <a:lnTo>
                  <a:pt x="44" y="612"/>
                </a:lnTo>
                <a:lnTo>
                  <a:pt x="51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7"/>
                </a:lnTo>
                <a:lnTo>
                  <a:pt x="86" y="655"/>
                </a:lnTo>
                <a:lnTo>
                  <a:pt x="96" y="662"/>
                </a:lnTo>
                <a:lnTo>
                  <a:pt x="106" y="668"/>
                </a:lnTo>
                <a:lnTo>
                  <a:pt x="116" y="676"/>
                </a:lnTo>
                <a:lnTo>
                  <a:pt x="127" y="682"/>
                </a:lnTo>
                <a:lnTo>
                  <a:pt x="138" y="687"/>
                </a:lnTo>
                <a:lnTo>
                  <a:pt x="149" y="692"/>
                </a:lnTo>
                <a:lnTo>
                  <a:pt x="160" y="698"/>
                </a:lnTo>
                <a:lnTo>
                  <a:pt x="173" y="703"/>
                </a:lnTo>
                <a:lnTo>
                  <a:pt x="186" y="706"/>
                </a:lnTo>
                <a:lnTo>
                  <a:pt x="198" y="709"/>
                </a:lnTo>
                <a:lnTo>
                  <a:pt x="211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4424400"/>
            <a:ext cx="1319400" cy="735120"/>
          </a:xfrm>
          <a:custGeom>
            <a:avLst/>
            <a:gdLst/>
            <a:ahLst/>
            <a:rect l="l" t="t" r="r" b="b"/>
            <a:pathLst>
              <a:path w="1592" h="716">
                <a:moveTo>
                  <a:pt x="264" y="716"/>
                </a:moveTo>
                <a:lnTo>
                  <a:pt x="1328" y="716"/>
                </a:lnTo>
                <a:lnTo>
                  <a:pt x="1342" y="716"/>
                </a:lnTo>
                <a:lnTo>
                  <a:pt x="1354" y="715"/>
                </a:lnTo>
                <a:lnTo>
                  <a:pt x="1368" y="714"/>
                </a:lnTo>
                <a:lnTo>
                  <a:pt x="1381" y="711"/>
                </a:lnTo>
                <a:lnTo>
                  <a:pt x="1393" y="709"/>
                </a:lnTo>
                <a:lnTo>
                  <a:pt x="1406" y="706"/>
                </a:lnTo>
                <a:lnTo>
                  <a:pt x="1419" y="703"/>
                </a:lnTo>
                <a:lnTo>
                  <a:pt x="1430" y="698"/>
                </a:lnTo>
                <a:lnTo>
                  <a:pt x="1442" y="692"/>
                </a:lnTo>
                <a:lnTo>
                  <a:pt x="1453" y="687"/>
                </a:lnTo>
                <a:lnTo>
                  <a:pt x="1465" y="682"/>
                </a:lnTo>
                <a:lnTo>
                  <a:pt x="1476" y="676"/>
                </a:lnTo>
                <a:lnTo>
                  <a:pt x="1486" y="668"/>
                </a:lnTo>
                <a:lnTo>
                  <a:pt x="1495" y="662"/>
                </a:lnTo>
                <a:lnTo>
                  <a:pt x="1505" y="655"/>
                </a:lnTo>
                <a:lnTo>
                  <a:pt x="1515" y="647"/>
                </a:lnTo>
                <a:lnTo>
                  <a:pt x="1523" y="638"/>
                </a:lnTo>
                <a:lnTo>
                  <a:pt x="1532" y="629"/>
                </a:lnTo>
                <a:lnTo>
                  <a:pt x="1539" y="620"/>
                </a:lnTo>
                <a:lnTo>
                  <a:pt x="1547" y="612"/>
                </a:lnTo>
                <a:lnTo>
                  <a:pt x="1554" y="602"/>
                </a:lnTo>
                <a:lnTo>
                  <a:pt x="1560" y="591"/>
                </a:lnTo>
                <a:lnTo>
                  <a:pt x="1565" y="581"/>
                </a:lnTo>
                <a:lnTo>
                  <a:pt x="1571" y="571"/>
                </a:lnTo>
                <a:lnTo>
                  <a:pt x="1575" y="560"/>
                </a:lnTo>
                <a:lnTo>
                  <a:pt x="1579" y="548"/>
                </a:lnTo>
                <a:lnTo>
                  <a:pt x="1583" y="537"/>
                </a:lnTo>
                <a:lnTo>
                  <a:pt x="1586" y="526"/>
                </a:lnTo>
                <a:lnTo>
                  <a:pt x="1589" y="514"/>
                </a:lnTo>
                <a:lnTo>
                  <a:pt x="1590" y="502"/>
                </a:lnTo>
                <a:lnTo>
                  <a:pt x="1592" y="490"/>
                </a:lnTo>
                <a:lnTo>
                  <a:pt x="1592" y="478"/>
                </a:lnTo>
                <a:lnTo>
                  <a:pt x="1592" y="478"/>
                </a:lnTo>
                <a:lnTo>
                  <a:pt x="1592" y="478"/>
                </a:lnTo>
                <a:lnTo>
                  <a:pt x="1592" y="239"/>
                </a:lnTo>
                <a:lnTo>
                  <a:pt x="1592" y="226"/>
                </a:lnTo>
                <a:lnTo>
                  <a:pt x="1590" y="215"/>
                </a:lnTo>
                <a:lnTo>
                  <a:pt x="1589" y="202"/>
                </a:lnTo>
                <a:lnTo>
                  <a:pt x="1586" y="191"/>
                </a:lnTo>
                <a:lnTo>
                  <a:pt x="1583" y="180"/>
                </a:lnTo>
                <a:lnTo>
                  <a:pt x="1579" y="168"/>
                </a:lnTo>
                <a:lnTo>
                  <a:pt x="1575" y="157"/>
                </a:lnTo>
                <a:lnTo>
                  <a:pt x="1571" y="146"/>
                </a:lnTo>
                <a:lnTo>
                  <a:pt x="1565" y="135"/>
                </a:lnTo>
                <a:lnTo>
                  <a:pt x="1560" y="125"/>
                </a:lnTo>
                <a:lnTo>
                  <a:pt x="1554" y="115"/>
                </a:lnTo>
                <a:lnTo>
                  <a:pt x="1547" y="105"/>
                </a:lnTo>
                <a:lnTo>
                  <a:pt x="1539" y="96"/>
                </a:lnTo>
                <a:lnTo>
                  <a:pt x="1532" y="88"/>
                </a:lnTo>
                <a:lnTo>
                  <a:pt x="1523" y="79"/>
                </a:lnTo>
                <a:lnTo>
                  <a:pt x="1515" y="70"/>
                </a:lnTo>
                <a:lnTo>
                  <a:pt x="1505" y="62"/>
                </a:lnTo>
                <a:lnTo>
                  <a:pt x="1495" y="55"/>
                </a:lnTo>
                <a:lnTo>
                  <a:pt x="1486" y="48"/>
                </a:lnTo>
                <a:lnTo>
                  <a:pt x="1476" y="41"/>
                </a:lnTo>
                <a:lnTo>
                  <a:pt x="1465" y="34"/>
                </a:lnTo>
                <a:lnTo>
                  <a:pt x="1453" y="29"/>
                </a:lnTo>
                <a:lnTo>
                  <a:pt x="1442" y="24"/>
                </a:lnTo>
                <a:lnTo>
                  <a:pt x="1431" y="19"/>
                </a:lnTo>
                <a:lnTo>
                  <a:pt x="1419" y="14"/>
                </a:lnTo>
                <a:lnTo>
                  <a:pt x="1406" y="12"/>
                </a:lnTo>
                <a:lnTo>
                  <a:pt x="1393" y="8"/>
                </a:lnTo>
                <a:lnTo>
                  <a:pt x="1381" y="5"/>
                </a:lnTo>
                <a:lnTo>
                  <a:pt x="1368" y="3"/>
                </a:lnTo>
                <a:lnTo>
                  <a:pt x="1354" y="2"/>
                </a:lnTo>
                <a:lnTo>
                  <a:pt x="1342" y="0"/>
                </a:lnTo>
                <a:lnTo>
                  <a:pt x="1328" y="0"/>
                </a:lnTo>
                <a:lnTo>
                  <a:pt x="264" y="0"/>
                </a:lnTo>
                <a:lnTo>
                  <a:pt x="250" y="0"/>
                </a:lnTo>
                <a:lnTo>
                  <a:pt x="236" y="2"/>
                </a:lnTo>
                <a:lnTo>
                  <a:pt x="223" y="3"/>
                </a:lnTo>
                <a:lnTo>
                  <a:pt x="211" y="5"/>
                </a:lnTo>
                <a:lnTo>
                  <a:pt x="198" y="8"/>
                </a:lnTo>
                <a:lnTo>
                  <a:pt x="186" y="12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1"/>
                </a:lnTo>
                <a:lnTo>
                  <a:pt x="106" y="48"/>
                </a:lnTo>
                <a:lnTo>
                  <a:pt x="96" y="55"/>
                </a:lnTo>
                <a:lnTo>
                  <a:pt x="86" y="62"/>
                </a:lnTo>
                <a:lnTo>
                  <a:pt x="77" y="70"/>
                </a:lnTo>
                <a:lnTo>
                  <a:pt x="68" y="79"/>
                </a:lnTo>
                <a:lnTo>
                  <a:pt x="60" y="88"/>
                </a:lnTo>
                <a:lnTo>
                  <a:pt x="51" y="96"/>
                </a:lnTo>
                <a:lnTo>
                  <a:pt x="44" y="105"/>
                </a:lnTo>
                <a:lnTo>
                  <a:pt x="38" y="115"/>
                </a:lnTo>
                <a:lnTo>
                  <a:pt x="32" y="125"/>
                </a:lnTo>
                <a:lnTo>
                  <a:pt x="26" y="135"/>
                </a:lnTo>
                <a:lnTo>
                  <a:pt x="21" y="146"/>
                </a:lnTo>
                <a:lnTo>
                  <a:pt x="15" y="157"/>
                </a:lnTo>
                <a:lnTo>
                  <a:pt x="11" y="168"/>
                </a:lnTo>
                <a:lnTo>
                  <a:pt x="8" y="180"/>
                </a:lnTo>
                <a:lnTo>
                  <a:pt x="5" y="191"/>
                </a:lnTo>
                <a:lnTo>
                  <a:pt x="3" y="202"/>
                </a:lnTo>
                <a:lnTo>
                  <a:pt x="1" y="215"/>
                </a:lnTo>
                <a:lnTo>
                  <a:pt x="0" y="226"/>
                </a:lnTo>
                <a:lnTo>
                  <a:pt x="0" y="239"/>
                </a:lnTo>
                <a:lnTo>
                  <a:pt x="0" y="478"/>
                </a:lnTo>
                <a:lnTo>
                  <a:pt x="0" y="490"/>
                </a:lnTo>
                <a:lnTo>
                  <a:pt x="1" y="502"/>
                </a:lnTo>
                <a:lnTo>
                  <a:pt x="3" y="514"/>
                </a:lnTo>
                <a:lnTo>
                  <a:pt x="5" y="526"/>
                </a:lnTo>
                <a:lnTo>
                  <a:pt x="8" y="537"/>
                </a:lnTo>
                <a:lnTo>
                  <a:pt x="11" y="548"/>
                </a:lnTo>
                <a:lnTo>
                  <a:pt x="15" y="560"/>
                </a:lnTo>
                <a:lnTo>
                  <a:pt x="21" y="571"/>
                </a:lnTo>
                <a:lnTo>
                  <a:pt x="25" y="581"/>
                </a:lnTo>
                <a:lnTo>
                  <a:pt x="32" y="591"/>
                </a:lnTo>
                <a:lnTo>
                  <a:pt x="38" y="602"/>
                </a:lnTo>
                <a:lnTo>
                  <a:pt x="44" y="612"/>
                </a:lnTo>
                <a:lnTo>
                  <a:pt x="51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7"/>
                </a:lnTo>
                <a:lnTo>
                  <a:pt x="86" y="655"/>
                </a:lnTo>
                <a:lnTo>
                  <a:pt x="96" y="662"/>
                </a:lnTo>
                <a:lnTo>
                  <a:pt x="106" y="668"/>
                </a:lnTo>
                <a:lnTo>
                  <a:pt x="116" y="676"/>
                </a:lnTo>
                <a:lnTo>
                  <a:pt x="127" y="682"/>
                </a:lnTo>
                <a:lnTo>
                  <a:pt x="138" y="687"/>
                </a:lnTo>
                <a:lnTo>
                  <a:pt x="149" y="692"/>
                </a:lnTo>
                <a:lnTo>
                  <a:pt x="160" y="698"/>
                </a:lnTo>
                <a:lnTo>
                  <a:pt x="173" y="703"/>
                </a:lnTo>
                <a:lnTo>
                  <a:pt x="186" y="706"/>
                </a:lnTo>
                <a:lnTo>
                  <a:pt x="198" y="709"/>
                </a:lnTo>
                <a:lnTo>
                  <a:pt x="211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26600" y="4559400"/>
            <a:ext cx="1551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66200" y="4786200"/>
            <a:ext cx="1471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ailed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641600" y="1700280"/>
            <a:ext cx="5798880" cy="2724120"/>
            <a:chOff x="1641600" y="1700280"/>
            <a:chExt cx="5798880" cy="2724120"/>
          </a:xfrm>
        </p:grpSpPr>
        <p:sp>
          <p:nvSpPr>
            <p:cNvPr id="214" name=""/>
            <p:cNvSpPr/>
            <p:nvPr/>
          </p:nvSpPr>
          <p:spPr>
            <a:xfrm>
              <a:off x="1641600" y="1700280"/>
              <a:ext cx="4308480" cy="1164960"/>
            </a:xfrm>
            <a:custGeom>
              <a:avLst/>
              <a:gdLst/>
              <a:ahLst/>
              <a:rect l="l" t="t" r="r" b="b"/>
              <a:pathLst>
                <a:path w="5194" h="1137">
                  <a:moveTo>
                    <a:pt x="5194" y="569"/>
                  </a:moveTo>
                  <a:lnTo>
                    <a:pt x="5193" y="553"/>
                  </a:lnTo>
                  <a:lnTo>
                    <a:pt x="5190" y="540"/>
                  </a:lnTo>
                  <a:lnTo>
                    <a:pt x="5186" y="524"/>
                  </a:lnTo>
                  <a:lnTo>
                    <a:pt x="5180" y="511"/>
                  </a:lnTo>
                  <a:lnTo>
                    <a:pt x="5173" y="497"/>
                  </a:lnTo>
                  <a:lnTo>
                    <a:pt x="5164" y="481"/>
                  </a:lnTo>
                  <a:lnTo>
                    <a:pt x="5154" y="468"/>
                  </a:lnTo>
                  <a:lnTo>
                    <a:pt x="5141" y="454"/>
                  </a:lnTo>
                  <a:lnTo>
                    <a:pt x="5127" y="440"/>
                  </a:lnTo>
                  <a:lnTo>
                    <a:pt x="5112" y="427"/>
                  </a:lnTo>
                  <a:lnTo>
                    <a:pt x="5095" y="413"/>
                  </a:lnTo>
                  <a:lnTo>
                    <a:pt x="5077" y="399"/>
                  </a:lnTo>
                  <a:lnTo>
                    <a:pt x="5058" y="387"/>
                  </a:lnTo>
                  <a:lnTo>
                    <a:pt x="5037" y="373"/>
                  </a:lnTo>
                  <a:lnTo>
                    <a:pt x="5014" y="360"/>
                  </a:lnTo>
                  <a:lnTo>
                    <a:pt x="4991" y="348"/>
                  </a:lnTo>
                  <a:lnTo>
                    <a:pt x="4965" y="335"/>
                  </a:lnTo>
                  <a:lnTo>
                    <a:pt x="4937" y="322"/>
                  </a:lnTo>
                  <a:lnTo>
                    <a:pt x="4910" y="310"/>
                  </a:lnTo>
                  <a:lnTo>
                    <a:pt x="4880" y="298"/>
                  </a:lnTo>
                  <a:lnTo>
                    <a:pt x="4850" y="286"/>
                  </a:lnTo>
                  <a:lnTo>
                    <a:pt x="4819" y="274"/>
                  </a:lnTo>
                  <a:lnTo>
                    <a:pt x="4785" y="262"/>
                  </a:lnTo>
                  <a:lnTo>
                    <a:pt x="4750" y="250"/>
                  </a:lnTo>
                  <a:lnTo>
                    <a:pt x="4715" y="240"/>
                  </a:lnTo>
                  <a:lnTo>
                    <a:pt x="4678" y="229"/>
                  </a:lnTo>
                  <a:lnTo>
                    <a:pt x="4640" y="217"/>
                  </a:lnTo>
                  <a:lnTo>
                    <a:pt x="4601" y="207"/>
                  </a:lnTo>
                  <a:lnTo>
                    <a:pt x="4560" y="197"/>
                  </a:lnTo>
                  <a:lnTo>
                    <a:pt x="4520" y="186"/>
                  </a:lnTo>
                  <a:lnTo>
                    <a:pt x="4477" y="177"/>
                  </a:lnTo>
                  <a:lnTo>
                    <a:pt x="4433" y="167"/>
                  </a:lnTo>
                  <a:lnTo>
                    <a:pt x="4389" y="157"/>
                  </a:lnTo>
                  <a:lnTo>
                    <a:pt x="4344" y="148"/>
                  </a:lnTo>
                  <a:lnTo>
                    <a:pt x="4297" y="139"/>
                  </a:lnTo>
                  <a:lnTo>
                    <a:pt x="4249" y="130"/>
                  </a:lnTo>
                  <a:lnTo>
                    <a:pt x="4200" y="122"/>
                  </a:lnTo>
                  <a:lnTo>
                    <a:pt x="4151" y="113"/>
                  </a:lnTo>
                  <a:lnTo>
                    <a:pt x="4049" y="98"/>
                  </a:lnTo>
                  <a:lnTo>
                    <a:pt x="3943" y="82"/>
                  </a:lnTo>
                  <a:lnTo>
                    <a:pt x="3834" y="68"/>
                  </a:lnTo>
                  <a:lnTo>
                    <a:pt x="3723" y="56"/>
                  </a:lnTo>
                  <a:lnTo>
                    <a:pt x="3608" y="44"/>
                  </a:lnTo>
                  <a:lnTo>
                    <a:pt x="3489" y="34"/>
                  </a:lnTo>
                  <a:lnTo>
                    <a:pt x="3369" y="26"/>
                  </a:lnTo>
                  <a:lnTo>
                    <a:pt x="3246" y="18"/>
                  </a:lnTo>
                  <a:lnTo>
                    <a:pt x="3121" y="12"/>
                  </a:lnTo>
                  <a:lnTo>
                    <a:pt x="2992" y="7"/>
                  </a:lnTo>
                  <a:lnTo>
                    <a:pt x="2862" y="3"/>
                  </a:lnTo>
                  <a:lnTo>
                    <a:pt x="2731" y="2"/>
                  </a:lnTo>
                  <a:lnTo>
                    <a:pt x="2597" y="0"/>
                  </a:lnTo>
                  <a:lnTo>
                    <a:pt x="2463" y="2"/>
                  </a:lnTo>
                  <a:lnTo>
                    <a:pt x="2332" y="3"/>
                  </a:lnTo>
                  <a:lnTo>
                    <a:pt x="2202" y="7"/>
                  </a:lnTo>
                  <a:lnTo>
                    <a:pt x="2074" y="12"/>
                  </a:lnTo>
                  <a:lnTo>
                    <a:pt x="1948" y="18"/>
                  </a:lnTo>
                  <a:lnTo>
                    <a:pt x="1825" y="26"/>
                  </a:lnTo>
                  <a:lnTo>
                    <a:pt x="1703" y="34"/>
                  </a:lnTo>
                  <a:lnTo>
                    <a:pt x="1586" y="44"/>
                  </a:lnTo>
                  <a:lnTo>
                    <a:pt x="1472" y="56"/>
                  </a:lnTo>
                  <a:lnTo>
                    <a:pt x="1359" y="68"/>
                  </a:lnTo>
                  <a:lnTo>
                    <a:pt x="1251" y="82"/>
                  </a:lnTo>
                  <a:lnTo>
                    <a:pt x="1145" y="98"/>
                  </a:lnTo>
                  <a:lnTo>
                    <a:pt x="1043" y="113"/>
                  </a:lnTo>
                  <a:lnTo>
                    <a:pt x="994" y="122"/>
                  </a:lnTo>
                  <a:lnTo>
                    <a:pt x="945" y="130"/>
                  </a:lnTo>
                  <a:lnTo>
                    <a:pt x="898" y="139"/>
                  </a:lnTo>
                  <a:lnTo>
                    <a:pt x="850" y="148"/>
                  </a:lnTo>
                  <a:lnTo>
                    <a:pt x="806" y="157"/>
                  </a:lnTo>
                  <a:lnTo>
                    <a:pt x="761" y="167"/>
                  </a:lnTo>
                  <a:lnTo>
                    <a:pt x="718" y="177"/>
                  </a:lnTo>
                  <a:lnTo>
                    <a:pt x="674" y="186"/>
                  </a:lnTo>
                  <a:lnTo>
                    <a:pt x="634" y="197"/>
                  </a:lnTo>
                  <a:lnTo>
                    <a:pt x="593" y="207"/>
                  </a:lnTo>
                  <a:lnTo>
                    <a:pt x="554" y="217"/>
                  </a:lnTo>
                  <a:lnTo>
                    <a:pt x="515" y="229"/>
                  </a:lnTo>
                  <a:lnTo>
                    <a:pt x="479" y="240"/>
                  </a:lnTo>
                  <a:lnTo>
                    <a:pt x="444" y="250"/>
                  </a:lnTo>
                  <a:lnTo>
                    <a:pt x="409" y="262"/>
                  </a:lnTo>
                  <a:lnTo>
                    <a:pt x="376" y="274"/>
                  </a:lnTo>
                  <a:lnTo>
                    <a:pt x="343" y="286"/>
                  </a:lnTo>
                  <a:lnTo>
                    <a:pt x="313" y="298"/>
                  </a:lnTo>
                  <a:lnTo>
                    <a:pt x="283" y="310"/>
                  </a:lnTo>
                  <a:lnTo>
                    <a:pt x="255" y="322"/>
                  </a:lnTo>
                  <a:lnTo>
                    <a:pt x="229" y="335"/>
                  </a:lnTo>
                  <a:lnTo>
                    <a:pt x="204" y="348"/>
                  </a:lnTo>
                  <a:lnTo>
                    <a:pt x="180" y="360"/>
                  </a:lnTo>
                  <a:lnTo>
                    <a:pt x="158" y="373"/>
                  </a:lnTo>
                  <a:lnTo>
                    <a:pt x="137" y="387"/>
                  </a:lnTo>
                  <a:lnTo>
                    <a:pt x="117" y="399"/>
                  </a:lnTo>
                  <a:lnTo>
                    <a:pt x="98" y="413"/>
                  </a:lnTo>
                  <a:lnTo>
                    <a:pt x="81" y="427"/>
                  </a:lnTo>
                  <a:lnTo>
                    <a:pt x="66" y="440"/>
                  </a:lnTo>
                  <a:lnTo>
                    <a:pt x="53" y="454"/>
                  </a:lnTo>
                  <a:lnTo>
                    <a:pt x="40" y="468"/>
                  </a:lnTo>
                  <a:lnTo>
                    <a:pt x="29" y="481"/>
                  </a:lnTo>
                  <a:lnTo>
                    <a:pt x="21" y="497"/>
                  </a:lnTo>
                  <a:lnTo>
                    <a:pt x="12" y="511"/>
                  </a:lnTo>
                  <a:lnTo>
                    <a:pt x="7" y="524"/>
                  </a:lnTo>
                  <a:lnTo>
                    <a:pt x="3" y="540"/>
                  </a:lnTo>
                  <a:lnTo>
                    <a:pt x="0" y="553"/>
                  </a:lnTo>
                  <a:lnTo>
                    <a:pt x="0" y="569"/>
                  </a:lnTo>
                  <a:lnTo>
                    <a:pt x="0" y="584"/>
                  </a:lnTo>
                  <a:lnTo>
                    <a:pt x="3" y="598"/>
                  </a:lnTo>
                  <a:lnTo>
                    <a:pt x="7" y="613"/>
                  </a:lnTo>
                  <a:lnTo>
                    <a:pt x="12" y="627"/>
                  </a:lnTo>
                  <a:lnTo>
                    <a:pt x="21" y="641"/>
                  </a:lnTo>
                  <a:lnTo>
                    <a:pt x="29" y="656"/>
                  </a:lnTo>
                  <a:lnTo>
                    <a:pt x="40" y="670"/>
                  </a:lnTo>
                  <a:lnTo>
                    <a:pt x="53" y="684"/>
                  </a:lnTo>
                  <a:lnTo>
                    <a:pt x="66" y="697"/>
                  </a:lnTo>
                  <a:lnTo>
                    <a:pt x="81" y="710"/>
                  </a:lnTo>
                  <a:lnTo>
                    <a:pt x="98" y="724"/>
                  </a:lnTo>
                  <a:lnTo>
                    <a:pt x="116" y="738"/>
                  </a:lnTo>
                  <a:lnTo>
                    <a:pt x="135" y="750"/>
                  </a:lnTo>
                  <a:lnTo>
                    <a:pt x="158" y="764"/>
                  </a:lnTo>
                  <a:lnTo>
                    <a:pt x="180" y="777"/>
                  </a:lnTo>
                  <a:lnTo>
                    <a:pt x="204" y="790"/>
                  </a:lnTo>
                  <a:lnTo>
                    <a:pt x="229" y="802"/>
                  </a:lnTo>
                  <a:lnTo>
                    <a:pt x="255" y="815"/>
                  </a:lnTo>
                  <a:lnTo>
                    <a:pt x="283" y="828"/>
                  </a:lnTo>
                  <a:lnTo>
                    <a:pt x="313" y="840"/>
                  </a:lnTo>
                  <a:lnTo>
                    <a:pt x="343" y="852"/>
                  </a:lnTo>
                  <a:lnTo>
                    <a:pt x="376" y="863"/>
                  </a:lnTo>
                  <a:lnTo>
                    <a:pt x="409" y="876"/>
                  </a:lnTo>
                  <a:lnTo>
                    <a:pt x="443" y="887"/>
                  </a:lnTo>
                  <a:lnTo>
                    <a:pt x="479" y="898"/>
                  </a:lnTo>
                  <a:lnTo>
                    <a:pt x="515" y="908"/>
                  </a:lnTo>
                  <a:lnTo>
                    <a:pt x="553" y="920"/>
                  </a:lnTo>
                  <a:lnTo>
                    <a:pt x="593" y="930"/>
                  </a:lnTo>
                  <a:lnTo>
                    <a:pt x="632" y="941"/>
                  </a:lnTo>
                  <a:lnTo>
                    <a:pt x="674" y="951"/>
                  </a:lnTo>
                  <a:lnTo>
                    <a:pt x="716" y="960"/>
                  </a:lnTo>
                  <a:lnTo>
                    <a:pt x="761" y="970"/>
                  </a:lnTo>
                  <a:lnTo>
                    <a:pt x="804" y="980"/>
                  </a:lnTo>
                  <a:lnTo>
                    <a:pt x="850" y="989"/>
                  </a:lnTo>
                  <a:lnTo>
                    <a:pt x="898" y="998"/>
                  </a:lnTo>
                  <a:lnTo>
                    <a:pt x="945" y="1007"/>
                  </a:lnTo>
                  <a:lnTo>
                    <a:pt x="993" y="1016"/>
                  </a:lnTo>
                  <a:lnTo>
                    <a:pt x="1043" y="1025"/>
                  </a:lnTo>
                  <a:lnTo>
                    <a:pt x="1145" y="1040"/>
                  </a:lnTo>
                  <a:lnTo>
                    <a:pt x="1250" y="1055"/>
                  </a:lnTo>
                  <a:lnTo>
                    <a:pt x="1359" y="1069"/>
                  </a:lnTo>
                  <a:lnTo>
                    <a:pt x="1470" y="1081"/>
                  </a:lnTo>
                  <a:lnTo>
                    <a:pt x="1586" y="1093"/>
                  </a:lnTo>
                  <a:lnTo>
                    <a:pt x="1703" y="1103"/>
                  </a:lnTo>
                  <a:lnTo>
                    <a:pt x="1825" y="1112"/>
                  </a:lnTo>
                  <a:lnTo>
                    <a:pt x="1948" y="1119"/>
                  </a:lnTo>
                  <a:lnTo>
                    <a:pt x="2074" y="1126"/>
                  </a:lnTo>
                  <a:lnTo>
                    <a:pt x="2202" y="1131"/>
                  </a:lnTo>
                  <a:lnTo>
                    <a:pt x="2332" y="1134"/>
                  </a:lnTo>
                  <a:lnTo>
                    <a:pt x="2463" y="1136"/>
                  </a:lnTo>
                  <a:lnTo>
                    <a:pt x="2597" y="1137"/>
                  </a:lnTo>
                  <a:lnTo>
                    <a:pt x="2730" y="1136"/>
                  </a:lnTo>
                  <a:lnTo>
                    <a:pt x="2862" y="1134"/>
                  </a:lnTo>
                  <a:lnTo>
                    <a:pt x="2992" y="1131"/>
                  </a:lnTo>
                  <a:lnTo>
                    <a:pt x="3121" y="1126"/>
                  </a:lnTo>
                  <a:lnTo>
                    <a:pt x="3246" y="1119"/>
                  </a:lnTo>
                  <a:lnTo>
                    <a:pt x="3369" y="1112"/>
                  </a:lnTo>
                  <a:lnTo>
                    <a:pt x="3489" y="1103"/>
                  </a:lnTo>
                  <a:lnTo>
                    <a:pt x="3608" y="1093"/>
                  </a:lnTo>
                  <a:lnTo>
                    <a:pt x="3723" y="1081"/>
                  </a:lnTo>
                  <a:lnTo>
                    <a:pt x="3834" y="1069"/>
                  </a:lnTo>
                  <a:lnTo>
                    <a:pt x="3943" y="1055"/>
                  </a:lnTo>
                  <a:lnTo>
                    <a:pt x="4049" y="1040"/>
                  </a:lnTo>
                  <a:lnTo>
                    <a:pt x="4151" y="1025"/>
                  </a:lnTo>
                  <a:lnTo>
                    <a:pt x="4200" y="1016"/>
                  </a:lnTo>
                  <a:lnTo>
                    <a:pt x="4249" y="1007"/>
                  </a:lnTo>
                  <a:lnTo>
                    <a:pt x="4297" y="998"/>
                  </a:lnTo>
                  <a:lnTo>
                    <a:pt x="4343" y="989"/>
                  </a:lnTo>
                  <a:lnTo>
                    <a:pt x="4389" y="980"/>
                  </a:lnTo>
                  <a:lnTo>
                    <a:pt x="4433" y="970"/>
                  </a:lnTo>
                  <a:lnTo>
                    <a:pt x="4477" y="960"/>
                  </a:lnTo>
                  <a:lnTo>
                    <a:pt x="4520" y="951"/>
                  </a:lnTo>
                  <a:lnTo>
                    <a:pt x="4560" y="941"/>
                  </a:lnTo>
                  <a:lnTo>
                    <a:pt x="4601" y="930"/>
                  </a:lnTo>
                  <a:lnTo>
                    <a:pt x="4640" y="920"/>
                  </a:lnTo>
                  <a:lnTo>
                    <a:pt x="4678" y="908"/>
                  </a:lnTo>
                  <a:lnTo>
                    <a:pt x="4715" y="898"/>
                  </a:lnTo>
                  <a:lnTo>
                    <a:pt x="4750" y="887"/>
                  </a:lnTo>
                  <a:lnTo>
                    <a:pt x="4785" y="876"/>
                  </a:lnTo>
                  <a:lnTo>
                    <a:pt x="4817" y="863"/>
                  </a:lnTo>
                  <a:lnTo>
                    <a:pt x="4850" y="852"/>
                  </a:lnTo>
                  <a:lnTo>
                    <a:pt x="4880" y="840"/>
                  </a:lnTo>
                  <a:lnTo>
                    <a:pt x="4910" y="828"/>
                  </a:lnTo>
                  <a:lnTo>
                    <a:pt x="4937" y="815"/>
                  </a:lnTo>
                  <a:lnTo>
                    <a:pt x="4964" y="802"/>
                  </a:lnTo>
                  <a:lnTo>
                    <a:pt x="4991" y="790"/>
                  </a:lnTo>
                  <a:lnTo>
                    <a:pt x="5014" y="777"/>
                  </a:lnTo>
                  <a:lnTo>
                    <a:pt x="5037" y="764"/>
                  </a:lnTo>
                  <a:lnTo>
                    <a:pt x="5058" y="750"/>
                  </a:lnTo>
                  <a:lnTo>
                    <a:pt x="5077" y="738"/>
                  </a:lnTo>
                  <a:lnTo>
                    <a:pt x="5095" y="724"/>
                  </a:lnTo>
                  <a:lnTo>
                    <a:pt x="5112" y="710"/>
                  </a:lnTo>
                  <a:lnTo>
                    <a:pt x="5127" y="697"/>
                  </a:lnTo>
                  <a:lnTo>
                    <a:pt x="5141" y="684"/>
                  </a:lnTo>
                  <a:lnTo>
                    <a:pt x="5154" y="670"/>
                  </a:lnTo>
                  <a:lnTo>
                    <a:pt x="5164" y="656"/>
                  </a:lnTo>
                  <a:lnTo>
                    <a:pt x="5173" y="641"/>
                  </a:lnTo>
                  <a:lnTo>
                    <a:pt x="5180" y="627"/>
                  </a:lnTo>
                  <a:lnTo>
                    <a:pt x="5186" y="613"/>
                  </a:lnTo>
                  <a:lnTo>
                    <a:pt x="5190" y="598"/>
                  </a:lnTo>
                  <a:lnTo>
                    <a:pt x="5193" y="584"/>
                  </a:lnTo>
                  <a:lnTo>
                    <a:pt x="5194" y="56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41600" y="1700280"/>
              <a:ext cx="4308480" cy="1164960"/>
            </a:xfrm>
            <a:custGeom>
              <a:avLst/>
              <a:gdLst/>
              <a:ahLst/>
              <a:rect l="l" t="t" r="r" b="b"/>
              <a:pathLst>
                <a:path w="5194" h="1137">
                  <a:moveTo>
                    <a:pt x="5194" y="569"/>
                  </a:moveTo>
                  <a:lnTo>
                    <a:pt x="5193" y="553"/>
                  </a:lnTo>
                  <a:lnTo>
                    <a:pt x="5190" y="540"/>
                  </a:lnTo>
                  <a:lnTo>
                    <a:pt x="5186" y="524"/>
                  </a:lnTo>
                  <a:lnTo>
                    <a:pt x="5180" y="511"/>
                  </a:lnTo>
                  <a:lnTo>
                    <a:pt x="5173" y="497"/>
                  </a:lnTo>
                  <a:lnTo>
                    <a:pt x="5164" y="481"/>
                  </a:lnTo>
                  <a:lnTo>
                    <a:pt x="5154" y="468"/>
                  </a:lnTo>
                  <a:lnTo>
                    <a:pt x="5141" y="454"/>
                  </a:lnTo>
                  <a:lnTo>
                    <a:pt x="5127" y="440"/>
                  </a:lnTo>
                  <a:lnTo>
                    <a:pt x="5112" y="427"/>
                  </a:lnTo>
                  <a:lnTo>
                    <a:pt x="5095" y="413"/>
                  </a:lnTo>
                  <a:lnTo>
                    <a:pt x="5077" y="399"/>
                  </a:lnTo>
                  <a:lnTo>
                    <a:pt x="5058" y="387"/>
                  </a:lnTo>
                  <a:lnTo>
                    <a:pt x="5037" y="373"/>
                  </a:lnTo>
                  <a:lnTo>
                    <a:pt x="5014" y="360"/>
                  </a:lnTo>
                  <a:lnTo>
                    <a:pt x="4991" y="348"/>
                  </a:lnTo>
                  <a:lnTo>
                    <a:pt x="4965" y="335"/>
                  </a:lnTo>
                  <a:lnTo>
                    <a:pt x="4937" y="322"/>
                  </a:lnTo>
                  <a:lnTo>
                    <a:pt x="4910" y="310"/>
                  </a:lnTo>
                  <a:lnTo>
                    <a:pt x="4880" y="298"/>
                  </a:lnTo>
                  <a:lnTo>
                    <a:pt x="4850" y="286"/>
                  </a:lnTo>
                  <a:lnTo>
                    <a:pt x="4819" y="274"/>
                  </a:lnTo>
                  <a:lnTo>
                    <a:pt x="4785" y="262"/>
                  </a:lnTo>
                  <a:lnTo>
                    <a:pt x="4750" y="250"/>
                  </a:lnTo>
                  <a:lnTo>
                    <a:pt x="4715" y="240"/>
                  </a:lnTo>
                  <a:lnTo>
                    <a:pt x="4678" y="229"/>
                  </a:lnTo>
                  <a:lnTo>
                    <a:pt x="4640" y="217"/>
                  </a:lnTo>
                  <a:lnTo>
                    <a:pt x="4601" y="207"/>
                  </a:lnTo>
                  <a:lnTo>
                    <a:pt x="4560" y="197"/>
                  </a:lnTo>
                  <a:lnTo>
                    <a:pt x="4520" y="186"/>
                  </a:lnTo>
                  <a:lnTo>
                    <a:pt x="4477" y="177"/>
                  </a:lnTo>
                  <a:lnTo>
                    <a:pt x="4433" y="167"/>
                  </a:lnTo>
                  <a:lnTo>
                    <a:pt x="4389" y="157"/>
                  </a:lnTo>
                  <a:lnTo>
                    <a:pt x="4344" y="148"/>
                  </a:lnTo>
                  <a:lnTo>
                    <a:pt x="4297" y="139"/>
                  </a:lnTo>
                  <a:lnTo>
                    <a:pt x="4249" y="130"/>
                  </a:lnTo>
                  <a:lnTo>
                    <a:pt x="4200" y="122"/>
                  </a:lnTo>
                  <a:lnTo>
                    <a:pt x="4151" y="113"/>
                  </a:lnTo>
                  <a:lnTo>
                    <a:pt x="4049" y="98"/>
                  </a:lnTo>
                  <a:lnTo>
                    <a:pt x="3943" y="82"/>
                  </a:lnTo>
                  <a:lnTo>
                    <a:pt x="3834" y="68"/>
                  </a:lnTo>
                  <a:lnTo>
                    <a:pt x="3723" y="56"/>
                  </a:lnTo>
                  <a:lnTo>
                    <a:pt x="3608" y="44"/>
                  </a:lnTo>
                  <a:lnTo>
                    <a:pt x="3489" y="34"/>
                  </a:lnTo>
                  <a:lnTo>
                    <a:pt x="3369" y="26"/>
                  </a:lnTo>
                  <a:lnTo>
                    <a:pt x="3246" y="18"/>
                  </a:lnTo>
                  <a:lnTo>
                    <a:pt x="3121" y="12"/>
                  </a:lnTo>
                  <a:lnTo>
                    <a:pt x="2992" y="7"/>
                  </a:lnTo>
                  <a:lnTo>
                    <a:pt x="2862" y="3"/>
                  </a:lnTo>
                  <a:lnTo>
                    <a:pt x="2731" y="2"/>
                  </a:lnTo>
                  <a:lnTo>
                    <a:pt x="2597" y="0"/>
                  </a:lnTo>
                  <a:lnTo>
                    <a:pt x="2463" y="2"/>
                  </a:lnTo>
                  <a:lnTo>
                    <a:pt x="2332" y="3"/>
                  </a:lnTo>
                  <a:lnTo>
                    <a:pt x="2202" y="7"/>
                  </a:lnTo>
                  <a:lnTo>
                    <a:pt x="2074" y="12"/>
                  </a:lnTo>
                  <a:lnTo>
                    <a:pt x="1948" y="18"/>
                  </a:lnTo>
                  <a:lnTo>
                    <a:pt x="1825" y="26"/>
                  </a:lnTo>
                  <a:lnTo>
                    <a:pt x="1703" y="34"/>
                  </a:lnTo>
                  <a:lnTo>
                    <a:pt x="1586" y="44"/>
                  </a:lnTo>
                  <a:lnTo>
                    <a:pt x="1472" y="56"/>
                  </a:lnTo>
                  <a:lnTo>
                    <a:pt x="1359" y="68"/>
                  </a:lnTo>
                  <a:lnTo>
                    <a:pt x="1251" y="82"/>
                  </a:lnTo>
                  <a:lnTo>
                    <a:pt x="1145" y="98"/>
                  </a:lnTo>
                  <a:lnTo>
                    <a:pt x="1043" y="113"/>
                  </a:lnTo>
                  <a:lnTo>
                    <a:pt x="994" y="122"/>
                  </a:lnTo>
                  <a:lnTo>
                    <a:pt x="945" y="130"/>
                  </a:lnTo>
                  <a:lnTo>
                    <a:pt x="898" y="139"/>
                  </a:lnTo>
                  <a:lnTo>
                    <a:pt x="850" y="148"/>
                  </a:lnTo>
                  <a:lnTo>
                    <a:pt x="806" y="157"/>
                  </a:lnTo>
                  <a:lnTo>
                    <a:pt x="761" y="167"/>
                  </a:lnTo>
                  <a:lnTo>
                    <a:pt x="718" y="177"/>
                  </a:lnTo>
                  <a:lnTo>
                    <a:pt x="674" y="186"/>
                  </a:lnTo>
                  <a:lnTo>
                    <a:pt x="634" y="197"/>
                  </a:lnTo>
                  <a:lnTo>
                    <a:pt x="593" y="207"/>
                  </a:lnTo>
                  <a:lnTo>
                    <a:pt x="554" y="217"/>
                  </a:lnTo>
                  <a:lnTo>
                    <a:pt x="515" y="229"/>
                  </a:lnTo>
                  <a:lnTo>
                    <a:pt x="479" y="240"/>
                  </a:lnTo>
                  <a:lnTo>
                    <a:pt x="444" y="250"/>
                  </a:lnTo>
                  <a:lnTo>
                    <a:pt x="409" y="262"/>
                  </a:lnTo>
                  <a:lnTo>
                    <a:pt x="376" y="274"/>
                  </a:lnTo>
                  <a:lnTo>
                    <a:pt x="343" y="286"/>
                  </a:lnTo>
                  <a:lnTo>
                    <a:pt x="313" y="298"/>
                  </a:lnTo>
                  <a:lnTo>
                    <a:pt x="283" y="310"/>
                  </a:lnTo>
                  <a:lnTo>
                    <a:pt x="255" y="322"/>
                  </a:lnTo>
                  <a:lnTo>
                    <a:pt x="229" y="335"/>
                  </a:lnTo>
                  <a:lnTo>
                    <a:pt x="204" y="348"/>
                  </a:lnTo>
                  <a:lnTo>
                    <a:pt x="180" y="360"/>
                  </a:lnTo>
                  <a:lnTo>
                    <a:pt x="158" y="373"/>
                  </a:lnTo>
                  <a:lnTo>
                    <a:pt x="137" y="387"/>
                  </a:lnTo>
                  <a:lnTo>
                    <a:pt x="117" y="399"/>
                  </a:lnTo>
                  <a:lnTo>
                    <a:pt x="98" y="413"/>
                  </a:lnTo>
                  <a:lnTo>
                    <a:pt x="81" y="427"/>
                  </a:lnTo>
                  <a:lnTo>
                    <a:pt x="66" y="440"/>
                  </a:lnTo>
                  <a:lnTo>
                    <a:pt x="53" y="454"/>
                  </a:lnTo>
                  <a:lnTo>
                    <a:pt x="40" y="468"/>
                  </a:lnTo>
                  <a:lnTo>
                    <a:pt x="29" y="481"/>
                  </a:lnTo>
                  <a:lnTo>
                    <a:pt x="21" y="497"/>
                  </a:lnTo>
                  <a:lnTo>
                    <a:pt x="12" y="511"/>
                  </a:lnTo>
                  <a:lnTo>
                    <a:pt x="7" y="524"/>
                  </a:lnTo>
                  <a:lnTo>
                    <a:pt x="3" y="540"/>
                  </a:lnTo>
                  <a:lnTo>
                    <a:pt x="0" y="553"/>
                  </a:lnTo>
                  <a:lnTo>
                    <a:pt x="0" y="569"/>
                  </a:lnTo>
                  <a:lnTo>
                    <a:pt x="0" y="584"/>
                  </a:lnTo>
                  <a:lnTo>
                    <a:pt x="3" y="598"/>
                  </a:lnTo>
                  <a:lnTo>
                    <a:pt x="7" y="613"/>
                  </a:lnTo>
                  <a:lnTo>
                    <a:pt x="12" y="627"/>
                  </a:lnTo>
                  <a:lnTo>
                    <a:pt x="21" y="641"/>
                  </a:lnTo>
                  <a:lnTo>
                    <a:pt x="29" y="656"/>
                  </a:lnTo>
                  <a:lnTo>
                    <a:pt x="40" y="670"/>
                  </a:lnTo>
                  <a:lnTo>
                    <a:pt x="53" y="684"/>
                  </a:lnTo>
                  <a:lnTo>
                    <a:pt x="66" y="697"/>
                  </a:lnTo>
                  <a:lnTo>
                    <a:pt x="81" y="710"/>
                  </a:lnTo>
                  <a:lnTo>
                    <a:pt x="98" y="724"/>
                  </a:lnTo>
                  <a:lnTo>
                    <a:pt x="116" y="738"/>
                  </a:lnTo>
                  <a:lnTo>
                    <a:pt x="135" y="750"/>
                  </a:lnTo>
                  <a:lnTo>
                    <a:pt x="158" y="764"/>
                  </a:lnTo>
                  <a:lnTo>
                    <a:pt x="180" y="777"/>
                  </a:lnTo>
                  <a:lnTo>
                    <a:pt x="204" y="790"/>
                  </a:lnTo>
                  <a:lnTo>
                    <a:pt x="229" y="802"/>
                  </a:lnTo>
                  <a:lnTo>
                    <a:pt x="255" y="815"/>
                  </a:lnTo>
                  <a:lnTo>
                    <a:pt x="283" y="828"/>
                  </a:lnTo>
                  <a:lnTo>
                    <a:pt x="313" y="840"/>
                  </a:lnTo>
                  <a:lnTo>
                    <a:pt x="343" y="852"/>
                  </a:lnTo>
                  <a:lnTo>
                    <a:pt x="376" y="863"/>
                  </a:lnTo>
                  <a:lnTo>
                    <a:pt x="409" y="876"/>
                  </a:lnTo>
                  <a:lnTo>
                    <a:pt x="443" y="887"/>
                  </a:lnTo>
                  <a:lnTo>
                    <a:pt x="479" y="898"/>
                  </a:lnTo>
                  <a:lnTo>
                    <a:pt x="515" y="908"/>
                  </a:lnTo>
                  <a:lnTo>
                    <a:pt x="553" y="920"/>
                  </a:lnTo>
                  <a:lnTo>
                    <a:pt x="593" y="930"/>
                  </a:lnTo>
                  <a:lnTo>
                    <a:pt x="632" y="941"/>
                  </a:lnTo>
                  <a:lnTo>
                    <a:pt x="674" y="951"/>
                  </a:lnTo>
                  <a:lnTo>
                    <a:pt x="716" y="960"/>
                  </a:lnTo>
                  <a:lnTo>
                    <a:pt x="761" y="970"/>
                  </a:lnTo>
                  <a:lnTo>
                    <a:pt x="804" y="980"/>
                  </a:lnTo>
                  <a:lnTo>
                    <a:pt x="850" y="989"/>
                  </a:lnTo>
                  <a:lnTo>
                    <a:pt x="898" y="998"/>
                  </a:lnTo>
                  <a:lnTo>
                    <a:pt x="945" y="1007"/>
                  </a:lnTo>
                  <a:lnTo>
                    <a:pt x="993" y="1016"/>
                  </a:lnTo>
                  <a:lnTo>
                    <a:pt x="1043" y="1025"/>
                  </a:lnTo>
                  <a:lnTo>
                    <a:pt x="1145" y="1040"/>
                  </a:lnTo>
                  <a:lnTo>
                    <a:pt x="1250" y="1055"/>
                  </a:lnTo>
                  <a:lnTo>
                    <a:pt x="1359" y="1069"/>
                  </a:lnTo>
                  <a:lnTo>
                    <a:pt x="1470" y="1081"/>
                  </a:lnTo>
                  <a:lnTo>
                    <a:pt x="1586" y="1093"/>
                  </a:lnTo>
                  <a:lnTo>
                    <a:pt x="1703" y="1103"/>
                  </a:lnTo>
                  <a:lnTo>
                    <a:pt x="1825" y="1112"/>
                  </a:lnTo>
                  <a:lnTo>
                    <a:pt x="1948" y="1119"/>
                  </a:lnTo>
                  <a:lnTo>
                    <a:pt x="2074" y="1126"/>
                  </a:lnTo>
                  <a:lnTo>
                    <a:pt x="2202" y="1131"/>
                  </a:lnTo>
                  <a:lnTo>
                    <a:pt x="2332" y="1134"/>
                  </a:lnTo>
                  <a:lnTo>
                    <a:pt x="2463" y="1136"/>
                  </a:lnTo>
                  <a:lnTo>
                    <a:pt x="2597" y="1137"/>
                  </a:lnTo>
                  <a:lnTo>
                    <a:pt x="2730" y="1136"/>
                  </a:lnTo>
                  <a:lnTo>
                    <a:pt x="2862" y="1134"/>
                  </a:lnTo>
                  <a:lnTo>
                    <a:pt x="2992" y="1131"/>
                  </a:lnTo>
                  <a:lnTo>
                    <a:pt x="3121" y="1126"/>
                  </a:lnTo>
                  <a:lnTo>
                    <a:pt x="3246" y="1119"/>
                  </a:lnTo>
                  <a:lnTo>
                    <a:pt x="3369" y="1112"/>
                  </a:lnTo>
                  <a:lnTo>
                    <a:pt x="3489" y="1103"/>
                  </a:lnTo>
                  <a:lnTo>
                    <a:pt x="3608" y="1093"/>
                  </a:lnTo>
                  <a:lnTo>
                    <a:pt x="3723" y="1081"/>
                  </a:lnTo>
                  <a:lnTo>
                    <a:pt x="3834" y="1069"/>
                  </a:lnTo>
                  <a:lnTo>
                    <a:pt x="3943" y="1055"/>
                  </a:lnTo>
                  <a:lnTo>
                    <a:pt x="4049" y="1040"/>
                  </a:lnTo>
                  <a:lnTo>
                    <a:pt x="4151" y="1025"/>
                  </a:lnTo>
                  <a:lnTo>
                    <a:pt x="4200" y="1016"/>
                  </a:lnTo>
                  <a:lnTo>
                    <a:pt x="4249" y="1007"/>
                  </a:lnTo>
                  <a:lnTo>
                    <a:pt x="4297" y="998"/>
                  </a:lnTo>
                  <a:lnTo>
                    <a:pt x="4343" y="989"/>
                  </a:lnTo>
                  <a:lnTo>
                    <a:pt x="4389" y="980"/>
                  </a:lnTo>
                  <a:lnTo>
                    <a:pt x="4433" y="970"/>
                  </a:lnTo>
                  <a:lnTo>
                    <a:pt x="4477" y="960"/>
                  </a:lnTo>
                  <a:lnTo>
                    <a:pt x="4520" y="951"/>
                  </a:lnTo>
                  <a:lnTo>
                    <a:pt x="4560" y="941"/>
                  </a:lnTo>
                  <a:lnTo>
                    <a:pt x="4601" y="930"/>
                  </a:lnTo>
                  <a:lnTo>
                    <a:pt x="4640" y="920"/>
                  </a:lnTo>
                  <a:lnTo>
                    <a:pt x="4678" y="908"/>
                  </a:lnTo>
                  <a:lnTo>
                    <a:pt x="4715" y="898"/>
                  </a:lnTo>
                  <a:lnTo>
                    <a:pt x="4750" y="887"/>
                  </a:lnTo>
                  <a:lnTo>
                    <a:pt x="4785" y="876"/>
                  </a:lnTo>
                  <a:lnTo>
                    <a:pt x="4817" y="863"/>
                  </a:lnTo>
                  <a:lnTo>
                    <a:pt x="4850" y="852"/>
                  </a:lnTo>
                  <a:lnTo>
                    <a:pt x="4880" y="840"/>
                  </a:lnTo>
                  <a:lnTo>
                    <a:pt x="4910" y="828"/>
                  </a:lnTo>
                  <a:lnTo>
                    <a:pt x="4937" y="815"/>
                  </a:lnTo>
                  <a:lnTo>
                    <a:pt x="4964" y="802"/>
                  </a:lnTo>
                  <a:lnTo>
                    <a:pt x="4991" y="790"/>
                  </a:lnTo>
                  <a:lnTo>
                    <a:pt x="5014" y="777"/>
                  </a:lnTo>
                  <a:lnTo>
                    <a:pt x="5037" y="764"/>
                  </a:lnTo>
                  <a:lnTo>
                    <a:pt x="5058" y="750"/>
                  </a:lnTo>
                  <a:lnTo>
                    <a:pt x="5077" y="738"/>
                  </a:lnTo>
                  <a:lnTo>
                    <a:pt x="5095" y="724"/>
                  </a:lnTo>
                  <a:lnTo>
                    <a:pt x="5112" y="710"/>
                  </a:lnTo>
                  <a:lnTo>
                    <a:pt x="5127" y="697"/>
                  </a:lnTo>
                  <a:lnTo>
                    <a:pt x="5141" y="684"/>
                  </a:lnTo>
                  <a:lnTo>
                    <a:pt x="5154" y="670"/>
                  </a:lnTo>
                  <a:lnTo>
                    <a:pt x="5164" y="656"/>
                  </a:lnTo>
                  <a:lnTo>
                    <a:pt x="5173" y="641"/>
                  </a:lnTo>
                  <a:lnTo>
                    <a:pt x="5180" y="627"/>
                  </a:lnTo>
                  <a:lnTo>
                    <a:pt x="5186" y="613"/>
                  </a:lnTo>
                  <a:lnTo>
                    <a:pt x="5190" y="598"/>
                  </a:lnTo>
                  <a:lnTo>
                    <a:pt x="5193" y="584"/>
                  </a:lnTo>
                  <a:lnTo>
                    <a:pt x="5194" y="5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27480" y="2392200"/>
              <a:ext cx="238320" cy="847800"/>
            </a:xfrm>
            <a:custGeom>
              <a:avLst/>
              <a:gdLst/>
              <a:ahLst/>
              <a:rect l="l" t="t" r="r" b="b"/>
              <a:pathLst>
                <a:path w="287" h="825">
                  <a:moveTo>
                    <a:pt x="241" y="5"/>
                  </a:moveTo>
                  <a:lnTo>
                    <a:pt x="251" y="32"/>
                  </a:lnTo>
                  <a:lnTo>
                    <a:pt x="260" y="59"/>
                  </a:lnTo>
                  <a:lnTo>
                    <a:pt x="266" y="87"/>
                  </a:lnTo>
                  <a:lnTo>
                    <a:pt x="273" y="114"/>
                  </a:lnTo>
                  <a:lnTo>
                    <a:pt x="279" y="141"/>
                  </a:lnTo>
                  <a:lnTo>
                    <a:pt x="282" y="169"/>
                  </a:lnTo>
                  <a:lnTo>
                    <a:pt x="283" y="183"/>
                  </a:lnTo>
                  <a:lnTo>
                    <a:pt x="283" y="186"/>
                  </a:lnTo>
                  <a:lnTo>
                    <a:pt x="282" y="187"/>
                  </a:lnTo>
                  <a:lnTo>
                    <a:pt x="280" y="188"/>
                  </a:lnTo>
                  <a:lnTo>
                    <a:pt x="278" y="189"/>
                  </a:lnTo>
                  <a:lnTo>
                    <a:pt x="275" y="189"/>
                  </a:lnTo>
                  <a:lnTo>
                    <a:pt x="272" y="188"/>
                  </a:lnTo>
                  <a:lnTo>
                    <a:pt x="271" y="187"/>
                  </a:lnTo>
                  <a:lnTo>
                    <a:pt x="271" y="184"/>
                  </a:lnTo>
                  <a:lnTo>
                    <a:pt x="269" y="172"/>
                  </a:lnTo>
                  <a:lnTo>
                    <a:pt x="265" y="144"/>
                  </a:lnTo>
                  <a:lnTo>
                    <a:pt x="260" y="116"/>
                  </a:lnTo>
                  <a:lnTo>
                    <a:pt x="254" y="90"/>
                  </a:lnTo>
                  <a:lnTo>
                    <a:pt x="247" y="62"/>
                  </a:lnTo>
                  <a:lnTo>
                    <a:pt x="237" y="35"/>
                  </a:lnTo>
                  <a:lnTo>
                    <a:pt x="227" y="9"/>
                  </a:lnTo>
                  <a:lnTo>
                    <a:pt x="227" y="6"/>
                  </a:lnTo>
                  <a:lnTo>
                    <a:pt x="229" y="4"/>
                  </a:lnTo>
                  <a:lnTo>
                    <a:pt x="230" y="1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7" y="1"/>
                  </a:lnTo>
                  <a:lnTo>
                    <a:pt x="240" y="2"/>
                  </a:lnTo>
                  <a:lnTo>
                    <a:pt x="241" y="5"/>
                  </a:lnTo>
                  <a:lnTo>
                    <a:pt x="241" y="5"/>
                  </a:lnTo>
                  <a:close/>
                  <a:moveTo>
                    <a:pt x="287" y="293"/>
                  </a:moveTo>
                  <a:lnTo>
                    <a:pt x="286" y="308"/>
                  </a:lnTo>
                  <a:lnTo>
                    <a:pt x="283" y="336"/>
                  </a:lnTo>
                  <a:lnTo>
                    <a:pt x="279" y="364"/>
                  </a:lnTo>
                  <a:lnTo>
                    <a:pt x="275" y="391"/>
                  </a:lnTo>
                  <a:lnTo>
                    <a:pt x="269" y="418"/>
                  </a:lnTo>
                  <a:lnTo>
                    <a:pt x="262" y="445"/>
                  </a:lnTo>
                  <a:lnTo>
                    <a:pt x="254" y="471"/>
                  </a:lnTo>
                  <a:lnTo>
                    <a:pt x="254" y="474"/>
                  </a:lnTo>
                  <a:lnTo>
                    <a:pt x="253" y="475"/>
                  </a:lnTo>
                  <a:lnTo>
                    <a:pt x="250" y="477"/>
                  </a:lnTo>
                  <a:lnTo>
                    <a:pt x="247" y="477"/>
                  </a:lnTo>
                  <a:lnTo>
                    <a:pt x="246" y="477"/>
                  </a:lnTo>
                  <a:lnTo>
                    <a:pt x="243" y="476"/>
                  </a:lnTo>
                  <a:lnTo>
                    <a:pt x="241" y="474"/>
                  </a:lnTo>
                  <a:lnTo>
                    <a:pt x="240" y="472"/>
                  </a:lnTo>
                  <a:lnTo>
                    <a:pt x="240" y="470"/>
                  </a:lnTo>
                  <a:lnTo>
                    <a:pt x="241" y="469"/>
                  </a:lnTo>
                  <a:lnTo>
                    <a:pt x="248" y="442"/>
                  </a:lnTo>
                  <a:lnTo>
                    <a:pt x="255" y="415"/>
                  </a:lnTo>
                  <a:lnTo>
                    <a:pt x="261" y="389"/>
                  </a:lnTo>
                  <a:lnTo>
                    <a:pt x="266" y="362"/>
                  </a:lnTo>
                  <a:lnTo>
                    <a:pt x="269" y="336"/>
                  </a:lnTo>
                  <a:lnTo>
                    <a:pt x="272" y="308"/>
                  </a:lnTo>
                  <a:lnTo>
                    <a:pt x="273" y="292"/>
                  </a:lnTo>
                  <a:lnTo>
                    <a:pt x="273" y="290"/>
                  </a:lnTo>
                  <a:lnTo>
                    <a:pt x="275" y="288"/>
                  </a:lnTo>
                  <a:lnTo>
                    <a:pt x="278" y="287"/>
                  </a:lnTo>
                  <a:lnTo>
                    <a:pt x="280" y="287"/>
                  </a:lnTo>
                  <a:lnTo>
                    <a:pt x="283" y="287"/>
                  </a:lnTo>
                  <a:lnTo>
                    <a:pt x="285" y="288"/>
                  </a:lnTo>
                  <a:lnTo>
                    <a:pt x="286" y="290"/>
                  </a:lnTo>
                  <a:lnTo>
                    <a:pt x="287" y="293"/>
                  </a:lnTo>
                  <a:lnTo>
                    <a:pt x="287" y="293"/>
                  </a:lnTo>
                  <a:close/>
                  <a:moveTo>
                    <a:pt x="211" y="576"/>
                  </a:moveTo>
                  <a:lnTo>
                    <a:pt x="198" y="600"/>
                  </a:lnTo>
                  <a:lnTo>
                    <a:pt x="184" y="625"/>
                  </a:lnTo>
                  <a:lnTo>
                    <a:pt x="169" y="649"/>
                  </a:lnTo>
                  <a:lnTo>
                    <a:pt x="152" y="673"/>
                  </a:lnTo>
                  <a:lnTo>
                    <a:pt x="135" y="696"/>
                  </a:lnTo>
                  <a:lnTo>
                    <a:pt x="117" y="719"/>
                  </a:lnTo>
                  <a:lnTo>
                    <a:pt x="106" y="733"/>
                  </a:lnTo>
                  <a:lnTo>
                    <a:pt x="103" y="734"/>
                  </a:lnTo>
                  <a:lnTo>
                    <a:pt x="100" y="734"/>
                  </a:lnTo>
                  <a:lnTo>
                    <a:pt x="99" y="734"/>
                  </a:lnTo>
                  <a:lnTo>
                    <a:pt x="96" y="734"/>
                  </a:lnTo>
                  <a:lnTo>
                    <a:pt x="95" y="731"/>
                  </a:lnTo>
                  <a:lnTo>
                    <a:pt x="93" y="729"/>
                  </a:lnTo>
                  <a:lnTo>
                    <a:pt x="93" y="726"/>
                  </a:lnTo>
                  <a:lnTo>
                    <a:pt x="95" y="725"/>
                  </a:lnTo>
                  <a:lnTo>
                    <a:pt x="106" y="711"/>
                  </a:lnTo>
                  <a:lnTo>
                    <a:pt x="124" y="690"/>
                  </a:lnTo>
                  <a:lnTo>
                    <a:pt x="141" y="667"/>
                  </a:lnTo>
                  <a:lnTo>
                    <a:pt x="158" y="643"/>
                  </a:lnTo>
                  <a:lnTo>
                    <a:pt x="172" y="619"/>
                  </a:lnTo>
                  <a:lnTo>
                    <a:pt x="186" y="595"/>
                  </a:lnTo>
                  <a:lnTo>
                    <a:pt x="198" y="571"/>
                  </a:lnTo>
                  <a:lnTo>
                    <a:pt x="199" y="570"/>
                  </a:lnTo>
                  <a:lnTo>
                    <a:pt x="202" y="568"/>
                  </a:lnTo>
                  <a:lnTo>
                    <a:pt x="205" y="567"/>
                  </a:lnTo>
                  <a:lnTo>
                    <a:pt x="208" y="568"/>
                  </a:lnTo>
                  <a:lnTo>
                    <a:pt x="209" y="570"/>
                  </a:lnTo>
                  <a:lnTo>
                    <a:pt x="211" y="572"/>
                  </a:lnTo>
                  <a:lnTo>
                    <a:pt x="212" y="573"/>
                  </a:lnTo>
                  <a:lnTo>
                    <a:pt x="211" y="576"/>
                  </a:lnTo>
                  <a:lnTo>
                    <a:pt x="211" y="576"/>
                  </a:lnTo>
                  <a:close/>
                  <a:moveTo>
                    <a:pt x="24" y="813"/>
                  </a:moveTo>
                  <a:lnTo>
                    <a:pt x="12" y="823"/>
                  </a:lnTo>
                  <a:lnTo>
                    <a:pt x="10" y="825"/>
                  </a:lnTo>
                  <a:lnTo>
                    <a:pt x="7" y="825"/>
                  </a:lnTo>
                  <a:lnTo>
                    <a:pt x="4" y="825"/>
                  </a:lnTo>
                  <a:lnTo>
                    <a:pt x="3" y="823"/>
                  </a:lnTo>
                  <a:lnTo>
                    <a:pt x="1" y="821"/>
                  </a:lnTo>
                  <a:lnTo>
                    <a:pt x="0" y="818"/>
                  </a:lnTo>
                  <a:lnTo>
                    <a:pt x="1" y="817"/>
                  </a:lnTo>
                  <a:lnTo>
                    <a:pt x="3" y="815"/>
                  </a:lnTo>
                  <a:lnTo>
                    <a:pt x="14" y="804"/>
                  </a:lnTo>
                  <a:lnTo>
                    <a:pt x="17" y="803"/>
                  </a:lnTo>
                  <a:lnTo>
                    <a:pt x="19" y="803"/>
                  </a:lnTo>
                  <a:lnTo>
                    <a:pt x="22" y="803"/>
                  </a:lnTo>
                  <a:lnTo>
                    <a:pt x="24" y="804"/>
                  </a:lnTo>
                  <a:lnTo>
                    <a:pt x="25" y="807"/>
                  </a:lnTo>
                  <a:lnTo>
                    <a:pt x="25" y="810"/>
                  </a:lnTo>
                  <a:lnTo>
                    <a:pt x="25" y="811"/>
                  </a:lnTo>
                  <a:lnTo>
                    <a:pt x="24" y="813"/>
                  </a:lnTo>
                  <a:lnTo>
                    <a:pt x="24" y="8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65560" y="3179880"/>
              <a:ext cx="111240" cy="114120"/>
            </a:xfrm>
            <a:custGeom>
              <a:avLst/>
              <a:gdLst/>
              <a:ahLst/>
              <a:rect l="l" t="t" r="r" b="b"/>
              <a:pathLst>
                <a:path w="133" h="111">
                  <a:moveTo>
                    <a:pt x="133" y="86"/>
                  </a:moveTo>
                  <a:lnTo>
                    <a:pt x="0" y="111"/>
                  </a:lnTo>
                  <a:lnTo>
                    <a:pt x="58" y="0"/>
                  </a:lnTo>
                  <a:lnTo>
                    <a:pt x="13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16480" y="2392200"/>
              <a:ext cx="2090880" cy="1949760"/>
            </a:xfrm>
            <a:custGeom>
              <a:avLst/>
              <a:gdLst/>
              <a:ahLst/>
              <a:rect l="l" t="t" r="r" b="b"/>
              <a:pathLst>
                <a:path w="2522" h="1901">
                  <a:moveTo>
                    <a:pt x="10" y="0"/>
                  </a:moveTo>
                  <a:lnTo>
                    <a:pt x="111" y="30"/>
                  </a:lnTo>
                  <a:lnTo>
                    <a:pt x="200" y="58"/>
                  </a:lnTo>
                  <a:lnTo>
                    <a:pt x="203" y="59"/>
                  </a:lnTo>
                  <a:lnTo>
                    <a:pt x="204" y="61"/>
                  </a:lnTo>
                  <a:lnTo>
                    <a:pt x="204" y="63"/>
                  </a:lnTo>
                  <a:lnTo>
                    <a:pt x="204" y="66"/>
                  </a:lnTo>
                  <a:lnTo>
                    <a:pt x="203" y="68"/>
                  </a:lnTo>
                  <a:lnTo>
                    <a:pt x="201" y="69"/>
                  </a:lnTo>
                  <a:lnTo>
                    <a:pt x="199" y="69"/>
                  </a:lnTo>
                  <a:lnTo>
                    <a:pt x="196" y="69"/>
                  </a:lnTo>
                  <a:lnTo>
                    <a:pt x="107" y="42"/>
                  </a:lnTo>
                  <a:lnTo>
                    <a:pt x="6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313" y="96"/>
                  </a:moveTo>
                  <a:lnTo>
                    <a:pt x="407" y="130"/>
                  </a:lnTo>
                  <a:lnTo>
                    <a:pt x="499" y="167"/>
                  </a:lnTo>
                  <a:lnTo>
                    <a:pt x="502" y="168"/>
                  </a:lnTo>
                  <a:lnTo>
                    <a:pt x="503" y="169"/>
                  </a:lnTo>
                  <a:lnTo>
                    <a:pt x="503" y="172"/>
                  </a:lnTo>
                  <a:lnTo>
                    <a:pt x="503" y="174"/>
                  </a:lnTo>
                  <a:lnTo>
                    <a:pt x="502" y="177"/>
                  </a:lnTo>
                  <a:lnTo>
                    <a:pt x="499" y="178"/>
                  </a:lnTo>
                  <a:lnTo>
                    <a:pt x="496" y="178"/>
                  </a:lnTo>
                  <a:lnTo>
                    <a:pt x="495" y="178"/>
                  </a:lnTo>
                  <a:lnTo>
                    <a:pt x="403" y="141"/>
                  </a:lnTo>
                  <a:lnTo>
                    <a:pt x="309" y="107"/>
                  </a:lnTo>
                  <a:lnTo>
                    <a:pt x="306" y="106"/>
                  </a:lnTo>
                  <a:lnTo>
                    <a:pt x="305" y="104"/>
                  </a:lnTo>
                  <a:lnTo>
                    <a:pt x="305" y="102"/>
                  </a:lnTo>
                  <a:lnTo>
                    <a:pt x="305" y="100"/>
                  </a:lnTo>
                  <a:lnTo>
                    <a:pt x="306" y="97"/>
                  </a:lnTo>
                  <a:lnTo>
                    <a:pt x="309" y="96"/>
                  </a:lnTo>
                  <a:lnTo>
                    <a:pt x="310" y="96"/>
                  </a:lnTo>
                  <a:lnTo>
                    <a:pt x="313" y="96"/>
                  </a:lnTo>
                  <a:lnTo>
                    <a:pt x="313" y="96"/>
                  </a:lnTo>
                  <a:close/>
                  <a:moveTo>
                    <a:pt x="609" y="212"/>
                  </a:moveTo>
                  <a:lnTo>
                    <a:pt x="693" y="250"/>
                  </a:lnTo>
                  <a:lnTo>
                    <a:pt x="787" y="294"/>
                  </a:lnTo>
                  <a:lnTo>
                    <a:pt x="788" y="296"/>
                  </a:lnTo>
                  <a:lnTo>
                    <a:pt x="791" y="297"/>
                  </a:lnTo>
                  <a:lnTo>
                    <a:pt x="791" y="299"/>
                  </a:lnTo>
                  <a:lnTo>
                    <a:pt x="792" y="302"/>
                  </a:lnTo>
                  <a:lnTo>
                    <a:pt x="791" y="304"/>
                  </a:lnTo>
                  <a:lnTo>
                    <a:pt x="789" y="306"/>
                  </a:lnTo>
                  <a:lnTo>
                    <a:pt x="787" y="307"/>
                  </a:lnTo>
                  <a:lnTo>
                    <a:pt x="784" y="307"/>
                  </a:lnTo>
                  <a:lnTo>
                    <a:pt x="782" y="307"/>
                  </a:lnTo>
                  <a:lnTo>
                    <a:pt x="780" y="306"/>
                  </a:lnTo>
                  <a:lnTo>
                    <a:pt x="687" y="261"/>
                  </a:lnTo>
                  <a:lnTo>
                    <a:pt x="604" y="224"/>
                  </a:lnTo>
                  <a:lnTo>
                    <a:pt x="601" y="222"/>
                  </a:lnTo>
                  <a:lnTo>
                    <a:pt x="599" y="220"/>
                  </a:lnTo>
                  <a:lnTo>
                    <a:pt x="599" y="217"/>
                  </a:lnTo>
                  <a:lnTo>
                    <a:pt x="599" y="216"/>
                  </a:lnTo>
                  <a:lnTo>
                    <a:pt x="601" y="213"/>
                  </a:lnTo>
                  <a:lnTo>
                    <a:pt x="604" y="212"/>
                  </a:lnTo>
                  <a:lnTo>
                    <a:pt x="606" y="212"/>
                  </a:lnTo>
                  <a:lnTo>
                    <a:pt x="609" y="212"/>
                  </a:lnTo>
                  <a:lnTo>
                    <a:pt x="609" y="212"/>
                  </a:lnTo>
                  <a:close/>
                  <a:moveTo>
                    <a:pt x="894" y="350"/>
                  </a:moveTo>
                  <a:lnTo>
                    <a:pt x="967" y="389"/>
                  </a:lnTo>
                  <a:lnTo>
                    <a:pt x="1056" y="438"/>
                  </a:lnTo>
                  <a:lnTo>
                    <a:pt x="1066" y="445"/>
                  </a:lnTo>
                  <a:lnTo>
                    <a:pt x="1067" y="446"/>
                  </a:lnTo>
                  <a:lnTo>
                    <a:pt x="1069" y="448"/>
                  </a:lnTo>
                  <a:lnTo>
                    <a:pt x="1069" y="451"/>
                  </a:lnTo>
                  <a:lnTo>
                    <a:pt x="1067" y="452"/>
                  </a:lnTo>
                  <a:lnTo>
                    <a:pt x="1066" y="455"/>
                  </a:lnTo>
                  <a:lnTo>
                    <a:pt x="1063" y="455"/>
                  </a:lnTo>
                  <a:lnTo>
                    <a:pt x="1060" y="455"/>
                  </a:lnTo>
                  <a:lnTo>
                    <a:pt x="1057" y="455"/>
                  </a:lnTo>
                  <a:lnTo>
                    <a:pt x="1049" y="450"/>
                  </a:lnTo>
                  <a:lnTo>
                    <a:pt x="961" y="399"/>
                  </a:lnTo>
                  <a:lnTo>
                    <a:pt x="887" y="360"/>
                  </a:lnTo>
                  <a:lnTo>
                    <a:pt x="884" y="357"/>
                  </a:lnTo>
                  <a:lnTo>
                    <a:pt x="884" y="356"/>
                  </a:lnTo>
                  <a:lnTo>
                    <a:pt x="883" y="354"/>
                  </a:lnTo>
                  <a:lnTo>
                    <a:pt x="884" y="351"/>
                  </a:lnTo>
                  <a:lnTo>
                    <a:pt x="886" y="350"/>
                  </a:lnTo>
                  <a:lnTo>
                    <a:pt x="888" y="349"/>
                  </a:lnTo>
                  <a:lnTo>
                    <a:pt x="891" y="349"/>
                  </a:lnTo>
                  <a:lnTo>
                    <a:pt x="894" y="350"/>
                  </a:lnTo>
                  <a:lnTo>
                    <a:pt x="894" y="350"/>
                  </a:lnTo>
                  <a:close/>
                  <a:moveTo>
                    <a:pt x="1166" y="505"/>
                  </a:moveTo>
                  <a:lnTo>
                    <a:pt x="1229" y="544"/>
                  </a:lnTo>
                  <a:lnTo>
                    <a:pt x="1313" y="600"/>
                  </a:lnTo>
                  <a:lnTo>
                    <a:pt x="1330" y="611"/>
                  </a:lnTo>
                  <a:lnTo>
                    <a:pt x="1331" y="614"/>
                  </a:lnTo>
                  <a:lnTo>
                    <a:pt x="1331" y="615"/>
                  </a:lnTo>
                  <a:lnTo>
                    <a:pt x="1331" y="618"/>
                  </a:lnTo>
                  <a:lnTo>
                    <a:pt x="1330" y="620"/>
                  </a:lnTo>
                  <a:lnTo>
                    <a:pt x="1328" y="621"/>
                  </a:lnTo>
                  <a:lnTo>
                    <a:pt x="1326" y="623"/>
                  </a:lnTo>
                  <a:lnTo>
                    <a:pt x="1323" y="623"/>
                  </a:lnTo>
                  <a:lnTo>
                    <a:pt x="1321" y="621"/>
                  </a:lnTo>
                  <a:lnTo>
                    <a:pt x="1305" y="610"/>
                  </a:lnTo>
                  <a:lnTo>
                    <a:pt x="1221" y="554"/>
                  </a:lnTo>
                  <a:lnTo>
                    <a:pt x="1158" y="515"/>
                  </a:lnTo>
                  <a:lnTo>
                    <a:pt x="1157" y="513"/>
                  </a:lnTo>
                  <a:lnTo>
                    <a:pt x="1155" y="510"/>
                  </a:lnTo>
                  <a:lnTo>
                    <a:pt x="1155" y="509"/>
                  </a:lnTo>
                  <a:lnTo>
                    <a:pt x="1157" y="506"/>
                  </a:lnTo>
                  <a:lnTo>
                    <a:pt x="1158" y="505"/>
                  </a:lnTo>
                  <a:lnTo>
                    <a:pt x="1161" y="504"/>
                  </a:lnTo>
                  <a:lnTo>
                    <a:pt x="1164" y="504"/>
                  </a:lnTo>
                  <a:lnTo>
                    <a:pt x="1166" y="505"/>
                  </a:lnTo>
                  <a:lnTo>
                    <a:pt x="1166" y="505"/>
                  </a:lnTo>
                  <a:close/>
                  <a:moveTo>
                    <a:pt x="1425" y="679"/>
                  </a:moveTo>
                  <a:lnTo>
                    <a:pt x="1476" y="717"/>
                  </a:lnTo>
                  <a:lnTo>
                    <a:pt x="1556" y="778"/>
                  </a:lnTo>
                  <a:lnTo>
                    <a:pt x="1578" y="797"/>
                  </a:lnTo>
                  <a:lnTo>
                    <a:pt x="1580" y="798"/>
                  </a:lnTo>
                  <a:lnTo>
                    <a:pt x="1580" y="801"/>
                  </a:lnTo>
                  <a:lnTo>
                    <a:pt x="1580" y="803"/>
                  </a:lnTo>
                  <a:lnTo>
                    <a:pt x="1578" y="806"/>
                  </a:lnTo>
                  <a:lnTo>
                    <a:pt x="1577" y="807"/>
                  </a:lnTo>
                  <a:lnTo>
                    <a:pt x="1574" y="807"/>
                  </a:lnTo>
                  <a:lnTo>
                    <a:pt x="1571" y="807"/>
                  </a:lnTo>
                  <a:lnTo>
                    <a:pt x="1569" y="806"/>
                  </a:lnTo>
                  <a:lnTo>
                    <a:pt x="1546" y="788"/>
                  </a:lnTo>
                  <a:lnTo>
                    <a:pt x="1468" y="726"/>
                  </a:lnTo>
                  <a:lnTo>
                    <a:pt x="1416" y="688"/>
                  </a:lnTo>
                  <a:lnTo>
                    <a:pt x="1414" y="687"/>
                  </a:lnTo>
                  <a:lnTo>
                    <a:pt x="1414" y="685"/>
                  </a:lnTo>
                  <a:lnTo>
                    <a:pt x="1414" y="682"/>
                  </a:lnTo>
                  <a:lnTo>
                    <a:pt x="1415" y="679"/>
                  </a:lnTo>
                  <a:lnTo>
                    <a:pt x="1416" y="678"/>
                  </a:lnTo>
                  <a:lnTo>
                    <a:pt x="1419" y="678"/>
                  </a:lnTo>
                  <a:lnTo>
                    <a:pt x="1422" y="678"/>
                  </a:lnTo>
                  <a:lnTo>
                    <a:pt x="1425" y="679"/>
                  </a:lnTo>
                  <a:lnTo>
                    <a:pt x="1425" y="679"/>
                  </a:lnTo>
                  <a:close/>
                  <a:moveTo>
                    <a:pt x="1668" y="870"/>
                  </a:moveTo>
                  <a:lnTo>
                    <a:pt x="1710" y="907"/>
                  </a:lnTo>
                  <a:lnTo>
                    <a:pt x="1784" y="972"/>
                  </a:lnTo>
                  <a:lnTo>
                    <a:pt x="1810" y="999"/>
                  </a:lnTo>
                  <a:lnTo>
                    <a:pt x="1811" y="1000"/>
                  </a:lnTo>
                  <a:lnTo>
                    <a:pt x="1813" y="1003"/>
                  </a:lnTo>
                  <a:lnTo>
                    <a:pt x="1811" y="1005"/>
                  </a:lnTo>
                  <a:lnTo>
                    <a:pt x="1810" y="1007"/>
                  </a:lnTo>
                  <a:lnTo>
                    <a:pt x="1807" y="1008"/>
                  </a:lnTo>
                  <a:lnTo>
                    <a:pt x="1806" y="1009"/>
                  </a:lnTo>
                  <a:lnTo>
                    <a:pt x="1803" y="1008"/>
                  </a:lnTo>
                  <a:lnTo>
                    <a:pt x="1800" y="1007"/>
                  </a:lnTo>
                  <a:lnTo>
                    <a:pt x="1774" y="981"/>
                  </a:lnTo>
                  <a:lnTo>
                    <a:pt x="1700" y="916"/>
                  </a:lnTo>
                  <a:lnTo>
                    <a:pt x="1658" y="879"/>
                  </a:lnTo>
                  <a:lnTo>
                    <a:pt x="1656" y="878"/>
                  </a:lnTo>
                  <a:lnTo>
                    <a:pt x="1655" y="875"/>
                  </a:lnTo>
                  <a:lnTo>
                    <a:pt x="1656" y="873"/>
                  </a:lnTo>
                  <a:lnTo>
                    <a:pt x="1658" y="870"/>
                  </a:lnTo>
                  <a:lnTo>
                    <a:pt x="1659" y="869"/>
                  </a:lnTo>
                  <a:lnTo>
                    <a:pt x="1662" y="869"/>
                  </a:lnTo>
                  <a:lnTo>
                    <a:pt x="1665" y="869"/>
                  </a:lnTo>
                  <a:lnTo>
                    <a:pt x="1668" y="870"/>
                  </a:lnTo>
                  <a:lnTo>
                    <a:pt x="1668" y="870"/>
                  </a:lnTo>
                  <a:close/>
                  <a:moveTo>
                    <a:pt x="1892" y="1079"/>
                  </a:moveTo>
                  <a:lnTo>
                    <a:pt x="1926" y="1110"/>
                  </a:lnTo>
                  <a:lnTo>
                    <a:pt x="1994" y="1182"/>
                  </a:lnTo>
                  <a:lnTo>
                    <a:pt x="2025" y="1215"/>
                  </a:lnTo>
                  <a:lnTo>
                    <a:pt x="2027" y="1218"/>
                  </a:lnTo>
                  <a:lnTo>
                    <a:pt x="2027" y="1220"/>
                  </a:lnTo>
                  <a:lnTo>
                    <a:pt x="2025" y="1223"/>
                  </a:lnTo>
                  <a:lnTo>
                    <a:pt x="2024" y="1224"/>
                  </a:lnTo>
                  <a:lnTo>
                    <a:pt x="2022" y="1225"/>
                  </a:lnTo>
                  <a:lnTo>
                    <a:pt x="2020" y="1225"/>
                  </a:lnTo>
                  <a:lnTo>
                    <a:pt x="2017" y="1225"/>
                  </a:lnTo>
                  <a:lnTo>
                    <a:pt x="2015" y="1224"/>
                  </a:lnTo>
                  <a:lnTo>
                    <a:pt x="1985" y="1190"/>
                  </a:lnTo>
                  <a:lnTo>
                    <a:pt x="1916" y="1119"/>
                  </a:lnTo>
                  <a:lnTo>
                    <a:pt x="1883" y="1086"/>
                  </a:lnTo>
                  <a:lnTo>
                    <a:pt x="1881" y="1084"/>
                  </a:lnTo>
                  <a:lnTo>
                    <a:pt x="1881" y="1082"/>
                  </a:lnTo>
                  <a:lnTo>
                    <a:pt x="1881" y="1080"/>
                  </a:lnTo>
                  <a:lnTo>
                    <a:pt x="1884" y="1077"/>
                  </a:lnTo>
                  <a:lnTo>
                    <a:pt x="1886" y="1076"/>
                  </a:lnTo>
                  <a:lnTo>
                    <a:pt x="1888" y="1076"/>
                  </a:lnTo>
                  <a:lnTo>
                    <a:pt x="1891" y="1076"/>
                  </a:lnTo>
                  <a:lnTo>
                    <a:pt x="1892" y="1079"/>
                  </a:lnTo>
                  <a:lnTo>
                    <a:pt x="1892" y="1079"/>
                  </a:lnTo>
                  <a:close/>
                  <a:moveTo>
                    <a:pt x="2101" y="1301"/>
                  </a:moveTo>
                  <a:lnTo>
                    <a:pt x="2126" y="1330"/>
                  </a:lnTo>
                  <a:lnTo>
                    <a:pt x="2189" y="1406"/>
                  </a:lnTo>
                  <a:lnTo>
                    <a:pt x="2221" y="1447"/>
                  </a:lnTo>
                  <a:lnTo>
                    <a:pt x="2222" y="1449"/>
                  </a:lnTo>
                  <a:lnTo>
                    <a:pt x="2222" y="1451"/>
                  </a:lnTo>
                  <a:lnTo>
                    <a:pt x="2221" y="1454"/>
                  </a:lnTo>
                  <a:lnTo>
                    <a:pt x="2219" y="1455"/>
                  </a:lnTo>
                  <a:lnTo>
                    <a:pt x="2216" y="1456"/>
                  </a:lnTo>
                  <a:lnTo>
                    <a:pt x="2215" y="1456"/>
                  </a:lnTo>
                  <a:lnTo>
                    <a:pt x="2212" y="1455"/>
                  </a:lnTo>
                  <a:lnTo>
                    <a:pt x="2209" y="1454"/>
                  </a:lnTo>
                  <a:lnTo>
                    <a:pt x="2177" y="1412"/>
                  </a:lnTo>
                  <a:lnTo>
                    <a:pt x="2116" y="1336"/>
                  </a:lnTo>
                  <a:lnTo>
                    <a:pt x="2091" y="1308"/>
                  </a:lnTo>
                  <a:lnTo>
                    <a:pt x="2089" y="1306"/>
                  </a:lnTo>
                  <a:lnTo>
                    <a:pt x="2089" y="1303"/>
                  </a:lnTo>
                  <a:lnTo>
                    <a:pt x="2089" y="1301"/>
                  </a:lnTo>
                  <a:lnTo>
                    <a:pt x="2092" y="1300"/>
                  </a:lnTo>
                  <a:lnTo>
                    <a:pt x="2094" y="1298"/>
                  </a:lnTo>
                  <a:lnTo>
                    <a:pt x="2096" y="1298"/>
                  </a:lnTo>
                  <a:lnTo>
                    <a:pt x="2099" y="1300"/>
                  </a:lnTo>
                  <a:lnTo>
                    <a:pt x="2101" y="1301"/>
                  </a:lnTo>
                  <a:lnTo>
                    <a:pt x="2101" y="1301"/>
                  </a:lnTo>
                  <a:close/>
                  <a:moveTo>
                    <a:pt x="2289" y="1537"/>
                  </a:moveTo>
                  <a:lnTo>
                    <a:pt x="2309" y="1562"/>
                  </a:lnTo>
                  <a:lnTo>
                    <a:pt x="2364" y="1642"/>
                  </a:lnTo>
                  <a:lnTo>
                    <a:pt x="2397" y="1691"/>
                  </a:lnTo>
                  <a:lnTo>
                    <a:pt x="2398" y="1694"/>
                  </a:lnTo>
                  <a:lnTo>
                    <a:pt x="2398" y="1695"/>
                  </a:lnTo>
                  <a:lnTo>
                    <a:pt x="2397" y="1697"/>
                  </a:lnTo>
                  <a:lnTo>
                    <a:pt x="2395" y="1700"/>
                  </a:lnTo>
                  <a:lnTo>
                    <a:pt x="2392" y="1700"/>
                  </a:lnTo>
                  <a:lnTo>
                    <a:pt x="2390" y="1700"/>
                  </a:lnTo>
                  <a:lnTo>
                    <a:pt x="2387" y="1699"/>
                  </a:lnTo>
                  <a:lnTo>
                    <a:pt x="2385" y="1697"/>
                  </a:lnTo>
                  <a:lnTo>
                    <a:pt x="2353" y="1649"/>
                  </a:lnTo>
                  <a:lnTo>
                    <a:pt x="2297" y="1569"/>
                  </a:lnTo>
                  <a:lnTo>
                    <a:pt x="2278" y="1543"/>
                  </a:lnTo>
                  <a:lnTo>
                    <a:pt x="2278" y="1541"/>
                  </a:lnTo>
                  <a:lnTo>
                    <a:pt x="2276" y="1540"/>
                  </a:lnTo>
                  <a:lnTo>
                    <a:pt x="2278" y="1537"/>
                  </a:lnTo>
                  <a:lnTo>
                    <a:pt x="2281" y="1536"/>
                  </a:lnTo>
                  <a:lnTo>
                    <a:pt x="2282" y="1535"/>
                  </a:lnTo>
                  <a:lnTo>
                    <a:pt x="2285" y="1535"/>
                  </a:lnTo>
                  <a:lnTo>
                    <a:pt x="2288" y="1536"/>
                  </a:lnTo>
                  <a:lnTo>
                    <a:pt x="2289" y="1537"/>
                  </a:lnTo>
                  <a:lnTo>
                    <a:pt x="2289" y="1537"/>
                  </a:lnTo>
                  <a:close/>
                  <a:moveTo>
                    <a:pt x="2458" y="1786"/>
                  </a:moveTo>
                  <a:lnTo>
                    <a:pt x="2471" y="1807"/>
                  </a:lnTo>
                  <a:lnTo>
                    <a:pt x="2521" y="1892"/>
                  </a:lnTo>
                  <a:lnTo>
                    <a:pt x="2522" y="1894"/>
                  </a:lnTo>
                  <a:lnTo>
                    <a:pt x="2522" y="1897"/>
                  </a:lnTo>
                  <a:lnTo>
                    <a:pt x="2521" y="1900"/>
                  </a:lnTo>
                  <a:lnTo>
                    <a:pt x="2518" y="1901"/>
                  </a:lnTo>
                  <a:lnTo>
                    <a:pt x="2515" y="1901"/>
                  </a:lnTo>
                  <a:lnTo>
                    <a:pt x="2514" y="1901"/>
                  </a:lnTo>
                  <a:lnTo>
                    <a:pt x="2511" y="1900"/>
                  </a:lnTo>
                  <a:lnTo>
                    <a:pt x="2510" y="1898"/>
                  </a:lnTo>
                  <a:lnTo>
                    <a:pt x="2459" y="1814"/>
                  </a:lnTo>
                  <a:lnTo>
                    <a:pt x="2445" y="1792"/>
                  </a:lnTo>
                  <a:lnTo>
                    <a:pt x="2444" y="1790"/>
                  </a:lnTo>
                  <a:lnTo>
                    <a:pt x="2445" y="1787"/>
                  </a:lnTo>
                  <a:lnTo>
                    <a:pt x="2445" y="1785"/>
                  </a:lnTo>
                  <a:lnTo>
                    <a:pt x="2448" y="1783"/>
                  </a:lnTo>
                  <a:lnTo>
                    <a:pt x="2451" y="1782"/>
                  </a:lnTo>
                  <a:lnTo>
                    <a:pt x="2454" y="1782"/>
                  </a:lnTo>
                  <a:lnTo>
                    <a:pt x="2455" y="1783"/>
                  </a:lnTo>
                  <a:lnTo>
                    <a:pt x="2458" y="1786"/>
                  </a:lnTo>
                  <a:lnTo>
                    <a:pt x="2458" y="178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16480" y="2367000"/>
              <a:ext cx="2073240" cy="860400"/>
            </a:xfrm>
            <a:custGeom>
              <a:avLst/>
              <a:gdLst/>
              <a:ahLst/>
              <a:rect l="l" t="t" r="r" b="b"/>
              <a:pathLst>
                <a:path w="2500" h="837">
                  <a:moveTo>
                    <a:pt x="6" y="25"/>
                  </a:moveTo>
                  <a:lnTo>
                    <a:pt x="93" y="15"/>
                  </a:lnTo>
                  <a:lnTo>
                    <a:pt x="181" y="9"/>
                  </a:lnTo>
                  <a:lnTo>
                    <a:pt x="207" y="6"/>
                  </a:lnTo>
                  <a:lnTo>
                    <a:pt x="210" y="6"/>
                  </a:lnTo>
                  <a:lnTo>
                    <a:pt x="211" y="7"/>
                  </a:lnTo>
                  <a:lnTo>
                    <a:pt x="213" y="10"/>
                  </a:lnTo>
                  <a:lnTo>
                    <a:pt x="214" y="12"/>
                  </a:lnTo>
                  <a:lnTo>
                    <a:pt x="214" y="15"/>
                  </a:lnTo>
                  <a:lnTo>
                    <a:pt x="213" y="16"/>
                  </a:lnTo>
                  <a:lnTo>
                    <a:pt x="210" y="17"/>
                  </a:lnTo>
                  <a:lnTo>
                    <a:pt x="208" y="19"/>
                  </a:lnTo>
                  <a:lnTo>
                    <a:pt x="182" y="20"/>
                  </a:lnTo>
                  <a:lnTo>
                    <a:pt x="95" y="27"/>
                  </a:lnTo>
                  <a:lnTo>
                    <a:pt x="9" y="38"/>
                  </a:lnTo>
                  <a:lnTo>
                    <a:pt x="6" y="38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5"/>
                  </a:lnTo>
                  <a:close/>
                  <a:moveTo>
                    <a:pt x="327" y="1"/>
                  </a:moveTo>
                  <a:lnTo>
                    <a:pt x="354" y="0"/>
                  </a:lnTo>
                  <a:lnTo>
                    <a:pt x="439" y="0"/>
                  </a:lnTo>
                  <a:lnTo>
                    <a:pt x="525" y="2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3"/>
                  </a:lnTo>
                  <a:lnTo>
                    <a:pt x="535" y="6"/>
                  </a:lnTo>
                  <a:lnTo>
                    <a:pt x="535" y="9"/>
                  </a:lnTo>
                  <a:lnTo>
                    <a:pt x="535" y="11"/>
                  </a:lnTo>
                  <a:lnTo>
                    <a:pt x="534" y="12"/>
                  </a:lnTo>
                  <a:lnTo>
                    <a:pt x="531" y="14"/>
                  </a:lnTo>
                  <a:lnTo>
                    <a:pt x="528" y="15"/>
                  </a:lnTo>
                  <a:lnTo>
                    <a:pt x="525" y="14"/>
                  </a:lnTo>
                  <a:lnTo>
                    <a:pt x="440" y="12"/>
                  </a:lnTo>
                  <a:lnTo>
                    <a:pt x="354" y="12"/>
                  </a:lnTo>
                  <a:lnTo>
                    <a:pt x="329" y="14"/>
                  </a:lnTo>
                  <a:lnTo>
                    <a:pt x="326" y="12"/>
                  </a:lnTo>
                  <a:lnTo>
                    <a:pt x="323" y="11"/>
                  </a:lnTo>
                  <a:lnTo>
                    <a:pt x="322" y="10"/>
                  </a:lnTo>
                  <a:lnTo>
                    <a:pt x="322" y="7"/>
                  </a:lnTo>
                  <a:lnTo>
                    <a:pt x="322" y="5"/>
                  </a:lnTo>
                  <a:lnTo>
                    <a:pt x="323" y="2"/>
                  </a:lnTo>
                  <a:lnTo>
                    <a:pt x="324" y="1"/>
                  </a:lnTo>
                  <a:lnTo>
                    <a:pt x="327" y="1"/>
                  </a:lnTo>
                  <a:lnTo>
                    <a:pt x="327" y="1"/>
                  </a:lnTo>
                  <a:close/>
                  <a:moveTo>
                    <a:pt x="650" y="10"/>
                  </a:moveTo>
                  <a:lnTo>
                    <a:pt x="697" y="14"/>
                  </a:lnTo>
                  <a:lnTo>
                    <a:pt x="782" y="22"/>
                  </a:lnTo>
                  <a:lnTo>
                    <a:pt x="849" y="31"/>
                  </a:lnTo>
                  <a:lnTo>
                    <a:pt x="852" y="33"/>
                  </a:lnTo>
                  <a:lnTo>
                    <a:pt x="854" y="34"/>
                  </a:lnTo>
                  <a:lnTo>
                    <a:pt x="855" y="35"/>
                  </a:lnTo>
                  <a:lnTo>
                    <a:pt x="855" y="38"/>
                  </a:lnTo>
                  <a:lnTo>
                    <a:pt x="855" y="40"/>
                  </a:lnTo>
                  <a:lnTo>
                    <a:pt x="852" y="43"/>
                  </a:lnTo>
                  <a:lnTo>
                    <a:pt x="851" y="43"/>
                  </a:lnTo>
                  <a:lnTo>
                    <a:pt x="848" y="44"/>
                  </a:lnTo>
                  <a:lnTo>
                    <a:pt x="781" y="34"/>
                  </a:lnTo>
                  <a:lnTo>
                    <a:pt x="696" y="25"/>
                  </a:lnTo>
                  <a:lnTo>
                    <a:pt x="648" y="21"/>
                  </a:lnTo>
                  <a:lnTo>
                    <a:pt x="646" y="21"/>
                  </a:lnTo>
                  <a:lnTo>
                    <a:pt x="644" y="19"/>
                  </a:lnTo>
                  <a:lnTo>
                    <a:pt x="643" y="17"/>
                  </a:lnTo>
                  <a:lnTo>
                    <a:pt x="643" y="15"/>
                  </a:lnTo>
                  <a:lnTo>
                    <a:pt x="643" y="12"/>
                  </a:lnTo>
                  <a:lnTo>
                    <a:pt x="644" y="11"/>
                  </a:lnTo>
                  <a:lnTo>
                    <a:pt x="647" y="10"/>
                  </a:lnTo>
                  <a:lnTo>
                    <a:pt x="650" y="10"/>
                  </a:lnTo>
                  <a:lnTo>
                    <a:pt x="650" y="10"/>
                  </a:lnTo>
                  <a:close/>
                  <a:moveTo>
                    <a:pt x="969" y="50"/>
                  </a:moveTo>
                  <a:lnTo>
                    <a:pt x="1034" y="63"/>
                  </a:lnTo>
                  <a:lnTo>
                    <a:pt x="1117" y="82"/>
                  </a:lnTo>
                  <a:lnTo>
                    <a:pt x="1165" y="93"/>
                  </a:lnTo>
                  <a:lnTo>
                    <a:pt x="1166" y="94"/>
                  </a:lnTo>
                  <a:lnTo>
                    <a:pt x="1169" y="96"/>
                  </a:lnTo>
                  <a:lnTo>
                    <a:pt x="1169" y="98"/>
                  </a:lnTo>
                  <a:lnTo>
                    <a:pt x="1169" y="101"/>
                  </a:lnTo>
                  <a:lnTo>
                    <a:pt x="1168" y="102"/>
                  </a:lnTo>
                  <a:lnTo>
                    <a:pt x="1166" y="105"/>
                  </a:lnTo>
                  <a:lnTo>
                    <a:pt x="1164" y="105"/>
                  </a:lnTo>
                  <a:lnTo>
                    <a:pt x="1161" y="105"/>
                  </a:lnTo>
                  <a:lnTo>
                    <a:pt x="1113" y="93"/>
                  </a:lnTo>
                  <a:lnTo>
                    <a:pt x="1031" y="75"/>
                  </a:lnTo>
                  <a:lnTo>
                    <a:pt x="967" y="63"/>
                  </a:lnTo>
                  <a:lnTo>
                    <a:pt x="964" y="62"/>
                  </a:lnTo>
                  <a:lnTo>
                    <a:pt x="963" y="60"/>
                  </a:lnTo>
                  <a:lnTo>
                    <a:pt x="961" y="58"/>
                  </a:lnTo>
                  <a:lnTo>
                    <a:pt x="961" y="55"/>
                  </a:lnTo>
                  <a:lnTo>
                    <a:pt x="963" y="53"/>
                  </a:lnTo>
                  <a:lnTo>
                    <a:pt x="964" y="51"/>
                  </a:lnTo>
                  <a:lnTo>
                    <a:pt x="967" y="50"/>
                  </a:lnTo>
                  <a:lnTo>
                    <a:pt x="969" y="50"/>
                  </a:lnTo>
                  <a:lnTo>
                    <a:pt x="969" y="50"/>
                  </a:lnTo>
                  <a:close/>
                  <a:moveTo>
                    <a:pt x="1281" y="125"/>
                  </a:moveTo>
                  <a:lnTo>
                    <a:pt x="1360" y="149"/>
                  </a:lnTo>
                  <a:lnTo>
                    <a:pt x="1441" y="175"/>
                  </a:lnTo>
                  <a:lnTo>
                    <a:pt x="1471" y="187"/>
                  </a:lnTo>
                  <a:lnTo>
                    <a:pt x="1472" y="188"/>
                  </a:lnTo>
                  <a:lnTo>
                    <a:pt x="1474" y="189"/>
                  </a:lnTo>
                  <a:lnTo>
                    <a:pt x="1474" y="192"/>
                  </a:lnTo>
                  <a:lnTo>
                    <a:pt x="1474" y="194"/>
                  </a:lnTo>
                  <a:lnTo>
                    <a:pt x="1472" y="197"/>
                  </a:lnTo>
                  <a:lnTo>
                    <a:pt x="1469" y="198"/>
                  </a:lnTo>
                  <a:lnTo>
                    <a:pt x="1468" y="198"/>
                  </a:lnTo>
                  <a:lnTo>
                    <a:pt x="1465" y="198"/>
                  </a:lnTo>
                  <a:lnTo>
                    <a:pt x="1436" y="187"/>
                  </a:lnTo>
                  <a:lnTo>
                    <a:pt x="1356" y="160"/>
                  </a:lnTo>
                  <a:lnTo>
                    <a:pt x="1277" y="136"/>
                  </a:lnTo>
                  <a:lnTo>
                    <a:pt x="1274" y="135"/>
                  </a:lnTo>
                  <a:lnTo>
                    <a:pt x="1272" y="132"/>
                  </a:lnTo>
                  <a:lnTo>
                    <a:pt x="1272" y="130"/>
                  </a:lnTo>
                  <a:lnTo>
                    <a:pt x="1272" y="129"/>
                  </a:lnTo>
                  <a:lnTo>
                    <a:pt x="1274" y="126"/>
                  </a:lnTo>
                  <a:lnTo>
                    <a:pt x="1275" y="125"/>
                  </a:lnTo>
                  <a:lnTo>
                    <a:pt x="1278" y="123"/>
                  </a:lnTo>
                  <a:lnTo>
                    <a:pt x="1281" y="125"/>
                  </a:lnTo>
                  <a:lnTo>
                    <a:pt x="1281" y="125"/>
                  </a:lnTo>
                  <a:close/>
                  <a:moveTo>
                    <a:pt x="1581" y="230"/>
                  </a:moveTo>
                  <a:lnTo>
                    <a:pt x="1598" y="236"/>
                  </a:lnTo>
                  <a:lnTo>
                    <a:pt x="1675" y="269"/>
                  </a:lnTo>
                  <a:lnTo>
                    <a:pt x="1750" y="304"/>
                  </a:lnTo>
                  <a:lnTo>
                    <a:pt x="1763" y="310"/>
                  </a:lnTo>
                  <a:lnTo>
                    <a:pt x="1764" y="312"/>
                  </a:lnTo>
                  <a:lnTo>
                    <a:pt x="1765" y="314"/>
                  </a:lnTo>
                  <a:lnTo>
                    <a:pt x="1765" y="317"/>
                  </a:lnTo>
                  <a:lnTo>
                    <a:pt x="1764" y="319"/>
                  </a:lnTo>
                  <a:lnTo>
                    <a:pt x="1763" y="321"/>
                  </a:lnTo>
                  <a:lnTo>
                    <a:pt x="1760" y="322"/>
                  </a:lnTo>
                  <a:lnTo>
                    <a:pt x="1758" y="322"/>
                  </a:lnTo>
                  <a:lnTo>
                    <a:pt x="1756" y="321"/>
                  </a:lnTo>
                  <a:lnTo>
                    <a:pt x="1744" y="315"/>
                  </a:lnTo>
                  <a:lnTo>
                    <a:pt x="1669" y="280"/>
                  </a:lnTo>
                  <a:lnTo>
                    <a:pt x="1592" y="247"/>
                  </a:lnTo>
                  <a:lnTo>
                    <a:pt x="1576" y="241"/>
                  </a:lnTo>
                  <a:lnTo>
                    <a:pt x="1574" y="238"/>
                  </a:lnTo>
                  <a:lnTo>
                    <a:pt x="1573" y="237"/>
                  </a:lnTo>
                  <a:lnTo>
                    <a:pt x="1571" y="235"/>
                  </a:lnTo>
                  <a:lnTo>
                    <a:pt x="1573" y="232"/>
                  </a:lnTo>
                  <a:lnTo>
                    <a:pt x="1574" y="231"/>
                  </a:lnTo>
                  <a:lnTo>
                    <a:pt x="1576" y="230"/>
                  </a:lnTo>
                  <a:lnTo>
                    <a:pt x="1578" y="228"/>
                  </a:lnTo>
                  <a:lnTo>
                    <a:pt x="1581" y="230"/>
                  </a:lnTo>
                  <a:lnTo>
                    <a:pt x="1581" y="230"/>
                  </a:lnTo>
                  <a:close/>
                  <a:moveTo>
                    <a:pt x="1867" y="365"/>
                  </a:moveTo>
                  <a:lnTo>
                    <a:pt x="1898" y="381"/>
                  </a:lnTo>
                  <a:lnTo>
                    <a:pt x="1971" y="423"/>
                  </a:lnTo>
                  <a:lnTo>
                    <a:pt x="2036" y="463"/>
                  </a:lnTo>
                  <a:lnTo>
                    <a:pt x="2038" y="464"/>
                  </a:lnTo>
                  <a:lnTo>
                    <a:pt x="2039" y="467"/>
                  </a:lnTo>
                  <a:lnTo>
                    <a:pt x="2039" y="470"/>
                  </a:lnTo>
                  <a:lnTo>
                    <a:pt x="2038" y="472"/>
                  </a:lnTo>
                  <a:lnTo>
                    <a:pt x="2036" y="473"/>
                  </a:lnTo>
                  <a:lnTo>
                    <a:pt x="2034" y="475"/>
                  </a:lnTo>
                  <a:lnTo>
                    <a:pt x="2031" y="475"/>
                  </a:lnTo>
                  <a:lnTo>
                    <a:pt x="2028" y="473"/>
                  </a:lnTo>
                  <a:lnTo>
                    <a:pt x="1964" y="433"/>
                  </a:lnTo>
                  <a:lnTo>
                    <a:pt x="1891" y="393"/>
                  </a:lnTo>
                  <a:lnTo>
                    <a:pt x="1860" y="375"/>
                  </a:lnTo>
                  <a:lnTo>
                    <a:pt x="1858" y="374"/>
                  </a:lnTo>
                  <a:lnTo>
                    <a:pt x="1856" y="371"/>
                  </a:lnTo>
                  <a:lnTo>
                    <a:pt x="1856" y="369"/>
                  </a:lnTo>
                  <a:lnTo>
                    <a:pt x="1858" y="367"/>
                  </a:lnTo>
                  <a:lnTo>
                    <a:pt x="1859" y="365"/>
                  </a:lnTo>
                  <a:lnTo>
                    <a:pt x="1862" y="363"/>
                  </a:lnTo>
                  <a:lnTo>
                    <a:pt x="1865" y="363"/>
                  </a:lnTo>
                  <a:lnTo>
                    <a:pt x="1867" y="365"/>
                  </a:lnTo>
                  <a:lnTo>
                    <a:pt x="1867" y="365"/>
                  </a:lnTo>
                  <a:close/>
                  <a:moveTo>
                    <a:pt x="2134" y="528"/>
                  </a:moveTo>
                  <a:lnTo>
                    <a:pt x="2180" y="560"/>
                  </a:lnTo>
                  <a:lnTo>
                    <a:pt x="2246" y="610"/>
                  </a:lnTo>
                  <a:lnTo>
                    <a:pt x="2289" y="644"/>
                  </a:lnTo>
                  <a:lnTo>
                    <a:pt x="2290" y="645"/>
                  </a:lnTo>
                  <a:lnTo>
                    <a:pt x="2292" y="648"/>
                  </a:lnTo>
                  <a:lnTo>
                    <a:pt x="2292" y="650"/>
                  </a:lnTo>
                  <a:lnTo>
                    <a:pt x="2290" y="653"/>
                  </a:lnTo>
                  <a:lnTo>
                    <a:pt x="2288" y="654"/>
                  </a:lnTo>
                  <a:lnTo>
                    <a:pt x="2285" y="654"/>
                  </a:lnTo>
                  <a:lnTo>
                    <a:pt x="2282" y="654"/>
                  </a:lnTo>
                  <a:lnTo>
                    <a:pt x="2281" y="653"/>
                  </a:lnTo>
                  <a:lnTo>
                    <a:pt x="2237" y="619"/>
                  </a:lnTo>
                  <a:lnTo>
                    <a:pt x="2172" y="569"/>
                  </a:lnTo>
                  <a:lnTo>
                    <a:pt x="2126" y="538"/>
                  </a:lnTo>
                  <a:lnTo>
                    <a:pt x="2124" y="535"/>
                  </a:lnTo>
                  <a:lnTo>
                    <a:pt x="2123" y="534"/>
                  </a:lnTo>
                  <a:lnTo>
                    <a:pt x="2123" y="531"/>
                  </a:lnTo>
                  <a:lnTo>
                    <a:pt x="2124" y="529"/>
                  </a:lnTo>
                  <a:lnTo>
                    <a:pt x="2126" y="528"/>
                  </a:lnTo>
                  <a:lnTo>
                    <a:pt x="2128" y="526"/>
                  </a:lnTo>
                  <a:lnTo>
                    <a:pt x="2131" y="526"/>
                  </a:lnTo>
                  <a:lnTo>
                    <a:pt x="2134" y="528"/>
                  </a:lnTo>
                  <a:lnTo>
                    <a:pt x="2134" y="528"/>
                  </a:lnTo>
                  <a:close/>
                  <a:moveTo>
                    <a:pt x="2378" y="718"/>
                  </a:moveTo>
                  <a:lnTo>
                    <a:pt x="2437" y="770"/>
                  </a:lnTo>
                  <a:lnTo>
                    <a:pt x="2497" y="827"/>
                  </a:lnTo>
                  <a:lnTo>
                    <a:pt x="2499" y="829"/>
                  </a:lnTo>
                  <a:lnTo>
                    <a:pt x="2500" y="832"/>
                  </a:lnTo>
                  <a:lnTo>
                    <a:pt x="2499" y="833"/>
                  </a:lnTo>
                  <a:lnTo>
                    <a:pt x="2497" y="836"/>
                  </a:lnTo>
                  <a:lnTo>
                    <a:pt x="2494" y="837"/>
                  </a:lnTo>
                  <a:lnTo>
                    <a:pt x="2493" y="837"/>
                  </a:lnTo>
                  <a:lnTo>
                    <a:pt x="2490" y="837"/>
                  </a:lnTo>
                  <a:lnTo>
                    <a:pt x="2487" y="836"/>
                  </a:lnTo>
                  <a:lnTo>
                    <a:pt x="2427" y="779"/>
                  </a:lnTo>
                  <a:lnTo>
                    <a:pt x="2369" y="726"/>
                  </a:lnTo>
                  <a:lnTo>
                    <a:pt x="2367" y="725"/>
                  </a:lnTo>
                  <a:lnTo>
                    <a:pt x="2367" y="722"/>
                  </a:lnTo>
                  <a:lnTo>
                    <a:pt x="2367" y="720"/>
                  </a:lnTo>
                  <a:lnTo>
                    <a:pt x="2369" y="718"/>
                  </a:lnTo>
                  <a:lnTo>
                    <a:pt x="2371" y="716"/>
                  </a:lnTo>
                  <a:lnTo>
                    <a:pt x="2374" y="716"/>
                  </a:lnTo>
                  <a:lnTo>
                    <a:pt x="2376" y="716"/>
                  </a:lnTo>
                  <a:lnTo>
                    <a:pt x="2378" y="718"/>
                  </a:lnTo>
                  <a:lnTo>
                    <a:pt x="2378" y="7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38960" y="3173400"/>
              <a:ext cx="101520" cy="11916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91" y="0"/>
                  </a:moveTo>
                  <a:lnTo>
                    <a:pt x="126" y="118"/>
                  </a:lnTo>
                  <a:lnTo>
                    <a:pt x="0" y="7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71760" y="2392200"/>
              <a:ext cx="4002120" cy="1984680"/>
            </a:xfrm>
            <a:custGeom>
              <a:avLst/>
              <a:gdLst/>
              <a:ahLst/>
              <a:rect l="l" t="t" r="r" b="b"/>
              <a:pathLst>
                <a:path w="4828" h="1934">
                  <a:moveTo>
                    <a:pt x="9" y="0"/>
                  </a:moveTo>
                  <a:lnTo>
                    <a:pt x="169" y="38"/>
                  </a:lnTo>
                  <a:lnTo>
                    <a:pt x="204" y="47"/>
                  </a:lnTo>
                  <a:lnTo>
                    <a:pt x="206" y="48"/>
                  </a:lnTo>
                  <a:lnTo>
                    <a:pt x="207" y="49"/>
                  </a:lnTo>
                  <a:lnTo>
                    <a:pt x="209" y="52"/>
                  </a:lnTo>
                  <a:lnTo>
                    <a:pt x="209" y="54"/>
                  </a:lnTo>
                  <a:lnTo>
                    <a:pt x="207" y="56"/>
                  </a:lnTo>
                  <a:lnTo>
                    <a:pt x="206" y="58"/>
                  </a:lnTo>
                  <a:lnTo>
                    <a:pt x="203" y="58"/>
                  </a:lnTo>
                  <a:lnTo>
                    <a:pt x="200" y="58"/>
                  </a:lnTo>
                  <a:lnTo>
                    <a:pt x="167" y="50"/>
                  </a:lnTo>
                  <a:lnTo>
                    <a:pt x="6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  <a:moveTo>
                    <a:pt x="320" y="76"/>
                  </a:moveTo>
                  <a:lnTo>
                    <a:pt x="329" y="77"/>
                  </a:lnTo>
                  <a:lnTo>
                    <a:pt x="488" y="119"/>
                  </a:lnTo>
                  <a:lnTo>
                    <a:pt x="514" y="125"/>
                  </a:lnTo>
                  <a:lnTo>
                    <a:pt x="516" y="126"/>
                  </a:lnTo>
                  <a:lnTo>
                    <a:pt x="517" y="128"/>
                  </a:lnTo>
                  <a:lnTo>
                    <a:pt x="519" y="130"/>
                  </a:lnTo>
                  <a:lnTo>
                    <a:pt x="519" y="133"/>
                  </a:lnTo>
                  <a:lnTo>
                    <a:pt x="517" y="135"/>
                  </a:lnTo>
                  <a:lnTo>
                    <a:pt x="514" y="136"/>
                  </a:lnTo>
                  <a:lnTo>
                    <a:pt x="513" y="136"/>
                  </a:lnTo>
                  <a:lnTo>
                    <a:pt x="510" y="136"/>
                  </a:lnTo>
                  <a:lnTo>
                    <a:pt x="485" y="130"/>
                  </a:lnTo>
                  <a:lnTo>
                    <a:pt x="326" y="90"/>
                  </a:lnTo>
                  <a:lnTo>
                    <a:pt x="316" y="87"/>
                  </a:lnTo>
                  <a:lnTo>
                    <a:pt x="315" y="86"/>
                  </a:lnTo>
                  <a:lnTo>
                    <a:pt x="312" y="85"/>
                  </a:lnTo>
                  <a:lnTo>
                    <a:pt x="312" y="82"/>
                  </a:lnTo>
                  <a:lnTo>
                    <a:pt x="312" y="80"/>
                  </a:lnTo>
                  <a:lnTo>
                    <a:pt x="313" y="77"/>
                  </a:lnTo>
                  <a:lnTo>
                    <a:pt x="315" y="76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0" y="76"/>
                  </a:lnTo>
                  <a:close/>
                  <a:moveTo>
                    <a:pt x="629" y="157"/>
                  </a:moveTo>
                  <a:lnTo>
                    <a:pt x="647" y="160"/>
                  </a:lnTo>
                  <a:lnTo>
                    <a:pt x="805" y="205"/>
                  </a:lnTo>
                  <a:lnTo>
                    <a:pt x="822" y="210"/>
                  </a:lnTo>
                  <a:lnTo>
                    <a:pt x="824" y="210"/>
                  </a:lnTo>
                  <a:lnTo>
                    <a:pt x="826" y="212"/>
                  </a:lnTo>
                  <a:lnTo>
                    <a:pt x="826" y="215"/>
                  </a:lnTo>
                  <a:lnTo>
                    <a:pt x="826" y="217"/>
                  </a:lnTo>
                  <a:lnTo>
                    <a:pt x="824" y="218"/>
                  </a:lnTo>
                  <a:lnTo>
                    <a:pt x="823" y="220"/>
                  </a:lnTo>
                  <a:lnTo>
                    <a:pt x="820" y="221"/>
                  </a:lnTo>
                  <a:lnTo>
                    <a:pt x="817" y="221"/>
                  </a:lnTo>
                  <a:lnTo>
                    <a:pt x="801" y="216"/>
                  </a:lnTo>
                  <a:lnTo>
                    <a:pt x="643" y="172"/>
                  </a:lnTo>
                  <a:lnTo>
                    <a:pt x="626" y="168"/>
                  </a:lnTo>
                  <a:lnTo>
                    <a:pt x="623" y="167"/>
                  </a:lnTo>
                  <a:lnTo>
                    <a:pt x="622" y="164"/>
                  </a:lnTo>
                  <a:lnTo>
                    <a:pt x="620" y="163"/>
                  </a:lnTo>
                  <a:lnTo>
                    <a:pt x="620" y="160"/>
                  </a:lnTo>
                  <a:lnTo>
                    <a:pt x="622" y="158"/>
                  </a:lnTo>
                  <a:lnTo>
                    <a:pt x="625" y="157"/>
                  </a:lnTo>
                  <a:lnTo>
                    <a:pt x="626" y="155"/>
                  </a:lnTo>
                  <a:lnTo>
                    <a:pt x="629" y="157"/>
                  </a:lnTo>
                  <a:lnTo>
                    <a:pt x="629" y="157"/>
                  </a:lnTo>
                  <a:close/>
                  <a:moveTo>
                    <a:pt x="937" y="242"/>
                  </a:moveTo>
                  <a:lnTo>
                    <a:pt x="963" y="250"/>
                  </a:lnTo>
                  <a:lnTo>
                    <a:pt x="1119" y="296"/>
                  </a:lnTo>
                  <a:lnTo>
                    <a:pt x="1129" y="299"/>
                  </a:lnTo>
                  <a:lnTo>
                    <a:pt x="1130" y="299"/>
                  </a:lnTo>
                  <a:lnTo>
                    <a:pt x="1132" y="302"/>
                  </a:lnTo>
                  <a:lnTo>
                    <a:pt x="1133" y="304"/>
                  </a:lnTo>
                  <a:lnTo>
                    <a:pt x="1133" y="307"/>
                  </a:lnTo>
                  <a:lnTo>
                    <a:pt x="1130" y="308"/>
                  </a:lnTo>
                  <a:lnTo>
                    <a:pt x="1129" y="309"/>
                  </a:lnTo>
                  <a:lnTo>
                    <a:pt x="1126" y="311"/>
                  </a:lnTo>
                  <a:lnTo>
                    <a:pt x="1123" y="311"/>
                  </a:lnTo>
                  <a:lnTo>
                    <a:pt x="1115" y="308"/>
                  </a:lnTo>
                  <a:lnTo>
                    <a:pt x="958" y="261"/>
                  </a:lnTo>
                  <a:lnTo>
                    <a:pt x="933" y="254"/>
                  </a:lnTo>
                  <a:lnTo>
                    <a:pt x="930" y="253"/>
                  </a:lnTo>
                  <a:lnTo>
                    <a:pt x="929" y="250"/>
                  </a:lnTo>
                  <a:lnTo>
                    <a:pt x="928" y="249"/>
                  </a:lnTo>
                  <a:lnTo>
                    <a:pt x="929" y="246"/>
                  </a:lnTo>
                  <a:lnTo>
                    <a:pt x="929" y="244"/>
                  </a:lnTo>
                  <a:lnTo>
                    <a:pt x="932" y="242"/>
                  </a:lnTo>
                  <a:lnTo>
                    <a:pt x="935" y="241"/>
                  </a:lnTo>
                  <a:lnTo>
                    <a:pt x="937" y="242"/>
                  </a:lnTo>
                  <a:lnTo>
                    <a:pt x="937" y="242"/>
                  </a:lnTo>
                  <a:close/>
                  <a:moveTo>
                    <a:pt x="1242" y="333"/>
                  </a:moveTo>
                  <a:lnTo>
                    <a:pt x="1275" y="345"/>
                  </a:lnTo>
                  <a:lnTo>
                    <a:pt x="1432" y="394"/>
                  </a:lnTo>
                  <a:lnTo>
                    <a:pt x="1432" y="394"/>
                  </a:lnTo>
                  <a:lnTo>
                    <a:pt x="1435" y="395"/>
                  </a:lnTo>
                  <a:lnTo>
                    <a:pt x="1436" y="397"/>
                  </a:lnTo>
                  <a:lnTo>
                    <a:pt x="1436" y="399"/>
                  </a:lnTo>
                  <a:lnTo>
                    <a:pt x="1436" y="402"/>
                  </a:lnTo>
                  <a:lnTo>
                    <a:pt x="1435" y="404"/>
                  </a:lnTo>
                  <a:lnTo>
                    <a:pt x="1433" y="405"/>
                  </a:lnTo>
                  <a:lnTo>
                    <a:pt x="1430" y="405"/>
                  </a:lnTo>
                  <a:lnTo>
                    <a:pt x="1428" y="405"/>
                  </a:lnTo>
                  <a:lnTo>
                    <a:pt x="1428" y="405"/>
                  </a:lnTo>
                  <a:lnTo>
                    <a:pt x="1271" y="356"/>
                  </a:lnTo>
                  <a:lnTo>
                    <a:pt x="1238" y="345"/>
                  </a:lnTo>
                  <a:lnTo>
                    <a:pt x="1236" y="344"/>
                  </a:lnTo>
                  <a:lnTo>
                    <a:pt x="1233" y="342"/>
                  </a:lnTo>
                  <a:lnTo>
                    <a:pt x="1233" y="340"/>
                  </a:lnTo>
                  <a:lnTo>
                    <a:pt x="1233" y="337"/>
                  </a:lnTo>
                  <a:lnTo>
                    <a:pt x="1235" y="336"/>
                  </a:lnTo>
                  <a:lnTo>
                    <a:pt x="1238" y="335"/>
                  </a:lnTo>
                  <a:lnTo>
                    <a:pt x="1239" y="333"/>
                  </a:lnTo>
                  <a:lnTo>
                    <a:pt x="1242" y="333"/>
                  </a:lnTo>
                  <a:lnTo>
                    <a:pt x="1242" y="333"/>
                  </a:lnTo>
                  <a:close/>
                  <a:moveTo>
                    <a:pt x="1546" y="431"/>
                  </a:moveTo>
                  <a:lnTo>
                    <a:pt x="1587" y="445"/>
                  </a:lnTo>
                  <a:lnTo>
                    <a:pt x="1735" y="495"/>
                  </a:lnTo>
                  <a:lnTo>
                    <a:pt x="1736" y="496"/>
                  </a:lnTo>
                  <a:lnTo>
                    <a:pt x="1738" y="498"/>
                  </a:lnTo>
                  <a:lnTo>
                    <a:pt x="1739" y="500"/>
                  </a:lnTo>
                  <a:lnTo>
                    <a:pt x="1738" y="503"/>
                  </a:lnTo>
                  <a:lnTo>
                    <a:pt x="1736" y="504"/>
                  </a:lnTo>
                  <a:lnTo>
                    <a:pt x="1735" y="505"/>
                  </a:lnTo>
                  <a:lnTo>
                    <a:pt x="1732" y="506"/>
                  </a:lnTo>
                  <a:lnTo>
                    <a:pt x="1729" y="506"/>
                  </a:lnTo>
                  <a:lnTo>
                    <a:pt x="1583" y="456"/>
                  </a:lnTo>
                  <a:lnTo>
                    <a:pt x="1541" y="442"/>
                  </a:lnTo>
                  <a:lnTo>
                    <a:pt x="1539" y="441"/>
                  </a:lnTo>
                  <a:lnTo>
                    <a:pt x="1538" y="439"/>
                  </a:lnTo>
                  <a:lnTo>
                    <a:pt x="1537" y="437"/>
                  </a:lnTo>
                  <a:lnTo>
                    <a:pt x="1537" y="434"/>
                  </a:lnTo>
                  <a:lnTo>
                    <a:pt x="1538" y="433"/>
                  </a:lnTo>
                  <a:lnTo>
                    <a:pt x="1541" y="432"/>
                  </a:lnTo>
                  <a:lnTo>
                    <a:pt x="1543" y="431"/>
                  </a:lnTo>
                  <a:lnTo>
                    <a:pt x="1546" y="431"/>
                  </a:lnTo>
                  <a:lnTo>
                    <a:pt x="1546" y="431"/>
                  </a:lnTo>
                  <a:close/>
                  <a:moveTo>
                    <a:pt x="1846" y="534"/>
                  </a:moveTo>
                  <a:lnTo>
                    <a:pt x="1895" y="551"/>
                  </a:lnTo>
                  <a:lnTo>
                    <a:pt x="2034" y="601"/>
                  </a:lnTo>
                  <a:lnTo>
                    <a:pt x="2036" y="602"/>
                  </a:lnTo>
                  <a:lnTo>
                    <a:pt x="2038" y="604"/>
                  </a:lnTo>
                  <a:lnTo>
                    <a:pt x="2038" y="606"/>
                  </a:lnTo>
                  <a:lnTo>
                    <a:pt x="2038" y="609"/>
                  </a:lnTo>
                  <a:lnTo>
                    <a:pt x="2036" y="611"/>
                  </a:lnTo>
                  <a:lnTo>
                    <a:pt x="2034" y="613"/>
                  </a:lnTo>
                  <a:lnTo>
                    <a:pt x="2031" y="613"/>
                  </a:lnTo>
                  <a:lnTo>
                    <a:pt x="2029" y="613"/>
                  </a:lnTo>
                  <a:lnTo>
                    <a:pt x="1891" y="562"/>
                  </a:lnTo>
                  <a:lnTo>
                    <a:pt x="1842" y="546"/>
                  </a:lnTo>
                  <a:lnTo>
                    <a:pt x="1840" y="544"/>
                  </a:lnTo>
                  <a:lnTo>
                    <a:pt x="1838" y="542"/>
                  </a:lnTo>
                  <a:lnTo>
                    <a:pt x="1838" y="539"/>
                  </a:lnTo>
                  <a:lnTo>
                    <a:pt x="1838" y="538"/>
                  </a:lnTo>
                  <a:lnTo>
                    <a:pt x="1840" y="535"/>
                  </a:lnTo>
                  <a:lnTo>
                    <a:pt x="1841" y="534"/>
                  </a:lnTo>
                  <a:lnTo>
                    <a:pt x="1844" y="533"/>
                  </a:lnTo>
                  <a:lnTo>
                    <a:pt x="1846" y="534"/>
                  </a:lnTo>
                  <a:lnTo>
                    <a:pt x="1846" y="534"/>
                  </a:lnTo>
                  <a:close/>
                  <a:moveTo>
                    <a:pt x="2145" y="643"/>
                  </a:moveTo>
                  <a:lnTo>
                    <a:pt x="2201" y="663"/>
                  </a:lnTo>
                  <a:lnTo>
                    <a:pt x="2331" y="712"/>
                  </a:lnTo>
                  <a:lnTo>
                    <a:pt x="2334" y="714"/>
                  </a:lnTo>
                  <a:lnTo>
                    <a:pt x="2334" y="716"/>
                  </a:lnTo>
                  <a:lnTo>
                    <a:pt x="2335" y="719"/>
                  </a:lnTo>
                  <a:lnTo>
                    <a:pt x="2335" y="721"/>
                  </a:lnTo>
                  <a:lnTo>
                    <a:pt x="2332" y="722"/>
                  </a:lnTo>
                  <a:lnTo>
                    <a:pt x="2331" y="724"/>
                  </a:lnTo>
                  <a:lnTo>
                    <a:pt x="2328" y="724"/>
                  </a:lnTo>
                  <a:lnTo>
                    <a:pt x="2325" y="724"/>
                  </a:lnTo>
                  <a:lnTo>
                    <a:pt x="2197" y="674"/>
                  </a:lnTo>
                  <a:lnTo>
                    <a:pt x="2141" y="653"/>
                  </a:lnTo>
                  <a:lnTo>
                    <a:pt x="2138" y="652"/>
                  </a:lnTo>
                  <a:lnTo>
                    <a:pt x="2137" y="650"/>
                  </a:lnTo>
                  <a:lnTo>
                    <a:pt x="2136" y="648"/>
                  </a:lnTo>
                  <a:lnTo>
                    <a:pt x="2137" y="645"/>
                  </a:lnTo>
                  <a:lnTo>
                    <a:pt x="2138" y="644"/>
                  </a:lnTo>
                  <a:lnTo>
                    <a:pt x="2140" y="643"/>
                  </a:lnTo>
                  <a:lnTo>
                    <a:pt x="2143" y="642"/>
                  </a:lnTo>
                  <a:lnTo>
                    <a:pt x="2145" y="643"/>
                  </a:lnTo>
                  <a:lnTo>
                    <a:pt x="2145" y="643"/>
                  </a:lnTo>
                  <a:close/>
                  <a:moveTo>
                    <a:pt x="2441" y="757"/>
                  </a:moveTo>
                  <a:lnTo>
                    <a:pt x="2506" y="781"/>
                  </a:lnTo>
                  <a:lnTo>
                    <a:pt x="2626" y="830"/>
                  </a:lnTo>
                  <a:lnTo>
                    <a:pt x="2627" y="831"/>
                  </a:lnTo>
                  <a:lnTo>
                    <a:pt x="2628" y="834"/>
                  </a:lnTo>
                  <a:lnTo>
                    <a:pt x="2630" y="835"/>
                  </a:lnTo>
                  <a:lnTo>
                    <a:pt x="2628" y="837"/>
                  </a:lnTo>
                  <a:lnTo>
                    <a:pt x="2627" y="840"/>
                  </a:lnTo>
                  <a:lnTo>
                    <a:pt x="2626" y="841"/>
                  </a:lnTo>
                  <a:lnTo>
                    <a:pt x="2623" y="841"/>
                  </a:lnTo>
                  <a:lnTo>
                    <a:pt x="2620" y="841"/>
                  </a:lnTo>
                  <a:lnTo>
                    <a:pt x="2500" y="792"/>
                  </a:lnTo>
                  <a:lnTo>
                    <a:pt x="2437" y="767"/>
                  </a:lnTo>
                  <a:lnTo>
                    <a:pt x="2434" y="765"/>
                  </a:lnTo>
                  <a:lnTo>
                    <a:pt x="2433" y="764"/>
                  </a:lnTo>
                  <a:lnTo>
                    <a:pt x="2433" y="762"/>
                  </a:lnTo>
                  <a:lnTo>
                    <a:pt x="2433" y="759"/>
                  </a:lnTo>
                  <a:lnTo>
                    <a:pt x="2434" y="757"/>
                  </a:lnTo>
                  <a:lnTo>
                    <a:pt x="2437" y="755"/>
                  </a:lnTo>
                  <a:lnTo>
                    <a:pt x="2439" y="755"/>
                  </a:lnTo>
                  <a:lnTo>
                    <a:pt x="2441" y="757"/>
                  </a:lnTo>
                  <a:lnTo>
                    <a:pt x="2441" y="757"/>
                  </a:lnTo>
                  <a:close/>
                  <a:moveTo>
                    <a:pt x="2736" y="875"/>
                  </a:moveTo>
                  <a:lnTo>
                    <a:pt x="2806" y="904"/>
                  </a:lnTo>
                  <a:lnTo>
                    <a:pt x="2918" y="952"/>
                  </a:lnTo>
                  <a:lnTo>
                    <a:pt x="2920" y="954"/>
                  </a:lnTo>
                  <a:lnTo>
                    <a:pt x="2922" y="956"/>
                  </a:lnTo>
                  <a:lnTo>
                    <a:pt x="2922" y="957"/>
                  </a:lnTo>
                  <a:lnTo>
                    <a:pt x="2920" y="960"/>
                  </a:lnTo>
                  <a:lnTo>
                    <a:pt x="2919" y="962"/>
                  </a:lnTo>
                  <a:lnTo>
                    <a:pt x="2918" y="964"/>
                  </a:lnTo>
                  <a:lnTo>
                    <a:pt x="2915" y="964"/>
                  </a:lnTo>
                  <a:lnTo>
                    <a:pt x="2912" y="964"/>
                  </a:lnTo>
                  <a:lnTo>
                    <a:pt x="2800" y="916"/>
                  </a:lnTo>
                  <a:lnTo>
                    <a:pt x="2730" y="887"/>
                  </a:lnTo>
                  <a:lnTo>
                    <a:pt x="2728" y="884"/>
                  </a:lnTo>
                  <a:lnTo>
                    <a:pt x="2726" y="883"/>
                  </a:lnTo>
                  <a:lnTo>
                    <a:pt x="2726" y="880"/>
                  </a:lnTo>
                  <a:lnTo>
                    <a:pt x="2726" y="878"/>
                  </a:lnTo>
                  <a:lnTo>
                    <a:pt x="2728" y="876"/>
                  </a:lnTo>
                  <a:lnTo>
                    <a:pt x="2730" y="875"/>
                  </a:lnTo>
                  <a:lnTo>
                    <a:pt x="2733" y="874"/>
                  </a:lnTo>
                  <a:lnTo>
                    <a:pt x="2736" y="875"/>
                  </a:lnTo>
                  <a:lnTo>
                    <a:pt x="2736" y="875"/>
                  </a:lnTo>
                  <a:close/>
                  <a:moveTo>
                    <a:pt x="3026" y="999"/>
                  </a:moveTo>
                  <a:lnTo>
                    <a:pt x="3103" y="1033"/>
                  </a:lnTo>
                  <a:lnTo>
                    <a:pt x="3207" y="1080"/>
                  </a:lnTo>
                  <a:lnTo>
                    <a:pt x="3209" y="1081"/>
                  </a:lnTo>
                  <a:lnTo>
                    <a:pt x="3211" y="1084"/>
                  </a:lnTo>
                  <a:lnTo>
                    <a:pt x="3211" y="1086"/>
                  </a:lnTo>
                  <a:lnTo>
                    <a:pt x="3209" y="1089"/>
                  </a:lnTo>
                  <a:lnTo>
                    <a:pt x="3208" y="1090"/>
                  </a:lnTo>
                  <a:lnTo>
                    <a:pt x="3207" y="1091"/>
                  </a:lnTo>
                  <a:lnTo>
                    <a:pt x="3204" y="1091"/>
                  </a:lnTo>
                  <a:lnTo>
                    <a:pt x="3201" y="1091"/>
                  </a:lnTo>
                  <a:lnTo>
                    <a:pt x="3098" y="1044"/>
                  </a:lnTo>
                  <a:lnTo>
                    <a:pt x="3021" y="1010"/>
                  </a:lnTo>
                  <a:lnTo>
                    <a:pt x="3018" y="1009"/>
                  </a:lnTo>
                  <a:lnTo>
                    <a:pt x="3017" y="1007"/>
                  </a:lnTo>
                  <a:lnTo>
                    <a:pt x="3017" y="1004"/>
                  </a:lnTo>
                  <a:lnTo>
                    <a:pt x="3018" y="1003"/>
                  </a:lnTo>
                  <a:lnTo>
                    <a:pt x="3019" y="1000"/>
                  </a:lnTo>
                  <a:lnTo>
                    <a:pt x="3021" y="999"/>
                  </a:lnTo>
                  <a:lnTo>
                    <a:pt x="3024" y="999"/>
                  </a:lnTo>
                  <a:lnTo>
                    <a:pt x="3026" y="999"/>
                  </a:lnTo>
                  <a:lnTo>
                    <a:pt x="3026" y="999"/>
                  </a:lnTo>
                  <a:close/>
                  <a:moveTo>
                    <a:pt x="3314" y="1129"/>
                  </a:moveTo>
                  <a:lnTo>
                    <a:pt x="3398" y="1168"/>
                  </a:lnTo>
                  <a:lnTo>
                    <a:pt x="3493" y="1212"/>
                  </a:lnTo>
                  <a:lnTo>
                    <a:pt x="3496" y="1214"/>
                  </a:lnTo>
                  <a:lnTo>
                    <a:pt x="3497" y="1216"/>
                  </a:lnTo>
                  <a:lnTo>
                    <a:pt x="3497" y="1219"/>
                  </a:lnTo>
                  <a:lnTo>
                    <a:pt x="3496" y="1221"/>
                  </a:lnTo>
                  <a:lnTo>
                    <a:pt x="3494" y="1223"/>
                  </a:lnTo>
                  <a:lnTo>
                    <a:pt x="3491" y="1224"/>
                  </a:lnTo>
                  <a:lnTo>
                    <a:pt x="3490" y="1224"/>
                  </a:lnTo>
                  <a:lnTo>
                    <a:pt x="3487" y="1224"/>
                  </a:lnTo>
                  <a:lnTo>
                    <a:pt x="3392" y="1178"/>
                  </a:lnTo>
                  <a:lnTo>
                    <a:pt x="3309" y="1140"/>
                  </a:lnTo>
                  <a:lnTo>
                    <a:pt x="3306" y="1138"/>
                  </a:lnTo>
                  <a:lnTo>
                    <a:pt x="3306" y="1137"/>
                  </a:lnTo>
                  <a:lnTo>
                    <a:pt x="3304" y="1134"/>
                  </a:lnTo>
                  <a:lnTo>
                    <a:pt x="3306" y="1132"/>
                  </a:lnTo>
                  <a:lnTo>
                    <a:pt x="3307" y="1130"/>
                  </a:lnTo>
                  <a:lnTo>
                    <a:pt x="3310" y="1129"/>
                  </a:lnTo>
                  <a:lnTo>
                    <a:pt x="3311" y="1128"/>
                  </a:lnTo>
                  <a:lnTo>
                    <a:pt x="3314" y="1129"/>
                  </a:lnTo>
                  <a:lnTo>
                    <a:pt x="3314" y="1129"/>
                  </a:lnTo>
                  <a:close/>
                  <a:moveTo>
                    <a:pt x="3600" y="1264"/>
                  </a:moveTo>
                  <a:lnTo>
                    <a:pt x="3690" y="1308"/>
                  </a:lnTo>
                  <a:lnTo>
                    <a:pt x="3776" y="1351"/>
                  </a:lnTo>
                  <a:lnTo>
                    <a:pt x="3779" y="1353"/>
                  </a:lnTo>
                  <a:lnTo>
                    <a:pt x="3779" y="1355"/>
                  </a:lnTo>
                  <a:lnTo>
                    <a:pt x="3780" y="1356"/>
                  </a:lnTo>
                  <a:lnTo>
                    <a:pt x="3779" y="1359"/>
                  </a:lnTo>
                  <a:lnTo>
                    <a:pt x="3778" y="1361"/>
                  </a:lnTo>
                  <a:lnTo>
                    <a:pt x="3775" y="1361"/>
                  </a:lnTo>
                  <a:lnTo>
                    <a:pt x="3772" y="1363"/>
                  </a:lnTo>
                  <a:lnTo>
                    <a:pt x="3771" y="1361"/>
                  </a:lnTo>
                  <a:lnTo>
                    <a:pt x="3684" y="1319"/>
                  </a:lnTo>
                  <a:lnTo>
                    <a:pt x="3593" y="1274"/>
                  </a:lnTo>
                  <a:lnTo>
                    <a:pt x="3592" y="1273"/>
                  </a:lnTo>
                  <a:lnTo>
                    <a:pt x="3591" y="1271"/>
                  </a:lnTo>
                  <a:lnTo>
                    <a:pt x="3589" y="1269"/>
                  </a:lnTo>
                  <a:lnTo>
                    <a:pt x="3591" y="1267"/>
                  </a:lnTo>
                  <a:lnTo>
                    <a:pt x="3592" y="1264"/>
                  </a:lnTo>
                  <a:lnTo>
                    <a:pt x="3595" y="1263"/>
                  </a:lnTo>
                  <a:lnTo>
                    <a:pt x="3598" y="1263"/>
                  </a:lnTo>
                  <a:lnTo>
                    <a:pt x="3600" y="1264"/>
                  </a:lnTo>
                  <a:lnTo>
                    <a:pt x="3600" y="1264"/>
                  </a:lnTo>
                  <a:close/>
                  <a:moveTo>
                    <a:pt x="3882" y="1404"/>
                  </a:moveTo>
                  <a:lnTo>
                    <a:pt x="3979" y="1454"/>
                  </a:lnTo>
                  <a:lnTo>
                    <a:pt x="4057" y="1494"/>
                  </a:lnTo>
                  <a:lnTo>
                    <a:pt x="4058" y="1495"/>
                  </a:lnTo>
                  <a:lnTo>
                    <a:pt x="4060" y="1498"/>
                  </a:lnTo>
                  <a:lnTo>
                    <a:pt x="4060" y="1500"/>
                  </a:lnTo>
                  <a:lnTo>
                    <a:pt x="4060" y="1503"/>
                  </a:lnTo>
                  <a:lnTo>
                    <a:pt x="4057" y="1504"/>
                  </a:lnTo>
                  <a:lnTo>
                    <a:pt x="4056" y="1505"/>
                  </a:lnTo>
                  <a:lnTo>
                    <a:pt x="4053" y="1505"/>
                  </a:lnTo>
                  <a:lnTo>
                    <a:pt x="4050" y="1505"/>
                  </a:lnTo>
                  <a:lnTo>
                    <a:pt x="3972" y="1464"/>
                  </a:lnTo>
                  <a:lnTo>
                    <a:pt x="3875" y="1415"/>
                  </a:lnTo>
                  <a:lnTo>
                    <a:pt x="3873" y="1413"/>
                  </a:lnTo>
                  <a:lnTo>
                    <a:pt x="3873" y="1411"/>
                  </a:lnTo>
                  <a:lnTo>
                    <a:pt x="3871" y="1408"/>
                  </a:lnTo>
                  <a:lnTo>
                    <a:pt x="3873" y="1407"/>
                  </a:lnTo>
                  <a:lnTo>
                    <a:pt x="3874" y="1404"/>
                  </a:lnTo>
                  <a:lnTo>
                    <a:pt x="3877" y="1403"/>
                  </a:lnTo>
                  <a:lnTo>
                    <a:pt x="3880" y="1403"/>
                  </a:lnTo>
                  <a:lnTo>
                    <a:pt x="3882" y="1404"/>
                  </a:lnTo>
                  <a:lnTo>
                    <a:pt x="3882" y="1404"/>
                  </a:lnTo>
                  <a:close/>
                  <a:moveTo>
                    <a:pt x="4160" y="1550"/>
                  </a:moveTo>
                  <a:lnTo>
                    <a:pt x="4264" y="1604"/>
                  </a:lnTo>
                  <a:lnTo>
                    <a:pt x="4333" y="1643"/>
                  </a:lnTo>
                  <a:lnTo>
                    <a:pt x="4335" y="1644"/>
                  </a:lnTo>
                  <a:lnTo>
                    <a:pt x="4336" y="1647"/>
                  </a:lnTo>
                  <a:lnTo>
                    <a:pt x="4336" y="1648"/>
                  </a:lnTo>
                  <a:lnTo>
                    <a:pt x="4336" y="1651"/>
                  </a:lnTo>
                  <a:lnTo>
                    <a:pt x="4333" y="1653"/>
                  </a:lnTo>
                  <a:lnTo>
                    <a:pt x="4332" y="1653"/>
                  </a:lnTo>
                  <a:lnTo>
                    <a:pt x="4329" y="1653"/>
                  </a:lnTo>
                  <a:lnTo>
                    <a:pt x="4326" y="1653"/>
                  </a:lnTo>
                  <a:lnTo>
                    <a:pt x="4257" y="1615"/>
                  </a:lnTo>
                  <a:lnTo>
                    <a:pt x="4155" y="1560"/>
                  </a:lnTo>
                  <a:lnTo>
                    <a:pt x="4152" y="1559"/>
                  </a:lnTo>
                  <a:lnTo>
                    <a:pt x="4151" y="1556"/>
                  </a:lnTo>
                  <a:lnTo>
                    <a:pt x="4151" y="1553"/>
                  </a:lnTo>
                  <a:lnTo>
                    <a:pt x="4152" y="1552"/>
                  </a:lnTo>
                  <a:lnTo>
                    <a:pt x="4153" y="1550"/>
                  </a:lnTo>
                  <a:lnTo>
                    <a:pt x="4156" y="1548"/>
                  </a:lnTo>
                  <a:lnTo>
                    <a:pt x="4159" y="1548"/>
                  </a:lnTo>
                  <a:lnTo>
                    <a:pt x="4160" y="1550"/>
                  </a:lnTo>
                  <a:lnTo>
                    <a:pt x="4160" y="1550"/>
                  </a:lnTo>
                  <a:close/>
                  <a:moveTo>
                    <a:pt x="4437" y="1700"/>
                  </a:moveTo>
                  <a:lnTo>
                    <a:pt x="4546" y="1761"/>
                  </a:lnTo>
                  <a:lnTo>
                    <a:pt x="4607" y="1796"/>
                  </a:lnTo>
                  <a:lnTo>
                    <a:pt x="4609" y="1797"/>
                  </a:lnTo>
                  <a:lnTo>
                    <a:pt x="4610" y="1800"/>
                  </a:lnTo>
                  <a:lnTo>
                    <a:pt x="4610" y="1802"/>
                  </a:lnTo>
                  <a:lnTo>
                    <a:pt x="4610" y="1805"/>
                  </a:lnTo>
                  <a:lnTo>
                    <a:pt x="4607" y="1806"/>
                  </a:lnTo>
                  <a:lnTo>
                    <a:pt x="4604" y="1807"/>
                  </a:lnTo>
                  <a:lnTo>
                    <a:pt x="4603" y="1807"/>
                  </a:lnTo>
                  <a:lnTo>
                    <a:pt x="4600" y="1806"/>
                  </a:lnTo>
                  <a:lnTo>
                    <a:pt x="4539" y="1771"/>
                  </a:lnTo>
                  <a:lnTo>
                    <a:pt x="4430" y="1710"/>
                  </a:lnTo>
                  <a:lnTo>
                    <a:pt x="4427" y="1709"/>
                  </a:lnTo>
                  <a:lnTo>
                    <a:pt x="4427" y="1706"/>
                  </a:lnTo>
                  <a:lnTo>
                    <a:pt x="4427" y="1704"/>
                  </a:lnTo>
                  <a:lnTo>
                    <a:pt x="4427" y="1701"/>
                  </a:lnTo>
                  <a:lnTo>
                    <a:pt x="4428" y="1700"/>
                  </a:lnTo>
                  <a:lnTo>
                    <a:pt x="4431" y="1699"/>
                  </a:lnTo>
                  <a:lnTo>
                    <a:pt x="4434" y="1699"/>
                  </a:lnTo>
                  <a:lnTo>
                    <a:pt x="4437" y="1700"/>
                  </a:lnTo>
                  <a:lnTo>
                    <a:pt x="4437" y="1700"/>
                  </a:lnTo>
                  <a:close/>
                  <a:moveTo>
                    <a:pt x="4709" y="1855"/>
                  </a:moveTo>
                  <a:lnTo>
                    <a:pt x="4825" y="1922"/>
                  </a:lnTo>
                  <a:lnTo>
                    <a:pt x="4826" y="1925"/>
                  </a:lnTo>
                  <a:lnTo>
                    <a:pt x="4828" y="1926"/>
                  </a:lnTo>
                  <a:lnTo>
                    <a:pt x="4828" y="1929"/>
                  </a:lnTo>
                  <a:lnTo>
                    <a:pt x="4826" y="1931"/>
                  </a:lnTo>
                  <a:lnTo>
                    <a:pt x="4825" y="1932"/>
                  </a:lnTo>
                  <a:lnTo>
                    <a:pt x="4822" y="1934"/>
                  </a:lnTo>
                  <a:lnTo>
                    <a:pt x="4819" y="1934"/>
                  </a:lnTo>
                  <a:lnTo>
                    <a:pt x="4817" y="1932"/>
                  </a:lnTo>
                  <a:lnTo>
                    <a:pt x="4702" y="1865"/>
                  </a:lnTo>
                  <a:lnTo>
                    <a:pt x="4699" y="1863"/>
                  </a:lnTo>
                  <a:lnTo>
                    <a:pt x="4698" y="1862"/>
                  </a:lnTo>
                  <a:lnTo>
                    <a:pt x="4699" y="1859"/>
                  </a:lnTo>
                  <a:lnTo>
                    <a:pt x="4699" y="1857"/>
                  </a:lnTo>
                  <a:lnTo>
                    <a:pt x="4701" y="1855"/>
                  </a:lnTo>
                  <a:lnTo>
                    <a:pt x="4703" y="1854"/>
                  </a:lnTo>
                  <a:lnTo>
                    <a:pt x="4706" y="1854"/>
                  </a:lnTo>
                  <a:lnTo>
                    <a:pt x="4709" y="1855"/>
                  </a:lnTo>
                  <a:lnTo>
                    <a:pt x="4709" y="185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29600" y="4316400"/>
              <a:ext cx="110880" cy="108000"/>
            </a:xfrm>
            <a:custGeom>
              <a:avLst/>
              <a:gdLst/>
              <a:ahLst/>
              <a:rect l="l" t="t" r="r" b="b"/>
              <a:pathLst>
                <a:path w="134" h="106">
                  <a:moveTo>
                    <a:pt x="67" y="0"/>
                  </a:moveTo>
                  <a:lnTo>
                    <a:pt x="134" y="106"/>
                  </a:lnTo>
                  <a:lnTo>
                    <a:pt x="0" y="9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87600" y="2392200"/>
              <a:ext cx="1658880" cy="908280"/>
            </a:xfrm>
            <a:custGeom>
              <a:avLst/>
              <a:gdLst/>
              <a:ahLst/>
              <a:rect l="l" t="t" r="r" b="b"/>
              <a:pathLst>
                <a:path w="2001" h="886">
                  <a:moveTo>
                    <a:pt x="1" y="876"/>
                  </a:moveTo>
                  <a:lnTo>
                    <a:pt x="47" y="826"/>
                  </a:lnTo>
                  <a:lnTo>
                    <a:pt x="95" y="776"/>
                  </a:lnTo>
                  <a:lnTo>
                    <a:pt x="134" y="739"/>
                  </a:lnTo>
                  <a:lnTo>
                    <a:pt x="135" y="737"/>
                  </a:lnTo>
                  <a:lnTo>
                    <a:pt x="138" y="736"/>
                  </a:lnTo>
                  <a:lnTo>
                    <a:pt x="141" y="737"/>
                  </a:lnTo>
                  <a:lnTo>
                    <a:pt x="142" y="739"/>
                  </a:lnTo>
                  <a:lnTo>
                    <a:pt x="145" y="740"/>
                  </a:lnTo>
                  <a:lnTo>
                    <a:pt x="145" y="742"/>
                  </a:lnTo>
                  <a:lnTo>
                    <a:pt x="145" y="745"/>
                  </a:lnTo>
                  <a:lnTo>
                    <a:pt x="143" y="747"/>
                  </a:lnTo>
                  <a:lnTo>
                    <a:pt x="104" y="784"/>
                  </a:lnTo>
                  <a:lnTo>
                    <a:pt x="57" y="833"/>
                  </a:lnTo>
                  <a:lnTo>
                    <a:pt x="11" y="884"/>
                  </a:lnTo>
                  <a:lnTo>
                    <a:pt x="9" y="885"/>
                  </a:lnTo>
                  <a:lnTo>
                    <a:pt x="7" y="886"/>
                  </a:lnTo>
                  <a:lnTo>
                    <a:pt x="4" y="886"/>
                  </a:lnTo>
                  <a:lnTo>
                    <a:pt x="2" y="885"/>
                  </a:lnTo>
                  <a:lnTo>
                    <a:pt x="0" y="883"/>
                  </a:lnTo>
                  <a:lnTo>
                    <a:pt x="0" y="880"/>
                  </a:lnTo>
                  <a:lnTo>
                    <a:pt x="0" y="879"/>
                  </a:lnTo>
                  <a:lnTo>
                    <a:pt x="1" y="876"/>
                  </a:lnTo>
                  <a:lnTo>
                    <a:pt x="1" y="876"/>
                  </a:lnTo>
                  <a:close/>
                  <a:moveTo>
                    <a:pt x="219" y="660"/>
                  </a:moveTo>
                  <a:lnTo>
                    <a:pt x="245" y="636"/>
                  </a:lnTo>
                  <a:lnTo>
                    <a:pt x="298" y="592"/>
                  </a:lnTo>
                  <a:lnTo>
                    <a:pt x="353" y="550"/>
                  </a:lnTo>
                  <a:lnTo>
                    <a:pt x="368" y="539"/>
                  </a:lnTo>
                  <a:lnTo>
                    <a:pt x="371" y="538"/>
                  </a:lnTo>
                  <a:lnTo>
                    <a:pt x="372" y="538"/>
                  </a:lnTo>
                  <a:lnTo>
                    <a:pt x="375" y="538"/>
                  </a:lnTo>
                  <a:lnTo>
                    <a:pt x="378" y="540"/>
                  </a:lnTo>
                  <a:lnTo>
                    <a:pt x="379" y="542"/>
                  </a:lnTo>
                  <a:lnTo>
                    <a:pt x="379" y="544"/>
                  </a:lnTo>
                  <a:lnTo>
                    <a:pt x="378" y="547"/>
                  </a:lnTo>
                  <a:lnTo>
                    <a:pt x="377" y="548"/>
                  </a:lnTo>
                  <a:lnTo>
                    <a:pt x="361" y="559"/>
                  </a:lnTo>
                  <a:lnTo>
                    <a:pt x="308" y="602"/>
                  </a:lnTo>
                  <a:lnTo>
                    <a:pt x="255" y="645"/>
                  </a:lnTo>
                  <a:lnTo>
                    <a:pt x="227" y="669"/>
                  </a:lnTo>
                  <a:lnTo>
                    <a:pt x="226" y="670"/>
                  </a:lnTo>
                  <a:lnTo>
                    <a:pt x="223" y="672"/>
                  </a:lnTo>
                  <a:lnTo>
                    <a:pt x="220" y="670"/>
                  </a:lnTo>
                  <a:lnTo>
                    <a:pt x="218" y="669"/>
                  </a:lnTo>
                  <a:lnTo>
                    <a:pt x="216" y="667"/>
                  </a:lnTo>
                  <a:lnTo>
                    <a:pt x="216" y="665"/>
                  </a:lnTo>
                  <a:lnTo>
                    <a:pt x="216" y="663"/>
                  </a:lnTo>
                  <a:lnTo>
                    <a:pt x="219" y="660"/>
                  </a:lnTo>
                  <a:lnTo>
                    <a:pt x="219" y="660"/>
                  </a:lnTo>
                  <a:close/>
                  <a:moveTo>
                    <a:pt x="463" y="471"/>
                  </a:moveTo>
                  <a:lnTo>
                    <a:pt x="465" y="470"/>
                  </a:lnTo>
                  <a:lnTo>
                    <a:pt x="522" y="432"/>
                  </a:lnTo>
                  <a:lnTo>
                    <a:pt x="581" y="395"/>
                  </a:lnTo>
                  <a:lnTo>
                    <a:pt x="628" y="367"/>
                  </a:lnTo>
                  <a:lnTo>
                    <a:pt x="631" y="366"/>
                  </a:lnTo>
                  <a:lnTo>
                    <a:pt x="634" y="366"/>
                  </a:lnTo>
                  <a:lnTo>
                    <a:pt x="636" y="367"/>
                  </a:lnTo>
                  <a:lnTo>
                    <a:pt x="638" y="369"/>
                  </a:lnTo>
                  <a:lnTo>
                    <a:pt x="639" y="371"/>
                  </a:lnTo>
                  <a:lnTo>
                    <a:pt x="639" y="374"/>
                  </a:lnTo>
                  <a:lnTo>
                    <a:pt x="638" y="376"/>
                  </a:lnTo>
                  <a:lnTo>
                    <a:pt x="636" y="377"/>
                  </a:lnTo>
                  <a:lnTo>
                    <a:pt x="589" y="405"/>
                  </a:lnTo>
                  <a:lnTo>
                    <a:pt x="530" y="442"/>
                  </a:lnTo>
                  <a:lnTo>
                    <a:pt x="473" y="480"/>
                  </a:lnTo>
                  <a:lnTo>
                    <a:pt x="472" y="481"/>
                  </a:lnTo>
                  <a:lnTo>
                    <a:pt x="469" y="481"/>
                  </a:lnTo>
                  <a:lnTo>
                    <a:pt x="466" y="482"/>
                  </a:lnTo>
                  <a:lnTo>
                    <a:pt x="463" y="481"/>
                  </a:lnTo>
                  <a:lnTo>
                    <a:pt x="462" y="480"/>
                  </a:lnTo>
                  <a:lnTo>
                    <a:pt x="460" y="477"/>
                  </a:lnTo>
                  <a:lnTo>
                    <a:pt x="460" y="475"/>
                  </a:lnTo>
                  <a:lnTo>
                    <a:pt x="460" y="473"/>
                  </a:lnTo>
                  <a:lnTo>
                    <a:pt x="463" y="471"/>
                  </a:lnTo>
                  <a:lnTo>
                    <a:pt x="463" y="471"/>
                  </a:lnTo>
                  <a:close/>
                  <a:moveTo>
                    <a:pt x="733" y="310"/>
                  </a:moveTo>
                  <a:lnTo>
                    <a:pt x="762" y="295"/>
                  </a:lnTo>
                  <a:lnTo>
                    <a:pt x="825" y="265"/>
                  </a:lnTo>
                  <a:lnTo>
                    <a:pt x="889" y="236"/>
                  </a:lnTo>
                  <a:lnTo>
                    <a:pt x="910" y="226"/>
                  </a:lnTo>
                  <a:lnTo>
                    <a:pt x="913" y="226"/>
                  </a:lnTo>
                  <a:lnTo>
                    <a:pt x="916" y="226"/>
                  </a:lnTo>
                  <a:lnTo>
                    <a:pt x="918" y="227"/>
                  </a:lnTo>
                  <a:lnTo>
                    <a:pt x="920" y="230"/>
                  </a:lnTo>
                  <a:lnTo>
                    <a:pt x="920" y="231"/>
                  </a:lnTo>
                  <a:lnTo>
                    <a:pt x="920" y="233"/>
                  </a:lnTo>
                  <a:lnTo>
                    <a:pt x="918" y="236"/>
                  </a:lnTo>
                  <a:lnTo>
                    <a:pt x="917" y="237"/>
                  </a:lnTo>
                  <a:lnTo>
                    <a:pt x="895" y="246"/>
                  </a:lnTo>
                  <a:lnTo>
                    <a:pt x="832" y="275"/>
                  </a:lnTo>
                  <a:lnTo>
                    <a:pt x="769" y="305"/>
                  </a:lnTo>
                  <a:lnTo>
                    <a:pt x="738" y="321"/>
                  </a:lnTo>
                  <a:lnTo>
                    <a:pt x="736" y="322"/>
                  </a:lnTo>
                  <a:lnTo>
                    <a:pt x="734" y="322"/>
                  </a:lnTo>
                  <a:lnTo>
                    <a:pt x="731" y="321"/>
                  </a:lnTo>
                  <a:lnTo>
                    <a:pt x="730" y="319"/>
                  </a:lnTo>
                  <a:lnTo>
                    <a:pt x="729" y="317"/>
                  </a:lnTo>
                  <a:lnTo>
                    <a:pt x="729" y="314"/>
                  </a:lnTo>
                  <a:lnTo>
                    <a:pt x="730" y="312"/>
                  </a:lnTo>
                  <a:lnTo>
                    <a:pt x="733" y="310"/>
                  </a:lnTo>
                  <a:lnTo>
                    <a:pt x="733" y="310"/>
                  </a:lnTo>
                  <a:close/>
                  <a:moveTo>
                    <a:pt x="1022" y="182"/>
                  </a:moveTo>
                  <a:lnTo>
                    <a:pt x="1083" y="159"/>
                  </a:lnTo>
                  <a:lnTo>
                    <a:pt x="1150" y="136"/>
                  </a:lnTo>
                  <a:lnTo>
                    <a:pt x="1210" y="117"/>
                  </a:lnTo>
                  <a:lnTo>
                    <a:pt x="1213" y="117"/>
                  </a:lnTo>
                  <a:lnTo>
                    <a:pt x="1215" y="118"/>
                  </a:lnTo>
                  <a:lnTo>
                    <a:pt x="1217" y="120"/>
                  </a:lnTo>
                  <a:lnTo>
                    <a:pt x="1219" y="121"/>
                  </a:lnTo>
                  <a:lnTo>
                    <a:pt x="1219" y="123"/>
                  </a:lnTo>
                  <a:lnTo>
                    <a:pt x="1219" y="126"/>
                  </a:lnTo>
                  <a:lnTo>
                    <a:pt x="1216" y="129"/>
                  </a:lnTo>
                  <a:lnTo>
                    <a:pt x="1215" y="130"/>
                  </a:lnTo>
                  <a:lnTo>
                    <a:pt x="1154" y="147"/>
                  </a:lnTo>
                  <a:lnTo>
                    <a:pt x="1089" y="170"/>
                  </a:lnTo>
                  <a:lnTo>
                    <a:pt x="1026" y="193"/>
                  </a:lnTo>
                  <a:lnTo>
                    <a:pt x="1023" y="193"/>
                  </a:lnTo>
                  <a:lnTo>
                    <a:pt x="1020" y="193"/>
                  </a:lnTo>
                  <a:lnTo>
                    <a:pt x="1019" y="192"/>
                  </a:lnTo>
                  <a:lnTo>
                    <a:pt x="1018" y="189"/>
                  </a:lnTo>
                  <a:lnTo>
                    <a:pt x="1018" y="187"/>
                  </a:lnTo>
                  <a:lnTo>
                    <a:pt x="1018" y="184"/>
                  </a:lnTo>
                  <a:lnTo>
                    <a:pt x="1019" y="183"/>
                  </a:lnTo>
                  <a:lnTo>
                    <a:pt x="1022" y="182"/>
                  </a:lnTo>
                  <a:lnTo>
                    <a:pt x="1022" y="182"/>
                  </a:lnTo>
                  <a:close/>
                  <a:moveTo>
                    <a:pt x="1326" y="86"/>
                  </a:moveTo>
                  <a:lnTo>
                    <a:pt x="1354" y="79"/>
                  </a:lnTo>
                  <a:lnTo>
                    <a:pt x="1424" y="63"/>
                  </a:lnTo>
                  <a:lnTo>
                    <a:pt x="1494" y="49"/>
                  </a:lnTo>
                  <a:lnTo>
                    <a:pt x="1522" y="44"/>
                  </a:lnTo>
                  <a:lnTo>
                    <a:pt x="1525" y="44"/>
                  </a:lnTo>
                  <a:lnTo>
                    <a:pt x="1527" y="45"/>
                  </a:lnTo>
                  <a:lnTo>
                    <a:pt x="1529" y="46"/>
                  </a:lnTo>
                  <a:lnTo>
                    <a:pt x="1530" y="49"/>
                  </a:lnTo>
                  <a:lnTo>
                    <a:pt x="1530" y="51"/>
                  </a:lnTo>
                  <a:lnTo>
                    <a:pt x="1529" y="53"/>
                  </a:lnTo>
                  <a:lnTo>
                    <a:pt x="1527" y="55"/>
                  </a:lnTo>
                  <a:lnTo>
                    <a:pt x="1525" y="55"/>
                  </a:lnTo>
                  <a:lnTo>
                    <a:pt x="1497" y="60"/>
                  </a:lnTo>
                  <a:lnTo>
                    <a:pt x="1427" y="74"/>
                  </a:lnTo>
                  <a:lnTo>
                    <a:pt x="1358" y="91"/>
                  </a:lnTo>
                  <a:lnTo>
                    <a:pt x="1329" y="98"/>
                  </a:lnTo>
                  <a:lnTo>
                    <a:pt x="1326" y="98"/>
                  </a:lnTo>
                  <a:lnTo>
                    <a:pt x="1325" y="97"/>
                  </a:lnTo>
                  <a:lnTo>
                    <a:pt x="1322" y="96"/>
                  </a:lnTo>
                  <a:lnTo>
                    <a:pt x="1321" y="93"/>
                  </a:lnTo>
                  <a:lnTo>
                    <a:pt x="1321" y="91"/>
                  </a:lnTo>
                  <a:lnTo>
                    <a:pt x="1322" y="89"/>
                  </a:lnTo>
                  <a:lnTo>
                    <a:pt x="1323" y="87"/>
                  </a:lnTo>
                  <a:lnTo>
                    <a:pt x="1326" y="86"/>
                  </a:lnTo>
                  <a:lnTo>
                    <a:pt x="1326" y="86"/>
                  </a:lnTo>
                  <a:close/>
                  <a:moveTo>
                    <a:pt x="1642" y="25"/>
                  </a:moveTo>
                  <a:lnTo>
                    <a:pt x="1706" y="17"/>
                  </a:lnTo>
                  <a:lnTo>
                    <a:pt x="1777" y="10"/>
                  </a:lnTo>
                  <a:lnTo>
                    <a:pt x="1841" y="6"/>
                  </a:lnTo>
                  <a:lnTo>
                    <a:pt x="1844" y="6"/>
                  </a:lnTo>
                  <a:lnTo>
                    <a:pt x="1846" y="7"/>
                  </a:lnTo>
                  <a:lnTo>
                    <a:pt x="1847" y="9"/>
                  </a:lnTo>
                  <a:lnTo>
                    <a:pt x="1848" y="11"/>
                  </a:lnTo>
                  <a:lnTo>
                    <a:pt x="1848" y="14"/>
                  </a:lnTo>
                  <a:lnTo>
                    <a:pt x="1847" y="16"/>
                  </a:lnTo>
                  <a:lnTo>
                    <a:pt x="1844" y="17"/>
                  </a:lnTo>
                  <a:lnTo>
                    <a:pt x="1843" y="17"/>
                  </a:lnTo>
                  <a:lnTo>
                    <a:pt x="1779" y="22"/>
                  </a:lnTo>
                  <a:lnTo>
                    <a:pt x="1707" y="30"/>
                  </a:lnTo>
                  <a:lnTo>
                    <a:pt x="1643" y="38"/>
                  </a:lnTo>
                  <a:lnTo>
                    <a:pt x="1640" y="38"/>
                  </a:lnTo>
                  <a:lnTo>
                    <a:pt x="1638" y="36"/>
                  </a:lnTo>
                  <a:lnTo>
                    <a:pt x="1636" y="34"/>
                  </a:lnTo>
                  <a:lnTo>
                    <a:pt x="1635" y="33"/>
                  </a:lnTo>
                  <a:lnTo>
                    <a:pt x="1635" y="30"/>
                  </a:lnTo>
                  <a:lnTo>
                    <a:pt x="1636" y="27"/>
                  </a:lnTo>
                  <a:lnTo>
                    <a:pt x="1639" y="26"/>
                  </a:lnTo>
                  <a:lnTo>
                    <a:pt x="1642" y="25"/>
                  </a:lnTo>
                  <a:lnTo>
                    <a:pt x="1642" y="25"/>
                  </a:lnTo>
                  <a:close/>
                  <a:moveTo>
                    <a:pt x="1962" y="1"/>
                  </a:moveTo>
                  <a:lnTo>
                    <a:pt x="1994" y="0"/>
                  </a:lnTo>
                  <a:lnTo>
                    <a:pt x="1996" y="1"/>
                  </a:lnTo>
                  <a:lnTo>
                    <a:pt x="1999" y="2"/>
                  </a:lnTo>
                  <a:lnTo>
                    <a:pt x="2001" y="3"/>
                  </a:lnTo>
                  <a:lnTo>
                    <a:pt x="2001" y="6"/>
                  </a:lnTo>
                  <a:lnTo>
                    <a:pt x="2001" y="9"/>
                  </a:lnTo>
                  <a:lnTo>
                    <a:pt x="1999" y="10"/>
                  </a:lnTo>
                  <a:lnTo>
                    <a:pt x="1996" y="12"/>
                  </a:lnTo>
                  <a:lnTo>
                    <a:pt x="1995" y="12"/>
                  </a:lnTo>
                  <a:lnTo>
                    <a:pt x="1963" y="14"/>
                  </a:lnTo>
                  <a:lnTo>
                    <a:pt x="1960" y="12"/>
                  </a:lnTo>
                  <a:lnTo>
                    <a:pt x="1957" y="11"/>
                  </a:lnTo>
                  <a:lnTo>
                    <a:pt x="1956" y="10"/>
                  </a:lnTo>
                  <a:lnTo>
                    <a:pt x="1956" y="7"/>
                  </a:lnTo>
                  <a:lnTo>
                    <a:pt x="1956" y="5"/>
                  </a:lnTo>
                  <a:lnTo>
                    <a:pt x="1957" y="2"/>
                  </a:lnTo>
                  <a:lnTo>
                    <a:pt x="1960" y="1"/>
                  </a:lnTo>
                  <a:lnTo>
                    <a:pt x="1962" y="1"/>
                  </a:lnTo>
                  <a:lnTo>
                    <a:pt x="1962" y="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27400" y="2343240"/>
              <a:ext cx="101880" cy="11088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2" y="0"/>
                  </a:moveTo>
                  <a:lnTo>
                    <a:pt x="122" y="55"/>
                  </a:lnTo>
                  <a:lnTo>
                    <a:pt x="0" y="10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67040" y="2427120"/>
              <a:ext cx="531720" cy="890640"/>
            </a:xfrm>
            <a:custGeom>
              <a:avLst/>
              <a:gdLst/>
              <a:ahLst/>
              <a:rect l="l" t="t" r="r" b="b"/>
              <a:pathLst>
                <a:path w="639" h="867">
                  <a:moveTo>
                    <a:pt x="635" y="852"/>
                  </a:moveTo>
                  <a:lnTo>
                    <a:pt x="610" y="857"/>
                  </a:lnTo>
                  <a:lnTo>
                    <a:pt x="585" y="861"/>
                  </a:lnTo>
                  <a:lnTo>
                    <a:pt x="560" y="865"/>
                  </a:lnTo>
                  <a:lnTo>
                    <a:pt x="535" y="866"/>
                  </a:lnTo>
                  <a:lnTo>
                    <a:pt x="509" y="867"/>
                  </a:lnTo>
                  <a:lnTo>
                    <a:pt x="484" y="867"/>
                  </a:lnTo>
                  <a:lnTo>
                    <a:pt x="459" y="866"/>
                  </a:lnTo>
                  <a:lnTo>
                    <a:pt x="435" y="864"/>
                  </a:lnTo>
                  <a:lnTo>
                    <a:pt x="433" y="864"/>
                  </a:lnTo>
                  <a:lnTo>
                    <a:pt x="430" y="862"/>
                  </a:lnTo>
                  <a:lnTo>
                    <a:pt x="428" y="861"/>
                  </a:lnTo>
                  <a:lnTo>
                    <a:pt x="427" y="859"/>
                  </a:lnTo>
                  <a:lnTo>
                    <a:pt x="427" y="856"/>
                  </a:lnTo>
                  <a:lnTo>
                    <a:pt x="428" y="854"/>
                  </a:lnTo>
                  <a:lnTo>
                    <a:pt x="430" y="852"/>
                  </a:lnTo>
                  <a:lnTo>
                    <a:pt x="433" y="851"/>
                  </a:lnTo>
                  <a:lnTo>
                    <a:pt x="435" y="851"/>
                  </a:lnTo>
                  <a:lnTo>
                    <a:pt x="437" y="851"/>
                  </a:lnTo>
                  <a:lnTo>
                    <a:pt x="460" y="854"/>
                  </a:lnTo>
                  <a:lnTo>
                    <a:pt x="484" y="855"/>
                  </a:lnTo>
                  <a:lnTo>
                    <a:pt x="508" y="856"/>
                  </a:lnTo>
                  <a:lnTo>
                    <a:pt x="533" y="855"/>
                  </a:lnTo>
                  <a:lnTo>
                    <a:pt x="557" y="852"/>
                  </a:lnTo>
                  <a:lnTo>
                    <a:pt x="582" y="850"/>
                  </a:lnTo>
                  <a:lnTo>
                    <a:pt x="607" y="846"/>
                  </a:lnTo>
                  <a:lnTo>
                    <a:pt x="632" y="840"/>
                  </a:lnTo>
                  <a:lnTo>
                    <a:pt x="634" y="840"/>
                  </a:lnTo>
                  <a:lnTo>
                    <a:pt x="636" y="841"/>
                  </a:lnTo>
                  <a:lnTo>
                    <a:pt x="639" y="842"/>
                  </a:lnTo>
                  <a:lnTo>
                    <a:pt x="639" y="845"/>
                  </a:lnTo>
                  <a:lnTo>
                    <a:pt x="639" y="847"/>
                  </a:lnTo>
                  <a:lnTo>
                    <a:pt x="639" y="849"/>
                  </a:lnTo>
                  <a:lnTo>
                    <a:pt x="638" y="851"/>
                  </a:lnTo>
                  <a:lnTo>
                    <a:pt x="635" y="852"/>
                  </a:lnTo>
                  <a:lnTo>
                    <a:pt x="635" y="852"/>
                  </a:lnTo>
                  <a:close/>
                  <a:moveTo>
                    <a:pt x="315" y="835"/>
                  </a:moveTo>
                  <a:lnTo>
                    <a:pt x="294" y="827"/>
                  </a:lnTo>
                  <a:lnTo>
                    <a:pt x="273" y="817"/>
                  </a:lnTo>
                  <a:lnTo>
                    <a:pt x="251" y="807"/>
                  </a:lnTo>
                  <a:lnTo>
                    <a:pt x="230" y="795"/>
                  </a:lnTo>
                  <a:lnTo>
                    <a:pt x="211" y="783"/>
                  </a:lnTo>
                  <a:lnTo>
                    <a:pt x="191" y="770"/>
                  </a:lnTo>
                  <a:lnTo>
                    <a:pt x="173" y="756"/>
                  </a:lnTo>
                  <a:lnTo>
                    <a:pt x="155" y="741"/>
                  </a:lnTo>
                  <a:lnTo>
                    <a:pt x="146" y="735"/>
                  </a:lnTo>
                  <a:lnTo>
                    <a:pt x="145" y="732"/>
                  </a:lnTo>
                  <a:lnTo>
                    <a:pt x="144" y="730"/>
                  </a:lnTo>
                  <a:lnTo>
                    <a:pt x="145" y="727"/>
                  </a:lnTo>
                  <a:lnTo>
                    <a:pt x="146" y="726"/>
                  </a:lnTo>
                  <a:lnTo>
                    <a:pt x="148" y="725"/>
                  </a:lnTo>
                  <a:lnTo>
                    <a:pt x="151" y="724"/>
                  </a:lnTo>
                  <a:lnTo>
                    <a:pt x="153" y="725"/>
                  </a:lnTo>
                  <a:lnTo>
                    <a:pt x="156" y="726"/>
                  </a:lnTo>
                  <a:lnTo>
                    <a:pt x="163" y="732"/>
                  </a:lnTo>
                  <a:lnTo>
                    <a:pt x="181" y="748"/>
                  </a:lnTo>
                  <a:lnTo>
                    <a:pt x="199" y="760"/>
                  </a:lnTo>
                  <a:lnTo>
                    <a:pt x="218" y="774"/>
                  </a:lnTo>
                  <a:lnTo>
                    <a:pt x="237" y="785"/>
                  </a:lnTo>
                  <a:lnTo>
                    <a:pt x="258" y="797"/>
                  </a:lnTo>
                  <a:lnTo>
                    <a:pt x="279" y="807"/>
                  </a:lnTo>
                  <a:lnTo>
                    <a:pt x="300" y="816"/>
                  </a:lnTo>
                  <a:lnTo>
                    <a:pt x="321" y="823"/>
                  </a:lnTo>
                  <a:lnTo>
                    <a:pt x="322" y="825"/>
                  </a:lnTo>
                  <a:lnTo>
                    <a:pt x="324" y="827"/>
                  </a:lnTo>
                  <a:lnTo>
                    <a:pt x="324" y="830"/>
                  </a:lnTo>
                  <a:lnTo>
                    <a:pt x="324" y="832"/>
                  </a:lnTo>
                  <a:lnTo>
                    <a:pt x="322" y="833"/>
                  </a:lnTo>
                  <a:lnTo>
                    <a:pt x="319" y="835"/>
                  </a:lnTo>
                  <a:lnTo>
                    <a:pt x="318" y="836"/>
                  </a:lnTo>
                  <a:lnTo>
                    <a:pt x="315" y="835"/>
                  </a:lnTo>
                  <a:lnTo>
                    <a:pt x="315" y="835"/>
                  </a:lnTo>
                  <a:close/>
                  <a:moveTo>
                    <a:pt x="71" y="648"/>
                  </a:moveTo>
                  <a:lnTo>
                    <a:pt x="64" y="636"/>
                  </a:lnTo>
                  <a:lnTo>
                    <a:pt x="51" y="616"/>
                  </a:lnTo>
                  <a:lnTo>
                    <a:pt x="40" y="596"/>
                  </a:lnTo>
                  <a:lnTo>
                    <a:pt x="30" y="574"/>
                  </a:lnTo>
                  <a:lnTo>
                    <a:pt x="22" y="553"/>
                  </a:lnTo>
                  <a:lnTo>
                    <a:pt x="15" y="530"/>
                  </a:lnTo>
                  <a:lnTo>
                    <a:pt x="9" y="510"/>
                  </a:lnTo>
                  <a:lnTo>
                    <a:pt x="5" y="491"/>
                  </a:lnTo>
                  <a:lnTo>
                    <a:pt x="2" y="475"/>
                  </a:lnTo>
                  <a:lnTo>
                    <a:pt x="2" y="473"/>
                  </a:lnTo>
                  <a:lnTo>
                    <a:pt x="4" y="471"/>
                  </a:lnTo>
                  <a:lnTo>
                    <a:pt x="5" y="470"/>
                  </a:lnTo>
                  <a:lnTo>
                    <a:pt x="8" y="468"/>
                  </a:lnTo>
                  <a:lnTo>
                    <a:pt x="11" y="468"/>
                  </a:lnTo>
                  <a:lnTo>
                    <a:pt x="14" y="470"/>
                  </a:lnTo>
                  <a:lnTo>
                    <a:pt x="15" y="471"/>
                  </a:lnTo>
                  <a:lnTo>
                    <a:pt x="15" y="473"/>
                  </a:lnTo>
                  <a:lnTo>
                    <a:pt x="18" y="489"/>
                  </a:lnTo>
                  <a:lnTo>
                    <a:pt x="22" y="508"/>
                  </a:lnTo>
                  <a:lnTo>
                    <a:pt x="28" y="526"/>
                  </a:lnTo>
                  <a:lnTo>
                    <a:pt x="35" y="549"/>
                  </a:lnTo>
                  <a:lnTo>
                    <a:pt x="43" y="569"/>
                  </a:lnTo>
                  <a:lnTo>
                    <a:pt x="53" y="591"/>
                  </a:lnTo>
                  <a:lnTo>
                    <a:pt x="64" y="611"/>
                  </a:lnTo>
                  <a:lnTo>
                    <a:pt x="75" y="630"/>
                  </a:lnTo>
                  <a:lnTo>
                    <a:pt x="82" y="641"/>
                  </a:lnTo>
                  <a:lnTo>
                    <a:pt x="83" y="644"/>
                  </a:lnTo>
                  <a:lnTo>
                    <a:pt x="83" y="646"/>
                  </a:lnTo>
                  <a:lnTo>
                    <a:pt x="82" y="648"/>
                  </a:lnTo>
                  <a:lnTo>
                    <a:pt x="79" y="650"/>
                  </a:lnTo>
                  <a:lnTo>
                    <a:pt x="78" y="650"/>
                  </a:lnTo>
                  <a:lnTo>
                    <a:pt x="75" y="650"/>
                  </a:lnTo>
                  <a:lnTo>
                    <a:pt x="72" y="649"/>
                  </a:lnTo>
                  <a:lnTo>
                    <a:pt x="71" y="648"/>
                  </a:lnTo>
                  <a:lnTo>
                    <a:pt x="71" y="648"/>
                  </a:lnTo>
                  <a:close/>
                  <a:moveTo>
                    <a:pt x="0" y="365"/>
                  </a:moveTo>
                  <a:lnTo>
                    <a:pt x="1" y="352"/>
                  </a:lnTo>
                  <a:lnTo>
                    <a:pt x="5" y="333"/>
                  </a:lnTo>
                  <a:lnTo>
                    <a:pt x="8" y="314"/>
                  </a:lnTo>
                  <a:lnTo>
                    <a:pt x="14" y="295"/>
                  </a:lnTo>
                  <a:lnTo>
                    <a:pt x="19" y="276"/>
                  </a:lnTo>
                  <a:lnTo>
                    <a:pt x="26" y="259"/>
                  </a:lnTo>
                  <a:lnTo>
                    <a:pt x="33" y="241"/>
                  </a:lnTo>
                  <a:lnTo>
                    <a:pt x="42" y="223"/>
                  </a:lnTo>
                  <a:lnTo>
                    <a:pt x="51" y="206"/>
                  </a:lnTo>
                  <a:lnTo>
                    <a:pt x="60" y="191"/>
                  </a:lnTo>
                  <a:lnTo>
                    <a:pt x="61" y="188"/>
                  </a:lnTo>
                  <a:lnTo>
                    <a:pt x="64" y="187"/>
                  </a:lnTo>
                  <a:lnTo>
                    <a:pt x="67" y="187"/>
                  </a:lnTo>
                  <a:lnTo>
                    <a:pt x="70" y="188"/>
                  </a:lnTo>
                  <a:lnTo>
                    <a:pt x="71" y="189"/>
                  </a:lnTo>
                  <a:lnTo>
                    <a:pt x="72" y="192"/>
                  </a:lnTo>
                  <a:lnTo>
                    <a:pt x="72" y="193"/>
                  </a:lnTo>
                  <a:lnTo>
                    <a:pt x="72" y="196"/>
                  </a:lnTo>
                  <a:lnTo>
                    <a:pt x="64" y="211"/>
                  </a:lnTo>
                  <a:lnTo>
                    <a:pt x="54" y="227"/>
                  </a:lnTo>
                  <a:lnTo>
                    <a:pt x="46" y="245"/>
                  </a:lnTo>
                  <a:lnTo>
                    <a:pt x="39" y="263"/>
                  </a:lnTo>
                  <a:lnTo>
                    <a:pt x="32" y="280"/>
                  </a:lnTo>
                  <a:lnTo>
                    <a:pt x="26" y="298"/>
                  </a:lnTo>
                  <a:lnTo>
                    <a:pt x="22" y="317"/>
                  </a:lnTo>
                  <a:lnTo>
                    <a:pt x="18" y="336"/>
                  </a:lnTo>
                  <a:lnTo>
                    <a:pt x="15" y="353"/>
                  </a:lnTo>
                  <a:lnTo>
                    <a:pt x="14" y="366"/>
                  </a:lnTo>
                  <a:lnTo>
                    <a:pt x="12" y="369"/>
                  </a:lnTo>
                  <a:lnTo>
                    <a:pt x="11" y="370"/>
                  </a:lnTo>
                  <a:lnTo>
                    <a:pt x="8" y="371"/>
                  </a:lnTo>
                  <a:lnTo>
                    <a:pt x="5" y="371"/>
                  </a:lnTo>
                  <a:lnTo>
                    <a:pt x="4" y="371"/>
                  </a:lnTo>
                  <a:lnTo>
                    <a:pt x="1" y="370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0" y="365"/>
                  </a:lnTo>
                  <a:close/>
                  <a:moveTo>
                    <a:pt x="131" y="101"/>
                  </a:moveTo>
                  <a:lnTo>
                    <a:pt x="138" y="95"/>
                  </a:lnTo>
                  <a:lnTo>
                    <a:pt x="152" y="81"/>
                  </a:lnTo>
                  <a:lnTo>
                    <a:pt x="169" y="68"/>
                  </a:lnTo>
                  <a:lnTo>
                    <a:pt x="185" y="55"/>
                  </a:lnTo>
                  <a:lnTo>
                    <a:pt x="202" y="43"/>
                  </a:lnTo>
                  <a:lnTo>
                    <a:pt x="220" y="31"/>
                  </a:lnTo>
                  <a:lnTo>
                    <a:pt x="240" y="20"/>
                  </a:lnTo>
                  <a:lnTo>
                    <a:pt x="258" y="10"/>
                  </a:lnTo>
                  <a:lnTo>
                    <a:pt x="279" y="1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87" y="4"/>
                  </a:lnTo>
                  <a:lnTo>
                    <a:pt x="289" y="6"/>
                  </a:lnTo>
                  <a:lnTo>
                    <a:pt x="289" y="9"/>
                  </a:lnTo>
                  <a:lnTo>
                    <a:pt x="287" y="10"/>
                  </a:lnTo>
                  <a:lnTo>
                    <a:pt x="285" y="11"/>
                  </a:lnTo>
                  <a:lnTo>
                    <a:pt x="265" y="21"/>
                  </a:lnTo>
                  <a:lnTo>
                    <a:pt x="247" y="30"/>
                  </a:lnTo>
                  <a:lnTo>
                    <a:pt x="229" y="41"/>
                  </a:lnTo>
                  <a:lnTo>
                    <a:pt x="211" y="53"/>
                  </a:lnTo>
                  <a:lnTo>
                    <a:pt x="194" y="64"/>
                  </a:lnTo>
                  <a:lnTo>
                    <a:pt x="177" y="77"/>
                  </a:lnTo>
                  <a:lnTo>
                    <a:pt x="162" y="89"/>
                  </a:lnTo>
                  <a:lnTo>
                    <a:pt x="148" y="103"/>
                  </a:lnTo>
                  <a:lnTo>
                    <a:pt x="141" y="108"/>
                  </a:lnTo>
                  <a:lnTo>
                    <a:pt x="139" y="110"/>
                  </a:lnTo>
                  <a:lnTo>
                    <a:pt x="137" y="111"/>
                  </a:lnTo>
                  <a:lnTo>
                    <a:pt x="134" y="111"/>
                  </a:lnTo>
                  <a:lnTo>
                    <a:pt x="132" y="110"/>
                  </a:lnTo>
                  <a:lnTo>
                    <a:pt x="130" y="107"/>
                  </a:lnTo>
                  <a:lnTo>
                    <a:pt x="130" y="105"/>
                  </a:lnTo>
                  <a:lnTo>
                    <a:pt x="130" y="102"/>
                  </a:lnTo>
                  <a:lnTo>
                    <a:pt x="131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73320" y="2384280"/>
              <a:ext cx="111240" cy="10476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0" y="0"/>
                  </a:moveTo>
                  <a:lnTo>
                    <a:pt x="134" y="14"/>
                  </a:lnTo>
                  <a:lnTo>
                    <a:pt x="42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29280" y="2166840"/>
              <a:ext cx="1093680" cy="46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9280" y="2166840"/>
              <a:ext cx="1093680" cy="46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6520" y="2278080"/>
              <a:ext cx="1265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84560" y="2166840"/>
              <a:ext cx="109368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84560" y="2166840"/>
              <a:ext cx="109368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1280" y="2278080"/>
              <a:ext cx="1308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confli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9680" y="1724040"/>
              <a:ext cx="2228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Shared data reposi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04600" y="1950840"/>
              <a:ext cx="2535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associated with the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C44B-41EB-48A1-BB8E-1CAC578B76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mantical dependenc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927320"/>
            <a:ext cx="82296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eaking these semantical dependencies typically leads to run-time error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5080" y="1052640"/>
            <a:ext cx="8318880" cy="4824000"/>
            <a:chOff x="55080" y="1052640"/>
            <a:chExt cx="8318880" cy="4824000"/>
          </a:xfrm>
        </p:grpSpPr>
        <p:sp>
          <p:nvSpPr>
            <p:cNvPr id="238" name=""/>
            <p:cNvSpPr/>
            <p:nvPr/>
          </p:nvSpPr>
          <p:spPr>
            <a:xfrm>
              <a:off x="535680" y="1052640"/>
              <a:ext cx="7495920" cy="48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40880" y="1694160"/>
              <a:ext cx="4308120" cy="1164600"/>
            </a:xfrm>
            <a:custGeom>
              <a:avLst/>
              <a:gdLst/>
              <a:ahLst/>
              <a:rect l="l" t="t" r="r" b="b"/>
              <a:pathLst>
                <a:path w="5194" h="1137">
                  <a:moveTo>
                    <a:pt x="5194" y="569"/>
                  </a:moveTo>
                  <a:lnTo>
                    <a:pt x="5193" y="553"/>
                  </a:lnTo>
                  <a:lnTo>
                    <a:pt x="5190" y="540"/>
                  </a:lnTo>
                  <a:lnTo>
                    <a:pt x="5186" y="524"/>
                  </a:lnTo>
                  <a:lnTo>
                    <a:pt x="5180" y="511"/>
                  </a:lnTo>
                  <a:lnTo>
                    <a:pt x="5173" y="497"/>
                  </a:lnTo>
                  <a:lnTo>
                    <a:pt x="5164" y="481"/>
                  </a:lnTo>
                  <a:lnTo>
                    <a:pt x="5154" y="468"/>
                  </a:lnTo>
                  <a:lnTo>
                    <a:pt x="5141" y="454"/>
                  </a:lnTo>
                  <a:lnTo>
                    <a:pt x="5127" y="440"/>
                  </a:lnTo>
                  <a:lnTo>
                    <a:pt x="5112" y="427"/>
                  </a:lnTo>
                  <a:lnTo>
                    <a:pt x="5095" y="413"/>
                  </a:lnTo>
                  <a:lnTo>
                    <a:pt x="5077" y="399"/>
                  </a:lnTo>
                  <a:lnTo>
                    <a:pt x="5058" y="387"/>
                  </a:lnTo>
                  <a:lnTo>
                    <a:pt x="5037" y="373"/>
                  </a:lnTo>
                  <a:lnTo>
                    <a:pt x="5014" y="360"/>
                  </a:lnTo>
                  <a:lnTo>
                    <a:pt x="4991" y="348"/>
                  </a:lnTo>
                  <a:lnTo>
                    <a:pt x="4965" y="335"/>
                  </a:lnTo>
                  <a:lnTo>
                    <a:pt x="4937" y="322"/>
                  </a:lnTo>
                  <a:lnTo>
                    <a:pt x="4910" y="310"/>
                  </a:lnTo>
                  <a:lnTo>
                    <a:pt x="4880" y="298"/>
                  </a:lnTo>
                  <a:lnTo>
                    <a:pt x="4850" y="286"/>
                  </a:lnTo>
                  <a:lnTo>
                    <a:pt x="4819" y="274"/>
                  </a:lnTo>
                  <a:lnTo>
                    <a:pt x="4785" y="262"/>
                  </a:lnTo>
                  <a:lnTo>
                    <a:pt x="4750" y="250"/>
                  </a:lnTo>
                  <a:lnTo>
                    <a:pt x="4715" y="240"/>
                  </a:lnTo>
                  <a:lnTo>
                    <a:pt x="4678" y="229"/>
                  </a:lnTo>
                  <a:lnTo>
                    <a:pt x="4640" y="217"/>
                  </a:lnTo>
                  <a:lnTo>
                    <a:pt x="4601" y="207"/>
                  </a:lnTo>
                  <a:lnTo>
                    <a:pt x="4560" y="197"/>
                  </a:lnTo>
                  <a:lnTo>
                    <a:pt x="4520" y="186"/>
                  </a:lnTo>
                  <a:lnTo>
                    <a:pt x="4477" y="177"/>
                  </a:lnTo>
                  <a:lnTo>
                    <a:pt x="4433" y="167"/>
                  </a:lnTo>
                  <a:lnTo>
                    <a:pt x="4389" y="157"/>
                  </a:lnTo>
                  <a:lnTo>
                    <a:pt x="4344" y="148"/>
                  </a:lnTo>
                  <a:lnTo>
                    <a:pt x="4297" y="139"/>
                  </a:lnTo>
                  <a:lnTo>
                    <a:pt x="4249" y="130"/>
                  </a:lnTo>
                  <a:lnTo>
                    <a:pt x="4200" y="122"/>
                  </a:lnTo>
                  <a:lnTo>
                    <a:pt x="4151" y="113"/>
                  </a:lnTo>
                  <a:lnTo>
                    <a:pt x="4049" y="98"/>
                  </a:lnTo>
                  <a:lnTo>
                    <a:pt x="3943" y="82"/>
                  </a:lnTo>
                  <a:lnTo>
                    <a:pt x="3834" y="68"/>
                  </a:lnTo>
                  <a:lnTo>
                    <a:pt x="3723" y="56"/>
                  </a:lnTo>
                  <a:lnTo>
                    <a:pt x="3608" y="44"/>
                  </a:lnTo>
                  <a:lnTo>
                    <a:pt x="3489" y="34"/>
                  </a:lnTo>
                  <a:lnTo>
                    <a:pt x="3369" y="26"/>
                  </a:lnTo>
                  <a:lnTo>
                    <a:pt x="3246" y="18"/>
                  </a:lnTo>
                  <a:lnTo>
                    <a:pt x="3121" y="12"/>
                  </a:lnTo>
                  <a:lnTo>
                    <a:pt x="2992" y="7"/>
                  </a:lnTo>
                  <a:lnTo>
                    <a:pt x="2862" y="3"/>
                  </a:lnTo>
                  <a:lnTo>
                    <a:pt x="2731" y="2"/>
                  </a:lnTo>
                  <a:lnTo>
                    <a:pt x="2597" y="0"/>
                  </a:lnTo>
                  <a:lnTo>
                    <a:pt x="2463" y="2"/>
                  </a:lnTo>
                  <a:lnTo>
                    <a:pt x="2332" y="3"/>
                  </a:lnTo>
                  <a:lnTo>
                    <a:pt x="2202" y="7"/>
                  </a:lnTo>
                  <a:lnTo>
                    <a:pt x="2074" y="12"/>
                  </a:lnTo>
                  <a:lnTo>
                    <a:pt x="1948" y="18"/>
                  </a:lnTo>
                  <a:lnTo>
                    <a:pt x="1825" y="26"/>
                  </a:lnTo>
                  <a:lnTo>
                    <a:pt x="1703" y="34"/>
                  </a:lnTo>
                  <a:lnTo>
                    <a:pt x="1586" y="44"/>
                  </a:lnTo>
                  <a:lnTo>
                    <a:pt x="1472" y="56"/>
                  </a:lnTo>
                  <a:lnTo>
                    <a:pt x="1359" y="68"/>
                  </a:lnTo>
                  <a:lnTo>
                    <a:pt x="1251" y="82"/>
                  </a:lnTo>
                  <a:lnTo>
                    <a:pt x="1145" y="98"/>
                  </a:lnTo>
                  <a:lnTo>
                    <a:pt x="1043" y="113"/>
                  </a:lnTo>
                  <a:lnTo>
                    <a:pt x="994" y="122"/>
                  </a:lnTo>
                  <a:lnTo>
                    <a:pt x="945" y="130"/>
                  </a:lnTo>
                  <a:lnTo>
                    <a:pt x="898" y="139"/>
                  </a:lnTo>
                  <a:lnTo>
                    <a:pt x="850" y="148"/>
                  </a:lnTo>
                  <a:lnTo>
                    <a:pt x="806" y="157"/>
                  </a:lnTo>
                  <a:lnTo>
                    <a:pt x="761" y="167"/>
                  </a:lnTo>
                  <a:lnTo>
                    <a:pt x="718" y="177"/>
                  </a:lnTo>
                  <a:lnTo>
                    <a:pt x="674" y="186"/>
                  </a:lnTo>
                  <a:lnTo>
                    <a:pt x="634" y="197"/>
                  </a:lnTo>
                  <a:lnTo>
                    <a:pt x="593" y="207"/>
                  </a:lnTo>
                  <a:lnTo>
                    <a:pt x="554" y="217"/>
                  </a:lnTo>
                  <a:lnTo>
                    <a:pt x="515" y="229"/>
                  </a:lnTo>
                  <a:lnTo>
                    <a:pt x="479" y="240"/>
                  </a:lnTo>
                  <a:lnTo>
                    <a:pt x="444" y="250"/>
                  </a:lnTo>
                  <a:lnTo>
                    <a:pt x="409" y="262"/>
                  </a:lnTo>
                  <a:lnTo>
                    <a:pt x="376" y="274"/>
                  </a:lnTo>
                  <a:lnTo>
                    <a:pt x="343" y="286"/>
                  </a:lnTo>
                  <a:lnTo>
                    <a:pt x="313" y="298"/>
                  </a:lnTo>
                  <a:lnTo>
                    <a:pt x="283" y="310"/>
                  </a:lnTo>
                  <a:lnTo>
                    <a:pt x="255" y="322"/>
                  </a:lnTo>
                  <a:lnTo>
                    <a:pt x="229" y="335"/>
                  </a:lnTo>
                  <a:lnTo>
                    <a:pt x="204" y="348"/>
                  </a:lnTo>
                  <a:lnTo>
                    <a:pt x="180" y="360"/>
                  </a:lnTo>
                  <a:lnTo>
                    <a:pt x="158" y="373"/>
                  </a:lnTo>
                  <a:lnTo>
                    <a:pt x="137" y="387"/>
                  </a:lnTo>
                  <a:lnTo>
                    <a:pt x="117" y="399"/>
                  </a:lnTo>
                  <a:lnTo>
                    <a:pt x="98" y="413"/>
                  </a:lnTo>
                  <a:lnTo>
                    <a:pt x="81" y="427"/>
                  </a:lnTo>
                  <a:lnTo>
                    <a:pt x="66" y="440"/>
                  </a:lnTo>
                  <a:lnTo>
                    <a:pt x="53" y="454"/>
                  </a:lnTo>
                  <a:lnTo>
                    <a:pt x="40" y="468"/>
                  </a:lnTo>
                  <a:lnTo>
                    <a:pt x="29" y="481"/>
                  </a:lnTo>
                  <a:lnTo>
                    <a:pt x="21" y="497"/>
                  </a:lnTo>
                  <a:lnTo>
                    <a:pt x="12" y="511"/>
                  </a:lnTo>
                  <a:lnTo>
                    <a:pt x="7" y="524"/>
                  </a:lnTo>
                  <a:lnTo>
                    <a:pt x="3" y="540"/>
                  </a:lnTo>
                  <a:lnTo>
                    <a:pt x="0" y="553"/>
                  </a:lnTo>
                  <a:lnTo>
                    <a:pt x="0" y="569"/>
                  </a:lnTo>
                  <a:lnTo>
                    <a:pt x="0" y="584"/>
                  </a:lnTo>
                  <a:lnTo>
                    <a:pt x="3" y="598"/>
                  </a:lnTo>
                  <a:lnTo>
                    <a:pt x="7" y="613"/>
                  </a:lnTo>
                  <a:lnTo>
                    <a:pt x="12" y="627"/>
                  </a:lnTo>
                  <a:lnTo>
                    <a:pt x="21" y="641"/>
                  </a:lnTo>
                  <a:lnTo>
                    <a:pt x="29" y="656"/>
                  </a:lnTo>
                  <a:lnTo>
                    <a:pt x="40" y="670"/>
                  </a:lnTo>
                  <a:lnTo>
                    <a:pt x="53" y="684"/>
                  </a:lnTo>
                  <a:lnTo>
                    <a:pt x="66" y="697"/>
                  </a:lnTo>
                  <a:lnTo>
                    <a:pt x="81" y="710"/>
                  </a:lnTo>
                  <a:lnTo>
                    <a:pt x="98" y="724"/>
                  </a:lnTo>
                  <a:lnTo>
                    <a:pt x="116" y="738"/>
                  </a:lnTo>
                  <a:lnTo>
                    <a:pt x="135" y="750"/>
                  </a:lnTo>
                  <a:lnTo>
                    <a:pt x="158" y="764"/>
                  </a:lnTo>
                  <a:lnTo>
                    <a:pt x="180" y="777"/>
                  </a:lnTo>
                  <a:lnTo>
                    <a:pt x="204" y="790"/>
                  </a:lnTo>
                  <a:lnTo>
                    <a:pt x="229" y="802"/>
                  </a:lnTo>
                  <a:lnTo>
                    <a:pt x="255" y="815"/>
                  </a:lnTo>
                  <a:lnTo>
                    <a:pt x="283" y="828"/>
                  </a:lnTo>
                  <a:lnTo>
                    <a:pt x="313" y="840"/>
                  </a:lnTo>
                  <a:lnTo>
                    <a:pt x="343" y="852"/>
                  </a:lnTo>
                  <a:lnTo>
                    <a:pt x="376" y="863"/>
                  </a:lnTo>
                  <a:lnTo>
                    <a:pt x="409" y="876"/>
                  </a:lnTo>
                  <a:lnTo>
                    <a:pt x="443" y="887"/>
                  </a:lnTo>
                  <a:lnTo>
                    <a:pt x="479" y="898"/>
                  </a:lnTo>
                  <a:lnTo>
                    <a:pt x="515" y="908"/>
                  </a:lnTo>
                  <a:lnTo>
                    <a:pt x="553" y="920"/>
                  </a:lnTo>
                  <a:lnTo>
                    <a:pt x="593" y="930"/>
                  </a:lnTo>
                  <a:lnTo>
                    <a:pt x="632" y="941"/>
                  </a:lnTo>
                  <a:lnTo>
                    <a:pt x="674" y="951"/>
                  </a:lnTo>
                  <a:lnTo>
                    <a:pt x="716" y="960"/>
                  </a:lnTo>
                  <a:lnTo>
                    <a:pt x="761" y="970"/>
                  </a:lnTo>
                  <a:lnTo>
                    <a:pt x="804" y="980"/>
                  </a:lnTo>
                  <a:lnTo>
                    <a:pt x="850" y="989"/>
                  </a:lnTo>
                  <a:lnTo>
                    <a:pt x="898" y="998"/>
                  </a:lnTo>
                  <a:lnTo>
                    <a:pt x="945" y="1007"/>
                  </a:lnTo>
                  <a:lnTo>
                    <a:pt x="993" y="1016"/>
                  </a:lnTo>
                  <a:lnTo>
                    <a:pt x="1043" y="1025"/>
                  </a:lnTo>
                  <a:lnTo>
                    <a:pt x="1145" y="1040"/>
                  </a:lnTo>
                  <a:lnTo>
                    <a:pt x="1250" y="1055"/>
                  </a:lnTo>
                  <a:lnTo>
                    <a:pt x="1359" y="1069"/>
                  </a:lnTo>
                  <a:lnTo>
                    <a:pt x="1470" y="1081"/>
                  </a:lnTo>
                  <a:lnTo>
                    <a:pt x="1586" y="1093"/>
                  </a:lnTo>
                  <a:lnTo>
                    <a:pt x="1703" y="1103"/>
                  </a:lnTo>
                  <a:lnTo>
                    <a:pt x="1825" y="1112"/>
                  </a:lnTo>
                  <a:lnTo>
                    <a:pt x="1948" y="1119"/>
                  </a:lnTo>
                  <a:lnTo>
                    <a:pt x="2074" y="1126"/>
                  </a:lnTo>
                  <a:lnTo>
                    <a:pt x="2202" y="1131"/>
                  </a:lnTo>
                  <a:lnTo>
                    <a:pt x="2332" y="1134"/>
                  </a:lnTo>
                  <a:lnTo>
                    <a:pt x="2463" y="1136"/>
                  </a:lnTo>
                  <a:lnTo>
                    <a:pt x="2597" y="1137"/>
                  </a:lnTo>
                  <a:lnTo>
                    <a:pt x="2730" y="1136"/>
                  </a:lnTo>
                  <a:lnTo>
                    <a:pt x="2862" y="1134"/>
                  </a:lnTo>
                  <a:lnTo>
                    <a:pt x="2992" y="1131"/>
                  </a:lnTo>
                  <a:lnTo>
                    <a:pt x="3121" y="1126"/>
                  </a:lnTo>
                  <a:lnTo>
                    <a:pt x="3246" y="1119"/>
                  </a:lnTo>
                  <a:lnTo>
                    <a:pt x="3369" y="1112"/>
                  </a:lnTo>
                  <a:lnTo>
                    <a:pt x="3489" y="1103"/>
                  </a:lnTo>
                  <a:lnTo>
                    <a:pt x="3608" y="1093"/>
                  </a:lnTo>
                  <a:lnTo>
                    <a:pt x="3723" y="1081"/>
                  </a:lnTo>
                  <a:lnTo>
                    <a:pt x="3834" y="1069"/>
                  </a:lnTo>
                  <a:lnTo>
                    <a:pt x="3943" y="1055"/>
                  </a:lnTo>
                  <a:lnTo>
                    <a:pt x="4049" y="1040"/>
                  </a:lnTo>
                  <a:lnTo>
                    <a:pt x="4151" y="1025"/>
                  </a:lnTo>
                  <a:lnTo>
                    <a:pt x="4200" y="1016"/>
                  </a:lnTo>
                  <a:lnTo>
                    <a:pt x="4249" y="1007"/>
                  </a:lnTo>
                  <a:lnTo>
                    <a:pt x="4297" y="998"/>
                  </a:lnTo>
                  <a:lnTo>
                    <a:pt x="4343" y="989"/>
                  </a:lnTo>
                  <a:lnTo>
                    <a:pt x="4389" y="980"/>
                  </a:lnTo>
                  <a:lnTo>
                    <a:pt x="4433" y="970"/>
                  </a:lnTo>
                  <a:lnTo>
                    <a:pt x="4477" y="960"/>
                  </a:lnTo>
                  <a:lnTo>
                    <a:pt x="4520" y="951"/>
                  </a:lnTo>
                  <a:lnTo>
                    <a:pt x="4560" y="941"/>
                  </a:lnTo>
                  <a:lnTo>
                    <a:pt x="4601" y="930"/>
                  </a:lnTo>
                  <a:lnTo>
                    <a:pt x="4640" y="920"/>
                  </a:lnTo>
                  <a:lnTo>
                    <a:pt x="4678" y="908"/>
                  </a:lnTo>
                  <a:lnTo>
                    <a:pt x="4715" y="898"/>
                  </a:lnTo>
                  <a:lnTo>
                    <a:pt x="4750" y="887"/>
                  </a:lnTo>
                  <a:lnTo>
                    <a:pt x="4785" y="876"/>
                  </a:lnTo>
                  <a:lnTo>
                    <a:pt x="4817" y="863"/>
                  </a:lnTo>
                  <a:lnTo>
                    <a:pt x="4850" y="852"/>
                  </a:lnTo>
                  <a:lnTo>
                    <a:pt x="4880" y="840"/>
                  </a:lnTo>
                  <a:lnTo>
                    <a:pt x="4910" y="828"/>
                  </a:lnTo>
                  <a:lnTo>
                    <a:pt x="4937" y="815"/>
                  </a:lnTo>
                  <a:lnTo>
                    <a:pt x="4964" y="802"/>
                  </a:lnTo>
                  <a:lnTo>
                    <a:pt x="4991" y="790"/>
                  </a:lnTo>
                  <a:lnTo>
                    <a:pt x="5014" y="777"/>
                  </a:lnTo>
                  <a:lnTo>
                    <a:pt x="5037" y="764"/>
                  </a:lnTo>
                  <a:lnTo>
                    <a:pt x="5058" y="750"/>
                  </a:lnTo>
                  <a:lnTo>
                    <a:pt x="5077" y="738"/>
                  </a:lnTo>
                  <a:lnTo>
                    <a:pt x="5095" y="724"/>
                  </a:lnTo>
                  <a:lnTo>
                    <a:pt x="5112" y="710"/>
                  </a:lnTo>
                  <a:lnTo>
                    <a:pt x="5127" y="697"/>
                  </a:lnTo>
                  <a:lnTo>
                    <a:pt x="5141" y="684"/>
                  </a:lnTo>
                  <a:lnTo>
                    <a:pt x="5154" y="670"/>
                  </a:lnTo>
                  <a:lnTo>
                    <a:pt x="5164" y="656"/>
                  </a:lnTo>
                  <a:lnTo>
                    <a:pt x="5173" y="641"/>
                  </a:lnTo>
                  <a:lnTo>
                    <a:pt x="5180" y="627"/>
                  </a:lnTo>
                  <a:lnTo>
                    <a:pt x="5186" y="613"/>
                  </a:lnTo>
                  <a:lnTo>
                    <a:pt x="5190" y="598"/>
                  </a:lnTo>
                  <a:lnTo>
                    <a:pt x="5193" y="584"/>
                  </a:lnTo>
                  <a:lnTo>
                    <a:pt x="5194" y="56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40880" y="1694160"/>
              <a:ext cx="4308120" cy="1164600"/>
            </a:xfrm>
            <a:custGeom>
              <a:avLst/>
              <a:gdLst/>
              <a:ahLst/>
              <a:rect l="l" t="t" r="r" b="b"/>
              <a:pathLst>
                <a:path w="5194" h="1137">
                  <a:moveTo>
                    <a:pt x="5194" y="569"/>
                  </a:moveTo>
                  <a:lnTo>
                    <a:pt x="5193" y="553"/>
                  </a:lnTo>
                  <a:lnTo>
                    <a:pt x="5190" y="540"/>
                  </a:lnTo>
                  <a:lnTo>
                    <a:pt x="5186" y="524"/>
                  </a:lnTo>
                  <a:lnTo>
                    <a:pt x="5180" y="511"/>
                  </a:lnTo>
                  <a:lnTo>
                    <a:pt x="5173" y="497"/>
                  </a:lnTo>
                  <a:lnTo>
                    <a:pt x="5164" y="481"/>
                  </a:lnTo>
                  <a:lnTo>
                    <a:pt x="5154" y="468"/>
                  </a:lnTo>
                  <a:lnTo>
                    <a:pt x="5141" y="454"/>
                  </a:lnTo>
                  <a:lnTo>
                    <a:pt x="5127" y="440"/>
                  </a:lnTo>
                  <a:lnTo>
                    <a:pt x="5112" y="427"/>
                  </a:lnTo>
                  <a:lnTo>
                    <a:pt x="5095" y="413"/>
                  </a:lnTo>
                  <a:lnTo>
                    <a:pt x="5077" y="399"/>
                  </a:lnTo>
                  <a:lnTo>
                    <a:pt x="5058" y="387"/>
                  </a:lnTo>
                  <a:lnTo>
                    <a:pt x="5037" y="373"/>
                  </a:lnTo>
                  <a:lnTo>
                    <a:pt x="5014" y="360"/>
                  </a:lnTo>
                  <a:lnTo>
                    <a:pt x="4991" y="348"/>
                  </a:lnTo>
                  <a:lnTo>
                    <a:pt x="4965" y="335"/>
                  </a:lnTo>
                  <a:lnTo>
                    <a:pt x="4937" y="322"/>
                  </a:lnTo>
                  <a:lnTo>
                    <a:pt x="4910" y="310"/>
                  </a:lnTo>
                  <a:lnTo>
                    <a:pt x="4880" y="298"/>
                  </a:lnTo>
                  <a:lnTo>
                    <a:pt x="4850" y="286"/>
                  </a:lnTo>
                  <a:lnTo>
                    <a:pt x="4819" y="274"/>
                  </a:lnTo>
                  <a:lnTo>
                    <a:pt x="4785" y="262"/>
                  </a:lnTo>
                  <a:lnTo>
                    <a:pt x="4750" y="250"/>
                  </a:lnTo>
                  <a:lnTo>
                    <a:pt x="4715" y="240"/>
                  </a:lnTo>
                  <a:lnTo>
                    <a:pt x="4678" y="229"/>
                  </a:lnTo>
                  <a:lnTo>
                    <a:pt x="4640" y="217"/>
                  </a:lnTo>
                  <a:lnTo>
                    <a:pt x="4601" y="207"/>
                  </a:lnTo>
                  <a:lnTo>
                    <a:pt x="4560" y="197"/>
                  </a:lnTo>
                  <a:lnTo>
                    <a:pt x="4520" y="186"/>
                  </a:lnTo>
                  <a:lnTo>
                    <a:pt x="4477" y="177"/>
                  </a:lnTo>
                  <a:lnTo>
                    <a:pt x="4433" y="167"/>
                  </a:lnTo>
                  <a:lnTo>
                    <a:pt x="4389" y="157"/>
                  </a:lnTo>
                  <a:lnTo>
                    <a:pt x="4344" y="148"/>
                  </a:lnTo>
                  <a:lnTo>
                    <a:pt x="4297" y="139"/>
                  </a:lnTo>
                  <a:lnTo>
                    <a:pt x="4249" y="130"/>
                  </a:lnTo>
                  <a:lnTo>
                    <a:pt x="4200" y="122"/>
                  </a:lnTo>
                  <a:lnTo>
                    <a:pt x="4151" y="113"/>
                  </a:lnTo>
                  <a:lnTo>
                    <a:pt x="4049" y="98"/>
                  </a:lnTo>
                  <a:lnTo>
                    <a:pt x="3943" y="82"/>
                  </a:lnTo>
                  <a:lnTo>
                    <a:pt x="3834" y="68"/>
                  </a:lnTo>
                  <a:lnTo>
                    <a:pt x="3723" y="56"/>
                  </a:lnTo>
                  <a:lnTo>
                    <a:pt x="3608" y="44"/>
                  </a:lnTo>
                  <a:lnTo>
                    <a:pt x="3489" y="34"/>
                  </a:lnTo>
                  <a:lnTo>
                    <a:pt x="3369" y="26"/>
                  </a:lnTo>
                  <a:lnTo>
                    <a:pt x="3246" y="18"/>
                  </a:lnTo>
                  <a:lnTo>
                    <a:pt x="3121" y="12"/>
                  </a:lnTo>
                  <a:lnTo>
                    <a:pt x="2992" y="7"/>
                  </a:lnTo>
                  <a:lnTo>
                    <a:pt x="2862" y="3"/>
                  </a:lnTo>
                  <a:lnTo>
                    <a:pt x="2731" y="2"/>
                  </a:lnTo>
                  <a:lnTo>
                    <a:pt x="2597" y="0"/>
                  </a:lnTo>
                  <a:lnTo>
                    <a:pt x="2463" y="2"/>
                  </a:lnTo>
                  <a:lnTo>
                    <a:pt x="2332" y="3"/>
                  </a:lnTo>
                  <a:lnTo>
                    <a:pt x="2202" y="7"/>
                  </a:lnTo>
                  <a:lnTo>
                    <a:pt x="2074" y="12"/>
                  </a:lnTo>
                  <a:lnTo>
                    <a:pt x="1948" y="18"/>
                  </a:lnTo>
                  <a:lnTo>
                    <a:pt x="1825" y="26"/>
                  </a:lnTo>
                  <a:lnTo>
                    <a:pt x="1703" y="34"/>
                  </a:lnTo>
                  <a:lnTo>
                    <a:pt x="1586" y="44"/>
                  </a:lnTo>
                  <a:lnTo>
                    <a:pt x="1472" y="56"/>
                  </a:lnTo>
                  <a:lnTo>
                    <a:pt x="1359" y="68"/>
                  </a:lnTo>
                  <a:lnTo>
                    <a:pt x="1251" y="82"/>
                  </a:lnTo>
                  <a:lnTo>
                    <a:pt x="1145" y="98"/>
                  </a:lnTo>
                  <a:lnTo>
                    <a:pt x="1043" y="113"/>
                  </a:lnTo>
                  <a:lnTo>
                    <a:pt x="994" y="122"/>
                  </a:lnTo>
                  <a:lnTo>
                    <a:pt x="945" y="130"/>
                  </a:lnTo>
                  <a:lnTo>
                    <a:pt x="898" y="139"/>
                  </a:lnTo>
                  <a:lnTo>
                    <a:pt x="850" y="148"/>
                  </a:lnTo>
                  <a:lnTo>
                    <a:pt x="806" y="157"/>
                  </a:lnTo>
                  <a:lnTo>
                    <a:pt x="761" y="167"/>
                  </a:lnTo>
                  <a:lnTo>
                    <a:pt x="718" y="177"/>
                  </a:lnTo>
                  <a:lnTo>
                    <a:pt x="674" y="186"/>
                  </a:lnTo>
                  <a:lnTo>
                    <a:pt x="634" y="197"/>
                  </a:lnTo>
                  <a:lnTo>
                    <a:pt x="593" y="207"/>
                  </a:lnTo>
                  <a:lnTo>
                    <a:pt x="554" y="217"/>
                  </a:lnTo>
                  <a:lnTo>
                    <a:pt x="515" y="229"/>
                  </a:lnTo>
                  <a:lnTo>
                    <a:pt x="479" y="240"/>
                  </a:lnTo>
                  <a:lnTo>
                    <a:pt x="444" y="250"/>
                  </a:lnTo>
                  <a:lnTo>
                    <a:pt x="409" y="262"/>
                  </a:lnTo>
                  <a:lnTo>
                    <a:pt x="376" y="274"/>
                  </a:lnTo>
                  <a:lnTo>
                    <a:pt x="343" y="286"/>
                  </a:lnTo>
                  <a:lnTo>
                    <a:pt x="313" y="298"/>
                  </a:lnTo>
                  <a:lnTo>
                    <a:pt x="283" y="310"/>
                  </a:lnTo>
                  <a:lnTo>
                    <a:pt x="255" y="322"/>
                  </a:lnTo>
                  <a:lnTo>
                    <a:pt x="229" y="335"/>
                  </a:lnTo>
                  <a:lnTo>
                    <a:pt x="204" y="348"/>
                  </a:lnTo>
                  <a:lnTo>
                    <a:pt x="180" y="360"/>
                  </a:lnTo>
                  <a:lnTo>
                    <a:pt x="158" y="373"/>
                  </a:lnTo>
                  <a:lnTo>
                    <a:pt x="137" y="387"/>
                  </a:lnTo>
                  <a:lnTo>
                    <a:pt x="117" y="399"/>
                  </a:lnTo>
                  <a:lnTo>
                    <a:pt x="98" y="413"/>
                  </a:lnTo>
                  <a:lnTo>
                    <a:pt x="81" y="427"/>
                  </a:lnTo>
                  <a:lnTo>
                    <a:pt x="66" y="440"/>
                  </a:lnTo>
                  <a:lnTo>
                    <a:pt x="53" y="454"/>
                  </a:lnTo>
                  <a:lnTo>
                    <a:pt x="40" y="468"/>
                  </a:lnTo>
                  <a:lnTo>
                    <a:pt x="29" y="481"/>
                  </a:lnTo>
                  <a:lnTo>
                    <a:pt x="21" y="497"/>
                  </a:lnTo>
                  <a:lnTo>
                    <a:pt x="12" y="511"/>
                  </a:lnTo>
                  <a:lnTo>
                    <a:pt x="7" y="524"/>
                  </a:lnTo>
                  <a:lnTo>
                    <a:pt x="3" y="540"/>
                  </a:lnTo>
                  <a:lnTo>
                    <a:pt x="0" y="553"/>
                  </a:lnTo>
                  <a:lnTo>
                    <a:pt x="0" y="569"/>
                  </a:lnTo>
                  <a:lnTo>
                    <a:pt x="0" y="584"/>
                  </a:lnTo>
                  <a:lnTo>
                    <a:pt x="3" y="598"/>
                  </a:lnTo>
                  <a:lnTo>
                    <a:pt x="7" y="613"/>
                  </a:lnTo>
                  <a:lnTo>
                    <a:pt x="12" y="627"/>
                  </a:lnTo>
                  <a:lnTo>
                    <a:pt x="21" y="641"/>
                  </a:lnTo>
                  <a:lnTo>
                    <a:pt x="29" y="656"/>
                  </a:lnTo>
                  <a:lnTo>
                    <a:pt x="40" y="670"/>
                  </a:lnTo>
                  <a:lnTo>
                    <a:pt x="53" y="684"/>
                  </a:lnTo>
                  <a:lnTo>
                    <a:pt x="66" y="697"/>
                  </a:lnTo>
                  <a:lnTo>
                    <a:pt x="81" y="710"/>
                  </a:lnTo>
                  <a:lnTo>
                    <a:pt x="98" y="724"/>
                  </a:lnTo>
                  <a:lnTo>
                    <a:pt x="116" y="738"/>
                  </a:lnTo>
                  <a:lnTo>
                    <a:pt x="135" y="750"/>
                  </a:lnTo>
                  <a:lnTo>
                    <a:pt x="158" y="764"/>
                  </a:lnTo>
                  <a:lnTo>
                    <a:pt x="180" y="777"/>
                  </a:lnTo>
                  <a:lnTo>
                    <a:pt x="204" y="790"/>
                  </a:lnTo>
                  <a:lnTo>
                    <a:pt x="229" y="802"/>
                  </a:lnTo>
                  <a:lnTo>
                    <a:pt x="255" y="815"/>
                  </a:lnTo>
                  <a:lnTo>
                    <a:pt x="283" y="828"/>
                  </a:lnTo>
                  <a:lnTo>
                    <a:pt x="313" y="840"/>
                  </a:lnTo>
                  <a:lnTo>
                    <a:pt x="343" y="852"/>
                  </a:lnTo>
                  <a:lnTo>
                    <a:pt x="376" y="863"/>
                  </a:lnTo>
                  <a:lnTo>
                    <a:pt x="409" y="876"/>
                  </a:lnTo>
                  <a:lnTo>
                    <a:pt x="443" y="887"/>
                  </a:lnTo>
                  <a:lnTo>
                    <a:pt x="479" y="898"/>
                  </a:lnTo>
                  <a:lnTo>
                    <a:pt x="515" y="908"/>
                  </a:lnTo>
                  <a:lnTo>
                    <a:pt x="553" y="920"/>
                  </a:lnTo>
                  <a:lnTo>
                    <a:pt x="593" y="930"/>
                  </a:lnTo>
                  <a:lnTo>
                    <a:pt x="632" y="941"/>
                  </a:lnTo>
                  <a:lnTo>
                    <a:pt x="674" y="951"/>
                  </a:lnTo>
                  <a:lnTo>
                    <a:pt x="716" y="960"/>
                  </a:lnTo>
                  <a:lnTo>
                    <a:pt x="761" y="970"/>
                  </a:lnTo>
                  <a:lnTo>
                    <a:pt x="804" y="980"/>
                  </a:lnTo>
                  <a:lnTo>
                    <a:pt x="850" y="989"/>
                  </a:lnTo>
                  <a:lnTo>
                    <a:pt x="898" y="998"/>
                  </a:lnTo>
                  <a:lnTo>
                    <a:pt x="945" y="1007"/>
                  </a:lnTo>
                  <a:lnTo>
                    <a:pt x="993" y="1016"/>
                  </a:lnTo>
                  <a:lnTo>
                    <a:pt x="1043" y="1025"/>
                  </a:lnTo>
                  <a:lnTo>
                    <a:pt x="1145" y="1040"/>
                  </a:lnTo>
                  <a:lnTo>
                    <a:pt x="1250" y="1055"/>
                  </a:lnTo>
                  <a:lnTo>
                    <a:pt x="1359" y="1069"/>
                  </a:lnTo>
                  <a:lnTo>
                    <a:pt x="1470" y="1081"/>
                  </a:lnTo>
                  <a:lnTo>
                    <a:pt x="1586" y="1093"/>
                  </a:lnTo>
                  <a:lnTo>
                    <a:pt x="1703" y="1103"/>
                  </a:lnTo>
                  <a:lnTo>
                    <a:pt x="1825" y="1112"/>
                  </a:lnTo>
                  <a:lnTo>
                    <a:pt x="1948" y="1119"/>
                  </a:lnTo>
                  <a:lnTo>
                    <a:pt x="2074" y="1126"/>
                  </a:lnTo>
                  <a:lnTo>
                    <a:pt x="2202" y="1131"/>
                  </a:lnTo>
                  <a:lnTo>
                    <a:pt x="2332" y="1134"/>
                  </a:lnTo>
                  <a:lnTo>
                    <a:pt x="2463" y="1136"/>
                  </a:lnTo>
                  <a:lnTo>
                    <a:pt x="2597" y="1137"/>
                  </a:lnTo>
                  <a:lnTo>
                    <a:pt x="2730" y="1136"/>
                  </a:lnTo>
                  <a:lnTo>
                    <a:pt x="2862" y="1134"/>
                  </a:lnTo>
                  <a:lnTo>
                    <a:pt x="2992" y="1131"/>
                  </a:lnTo>
                  <a:lnTo>
                    <a:pt x="3121" y="1126"/>
                  </a:lnTo>
                  <a:lnTo>
                    <a:pt x="3246" y="1119"/>
                  </a:lnTo>
                  <a:lnTo>
                    <a:pt x="3369" y="1112"/>
                  </a:lnTo>
                  <a:lnTo>
                    <a:pt x="3489" y="1103"/>
                  </a:lnTo>
                  <a:lnTo>
                    <a:pt x="3608" y="1093"/>
                  </a:lnTo>
                  <a:lnTo>
                    <a:pt x="3723" y="1081"/>
                  </a:lnTo>
                  <a:lnTo>
                    <a:pt x="3834" y="1069"/>
                  </a:lnTo>
                  <a:lnTo>
                    <a:pt x="3943" y="1055"/>
                  </a:lnTo>
                  <a:lnTo>
                    <a:pt x="4049" y="1040"/>
                  </a:lnTo>
                  <a:lnTo>
                    <a:pt x="4151" y="1025"/>
                  </a:lnTo>
                  <a:lnTo>
                    <a:pt x="4200" y="1016"/>
                  </a:lnTo>
                  <a:lnTo>
                    <a:pt x="4249" y="1007"/>
                  </a:lnTo>
                  <a:lnTo>
                    <a:pt x="4297" y="998"/>
                  </a:lnTo>
                  <a:lnTo>
                    <a:pt x="4343" y="989"/>
                  </a:lnTo>
                  <a:lnTo>
                    <a:pt x="4389" y="980"/>
                  </a:lnTo>
                  <a:lnTo>
                    <a:pt x="4433" y="970"/>
                  </a:lnTo>
                  <a:lnTo>
                    <a:pt x="4477" y="960"/>
                  </a:lnTo>
                  <a:lnTo>
                    <a:pt x="4520" y="951"/>
                  </a:lnTo>
                  <a:lnTo>
                    <a:pt x="4560" y="941"/>
                  </a:lnTo>
                  <a:lnTo>
                    <a:pt x="4601" y="930"/>
                  </a:lnTo>
                  <a:lnTo>
                    <a:pt x="4640" y="920"/>
                  </a:lnTo>
                  <a:lnTo>
                    <a:pt x="4678" y="908"/>
                  </a:lnTo>
                  <a:lnTo>
                    <a:pt x="4715" y="898"/>
                  </a:lnTo>
                  <a:lnTo>
                    <a:pt x="4750" y="887"/>
                  </a:lnTo>
                  <a:lnTo>
                    <a:pt x="4785" y="876"/>
                  </a:lnTo>
                  <a:lnTo>
                    <a:pt x="4817" y="863"/>
                  </a:lnTo>
                  <a:lnTo>
                    <a:pt x="4850" y="852"/>
                  </a:lnTo>
                  <a:lnTo>
                    <a:pt x="4880" y="840"/>
                  </a:lnTo>
                  <a:lnTo>
                    <a:pt x="4910" y="828"/>
                  </a:lnTo>
                  <a:lnTo>
                    <a:pt x="4937" y="815"/>
                  </a:lnTo>
                  <a:lnTo>
                    <a:pt x="4964" y="802"/>
                  </a:lnTo>
                  <a:lnTo>
                    <a:pt x="4991" y="790"/>
                  </a:lnTo>
                  <a:lnTo>
                    <a:pt x="5014" y="777"/>
                  </a:lnTo>
                  <a:lnTo>
                    <a:pt x="5037" y="764"/>
                  </a:lnTo>
                  <a:lnTo>
                    <a:pt x="5058" y="750"/>
                  </a:lnTo>
                  <a:lnTo>
                    <a:pt x="5077" y="738"/>
                  </a:lnTo>
                  <a:lnTo>
                    <a:pt x="5095" y="724"/>
                  </a:lnTo>
                  <a:lnTo>
                    <a:pt x="5112" y="710"/>
                  </a:lnTo>
                  <a:lnTo>
                    <a:pt x="5127" y="697"/>
                  </a:lnTo>
                  <a:lnTo>
                    <a:pt x="5141" y="684"/>
                  </a:lnTo>
                  <a:lnTo>
                    <a:pt x="5154" y="670"/>
                  </a:lnTo>
                  <a:lnTo>
                    <a:pt x="5164" y="656"/>
                  </a:lnTo>
                  <a:lnTo>
                    <a:pt x="5173" y="641"/>
                  </a:lnTo>
                  <a:lnTo>
                    <a:pt x="5180" y="627"/>
                  </a:lnTo>
                  <a:lnTo>
                    <a:pt x="5186" y="613"/>
                  </a:lnTo>
                  <a:lnTo>
                    <a:pt x="5190" y="598"/>
                  </a:lnTo>
                  <a:lnTo>
                    <a:pt x="5193" y="584"/>
                  </a:lnTo>
                  <a:lnTo>
                    <a:pt x="5194" y="56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7120" y="2385720"/>
              <a:ext cx="238680" cy="847440"/>
            </a:xfrm>
            <a:custGeom>
              <a:avLst/>
              <a:gdLst/>
              <a:ahLst/>
              <a:rect l="l" t="t" r="r" b="b"/>
              <a:pathLst>
                <a:path w="287" h="825">
                  <a:moveTo>
                    <a:pt x="241" y="5"/>
                  </a:moveTo>
                  <a:lnTo>
                    <a:pt x="251" y="32"/>
                  </a:lnTo>
                  <a:lnTo>
                    <a:pt x="260" y="59"/>
                  </a:lnTo>
                  <a:lnTo>
                    <a:pt x="266" y="87"/>
                  </a:lnTo>
                  <a:lnTo>
                    <a:pt x="273" y="114"/>
                  </a:lnTo>
                  <a:lnTo>
                    <a:pt x="279" y="141"/>
                  </a:lnTo>
                  <a:lnTo>
                    <a:pt x="282" y="169"/>
                  </a:lnTo>
                  <a:lnTo>
                    <a:pt x="283" y="183"/>
                  </a:lnTo>
                  <a:lnTo>
                    <a:pt x="283" y="186"/>
                  </a:lnTo>
                  <a:lnTo>
                    <a:pt x="282" y="187"/>
                  </a:lnTo>
                  <a:lnTo>
                    <a:pt x="280" y="188"/>
                  </a:lnTo>
                  <a:lnTo>
                    <a:pt x="278" y="189"/>
                  </a:lnTo>
                  <a:lnTo>
                    <a:pt x="275" y="189"/>
                  </a:lnTo>
                  <a:lnTo>
                    <a:pt x="272" y="188"/>
                  </a:lnTo>
                  <a:lnTo>
                    <a:pt x="271" y="187"/>
                  </a:lnTo>
                  <a:lnTo>
                    <a:pt x="271" y="184"/>
                  </a:lnTo>
                  <a:lnTo>
                    <a:pt x="269" y="172"/>
                  </a:lnTo>
                  <a:lnTo>
                    <a:pt x="265" y="144"/>
                  </a:lnTo>
                  <a:lnTo>
                    <a:pt x="260" y="116"/>
                  </a:lnTo>
                  <a:lnTo>
                    <a:pt x="254" y="90"/>
                  </a:lnTo>
                  <a:lnTo>
                    <a:pt x="247" y="62"/>
                  </a:lnTo>
                  <a:lnTo>
                    <a:pt x="237" y="35"/>
                  </a:lnTo>
                  <a:lnTo>
                    <a:pt x="227" y="9"/>
                  </a:lnTo>
                  <a:lnTo>
                    <a:pt x="227" y="6"/>
                  </a:lnTo>
                  <a:lnTo>
                    <a:pt x="229" y="4"/>
                  </a:lnTo>
                  <a:lnTo>
                    <a:pt x="230" y="1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7" y="1"/>
                  </a:lnTo>
                  <a:lnTo>
                    <a:pt x="240" y="2"/>
                  </a:lnTo>
                  <a:lnTo>
                    <a:pt x="241" y="5"/>
                  </a:lnTo>
                  <a:lnTo>
                    <a:pt x="241" y="5"/>
                  </a:lnTo>
                  <a:close/>
                  <a:moveTo>
                    <a:pt x="287" y="293"/>
                  </a:moveTo>
                  <a:lnTo>
                    <a:pt x="286" y="308"/>
                  </a:lnTo>
                  <a:lnTo>
                    <a:pt x="283" y="336"/>
                  </a:lnTo>
                  <a:lnTo>
                    <a:pt x="279" y="364"/>
                  </a:lnTo>
                  <a:lnTo>
                    <a:pt x="275" y="391"/>
                  </a:lnTo>
                  <a:lnTo>
                    <a:pt x="269" y="418"/>
                  </a:lnTo>
                  <a:lnTo>
                    <a:pt x="262" y="445"/>
                  </a:lnTo>
                  <a:lnTo>
                    <a:pt x="254" y="471"/>
                  </a:lnTo>
                  <a:lnTo>
                    <a:pt x="254" y="474"/>
                  </a:lnTo>
                  <a:lnTo>
                    <a:pt x="253" y="475"/>
                  </a:lnTo>
                  <a:lnTo>
                    <a:pt x="250" y="477"/>
                  </a:lnTo>
                  <a:lnTo>
                    <a:pt x="247" y="477"/>
                  </a:lnTo>
                  <a:lnTo>
                    <a:pt x="246" y="477"/>
                  </a:lnTo>
                  <a:lnTo>
                    <a:pt x="243" y="476"/>
                  </a:lnTo>
                  <a:lnTo>
                    <a:pt x="241" y="474"/>
                  </a:lnTo>
                  <a:lnTo>
                    <a:pt x="240" y="472"/>
                  </a:lnTo>
                  <a:lnTo>
                    <a:pt x="240" y="470"/>
                  </a:lnTo>
                  <a:lnTo>
                    <a:pt x="241" y="469"/>
                  </a:lnTo>
                  <a:lnTo>
                    <a:pt x="248" y="442"/>
                  </a:lnTo>
                  <a:lnTo>
                    <a:pt x="255" y="415"/>
                  </a:lnTo>
                  <a:lnTo>
                    <a:pt x="261" y="389"/>
                  </a:lnTo>
                  <a:lnTo>
                    <a:pt x="266" y="362"/>
                  </a:lnTo>
                  <a:lnTo>
                    <a:pt x="269" y="336"/>
                  </a:lnTo>
                  <a:lnTo>
                    <a:pt x="272" y="308"/>
                  </a:lnTo>
                  <a:lnTo>
                    <a:pt x="273" y="292"/>
                  </a:lnTo>
                  <a:lnTo>
                    <a:pt x="273" y="290"/>
                  </a:lnTo>
                  <a:lnTo>
                    <a:pt x="275" y="288"/>
                  </a:lnTo>
                  <a:lnTo>
                    <a:pt x="278" y="287"/>
                  </a:lnTo>
                  <a:lnTo>
                    <a:pt x="280" y="287"/>
                  </a:lnTo>
                  <a:lnTo>
                    <a:pt x="283" y="287"/>
                  </a:lnTo>
                  <a:lnTo>
                    <a:pt x="285" y="288"/>
                  </a:lnTo>
                  <a:lnTo>
                    <a:pt x="286" y="290"/>
                  </a:lnTo>
                  <a:lnTo>
                    <a:pt x="287" y="293"/>
                  </a:lnTo>
                  <a:lnTo>
                    <a:pt x="287" y="293"/>
                  </a:lnTo>
                  <a:close/>
                  <a:moveTo>
                    <a:pt x="211" y="576"/>
                  </a:moveTo>
                  <a:lnTo>
                    <a:pt x="198" y="600"/>
                  </a:lnTo>
                  <a:lnTo>
                    <a:pt x="184" y="625"/>
                  </a:lnTo>
                  <a:lnTo>
                    <a:pt x="169" y="649"/>
                  </a:lnTo>
                  <a:lnTo>
                    <a:pt x="152" y="673"/>
                  </a:lnTo>
                  <a:lnTo>
                    <a:pt x="135" y="696"/>
                  </a:lnTo>
                  <a:lnTo>
                    <a:pt x="117" y="719"/>
                  </a:lnTo>
                  <a:lnTo>
                    <a:pt x="106" y="733"/>
                  </a:lnTo>
                  <a:lnTo>
                    <a:pt x="103" y="734"/>
                  </a:lnTo>
                  <a:lnTo>
                    <a:pt x="100" y="734"/>
                  </a:lnTo>
                  <a:lnTo>
                    <a:pt x="99" y="734"/>
                  </a:lnTo>
                  <a:lnTo>
                    <a:pt x="96" y="734"/>
                  </a:lnTo>
                  <a:lnTo>
                    <a:pt x="95" y="731"/>
                  </a:lnTo>
                  <a:lnTo>
                    <a:pt x="93" y="729"/>
                  </a:lnTo>
                  <a:lnTo>
                    <a:pt x="93" y="726"/>
                  </a:lnTo>
                  <a:lnTo>
                    <a:pt x="95" y="725"/>
                  </a:lnTo>
                  <a:lnTo>
                    <a:pt x="106" y="711"/>
                  </a:lnTo>
                  <a:lnTo>
                    <a:pt x="124" y="690"/>
                  </a:lnTo>
                  <a:lnTo>
                    <a:pt x="141" y="667"/>
                  </a:lnTo>
                  <a:lnTo>
                    <a:pt x="158" y="643"/>
                  </a:lnTo>
                  <a:lnTo>
                    <a:pt x="172" y="619"/>
                  </a:lnTo>
                  <a:lnTo>
                    <a:pt x="186" y="595"/>
                  </a:lnTo>
                  <a:lnTo>
                    <a:pt x="198" y="571"/>
                  </a:lnTo>
                  <a:lnTo>
                    <a:pt x="199" y="570"/>
                  </a:lnTo>
                  <a:lnTo>
                    <a:pt x="202" y="568"/>
                  </a:lnTo>
                  <a:lnTo>
                    <a:pt x="205" y="567"/>
                  </a:lnTo>
                  <a:lnTo>
                    <a:pt x="208" y="568"/>
                  </a:lnTo>
                  <a:lnTo>
                    <a:pt x="209" y="570"/>
                  </a:lnTo>
                  <a:lnTo>
                    <a:pt x="211" y="572"/>
                  </a:lnTo>
                  <a:lnTo>
                    <a:pt x="212" y="573"/>
                  </a:lnTo>
                  <a:lnTo>
                    <a:pt x="211" y="576"/>
                  </a:lnTo>
                  <a:lnTo>
                    <a:pt x="211" y="576"/>
                  </a:lnTo>
                  <a:close/>
                  <a:moveTo>
                    <a:pt x="24" y="813"/>
                  </a:moveTo>
                  <a:lnTo>
                    <a:pt x="12" y="823"/>
                  </a:lnTo>
                  <a:lnTo>
                    <a:pt x="10" y="825"/>
                  </a:lnTo>
                  <a:lnTo>
                    <a:pt x="7" y="825"/>
                  </a:lnTo>
                  <a:lnTo>
                    <a:pt x="4" y="825"/>
                  </a:lnTo>
                  <a:lnTo>
                    <a:pt x="3" y="823"/>
                  </a:lnTo>
                  <a:lnTo>
                    <a:pt x="1" y="821"/>
                  </a:lnTo>
                  <a:lnTo>
                    <a:pt x="0" y="818"/>
                  </a:lnTo>
                  <a:lnTo>
                    <a:pt x="1" y="817"/>
                  </a:lnTo>
                  <a:lnTo>
                    <a:pt x="3" y="815"/>
                  </a:lnTo>
                  <a:lnTo>
                    <a:pt x="14" y="804"/>
                  </a:lnTo>
                  <a:lnTo>
                    <a:pt x="17" y="803"/>
                  </a:lnTo>
                  <a:lnTo>
                    <a:pt x="19" y="803"/>
                  </a:lnTo>
                  <a:lnTo>
                    <a:pt x="22" y="803"/>
                  </a:lnTo>
                  <a:lnTo>
                    <a:pt x="24" y="804"/>
                  </a:lnTo>
                  <a:lnTo>
                    <a:pt x="25" y="807"/>
                  </a:lnTo>
                  <a:lnTo>
                    <a:pt x="25" y="810"/>
                  </a:lnTo>
                  <a:lnTo>
                    <a:pt x="25" y="811"/>
                  </a:lnTo>
                  <a:lnTo>
                    <a:pt x="24" y="813"/>
                  </a:lnTo>
                  <a:lnTo>
                    <a:pt x="24" y="813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65920" y="3173040"/>
              <a:ext cx="110160" cy="114840"/>
            </a:xfrm>
            <a:custGeom>
              <a:avLst/>
              <a:gdLst/>
              <a:ahLst/>
              <a:rect l="l" t="t" r="r" b="b"/>
              <a:pathLst>
                <a:path w="133" h="111">
                  <a:moveTo>
                    <a:pt x="133" y="86"/>
                  </a:moveTo>
                  <a:lnTo>
                    <a:pt x="0" y="111"/>
                  </a:lnTo>
                  <a:lnTo>
                    <a:pt x="58" y="0"/>
                  </a:lnTo>
                  <a:lnTo>
                    <a:pt x="133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16840" y="2385720"/>
              <a:ext cx="2090520" cy="1949760"/>
            </a:xfrm>
            <a:custGeom>
              <a:avLst/>
              <a:gdLst/>
              <a:ahLst/>
              <a:rect l="l" t="t" r="r" b="b"/>
              <a:pathLst>
                <a:path w="2522" h="1901">
                  <a:moveTo>
                    <a:pt x="10" y="0"/>
                  </a:moveTo>
                  <a:lnTo>
                    <a:pt x="111" y="30"/>
                  </a:lnTo>
                  <a:lnTo>
                    <a:pt x="200" y="58"/>
                  </a:lnTo>
                  <a:lnTo>
                    <a:pt x="203" y="59"/>
                  </a:lnTo>
                  <a:lnTo>
                    <a:pt x="204" y="61"/>
                  </a:lnTo>
                  <a:lnTo>
                    <a:pt x="204" y="63"/>
                  </a:lnTo>
                  <a:lnTo>
                    <a:pt x="204" y="66"/>
                  </a:lnTo>
                  <a:lnTo>
                    <a:pt x="203" y="68"/>
                  </a:lnTo>
                  <a:lnTo>
                    <a:pt x="201" y="69"/>
                  </a:lnTo>
                  <a:lnTo>
                    <a:pt x="199" y="69"/>
                  </a:lnTo>
                  <a:lnTo>
                    <a:pt x="196" y="69"/>
                  </a:lnTo>
                  <a:lnTo>
                    <a:pt x="107" y="42"/>
                  </a:lnTo>
                  <a:lnTo>
                    <a:pt x="6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313" y="96"/>
                  </a:moveTo>
                  <a:lnTo>
                    <a:pt x="407" y="130"/>
                  </a:lnTo>
                  <a:lnTo>
                    <a:pt x="499" y="167"/>
                  </a:lnTo>
                  <a:lnTo>
                    <a:pt x="502" y="168"/>
                  </a:lnTo>
                  <a:lnTo>
                    <a:pt x="503" y="169"/>
                  </a:lnTo>
                  <a:lnTo>
                    <a:pt x="503" y="172"/>
                  </a:lnTo>
                  <a:lnTo>
                    <a:pt x="503" y="174"/>
                  </a:lnTo>
                  <a:lnTo>
                    <a:pt x="502" y="177"/>
                  </a:lnTo>
                  <a:lnTo>
                    <a:pt x="499" y="178"/>
                  </a:lnTo>
                  <a:lnTo>
                    <a:pt x="496" y="178"/>
                  </a:lnTo>
                  <a:lnTo>
                    <a:pt x="495" y="178"/>
                  </a:lnTo>
                  <a:lnTo>
                    <a:pt x="403" y="141"/>
                  </a:lnTo>
                  <a:lnTo>
                    <a:pt x="309" y="107"/>
                  </a:lnTo>
                  <a:lnTo>
                    <a:pt x="306" y="106"/>
                  </a:lnTo>
                  <a:lnTo>
                    <a:pt x="305" y="104"/>
                  </a:lnTo>
                  <a:lnTo>
                    <a:pt x="305" y="102"/>
                  </a:lnTo>
                  <a:lnTo>
                    <a:pt x="305" y="100"/>
                  </a:lnTo>
                  <a:lnTo>
                    <a:pt x="306" y="97"/>
                  </a:lnTo>
                  <a:lnTo>
                    <a:pt x="309" y="96"/>
                  </a:lnTo>
                  <a:lnTo>
                    <a:pt x="310" y="96"/>
                  </a:lnTo>
                  <a:lnTo>
                    <a:pt x="313" y="96"/>
                  </a:lnTo>
                  <a:lnTo>
                    <a:pt x="313" y="96"/>
                  </a:lnTo>
                  <a:close/>
                  <a:moveTo>
                    <a:pt x="609" y="212"/>
                  </a:moveTo>
                  <a:lnTo>
                    <a:pt x="693" y="250"/>
                  </a:lnTo>
                  <a:lnTo>
                    <a:pt x="787" y="294"/>
                  </a:lnTo>
                  <a:lnTo>
                    <a:pt x="788" y="296"/>
                  </a:lnTo>
                  <a:lnTo>
                    <a:pt x="791" y="297"/>
                  </a:lnTo>
                  <a:lnTo>
                    <a:pt x="791" y="299"/>
                  </a:lnTo>
                  <a:lnTo>
                    <a:pt x="792" y="302"/>
                  </a:lnTo>
                  <a:lnTo>
                    <a:pt x="791" y="304"/>
                  </a:lnTo>
                  <a:lnTo>
                    <a:pt x="789" y="306"/>
                  </a:lnTo>
                  <a:lnTo>
                    <a:pt x="787" y="307"/>
                  </a:lnTo>
                  <a:lnTo>
                    <a:pt x="784" y="307"/>
                  </a:lnTo>
                  <a:lnTo>
                    <a:pt x="782" y="307"/>
                  </a:lnTo>
                  <a:lnTo>
                    <a:pt x="780" y="306"/>
                  </a:lnTo>
                  <a:lnTo>
                    <a:pt x="687" y="261"/>
                  </a:lnTo>
                  <a:lnTo>
                    <a:pt x="604" y="224"/>
                  </a:lnTo>
                  <a:lnTo>
                    <a:pt x="601" y="222"/>
                  </a:lnTo>
                  <a:lnTo>
                    <a:pt x="599" y="220"/>
                  </a:lnTo>
                  <a:lnTo>
                    <a:pt x="599" y="217"/>
                  </a:lnTo>
                  <a:lnTo>
                    <a:pt x="599" y="216"/>
                  </a:lnTo>
                  <a:lnTo>
                    <a:pt x="601" y="213"/>
                  </a:lnTo>
                  <a:lnTo>
                    <a:pt x="604" y="212"/>
                  </a:lnTo>
                  <a:lnTo>
                    <a:pt x="606" y="212"/>
                  </a:lnTo>
                  <a:lnTo>
                    <a:pt x="609" y="212"/>
                  </a:lnTo>
                  <a:lnTo>
                    <a:pt x="609" y="212"/>
                  </a:lnTo>
                  <a:close/>
                  <a:moveTo>
                    <a:pt x="894" y="350"/>
                  </a:moveTo>
                  <a:lnTo>
                    <a:pt x="967" y="389"/>
                  </a:lnTo>
                  <a:lnTo>
                    <a:pt x="1056" y="438"/>
                  </a:lnTo>
                  <a:lnTo>
                    <a:pt x="1066" y="445"/>
                  </a:lnTo>
                  <a:lnTo>
                    <a:pt x="1067" y="446"/>
                  </a:lnTo>
                  <a:lnTo>
                    <a:pt x="1069" y="448"/>
                  </a:lnTo>
                  <a:lnTo>
                    <a:pt x="1069" y="451"/>
                  </a:lnTo>
                  <a:lnTo>
                    <a:pt x="1067" y="452"/>
                  </a:lnTo>
                  <a:lnTo>
                    <a:pt x="1066" y="455"/>
                  </a:lnTo>
                  <a:lnTo>
                    <a:pt x="1063" y="455"/>
                  </a:lnTo>
                  <a:lnTo>
                    <a:pt x="1060" y="455"/>
                  </a:lnTo>
                  <a:lnTo>
                    <a:pt x="1057" y="455"/>
                  </a:lnTo>
                  <a:lnTo>
                    <a:pt x="1049" y="450"/>
                  </a:lnTo>
                  <a:lnTo>
                    <a:pt x="961" y="399"/>
                  </a:lnTo>
                  <a:lnTo>
                    <a:pt x="887" y="360"/>
                  </a:lnTo>
                  <a:lnTo>
                    <a:pt x="884" y="357"/>
                  </a:lnTo>
                  <a:lnTo>
                    <a:pt x="884" y="356"/>
                  </a:lnTo>
                  <a:lnTo>
                    <a:pt x="883" y="354"/>
                  </a:lnTo>
                  <a:lnTo>
                    <a:pt x="884" y="351"/>
                  </a:lnTo>
                  <a:lnTo>
                    <a:pt x="886" y="350"/>
                  </a:lnTo>
                  <a:lnTo>
                    <a:pt x="888" y="349"/>
                  </a:lnTo>
                  <a:lnTo>
                    <a:pt x="891" y="349"/>
                  </a:lnTo>
                  <a:lnTo>
                    <a:pt x="894" y="350"/>
                  </a:lnTo>
                  <a:lnTo>
                    <a:pt x="894" y="350"/>
                  </a:lnTo>
                  <a:close/>
                  <a:moveTo>
                    <a:pt x="1166" y="505"/>
                  </a:moveTo>
                  <a:lnTo>
                    <a:pt x="1229" y="544"/>
                  </a:lnTo>
                  <a:lnTo>
                    <a:pt x="1313" y="600"/>
                  </a:lnTo>
                  <a:lnTo>
                    <a:pt x="1330" y="611"/>
                  </a:lnTo>
                  <a:lnTo>
                    <a:pt x="1331" y="614"/>
                  </a:lnTo>
                  <a:lnTo>
                    <a:pt x="1331" y="615"/>
                  </a:lnTo>
                  <a:lnTo>
                    <a:pt x="1331" y="618"/>
                  </a:lnTo>
                  <a:lnTo>
                    <a:pt x="1330" y="620"/>
                  </a:lnTo>
                  <a:lnTo>
                    <a:pt x="1328" y="621"/>
                  </a:lnTo>
                  <a:lnTo>
                    <a:pt x="1326" y="623"/>
                  </a:lnTo>
                  <a:lnTo>
                    <a:pt x="1323" y="623"/>
                  </a:lnTo>
                  <a:lnTo>
                    <a:pt x="1321" y="621"/>
                  </a:lnTo>
                  <a:lnTo>
                    <a:pt x="1305" y="610"/>
                  </a:lnTo>
                  <a:lnTo>
                    <a:pt x="1221" y="554"/>
                  </a:lnTo>
                  <a:lnTo>
                    <a:pt x="1158" y="515"/>
                  </a:lnTo>
                  <a:lnTo>
                    <a:pt x="1157" y="513"/>
                  </a:lnTo>
                  <a:lnTo>
                    <a:pt x="1155" y="510"/>
                  </a:lnTo>
                  <a:lnTo>
                    <a:pt x="1155" y="509"/>
                  </a:lnTo>
                  <a:lnTo>
                    <a:pt x="1157" y="506"/>
                  </a:lnTo>
                  <a:lnTo>
                    <a:pt x="1158" y="505"/>
                  </a:lnTo>
                  <a:lnTo>
                    <a:pt x="1161" y="504"/>
                  </a:lnTo>
                  <a:lnTo>
                    <a:pt x="1164" y="504"/>
                  </a:lnTo>
                  <a:lnTo>
                    <a:pt x="1166" y="505"/>
                  </a:lnTo>
                  <a:lnTo>
                    <a:pt x="1166" y="505"/>
                  </a:lnTo>
                  <a:close/>
                  <a:moveTo>
                    <a:pt x="1425" y="679"/>
                  </a:moveTo>
                  <a:lnTo>
                    <a:pt x="1476" y="717"/>
                  </a:lnTo>
                  <a:lnTo>
                    <a:pt x="1556" y="778"/>
                  </a:lnTo>
                  <a:lnTo>
                    <a:pt x="1578" y="797"/>
                  </a:lnTo>
                  <a:lnTo>
                    <a:pt x="1580" y="798"/>
                  </a:lnTo>
                  <a:lnTo>
                    <a:pt x="1580" y="801"/>
                  </a:lnTo>
                  <a:lnTo>
                    <a:pt x="1580" y="803"/>
                  </a:lnTo>
                  <a:lnTo>
                    <a:pt x="1578" y="806"/>
                  </a:lnTo>
                  <a:lnTo>
                    <a:pt x="1577" y="807"/>
                  </a:lnTo>
                  <a:lnTo>
                    <a:pt x="1574" y="807"/>
                  </a:lnTo>
                  <a:lnTo>
                    <a:pt x="1571" y="807"/>
                  </a:lnTo>
                  <a:lnTo>
                    <a:pt x="1569" y="806"/>
                  </a:lnTo>
                  <a:lnTo>
                    <a:pt x="1546" y="788"/>
                  </a:lnTo>
                  <a:lnTo>
                    <a:pt x="1468" y="726"/>
                  </a:lnTo>
                  <a:lnTo>
                    <a:pt x="1416" y="688"/>
                  </a:lnTo>
                  <a:lnTo>
                    <a:pt x="1414" y="687"/>
                  </a:lnTo>
                  <a:lnTo>
                    <a:pt x="1414" y="685"/>
                  </a:lnTo>
                  <a:lnTo>
                    <a:pt x="1414" y="682"/>
                  </a:lnTo>
                  <a:lnTo>
                    <a:pt x="1415" y="679"/>
                  </a:lnTo>
                  <a:lnTo>
                    <a:pt x="1416" y="678"/>
                  </a:lnTo>
                  <a:lnTo>
                    <a:pt x="1419" y="678"/>
                  </a:lnTo>
                  <a:lnTo>
                    <a:pt x="1422" y="678"/>
                  </a:lnTo>
                  <a:lnTo>
                    <a:pt x="1425" y="679"/>
                  </a:lnTo>
                  <a:lnTo>
                    <a:pt x="1425" y="679"/>
                  </a:lnTo>
                  <a:close/>
                  <a:moveTo>
                    <a:pt x="1668" y="870"/>
                  </a:moveTo>
                  <a:lnTo>
                    <a:pt x="1710" y="907"/>
                  </a:lnTo>
                  <a:lnTo>
                    <a:pt x="1784" y="972"/>
                  </a:lnTo>
                  <a:lnTo>
                    <a:pt x="1810" y="999"/>
                  </a:lnTo>
                  <a:lnTo>
                    <a:pt x="1811" y="1000"/>
                  </a:lnTo>
                  <a:lnTo>
                    <a:pt x="1813" y="1003"/>
                  </a:lnTo>
                  <a:lnTo>
                    <a:pt x="1811" y="1005"/>
                  </a:lnTo>
                  <a:lnTo>
                    <a:pt x="1810" y="1007"/>
                  </a:lnTo>
                  <a:lnTo>
                    <a:pt x="1807" y="1008"/>
                  </a:lnTo>
                  <a:lnTo>
                    <a:pt x="1806" y="1009"/>
                  </a:lnTo>
                  <a:lnTo>
                    <a:pt x="1803" y="1008"/>
                  </a:lnTo>
                  <a:lnTo>
                    <a:pt x="1800" y="1007"/>
                  </a:lnTo>
                  <a:lnTo>
                    <a:pt x="1774" y="981"/>
                  </a:lnTo>
                  <a:lnTo>
                    <a:pt x="1700" y="916"/>
                  </a:lnTo>
                  <a:lnTo>
                    <a:pt x="1658" y="879"/>
                  </a:lnTo>
                  <a:lnTo>
                    <a:pt x="1656" y="878"/>
                  </a:lnTo>
                  <a:lnTo>
                    <a:pt x="1655" y="875"/>
                  </a:lnTo>
                  <a:lnTo>
                    <a:pt x="1656" y="873"/>
                  </a:lnTo>
                  <a:lnTo>
                    <a:pt x="1658" y="870"/>
                  </a:lnTo>
                  <a:lnTo>
                    <a:pt x="1659" y="869"/>
                  </a:lnTo>
                  <a:lnTo>
                    <a:pt x="1662" y="869"/>
                  </a:lnTo>
                  <a:lnTo>
                    <a:pt x="1665" y="869"/>
                  </a:lnTo>
                  <a:lnTo>
                    <a:pt x="1668" y="870"/>
                  </a:lnTo>
                  <a:lnTo>
                    <a:pt x="1668" y="870"/>
                  </a:lnTo>
                  <a:close/>
                  <a:moveTo>
                    <a:pt x="1892" y="1079"/>
                  </a:moveTo>
                  <a:lnTo>
                    <a:pt x="1926" y="1110"/>
                  </a:lnTo>
                  <a:lnTo>
                    <a:pt x="1994" y="1182"/>
                  </a:lnTo>
                  <a:lnTo>
                    <a:pt x="2025" y="1215"/>
                  </a:lnTo>
                  <a:lnTo>
                    <a:pt x="2027" y="1218"/>
                  </a:lnTo>
                  <a:lnTo>
                    <a:pt x="2027" y="1220"/>
                  </a:lnTo>
                  <a:lnTo>
                    <a:pt x="2025" y="1223"/>
                  </a:lnTo>
                  <a:lnTo>
                    <a:pt x="2024" y="1224"/>
                  </a:lnTo>
                  <a:lnTo>
                    <a:pt x="2022" y="1225"/>
                  </a:lnTo>
                  <a:lnTo>
                    <a:pt x="2020" y="1225"/>
                  </a:lnTo>
                  <a:lnTo>
                    <a:pt x="2017" y="1225"/>
                  </a:lnTo>
                  <a:lnTo>
                    <a:pt x="2015" y="1224"/>
                  </a:lnTo>
                  <a:lnTo>
                    <a:pt x="1985" y="1190"/>
                  </a:lnTo>
                  <a:lnTo>
                    <a:pt x="1916" y="1119"/>
                  </a:lnTo>
                  <a:lnTo>
                    <a:pt x="1883" y="1086"/>
                  </a:lnTo>
                  <a:lnTo>
                    <a:pt x="1881" y="1084"/>
                  </a:lnTo>
                  <a:lnTo>
                    <a:pt x="1881" y="1082"/>
                  </a:lnTo>
                  <a:lnTo>
                    <a:pt x="1881" y="1080"/>
                  </a:lnTo>
                  <a:lnTo>
                    <a:pt x="1884" y="1077"/>
                  </a:lnTo>
                  <a:lnTo>
                    <a:pt x="1886" y="1076"/>
                  </a:lnTo>
                  <a:lnTo>
                    <a:pt x="1888" y="1076"/>
                  </a:lnTo>
                  <a:lnTo>
                    <a:pt x="1891" y="1076"/>
                  </a:lnTo>
                  <a:lnTo>
                    <a:pt x="1892" y="1079"/>
                  </a:lnTo>
                  <a:lnTo>
                    <a:pt x="1892" y="1079"/>
                  </a:lnTo>
                  <a:close/>
                  <a:moveTo>
                    <a:pt x="2101" y="1301"/>
                  </a:moveTo>
                  <a:lnTo>
                    <a:pt x="2126" y="1330"/>
                  </a:lnTo>
                  <a:lnTo>
                    <a:pt x="2189" y="1406"/>
                  </a:lnTo>
                  <a:lnTo>
                    <a:pt x="2221" y="1447"/>
                  </a:lnTo>
                  <a:lnTo>
                    <a:pt x="2222" y="1449"/>
                  </a:lnTo>
                  <a:lnTo>
                    <a:pt x="2222" y="1451"/>
                  </a:lnTo>
                  <a:lnTo>
                    <a:pt x="2221" y="1454"/>
                  </a:lnTo>
                  <a:lnTo>
                    <a:pt x="2219" y="1455"/>
                  </a:lnTo>
                  <a:lnTo>
                    <a:pt x="2216" y="1456"/>
                  </a:lnTo>
                  <a:lnTo>
                    <a:pt x="2215" y="1456"/>
                  </a:lnTo>
                  <a:lnTo>
                    <a:pt x="2212" y="1455"/>
                  </a:lnTo>
                  <a:lnTo>
                    <a:pt x="2209" y="1454"/>
                  </a:lnTo>
                  <a:lnTo>
                    <a:pt x="2177" y="1412"/>
                  </a:lnTo>
                  <a:lnTo>
                    <a:pt x="2116" y="1336"/>
                  </a:lnTo>
                  <a:lnTo>
                    <a:pt x="2091" y="1308"/>
                  </a:lnTo>
                  <a:lnTo>
                    <a:pt x="2089" y="1306"/>
                  </a:lnTo>
                  <a:lnTo>
                    <a:pt x="2089" y="1303"/>
                  </a:lnTo>
                  <a:lnTo>
                    <a:pt x="2089" y="1301"/>
                  </a:lnTo>
                  <a:lnTo>
                    <a:pt x="2092" y="1300"/>
                  </a:lnTo>
                  <a:lnTo>
                    <a:pt x="2094" y="1298"/>
                  </a:lnTo>
                  <a:lnTo>
                    <a:pt x="2096" y="1298"/>
                  </a:lnTo>
                  <a:lnTo>
                    <a:pt x="2099" y="1300"/>
                  </a:lnTo>
                  <a:lnTo>
                    <a:pt x="2101" y="1301"/>
                  </a:lnTo>
                  <a:lnTo>
                    <a:pt x="2101" y="1301"/>
                  </a:lnTo>
                  <a:close/>
                  <a:moveTo>
                    <a:pt x="2289" y="1537"/>
                  </a:moveTo>
                  <a:lnTo>
                    <a:pt x="2309" y="1562"/>
                  </a:lnTo>
                  <a:lnTo>
                    <a:pt x="2364" y="1642"/>
                  </a:lnTo>
                  <a:lnTo>
                    <a:pt x="2397" y="1691"/>
                  </a:lnTo>
                  <a:lnTo>
                    <a:pt x="2398" y="1694"/>
                  </a:lnTo>
                  <a:lnTo>
                    <a:pt x="2398" y="1695"/>
                  </a:lnTo>
                  <a:lnTo>
                    <a:pt x="2397" y="1697"/>
                  </a:lnTo>
                  <a:lnTo>
                    <a:pt x="2395" y="1700"/>
                  </a:lnTo>
                  <a:lnTo>
                    <a:pt x="2392" y="1700"/>
                  </a:lnTo>
                  <a:lnTo>
                    <a:pt x="2390" y="1700"/>
                  </a:lnTo>
                  <a:lnTo>
                    <a:pt x="2387" y="1699"/>
                  </a:lnTo>
                  <a:lnTo>
                    <a:pt x="2385" y="1697"/>
                  </a:lnTo>
                  <a:lnTo>
                    <a:pt x="2353" y="1649"/>
                  </a:lnTo>
                  <a:lnTo>
                    <a:pt x="2297" y="1569"/>
                  </a:lnTo>
                  <a:lnTo>
                    <a:pt x="2278" y="1543"/>
                  </a:lnTo>
                  <a:lnTo>
                    <a:pt x="2278" y="1541"/>
                  </a:lnTo>
                  <a:lnTo>
                    <a:pt x="2276" y="1540"/>
                  </a:lnTo>
                  <a:lnTo>
                    <a:pt x="2278" y="1537"/>
                  </a:lnTo>
                  <a:lnTo>
                    <a:pt x="2281" y="1536"/>
                  </a:lnTo>
                  <a:lnTo>
                    <a:pt x="2282" y="1535"/>
                  </a:lnTo>
                  <a:lnTo>
                    <a:pt x="2285" y="1535"/>
                  </a:lnTo>
                  <a:lnTo>
                    <a:pt x="2288" y="1536"/>
                  </a:lnTo>
                  <a:lnTo>
                    <a:pt x="2289" y="1537"/>
                  </a:lnTo>
                  <a:lnTo>
                    <a:pt x="2289" y="1537"/>
                  </a:lnTo>
                  <a:close/>
                  <a:moveTo>
                    <a:pt x="2458" y="1786"/>
                  </a:moveTo>
                  <a:lnTo>
                    <a:pt x="2471" y="1807"/>
                  </a:lnTo>
                  <a:lnTo>
                    <a:pt x="2521" y="1892"/>
                  </a:lnTo>
                  <a:lnTo>
                    <a:pt x="2522" y="1894"/>
                  </a:lnTo>
                  <a:lnTo>
                    <a:pt x="2522" y="1897"/>
                  </a:lnTo>
                  <a:lnTo>
                    <a:pt x="2521" y="1900"/>
                  </a:lnTo>
                  <a:lnTo>
                    <a:pt x="2518" y="1901"/>
                  </a:lnTo>
                  <a:lnTo>
                    <a:pt x="2515" y="1901"/>
                  </a:lnTo>
                  <a:lnTo>
                    <a:pt x="2514" y="1901"/>
                  </a:lnTo>
                  <a:lnTo>
                    <a:pt x="2511" y="1900"/>
                  </a:lnTo>
                  <a:lnTo>
                    <a:pt x="2510" y="1898"/>
                  </a:lnTo>
                  <a:lnTo>
                    <a:pt x="2459" y="1814"/>
                  </a:lnTo>
                  <a:lnTo>
                    <a:pt x="2445" y="1792"/>
                  </a:lnTo>
                  <a:lnTo>
                    <a:pt x="2444" y="1790"/>
                  </a:lnTo>
                  <a:lnTo>
                    <a:pt x="2445" y="1787"/>
                  </a:lnTo>
                  <a:lnTo>
                    <a:pt x="2445" y="1785"/>
                  </a:lnTo>
                  <a:lnTo>
                    <a:pt x="2448" y="1783"/>
                  </a:lnTo>
                  <a:lnTo>
                    <a:pt x="2451" y="1782"/>
                  </a:lnTo>
                  <a:lnTo>
                    <a:pt x="2454" y="1782"/>
                  </a:lnTo>
                  <a:lnTo>
                    <a:pt x="2455" y="1783"/>
                  </a:lnTo>
                  <a:lnTo>
                    <a:pt x="2458" y="1786"/>
                  </a:lnTo>
                  <a:lnTo>
                    <a:pt x="2458" y="178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52280" y="4293360"/>
              <a:ext cx="88560" cy="12348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8" y="0"/>
                  </a:moveTo>
                  <a:lnTo>
                    <a:pt x="108" y="121"/>
                  </a:lnTo>
                  <a:lnTo>
                    <a:pt x="0" y="48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16840" y="2360880"/>
              <a:ext cx="2072160" cy="859680"/>
            </a:xfrm>
            <a:custGeom>
              <a:avLst/>
              <a:gdLst/>
              <a:ahLst/>
              <a:rect l="l" t="t" r="r" b="b"/>
              <a:pathLst>
                <a:path w="2500" h="837">
                  <a:moveTo>
                    <a:pt x="6" y="25"/>
                  </a:moveTo>
                  <a:lnTo>
                    <a:pt x="93" y="15"/>
                  </a:lnTo>
                  <a:lnTo>
                    <a:pt x="181" y="9"/>
                  </a:lnTo>
                  <a:lnTo>
                    <a:pt x="207" y="6"/>
                  </a:lnTo>
                  <a:lnTo>
                    <a:pt x="210" y="6"/>
                  </a:lnTo>
                  <a:lnTo>
                    <a:pt x="211" y="7"/>
                  </a:lnTo>
                  <a:lnTo>
                    <a:pt x="213" y="10"/>
                  </a:lnTo>
                  <a:lnTo>
                    <a:pt x="214" y="12"/>
                  </a:lnTo>
                  <a:lnTo>
                    <a:pt x="214" y="15"/>
                  </a:lnTo>
                  <a:lnTo>
                    <a:pt x="213" y="16"/>
                  </a:lnTo>
                  <a:lnTo>
                    <a:pt x="210" y="17"/>
                  </a:lnTo>
                  <a:lnTo>
                    <a:pt x="208" y="19"/>
                  </a:lnTo>
                  <a:lnTo>
                    <a:pt x="182" y="20"/>
                  </a:lnTo>
                  <a:lnTo>
                    <a:pt x="95" y="27"/>
                  </a:lnTo>
                  <a:lnTo>
                    <a:pt x="9" y="38"/>
                  </a:lnTo>
                  <a:lnTo>
                    <a:pt x="6" y="38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5"/>
                  </a:lnTo>
                  <a:close/>
                  <a:moveTo>
                    <a:pt x="327" y="1"/>
                  </a:moveTo>
                  <a:lnTo>
                    <a:pt x="354" y="0"/>
                  </a:lnTo>
                  <a:lnTo>
                    <a:pt x="439" y="0"/>
                  </a:lnTo>
                  <a:lnTo>
                    <a:pt x="525" y="2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3"/>
                  </a:lnTo>
                  <a:lnTo>
                    <a:pt x="535" y="6"/>
                  </a:lnTo>
                  <a:lnTo>
                    <a:pt x="535" y="9"/>
                  </a:lnTo>
                  <a:lnTo>
                    <a:pt x="535" y="11"/>
                  </a:lnTo>
                  <a:lnTo>
                    <a:pt x="534" y="12"/>
                  </a:lnTo>
                  <a:lnTo>
                    <a:pt x="531" y="14"/>
                  </a:lnTo>
                  <a:lnTo>
                    <a:pt x="528" y="15"/>
                  </a:lnTo>
                  <a:lnTo>
                    <a:pt x="525" y="14"/>
                  </a:lnTo>
                  <a:lnTo>
                    <a:pt x="440" y="12"/>
                  </a:lnTo>
                  <a:lnTo>
                    <a:pt x="354" y="12"/>
                  </a:lnTo>
                  <a:lnTo>
                    <a:pt x="329" y="14"/>
                  </a:lnTo>
                  <a:lnTo>
                    <a:pt x="326" y="12"/>
                  </a:lnTo>
                  <a:lnTo>
                    <a:pt x="323" y="11"/>
                  </a:lnTo>
                  <a:lnTo>
                    <a:pt x="322" y="10"/>
                  </a:lnTo>
                  <a:lnTo>
                    <a:pt x="322" y="7"/>
                  </a:lnTo>
                  <a:lnTo>
                    <a:pt x="322" y="5"/>
                  </a:lnTo>
                  <a:lnTo>
                    <a:pt x="323" y="2"/>
                  </a:lnTo>
                  <a:lnTo>
                    <a:pt x="324" y="1"/>
                  </a:lnTo>
                  <a:lnTo>
                    <a:pt x="327" y="1"/>
                  </a:lnTo>
                  <a:lnTo>
                    <a:pt x="327" y="1"/>
                  </a:lnTo>
                  <a:close/>
                  <a:moveTo>
                    <a:pt x="650" y="10"/>
                  </a:moveTo>
                  <a:lnTo>
                    <a:pt x="697" y="14"/>
                  </a:lnTo>
                  <a:lnTo>
                    <a:pt x="782" y="22"/>
                  </a:lnTo>
                  <a:lnTo>
                    <a:pt x="849" y="31"/>
                  </a:lnTo>
                  <a:lnTo>
                    <a:pt x="852" y="33"/>
                  </a:lnTo>
                  <a:lnTo>
                    <a:pt x="854" y="34"/>
                  </a:lnTo>
                  <a:lnTo>
                    <a:pt x="855" y="35"/>
                  </a:lnTo>
                  <a:lnTo>
                    <a:pt x="855" y="38"/>
                  </a:lnTo>
                  <a:lnTo>
                    <a:pt x="855" y="40"/>
                  </a:lnTo>
                  <a:lnTo>
                    <a:pt x="852" y="43"/>
                  </a:lnTo>
                  <a:lnTo>
                    <a:pt x="851" y="43"/>
                  </a:lnTo>
                  <a:lnTo>
                    <a:pt x="848" y="44"/>
                  </a:lnTo>
                  <a:lnTo>
                    <a:pt x="781" y="34"/>
                  </a:lnTo>
                  <a:lnTo>
                    <a:pt x="696" y="25"/>
                  </a:lnTo>
                  <a:lnTo>
                    <a:pt x="648" y="21"/>
                  </a:lnTo>
                  <a:lnTo>
                    <a:pt x="646" y="21"/>
                  </a:lnTo>
                  <a:lnTo>
                    <a:pt x="644" y="19"/>
                  </a:lnTo>
                  <a:lnTo>
                    <a:pt x="643" y="17"/>
                  </a:lnTo>
                  <a:lnTo>
                    <a:pt x="643" y="15"/>
                  </a:lnTo>
                  <a:lnTo>
                    <a:pt x="643" y="12"/>
                  </a:lnTo>
                  <a:lnTo>
                    <a:pt x="644" y="11"/>
                  </a:lnTo>
                  <a:lnTo>
                    <a:pt x="647" y="10"/>
                  </a:lnTo>
                  <a:lnTo>
                    <a:pt x="650" y="10"/>
                  </a:lnTo>
                  <a:lnTo>
                    <a:pt x="650" y="10"/>
                  </a:lnTo>
                  <a:close/>
                  <a:moveTo>
                    <a:pt x="969" y="50"/>
                  </a:moveTo>
                  <a:lnTo>
                    <a:pt x="1034" y="63"/>
                  </a:lnTo>
                  <a:lnTo>
                    <a:pt x="1117" y="82"/>
                  </a:lnTo>
                  <a:lnTo>
                    <a:pt x="1165" y="93"/>
                  </a:lnTo>
                  <a:lnTo>
                    <a:pt x="1166" y="94"/>
                  </a:lnTo>
                  <a:lnTo>
                    <a:pt x="1169" y="96"/>
                  </a:lnTo>
                  <a:lnTo>
                    <a:pt x="1169" y="98"/>
                  </a:lnTo>
                  <a:lnTo>
                    <a:pt x="1169" y="101"/>
                  </a:lnTo>
                  <a:lnTo>
                    <a:pt x="1168" y="102"/>
                  </a:lnTo>
                  <a:lnTo>
                    <a:pt x="1166" y="105"/>
                  </a:lnTo>
                  <a:lnTo>
                    <a:pt x="1164" y="105"/>
                  </a:lnTo>
                  <a:lnTo>
                    <a:pt x="1161" y="105"/>
                  </a:lnTo>
                  <a:lnTo>
                    <a:pt x="1113" y="93"/>
                  </a:lnTo>
                  <a:lnTo>
                    <a:pt x="1031" y="75"/>
                  </a:lnTo>
                  <a:lnTo>
                    <a:pt x="967" y="63"/>
                  </a:lnTo>
                  <a:lnTo>
                    <a:pt x="964" y="62"/>
                  </a:lnTo>
                  <a:lnTo>
                    <a:pt x="963" y="60"/>
                  </a:lnTo>
                  <a:lnTo>
                    <a:pt x="961" y="58"/>
                  </a:lnTo>
                  <a:lnTo>
                    <a:pt x="961" y="55"/>
                  </a:lnTo>
                  <a:lnTo>
                    <a:pt x="963" y="53"/>
                  </a:lnTo>
                  <a:lnTo>
                    <a:pt x="964" y="51"/>
                  </a:lnTo>
                  <a:lnTo>
                    <a:pt x="967" y="50"/>
                  </a:lnTo>
                  <a:lnTo>
                    <a:pt x="969" y="50"/>
                  </a:lnTo>
                  <a:lnTo>
                    <a:pt x="969" y="50"/>
                  </a:lnTo>
                  <a:close/>
                  <a:moveTo>
                    <a:pt x="1281" y="125"/>
                  </a:moveTo>
                  <a:lnTo>
                    <a:pt x="1360" y="149"/>
                  </a:lnTo>
                  <a:lnTo>
                    <a:pt x="1441" y="175"/>
                  </a:lnTo>
                  <a:lnTo>
                    <a:pt x="1471" y="187"/>
                  </a:lnTo>
                  <a:lnTo>
                    <a:pt x="1472" y="188"/>
                  </a:lnTo>
                  <a:lnTo>
                    <a:pt x="1474" y="189"/>
                  </a:lnTo>
                  <a:lnTo>
                    <a:pt x="1474" y="192"/>
                  </a:lnTo>
                  <a:lnTo>
                    <a:pt x="1474" y="194"/>
                  </a:lnTo>
                  <a:lnTo>
                    <a:pt x="1472" y="197"/>
                  </a:lnTo>
                  <a:lnTo>
                    <a:pt x="1469" y="198"/>
                  </a:lnTo>
                  <a:lnTo>
                    <a:pt x="1468" y="198"/>
                  </a:lnTo>
                  <a:lnTo>
                    <a:pt x="1465" y="198"/>
                  </a:lnTo>
                  <a:lnTo>
                    <a:pt x="1436" y="187"/>
                  </a:lnTo>
                  <a:lnTo>
                    <a:pt x="1356" y="160"/>
                  </a:lnTo>
                  <a:lnTo>
                    <a:pt x="1277" y="136"/>
                  </a:lnTo>
                  <a:lnTo>
                    <a:pt x="1274" y="135"/>
                  </a:lnTo>
                  <a:lnTo>
                    <a:pt x="1272" y="132"/>
                  </a:lnTo>
                  <a:lnTo>
                    <a:pt x="1272" y="130"/>
                  </a:lnTo>
                  <a:lnTo>
                    <a:pt x="1272" y="129"/>
                  </a:lnTo>
                  <a:lnTo>
                    <a:pt x="1274" y="126"/>
                  </a:lnTo>
                  <a:lnTo>
                    <a:pt x="1275" y="125"/>
                  </a:lnTo>
                  <a:lnTo>
                    <a:pt x="1278" y="123"/>
                  </a:lnTo>
                  <a:lnTo>
                    <a:pt x="1281" y="125"/>
                  </a:lnTo>
                  <a:lnTo>
                    <a:pt x="1281" y="125"/>
                  </a:lnTo>
                  <a:close/>
                  <a:moveTo>
                    <a:pt x="1581" y="230"/>
                  </a:moveTo>
                  <a:lnTo>
                    <a:pt x="1598" y="236"/>
                  </a:lnTo>
                  <a:lnTo>
                    <a:pt x="1675" y="269"/>
                  </a:lnTo>
                  <a:lnTo>
                    <a:pt x="1750" y="304"/>
                  </a:lnTo>
                  <a:lnTo>
                    <a:pt x="1763" y="310"/>
                  </a:lnTo>
                  <a:lnTo>
                    <a:pt x="1764" y="312"/>
                  </a:lnTo>
                  <a:lnTo>
                    <a:pt x="1765" y="314"/>
                  </a:lnTo>
                  <a:lnTo>
                    <a:pt x="1765" y="317"/>
                  </a:lnTo>
                  <a:lnTo>
                    <a:pt x="1764" y="319"/>
                  </a:lnTo>
                  <a:lnTo>
                    <a:pt x="1763" y="321"/>
                  </a:lnTo>
                  <a:lnTo>
                    <a:pt x="1760" y="322"/>
                  </a:lnTo>
                  <a:lnTo>
                    <a:pt x="1758" y="322"/>
                  </a:lnTo>
                  <a:lnTo>
                    <a:pt x="1756" y="321"/>
                  </a:lnTo>
                  <a:lnTo>
                    <a:pt x="1744" y="315"/>
                  </a:lnTo>
                  <a:lnTo>
                    <a:pt x="1669" y="280"/>
                  </a:lnTo>
                  <a:lnTo>
                    <a:pt x="1592" y="247"/>
                  </a:lnTo>
                  <a:lnTo>
                    <a:pt x="1576" y="241"/>
                  </a:lnTo>
                  <a:lnTo>
                    <a:pt x="1574" y="238"/>
                  </a:lnTo>
                  <a:lnTo>
                    <a:pt x="1573" y="237"/>
                  </a:lnTo>
                  <a:lnTo>
                    <a:pt x="1571" y="235"/>
                  </a:lnTo>
                  <a:lnTo>
                    <a:pt x="1573" y="232"/>
                  </a:lnTo>
                  <a:lnTo>
                    <a:pt x="1574" y="231"/>
                  </a:lnTo>
                  <a:lnTo>
                    <a:pt x="1576" y="230"/>
                  </a:lnTo>
                  <a:lnTo>
                    <a:pt x="1578" y="228"/>
                  </a:lnTo>
                  <a:lnTo>
                    <a:pt x="1581" y="230"/>
                  </a:lnTo>
                  <a:lnTo>
                    <a:pt x="1581" y="230"/>
                  </a:lnTo>
                  <a:close/>
                  <a:moveTo>
                    <a:pt x="1867" y="365"/>
                  </a:moveTo>
                  <a:lnTo>
                    <a:pt x="1898" y="381"/>
                  </a:lnTo>
                  <a:lnTo>
                    <a:pt x="1971" y="423"/>
                  </a:lnTo>
                  <a:lnTo>
                    <a:pt x="2036" y="463"/>
                  </a:lnTo>
                  <a:lnTo>
                    <a:pt x="2038" y="464"/>
                  </a:lnTo>
                  <a:lnTo>
                    <a:pt x="2039" y="467"/>
                  </a:lnTo>
                  <a:lnTo>
                    <a:pt x="2039" y="470"/>
                  </a:lnTo>
                  <a:lnTo>
                    <a:pt x="2038" y="472"/>
                  </a:lnTo>
                  <a:lnTo>
                    <a:pt x="2036" y="473"/>
                  </a:lnTo>
                  <a:lnTo>
                    <a:pt x="2034" y="475"/>
                  </a:lnTo>
                  <a:lnTo>
                    <a:pt x="2031" y="475"/>
                  </a:lnTo>
                  <a:lnTo>
                    <a:pt x="2028" y="473"/>
                  </a:lnTo>
                  <a:lnTo>
                    <a:pt x="1964" y="433"/>
                  </a:lnTo>
                  <a:lnTo>
                    <a:pt x="1891" y="393"/>
                  </a:lnTo>
                  <a:lnTo>
                    <a:pt x="1860" y="375"/>
                  </a:lnTo>
                  <a:lnTo>
                    <a:pt x="1858" y="374"/>
                  </a:lnTo>
                  <a:lnTo>
                    <a:pt x="1856" y="371"/>
                  </a:lnTo>
                  <a:lnTo>
                    <a:pt x="1856" y="369"/>
                  </a:lnTo>
                  <a:lnTo>
                    <a:pt x="1858" y="367"/>
                  </a:lnTo>
                  <a:lnTo>
                    <a:pt x="1859" y="365"/>
                  </a:lnTo>
                  <a:lnTo>
                    <a:pt x="1862" y="363"/>
                  </a:lnTo>
                  <a:lnTo>
                    <a:pt x="1865" y="363"/>
                  </a:lnTo>
                  <a:lnTo>
                    <a:pt x="1867" y="365"/>
                  </a:lnTo>
                  <a:lnTo>
                    <a:pt x="1867" y="365"/>
                  </a:lnTo>
                  <a:close/>
                  <a:moveTo>
                    <a:pt x="2134" y="528"/>
                  </a:moveTo>
                  <a:lnTo>
                    <a:pt x="2180" y="560"/>
                  </a:lnTo>
                  <a:lnTo>
                    <a:pt x="2246" y="610"/>
                  </a:lnTo>
                  <a:lnTo>
                    <a:pt x="2289" y="644"/>
                  </a:lnTo>
                  <a:lnTo>
                    <a:pt x="2290" y="645"/>
                  </a:lnTo>
                  <a:lnTo>
                    <a:pt x="2292" y="648"/>
                  </a:lnTo>
                  <a:lnTo>
                    <a:pt x="2292" y="650"/>
                  </a:lnTo>
                  <a:lnTo>
                    <a:pt x="2290" y="653"/>
                  </a:lnTo>
                  <a:lnTo>
                    <a:pt x="2288" y="654"/>
                  </a:lnTo>
                  <a:lnTo>
                    <a:pt x="2285" y="654"/>
                  </a:lnTo>
                  <a:lnTo>
                    <a:pt x="2282" y="654"/>
                  </a:lnTo>
                  <a:lnTo>
                    <a:pt x="2281" y="653"/>
                  </a:lnTo>
                  <a:lnTo>
                    <a:pt x="2237" y="619"/>
                  </a:lnTo>
                  <a:lnTo>
                    <a:pt x="2172" y="569"/>
                  </a:lnTo>
                  <a:lnTo>
                    <a:pt x="2126" y="538"/>
                  </a:lnTo>
                  <a:lnTo>
                    <a:pt x="2124" y="535"/>
                  </a:lnTo>
                  <a:lnTo>
                    <a:pt x="2123" y="534"/>
                  </a:lnTo>
                  <a:lnTo>
                    <a:pt x="2123" y="531"/>
                  </a:lnTo>
                  <a:lnTo>
                    <a:pt x="2124" y="529"/>
                  </a:lnTo>
                  <a:lnTo>
                    <a:pt x="2126" y="528"/>
                  </a:lnTo>
                  <a:lnTo>
                    <a:pt x="2128" y="526"/>
                  </a:lnTo>
                  <a:lnTo>
                    <a:pt x="2131" y="526"/>
                  </a:lnTo>
                  <a:lnTo>
                    <a:pt x="2134" y="528"/>
                  </a:lnTo>
                  <a:lnTo>
                    <a:pt x="2134" y="528"/>
                  </a:lnTo>
                  <a:close/>
                  <a:moveTo>
                    <a:pt x="2378" y="718"/>
                  </a:moveTo>
                  <a:lnTo>
                    <a:pt x="2437" y="770"/>
                  </a:lnTo>
                  <a:lnTo>
                    <a:pt x="2497" y="827"/>
                  </a:lnTo>
                  <a:lnTo>
                    <a:pt x="2499" y="829"/>
                  </a:lnTo>
                  <a:lnTo>
                    <a:pt x="2500" y="832"/>
                  </a:lnTo>
                  <a:lnTo>
                    <a:pt x="2499" y="833"/>
                  </a:lnTo>
                  <a:lnTo>
                    <a:pt x="2497" y="836"/>
                  </a:lnTo>
                  <a:lnTo>
                    <a:pt x="2494" y="837"/>
                  </a:lnTo>
                  <a:lnTo>
                    <a:pt x="2493" y="837"/>
                  </a:lnTo>
                  <a:lnTo>
                    <a:pt x="2490" y="837"/>
                  </a:lnTo>
                  <a:lnTo>
                    <a:pt x="2487" y="836"/>
                  </a:lnTo>
                  <a:lnTo>
                    <a:pt x="2427" y="779"/>
                  </a:lnTo>
                  <a:lnTo>
                    <a:pt x="2369" y="726"/>
                  </a:lnTo>
                  <a:lnTo>
                    <a:pt x="2367" y="725"/>
                  </a:lnTo>
                  <a:lnTo>
                    <a:pt x="2367" y="722"/>
                  </a:lnTo>
                  <a:lnTo>
                    <a:pt x="2367" y="720"/>
                  </a:lnTo>
                  <a:lnTo>
                    <a:pt x="2369" y="718"/>
                  </a:lnTo>
                  <a:lnTo>
                    <a:pt x="2371" y="716"/>
                  </a:lnTo>
                  <a:lnTo>
                    <a:pt x="2374" y="716"/>
                  </a:lnTo>
                  <a:lnTo>
                    <a:pt x="2376" y="716"/>
                  </a:lnTo>
                  <a:lnTo>
                    <a:pt x="2378" y="718"/>
                  </a:lnTo>
                  <a:lnTo>
                    <a:pt x="2378" y="71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38600" y="3167280"/>
              <a:ext cx="102240" cy="11880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91" y="0"/>
                  </a:moveTo>
                  <a:lnTo>
                    <a:pt x="126" y="118"/>
                  </a:lnTo>
                  <a:lnTo>
                    <a:pt x="0" y="7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1760" y="2385720"/>
              <a:ext cx="4001760" cy="1983600"/>
            </a:xfrm>
            <a:custGeom>
              <a:avLst/>
              <a:gdLst/>
              <a:ahLst/>
              <a:rect l="l" t="t" r="r" b="b"/>
              <a:pathLst>
                <a:path w="4828" h="1934">
                  <a:moveTo>
                    <a:pt x="9" y="0"/>
                  </a:moveTo>
                  <a:lnTo>
                    <a:pt x="169" y="38"/>
                  </a:lnTo>
                  <a:lnTo>
                    <a:pt x="204" y="47"/>
                  </a:lnTo>
                  <a:lnTo>
                    <a:pt x="206" y="48"/>
                  </a:lnTo>
                  <a:lnTo>
                    <a:pt x="207" y="49"/>
                  </a:lnTo>
                  <a:lnTo>
                    <a:pt x="209" y="52"/>
                  </a:lnTo>
                  <a:lnTo>
                    <a:pt x="209" y="54"/>
                  </a:lnTo>
                  <a:lnTo>
                    <a:pt x="207" y="56"/>
                  </a:lnTo>
                  <a:lnTo>
                    <a:pt x="206" y="58"/>
                  </a:lnTo>
                  <a:lnTo>
                    <a:pt x="203" y="58"/>
                  </a:lnTo>
                  <a:lnTo>
                    <a:pt x="200" y="58"/>
                  </a:lnTo>
                  <a:lnTo>
                    <a:pt x="167" y="50"/>
                  </a:lnTo>
                  <a:lnTo>
                    <a:pt x="6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  <a:moveTo>
                    <a:pt x="320" y="76"/>
                  </a:moveTo>
                  <a:lnTo>
                    <a:pt x="329" y="77"/>
                  </a:lnTo>
                  <a:lnTo>
                    <a:pt x="488" y="119"/>
                  </a:lnTo>
                  <a:lnTo>
                    <a:pt x="514" y="125"/>
                  </a:lnTo>
                  <a:lnTo>
                    <a:pt x="516" y="126"/>
                  </a:lnTo>
                  <a:lnTo>
                    <a:pt x="517" y="128"/>
                  </a:lnTo>
                  <a:lnTo>
                    <a:pt x="519" y="130"/>
                  </a:lnTo>
                  <a:lnTo>
                    <a:pt x="519" y="133"/>
                  </a:lnTo>
                  <a:lnTo>
                    <a:pt x="517" y="135"/>
                  </a:lnTo>
                  <a:lnTo>
                    <a:pt x="514" y="136"/>
                  </a:lnTo>
                  <a:lnTo>
                    <a:pt x="513" y="136"/>
                  </a:lnTo>
                  <a:lnTo>
                    <a:pt x="510" y="136"/>
                  </a:lnTo>
                  <a:lnTo>
                    <a:pt x="485" y="130"/>
                  </a:lnTo>
                  <a:lnTo>
                    <a:pt x="326" y="90"/>
                  </a:lnTo>
                  <a:lnTo>
                    <a:pt x="316" y="87"/>
                  </a:lnTo>
                  <a:lnTo>
                    <a:pt x="315" y="86"/>
                  </a:lnTo>
                  <a:lnTo>
                    <a:pt x="312" y="85"/>
                  </a:lnTo>
                  <a:lnTo>
                    <a:pt x="312" y="82"/>
                  </a:lnTo>
                  <a:lnTo>
                    <a:pt x="312" y="80"/>
                  </a:lnTo>
                  <a:lnTo>
                    <a:pt x="313" y="77"/>
                  </a:lnTo>
                  <a:lnTo>
                    <a:pt x="315" y="76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0" y="76"/>
                  </a:lnTo>
                  <a:close/>
                  <a:moveTo>
                    <a:pt x="629" y="157"/>
                  </a:moveTo>
                  <a:lnTo>
                    <a:pt x="647" y="160"/>
                  </a:lnTo>
                  <a:lnTo>
                    <a:pt x="805" y="205"/>
                  </a:lnTo>
                  <a:lnTo>
                    <a:pt x="822" y="210"/>
                  </a:lnTo>
                  <a:lnTo>
                    <a:pt x="824" y="210"/>
                  </a:lnTo>
                  <a:lnTo>
                    <a:pt x="826" y="212"/>
                  </a:lnTo>
                  <a:lnTo>
                    <a:pt x="826" y="215"/>
                  </a:lnTo>
                  <a:lnTo>
                    <a:pt x="826" y="217"/>
                  </a:lnTo>
                  <a:lnTo>
                    <a:pt x="824" y="218"/>
                  </a:lnTo>
                  <a:lnTo>
                    <a:pt x="823" y="220"/>
                  </a:lnTo>
                  <a:lnTo>
                    <a:pt x="820" y="221"/>
                  </a:lnTo>
                  <a:lnTo>
                    <a:pt x="817" y="221"/>
                  </a:lnTo>
                  <a:lnTo>
                    <a:pt x="801" y="216"/>
                  </a:lnTo>
                  <a:lnTo>
                    <a:pt x="643" y="172"/>
                  </a:lnTo>
                  <a:lnTo>
                    <a:pt x="626" y="168"/>
                  </a:lnTo>
                  <a:lnTo>
                    <a:pt x="623" y="167"/>
                  </a:lnTo>
                  <a:lnTo>
                    <a:pt x="622" y="164"/>
                  </a:lnTo>
                  <a:lnTo>
                    <a:pt x="620" y="163"/>
                  </a:lnTo>
                  <a:lnTo>
                    <a:pt x="620" y="160"/>
                  </a:lnTo>
                  <a:lnTo>
                    <a:pt x="622" y="158"/>
                  </a:lnTo>
                  <a:lnTo>
                    <a:pt x="625" y="157"/>
                  </a:lnTo>
                  <a:lnTo>
                    <a:pt x="626" y="155"/>
                  </a:lnTo>
                  <a:lnTo>
                    <a:pt x="629" y="157"/>
                  </a:lnTo>
                  <a:lnTo>
                    <a:pt x="629" y="157"/>
                  </a:lnTo>
                  <a:close/>
                  <a:moveTo>
                    <a:pt x="937" y="242"/>
                  </a:moveTo>
                  <a:lnTo>
                    <a:pt x="963" y="250"/>
                  </a:lnTo>
                  <a:lnTo>
                    <a:pt x="1119" y="296"/>
                  </a:lnTo>
                  <a:lnTo>
                    <a:pt x="1129" y="299"/>
                  </a:lnTo>
                  <a:lnTo>
                    <a:pt x="1130" y="299"/>
                  </a:lnTo>
                  <a:lnTo>
                    <a:pt x="1132" y="302"/>
                  </a:lnTo>
                  <a:lnTo>
                    <a:pt x="1133" y="304"/>
                  </a:lnTo>
                  <a:lnTo>
                    <a:pt x="1133" y="307"/>
                  </a:lnTo>
                  <a:lnTo>
                    <a:pt x="1130" y="308"/>
                  </a:lnTo>
                  <a:lnTo>
                    <a:pt x="1129" y="309"/>
                  </a:lnTo>
                  <a:lnTo>
                    <a:pt x="1126" y="311"/>
                  </a:lnTo>
                  <a:lnTo>
                    <a:pt x="1123" y="311"/>
                  </a:lnTo>
                  <a:lnTo>
                    <a:pt x="1115" y="308"/>
                  </a:lnTo>
                  <a:lnTo>
                    <a:pt x="958" y="261"/>
                  </a:lnTo>
                  <a:lnTo>
                    <a:pt x="933" y="254"/>
                  </a:lnTo>
                  <a:lnTo>
                    <a:pt x="930" y="253"/>
                  </a:lnTo>
                  <a:lnTo>
                    <a:pt x="929" y="250"/>
                  </a:lnTo>
                  <a:lnTo>
                    <a:pt x="928" y="249"/>
                  </a:lnTo>
                  <a:lnTo>
                    <a:pt x="929" y="246"/>
                  </a:lnTo>
                  <a:lnTo>
                    <a:pt x="929" y="244"/>
                  </a:lnTo>
                  <a:lnTo>
                    <a:pt x="932" y="242"/>
                  </a:lnTo>
                  <a:lnTo>
                    <a:pt x="935" y="241"/>
                  </a:lnTo>
                  <a:lnTo>
                    <a:pt x="937" y="242"/>
                  </a:lnTo>
                  <a:lnTo>
                    <a:pt x="937" y="242"/>
                  </a:lnTo>
                  <a:close/>
                  <a:moveTo>
                    <a:pt x="1242" y="333"/>
                  </a:moveTo>
                  <a:lnTo>
                    <a:pt x="1275" y="345"/>
                  </a:lnTo>
                  <a:lnTo>
                    <a:pt x="1432" y="394"/>
                  </a:lnTo>
                  <a:lnTo>
                    <a:pt x="1432" y="394"/>
                  </a:lnTo>
                  <a:lnTo>
                    <a:pt x="1435" y="395"/>
                  </a:lnTo>
                  <a:lnTo>
                    <a:pt x="1436" y="397"/>
                  </a:lnTo>
                  <a:lnTo>
                    <a:pt x="1436" y="399"/>
                  </a:lnTo>
                  <a:lnTo>
                    <a:pt x="1436" y="402"/>
                  </a:lnTo>
                  <a:lnTo>
                    <a:pt x="1435" y="404"/>
                  </a:lnTo>
                  <a:lnTo>
                    <a:pt x="1433" y="405"/>
                  </a:lnTo>
                  <a:lnTo>
                    <a:pt x="1430" y="405"/>
                  </a:lnTo>
                  <a:lnTo>
                    <a:pt x="1428" y="405"/>
                  </a:lnTo>
                  <a:lnTo>
                    <a:pt x="1428" y="405"/>
                  </a:lnTo>
                  <a:lnTo>
                    <a:pt x="1271" y="356"/>
                  </a:lnTo>
                  <a:lnTo>
                    <a:pt x="1238" y="345"/>
                  </a:lnTo>
                  <a:lnTo>
                    <a:pt x="1236" y="344"/>
                  </a:lnTo>
                  <a:lnTo>
                    <a:pt x="1233" y="342"/>
                  </a:lnTo>
                  <a:lnTo>
                    <a:pt x="1233" y="340"/>
                  </a:lnTo>
                  <a:lnTo>
                    <a:pt x="1233" y="337"/>
                  </a:lnTo>
                  <a:lnTo>
                    <a:pt x="1235" y="336"/>
                  </a:lnTo>
                  <a:lnTo>
                    <a:pt x="1238" y="335"/>
                  </a:lnTo>
                  <a:lnTo>
                    <a:pt x="1239" y="333"/>
                  </a:lnTo>
                  <a:lnTo>
                    <a:pt x="1242" y="333"/>
                  </a:lnTo>
                  <a:lnTo>
                    <a:pt x="1242" y="333"/>
                  </a:lnTo>
                  <a:close/>
                  <a:moveTo>
                    <a:pt x="1546" y="431"/>
                  </a:moveTo>
                  <a:lnTo>
                    <a:pt x="1587" y="445"/>
                  </a:lnTo>
                  <a:lnTo>
                    <a:pt x="1735" y="495"/>
                  </a:lnTo>
                  <a:lnTo>
                    <a:pt x="1736" y="496"/>
                  </a:lnTo>
                  <a:lnTo>
                    <a:pt x="1738" y="498"/>
                  </a:lnTo>
                  <a:lnTo>
                    <a:pt x="1739" y="500"/>
                  </a:lnTo>
                  <a:lnTo>
                    <a:pt x="1738" y="503"/>
                  </a:lnTo>
                  <a:lnTo>
                    <a:pt x="1736" y="504"/>
                  </a:lnTo>
                  <a:lnTo>
                    <a:pt x="1735" y="505"/>
                  </a:lnTo>
                  <a:lnTo>
                    <a:pt x="1732" y="506"/>
                  </a:lnTo>
                  <a:lnTo>
                    <a:pt x="1729" y="506"/>
                  </a:lnTo>
                  <a:lnTo>
                    <a:pt x="1583" y="456"/>
                  </a:lnTo>
                  <a:lnTo>
                    <a:pt x="1541" y="442"/>
                  </a:lnTo>
                  <a:lnTo>
                    <a:pt x="1539" y="441"/>
                  </a:lnTo>
                  <a:lnTo>
                    <a:pt x="1538" y="439"/>
                  </a:lnTo>
                  <a:lnTo>
                    <a:pt x="1537" y="437"/>
                  </a:lnTo>
                  <a:lnTo>
                    <a:pt x="1537" y="434"/>
                  </a:lnTo>
                  <a:lnTo>
                    <a:pt x="1538" y="433"/>
                  </a:lnTo>
                  <a:lnTo>
                    <a:pt x="1541" y="432"/>
                  </a:lnTo>
                  <a:lnTo>
                    <a:pt x="1543" y="431"/>
                  </a:lnTo>
                  <a:lnTo>
                    <a:pt x="1546" y="431"/>
                  </a:lnTo>
                  <a:lnTo>
                    <a:pt x="1546" y="431"/>
                  </a:lnTo>
                  <a:close/>
                  <a:moveTo>
                    <a:pt x="1846" y="534"/>
                  </a:moveTo>
                  <a:lnTo>
                    <a:pt x="1895" y="551"/>
                  </a:lnTo>
                  <a:lnTo>
                    <a:pt x="2034" y="601"/>
                  </a:lnTo>
                  <a:lnTo>
                    <a:pt x="2036" y="602"/>
                  </a:lnTo>
                  <a:lnTo>
                    <a:pt x="2038" y="604"/>
                  </a:lnTo>
                  <a:lnTo>
                    <a:pt x="2038" y="606"/>
                  </a:lnTo>
                  <a:lnTo>
                    <a:pt x="2038" y="609"/>
                  </a:lnTo>
                  <a:lnTo>
                    <a:pt x="2036" y="611"/>
                  </a:lnTo>
                  <a:lnTo>
                    <a:pt x="2034" y="613"/>
                  </a:lnTo>
                  <a:lnTo>
                    <a:pt x="2031" y="613"/>
                  </a:lnTo>
                  <a:lnTo>
                    <a:pt x="2029" y="613"/>
                  </a:lnTo>
                  <a:lnTo>
                    <a:pt x="1891" y="562"/>
                  </a:lnTo>
                  <a:lnTo>
                    <a:pt x="1842" y="546"/>
                  </a:lnTo>
                  <a:lnTo>
                    <a:pt x="1840" y="544"/>
                  </a:lnTo>
                  <a:lnTo>
                    <a:pt x="1838" y="542"/>
                  </a:lnTo>
                  <a:lnTo>
                    <a:pt x="1838" y="539"/>
                  </a:lnTo>
                  <a:lnTo>
                    <a:pt x="1838" y="538"/>
                  </a:lnTo>
                  <a:lnTo>
                    <a:pt x="1840" y="535"/>
                  </a:lnTo>
                  <a:lnTo>
                    <a:pt x="1841" y="534"/>
                  </a:lnTo>
                  <a:lnTo>
                    <a:pt x="1844" y="533"/>
                  </a:lnTo>
                  <a:lnTo>
                    <a:pt x="1846" y="534"/>
                  </a:lnTo>
                  <a:lnTo>
                    <a:pt x="1846" y="534"/>
                  </a:lnTo>
                  <a:close/>
                  <a:moveTo>
                    <a:pt x="2145" y="643"/>
                  </a:moveTo>
                  <a:lnTo>
                    <a:pt x="2201" y="663"/>
                  </a:lnTo>
                  <a:lnTo>
                    <a:pt x="2331" y="712"/>
                  </a:lnTo>
                  <a:lnTo>
                    <a:pt x="2334" y="714"/>
                  </a:lnTo>
                  <a:lnTo>
                    <a:pt x="2334" y="716"/>
                  </a:lnTo>
                  <a:lnTo>
                    <a:pt x="2335" y="719"/>
                  </a:lnTo>
                  <a:lnTo>
                    <a:pt x="2335" y="721"/>
                  </a:lnTo>
                  <a:lnTo>
                    <a:pt x="2332" y="722"/>
                  </a:lnTo>
                  <a:lnTo>
                    <a:pt x="2331" y="724"/>
                  </a:lnTo>
                  <a:lnTo>
                    <a:pt x="2328" y="724"/>
                  </a:lnTo>
                  <a:lnTo>
                    <a:pt x="2325" y="724"/>
                  </a:lnTo>
                  <a:lnTo>
                    <a:pt x="2197" y="674"/>
                  </a:lnTo>
                  <a:lnTo>
                    <a:pt x="2141" y="653"/>
                  </a:lnTo>
                  <a:lnTo>
                    <a:pt x="2138" y="652"/>
                  </a:lnTo>
                  <a:lnTo>
                    <a:pt x="2137" y="650"/>
                  </a:lnTo>
                  <a:lnTo>
                    <a:pt x="2136" y="648"/>
                  </a:lnTo>
                  <a:lnTo>
                    <a:pt x="2137" y="645"/>
                  </a:lnTo>
                  <a:lnTo>
                    <a:pt x="2138" y="644"/>
                  </a:lnTo>
                  <a:lnTo>
                    <a:pt x="2140" y="643"/>
                  </a:lnTo>
                  <a:lnTo>
                    <a:pt x="2143" y="642"/>
                  </a:lnTo>
                  <a:lnTo>
                    <a:pt x="2145" y="643"/>
                  </a:lnTo>
                  <a:lnTo>
                    <a:pt x="2145" y="643"/>
                  </a:lnTo>
                  <a:close/>
                  <a:moveTo>
                    <a:pt x="2441" y="757"/>
                  </a:moveTo>
                  <a:lnTo>
                    <a:pt x="2506" y="781"/>
                  </a:lnTo>
                  <a:lnTo>
                    <a:pt x="2626" y="830"/>
                  </a:lnTo>
                  <a:lnTo>
                    <a:pt x="2627" y="831"/>
                  </a:lnTo>
                  <a:lnTo>
                    <a:pt x="2628" y="834"/>
                  </a:lnTo>
                  <a:lnTo>
                    <a:pt x="2630" y="835"/>
                  </a:lnTo>
                  <a:lnTo>
                    <a:pt x="2628" y="837"/>
                  </a:lnTo>
                  <a:lnTo>
                    <a:pt x="2627" y="840"/>
                  </a:lnTo>
                  <a:lnTo>
                    <a:pt x="2626" y="841"/>
                  </a:lnTo>
                  <a:lnTo>
                    <a:pt x="2623" y="841"/>
                  </a:lnTo>
                  <a:lnTo>
                    <a:pt x="2620" y="841"/>
                  </a:lnTo>
                  <a:lnTo>
                    <a:pt x="2500" y="792"/>
                  </a:lnTo>
                  <a:lnTo>
                    <a:pt x="2437" y="767"/>
                  </a:lnTo>
                  <a:lnTo>
                    <a:pt x="2434" y="765"/>
                  </a:lnTo>
                  <a:lnTo>
                    <a:pt x="2433" y="764"/>
                  </a:lnTo>
                  <a:lnTo>
                    <a:pt x="2433" y="762"/>
                  </a:lnTo>
                  <a:lnTo>
                    <a:pt x="2433" y="759"/>
                  </a:lnTo>
                  <a:lnTo>
                    <a:pt x="2434" y="757"/>
                  </a:lnTo>
                  <a:lnTo>
                    <a:pt x="2437" y="755"/>
                  </a:lnTo>
                  <a:lnTo>
                    <a:pt x="2439" y="755"/>
                  </a:lnTo>
                  <a:lnTo>
                    <a:pt x="2441" y="757"/>
                  </a:lnTo>
                  <a:lnTo>
                    <a:pt x="2441" y="757"/>
                  </a:lnTo>
                  <a:close/>
                  <a:moveTo>
                    <a:pt x="2736" y="875"/>
                  </a:moveTo>
                  <a:lnTo>
                    <a:pt x="2806" y="904"/>
                  </a:lnTo>
                  <a:lnTo>
                    <a:pt x="2918" y="952"/>
                  </a:lnTo>
                  <a:lnTo>
                    <a:pt x="2920" y="954"/>
                  </a:lnTo>
                  <a:lnTo>
                    <a:pt x="2922" y="956"/>
                  </a:lnTo>
                  <a:lnTo>
                    <a:pt x="2922" y="957"/>
                  </a:lnTo>
                  <a:lnTo>
                    <a:pt x="2920" y="960"/>
                  </a:lnTo>
                  <a:lnTo>
                    <a:pt x="2919" y="962"/>
                  </a:lnTo>
                  <a:lnTo>
                    <a:pt x="2918" y="964"/>
                  </a:lnTo>
                  <a:lnTo>
                    <a:pt x="2915" y="964"/>
                  </a:lnTo>
                  <a:lnTo>
                    <a:pt x="2912" y="964"/>
                  </a:lnTo>
                  <a:lnTo>
                    <a:pt x="2800" y="916"/>
                  </a:lnTo>
                  <a:lnTo>
                    <a:pt x="2730" y="887"/>
                  </a:lnTo>
                  <a:lnTo>
                    <a:pt x="2728" y="884"/>
                  </a:lnTo>
                  <a:lnTo>
                    <a:pt x="2726" y="883"/>
                  </a:lnTo>
                  <a:lnTo>
                    <a:pt x="2726" y="880"/>
                  </a:lnTo>
                  <a:lnTo>
                    <a:pt x="2726" y="878"/>
                  </a:lnTo>
                  <a:lnTo>
                    <a:pt x="2728" y="876"/>
                  </a:lnTo>
                  <a:lnTo>
                    <a:pt x="2730" y="875"/>
                  </a:lnTo>
                  <a:lnTo>
                    <a:pt x="2733" y="874"/>
                  </a:lnTo>
                  <a:lnTo>
                    <a:pt x="2736" y="875"/>
                  </a:lnTo>
                  <a:lnTo>
                    <a:pt x="2736" y="875"/>
                  </a:lnTo>
                  <a:close/>
                  <a:moveTo>
                    <a:pt x="3026" y="999"/>
                  </a:moveTo>
                  <a:lnTo>
                    <a:pt x="3103" y="1033"/>
                  </a:lnTo>
                  <a:lnTo>
                    <a:pt x="3207" y="1080"/>
                  </a:lnTo>
                  <a:lnTo>
                    <a:pt x="3209" y="1081"/>
                  </a:lnTo>
                  <a:lnTo>
                    <a:pt x="3211" y="1084"/>
                  </a:lnTo>
                  <a:lnTo>
                    <a:pt x="3211" y="1086"/>
                  </a:lnTo>
                  <a:lnTo>
                    <a:pt x="3209" y="1089"/>
                  </a:lnTo>
                  <a:lnTo>
                    <a:pt x="3208" y="1090"/>
                  </a:lnTo>
                  <a:lnTo>
                    <a:pt x="3207" y="1091"/>
                  </a:lnTo>
                  <a:lnTo>
                    <a:pt x="3204" y="1091"/>
                  </a:lnTo>
                  <a:lnTo>
                    <a:pt x="3201" y="1091"/>
                  </a:lnTo>
                  <a:lnTo>
                    <a:pt x="3098" y="1044"/>
                  </a:lnTo>
                  <a:lnTo>
                    <a:pt x="3021" y="1010"/>
                  </a:lnTo>
                  <a:lnTo>
                    <a:pt x="3018" y="1009"/>
                  </a:lnTo>
                  <a:lnTo>
                    <a:pt x="3017" y="1007"/>
                  </a:lnTo>
                  <a:lnTo>
                    <a:pt x="3017" y="1004"/>
                  </a:lnTo>
                  <a:lnTo>
                    <a:pt x="3018" y="1003"/>
                  </a:lnTo>
                  <a:lnTo>
                    <a:pt x="3019" y="1000"/>
                  </a:lnTo>
                  <a:lnTo>
                    <a:pt x="3021" y="999"/>
                  </a:lnTo>
                  <a:lnTo>
                    <a:pt x="3024" y="999"/>
                  </a:lnTo>
                  <a:lnTo>
                    <a:pt x="3026" y="999"/>
                  </a:lnTo>
                  <a:lnTo>
                    <a:pt x="3026" y="999"/>
                  </a:lnTo>
                  <a:close/>
                  <a:moveTo>
                    <a:pt x="3314" y="1129"/>
                  </a:moveTo>
                  <a:lnTo>
                    <a:pt x="3398" y="1168"/>
                  </a:lnTo>
                  <a:lnTo>
                    <a:pt x="3493" y="1212"/>
                  </a:lnTo>
                  <a:lnTo>
                    <a:pt x="3496" y="1214"/>
                  </a:lnTo>
                  <a:lnTo>
                    <a:pt x="3497" y="1216"/>
                  </a:lnTo>
                  <a:lnTo>
                    <a:pt x="3497" y="1219"/>
                  </a:lnTo>
                  <a:lnTo>
                    <a:pt x="3496" y="1221"/>
                  </a:lnTo>
                  <a:lnTo>
                    <a:pt x="3494" y="1223"/>
                  </a:lnTo>
                  <a:lnTo>
                    <a:pt x="3491" y="1224"/>
                  </a:lnTo>
                  <a:lnTo>
                    <a:pt x="3490" y="1224"/>
                  </a:lnTo>
                  <a:lnTo>
                    <a:pt x="3487" y="1224"/>
                  </a:lnTo>
                  <a:lnTo>
                    <a:pt x="3392" y="1178"/>
                  </a:lnTo>
                  <a:lnTo>
                    <a:pt x="3309" y="1140"/>
                  </a:lnTo>
                  <a:lnTo>
                    <a:pt x="3306" y="1138"/>
                  </a:lnTo>
                  <a:lnTo>
                    <a:pt x="3306" y="1137"/>
                  </a:lnTo>
                  <a:lnTo>
                    <a:pt x="3304" y="1134"/>
                  </a:lnTo>
                  <a:lnTo>
                    <a:pt x="3306" y="1132"/>
                  </a:lnTo>
                  <a:lnTo>
                    <a:pt x="3307" y="1130"/>
                  </a:lnTo>
                  <a:lnTo>
                    <a:pt x="3310" y="1129"/>
                  </a:lnTo>
                  <a:lnTo>
                    <a:pt x="3311" y="1128"/>
                  </a:lnTo>
                  <a:lnTo>
                    <a:pt x="3314" y="1129"/>
                  </a:lnTo>
                  <a:lnTo>
                    <a:pt x="3314" y="1129"/>
                  </a:lnTo>
                  <a:close/>
                  <a:moveTo>
                    <a:pt x="3600" y="1264"/>
                  </a:moveTo>
                  <a:lnTo>
                    <a:pt x="3690" y="1308"/>
                  </a:lnTo>
                  <a:lnTo>
                    <a:pt x="3776" y="1351"/>
                  </a:lnTo>
                  <a:lnTo>
                    <a:pt x="3779" y="1353"/>
                  </a:lnTo>
                  <a:lnTo>
                    <a:pt x="3779" y="1355"/>
                  </a:lnTo>
                  <a:lnTo>
                    <a:pt x="3780" y="1356"/>
                  </a:lnTo>
                  <a:lnTo>
                    <a:pt x="3779" y="1359"/>
                  </a:lnTo>
                  <a:lnTo>
                    <a:pt x="3778" y="1361"/>
                  </a:lnTo>
                  <a:lnTo>
                    <a:pt x="3775" y="1361"/>
                  </a:lnTo>
                  <a:lnTo>
                    <a:pt x="3772" y="1363"/>
                  </a:lnTo>
                  <a:lnTo>
                    <a:pt x="3771" y="1361"/>
                  </a:lnTo>
                  <a:lnTo>
                    <a:pt x="3684" y="1319"/>
                  </a:lnTo>
                  <a:lnTo>
                    <a:pt x="3593" y="1274"/>
                  </a:lnTo>
                  <a:lnTo>
                    <a:pt x="3592" y="1273"/>
                  </a:lnTo>
                  <a:lnTo>
                    <a:pt x="3591" y="1271"/>
                  </a:lnTo>
                  <a:lnTo>
                    <a:pt x="3589" y="1269"/>
                  </a:lnTo>
                  <a:lnTo>
                    <a:pt x="3591" y="1267"/>
                  </a:lnTo>
                  <a:lnTo>
                    <a:pt x="3592" y="1264"/>
                  </a:lnTo>
                  <a:lnTo>
                    <a:pt x="3595" y="1263"/>
                  </a:lnTo>
                  <a:lnTo>
                    <a:pt x="3598" y="1263"/>
                  </a:lnTo>
                  <a:lnTo>
                    <a:pt x="3600" y="1264"/>
                  </a:lnTo>
                  <a:lnTo>
                    <a:pt x="3600" y="1264"/>
                  </a:lnTo>
                  <a:close/>
                  <a:moveTo>
                    <a:pt x="3882" y="1404"/>
                  </a:moveTo>
                  <a:lnTo>
                    <a:pt x="3979" y="1454"/>
                  </a:lnTo>
                  <a:lnTo>
                    <a:pt x="4057" y="1494"/>
                  </a:lnTo>
                  <a:lnTo>
                    <a:pt x="4058" y="1495"/>
                  </a:lnTo>
                  <a:lnTo>
                    <a:pt x="4060" y="1498"/>
                  </a:lnTo>
                  <a:lnTo>
                    <a:pt x="4060" y="1500"/>
                  </a:lnTo>
                  <a:lnTo>
                    <a:pt x="4060" y="1503"/>
                  </a:lnTo>
                  <a:lnTo>
                    <a:pt x="4057" y="1504"/>
                  </a:lnTo>
                  <a:lnTo>
                    <a:pt x="4056" y="1505"/>
                  </a:lnTo>
                  <a:lnTo>
                    <a:pt x="4053" y="1505"/>
                  </a:lnTo>
                  <a:lnTo>
                    <a:pt x="4050" y="1505"/>
                  </a:lnTo>
                  <a:lnTo>
                    <a:pt x="3972" y="1464"/>
                  </a:lnTo>
                  <a:lnTo>
                    <a:pt x="3875" y="1415"/>
                  </a:lnTo>
                  <a:lnTo>
                    <a:pt x="3873" y="1413"/>
                  </a:lnTo>
                  <a:lnTo>
                    <a:pt x="3873" y="1411"/>
                  </a:lnTo>
                  <a:lnTo>
                    <a:pt x="3871" y="1408"/>
                  </a:lnTo>
                  <a:lnTo>
                    <a:pt x="3873" y="1407"/>
                  </a:lnTo>
                  <a:lnTo>
                    <a:pt x="3874" y="1404"/>
                  </a:lnTo>
                  <a:lnTo>
                    <a:pt x="3877" y="1403"/>
                  </a:lnTo>
                  <a:lnTo>
                    <a:pt x="3880" y="1403"/>
                  </a:lnTo>
                  <a:lnTo>
                    <a:pt x="3882" y="1404"/>
                  </a:lnTo>
                  <a:lnTo>
                    <a:pt x="3882" y="1404"/>
                  </a:lnTo>
                  <a:close/>
                  <a:moveTo>
                    <a:pt x="4160" y="1550"/>
                  </a:moveTo>
                  <a:lnTo>
                    <a:pt x="4264" y="1604"/>
                  </a:lnTo>
                  <a:lnTo>
                    <a:pt x="4333" y="1643"/>
                  </a:lnTo>
                  <a:lnTo>
                    <a:pt x="4335" y="1644"/>
                  </a:lnTo>
                  <a:lnTo>
                    <a:pt x="4336" y="1647"/>
                  </a:lnTo>
                  <a:lnTo>
                    <a:pt x="4336" y="1648"/>
                  </a:lnTo>
                  <a:lnTo>
                    <a:pt x="4336" y="1651"/>
                  </a:lnTo>
                  <a:lnTo>
                    <a:pt x="4333" y="1653"/>
                  </a:lnTo>
                  <a:lnTo>
                    <a:pt x="4332" y="1653"/>
                  </a:lnTo>
                  <a:lnTo>
                    <a:pt x="4329" y="1653"/>
                  </a:lnTo>
                  <a:lnTo>
                    <a:pt x="4326" y="1653"/>
                  </a:lnTo>
                  <a:lnTo>
                    <a:pt x="4257" y="1615"/>
                  </a:lnTo>
                  <a:lnTo>
                    <a:pt x="4155" y="1560"/>
                  </a:lnTo>
                  <a:lnTo>
                    <a:pt x="4152" y="1559"/>
                  </a:lnTo>
                  <a:lnTo>
                    <a:pt x="4151" y="1556"/>
                  </a:lnTo>
                  <a:lnTo>
                    <a:pt x="4151" y="1553"/>
                  </a:lnTo>
                  <a:lnTo>
                    <a:pt x="4152" y="1552"/>
                  </a:lnTo>
                  <a:lnTo>
                    <a:pt x="4153" y="1550"/>
                  </a:lnTo>
                  <a:lnTo>
                    <a:pt x="4156" y="1548"/>
                  </a:lnTo>
                  <a:lnTo>
                    <a:pt x="4159" y="1548"/>
                  </a:lnTo>
                  <a:lnTo>
                    <a:pt x="4160" y="1550"/>
                  </a:lnTo>
                  <a:lnTo>
                    <a:pt x="4160" y="1550"/>
                  </a:lnTo>
                  <a:close/>
                  <a:moveTo>
                    <a:pt x="4437" y="1700"/>
                  </a:moveTo>
                  <a:lnTo>
                    <a:pt x="4546" y="1761"/>
                  </a:lnTo>
                  <a:lnTo>
                    <a:pt x="4607" y="1796"/>
                  </a:lnTo>
                  <a:lnTo>
                    <a:pt x="4609" y="1797"/>
                  </a:lnTo>
                  <a:lnTo>
                    <a:pt x="4610" y="1800"/>
                  </a:lnTo>
                  <a:lnTo>
                    <a:pt x="4610" y="1802"/>
                  </a:lnTo>
                  <a:lnTo>
                    <a:pt x="4610" y="1805"/>
                  </a:lnTo>
                  <a:lnTo>
                    <a:pt x="4607" y="1806"/>
                  </a:lnTo>
                  <a:lnTo>
                    <a:pt x="4604" y="1807"/>
                  </a:lnTo>
                  <a:lnTo>
                    <a:pt x="4603" y="1807"/>
                  </a:lnTo>
                  <a:lnTo>
                    <a:pt x="4600" y="1806"/>
                  </a:lnTo>
                  <a:lnTo>
                    <a:pt x="4539" y="1771"/>
                  </a:lnTo>
                  <a:lnTo>
                    <a:pt x="4430" y="1710"/>
                  </a:lnTo>
                  <a:lnTo>
                    <a:pt x="4427" y="1709"/>
                  </a:lnTo>
                  <a:lnTo>
                    <a:pt x="4427" y="1706"/>
                  </a:lnTo>
                  <a:lnTo>
                    <a:pt x="4427" y="1704"/>
                  </a:lnTo>
                  <a:lnTo>
                    <a:pt x="4427" y="1701"/>
                  </a:lnTo>
                  <a:lnTo>
                    <a:pt x="4428" y="1700"/>
                  </a:lnTo>
                  <a:lnTo>
                    <a:pt x="4431" y="1699"/>
                  </a:lnTo>
                  <a:lnTo>
                    <a:pt x="4434" y="1699"/>
                  </a:lnTo>
                  <a:lnTo>
                    <a:pt x="4437" y="1700"/>
                  </a:lnTo>
                  <a:lnTo>
                    <a:pt x="4437" y="1700"/>
                  </a:lnTo>
                  <a:close/>
                  <a:moveTo>
                    <a:pt x="4709" y="1855"/>
                  </a:moveTo>
                  <a:lnTo>
                    <a:pt x="4825" y="1922"/>
                  </a:lnTo>
                  <a:lnTo>
                    <a:pt x="4826" y="1925"/>
                  </a:lnTo>
                  <a:lnTo>
                    <a:pt x="4828" y="1926"/>
                  </a:lnTo>
                  <a:lnTo>
                    <a:pt x="4828" y="1929"/>
                  </a:lnTo>
                  <a:lnTo>
                    <a:pt x="4826" y="1931"/>
                  </a:lnTo>
                  <a:lnTo>
                    <a:pt x="4825" y="1932"/>
                  </a:lnTo>
                  <a:lnTo>
                    <a:pt x="4822" y="1934"/>
                  </a:lnTo>
                  <a:lnTo>
                    <a:pt x="4819" y="1934"/>
                  </a:lnTo>
                  <a:lnTo>
                    <a:pt x="4817" y="1932"/>
                  </a:lnTo>
                  <a:lnTo>
                    <a:pt x="4702" y="1865"/>
                  </a:lnTo>
                  <a:lnTo>
                    <a:pt x="4699" y="1863"/>
                  </a:lnTo>
                  <a:lnTo>
                    <a:pt x="4698" y="1862"/>
                  </a:lnTo>
                  <a:lnTo>
                    <a:pt x="4699" y="1859"/>
                  </a:lnTo>
                  <a:lnTo>
                    <a:pt x="4699" y="1857"/>
                  </a:lnTo>
                  <a:lnTo>
                    <a:pt x="4701" y="1855"/>
                  </a:lnTo>
                  <a:lnTo>
                    <a:pt x="4703" y="1854"/>
                  </a:lnTo>
                  <a:lnTo>
                    <a:pt x="4706" y="1854"/>
                  </a:lnTo>
                  <a:lnTo>
                    <a:pt x="4709" y="1855"/>
                  </a:lnTo>
                  <a:lnTo>
                    <a:pt x="4709" y="185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240" y="4309200"/>
              <a:ext cx="111600" cy="108000"/>
            </a:xfrm>
            <a:custGeom>
              <a:avLst/>
              <a:gdLst/>
              <a:ahLst/>
              <a:rect l="l" t="t" r="r" b="b"/>
              <a:pathLst>
                <a:path w="134" h="106">
                  <a:moveTo>
                    <a:pt x="67" y="0"/>
                  </a:moveTo>
                  <a:lnTo>
                    <a:pt x="134" y="106"/>
                  </a:lnTo>
                  <a:lnTo>
                    <a:pt x="0" y="9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87240" y="2385720"/>
              <a:ext cx="1658880" cy="907560"/>
            </a:xfrm>
            <a:custGeom>
              <a:avLst/>
              <a:gdLst/>
              <a:ahLst/>
              <a:rect l="l" t="t" r="r" b="b"/>
              <a:pathLst>
                <a:path w="2001" h="886">
                  <a:moveTo>
                    <a:pt x="1" y="876"/>
                  </a:moveTo>
                  <a:lnTo>
                    <a:pt x="47" y="826"/>
                  </a:lnTo>
                  <a:lnTo>
                    <a:pt x="95" y="776"/>
                  </a:lnTo>
                  <a:lnTo>
                    <a:pt x="134" y="739"/>
                  </a:lnTo>
                  <a:lnTo>
                    <a:pt x="135" y="737"/>
                  </a:lnTo>
                  <a:lnTo>
                    <a:pt x="138" y="736"/>
                  </a:lnTo>
                  <a:lnTo>
                    <a:pt x="141" y="737"/>
                  </a:lnTo>
                  <a:lnTo>
                    <a:pt x="142" y="739"/>
                  </a:lnTo>
                  <a:lnTo>
                    <a:pt x="145" y="740"/>
                  </a:lnTo>
                  <a:lnTo>
                    <a:pt x="145" y="742"/>
                  </a:lnTo>
                  <a:lnTo>
                    <a:pt x="145" y="745"/>
                  </a:lnTo>
                  <a:lnTo>
                    <a:pt x="143" y="747"/>
                  </a:lnTo>
                  <a:lnTo>
                    <a:pt x="104" y="784"/>
                  </a:lnTo>
                  <a:lnTo>
                    <a:pt x="57" y="833"/>
                  </a:lnTo>
                  <a:lnTo>
                    <a:pt x="11" y="884"/>
                  </a:lnTo>
                  <a:lnTo>
                    <a:pt x="9" y="885"/>
                  </a:lnTo>
                  <a:lnTo>
                    <a:pt x="7" y="886"/>
                  </a:lnTo>
                  <a:lnTo>
                    <a:pt x="4" y="886"/>
                  </a:lnTo>
                  <a:lnTo>
                    <a:pt x="2" y="885"/>
                  </a:lnTo>
                  <a:lnTo>
                    <a:pt x="0" y="883"/>
                  </a:lnTo>
                  <a:lnTo>
                    <a:pt x="0" y="880"/>
                  </a:lnTo>
                  <a:lnTo>
                    <a:pt x="0" y="879"/>
                  </a:lnTo>
                  <a:lnTo>
                    <a:pt x="1" y="876"/>
                  </a:lnTo>
                  <a:lnTo>
                    <a:pt x="1" y="876"/>
                  </a:lnTo>
                  <a:close/>
                  <a:moveTo>
                    <a:pt x="219" y="660"/>
                  </a:moveTo>
                  <a:lnTo>
                    <a:pt x="245" y="636"/>
                  </a:lnTo>
                  <a:lnTo>
                    <a:pt x="298" y="592"/>
                  </a:lnTo>
                  <a:lnTo>
                    <a:pt x="353" y="550"/>
                  </a:lnTo>
                  <a:lnTo>
                    <a:pt x="368" y="539"/>
                  </a:lnTo>
                  <a:lnTo>
                    <a:pt x="371" y="538"/>
                  </a:lnTo>
                  <a:lnTo>
                    <a:pt x="372" y="538"/>
                  </a:lnTo>
                  <a:lnTo>
                    <a:pt x="375" y="538"/>
                  </a:lnTo>
                  <a:lnTo>
                    <a:pt x="378" y="540"/>
                  </a:lnTo>
                  <a:lnTo>
                    <a:pt x="379" y="542"/>
                  </a:lnTo>
                  <a:lnTo>
                    <a:pt x="379" y="544"/>
                  </a:lnTo>
                  <a:lnTo>
                    <a:pt x="378" y="547"/>
                  </a:lnTo>
                  <a:lnTo>
                    <a:pt x="377" y="548"/>
                  </a:lnTo>
                  <a:lnTo>
                    <a:pt x="361" y="559"/>
                  </a:lnTo>
                  <a:lnTo>
                    <a:pt x="308" y="602"/>
                  </a:lnTo>
                  <a:lnTo>
                    <a:pt x="255" y="645"/>
                  </a:lnTo>
                  <a:lnTo>
                    <a:pt x="227" y="669"/>
                  </a:lnTo>
                  <a:lnTo>
                    <a:pt x="226" y="670"/>
                  </a:lnTo>
                  <a:lnTo>
                    <a:pt x="223" y="672"/>
                  </a:lnTo>
                  <a:lnTo>
                    <a:pt x="220" y="670"/>
                  </a:lnTo>
                  <a:lnTo>
                    <a:pt x="218" y="669"/>
                  </a:lnTo>
                  <a:lnTo>
                    <a:pt x="216" y="667"/>
                  </a:lnTo>
                  <a:lnTo>
                    <a:pt x="216" y="665"/>
                  </a:lnTo>
                  <a:lnTo>
                    <a:pt x="216" y="663"/>
                  </a:lnTo>
                  <a:lnTo>
                    <a:pt x="219" y="660"/>
                  </a:lnTo>
                  <a:lnTo>
                    <a:pt x="219" y="660"/>
                  </a:lnTo>
                  <a:close/>
                  <a:moveTo>
                    <a:pt x="463" y="471"/>
                  </a:moveTo>
                  <a:lnTo>
                    <a:pt x="465" y="470"/>
                  </a:lnTo>
                  <a:lnTo>
                    <a:pt x="522" y="432"/>
                  </a:lnTo>
                  <a:lnTo>
                    <a:pt x="581" y="395"/>
                  </a:lnTo>
                  <a:lnTo>
                    <a:pt x="628" y="367"/>
                  </a:lnTo>
                  <a:lnTo>
                    <a:pt x="631" y="366"/>
                  </a:lnTo>
                  <a:lnTo>
                    <a:pt x="634" y="366"/>
                  </a:lnTo>
                  <a:lnTo>
                    <a:pt x="636" y="367"/>
                  </a:lnTo>
                  <a:lnTo>
                    <a:pt x="638" y="369"/>
                  </a:lnTo>
                  <a:lnTo>
                    <a:pt x="639" y="371"/>
                  </a:lnTo>
                  <a:lnTo>
                    <a:pt x="639" y="374"/>
                  </a:lnTo>
                  <a:lnTo>
                    <a:pt x="638" y="376"/>
                  </a:lnTo>
                  <a:lnTo>
                    <a:pt x="636" y="377"/>
                  </a:lnTo>
                  <a:lnTo>
                    <a:pt x="589" y="405"/>
                  </a:lnTo>
                  <a:lnTo>
                    <a:pt x="530" y="442"/>
                  </a:lnTo>
                  <a:lnTo>
                    <a:pt x="473" y="480"/>
                  </a:lnTo>
                  <a:lnTo>
                    <a:pt x="472" y="481"/>
                  </a:lnTo>
                  <a:lnTo>
                    <a:pt x="469" y="481"/>
                  </a:lnTo>
                  <a:lnTo>
                    <a:pt x="466" y="482"/>
                  </a:lnTo>
                  <a:lnTo>
                    <a:pt x="463" y="481"/>
                  </a:lnTo>
                  <a:lnTo>
                    <a:pt x="462" y="480"/>
                  </a:lnTo>
                  <a:lnTo>
                    <a:pt x="460" y="477"/>
                  </a:lnTo>
                  <a:lnTo>
                    <a:pt x="460" y="475"/>
                  </a:lnTo>
                  <a:lnTo>
                    <a:pt x="460" y="473"/>
                  </a:lnTo>
                  <a:lnTo>
                    <a:pt x="463" y="471"/>
                  </a:lnTo>
                  <a:lnTo>
                    <a:pt x="463" y="471"/>
                  </a:lnTo>
                  <a:close/>
                  <a:moveTo>
                    <a:pt x="733" y="310"/>
                  </a:moveTo>
                  <a:lnTo>
                    <a:pt x="762" y="295"/>
                  </a:lnTo>
                  <a:lnTo>
                    <a:pt x="825" y="265"/>
                  </a:lnTo>
                  <a:lnTo>
                    <a:pt x="889" y="236"/>
                  </a:lnTo>
                  <a:lnTo>
                    <a:pt x="910" y="226"/>
                  </a:lnTo>
                  <a:lnTo>
                    <a:pt x="913" y="226"/>
                  </a:lnTo>
                  <a:lnTo>
                    <a:pt x="916" y="226"/>
                  </a:lnTo>
                  <a:lnTo>
                    <a:pt x="918" y="227"/>
                  </a:lnTo>
                  <a:lnTo>
                    <a:pt x="920" y="230"/>
                  </a:lnTo>
                  <a:lnTo>
                    <a:pt x="920" y="231"/>
                  </a:lnTo>
                  <a:lnTo>
                    <a:pt x="920" y="233"/>
                  </a:lnTo>
                  <a:lnTo>
                    <a:pt x="918" y="236"/>
                  </a:lnTo>
                  <a:lnTo>
                    <a:pt x="917" y="237"/>
                  </a:lnTo>
                  <a:lnTo>
                    <a:pt x="895" y="246"/>
                  </a:lnTo>
                  <a:lnTo>
                    <a:pt x="832" y="275"/>
                  </a:lnTo>
                  <a:lnTo>
                    <a:pt x="769" y="305"/>
                  </a:lnTo>
                  <a:lnTo>
                    <a:pt x="738" y="321"/>
                  </a:lnTo>
                  <a:lnTo>
                    <a:pt x="736" y="322"/>
                  </a:lnTo>
                  <a:lnTo>
                    <a:pt x="734" y="322"/>
                  </a:lnTo>
                  <a:lnTo>
                    <a:pt x="731" y="321"/>
                  </a:lnTo>
                  <a:lnTo>
                    <a:pt x="730" y="319"/>
                  </a:lnTo>
                  <a:lnTo>
                    <a:pt x="729" y="317"/>
                  </a:lnTo>
                  <a:lnTo>
                    <a:pt x="729" y="314"/>
                  </a:lnTo>
                  <a:lnTo>
                    <a:pt x="730" y="312"/>
                  </a:lnTo>
                  <a:lnTo>
                    <a:pt x="733" y="310"/>
                  </a:lnTo>
                  <a:lnTo>
                    <a:pt x="733" y="310"/>
                  </a:lnTo>
                  <a:close/>
                  <a:moveTo>
                    <a:pt x="1022" y="182"/>
                  </a:moveTo>
                  <a:lnTo>
                    <a:pt x="1083" y="159"/>
                  </a:lnTo>
                  <a:lnTo>
                    <a:pt x="1150" y="136"/>
                  </a:lnTo>
                  <a:lnTo>
                    <a:pt x="1210" y="117"/>
                  </a:lnTo>
                  <a:lnTo>
                    <a:pt x="1213" y="117"/>
                  </a:lnTo>
                  <a:lnTo>
                    <a:pt x="1215" y="118"/>
                  </a:lnTo>
                  <a:lnTo>
                    <a:pt x="1217" y="120"/>
                  </a:lnTo>
                  <a:lnTo>
                    <a:pt x="1219" y="121"/>
                  </a:lnTo>
                  <a:lnTo>
                    <a:pt x="1219" y="123"/>
                  </a:lnTo>
                  <a:lnTo>
                    <a:pt x="1219" y="126"/>
                  </a:lnTo>
                  <a:lnTo>
                    <a:pt x="1216" y="129"/>
                  </a:lnTo>
                  <a:lnTo>
                    <a:pt x="1215" y="130"/>
                  </a:lnTo>
                  <a:lnTo>
                    <a:pt x="1154" y="147"/>
                  </a:lnTo>
                  <a:lnTo>
                    <a:pt x="1089" y="170"/>
                  </a:lnTo>
                  <a:lnTo>
                    <a:pt x="1026" y="193"/>
                  </a:lnTo>
                  <a:lnTo>
                    <a:pt x="1023" y="193"/>
                  </a:lnTo>
                  <a:lnTo>
                    <a:pt x="1020" y="193"/>
                  </a:lnTo>
                  <a:lnTo>
                    <a:pt x="1019" y="192"/>
                  </a:lnTo>
                  <a:lnTo>
                    <a:pt x="1018" y="189"/>
                  </a:lnTo>
                  <a:lnTo>
                    <a:pt x="1018" y="187"/>
                  </a:lnTo>
                  <a:lnTo>
                    <a:pt x="1018" y="184"/>
                  </a:lnTo>
                  <a:lnTo>
                    <a:pt x="1019" y="183"/>
                  </a:lnTo>
                  <a:lnTo>
                    <a:pt x="1022" y="182"/>
                  </a:lnTo>
                  <a:lnTo>
                    <a:pt x="1022" y="182"/>
                  </a:lnTo>
                  <a:close/>
                  <a:moveTo>
                    <a:pt x="1326" y="86"/>
                  </a:moveTo>
                  <a:lnTo>
                    <a:pt x="1354" y="79"/>
                  </a:lnTo>
                  <a:lnTo>
                    <a:pt x="1424" y="63"/>
                  </a:lnTo>
                  <a:lnTo>
                    <a:pt x="1494" y="49"/>
                  </a:lnTo>
                  <a:lnTo>
                    <a:pt x="1522" y="44"/>
                  </a:lnTo>
                  <a:lnTo>
                    <a:pt x="1525" y="44"/>
                  </a:lnTo>
                  <a:lnTo>
                    <a:pt x="1527" y="45"/>
                  </a:lnTo>
                  <a:lnTo>
                    <a:pt x="1529" y="46"/>
                  </a:lnTo>
                  <a:lnTo>
                    <a:pt x="1530" y="49"/>
                  </a:lnTo>
                  <a:lnTo>
                    <a:pt x="1530" y="51"/>
                  </a:lnTo>
                  <a:lnTo>
                    <a:pt x="1529" y="53"/>
                  </a:lnTo>
                  <a:lnTo>
                    <a:pt x="1527" y="55"/>
                  </a:lnTo>
                  <a:lnTo>
                    <a:pt x="1525" y="55"/>
                  </a:lnTo>
                  <a:lnTo>
                    <a:pt x="1497" y="60"/>
                  </a:lnTo>
                  <a:lnTo>
                    <a:pt x="1427" y="74"/>
                  </a:lnTo>
                  <a:lnTo>
                    <a:pt x="1358" y="91"/>
                  </a:lnTo>
                  <a:lnTo>
                    <a:pt x="1329" y="98"/>
                  </a:lnTo>
                  <a:lnTo>
                    <a:pt x="1326" y="98"/>
                  </a:lnTo>
                  <a:lnTo>
                    <a:pt x="1325" y="97"/>
                  </a:lnTo>
                  <a:lnTo>
                    <a:pt x="1322" y="96"/>
                  </a:lnTo>
                  <a:lnTo>
                    <a:pt x="1321" y="93"/>
                  </a:lnTo>
                  <a:lnTo>
                    <a:pt x="1321" y="91"/>
                  </a:lnTo>
                  <a:lnTo>
                    <a:pt x="1322" y="89"/>
                  </a:lnTo>
                  <a:lnTo>
                    <a:pt x="1323" y="87"/>
                  </a:lnTo>
                  <a:lnTo>
                    <a:pt x="1326" y="86"/>
                  </a:lnTo>
                  <a:lnTo>
                    <a:pt x="1326" y="86"/>
                  </a:lnTo>
                  <a:close/>
                  <a:moveTo>
                    <a:pt x="1642" y="25"/>
                  </a:moveTo>
                  <a:lnTo>
                    <a:pt x="1706" y="17"/>
                  </a:lnTo>
                  <a:lnTo>
                    <a:pt x="1777" y="10"/>
                  </a:lnTo>
                  <a:lnTo>
                    <a:pt x="1841" y="6"/>
                  </a:lnTo>
                  <a:lnTo>
                    <a:pt x="1844" y="6"/>
                  </a:lnTo>
                  <a:lnTo>
                    <a:pt x="1846" y="7"/>
                  </a:lnTo>
                  <a:lnTo>
                    <a:pt x="1847" y="9"/>
                  </a:lnTo>
                  <a:lnTo>
                    <a:pt x="1848" y="11"/>
                  </a:lnTo>
                  <a:lnTo>
                    <a:pt x="1848" y="14"/>
                  </a:lnTo>
                  <a:lnTo>
                    <a:pt x="1847" y="16"/>
                  </a:lnTo>
                  <a:lnTo>
                    <a:pt x="1844" y="17"/>
                  </a:lnTo>
                  <a:lnTo>
                    <a:pt x="1843" y="17"/>
                  </a:lnTo>
                  <a:lnTo>
                    <a:pt x="1779" y="22"/>
                  </a:lnTo>
                  <a:lnTo>
                    <a:pt x="1707" y="30"/>
                  </a:lnTo>
                  <a:lnTo>
                    <a:pt x="1643" y="38"/>
                  </a:lnTo>
                  <a:lnTo>
                    <a:pt x="1640" y="38"/>
                  </a:lnTo>
                  <a:lnTo>
                    <a:pt x="1638" y="36"/>
                  </a:lnTo>
                  <a:lnTo>
                    <a:pt x="1636" y="34"/>
                  </a:lnTo>
                  <a:lnTo>
                    <a:pt x="1635" y="33"/>
                  </a:lnTo>
                  <a:lnTo>
                    <a:pt x="1635" y="30"/>
                  </a:lnTo>
                  <a:lnTo>
                    <a:pt x="1636" y="27"/>
                  </a:lnTo>
                  <a:lnTo>
                    <a:pt x="1639" y="26"/>
                  </a:lnTo>
                  <a:lnTo>
                    <a:pt x="1642" y="25"/>
                  </a:lnTo>
                  <a:lnTo>
                    <a:pt x="1642" y="25"/>
                  </a:lnTo>
                  <a:close/>
                  <a:moveTo>
                    <a:pt x="1962" y="1"/>
                  </a:moveTo>
                  <a:lnTo>
                    <a:pt x="1994" y="0"/>
                  </a:lnTo>
                  <a:lnTo>
                    <a:pt x="1996" y="1"/>
                  </a:lnTo>
                  <a:lnTo>
                    <a:pt x="1999" y="2"/>
                  </a:lnTo>
                  <a:lnTo>
                    <a:pt x="2001" y="3"/>
                  </a:lnTo>
                  <a:lnTo>
                    <a:pt x="2001" y="6"/>
                  </a:lnTo>
                  <a:lnTo>
                    <a:pt x="2001" y="9"/>
                  </a:lnTo>
                  <a:lnTo>
                    <a:pt x="1999" y="10"/>
                  </a:lnTo>
                  <a:lnTo>
                    <a:pt x="1996" y="12"/>
                  </a:lnTo>
                  <a:lnTo>
                    <a:pt x="1995" y="12"/>
                  </a:lnTo>
                  <a:lnTo>
                    <a:pt x="1963" y="14"/>
                  </a:lnTo>
                  <a:lnTo>
                    <a:pt x="1960" y="12"/>
                  </a:lnTo>
                  <a:lnTo>
                    <a:pt x="1957" y="11"/>
                  </a:lnTo>
                  <a:lnTo>
                    <a:pt x="1956" y="10"/>
                  </a:lnTo>
                  <a:lnTo>
                    <a:pt x="1956" y="7"/>
                  </a:lnTo>
                  <a:lnTo>
                    <a:pt x="1956" y="5"/>
                  </a:lnTo>
                  <a:lnTo>
                    <a:pt x="1957" y="2"/>
                  </a:lnTo>
                  <a:lnTo>
                    <a:pt x="1960" y="1"/>
                  </a:lnTo>
                  <a:lnTo>
                    <a:pt x="1962" y="1"/>
                  </a:lnTo>
                  <a:lnTo>
                    <a:pt x="1962" y="1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27760" y="2335680"/>
              <a:ext cx="100800" cy="1116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2" y="0"/>
                  </a:moveTo>
                  <a:lnTo>
                    <a:pt x="122" y="55"/>
                  </a:lnTo>
                  <a:lnTo>
                    <a:pt x="0" y="10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67040" y="2421000"/>
              <a:ext cx="531000" cy="889920"/>
            </a:xfrm>
            <a:custGeom>
              <a:avLst/>
              <a:gdLst/>
              <a:ahLst/>
              <a:rect l="l" t="t" r="r" b="b"/>
              <a:pathLst>
                <a:path w="639" h="867">
                  <a:moveTo>
                    <a:pt x="635" y="852"/>
                  </a:moveTo>
                  <a:lnTo>
                    <a:pt x="610" y="857"/>
                  </a:lnTo>
                  <a:lnTo>
                    <a:pt x="585" y="861"/>
                  </a:lnTo>
                  <a:lnTo>
                    <a:pt x="560" y="865"/>
                  </a:lnTo>
                  <a:lnTo>
                    <a:pt x="535" y="866"/>
                  </a:lnTo>
                  <a:lnTo>
                    <a:pt x="509" y="867"/>
                  </a:lnTo>
                  <a:lnTo>
                    <a:pt x="484" y="867"/>
                  </a:lnTo>
                  <a:lnTo>
                    <a:pt x="459" y="866"/>
                  </a:lnTo>
                  <a:lnTo>
                    <a:pt x="435" y="864"/>
                  </a:lnTo>
                  <a:lnTo>
                    <a:pt x="433" y="864"/>
                  </a:lnTo>
                  <a:lnTo>
                    <a:pt x="430" y="862"/>
                  </a:lnTo>
                  <a:lnTo>
                    <a:pt x="428" y="861"/>
                  </a:lnTo>
                  <a:lnTo>
                    <a:pt x="427" y="859"/>
                  </a:lnTo>
                  <a:lnTo>
                    <a:pt x="427" y="856"/>
                  </a:lnTo>
                  <a:lnTo>
                    <a:pt x="428" y="854"/>
                  </a:lnTo>
                  <a:lnTo>
                    <a:pt x="430" y="852"/>
                  </a:lnTo>
                  <a:lnTo>
                    <a:pt x="433" y="851"/>
                  </a:lnTo>
                  <a:lnTo>
                    <a:pt x="435" y="851"/>
                  </a:lnTo>
                  <a:lnTo>
                    <a:pt x="437" y="851"/>
                  </a:lnTo>
                  <a:lnTo>
                    <a:pt x="460" y="854"/>
                  </a:lnTo>
                  <a:lnTo>
                    <a:pt x="484" y="855"/>
                  </a:lnTo>
                  <a:lnTo>
                    <a:pt x="508" y="856"/>
                  </a:lnTo>
                  <a:lnTo>
                    <a:pt x="533" y="855"/>
                  </a:lnTo>
                  <a:lnTo>
                    <a:pt x="557" y="852"/>
                  </a:lnTo>
                  <a:lnTo>
                    <a:pt x="582" y="850"/>
                  </a:lnTo>
                  <a:lnTo>
                    <a:pt x="607" y="846"/>
                  </a:lnTo>
                  <a:lnTo>
                    <a:pt x="632" y="840"/>
                  </a:lnTo>
                  <a:lnTo>
                    <a:pt x="634" y="840"/>
                  </a:lnTo>
                  <a:lnTo>
                    <a:pt x="636" y="841"/>
                  </a:lnTo>
                  <a:lnTo>
                    <a:pt x="639" y="842"/>
                  </a:lnTo>
                  <a:lnTo>
                    <a:pt x="639" y="845"/>
                  </a:lnTo>
                  <a:lnTo>
                    <a:pt x="639" y="847"/>
                  </a:lnTo>
                  <a:lnTo>
                    <a:pt x="639" y="849"/>
                  </a:lnTo>
                  <a:lnTo>
                    <a:pt x="638" y="851"/>
                  </a:lnTo>
                  <a:lnTo>
                    <a:pt x="635" y="852"/>
                  </a:lnTo>
                  <a:lnTo>
                    <a:pt x="635" y="852"/>
                  </a:lnTo>
                  <a:close/>
                  <a:moveTo>
                    <a:pt x="315" y="835"/>
                  </a:moveTo>
                  <a:lnTo>
                    <a:pt x="294" y="827"/>
                  </a:lnTo>
                  <a:lnTo>
                    <a:pt x="273" y="817"/>
                  </a:lnTo>
                  <a:lnTo>
                    <a:pt x="251" y="807"/>
                  </a:lnTo>
                  <a:lnTo>
                    <a:pt x="230" y="795"/>
                  </a:lnTo>
                  <a:lnTo>
                    <a:pt x="211" y="783"/>
                  </a:lnTo>
                  <a:lnTo>
                    <a:pt x="191" y="770"/>
                  </a:lnTo>
                  <a:lnTo>
                    <a:pt x="173" y="756"/>
                  </a:lnTo>
                  <a:lnTo>
                    <a:pt x="155" y="741"/>
                  </a:lnTo>
                  <a:lnTo>
                    <a:pt x="146" y="735"/>
                  </a:lnTo>
                  <a:lnTo>
                    <a:pt x="145" y="732"/>
                  </a:lnTo>
                  <a:lnTo>
                    <a:pt x="144" y="730"/>
                  </a:lnTo>
                  <a:lnTo>
                    <a:pt x="145" y="727"/>
                  </a:lnTo>
                  <a:lnTo>
                    <a:pt x="146" y="726"/>
                  </a:lnTo>
                  <a:lnTo>
                    <a:pt x="148" y="725"/>
                  </a:lnTo>
                  <a:lnTo>
                    <a:pt x="151" y="724"/>
                  </a:lnTo>
                  <a:lnTo>
                    <a:pt x="153" y="725"/>
                  </a:lnTo>
                  <a:lnTo>
                    <a:pt x="156" y="726"/>
                  </a:lnTo>
                  <a:lnTo>
                    <a:pt x="163" y="732"/>
                  </a:lnTo>
                  <a:lnTo>
                    <a:pt x="181" y="748"/>
                  </a:lnTo>
                  <a:lnTo>
                    <a:pt x="199" y="760"/>
                  </a:lnTo>
                  <a:lnTo>
                    <a:pt x="218" y="774"/>
                  </a:lnTo>
                  <a:lnTo>
                    <a:pt x="237" y="785"/>
                  </a:lnTo>
                  <a:lnTo>
                    <a:pt x="258" y="797"/>
                  </a:lnTo>
                  <a:lnTo>
                    <a:pt x="279" y="807"/>
                  </a:lnTo>
                  <a:lnTo>
                    <a:pt x="300" y="816"/>
                  </a:lnTo>
                  <a:lnTo>
                    <a:pt x="321" y="823"/>
                  </a:lnTo>
                  <a:lnTo>
                    <a:pt x="322" y="825"/>
                  </a:lnTo>
                  <a:lnTo>
                    <a:pt x="324" y="827"/>
                  </a:lnTo>
                  <a:lnTo>
                    <a:pt x="324" y="830"/>
                  </a:lnTo>
                  <a:lnTo>
                    <a:pt x="324" y="832"/>
                  </a:lnTo>
                  <a:lnTo>
                    <a:pt x="322" y="833"/>
                  </a:lnTo>
                  <a:lnTo>
                    <a:pt x="319" y="835"/>
                  </a:lnTo>
                  <a:lnTo>
                    <a:pt x="318" y="836"/>
                  </a:lnTo>
                  <a:lnTo>
                    <a:pt x="315" y="835"/>
                  </a:lnTo>
                  <a:lnTo>
                    <a:pt x="315" y="835"/>
                  </a:lnTo>
                  <a:close/>
                  <a:moveTo>
                    <a:pt x="71" y="648"/>
                  </a:moveTo>
                  <a:lnTo>
                    <a:pt x="64" y="636"/>
                  </a:lnTo>
                  <a:lnTo>
                    <a:pt x="51" y="616"/>
                  </a:lnTo>
                  <a:lnTo>
                    <a:pt x="40" y="596"/>
                  </a:lnTo>
                  <a:lnTo>
                    <a:pt x="30" y="574"/>
                  </a:lnTo>
                  <a:lnTo>
                    <a:pt x="22" y="553"/>
                  </a:lnTo>
                  <a:lnTo>
                    <a:pt x="15" y="530"/>
                  </a:lnTo>
                  <a:lnTo>
                    <a:pt x="9" y="510"/>
                  </a:lnTo>
                  <a:lnTo>
                    <a:pt x="5" y="491"/>
                  </a:lnTo>
                  <a:lnTo>
                    <a:pt x="2" y="475"/>
                  </a:lnTo>
                  <a:lnTo>
                    <a:pt x="2" y="473"/>
                  </a:lnTo>
                  <a:lnTo>
                    <a:pt x="4" y="471"/>
                  </a:lnTo>
                  <a:lnTo>
                    <a:pt x="5" y="470"/>
                  </a:lnTo>
                  <a:lnTo>
                    <a:pt x="8" y="468"/>
                  </a:lnTo>
                  <a:lnTo>
                    <a:pt x="11" y="468"/>
                  </a:lnTo>
                  <a:lnTo>
                    <a:pt x="14" y="470"/>
                  </a:lnTo>
                  <a:lnTo>
                    <a:pt x="15" y="471"/>
                  </a:lnTo>
                  <a:lnTo>
                    <a:pt x="15" y="473"/>
                  </a:lnTo>
                  <a:lnTo>
                    <a:pt x="18" y="489"/>
                  </a:lnTo>
                  <a:lnTo>
                    <a:pt x="22" y="508"/>
                  </a:lnTo>
                  <a:lnTo>
                    <a:pt x="28" y="526"/>
                  </a:lnTo>
                  <a:lnTo>
                    <a:pt x="35" y="549"/>
                  </a:lnTo>
                  <a:lnTo>
                    <a:pt x="43" y="569"/>
                  </a:lnTo>
                  <a:lnTo>
                    <a:pt x="53" y="591"/>
                  </a:lnTo>
                  <a:lnTo>
                    <a:pt x="64" y="611"/>
                  </a:lnTo>
                  <a:lnTo>
                    <a:pt x="75" y="630"/>
                  </a:lnTo>
                  <a:lnTo>
                    <a:pt x="82" y="641"/>
                  </a:lnTo>
                  <a:lnTo>
                    <a:pt x="83" y="644"/>
                  </a:lnTo>
                  <a:lnTo>
                    <a:pt x="83" y="646"/>
                  </a:lnTo>
                  <a:lnTo>
                    <a:pt x="82" y="648"/>
                  </a:lnTo>
                  <a:lnTo>
                    <a:pt x="79" y="650"/>
                  </a:lnTo>
                  <a:lnTo>
                    <a:pt x="78" y="650"/>
                  </a:lnTo>
                  <a:lnTo>
                    <a:pt x="75" y="650"/>
                  </a:lnTo>
                  <a:lnTo>
                    <a:pt x="72" y="649"/>
                  </a:lnTo>
                  <a:lnTo>
                    <a:pt x="71" y="648"/>
                  </a:lnTo>
                  <a:lnTo>
                    <a:pt x="71" y="648"/>
                  </a:lnTo>
                  <a:close/>
                  <a:moveTo>
                    <a:pt x="0" y="365"/>
                  </a:moveTo>
                  <a:lnTo>
                    <a:pt x="1" y="352"/>
                  </a:lnTo>
                  <a:lnTo>
                    <a:pt x="5" y="333"/>
                  </a:lnTo>
                  <a:lnTo>
                    <a:pt x="8" y="314"/>
                  </a:lnTo>
                  <a:lnTo>
                    <a:pt x="14" y="295"/>
                  </a:lnTo>
                  <a:lnTo>
                    <a:pt x="19" y="276"/>
                  </a:lnTo>
                  <a:lnTo>
                    <a:pt x="26" y="259"/>
                  </a:lnTo>
                  <a:lnTo>
                    <a:pt x="33" y="241"/>
                  </a:lnTo>
                  <a:lnTo>
                    <a:pt x="42" y="223"/>
                  </a:lnTo>
                  <a:lnTo>
                    <a:pt x="51" y="206"/>
                  </a:lnTo>
                  <a:lnTo>
                    <a:pt x="60" y="191"/>
                  </a:lnTo>
                  <a:lnTo>
                    <a:pt x="61" y="188"/>
                  </a:lnTo>
                  <a:lnTo>
                    <a:pt x="64" y="187"/>
                  </a:lnTo>
                  <a:lnTo>
                    <a:pt x="67" y="187"/>
                  </a:lnTo>
                  <a:lnTo>
                    <a:pt x="70" y="188"/>
                  </a:lnTo>
                  <a:lnTo>
                    <a:pt x="71" y="189"/>
                  </a:lnTo>
                  <a:lnTo>
                    <a:pt x="72" y="192"/>
                  </a:lnTo>
                  <a:lnTo>
                    <a:pt x="72" y="193"/>
                  </a:lnTo>
                  <a:lnTo>
                    <a:pt x="72" y="196"/>
                  </a:lnTo>
                  <a:lnTo>
                    <a:pt x="64" y="211"/>
                  </a:lnTo>
                  <a:lnTo>
                    <a:pt x="54" y="227"/>
                  </a:lnTo>
                  <a:lnTo>
                    <a:pt x="46" y="245"/>
                  </a:lnTo>
                  <a:lnTo>
                    <a:pt x="39" y="263"/>
                  </a:lnTo>
                  <a:lnTo>
                    <a:pt x="32" y="280"/>
                  </a:lnTo>
                  <a:lnTo>
                    <a:pt x="26" y="298"/>
                  </a:lnTo>
                  <a:lnTo>
                    <a:pt x="22" y="317"/>
                  </a:lnTo>
                  <a:lnTo>
                    <a:pt x="18" y="336"/>
                  </a:lnTo>
                  <a:lnTo>
                    <a:pt x="15" y="353"/>
                  </a:lnTo>
                  <a:lnTo>
                    <a:pt x="14" y="366"/>
                  </a:lnTo>
                  <a:lnTo>
                    <a:pt x="12" y="369"/>
                  </a:lnTo>
                  <a:lnTo>
                    <a:pt x="11" y="370"/>
                  </a:lnTo>
                  <a:lnTo>
                    <a:pt x="8" y="371"/>
                  </a:lnTo>
                  <a:lnTo>
                    <a:pt x="5" y="371"/>
                  </a:lnTo>
                  <a:lnTo>
                    <a:pt x="4" y="371"/>
                  </a:lnTo>
                  <a:lnTo>
                    <a:pt x="1" y="370"/>
                  </a:lnTo>
                  <a:lnTo>
                    <a:pt x="0" y="367"/>
                  </a:lnTo>
                  <a:lnTo>
                    <a:pt x="0" y="365"/>
                  </a:lnTo>
                  <a:lnTo>
                    <a:pt x="0" y="365"/>
                  </a:lnTo>
                  <a:close/>
                  <a:moveTo>
                    <a:pt x="131" y="101"/>
                  </a:moveTo>
                  <a:lnTo>
                    <a:pt x="138" y="95"/>
                  </a:lnTo>
                  <a:lnTo>
                    <a:pt x="152" y="81"/>
                  </a:lnTo>
                  <a:lnTo>
                    <a:pt x="169" y="68"/>
                  </a:lnTo>
                  <a:lnTo>
                    <a:pt x="185" y="55"/>
                  </a:lnTo>
                  <a:lnTo>
                    <a:pt x="202" y="43"/>
                  </a:lnTo>
                  <a:lnTo>
                    <a:pt x="220" y="31"/>
                  </a:lnTo>
                  <a:lnTo>
                    <a:pt x="240" y="20"/>
                  </a:lnTo>
                  <a:lnTo>
                    <a:pt x="258" y="10"/>
                  </a:lnTo>
                  <a:lnTo>
                    <a:pt x="279" y="1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87" y="4"/>
                  </a:lnTo>
                  <a:lnTo>
                    <a:pt x="289" y="6"/>
                  </a:lnTo>
                  <a:lnTo>
                    <a:pt x="289" y="9"/>
                  </a:lnTo>
                  <a:lnTo>
                    <a:pt x="287" y="10"/>
                  </a:lnTo>
                  <a:lnTo>
                    <a:pt x="285" y="11"/>
                  </a:lnTo>
                  <a:lnTo>
                    <a:pt x="265" y="21"/>
                  </a:lnTo>
                  <a:lnTo>
                    <a:pt x="247" y="30"/>
                  </a:lnTo>
                  <a:lnTo>
                    <a:pt x="229" y="41"/>
                  </a:lnTo>
                  <a:lnTo>
                    <a:pt x="211" y="53"/>
                  </a:lnTo>
                  <a:lnTo>
                    <a:pt x="194" y="64"/>
                  </a:lnTo>
                  <a:lnTo>
                    <a:pt x="177" y="77"/>
                  </a:lnTo>
                  <a:lnTo>
                    <a:pt x="162" y="89"/>
                  </a:lnTo>
                  <a:lnTo>
                    <a:pt x="148" y="103"/>
                  </a:lnTo>
                  <a:lnTo>
                    <a:pt x="141" y="108"/>
                  </a:lnTo>
                  <a:lnTo>
                    <a:pt x="139" y="110"/>
                  </a:lnTo>
                  <a:lnTo>
                    <a:pt x="137" y="111"/>
                  </a:lnTo>
                  <a:lnTo>
                    <a:pt x="134" y="111"/>
                  </a:lnTo>
                  <a:lnTo>
                    <a:pt x="132" y="110"/>
                  </a:lnTo>
                  <a:lnTo>
                    <a:pt x="130" y="107"/>
                  </a:lnTo>
                  <a:lnTo>
                    <a:pt x="130" y="105"/>
                  </a:lnTo>
                  <a:lnTo>
                    <a:pt x="130" y="102"/>
                  </a:lnTo>
                  <a:lnTo>
                    <a:pt x="131" y="101"/>
                  </a:lnTo>
                  <a:lnTo>
                    <a:pt x="131" y="1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73320" y="2378520"/>
              <a:ext cx="109800" cy="10440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0" y="0"/>
                  </a:moveTo>
                  <a:lnTo>
                    <a:pt x="134" y="14"/>
                  </a:lnTo>
                  <a:lnTo>
                    <a:pt x="42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2160" y="3655080"/>
              <a:ext cx="1115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37360" y="3600000"/>
              <a:ext cx="99360" cy="111600"/>
            </a:xfrm>
            <a:custGeom>
              <a:avLst/>
              <a:gdLst/>
              <a:ahLst/>
              <a:rect l="l" t="t" r="r" b="b"/>
              <a:pathLst>
                <a:path w="122" h="110">
                  <a:moveTo>
                    <a:pt x="0" y="0"/>
                  </a:moveTo>
                  <a:lnTo>
                    <a:pt x="122" y="54"/>
                  </a:lnTo>
                  <a:lnTo>
                    <a:pt x="0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640" y="3532680"/>
              <a:ext cx="218520" cy="244440"/>
            </a:xfrm>
            <a:custGeom>
              <a:avLst/>
              <a:gdLst/>
              <a:ahLst/>
              <a:rect l="l" t="t" r="r" b="b"/>
              <a:pathLst>
                <a:path w="264" h="238">
                  <a:moveTo>
                    <a:pt x="0" y="118"/>
                  </a:moveTo>
                  <a:lnTo>
                    <a:pt x="1" y="107"/>
                  </a:lnTo>
                  <a:lnTo>
                    <a:pt x="3" y="94"/>
                  </a:lnTo>
                  <a:lnTo>
                    <a:pt x="7" y="83"/>
                  </a:lnTo>
                  <a:lnTo>
                    <a:pt x="11" y="73"/>
                  </a:lnTo>
                  <a:lnTo>
                    <a:pt x="17" y="62"/>
                  </a:lnTo>
                  <a:lnTo>
                    <a:pt x="22" y="53"/>
                  </a:lnTo>
                  <a:lnTo>
                    <a:pt x="30" y="43"/>
                  </a:lnTo>
                  <a:lnTo>
                    <a:pt x="39" y="35"/>
                  </a:lnTo>
                  <a:lnTo>
                    <a:pt x="49" y="26"/>
                  </a:lnTo>
                  <a:lnTo>
                    <a:pt x="58" y="20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6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5"/>
                  </a:lnTo>
                  <a:lnTo>
                    <a:pt x="184" y="9"/>
                  </a:lnTo>
                  <a:lnTo>
                    <a:pt x="195" y="14"/>
                  </a:lnTo>
                  <a:lnTo>
                    <a:pt x="206" y="20"/>
                  </a:lnTo>
                  <a:lnTo>
                    <a:pt x="216" y="26"/>
                  </a:lnTo>
                  <a:lnTo>
                    <a:pt x="226" y="35"/>
                  </a:lnTo>
                  <a:lnTo>
                    <a:pt x="234" y="43"/>
                  </a:lnTo>
                  <a:lnTo>
                    <a:pt x="241" y="53"/>
                  </a:lnTo>
                  <a:lnTo>
                    <a:pt x="248" y="62"/>
                  </a:lnTo>
                  <a:lnTo>
                    <a:pt x="254" y="73"/>
                  </a:lnTo>
                  <a:lnTo>
                    <a:pt x="258" y="83"/>
                  </a:lnTo>
                  <a:lnTo>
                    <a:pt x="261" y="94"/>
                  </a:lnTo>
                  <a:lnTo>
                    <a:pt x="264" y="107"/>
                  </a:lnTo>
                  <a:lnTo>
                    <a:pt x="264" y="118"/>
                  </a:lnTo>
                  <a:lnTo>
                    <a:pt x="264" y="118"/>
                  </a:lnTo>
                  <a:lnTo>
                    <a:pt x="264" y="131"/>
                  </a:lnTo>
                  <a:lnTo>
                    <a:pt x="261" y="142"/>
                  </a:lnTo>
                  <a:lnTo>
                    <a:pt x="258" y="154"/>
                  </a:lnTo>
                  <a:lnTo>
                    <a:pt x="254" y="165"/>
                  </a:lnTo>
                  <a:lnTo>
                    <a:pt x="248" y="175"/>
                  </a:lnTo>
                  <a:lnTo>
                    <a:pt x="241" y="185"/>
                  </a:lnTo>
                  <a:lnTo>
                    <a:pt x="234" y="194"/>
                  </a:lnTo>
                  <a:lnTo>
                    <a:pt x="226" y="203"/>
                  </a:lnTo>
                  <a:lnTo>
                    <a:pt x="216" y="211"/>
                  </a:lnTo>
                  <a:lnTo>
                    <a:pt x="206" y="218"/>
                  </a:lnTo>
                  <a:lnTo>
                    <a:pt x="195" y="223"/>
                  </a:lnTo>
                  <a:lnTo>
                    <a:pt x="184" y="228"/>
                  </a:lnTo>
                  <a:lnTo>
                    <a:pt x="172" y="233"/>
                  </a:lnTo>
                  <a:lnTo>
                    <a:pt x="159" y="236"/>
                  </a:lnTo>
                  <a:lnTo>
                    <a:pt x="146" y="237"/>
                  </a:lnTo>
                  <a:lnTo>
                    <a:pt x="132" y="238"/>
                  </a:lnTo>
                  <a:lnTo>
                    <a:pt x="118" y="237"/>
                  </a:lnTo>
                  <a:lnTo>
                    <a:pt x="106" y="236"/>
                  </a:lnTo>
                  <a:lnTo>
                    <a:pt x="93" y="233"/>
                  </a:lnTo>
                  <a:lnTo>
                    <a:pt x="81" y="228"/>
                  </a:lnTo>
                  <a:lnTo>
                    <a:pt x="70" y="223"/>
                  </a:lnTo>
                  <a:lnTo>
                    <a:pt x="58" y="218"/>
                  </a:lnTo>
                  <a:lnTo>
                    <a:pt x="49" y="211"/>
                  </a:lnTo>
                  <a:lnTo>
                    <a:pt x="39" y="203"/>
                  </a:lnTo>
                  <a:lnTo>
                    <a:pt x="30" y="194"/>
                  </a:lnTo>
                  <a:lnTo>
                    <a:pt x="22" y="185"/>
                  </a:lnTo>
                  <a:lnTo>
                    <a:pt x="17" y="175"/>
                  </a:lnTo>
                  <a:lnTo>
                    <a:pt x="11" y="165"/>
                  </a:lnTo>
                  <a:lnTo>
                    <a:pt x="7" y="154"/>
                  </a:lnTo>
                  <a:lnTo>
                    <a:pt x="3" y="142"/>
                  </a:lnTo>
                  <a:lnTo>
                    <a:pt x="1" y="13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3640" y="3532680"/>
              <a:ext cx="218520" cy="244440"/>
            </a:xfrm>
            <a:custGeom>
              <a:avLst/>
              <a:gdLst/>
              <a:ahLst/>
              <a:rect l="l" t="t" r="r" b="b"/>
              <a:pathLst>
                <a:path w="264" h="238">
                  <a:moveTo>
                    <a:pt x="132" y="0"/>
                  </a:moveTo>
                  <a:lnTo>
                    <a:pt x="0" y="118"/>
                  </a:lnTo>
                  <a:lnTo>
                    <a:pt x="132" y="238"/>
                  </a:lnTo>
                  <a:lnTo>
                    <a:pt x="264" y="118"/>
                  </a:lnTo>
                  <a:lnTo>
                    <a:pt x="132" y="0"/>
                  </a:lnTo>
                  <a:lnTo>
                    <a:pt x="1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640" y="3532680"/>
              <a:ext cx="218520" cy="244440"/>
            </a:xfrm>
            <a:custGeom>
              <a:avLst/>
              <a:gdLst/>
              <a:ahLst/>
              <a:rect l="l" t="t" r="r" b="b"/>
              <a:pathLst>
                <a:path w="264" h="238">
                  <a:moveTo>
                    <a:pt x="0" y="118"/>
                  </a:moveTo>
                  <a:lnTo>
                    <a:pt x="1" y="107"/>
                  </a:lnTo>
                  <a:lnTo>
                    <a:pt x="3" y="94"/>
                  </a:lnTo>
                  <a:lnTo>
                    <a:pt x="7" y="83"/>
                  </a:lnTo>
                  <a:lnTo>
                    <a:pt x="11" y="73"/>
                  </a:lnTo>
                  <a:lnTo>
                    <a:pt x="17" y="62"/>
                  </a:lnTo>
                  <a:lnTo>
                    <a:pt x="22" y="53"/>
                  </a:lnTo>
                  <a:lnTo>
                    <a:pt x="30" y="43"/>
                  </a:lnTo>
                  <a:lnTo>
                    <a:pt x="39" y="35"/>
                  </a:lnTo>
                  <a:lnTo>
                    <a:pt x="49" y="26"/>
                  </a:lnTo>
                  <a:lnTo>
                    <a:pt x="58" y="20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6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6" y="0"/>
                  </a:lnTo>
                  <a:lnTo>
                    <a:pt x="159" y="2"/>
                  </a:lnTo>
                  <a:lnTo>
                    <a:pt x="172" y="5"/>
                  </a:lnTo>
                  <a:lnTo>
                    <a:pt x="184" y="9"/>
                  </a:lnTo>
                  <a:lnTo>
                    <a:pt x="195" y="14"/>
                  </a:lnTo>
                  <a:lnTo>
                    <a:pt x="206" y="20"/>
                  </a:lnTo>
                  <a:lnTo>
                    <a:pt x="216" y="26"/>
                  </a:lnTo>
                  <a:lnTo>
                    <a:pt x="226" y="35"/>
                  </a:lnTo>
                  <a:lnTo>
                    <a:pt x="234" y="43"/>
                  </a:lnTo>
                  <a:lnTo>
                    <a:pt x="241" y="53"/>
                  </a:lnTo>
                  <a:lnTo>
                    <a:pt x="248" y="62"/>
                  </a:lnTo>
                  <a:lnTo>
                    <a:pt x="254" y="73"/>
                  </a:lnTo>
                  <a:lnTo>
                    <a:pt x="258" y="83"/>
                  </a:lnTo>
                  <a:lnTo>
                    <a:pt x="261" y="94"/>
                  </a:lnTo>
                  <a:lnTo>
                    <a:pt x="264" y="107"/>
                  </a:lnTo>
                  <a:lnTo>
                    <a:pt x="264" y="118"/>
                  </a:lnTo>
                  <a:lnTo>
                    <a:pt x="264" y="118"/>
                  </a:lnTo>
                  <a:lnTo>
                    <a:pt x="264" y="131"/>
                  </a:lnTo>
                  <a:lnTo>
                    <a:pt x="261" y="142"/>
                  </a:lnTo>
                  <a:lnTo>
                    <a:pt x="258" y="154"/>
                  </a:lnTo>
                  <a:lnTo>
                    <a:pt x="254" y="165"/>
                  </a:lnTo>
                  <a:lnTo>
                    <a:pt x="248" y="175"/>
                  </a:lnTo>
                  <a:lnTo>
                    <a:pt x="241" y="185"/>
                  </a:lnTo>
                  <a:lnTo>
                    <a:pt x="234" y="194"/>
                  </a:lnTo>
                  <a:lnTo>
                    <a:pt x="226" y="203"/>
                  </a:lnTo>
                  <a:lnTo>
                    <a:pt x="216" y="211"/>
                  </a:lnTo>
                  <a:lnTo>
                    <a:pt x="206" y="218"/>
                  </a:lnTo>
                  <a:lnTo>
                    <a:pt x="195" y="223"/>
                  </a:lnTo>
                  <a:lnTo>
                    <a:pt x="184" y="228"/>
                  </a:lnTo>
                  <a:lnTo>
                    <a:pt x="172" y="233"/>
                  </a:lnTo>
                  <a:lnTo>
                    <a:pt x="159" y="236"/>
                  </a:lnTo>
                  <a:lnTo>
                    <a:pt x="146" y="237"/>
                  </a:lnTo>
                  <a:lnTo>
                    <a:pt x="132" y="238"/>
                  </a:lnTo>
                  <a:lnTo>
                    <a:pt x="118" y="237"/>
                  </a:lnTo>
                  <a:lnTo>
                    <a:pt x="106" y="236"/>
                  </a:lnTo>
                  <a:lnTo>
                    <a:pt x="93" y="233"/>
                  </a:lnTo>
                  <a:lnTo>
                    <a:pt x="81" y="228"/>
                  </a:lnTo>
                  <a:lnTo>
                    <a:pt x="70" y="223"/>
                  </a:lnTo>
                  <a:lnTo>
                    <a:pt x="58" y="218"/>
                  </a:lnTo>
                  <a:lnTo>
                    <a:pt x="49" y="211"/>
                  </a:lnTo>
                  <a:lnTo>
                    <a:pt x="39" y="203"/>
                  </a:lnTo>
                  <a:lnTo>
                    <a:pt x="30" y="194"/>
                  </a:lnTo>
                  <a:lnTo>
                    <a:pt x="22" y="185"/>
                  </a:lnTo>
                  <a:lnTo>
                    <a:pt x="17" y="175"/>
                  </a:lnTo>
                  <a:lnTo>
                    <a:pt x="11" y="165"/>
                  </a:lnTo>
                  <a:lnTo>
                    <a:pt x="7" y="154"/>
                  </a:lnTo>
                  <a:lnTo>
                    <a:pt x="3" y="142"/>
                  </a:lnTo>
                  <a:lnTo>
                    <a:pt x="1" y="131"/>
                  </a:lnTo>
                  <a:lnTo>
                    <a:pt x="0" y="118"/>
                  </a:lnTo>
                  <a:lnTo>
                    <a:pt x="0" y="1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080" y="3351960"/>
              <a:ext cx="723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7640" y="3351960"/>
              <a:ext cx="1480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add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6720" y="3287880"/>
              <a:ext cx="1312920" cy="734040"/>
            </a:xfrm>
            <a:custGeom>
              <a:avLst/>
              <a:gdLst/>
              <a:ahLst/>
              <a:rect l="l" t="t" r="r" b="b"/>
              <a:pathLst>
                <a:path w="1583" h="716">
                  <a:moveTo>
                    <a:pt x="264" y="716"/>
                  </a:moveTo>
                  <a:lnTo>
                    <a:pt x="1319" y="716"/>
                  </a:lnTo>
                  <a:lnTo>
                    <a:pt x="1332" y="716"/>
                  </a:lnTo>
                  <a:lnTo>
                    <a:pt x="1346" y="715"/>
                  </a:lnTo>
                  <a:lnTo>
                    <a:pt x="1359" y="714"/>
                  </a:lnTo>
                  <a:lnTo>
                    <a:pt x="1373" y="711"/>
                  </a:lnTo>
                  <a:lnTo>
                    <a:pt x="1385" y="709"/>
                  </a:lnTo>
                  <a:lnTo>
                    <a:pt x="1398" y="705"/>
                  </a:lnTo>
                  <a:lnTo>
                    <a:pt x="1410" y="701"/>
                  </a:lnTo>
                  <a:lnTo>
                    <a:pt x="1421" y="697"/>
                  </a:lnTo>
                  <a:lnTo>
                    <a:pt x="1434" y="692"/>
                  </a:lnTo>
                  <a:lnTo>
                    <a:pt x="1445" y="687"/>
                  </a:lnTo>
                  <a:lnTo>
                    <a:pt x="1456" y="681"/>
                  </a:lnTo>
                  <a:lnTo>
                    <a:pt x="1466" y="674"/>
                  </a:lnTo>
                  <a:lnTo>
                    <a:pt x="1477" y="668"/>
                  </a:lnTo>
                  <a:lnTo>
                    <a:pt x="1487" y="662"/>
                  </a:lnTo>
                  <a:lnTo>
                    <a:pt x="1497" y="654"/>
                  </a:lnTo>
                  <a:lnTo>
                    <a:pt x="1505" y="645"/>
                  </a:lnTo>
                  <a:lnTo>
                    <a:pt x="1515" y="638"/>
                  </a:lnTo>
                  <a:lnTo>
                    <a:pt x="1522" y="629"/>
                  </a:lnTo>
                  <a:lnTo>
                    <a:pt x="1530" y="620"/>
                  </a:lnTo>
                  <a:lnTo>
                    <a:pt x="1537" y="610"/>
                  </a:lnTo>
                  <a:lnTo>
                    <a:pt x="1544" y="601"/>
                  </a:lnTo>
                  <a:lnTo>
                    <a:pt x="1551" y="591"/>
                  </a:lnTo>
                  <a:lnTo>
                    <a:pt x="1557" y="581"/>
                  </a:lnTo>
                  <a:lnTo>
                    <a:pt x="1562" y="570"/>
                  </a:lnTo>
                  <a:lnTo>
                    <a:pt x="1567" y="560"/>
                  </a:lnTo>
                  <a:lnTo>
                    <a:pt x="1571" y="548"/>
                  </a:lnTo>
                  <a:lnTo>
                    <a:pt x="1575" y="537"/>
                  </a:lnTo>
                  <a:lnTo>
                    <a:pt x="1578" y="525"/>
                  </a:lnTo>
                  <a:lnTo>
                    <a:pt x="1579" y="514"/>
                  </a:lnTo>
                  <a:lnTo>
                    <a:pt x="1582" y="501"/>
                  </a:lnTo>
                  <a:lnTo>
                    <a:pt x="1582" y="490"/>
                  </a:lnTo>
                  <a:lnTo>
                    <a:pt x="1583" y="477"/>
                  </a:lnTo>
                  <a:lnTo>
                    <a:pt x="1583" y="477"/>
                  </a:lnTo>
                  <a:lnTo>
                    <a:pt x="1583" y="239"/>
                  </a:lnTo>
                  <a:lnTo>
                    <a:pt x="1582" y="226"/>
                  </a:lnTo>
                  <a:lnTo>
                    <a:pt x="1582" y="215"/>
                  </a:lnTo>
                  <a:lnTo>
                    <a:pt x="1579" y="202"/>
                  </a:lnTo>
                  <a:lnTo>
                    <a:pt x="1578" y="191"/>
                  </a:lnTo>
                  <a:lnTo>
                    <a:pt x="1575" y="179"/>
                  </a:lnTo>
                  <a:lnTo>
                    <a:pt x="1571" y="168"/>
                  </a:lnTo>
                  <a:lnTo>
                    <a:pt x="1567" y="157"/>
                  </a:lnTo>
                  <a:lnTo>
                    <a:pt x="1562" y="145"/>
                  </a:lnTo>
                  <a:lnTo>
                    <a:pt x="1557" y="135"/>
                  </a:lnTo>
                  <a:lnTo>
                    <a:pt x="1551" y="125"/>
                  </a:lnTo>
                  <a:lnTo>
                    <a:pt x="1544" y="115"/>
                  </a:lnTo>
                  <a:lnTo>
                    <a:pt x="1537" y="105"/>
                  </a:lnTo>
                  <a:lnTo>
                    <a:pt x="1530" y="96"/>
                  </a:lnTo>
                  <a:lnTo>
                    <a:pt x="1522" y="87"/>
                  </a:lnTo>
                  <a:lnTo>
                    <a:pt x="1515" y="78"/>
                  </a:lnTo>
                  <a:lnTo>
                    <a:pt x="1505" y="69"/>
                  </a:lnTo>
                  <a:lnTo>
                    <a:pt x="1497" y="62"/>
                  </a:lnTo>
                  <a:lnTo>
                    <a:pt x="1487" y="54"/>
                  </a:lnTo>
                  <a:lnTo>
                    <a:pt x="1477" y="47"/>
                  </a:lnTo>
                  <a:lnTo>
                    <a:pt x="1466" y="40"/>
                  </a:lnTo>
                  <a:lnTo>
                    <a:pt x="1456" y="34"/>
                  </a:lnTo>
                  <a:lnTo>
                    <a:pt x="1445" y="29"/>
                  </a:lnTo>
                  <a:lnTo>
                    <a:pt x="1434" y="24"/>
                  </a:lnTo>
                  <a:lnTo>
                    <a:pt x="1421" y="19"/>
                  </a:lnTo>
                  <a:lnTo>
                    <a:pt x="1410" y="14"/>
                  </a:lnTo>
                  <a:lnTo>
                    <a:pt x="1398" y="10"/>
                  </a:lnTo>
                  <a:lnTo>
                    <a:pt x="1385" y="8"/>
                  </a:lnTo>
                  <a:lnTo>
                    <a:pt x="1373" y="5"/>
                  </a:lnTo>
                  <a:lnTo>
                    <a:pt x="1359" y="3"/>
                  </a:lnTo>
                  <a:lnTo>
                    <a:pt x="1346" y="1"/>
                  </a:lnTo>
                  <a:lnTo>
                    <a:pt x="1332" y="0"/>
                  </a:lnTo>
                  <a:lnTo>
                    <a:pt x="131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1"/>
                  </a:lnTo>
                  <a:lnTo>
                    <a:pt x="223" y="3"/>
                  </a:lnTo>
                  <a:lnTo>
                    <a:pt x="211" y="5"/>
                  </a:lnTo>
                  <a:lnTo>
                    <a:pt x="198" y="8"/>
                  </a:lnTo>
                  <a:lnTo>
                    <a:pt x="186" y="10"/>
                  </a:lnTo>
                  <a:lnTo>
                    <a:pt x="173" y="14"/>
                  </a:lnTo>
                  <a:lnTo>
                    <a:pt x="160" y="19"/>
                  </a:lnTo>
                  <a:lnTo>
                    <a:pt x="149" y="24"/>
                  </a:lnTo>
                  <a:lnTo>
                    <a:pt x="138" y="29"/>
                  </a:lnTo>
                  <a:lnTo>
                    <a:pt x="127" y="34"/>
                  </a:lnTo>
                  <a:lnTo>
                    <a:pt x="116" y="40"/>
                  </a:lnTo>
                  <a:lnTo>
                    <a:pt x="106" y="47"/>
                  </a:lnTo>
                  <a:lnTo>
                    <a:pt x="96" y="54"/>
                  </a:lnTo>
                  <a:lnTo>
                    <a:pt x="86" y="62"/>
                  </a:lnTo>
                  <a:lnTo>
                    <a:pt x="77" y="69"/>
                  </a:lnTo>
                  <a:lnTo>
                    <a:pt x="68" y="78"/>
                  </a:lnTo>
                  <a:lnTo>
                    <a:pt x="60" y="87"/>
                  </a:lnTo>
                  <a:lnTo>
                    <a:pt x="52" y="96"/>
                  </a:lnTo>
                  <a:lnTo>
                    <a:pt x="45" y="105"/>
                  </a:lnTo>
                  <a:lnTo>
                    <a:pt x="38" y="115"/>
                  </a:lnTo>
                  <a:lnTo>
                    <a:pt x="32" y="125"/>
                  </a:lnTo>
                  <a:lnTo>
                    <a:pt x="25" y="135"/>
                  </a:lnTo>
                  <a:lnTo>
                    <a:pt x="21" y="145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79"/>
                  </a:lnTo>
                  <a:lnTo>
                    <a:pt x="5" y="191"/>
                  </a:lnTo>
                  <a:lnTo>
                    <a:pt x="3" y="202"/>
                  </a:lnTo>
                  <a:lnTo>
                    <a:pt x="1" y="215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1" y="501"/>
                  </a:lnTo>
                  <a:lnTo>
                    <a:pt x="3" y="514"/>
                  </a:lnTo>
                  <a:lnTo>
                    <a:pt x="5" y="525"/>
                  </a:lnTo>
                  <a:lnTo>
                    <a:pt x="8" y="537"/>
                  </a:lnTo>
                  <a:lnTo>
                    <a:pt x="11" y="548"/>
                  </a:lnTo>
                  <a:lnTo>
                    <a:pt x="15" y="560"/>
                  </a:lnTo>
                  <a:lnTo>
                    <a:pt x="21" y="570"/>
                  </a:lnTo>
                  <a:lnTo>
                    <a:pt x="25" y="581"/>
                  </a:lnTo>
                  <a:lnTo>
                    <a:pt x="32" y="591"/>
                  </a:lnTo>
                  <a:lnTo>
                    <a:pt x="38" y="601"/>
                  </a:lnTo>
                  <a:lnTo>
                    <a:pt x="45" y="610"/>
                  </a:lnTo>
                  <a:lnTo>
                    <a:pt x="52" y="620"/>
                  </a:lnTo>
                  <a:lnTo>
                    <a:pt x="60" y="629"/>
                  </a:lnTo>
                  <a:lnTo>
                    <a:pt x="68" y="638"/>
                  </a:lnTo>
                  <a:lnTo>
                    <a:pt x="77" y="645"/>
                  </a:lnTo>
                  <a:lnTo>
                    <a:pt x="86" y="654"/>
                  </a:lnTo>
                  <a:lnTo>
                    <a:pt x="96" y="662"/>
                  </a:lnTo>
                  <a:lnTo>
                    <a:pt x="106" y="668"/>
                  </a:lnTo>
                  <a:lnTo>
                    <a:pt x="116" y="674"/>
                  </a:lnTo>
                  <a:lnTo>
                    <a:pt x="127" y="681"/>
                  </a:lnTo>
                  <a:lnTo>
                    <a:pt x="138" y="687"/>
                  </a:lnTo>
                  <a:lnTo>
                    <a:pt x="149" y="692"/>
                  </a:lnTo>
                  <a:lnTo>
                    <a:pt x="160" y="697"/>
                  </a:lnTo>
                  <a:lnTo>
                    <a:pt x="173" y="701"/>
                  </a:lnTo>
                  <a:lnTo>
                    <a:pt x="186" y="705"/>
                  </a:lnTo>
                  <a:lnTo>
                    <a:pt x="198" y="709"/>
                  </a:lnTo>
                  <a:lnTo>
                    <a:pt x="211" y="711"/>
                  </a:lnTo>
                  <a:lnTo>
                    <a:pt x="223" y="714"/>
                  </a:lnTo>
                  <a:lnTo>
                    <a:pt x="236" y="715"/>
                  </a:lnTo>
                  <a:lnTo>
                    <a:pt x="250" y="716"/>
                  </a:lnTo>
                  <a:lnTo>
                    <a:pt x="264" y="716"/>
                  </a:lnTo>
                  <a:lnTo>
                    <a:pt x="264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36720" y="3287880"/>
              <a:ext cx="1312920" cy="734040"/>
            </a:xfrm>
            <a:custGeom>
              <a:avLst/>
              <a:gdLst/>
              <a:ahLst/>
              <a:rect l="l" t="t" r="r" b="b"/>
              <a:pathLst>
                <a:path w="1583" h="716">
                  <a:moveTo>
                    <a:pt x="264" y="716"/>
                  </a:moveTo>
                  <a:lnTo>
                    <a:pt x="1319" y="716"/>
                  </a:lnTo>
                  <a:lnTo>
                    <a:pt x="1332" y="716"/>
                  </a:lnTo>
                  <a:lnTo>
                    <a:pt x="1346" y="715"/>
                  </a:lnTo>
                  <a:lnTo>
                    <a:pt x="1359" y="714"/>
                  </a:lnTo>
                  <a:lnTo>
                    <a:pt x="1373" y="711"/>
                  </a:lnTo>
                  <a:lnTo>
                    <a:pt x="1385" y="709"/>
                  </a:lnTo>
                  <a:lnTo>
                    <a:pt x="1398" y="705"/>
                  </a:lnTo>
                  <a:lnTo>
                    <a:pt x="1410" y="701"/>
                  </a:lnTo>
                  <a:lnTo>
                    <a:pt x="1421" y="697"/>
                  </a:lnTo>
                  <a:lnTo>
                    <a:pt x="1434" y="692"/>
                  </a:lnTo>
                  <a:lnTo>
                    <a:pt x="1445" y="687"/>
                  </a:lnTo>
                  <a:lnTo>
                    <a:pt x="1456" y="681"/>
                  </a:lnTo>
                  <a:lnTo>
                    <a:pt x="1466" y="674"/>
                  </a:lnTo>
                  <a:lnTo>
                    <a:pt x="1477" y="668"/>
                  </a:lnTo>
                  <a:lnTo>
                    <a:pt x="1487" y="662"/>
                  </a:lnTo>
                  <a:lnTo>
                    <a:pt x="1497" y="654"/>
                  </a:lnTo>
                  <a:lnTo>
                    <a:pt x="1505" y="645"/>
                  </a:lnTo>
                  <a:lnTo>
                    <a:pt x="1515" y="638"/>
                  </a:lnTo>
                  <a:lnTo>
                    <a:pt x="1522" y="629"/>
                  </a:lnTo>
                  <a:lnTo>
                    <a:pt x="1530" y="620"/>
                  </a:lnTo>
                  <a:lnTo>
                    <a:pt x="1537" y="610"/>
                  </a:lnTo>
                  <a:lnTo>
                    <a:pt x="1544" y="601"/>
                  </a:lnTo>
                  <a:lnTo>
                    <a:pt x="1551" y="591"/>
                  </a:lnTo>
                  <a:lnTo>
                    <a:pt x="1557" y="581"/>
                  </a:lnTo>
                  <a:lnTo>
                    <a:pt x="1562" y="570"/>
                  </a:lnTo>
                  <a:lnTo>
                    <a:pt x="1567" y="560"/>
                  </a:lnTo>
                  <a:lnTo>
                    <a:pt x="1571" y="548"/>
                  </a:lnTo>
                  <a:lnTo>
                    <a:pt x="1575" y="537"/>
                  </a:lnTo>
                  <a:lnTo>
                    <a:pt x="1578" y="525"/>
                  </a:lnTo>
                  <a:lnTo>
                    <a:pt x="1579" y="514"/>
                  </a:lnTo>
                  <a:lnTo>
                    <a:pt x="1582" y="501"/>
                  </a:lnTo>
                  <a:lnTo>
                    <a:pt x="1582" y="490"/>
                  </a:lnTo>
                  <a:lnTo>
                    <a:pt x="1583" y="477"/>
                  </a:lnTo>
                  <a:lnTo>
                    <a:pt x="1583" y="477"/>
                  </a:lnTo>
                  <a:lnTo>
                    <a:pt x="1583" y="239"/>
                  </a:lnTo>
                  <a:lnTo>
                    <a:pt x="1582" y="226"/>
                  </a:lnTo>
                  <a:lnTo>
                    <a:pt x="1582" y="215"/>
                  </a:lnTo>
                  <a:lnTo>
                    <a:pt x="1579" y="202"/>
                  </a:lnTo>
                  <a:lnTo>
                    <a:pt x="1578" y="191"/>
                  </a:lnTo>
                  <a:lnTo>
                    <a:pt x="1575" y="179"/>
                  </a:lnTo>
                  <a:lnTo>
                    <a:pt x="1571" y="168"/>
                  </a:lnTo>
                  <a:lnTo>
                    <a:pt x="1567" y="157"/>
                  </a:lnTo>
                  <a:lnTo>
                    <a:pt x="1562" y="145"/>
                  </a:lnTo>
                  <a:lnTo>
                    <a:pt x="1557" y="135"/>
                  </a:lnTo>
                  <a:lnTo>
                    <a:pt x="1551" y="125"/>
                  </a:lnTo>
                  <a:lnTo>
                    <a:pt x="1544" y="115"/>
                  </a:lnTo>
                  <a:lnTo>
                    <a:pt x="1537" y="105"/>
                  </a:lnTo>
                  <a:lnTo>
                    <a:pt x="1530" y="96"/>
                  </a:lnTo>
                  <a:lnTo>
                    <a:pt x="1522" y="87"/>
                  </a:lnTo>
                  <a:lnTo>
                    <a:pt x="1515" y="78"/>
                  </a:lnTo>
                  <a:lnTo>
                    <a:pt x="1505" y="69"/>
                  </a:lnTo>
                  <a:lnTo>
                    <a:pt x="1497" y="62"/>
                  </a:lnTo>
                  <a:lnTo>
                    <a:pt x="1487" y="54"/>
                  </a:lnTo>
                  <a:lnTo>
                    <a:pt x="1477" y="47"/>
                  </a:lnTo>
                  <a:lnTo>
                    <a:pt x="1466" y="40"/>
                  </a:lnTo>
                  <a:lnTo>
                    <a:pt x="1456" y="34"/>
                  </a:lnTo>
                  <a:lnTo>
                    <a:pt x="1445" y="29"/>
                  </a:lnTo>
                  <a:lnTo>
                    <a:pt x="1434" y="24"/>
                  </a:lnTo>
                  <a:lnTo>
                    <a:pt x="1421" y="19"/>
                  </a:lnTo>
                  <a:lnTo>
                    <a:pt x="1410" y="14"/>
                  </a:lnTo>
                  <a:lnTo>
                    <a:pt x="1398" y="10"/>
                  </a:lnTo>
                  <a:lnTo>
                    <a:pt x="1385" y="8"/>
                  </a:lnTo>
                  <a:lnTo>
                    <a:pt x="1373" y="5"/>
                  </a:lnTo>
                  <a:lnTo>
                    <a:pt x="1359" y="3"/>
                  </a:lnTo>
                  <a:lnTo>
                    <a:pt x="1346" y="1"/>
                  </a:lnTo>
                  <a:lnTo>
                    <a:pt x="1332" y="0"/>
                  </a:lnTo>
                  <a:lnTo>
                    <a:pt x="1319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1"/>
                  </a:lnTo>
                  <a:lnTo>
                    <a:pt x="223" y="3"/>
                  </a:lnTo>
                  <a:lnTo>
                    <a:pt x="211" y="5"/>
                  </a:lnTo>
                  <a:lnTo>
                    <a:pt x="198" y="8"/>
                  </a:lnTo>
                  <a:lnTo>
                    <a:pt x="186" y="10"/>
                  </a:lnTo>
                  <a:lnTo>
                    <a:pt x="173" y="14"/>
                  </a:lnTo>
                  <a:lnTo>
                    <a:pt x="160" y="19"/>
                  </a:lnTo>
                  <a:lnTo>
                    <a:pt x="149" y="24"/>
                  </a:lnTo>
                  <a:lnTo>
                    <a:pt x="138" y="29"/>
                  </a:lnTo>
                  <a:lnTo>
                    <a:pt x="127" y="34"/>
                  </a:lnTo>
                  <a:lnTo>
                    <a:pt x="116" y="40"/>
                  </a:lnTo>
                  <a:lnTo>
                    <a:pt x="106" y="47"/>
                  </a:lnTo>
                  <a:lnTo>
                    <a:pt x="96" y="54"/>
                  </a:lnTo>
                  <a:lnTo>
                    <a:pt x="86" y="62"/>
                  </a:lnTo>
                  <a:lnTo>
                    <a:pt x="77" y="69"/>
                  </a:lnTo>
                  <a:lnTo>
                    <a:pt x="68" y="78"/>
                  </a:lnTo>
                  <a:lnTo>
                    <a:pt x="60" y="87"/>
                  </a:lnTo>
                  <a:lnTo>
                    <a:pt x="52" y="96"/>
                  </a:lnTo>
                  <a:lnTo>
                    <a:pt x="45" y="105"/>
                  </a:lnTo>
                  <a:lnTo>
                    <a:pt x="38" y="115"/>
                  </a:lnTo>
                  <a:lnTo>
                    <a:pt x="32" y="125"/>
                  </a:lnTo>
                  <a:lnTo>
                    <a:pt x="25" y="135"/>
                  </a:lnTo>
                  <a:lnTo>
                    <a:pt x="21" y="145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79"/>
                  </a:lnTo>
                  <a:lnTo>
                    <a:pt x="5" y="191"/>
                  </a:lnTo>
                  <a:lnTo>
                    <a:pt x="3" y="202"/>
                  </a:lnTo>
                  <a:lnTo>
                    <a:pt x="1" y="215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1" y="501"/>
                  </a:lnTo>
                  <a:lnTo>
                    <a:pt x="3" y="514"/>
                  </a:lnTo>
                  <a:lnTo>
                    <a:pt x="5" y="525"/>
                  </a:lnTo>
                  <a:lnTo>
                    <a:pt x="8" y="537"/>
                  </a:lnTo>
                  <a:lnTo>
                    <a:pt x="11" y="548"/>
                  </a:lnTo>
                  <a:lnTo>
                    <a:pt x="15" y="560"/>
                  </a:lnTo>
                  <a:lnTo>
                    <a:pt x="21" y="570"/>
                  </a:lnTo>
                  <a:lnTo>
                    <a:pt x="25" y="581"/>
                  </a:lnTo>
                  <a:lnTo>
                    <a:pt x="32" y="591"/>
                  </a:lnTo>
                  <a:lnTo>
                    <a:pt x="38" y="601"/>
                  </a:lnTo>
                  <a:lnTo>
                    <a:pt x="45" y="610"/>
                  </a:lnTo>
                  <a:lnTo>
                    <a:pt x="52" y="620"/>
                  </a:lnTo>
                  <a:lnTo>
                    <a:pt x="60" y="629"/>
                  </a:lnTo>
                  <a:lnTo>
                    <a:pt x="68" y="638"/>
                  </a:lnTo>
                  <a:lnTo>
                    <a:pt x="77" y="645"/>
                  </a:lnTo>
                  <a:lnTo>
                    <a:pt x="86" y="654"/>
                  </a:lnTo>
                  <a:lnTo>
                    <a:pt x="96" y="662"/>
                  </a:lnTo>
                  <a:lnTo>
                    <a:pt x="106" y="668"/>
                  </a:lnTo>
                  <a:lnTo>
                    <a:pt x="116" y="674"/>
                  </a:lnTo>
                  <a:lnTo>
                    <a:pt x="127" y="681"/>
                  </a:lnTo>
                  <a:lnTo>
                    <a:pt x="138" y="687"/>
                  </a:lnTo>
                  <a:lnTo>
                    <a:pt x="149" y="692"/>
                  </a:lnTo>
                  <a:lnTo>
                    <a:pt x="160" y="697"/>
                  </a:lnTo>
                  <a:lnTo>
                    <a:pt x="173" y="701"/>
                  </a:lnTo>
                  <a:lnTo>
                    <a:pt x="186" y="705"/>
                  </a:lnTo>
                  <a:lnTo>
                    <a:pt x="198" y="709"/>
                  </a:lnTo>
                  <a:lnTo>
                    <a:pt x="211" y="711"/>
                  </a:lnTo>
                  <a:lnTo>
                    <a:pt x="223" y="714"/>
                  </a:lnTo>
                  <a:lnTo>
                    <a:pt x="236" y="715"/>
                  </a:lnTo>
                  <a:lnTo>
                    <a:pt x="250" y="716"/>
                  </a:lnTo>
                  <a:lnTo>
                    <a:pt x="264" y="716"/>
                  </a:lnTo>
                  <a:lnTo>
                    <a:pt x="264" y="716"/>
                  </a:lnTo>
                </a:path>
              </a:pathLst>
            </a:custGeom>
            <a:solidFill>
              <a:srgbClr val="99cc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46720" y="3401640"/>
              <a:ext cx="16221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300" spc="-1" strike="noStrike">
                  <a:solidFill>
                    <a:srgbClr val="000000"/>
                  </a:solidFill>
                  <a:latin typeface="Arial"/>
                </a:rPr>
                <a:t>AddMeet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50480" y="3651480"/>
              <a:ext cx="1192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3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2920" y="3287880"/>
              <a:ext cx="1207080" cy="734040"/>
            </a:xfrm>
            <a:custGeom>
              <a:avLst/>
              <a:gdLst/>
              <a:ahLst/>
              <a:rect l="l" t="t" r="r" b="b"/>
              <a:pathLst>
                <a:path w="1456" h="716">
                  <a:moveTo>
                    <a:pt x="264" y="716"/>
                  </a:moveTo>
                  <a:lnTo>
                    <a:pt x="1192" y="716"/>
                  </a:lnTo>
                  <a:lnTo>
                    <a:pt x="1206" y="716"/>
                  </a:lnTo>
                  <a:lnTo>
                    <a:pt x="1219" y="715"/>
                  </a:lnTo>
                  <a:lnTo>
                    <a:pt x="1233" y="714"/>
                  </a:lnTo>
                  <a:lnTo>
                    <a:pt x="1245" y="711"/>
                  </a:lnTo>
                  <a:lnTo>
                    <a:pt x="1258" y="709"/>
                  </a:lnTo>
                  <a:lnTo>
                    <a:pt x="1271" y="705"/>
                  </a:lnTo>
                  <a:lnTo>
                    <a:pt x="1283" y="701"/>
                  </a:lnTo>
                  <a:lnTo>
                    <a:pt x="1294" y="697"/>
                  </a:lnTo>
                  <a:lnTo>
                    <a:pt x="1307" y="692"/>
                  </a:lnTo>
                  <a:lnTo>
                    <a:pt x="1318" y="687"/>
                  </a:lnTo>
                  <a:lnTo>
                    <a:pt x="1329" y="681"/>
                  </a:lnTo>
                  <a:lnTo>
                    <a:pt x="1340" y="676"/>
                  </a:lnTo>
                  <a:lnTo>
                    <a:pt x="1350" y="668"/>
                  </a:lnTo>
                  <a:lnTo>
                    <a:pt x="1360" y="662"/>
                  </a:lnTo>
                  <a:lnTo>
                    <a:pt x="1370" y="654"/>
                  </a:lnTo>
                  <a:lnTo>
                    <a:pt x="1379" y="645"/>
                  </a:lnTo>
                  <a:lnTo>
                    <a:pt x="1388" y="638"/>
                  </a:lnTo>
                  <a:lnTo>
                    <a:pt x="1396" y="629"/>
                  </a:lnTo>
                  <a:lnTo>
                    <a:pt x="1403" y="620"/>
                  </a:lnTo>
                  <a:lnTo>
                    <a:pt x="1412" y="610"/>
                  </a:lnTo>
                  <a:lnTo>
                    <a:pt x="1419" y="601"/>
                  </a:lnTo>
                  <a:lnTo>
                    <a:pt x="1424" y="591"/>
                  </a:lnTo>
                  <a:lnTo>
                    <a:pt x="1430" y="581"/>
                  </a:lnTo>
                  <a:lnTo>
                    <a:pt x="1435" y="570"/>
                  </a:lnTo>
                  <a:lnTo>
                    <a:pt x="1440" y="560"/>
                  </a:lnTo>
                  <a:lnTo>
                    <a:pt x="1444" y="548"/>
                  </a:lnTo>
                  <a:lnTo>
                    <a:pt x="1448" y="537"/>
                  </a:lnTo>
                  <a:lnTo>
                    <a:pt x="1451" y="525"/>
                  </a:lnTo>
                  <a:lnTo>
                    <a:pt x="1454" y="514"/>
                  </a:lnTo>
                  <a:lnTo>
                    <a:pt x="1455" y="501"/>
                  </a:lnTo>
                  <a:lnTo>
                    <a:pt x="1456" y="490"/>
                  </a:lnTo>
                  <a:lnTo>
                    <a:pt x="1456" y="477"/>
                  </a:lnTo>
                  <a:lnTo>
                    <a:pt x="1456" y="477"/>
                  </a:lnTo>
                  <a:lnTo>
                    <a:pt x="1456" y="477"/>
                  </a:lnTo>
                  <a:lnTo>
                    <a:pt x="1456" y="239"/>
                  </a:lnTo>
                  <a:lnTo>
                    <a:pt x="1456" y="226"/>
                  </a:lnTo>
                  <a:lnTo>
                    <a:pt x="1455" y="215"/>
                  </a:lnTo>
                  <a:lnTo>
                    <a:pt x="1454" y="202"/>
                  </a:lnTo>
                  <a:lnTo>
                    <a:pt x="1451" y="191"/>
                  </a:lnTo>
                  <a:lnTo>
                    <a:pt x="1448" y="179"/>
                  </a:lnTo>
                  <a:lnTo>
                    <a:pt x="1444" y="168"/>
                  </a:lnTo>
                  <a:lnTo>
                    <a:pt x="1440" y="157"/>
                  </a:lnTo>
                  <a:lnTo>
                    <a:pt x="1435" y="145"/>
                  </a:lnTo>
                  <a:lnTo>
                    <a:pt x="1430" y="135"/>
                  </a:lnTo>
                  <a:lnTo>
                    <a:pt x="1424" y="125"/>
                  </a:lnTo>
                  <a:lnTo>
                    <a:pt x="1419" y="115"/>
                  </a:lnTo>
                  <a:lnTo>
                    <a:pt x="1412" y="105"/>
                  </a:lnTo>
                  <a:lnTo>
                    <a:pt x="1403" y="96"/>
                  </a:lnTo>
                  <a:lnTo>
                    <a:pt x="1396" y="87"/>
                  </a:lnTo>
                  <a:lnTo>
                    <a:pt x="1388" y="78"/>
                  </a:lnTo>
                  <a:lnTo>
                    <a:pt x="1379" y="69"/>
                  </a:lnTo>
                  <a:lnTo>
                    <a:pt x="1370" y="62"/>
                  </a:lnTo>
                  <a:lnTo>
                    <a:pt x="1360" y="54"/>
                  </a:lnTo>
                  <a:lnTo>
                    <a:pt x="1350" y="48"/>
                  </a:lnTo>
                  <a:lnTo>
                    <a:pt x="1340" y="40"/>
                  </a:lnTo>
                  <a:lnTo>
                    <a:pt x="1329" y="34"/>
                  </a:lnTo>
                  <a:lnTo>
                    <a:pt x="1318" y="29"/>
                  </a:lnTo>
                  <a:lnTo>
                    <a:pt x="1307" y="24"/>
                  </a:lnTo>
                  <a:lnTo>
                    <a:pt x="1296" y="19"/>
                  </a:lnTo>
                  <a:lnTo>
                    <a:pt x="1283" y="14"/>
                  </a:lnTo>
                  <a:lnTo>
                    <a:pt x="1271" y="11"/>
                  </a:lnTo>
                  <a:lnTo>
                    <a:pt x="1258" y="8"/>
                  </a:lnTo>
                  <a:lnTo>
                    <a:pt x="1245" y="5"/>
                  </a:lnTo>
                  <a:lnTo>
                    <a:pt x="1233" y="3"/>
                  </a:lnTo>
                  <a:lnTo>
                    <a:pt x="1219" y="1"/>
                  </a:lnTo>
                  <a:lnTo>
                    <a:pt x="1206" y="0"/>
                  </a:lnTo>
                  <a:lnTo>
                    <a:pt x="1192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1"/>
                  </a:lnTo>
                  <a:lnTo>
                    <a:pt x="223" y="3"/>
                  </a:lnTo>
                  <a:lnTo>
                    <a:pt x="209" y="5"/>
                  </a:lnTo>
                  <a:lnTo>
                    <a:pt x="197" y="8"/>
                  </a:lnTo>
                  <a:lnTo>
                    <a:pt x="184" y="11"/>
                  </a:lnTo>
                  <a:lnTo>
                    <a:pt x="172" y="14"/>
                  </a:lnTo>
                  <a:lnTo>
                    <a:pt x="160" y="19"/>
                  </a:lnTo>
                  <a:lnTo>
                    <a:pt x="149" y="24"/>
                  </a:lnTo>
                  <a:lnTo>
                    <a:pt x="137" y="29"/>
                  </a:lnTo>
                  <a:lnTo>
                    <a:pt x="126" y="34"/>
                  </a:lnTo>
                  <a:lnTo>
                    <a:pt x="116" y="40"/>
                  </a:lnTo>
                  <a:lnTo>
                    <a:pt x="105" y="48"/>
                  </a:lnTo>
                  <a:lnTo>
                    <a:pt x="95" y="54"/>
                  </a:lnTo>
                  <a:lnTo>
                    <a:pt x="85" y="62"/>
                  </a:lnTo>
                  <a:lnTo>
                    <a:pt x="77" y="69"/>
                  </a:lnTo>
                  <a:lnTo>
                    <a:pt x="68" y="78"/>
                  </a:lnTo>
                  <a:lnTo>
                    <a:pt x="60" y="87"/>
                  </a:lnTo>
                  <a:lnTo>
                    <a:pt x="52" y="96"/>
                  </a:lnTo>
                  <a:lnTo>
                    <a:pt x="45" y="105"/>
                  </a:lnTo>
                  <a:lnTo>
                    <a:pt x="38" y="115"/>
                  </a:lnTo>
                  <a:lnTo>
                    <a:pt x="31" y="125"/>
                  </a:lnTo>
                  <a:lnTo>
                    <a:pt x="25" y="135"/>
                  </a:lnTo>
                  <a:lnTo>
                    <a:pt x="19" y="145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7" y="179"/>
                  </a:lnTo>
                  <a:lnTo>
                    <a:pt x="4" y="191"/>
                  </a:lnTo>
                  <a:lnTo>
                    <a:pt x="3" y="202"/>
                  </a:lnTo>
                  <a:lnTo>
                    <a:pt x="0" y="215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1"/>
                  </a:lnTo>
                  <a:lnTo>
                    <a:pt x="3" y="514"/>
                  </a:lnTo>
                  <a:lnTo>
                    <a:pt x="4" y="525"/>
                  </a:lnTo>
                  <a:lnTo>
                    <a:pt x="7" y="537"/>
                  </a:lnTo>
                  <a:lnTo>
                    <a:pt x="11" y="548"/>
                  </a:lnTo>
                  <a:lnTo>
                    <a:pt x="15" y="560"/>
                  </a:lnTo>
                  <a:lnTo>
                    <a:pt x="19" y="570"/>
                  </a:lnTo>
                  <a:lnTo>
                    <a:pt x="25" y="581"/>
                  </a:lnTo>
                  <a:lnTo>
                    <a:pt x="31" y="591"/>
                  </a:lnTo>
                  <a:lnTo>
                    <a:pt x="38" y="601"/>
                  </a:lnTo>
                  <a:lnTo>
                    <a:pt x="45" y="610"/>
                  </a:lnTo>
                  <a:lnTo>
                    <a:pt x="52" y="620"/>
                  </a:lnTo>
                  <a:lnTo>
                    <a:pt x="60" y="629"/>
                  </a:lnTo>
                  <a:lnTo>
                    <a:pt x="68" y="638"/>
                  </a:lnTo>
                  <a:lnTo>
                    <a:pt x="77" y="645"/>
                  </a:lnTo>
                  <a:lnTo>
                    <a:pt x="85" y="654"/>
                  </a:lnTo>
                  <a:lnTo>
                    <a:pt x="95" y="662"/>
                  </a:lnTo>
                  <a:lnTo>
                    <a:pt x="105" y="668"/>
                  </a:lnTo>
                  <a:lnTo>
                    <a:pt x="116" y="676"/>
                  </a:lnTo>
                  <a:lnTo>
                    <a:pt x="126" y="681"/>
                  </a:lnTo>
                  <a:lnTo>
                    <a:pt x="137" y="687"/>
                  </a:lnTo>
                  <a:lnTo>
                    <a:pt x="149" y="692"/>
                  </a:lnTo>
                  <a:lnTo>
                    <a:pt x="160" y="697"/>
                  </a:lnTo>
                  <a:lnTo>
                    <a:pt x="172" y="701"/>
                  </a:lnTo>
                  <a:lnTo>
                    <a:pt x="184" y="705"/>
                  </a:lnTo>
                  <a:lnTo>
                    <a:pt x="197" y="709"/>
                  </a:lnTo>
                  <a:lnTo>
                    <a:pt x="209" y="711"/>
                  </a:lnTo>
                  <a:lnTo>
                    <a:pt x="223" y="714"/>
                  </a:lnTo>
                  <a:lnTo>
                    <a:pt x="236" y="715"/>
                  </a:lnTo>
                  <a:lnTo>
                    <a:pt x="250" y="716"/>
                  </a:lnTo>
                  <a:lnTo>
                    <a:pt x="264" y="716"/>
                  </a:lnTo>
                  <a:lnTo>
                    <a:pt x="264" y="71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2920" y="3293640"/>
              <a:ext cx="1207080" cy="733680"/>
            </a:xfrm>
            <a:custGeom>
              <a:avLst/>
              <a:gdLst/>
              <a:ahLst/>
              <a:rect l="l" t="t" r="r" b="b"/>
              <a:pathLst>
                <a:path w="1456" h="716">
                  <a:moveTo>
                    <a:pt x="264" y="716"/>
                  </a:moveTo>
                  <a:lnTo>
                    <a:pt x="1192" y="716"/>
                  </a:lnTo>
                  <a:lnTo>
                    <a:pt x="1206" y="716"/>
                  </a:lnTo>
                  <a:lnTo>
                    <a:pt x="1219" y="715"/>
                  </a:lnTo>
                  <a:lnTo>
                    <a:pt x="1233" y="714"/>
                  </a:lnTo>
                  <a:lnTo>
                    <a:pt x="1245" y="711"/>
                  </a:lnTo>
                  <a:lnTo>
                    <a:pt x="1258" y="709"/>
                  </a:lnTo>
                  <a:lnTo>
                    <a:pt x="1271" y="705"/>
                  </a:lnTo>
                  <a:lnTo>
                    <a:pt x="1283" y="701"/>
                  </a:lnTo>
                  <a:lnTo>
                    <a:pt x="1294" y="697"/>
                  </a:lnTo>
                  <a:lnTo>
                    <a:pt x="1307" y="692"/>
                  </a:lnTo>
                  <a:lnTo>
                    <a:pt x="1318" y="687"/>
                  </a:lnTo>
                  <a:lnTo>
                    <a:pt x="1329" y="681"/>
                  </a:lnTo>
                  <a:lnTo>
                    <a:pt x="1340" y="676"/>
                  </a:lnTo>
                  <a:lnTo>
                    <a:pt x="1350" y="668"/>
                  </a:lnTo>
                  <a:lnTo>
                    <a:pt x="1360" y="662"/>
                  </a:lnTo>
                  <a:lnTo>
                    <a:pt x="1370" y="654"/>
                  </a:lnTo>
                  <a:lnTo>
                    <a:pt x="1379" y="645"/>
                  </a:lnTo>
                  <a:lnTo>
                    <a:pt x="1388" y="638"/>
                  </a:lnTo>
                  <a:lnTo>
                    <a:pt x="1396" y="629"/>
                  </a:lnTo>
                  <a:lnTo>
                    <a:pt x="1403" y="620"/>
                  </a:lnTo>
                  <a:lnTo>
                    <a:pt x="1412" y="610"/>
                  </a:lnTo>
                  <a:lnTo>
                    <a:pt x="1419" y="601"/>
                  </a:lnTo>
                  <a:lnTo>
                    <a:pt x="1424" y="591"/>
                  </a:lnTo>
                  <a:lnTo>
                    <a:pt x="1430" y="581"/>
                  </a:lnTo>
                  <a:lnTo>
                    <a:pt x="1435" y="570"/>
                  </a:lnTo>
                  <a:lnTo>
                    <a:pt x="1440" y="560"/>
                  </a:lnTo>
                  <a:lnTo>
                    <a:pt x="1444" y="548"/>
                  </a:lnTo>
                  <a:lnTo>
                    <a:pt x="1448" y="537"/>
                  </a:lnTo>
                  <a:lnTo>
                    <a:pt x="1451" y="525"/>
                  </a:lnTo>
                  <a:lnTo>
                    <a:pt x="1454" y="514"/>
                  </a:lnTo>
                  <a:lnTo>
                    <a:pt x="1455" y="501"/>
                  </a:lnTo>
                  <a:lnTo>
                    <a:pt x="1456" y="490"/>
                  </a:lnTo>
                  <a:lnTo>
                    <a:pt x="1456" y="477"/>
                  </a:lnTo>
                  <a:lnTo>
                    <a:pt x="1456" y="477"/>
                  </a:lnTo>
                  <a:lnTo>
                    <a:pt x="1456" y="477"/>
                  </a:lnTo>
                  <a:lnTo>
                    <a:pt x="1456" y="239"/>
                  </a:lnTo>
                  <a:lnTo>
                    <a:pt x="1456" y="226"/>
                  </a:lnTo>
                  <a:lnTo>
                    <a:pt x="1455" y="215"/>
                  </a:lnTo>
                  <a:lnTo>
                    <a:pt x="1454" y="202"/>
                  </a:lnTo>
                  <a:lnTo>
                    <a:pt x="1451" y="191"/>
                  </a:lnTo>
                  <a:lnTo>
                    <a:pt x="1448" y="179"/>
                  </a:lnTo>
                  <a:lnTo>
                    <a:pt x="1444" y="168"/>
                  </a:lnTo>
                  <a:lnTo>
                    <a:pt x="1440" y="157"/>
                  </a:lnTo>
                  <a:lnTo>
                    <a:pt x="1435" y="145"/>
                  </a:lnTo>
                  <a:lnTo>
                    <a:pt x="1430" y="135"/>
                  </a:lnTo>
                  <a:lnTo>
                    <a:pt x="1424" y="125"/>
                  </a:lnTo>
                  <a:lnTo>
                    <a:pt x="1419" y="115"/>
                  </a:lnTo>
                  <a:lnTo>
                    <a:pt x="1412" y="105"/>
                  </a:lnTo>
                  <a:lnTo>
                    <a:pt x="1403" y="96"/>
                  </a:lnTo>
                  <a:lnTo>
                    <a:pt x="1396" y="87"/>
                  </a:lnTo>
                  <a:lnTo>
                    <a:pt x="1388" y="78"/>
                  </a:lnTo>
                  <a:lnTo>
                    <a:pt x="1379" y="69"/>
                  </a:lnTo>
                  <a:lnTo>
                    <a:pt x="1370" y="62"/>
                  </a:lnTo>
                  <a:lnTo>
                    <a:pt x="1360" y="54"/>
                  </a:lnTo>
                  <a:lnTo>
                    <a:pt x="1350" y="48"/>
                  </a:lnTo>
                  <a:lnTo>
                    <a:pt x="1340" y="40"/>
                  </a:lnTo>
                  <a:lnTo>
                    <a:pt x="1329" y="34"/>
                  </a:lnTo>
                  <a:lnTo>
                    <a:pt x="1318" y="29"/>
                  </a:lnTo>
                  <a:lnTo>
                    <a:pt x="1307" y="24"/>
                  </a:lnTo>
                  <a:lnTo>
                    <a:pt x="1296" y="19"/>
                  </a:lnTo>
                  <a:lnTo>
                    <a:pt x="1283" y="14"/>
                  </a:lnTo>
                  <a:lnTo>
                    <a:pt x="1271" y="11"/>
                  </a:lnTo>
                  <a:lnTo>
                    <a:pt x="1258" y="8"/>
                  </a:lnTo>
                  <a:lnTo>
                    <a:pt x="1245" y="5"/>
                  </a:lnTo>
                  <a:lnTo>
                    <a:pt x="1233" y="3"/>
                  </a:lnTo>
                  <a:lnTo>
                    <a:pt x="1219" y="1"/>
                  </a:lnTo>
                  <a:lnTo>
                    <a:pt x="1206" y="0"/>
                  </a:lnTo>
                  <a:lnTo>
                    <a:pt x="1192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1"/>
                  </a:lnTo>
                  <a:lnTo>
                    <a:pt x="223" y="3"/>
                  </a:lnTo>
                  <a:lnTo>
                    <a:pt x="209" y="5"/>
                  </a:lnTo>
                  <a:lnTo>
                    <a:pt x="197" y="8"/>
                  </a:lnTo>
                  <a:lnTo>
                    <a:pt x="184" y="11"/>
                  </a:lnTo>
                  <a:lnTo>
                    <a:pt x="172" y="14"/>
                  </a:lnTo>
                  <a:lnTo>
                    <a:pt x="160" y="19"/>
                  </a:lnTo>
                  <a:lnTo>
                    <a:pt x="149" y="24"/>
                  </a:lnTo>
                  <a:lnTo>
                    <a:pt x="137" y="29"/>
                  </a:lnTo>
                  <a:lnTo>
                    <a:pt x="126" y="34"/>
                  </a:lnTo>
                  <a:lnTo>
                    <a:pt x="116" y="40"/>
                  </a:lnTo>
                  <a:lnTo>
                    <a:pt x="105" y="48"/>
                  </a:lnTo>
                  <a:lnTo>
                    <a:pt x="95" y="54"/>
                  </a:lnTo>
                  <a:lnTo>
                    <a:pt x="85" y="62"/>
                  </a:lnTo>
                  <a:lnTo>
                    <a:pt x="77" y="69"/>
                  </a:lnTo>
                  <a:lnTo>
                    <a:pt x="68" y="78"/>
                  </a:lnTo>
                  <a:lnTo>
                    <a:pt x="60" y="87"/>
                  </a:lnTo>
                  <a:lnTo>
                    <a:pt x="52" y="96"/>
                  </a:lnTo>
                  <a:lnTo>
                    <a:pt x="45" y="105"/>
                  </a:lnTo>
                  <a:lnTo>
                    <a:pt x="38" y="115"/>
                  </a:lnTo>
                  <a:lnTo>
                    <a:pt x="31" y="125"/>
                  </a:lnTo>
                  <a:lnTo>
                    <a:pt x="25" y="135"/>
                  </a:lnTo>
                  <a:lnTo>
                    <a:pt x="19" y="145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7" y="179"/>
                  </a:lnTo>
                  <a:lnTo>
                    <a:pt x="4" y="191"/>
                  </a:lnTo>
                  <a:lnTo>
                    <a:pt x="3" y="202"/>
                  </a:lnTo>
                  <a:lnTo>
                    <a:pt x="0" y="215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0" y="501"/>
                  </a:lnTo>
                  <a:lnTo>
                    <a:pt x="3" y="514"/>
                  </a:lnTo>
                  <a:lnTo>
                    <a:pt x="4" y="525"/>
                  </a:lnTo>
                  <a:lnTo>
                    <a:pt x="7" y="537"/>
                  </a:lnTo>
                  <a:lnTo>
                    <a:pt x="11" y="548"/>
                  </a:lnTo>
                  <a:lnTo>
                    <a:pt x="15" y="560"/>
                  </a:lnTo>
                  <a:lnTo>
                    <a:pt x="19" y="570"/>
                  </a:lnTo>
                  <a:lnTo>
                    <a:pt x="25" y="581"/>
                  </a:lnTo>
                  <a:lnTo>
                    <a:pt x="31" y="591"/>
                  </a:lnTo>
                  <a:lnTo>
                    <a:pt x="38" y="601"/>
                  </a:lnTo>
                  <a:lnTo>
                    <a:pt x="45" y="610"/>
                  </a:lnTo>
                  <a:lnTo>
                    <a:pt x="52" y="620"/>
                  </a:lnTo>
                  <a:lnTo>
                    <a:pt x="60" y="629"/>
                  </a:lnTo>
                  <a:lnTo>
                    <a:pt x="68" y="638"/>
                  </a:lnTo>
                  <a:lnTo>
                    <a:pt x="77" y="645"/>
                  </a:lnTo>
                  <a:lnTo>
                    <a:pt x="85" y="654"/>
                  </a:lnTo>
                  <a:lnTo>
                    <a:pt x="95" y="662"/>
                  </a:lnTo>
                  <a:lnTo>
                    <a:pt x="105" y="668"/>
                  </a:lnTo>
                  <a:lnTo>
                    <a:pt x="116" y="676"/>
                  </a:lnTo>
                  <a:lnTo>
                    <a:pt x="126" y="681"/>
                  </a:lnTo>
                  <a:lnTo>
                    <a:pt x="137" y="687"/>
                  </a:lnTo>
                  <a:lnTo>
                    <a:pt x="149" y="692"/>
                  </a:lnTo>
                  <a:lnTo>
                    <a:pt x="160" y="697"/>
                  </a:lnTo>
                  <a:lnTo>
                    <a:pt x="172" y="701"/>
                  </a:lnTo>
                  <a:lnTo>
                    <a:pt x="184" y="705"/>
                  </a:lnTo>
                  <a:lnTo>
                    <a:pt x="197" y="709"/>
                  </a:lnTo>
                  <a:lnTo>
                    <a:pt x="209" y="711"/>
                  </a:lnTo>
                  <a:lnTo>
                    <a:pt x="223" y="714"/>
                  </a:lnTo>
                  <a:lnTo>
                    <a:pt x="236" y="715"/>
                  </a:lnTo>
                  <a:lnTo>
                    <a:pt x="250" y="716"/>
                  </a:lnTo>
                  <a:lnTo>
                    <a:pt x="264" y="716"/>
                  </a:lnTo>
                  <a:lnTo>
                    <a:pt x="264" y="71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05240" y="3421080"/>
              <a:ext cx="16480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EmailNotif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8920" y="3649680"/>
              <a:ext cx="1433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tion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81680" y="3286440"/>
              <a:ext cx="1319040" cy="734040"/>
            </a:xfrm>
            <a:custGeom>
              <a:avLst/>
              <a:gdLst/>
              <a:ahLst/>
              <a:rect l="l" t="t" r="r" b="b"/>
              <a:pathLst>
                <a:path w="1592" h="716">
                  <a:moveTo>
                    <a:pt x="264" y="716"/>
                  </a:moveTo>
                  <a:lnTo>
                    <a:pt x="1328" y="716"/>
                  </a:lnTo>
                  <a:lnTo>
                    <a:pt x="1342" y="716"/>
                  </a:lnTo>
                  <a:lnTo>
                    <a:pt x="1354" y="715"/>
                  </a:lnTo>
                  <a:lnTo>
                    <a:pt x="1368" y="713"/>
                  </a:lnTo>
                  <a:lnTo>
                    <a:pt x="1381" y="711"/>
                  </a:lnTo>
                  <a:lnTo>
                    <a:pt x="1393" y="708"/>
                  </a:lnTo>
                  <a:lnTo>
                    <a:pt x="1406" y="705"/>
                  </a:lnTo>
                  <a:lnTo>
                    <a:pt x="1419" y="701"/>
                  </a:lnTo>
                  <a:lnTo>
                    <a:pt x="1430" y="697"/>
                  </a:lnTo>
                  <a:lnTo>
                    <a:pt x="1442" y="692"/>
                  </a:lnTo>
                  <a:lnTo>
                    <a:pt x="1453" y="687"/>
                  </a:lnTo>
                  <a:lnTo>
                    <a:pt x="1465" y="681"/>
                  </a:lnTo>
                  <a:lnTo>
                    <a:pt x="1476" y="675"/>
                  </a:lnTo>
                  <a:lnTo>
                    <a:pt x="1486" y="668"/>
                  </a:lnTo>
                  <a:lnTo>
                    <a:pt x="1495" y="662"/>
                  </a:lnTo>
                  <a:lnTo>
                    <a:pt x="1505" y="654"/>
                  </a:lnTo>
                  <a:lnTo>
                    <a:pt x="1515" y="645"/>
                  </a:lnTo>
                  <a:lnTo>
                    <a:pt x="1523" y="638"/>
                  </a:lnTo>
                  <a:lnTo>
                    <a:pt x="1532" y="629"/>
                  </a:lnTo>
                  <a:lnTo>
                    <a:pt x="1539" y="620"/>
                  </a:lnTo>
                  <a:lnTo>
                    <a:pt x="1547" y="610"/>
                  </a:lnTo>
                  <a:lnTo>
                    <a:pt x="1554" y="601"/>
                  </a:lnTo>
                  <a:lnTo>
                    <a:pt x="1560" y="591"/>
                  </a:lnTo>
                  <a:lnTo>
                    <a:pt x="1565" y="581"/>
                  </a:lnTo>
                  <a:lnTo>
                    <a:pt x="1571" y="569"/>
                  </a:lnTo>
                  <a:lnTo>
                    <a:pt x="1575" y="559"/>
                  </a:lnTo>
                  <a:lnTo>
                    <a:pt x="1579" y="548"/>
                  </a:lnTo>
                  <a:lnTo>
                    <a:pt x="1583" y="537"/>
                  </a:lnTo>
                  <a:lnTo>
                    <a:pt x="1586" y="525"/>
                  </a:lnTo>
                  <a:lnTo>
                    <a:pt x="1589" y="514"/>
                  </a:lnTo>
                  <a:lnTo>
                    <a:pt x="1590" y="501"/>
                  </a:lnTo>
                  <a:lnTo>
                    <a:pt x="1592" y="490"/>
                  </a:lnTo>
                  <a:lnTo>
                    <a:pt x="1592" y="477"/>
                  </a:lnTo>
                  <a:lnTo>
                    <a:pt x="1592" y="477"/>
                  </a:lnTo>
                  <a:lnTo>
                    <a:pt x="1592" y="477"/>
                  </a:lnTo>
                  <a:lnTo>
                    <a:pt x="1592" y="238"/>
                  </a:lnTo>
                  <a:lnTo>
                    <a:pt x="1592" y="226"/>
                  </a:lnTo>
                  <a:lnTo>
                    <a:pt x="1590" y="214"/>
                  </a:lnTo>
                  <a:lnTo>
                    <a:pt x="1589" y="202"/>
                  </a:lnTo>
                  <a:lnTo>
                    <a:pt x="1586" y="190"/>
                  </a:lnTo>
                  <a:lnTo>
                    <a:pt x="1583" y="179"/>
                  </a:lnTo>
                  <a:lnTo>
                    <a:pt x="1579" y="168"/>
                  </a:lnTo>
                  <a:lnTo>
                    <a:pt x="1575" y="156"/>
                  </a:lnTo>
                  <a:lnTo>
                    <a:pt x="1571" y="145"/>
                  </a:lnTo>
                  <a:lnTo>
                    <a:pt x="1565" y="135"/>
                  </a:lnTo>
                  <a:lnTo>
                    <a:pt x="1560" y="125"/>
                  </a:lnTo>
                  <a:lnTo>
                    <a:pt x="1554" y="115"/>
                  </a:lnTo>
                  <a:lnTo>
                    <a:pt x="1547" y="105"/>
                  </a:lnTo>
                  <a:lnTo>
                    <a:pt x="1539" y="96"/>
                  </a:lnTo>
                  <a:lnTo>
                    <a:pt x="1532" y="87"/>
                  </a:lnTo>
                  <a:lnTo>
                    <a:pt x="1523" y="78"/>
                  </a:lnTo>
                  <a:lnTo>
                    <a:pt x="1515" y="69"/>
                  </a:lnTo>
                  <a:lnTo>
                    <a:pt x="1505" y="62"/>
                  </a:lnTo>
                  <a:lnTo>
                    <a:pt x="1495" y="54"/>
                  </a:lnTo>
                  <a:lnTo>
                    <a:pt x="1486" y="48"/>
                  </a:lnTo>
                  <a:lnTo>
                    <a:pt x="1476" y="40"/>
                  </a:lnTo>
                  <a:lnTo>
                    <a:pt x="1465" y="34"/>
                  </a:lnTo>
                  <a:lnTo>
                    <a:pt x="1453" y="29"/>
                  </a:lnTo>
                  <a:lnTo>
                    <a:pt x="1442" y="24"/>
                  </a:lnTo>
                  <a:lnTo>
                    <a:pt x="1431" y="19"/>
                  </a:lnTo>
                  <a:lnTo>
                    <a:pt x="1419" y="14"/>
                  </a:lnTo>
                  <a:lnTo>
                    <a:pt x="1406" y="11"/>
                  </a:lnTo>
                  <a:lnTo>
                    <a:pt x="1393" y="7"/>
                  </a:lnTo>
                  <a:lnTo>
                    <a:pt x="1381" y="5"/>
                  </a:lnTo>
                  <a:lnTo>
                    <a:pt x="1368" y="2"/>
                  </a:lnTo>
                  <a:lnTo>
                    <a:pt x="1354" y="1"/>
                  </a:lnTo>
                  <a:lnTo>
                    <a:pt x="1342" y="0"/>
                  </a:lnTo>
                  <a:lnTo>
                    <a:pt x="1328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1"/>
                  </a:lnTo>
                  <a:lnTo>
                    <a:pt x="223" y="2"/>
                  </a:lnTo>
                  <a:lnTo>
                    <a:pt x="211" y="5"/>
                  </a:lnTo>
                  <a:lnTo>
                    <a:pt x="198" y="7"/>
                  </a:lnTo>
                  <a:lnTo>
                    <a:pt x="186" y="11"/>
                  </a:lnTo>
                  <a:lnTo>
                    <a:pt x="173" y="14"/>
                  </a:lnTo>
                  <a:lnTo>
                    <a:pt x="160" y="19"/>
                  </a:lnTo>
                  <a:lnTo>
                    <a:pt x="149" y="24"/>
                  </a:lnTo>
                  <a:lnTo>
                    <a:pt x="138" y="29"/>
                  </a:lnTo>
                  <a:lnTo>
                    <a:pt x="127" y="34"/>
                  </a:lnTo>
                  <a:lnTo>
                    <a:pt x="116" y="40"/>
                  </a:lnTo>
                  <a:lnTo>
                    <a:pt x="106" y="48"/>
                  </a:lnTo>
                  <a:lnTo>
                    <a:pt x="96" y="54"/>
                  </a:lnTo>
                  <a:lnTo>
                    <a:pt x="86" y="62"/>
                  </a:lnTo>
                  <a:lnTo>
                    <a:pt x="77" y="69"/>
                  </a:lnTo>
                  <a:lnTo>
                    <a:pt x="68" y="78"/>
                  </a:lnTo>
                  <a:lnTo>
                    <a:pt x="60" y="87"/>
                  </a:lnTo>
                  <a:lnTo>
                    <a:pt x="51" y="96"/>
                  </a:lnTo>
                  <a:lnTo>
                    <a:pt x="44" y="105"/>
                  </a:lnTo>
                  <a:lnTo>
                    <a:pt x="38" y="115"/>
                  </a:lnTo>
                  <a:lnTo>
                    <a:pt x="32" y="125"/>
                  </a:lnTo>
                  <a:lnTo>
                    <a:pt x="26" y="135"/>
                  </a:lnTo>
                  <a:lnTo>
                    <a:pt x="21" y="145"/>
                  </a:lnTo>
                  <a:lnTo>
                    <a:pt x="15" y="156"/>
                  </a:lnTo>
                  <a:lnTo>
                    <a:pt x="11" y="168"/>
                  </a:lnTo>
                  <a:lnTo>
                    <a:pt x="8" y="179"/>
                  </a:lnTo>
                  <a:lnTo>
                    <a:pt x="5" y="190"/>
                  </a:lnTo>
                  <a:lnTo>
                    <a:pt x="3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1" y="501"/>
                  </a:lnTo>
                  <a:lnTo>
                    <a:pt x="3" y="514"/>
                  </a:lnTo>
                  <a:lnTo>
                    <a:pt x="5" y="525"/>
                  </a:lnTo>
                  <a:lnTo>
                    <a:pt x="8" y="537"/>
                  </a:lnTo>
                  <a:lnTo>
                    <a:pt x="11" y="548"/>
                  </a:lnTo>
                  <a:lnTo>
                    <a:pt x="15" y="559"/>
                  </a:lnTo>
                  <a:lnTo>
                    <a:pt x="21" y="569"/>
                  </a:lnTo>
                  <a:lnTo>
                    <a:pt x="25" y="581"/>
                  </a:lnTo>
                  <a:lnTo>
                    <a:pt x="32" y="591"/>
                  </a:lnTo>
                  <a:lnTo>
                    <a:pt x="38" y="601"/>
                  </a:lnTo>
                  <a:lnTo>
                    <a:pt x="44" y="610"/>
                  </a:lnTo>
                  <a:lnTo>
                    <a:pt x="51" y="620"/>
                  </a:lnTo>
                  <a:lnTo>
                    <a:pt x="60" y="629"/>
                  </a:lnTo>
                  <a:lnTo>
                    <a:pt x="68" y="638"/>
                  </a:lnTo>
                  <a:lnTo>
                    <a:pt x="77" y="645"/>
                  </a:lnTo>
                  <a:lnTo>
                    <a:pt x="86" y="654"/>
                  </a:lnTo>
                  <a:lnTo>
                    <a:pt x="96" y="662"/>
                  </a:lnTo>
                  <a:lnTo>
                    <a:pt x="106" y="668"/>
                  </a:lnTo>
                  <a:lnTo>
                    <a:pt x="116" y="675"/>
                  </a:lnTo>
                  <a:lnTo>
                    <a:pt x="127" y="681"/>
                  </a:lnTo>
                  <a:lnTo>
                    <a:pt x="138" y="687"/>
                  </a:lnTo>
                  <a:lnTo>
                    <a:pt x="149" y="692"/>
                  </a:lnTo>
                  <a:lnTo>
                    <a:pt x="160" y="697"/>
                  </a:lnTo>
                  <a:lnTo>
                    <a:pt x="173" y="701"/>
                  </a:lnTo>
                  <a:lnTo>
                    <a:pt x="186" y="705"/>
                  </a:lnTo>
                  <a:lnTo>
                    <a:pt x="198" y="708"/>
                  </a:lnTo>
                  <a:lnTo>
                    <a:pt x="211" y="711"/>
                  </a:lnTo>
                  <a:lnTo>
                    <a:pt x="223" y="713"/>
                  </a:lnTo>
                  <a:lnTo>
                    <a:pt x="236" y="715"/>
                  </a:lnTo>
                  <a:lnTo>
                    <a:pt x="250" y="716"/>
                  </a:lnTo>
                  <a:lnTo>
                    <a:pt x="264" y="716"/>
                  </a:lnTo>
                  <a:lnTo>
                    <a:pt x="264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1680" y="3286440"/>
              <a:ext cx="1319040" cy="734040"/>
            </a:xfrm>
            <a:custGeom>
              <a:avLst/>
              <a:gdLst/>
              <a:ahLst/>
              <a:rect l="l" t="t" r="r" b="b"/>
              <a:pathLst>
                <a:path w="1592" h="716">
                  <a:moveTo>
                    <a:pt x="264" y="716"/>
                  </a:moveTo>
                  <a:lnTo>
                    <a:pt x="1328" y="716"/>
                  </a:lnTo>
                  <a:lnTo>
                    <a:pt x="1342" y="716"/>
                  </a:lnTo>
                  <a:lnTo>
                    <a:pt x="1354" y="715"/>
                  </a:lnTo>
                  <a:lnTo>
                    <a:pt x="1368" y="713"/>
                  </a:lnTo>
                  <a:lnTo>
                    <a:pt x="1381" y="711"/>
                  </a:lnTo>
                  <a:lnTo>
                    <a:pt x="1393" y="708"/>
                  </a:lnTo>
                  <a:lnTo>
                    <a:pt x="1406" y="705"/>
                  </a:lnTo>
                  <a:lnTo>
                    <a:pt x="1419" y="701"/>
                  </a:lnTo>
                  <a:lnTo>
                    <a:pt x="1430" y="697"/>
                  </a:lnTo>
                  <a:lnTo>
                    <a:pt x="1442" y="692"/>
                  </a:lnTo>
                  <a:lnTo>
                    <a:pt x="1453" y="687"/>
                  </a:lnTo>
                  <a:lnTo>
                    <a:pt x="1465" y="681"/>
                  </a:lnTo>
                  <a:lnTo>
                    <a:pt x="1476" y="675"/>
                  </a:lnTo>
                  <a:lnTo>
                    <a:pt x="1486" y="668"/>
                  </a:lnTo>
                  <a:lnTo>
                    <a:pt x="1495" y="662"/>
                  </a:lnTo>
                  <a:lnTo>
                    <a:pt x="1505" y="654"/>
                  </a:lnTo>
                  <a:lnTo>
                    <a:pt x="1515" y="645"/>
                  </a:lnTo>
                  <a:lnTo>
                    <a:pt x="1523" y="638"/>
                  </a:lnTo>
                  <a:lnTo>
                    <a:pt x="1532" y="629"/>
                  </a:lnTo>
                  <a:lnTo>
                    <a:pt x="1539" y="620"/>
                  </a:lnTo>
                  <a:lnTo>
                    <a:pt x="1547" y="610"/>
                  </a:lnTo>
                  <a:lnTo>
                    <a:pt x="1554" y="601"/>
                  </a:lnTo>
                  <a:lnTo>
                    <a:pt x="1560" y="591"/>
                  </a:lnTo>
                  <a:lnTo>
                    <a:pt x="1565" y="581"/>
                  </a:lnTo>
                  <a:lnTo>
                    <a:pt x="1571" y="569"/>
                  </a:lnTo>
                  <a:lnTo>
                    <a:pt x="1575" y="559"/>
                  </a:lnTo>
                  <a:lnTo>
                    <a:pt x="1579" y="548"/>
                  </a:lnTo>
                  <a:lnTo>
                    <a:pt x="1583" y="537"/>
                  </a:lnTo>
                  <a:lnTo>
                    <a:pt x="1586" y="525"/>
                  </a:lnTo>
                  <a:lnTo>
                    <a:pt x="1589" y="514"/>
                  </a:lnTo>
                  <a:lnTo>
                    <a:pt x="1590" y="501"/>
                  </a:lnTo>
                  <a:lnTo>
                    <a:pt x="1592" y="490"/>
                  </a:lnTo>
                  <a:lnTo>
                    <a:pt x="1592" y="477"/>
                  </a:lnTo>
                  <a:lnTo>
                    <a:pt x="1592" y="477"/>
                  </a:lnTo>
                  <a:lnTo>
                    <a:pt x="1592" y="477"/>
                  </a:lnTo>
                  <a:lnTo>
                    <a:pt x="1592" y="238"/>
                  </a:lnTo>
                  <a:lnTo>
                    <a:pt x="1592" y="226"/>
                  </a:lnTo>
                  <a:lnTo>
                    <a:pt x="1590" y="214"/>
                  </a:lnTo>
                  <a:lnTo>
                    <a:pt x="1589" y="202"/>
                  </a:lnTo>
                  <a:lnTo>
                    <a:pt x="1586" y="190"/>
                  </a:lnTo>
                  <a:lnTo>
                    <a:pt x="1583" y="179"/>
                  </a:lnTo>
                  <a:lnTo>
                    <a:pt x="1579" y="168"/>
                  </a:lnTo>
                  <a:lnTo>
                    <a:pt x="1575" y="156"/>
                  </a:lnTo>
                  <a:lnTo>
                    <a:pt x="1571" y="145"/>
                  </a:lnTo>
                  <a:lnTo>
                    <a:pt x="1565" y="135"/>
                  </a:lnTo>
                  <a:lnTo>
                    <a:pt x="1560" y="125"/>
                  </a:lnTo>
                  <a:lnTo>
                    <a:pt x="1554" y="115"/>
                  </a:lnTo>
                  <a:lnTo>
                    <a:pt x="1547" y="105"/>
                  </a:lnTo>
                  <a:lnTo>
                    <a:pt x="1539" y="96"/>
                  </a:lnTo>
                  <a:lnTo>
                    <a:pt x="1532" y="87"/>
                  </a:lnTo>
                  <a:lnTo>
                    <a:pt x="1523" y="78"/>
                  </a:lnTo>
                  <a:lnTo>
                    <a:pt x="1515" y="69"/>
                  </a:lnTo>
                  <a:lnTo>
                    <a:pt x="1505" y="62"/>
                  </a:lnTo>
                  <a:lnTo>
                    <a:pt x="1495" y="54"/>
                  </a:lnTo>
                  <a:lnTo>
                    <a:pt x="1486" y="48"/>
                  </a:lnTo>
                  <a:lnTo>
                    <a:pt x="1476" y="40"/>
                  </a:lnTo>
                  <a:lnTo>
                    <a:pt x="1465" y="34"/>
                  </a:lnTo>
                  <a:lnTo>
                    <a:pt x="1453" y="29"/>
                  </a:lnTo>
                  <a:lnTo>
                    <a:pt x="1442" y="24"/>
                  </a:lnTo>
                  <a:lnTo>
                    <a:pt x="1431" y="19"/>
                  </a:lnTo>
                  <a:lnTo>
                    <a:pt x="1419" y="14"/>
                  </a:lnTo>
                  <a:lnTo>
                    <a:pt x="1406" y="11"/>
                  </a:lnTo>
                  <a:lnTo>
                    <a:pt x="1393" y="7"/>
                  </a:lnTo>
                  <a:lnTo>
                    <a:pt x="1381" y="5"/>
                  </a:lnTo>
                  <a:lnTo>
                    <a:pt x="1368" y="2"/>
                  </a:lnTo>
                  <a:lnTo>
                    <a:pt x="1354" y="1"/>
                  </a:lnTo>
                  <a:lnTo>
                    <a:pt x="1342" y="0"/>
                  </a:lnTo>
                  <a:lnTo>
                    <a:pt x="1328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1"/>
                  </a:lnTo>
                  <a:lnTo>
                    <a:pt x="223" y="2"/>
                  </a:lnTo>
                  <a:lnTo>
                    <a:pt x="211" y="5"/>
                  </a:lnTo>
                  <a:lnTo>
                    <a:pt x="198" y="7"/>
                  </a:lnTo>
                  <a:lnTo>
                    <a:pt x="186" y="11"/>
                  </a:lnTo>
                  <a:lnTo>
                    <a:pt x="173" y="14"/>
                  </a:lnTo>
                  <a:lnTo>
                    <a:pt x="160" y="19"/>
                  </a:lnTo>
                  <a:lnTo>
                    <a:pt x="149" y="24"/>
                  </a:lnTo>
                  <a:lnTo>
                    <a:pt x="138" y="29"/>
                  </a:lnTo>
                  <a:lnTo>
                    <a:pt x="127" y="34"/>
                  </a:lnTo>
                  <a:lnTo>
                    <a:pt x="116" y="40"/>
                  </a:lnTo>
                  <a:lnTo>
                    <a:pt x="106" y="48"/>
                  </a:lnTo>
                  <a:lnTo>
                    <a:pt x="96" y="54"/>
                  </a:lnTo>
                  <a:lnTo>
                    <a:pt x="86" y="62"/>
                  </a:lnTo>
                  <a:lnTo>
                    <a:pt x="77" y="69"/>
                  </a:lnTo>
                  <a:lnTo>
                    <a:pt x="68" y="78"/>
                  </a:lnTo>
                  <a:lnTo>
                    <a:pt x="60" y="87"/>
                  </a:lnTo>
                  <a:lnTo>
                    <a:pt x="51" y="96"/>
                  </a:lnTo>
                  <a:lnTo>
                    <a:pt x="44" y="105"/>
                  </a:lnTo>
                  <a:lnTo>
                    <a:pt x="38" y="115"/>
                  </a:lnTo>
                  <a:lnTo>
                    <a:pt x="32" y="125"/>
                  </a:lnTo>
                  <a:lnTo>
                    <a:pt x="26" y="135"/>
                  </a:lnTo>
                  <a:lnTo>
                    <a:pt x="21" y="145"/>
                  </a:lnTo>
                  <a:lnTo>
                    <a:pt x="15" y="156"/>
                  </a:lnTo>
                  <a:lnTo>
                    <a:pt x="11" y="168"/>
                  </a:lnTo>
                  <a:lnTo>
                    <a:pt x="8" y="179"/>
                  </a:lnTo>
                  <a:lnTo>
                    <a:pt x="5" y="190"/>
                  </a:lnTo>
                  <a:lnTo>
                    <a:pt x="3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477"/>
                  </a:lnTo>
                  <a:lnTo>
                    <a:pt x="0" y="490"/>
                  </a:lnTo>
                  <a:lnTo>
                    <a:pt x="1" y="501"/>
                  </a:lnTo>
                  <a:lnTo>
                    <a:pt x="3" y="514"/>
                  </a:lnTo>
                  <a:lnTo>
                    <a:pt x="5" y="525"/>
                  </a:lnTo>
                  <a:lnTo>
                    <a:pt x="8" y="537"/>
                  </a:lnTo>
                  <a:lnTo>
                    <a:pt x="11" y="548"/>
                  </a:lnTo>
                  <a:lnTo>
                    <a:pt x="15" y="559"/>
                  </a:lnTo>
                  <a:lnTo>
                    <a:pt x="21" y="569"/>
                  </a:lnTo>
                  <a:lnTo>
                    <a:pt x="25" y="581"/>
                  </a:lnTo>
                  <a:lnTo>
                    <a:pt x="32" y="591"/>
                  </a:lnTo>
                  <a:lnTo>
                    <a:pt x="38" y="601"/>
                  </a:lnTo>
                  <a:lnTo>
                    <a:pt x="44" y="610"/>
                  </a:lnTo>
                  <a:lnTo>
                    <a:pt x="51" y="620"/>
                  </a:lnTo>
                  <a:lnTo>
                    <a:pt x="60" y="629"/>
                  </a:lnTo>
                  <a:lnTo>
                    <a:pt x="68" y="638"/>
                  </a:lnTo>
                  <a:lnTo>
                    <a:pt x="77" y="645"/>
                  </a:lnTo>
                  <a:lnTo>
                    <a:pt x="86" y="654"/>
                  </a:lnTo>
                  <a:lnTo>
                    <a:pt x="96" y="662"/>
                  </a:lnTo>
                  <a:lnTo>
                    <a:pt x="106" y="668"/>
                  </a:lnTo>
                  <a:lnTo>
                    <a:pt x="116" y="675"/>
                  </a:lnTo>
                  <a:lnTo>
                    <a:pt x="127" y="681"/>
                  </a:lnTo>
                  <a:lnTo>
                    <a:pt x="138" y="687"/>
                  </a:lnTo>
                  <a:lnTo>
                    <a:pt x="149" y="692"/>
                  </a:lnTo>
                  <a:lnTo>
                    <a:pt x="160" y="697"/>
                  </a:lnTo>
                  <a:lnTo>
                    <a:pt x="173" y="701"/>
                  </a:lnTo>
                  <a:lnTo>
                    <a:pt x="186" y="705"/>
                  </a:lnTo>
                  <a:lnTo>
                    <a:pt x="198" y="708"/>
                  </a:lnTo>
                  <a:lnTo>
                    <a:pt x="211" y="711"/>
                  </a:lnTo>
                  <a:lnTo>
                    <a:pt x="223" y="713"/>
                  </a:lnTo>
                  <a:lnTo>
                    <a:pt x="236" y="715"/>
                  </a:lnTo>
                  <a:lnTo>
                    <a:pt x="250" y="716"/>
                  </a:lnTo>
                  <a:lnTo>
                    <a:pt x="264" y="716"/>
                  </a:lnTo>
                  <a:lnTo>
                    <a:pt x="264" y="7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43440" y="3419280"/>
              <a:ext cx="1730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Added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7880" y="3646080"/>
              <a:ext cx="1029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70360" y="3655080"/>
              <a:ext cx="1022400" cy="1800"/>
            </a:xfrm>
            <a:custGeom>
              <a:avLst/>
              <a:gdLst/>
              <a:ahLst/>
              <a:rect l="l" t="t" r="r" b="b"/>
              <a:pathLst>
                <a:path w="1235" h="2">
                  <a:moveTo>
                    <a:pt x="0" y="2"/>
                  </a:moveTo>
                  <a:lnTo>
                    <a:pt x="252" y="2"/>
                  </a:lnTo>
                  <a:lnTo>
                    <a:pt x="252" y="0"/>
                  </a:lnTo>
                  <a:lnTo>
                    <a:pt x="123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81960" y="3598200"/>
              <a:ext cx="99360" cy="111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0" y="0"/>
                  </a:moveTo>
                  <a:lnTo>
                    <a:pt x="120" y="55"/>
                  </a:lnTo>
                  <a:lnTo>
                    <a:pt x="0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13720" y="3539520"/>
              <a:ext cx="65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58120" y="3539520"/>
              <a:ext cx="1231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49640" y="3655080"/>
              <a:ext cx="122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2120" y="3600000"/>
              <a:ext cx="99000" cy="111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0" y="0"/>
                  </a:moveTo>
                  <a:lnTo>
                    <a:pt x="120" y="54"/>
                  </a:lnTo>
                  <a:lnTo>
                    <a:pt x="0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94160" y="3539520"/>
              <a:ext cx="650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41440" y="3541680"/>
              <a:ext cx="1231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49640" y="3655080"/>
              <a:ext cx="3543120" cy="1131120"/>
            </a:xfrm>
            <a:custGeom>
              <a:avLst/>
              <a:gdLst/>
              <a:ahLst/>
              <a:rect l="l" t="t" r="r" b="b"/>
              <a:pathLst>
                <a:path w="4275" h="1101">
                  <a:moveTo>
                    <a:pt x="0" y="0"/>
                  </a:moveTo>
                  <a:lnTo>
                    <a:pt x="252" y="0"/>
                  </a:lnTo>
                  <a:lnTo>
                    <a:pt x="252" y="1101"/>
                  </a:lnTo>
                  <a:lnTo>
                    <a:pt x="4275" y="110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81960" y="4727520"/>
              <a:ext cx="99360" cy="1130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0" y="0"/>
                  </a:moveTo>
                  <a:lnTo>
                    <a:pt x="120" y="56"/>
                  </a:lnTo>
                  <a:lnTo>
                    <a:pt x="0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44840" y="4671000"/>
              <a:ext cx="2844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64040" y="4671000"/>
              <a:ext cx="875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fa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4417200"/>
              <a:ext cx="1319040" cy="735480"/>
            </a:xfrm>
            <a:custGeom>
              <a:avLst/>
              <a:gdLst/>
              <a:ahLst/>
              <a:rect l="l" t="t" r="r" b="b"/>
              <a:pathLst>
                <a:path w="1592" h="716">
                  <a:moveTo>
                    <a:pt x="264" y="716"/>
                  </a:moveTo>
                  <a:lnTo>
                    <a:pt x="1328" y="716"/>
                  </a:lnTo>
                  <a:lnTo>
                    <a:pt x="1342" y="716"/>
                  </a:lnTo>
                  <a:lnTo>
                    <a:pt x="1354" y="715"/>
                  </a:lnTo>
                  <a:lnTo>
                    <a:pt x="1368" y="714"/>
                  </a:lnTo>
                  <a:lnTo>
                    <a:pt x="1381" y="711"/>
                  </a:lnTo>
                  <a:lnTo>
                    <a:pt x="1393" y="709"/>
                  </a:lnTo>
                  <a:lnTo>
                    <a:pt x="1406" y="706"/>
                  </a:lnTo>
                  <a:lnTo>
                    <a:pt x="1419" y="703"/>
                  </a:lnTo>
                  <a:lnTo>
                    <a:pt x="1430" y="698"/>
                  </a:lnTo>
                  <a:lnTo>
                    <a:pt x="1442" y="692"/>
                  </a:lnTo>
                  <a:lnTo>
                    <a:pt x="1453" y="687"/>
                  </a:lnTo>
                  <a:lnTo>
                    <a:pt x="1465" y="682"/>
                  </a:lnTo>
                  <a:lnTo>
                    <a:pt x="1476" y="676"/>
                  </a:lnTo>
                  <a:lnTo>
                    <a:pt x="1486" y="668"/>
                  </a:lnTo>
                  <a:lnTo>
                    <a:pt x="1495" y="662"/>
                  </a:lnTo>
                  <a:lnTo>
                    <a:pt x="1505" y="655"/>
                  </a:lnTo>
                  <a:lnTo>
                    <a:pt x="1515" y="647"/>
                  </a:lnTo>
                  <a:lnTo>
                    <a:pt x="1523" y="638"/>
                  </a:lnTo>
                  <a:lnTo>
                    <a:pt x="1532" y="629"/>
                  </a:lnTo>
                  <a:lnTo>
                    <a:pt x="1539" y="620"/>
                  </a:lnTo>
                  <a:lnTo>
                    <a:pt x="1547" y="612"/>
                  </a:lnTo>
                  <a:lnTo>
                    <a:pt x="1554" y="602"/>
                  </a:lnTo>
                  <a:lnTo>
                    <a:pt x="1560" y="591"/>
                  </a:lnTo>
                  <a:lnTo>
                    <a:pt x="1565" y="581"/>
                  </a:lnTo>
                  <a:lnTo>
                    <a:pt x="1571" y="571"/>
                  </a:lnTo>
                  <a:lnTo>
                    <a:pt x="1575" y="560"/>
                  </a:lnTo>
                  <a:lnTo>
                    <a:pt x="1579" y="548"/>
                  </a:lnTo>
                  <a:lnTo>
                    <a:pt x="1583" y="537"/>
                  </a:lnTo>
                  <a:lnTo>
                    <a:pt x="1586" y="526"/>
                  </a:lnTo>
                  <a:lnTo>
                    <a:pt x="1589" y="514"/>
                  </a:lnTo>
                  <a:lnTo>
                    <a:pt x="1590" y="502"/>
                  </a:lnTo>
                  <a:lnTo>
                    <a:pt x="1592" y="490"/>
                  </a:lnTo>
                  <a:lnTo>
                    <a:pt x="1592" y="478"/>
                  </a:lnTo>
                  <a:lnTo>
                    <a:pt x="1592" y="478"/>
                  </a:lnTo>
                  <a:lnTo>
                    <a:pt x="1592" y="478"/>
                  </a:lnTo>
                  <a:lnTo>
                    <a:pt x="1592" y="239"/>
                  </a:lnTo>
                  <a:lnTo>
                    <a:pt x="1592" y="226"/>
                  </a:lnTo>
                  <a:lnTo>
                    <a:pt x="1590" y="215"/>
                  </a:lnTo>
                  <a:lnTo>
                    <a:pt x="1589" y="202"/>
                  </a:lnTo>
                  <a:lnTo>
                    <a:pt x="1586" y="191"/>
                  </a:lnTo>
                  <a:lnTo>
                    <a:pt x="1583" y="180"/>
                  </a:lnTo>
                  <a:lnTo>
                    <a:pt x="1579" y="168"/>
                  </a:lnTo>
                  <a:lnTo>
                    <a:pt x="1575" y="157"/>
                  </a:lnTo>
                  <a:lnTo>
                    <a:pt x="1571" y="146"/>
                  </a:lnTo>
                  <a:lnTo>
                    <a:pt x="1565" y="135"/>
                  </a:lnTo>
                  <a:lnTo>
                    <a:pt x="1560" y="125"/>
                  </a:lnTo>
                  <a:lnTo>
                    <a:pt x="1554" y="115"/>
                  </a:lnTo>
                  <a:lnTo>
                    <a:pt x="1547" y="105"/>
                  </a:lnTo>
                  <a:lnTo>
                    <a:pt x="1539" y="96"/>
                  </a:lnTo>
                  <a:lnTo>
                    <a:pt x="1532" y="88"/>
                  </a:lnTo>
                  <a:lnTo>
                    <a:pt x="1523" y="79"/>
                  </a:lnTo>
                  <a:lnTo>
                    <a:pt x="1515" y="70"/>
                  </a:lnTo>
                  <a:lnTo>
                    <a:pt x="1505" y="62"/>
                  </a:lnTo>
                  <a:lnTo>
                    <a:pt x="1495" y="55"/>
                  </a:lnTo>
                  <a:lnTo>
                    <a:pt x="1486" y="48"/>
                  </a:lnTo>
                  <a:lnTo>
                    <a:pt x="1476" y="41"/>
                  </a:lnTo>
                  <a:lnTo>
                    <a:pt x="1465" y="34"/>
                  </a:lnTo>
                  <a:lnTo>
                    <a:pt x="1453" y="29"/>
                  </a:lnTo>
                  <a:lnTo>
                    <a:pt x="1442" y="24"/>
                  </a:lnTo>
                  <a:lnTo>
                    <a:pt x="1431" y="19"/>
                  </a:lnTo>
                  <a:lnTo>
                    <a:pt x="1419" y="14"/>
                  </a:lnTo>
                  <a:lnTo>
                    <a:pt x="1406" y="12"/>
                  </a:lnTo>
                  <a:lnTo>
                    <a:pt x="1393" y="8"/>
                  </a:lnTo>
                  <a:lnTo>
                    <a:pt x="1381" y="5"/>
                  </a:lnTo>
                  <a:lnTo>
                    <a:pt x="1368" y="3"/>
                  </a:lnTo>
                  <a:lnTo>
                    <a:pt x="1354" y="2"/>
                  </a:lnTo>
                  <a:lnTo>
                    <a:pt x="1342" y="0"/>
                  </a:lnTo>
                  <a:lnTo>
                    <a:pt x="1328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2"/>
                  </a:lnTo>
                  <a:lnTo>
                    <a:pt x="223" y="3"/>
                  </a:lnTo>
                  <a:lnTo>
                    <a:pt x="211" y="5"/>
                  </a:lnTo>
                  <a:lnTo>
                    <a:pt x="198" y="8"/>
                  </a:lnTo>
                  <a:lnTo>
                    <a:pt x="186" y="12"/>
                  </a:lnTo>
                  <a:lnTo>
                    <a:pt x="173" y="14"/>
                  </a:lnTo>
                  <a:lnTo>
                    <a:pt x="160" y="19"/>
                  </a:lnTo>
                  <a:lnTo>
                    <a:pt x="149" y="24"/>
                  </a:lnTo>
                  <a:lnTo>
                    <a:pt x="138" y="29"/>
                  </a:lnTo>
                  <a:lnTo>
                    <a:pt x="127" y="34"/>
                  </a:lnTo>
                  <a:lnTo>
                    <a:pt x="116" y="41"/>
                  </a:lnTo>
                  <a:lnTo>
                    <a:pt x="106" y="48"/>
                  </a:lnTo>
                  <a:lnTo>
                    <a:pt x="96" y="55"/>
                  </a:lnTo>
                  <a:lnTo>
                    <a:pt x="86" y="62"/>
                  </a:lnTo>
                  <a:lnTo>
                    <a:pt x="77" y="70"/>
                  </a:lnTo>
                  <a:lnTo>
                    <a:pt x="68" y="79"/>
                  </a:lnTo>
                  <a:lnTo>
                    <a:pt x="60" y="88"/>
                  </a:lnTo>
                  <a:lnTo>
                    <a:pt x="51" y="96"/>
                  </a:lnTo>
                  <a:lnTo>
                    <a:pt x="44" y="105"/>
                  </a:lnTo>
                  <a:lnTo>
                    <a:pt x="38" y="115"/>
                  </a:lnTo>
                  <a:lnTo>
                    <a:pt x="32" y="125"/>
                  </a:lnTo>
                  <a:lnTo>
                    <a:pt x="26" y="135"/>
                  </a:lnTo>
                  <a:lnTo>
                    <a:pt x="21" y="146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5" y="191"/>
                  </a:lnTo>
                  <a:lnTo>
                    <a:pt x="3" y="202"/>
                  </a:lnTo>
                  <a:lnTo>
                    <a:pt x="1" y="215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478"/>
                  </a:lnTo>
                  <a:lnTo>
                    <a:pt x="0" y="490"/>
                  </a:lnTo>
                  <a:lnTo>
                    <a:pt x="1" y="502"/>
                  </a:lnTo>
                  <a:lnTo>
                    <a:pt x="3" y="514"/>
                  </a:lnTo>
                  <a:lnTo>
                    <a:pt x="5" y="526"/>
                  </a:lnTo>
                  <a:lnTo>
                    <a:pt x="8" y="537"/>
                  </a:lnTo>
                  <a:lnTo>
                    <a:pt x="11" y="548"/>
                  </a:lnTo>
                  <a:lnTo>
                    <a:pt x="15" y="560"/>
                  </a:lnTo>
                  <a:lnTo>
                    <a:pt x="21" y="571"/>
                  </a:lnTo>
                  <a:lnTo>
                    <a:pt x="25" y="581"/>
                  </a:lnTo>
                  <a:lnTo>
                    <a:pt x="32" y="591"/>
                  </a:lnTo>
                  <a:lnTo>
                    <a:pt x="38" y="602"/>
                  </a:lnTo>
                  <a:lnTo>
                    <a:pt x="44" y="612"/>
                  </a:lnTo>
                  <a:lnTo>
                    <a:pt x="51" y="620"/>
                  </a:lnTo>
                  <a:lnTo>
                    <a:pt x="60" y="629"/>
                  </a:lnTo>
                  <a:lnTo>
                    <a:pt x="68" y="638"/>
                  </a:lnTo>
                  <a:lnTo>
                    <a:pt x="77" y="647"/>
                  </a:lnTo>
                  <a:lnTo>
                    <a:pt x="86" y="655"/>
                  </a:lnTo>
                  <a:lnTo>
                    <a:pt x="96" y="662"/>
                  </a:lnTo>
                  <a:lnTo>
                    <a:pt x="106" y="668"/>
                  </a:lnTo>
                  <a:lnTo>
                    <a:pt x="116" y="676"/>
                  </a:lnTo>
                  <a:lnTo>
                    <a:pt x="127" y="682"/>
                  </a:lnTo>
                  <a:lnTo>
                    <a:pt x="138" y="687"/>
                  </a:lnTo>
                  <a:lnTo>
                    <a:pt x="149" y="692"/>
                  </a:lnTo>
                  <a:lnTo>
                    <a:pt x="160" y="698"/>
                  </a:lnTo>
                  <a:lnTo>
                    <a:pt x="173" y="703"/>
                  </a:lnTo>
                  <a:lnTo>
                    <a:pt x="186" y="706"/>
                  </a:lnTo>
                  <a:lnTo>
                    <a:pt x="198" y="709"/>
                  </a:lnTo>
                  <a:lnTo>
                    <a:pt x="211" y="711"/>
                  </a:lnTo>
                  <a:lnTo>
                    <a:pt x="223" y="714"/>
                  </a:lnTo>
                  <a:lnTo>
                    <a:pt x="236" y="715"/>
                  </a:lnTo>
                  <a:lnTo>
                    <a:pt x="250" y="716"/>
                  </a:lnTo>
                  <a:lnTo>
                    <a:pt x="264" y="716"/>
                  </a:lnTo>
                  <a:lnTo>
                    <a:pt x="264" y="7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17200"/>
              <a:ext cx="1319040" cy="735480"/>
            </a:xfrm>
            <a:custGeom>
              <a:avLst/>
              <a:gdLst/>
              <a:ahLst/>
              <a:rect l="l" t="t" r="r" b="b"/>
              <a:pathLst>
                <a:path w="1592" h="716">
                  <a:moveTo>
                    <a:pt x="264" y="716"/>
                  </a:moveTo>
                  <a:lnTo>
                    <a:pt x="1328" y="716"/>
                  </a:lnTo>
                  <a:lnTo>
                    <a:pt x="1342" y="716"/>
                  </a:lnTo>
                  <a:lnTo>
                    <a:pt x="1354" y="715"/>
                  </a:lnTo>
                  <a:lnTo>
                    <a:pt x="1368" y="714"/>
                  </a:lnTo>
                  <a:lnTo>
                    <a:pt x="1381" y="711"/>
                  </a:lnTo>
                  <a:lnTo>
                    <a:pt x="1393" y="709"/>
                  </a:lnTo>
                  <a:lnTo>
                    <a:pt x="1406" y="706"/>
                  </a:lnTo>
                  <a:lnTo>
                    <a:pt x="1419" y="703"/>
                  </a:lnTo>
                  <a:lnTo>
                    <a:pt x="1430" y="698"/>
                  </a:lnTo>
                  <a:lnTo>
                    <a:pt x="1442" y="692"/>
                  </a:lnTo>
                  <a:lnTo>
                    <a:pt x="1453" y="687"/>
                  </a:lnTo>
                  <a:lnTo>
                    <a:pt x="1465" y="682"/>
                  </a:lnTo>
                  <a:lnTo>
                    <a:pt x="1476" y="676"/>
                  </a:lnTo>
                  <a:lnTo>
                    <a:pt x="1486" y="668"/>
                  </a:lnTo>
                  <a:lnTo>
                    <a:pt x="1495" y="662"/>
                  </a:lnTo>
                  <a:lnTo>
                    <a:pt x="1505" y="655"/>
                  </a:lnTo>
                  <a:lnTo>
                    <a:pt x="1515" y="647"/>
                  </a:lnTo>
                  <a:lnTo>
                    <a:pt x="1523" y="638"/>
                  </a:lnTo>
                  <a:lnTo>
                    <a:pt x="1532" y="629"/>
                  </a:lnTo>
                  <a:lnTo>
                    <a:pt x="1539" y="620"/>
                  </a:lnTo>
                  <a:lnTo>
                    <a:pt x="1547" y="612"/>
                  </a:lnTo>
                  <a:lnTo>
                    <a:pt x="1554" y="602"/>
                  </a:lnTo>
                  <a:lnTo>
                    <a:pt x="1560" y="591"/>
                  </a:lnTo>
                  <a:lnTo>
                    <a:pt x="1565" y="581"/>
                  </a:lnTo>
                  <a:lnTo>
                    <a:pt x="1571" y="571"/>
                  </a:lnTo>
                  <a:lnTo>
                    <a:pt x="1575" y="560"/>
                  </a:lnTo>
                  <a:lnTo>
                    <a:pt x="1579" y="548"/>
                  </a:lnTo>
                  <a:lnTo>
                    <a:pt x="1583" y="537"/>
                  </a:lnTo>
                  <a:lnTo>
                    <a:pt x="1586" y="526"/>
                  </a:lnTo>
                  <a:lnTo>
                    <a:pt x="1589" y="514"/>
                  </a:lnTo>
                  <a:lnTo>
                    <a:pt x="1590" y="502"/>
                  </a:lnTo>
                  <a:lnTo>
                    <a:pt x="1592" y="490"/>
                  </a:lnTo>
                  <a:lnTo>
                    <a:pt x="1592" y="478"/>
                  </a:lnTo>
                  <a:lnTo>
                    <a:pt x="1592" y="478"/>
                  </a:lnTo>
                  <a:lnTo>
                    <a:pt x="1592" y="478"/>
                  </a:lnTo>
                  <a:lnTo>
                    <a:pt x="1592" y="239"/>
                  </a:lnTo>
                  <a:lnTo>
                    <a:pt x="1592" y="226"/>
                  </a:lnTo>
                  <a:lnTo>
                    <a:pt x="1590" y="215"/>
                  </a:lnTo>
                  <a:lnTo>
                    <a:pt x="1589" y="202"/>
                  </a:lnTo>
                  <a:lnTo>
                    <a:pt x="1586" y="191"/>
                  </a:lnTo>
                  <a:lnTo>
                    <a:pt x="1583" y="180"/>
                  </a:lnTo>
                  <a:lnTo>
                    <a:pt x="1579" y="168"/>
                  </a:lnTo>
                  <a:lnTo>
                    <a:pt x="1575" y="157"/>
                  </a:lnTo>
                  <a:lnTo>
                    <a:pt x="1571" y="146"/>
                  </a:lnTo>
                  <a:lnTo>
                    <a:pt x="1565" y="135"/>
                  </a:lnTo>
                  <a:lnTo>
                    <a:pt x="1560" y="125"/>
                  </a:lnTo>
                  <a:lnTo>
                    <a:pt x="1554" y="115"/>
                  </a:lnTo>
                  <a:lnTo>
                    <a:pt x="1547" y="105"/>
                  </a:lnTo>
                  <a:lnTo>
                    <a:pt x="1539" y="96"/>
                  </a:lnTo>
                  <a:lnTo>
                    <a:pt x="1532" y="88"/>
                  </a:lnTo>
                  <a:lnTo>
                    <a:pt x="1523" y="79"/>
                  </a:lnTo>
                  <a:lnTo>
                    <a:pt x="1515" y="70"/>
                  </a:lnTo>
                  <a:lnTo>
                    <a:pt x="1505" y="62"/>
                  </a:lnTo>
                  <a:lnTo>
                    <a:pt x="1495" y="55"/>
                  </a:lnTo>
                  <a:lnTo>
                    <a:pt x="1486" y="48"/>
                  </a:lnTo>
                  <a:lnTo>
                    <a:pt x="1476" y="41"/>
                  </a:lnTo>
                  <a:lnTo>
                    <a:pt x="1465" y="34"/>
                  </a:lnTo>
                  <a:lnTo>
                    <a:pt x="1453" y="29"/>
                  </a:lnTo>
                  <a:lnTo>
                    <a:pt x="1442" y="24"/>
                  </a:lnTo>
                  <a:lnTo>
                    <a:pt x="1431" y="19"/>
                  </a:lnTo>
                  <a:lnTo>
                    <a:pt x="1419" y="14"/>
                  </a:lnTo>
                  <a:lnTo>
                    <a:pt x="1406" y="12"/>
                  </a:lnTo>
                  <a:lnTo>
                    <a:pt x="1393" y="8"/>
                  </a:lnTo>
                  <a:lnTo>
                    <a:pt x="1381" y="5"/>
                  </a:lnTo>
                  <a:lnTo>
                    <a:pt x="1368" y="3"/>
                  </a:lnTo>
                  <a:lnTo>
                    <a:pt x="1354" y="2"/>
                  </a:lnTo>
                  <a:lnTo>
                    <a:pt x="1342" y="0"/>
                  </a:lnTo>
                  <a:lnTo>
                    <a:pt x="1328" y="0"/>
                  </a:lnTo>
                  <a:lnTo>
                    <a:pt x="264" y="0"/>
                  </a:lnTo>
                  <a:lnTo>
                    <a:pt x="250" y="0"/>
                  </a:lnTo>
                  <a:lnTo>
                    <a:pt x="236" y="2"/>
                  </a:lnTo>
                  <a:lnTo>
                    <a:pt x="223" y="3"/>
                  </a:lnTo>
                  <a:lnTo>
                    <a:pt x="211" y="5"/>
                  </a:lnTo>
                  <a:lnTo>
                    <a:pt x="198" y="8"/>
                  </a:lnTo>
                  <a:lnTo>
                    <a:pt x="186" y="12"/>
                  </a:lnTo>
                  <a:lnTo>
                    <a:pt x="173" y="14"/>
                  </a:lnTo>
                  <a:lnTo>
                    <a:pt x="160" y="19"/>
                  </a:lnTo>
                  <a:lnTo>
                    <a:pt x="149" y="24"/>
                  </a:lnTo>
                  <a:lnTo>
                    <a:pt x="138" y="29"/>
                  </a:lnTo>
                  <a:lnTo>
                    <a:pt x="127" y="34"/>
                  </a:lnTo>
                  <a:lnTo>
                    <a:pt x="116" y="41"/>
                  </a:lnTo>
                  <a:lnTo>
                    <a:pt x="106" y="48"/>
                  </a:lnTo>
                  <a:lnTo>
                    <a:pt x="96" y="55"/>
                  </a:lnTo>
                  <a:lnTo>
                    <a:pt x="86" y="62"/>
                  </a:lnTo>
                  <a:lnTo>
                    <a:pt x="77" y="70"/>
                  </a:lnTo>
                  <a:lnTo>
                    <a:pt x="68" y="79"/>
                  </a:lnTo>
                  <a:lnTo>
                    <a:pt x="60" y="88"/>
                  </a:lnTo>
                  <a:lnTo>
                    <a:pt x="51" y="96"/>
                  </a:lnTo>
                  <a:lnTo>
                    <a:pt x="44" y="105"/>
                  </a:lnTo>
                  <a:lnTo>
                    <a:pt x="38" y="115"/>
                  </a:lnTo>
                  <a:lnTo>
                    <a:pt x="32" y="125"/>
                  </a:lnTo>
                  <a:lnTo>
                    <a:pt x="26" y="135"/>
                  </a:lnTo>
                  <a:lnTo>
                    <a:pt x="21" y="146"/>
                  </a:lnTo>
                  <a:lnTo>
                    <a:pt x="15" y="157"/>
                  </a:lnTo>
                  <a:lnTo>
                    <a:pt x="11" y="168"/>
                  </a:lnTo>
                  <a:lnTo>
                    <a:pt x="8" y="180"/>
                  </a:lnTo>
                  <a:lnTo>
                    <a:pt x="5" y="191"/>
                  </a:lnTo>
                  <a:lnTo>
                    <a:pt x="3" y="202"/>
                  </a:lnTo>
                  <a:lnTo>
                    <a:pt x="1" y="215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478"/>
                  </a:lnTo>
                  <a:lnTo>
                    <a:pt x="0" y="490"/>
                  </a:lnTo>
                  <a:lnTo>
                    <a:pt x="1" y="502"/>
                  </a:lnTo>
                  <a:lnTo>
                    <a:pt x="3" y="514"/>
                  </a:lnTo>
                  <a:lnTo>
                    <a:pt x="5" y="526"/>
                  </a:lnTo>
                  <a:lnTo>
                    <a:pt x="8" y="537"/>
                  </a:lnTo>
                  <a:lnTo>
                    <a:pt x="11" y="548"/>
                  </a:lnTo>
                  <a:lnTo>
                    <a:pt x="15" y="560"/>
                  </a:lnTo>
                  <a:lnTo>
                    <a:pt x="21" y="571"/>
                  </a:lnTo>
                  <a:lnTo>
                    <a:pt x="25" y="581"/>
                  </a:lnTo>
                  <a:lnTo>
                    <a:pt x="32" y="591"/>
                  </a:lnTo>
                  <a:lnTo>
                    <a:pt x="38" y="602"/>
                  </a:lnTo>
                  <a:lnTo>
                    <a:pt x="44" y="612"/>
                  </a:lnTo>
                  <a:lnTo>
                    <a:pt x="51" y="620"/>
                  </a:lnTo>
                  <a:lnTo>
                    <a:pt x="60" y="629"/>
                  </a:lnTo>
                  <a:lnTo>
                    <a:pt x="68" y="638"/>
                  </a:lnTo>
                  <a:lnTo>
                    <a:pt x="77" y="647"/>
                  </a:lnTo>
                  <a:lnTo>
                    <a:pt x="86" y="655"/>
                  </a:lnTo>
                  <a:lnTo>
                    <a:pt x="96" y="662"/>
                  </a:lnTo>
                  <a:lnTo>
                    <a:pt x="106" y="668"/>
                  </a:lnTo>
                  <a:lnTo>
                    <a:pt x="116" y="676"/>
                  </a:lnTo>
                  <a:lnTo>
                    <a:pt x="127" y="682"/>
                  </a:lnTo>
                  <a:lnTo>
                    <a:pt x="138" y="687"/>
                  </a:lnTo>
                  <a:lnTo>
                    <a:pt x="149" y="692"/>
                  </a:lnTo>
                  <a:lnTo>
                    <a:pt x="160" y="698"/>
                  </a:lnTo>
                  <a:lnTo>
                    <a:pt x="173" y="703"/>
                  </a:lnTo>
                  <a:lnTo>
                    <a:pt x="186" y="706"/>
                  </a:lnTo>
                  <a:lnTo>
                    <a:pt x="198" y="709"/>
                  </a:lnTo>
                  <a:lnTo>
                    <a:pt x="211" y="711"/>
                  </a:lnTo>
                  <a:lnTo>
                    <a:pt x="223" y="714"/>
                  </a:lnTo>
                  <a:lnTo>
                    <a:pt x="236" y="715"/>
                  </a:lnTo>
                  <a:lnTo>
                    <a:pt x="250" y="716"/>
                  </a:lnTo>
                  <a:lnTo>
                    <a:pt x="264" y="716"/>
                  </a:lnTo>
                  <a:lnTo>
                    <a:pt x="264" y="7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26600" y="4551840"/>
              <a:ext cx="1551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Add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65840" y="4779000"/>
              <a:ext cx="1471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FailedVi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28920" y="2160360"/>
              <a:ext cx="1094040" cy="464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920" y="2160360"/>
              <a:ext cx="1094040" cy="464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95800" y="2272320"/>
              <a:ext cx="1265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3480" y="2160360"/>
              <a:ext cx="1094040" cy="4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3480" y="2160360"/>
              <a:ext cx="1094040" cy="464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30920" y="2272320"/>
              <a:ext cx="13082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confli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49320" y="1717200"/>
              <a:ext cx="2228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Shared data reposi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03880" y="1944360"/>
              <a:ext cx="2535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</a:rPr>
                <a:t>associated with the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B288-8CC0-4082-9824-BCFAFB3BC4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1828800"/>
            <a:ext cx="3581280" cy="520560"/>
          </a:xfrm>
          <a:prstGeom prst="rect">
            <a:avLst/>
          </a:prstGeom>
          <a:solidFill>
            <a:srgbClr val="336699">
              <a:alpha val="5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uke’s BookStore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oal and scope of the presented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Static verification of indirect data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Static and dynamic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A0E1-0E78-4BBE-9EB2-FC76FA18B6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uke’s BookStore appl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-commerce site bundled with the J2EE 1.4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active client/server inte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882720" y="2708280"/>
            <a:ext cx="6857640" cy="3956760"/>
            <a:chOff x="882720" y="2708280"/>
            <a:chExt cx="6857640" cy="3956760"/>
          </a:xfrm>
        </p:grpSpPr>
        <p:sp>
          <p:nvSpPr>
            <p:cNvPr id="302" name=""/>
            <p:cNvSpPr/>
            <p:nvPr/>
          </p:nvSpPr>
          <p:spPr>
            <a:xfrm>
              <a:off x="3810600" y="2708280"/>
              <a:ext cx="3929760" cy="3885480"/>
            </a:xfrm>
            <a:prstGeom prst="rect">
              <a:avLst/>
            </a:prstGeom>
            <a:solidFill>
              <a:srgbClr val="c0c0c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13720" y="4904640"/>
              <a:ext cx="586440" cy="13680"/>
            </a:xfrm>
            <a:custGeom>
              <a:avLst/>
              <a:gdLst/>
              <a:ahLst/>
              <a:rect l="l" t="t" r="r" b="b"/>
              <a:pathLst>
                <a:path w="1662" h="45">
                  <a:moveTo>
                    <a:pt x="0" y="0"/>
                  </a:moveTo>
                  <a:lnTo>
                    <a:pt x="0" y="45"/>
                  </a:lnTo>
                  <a:lnTo>
                    <a:pt x="1662" y="45"/>
                  </a:lnTo>
                  <a:lnTo>
                    <a:pt x="166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45720" y="4275720"/>
              <a:ext cx="3463200" cy="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4760" y="2997360"/>
              <a:ext cx="1013760" cy="406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Garamond"/>
                </a:rPr>
                <a:t>/book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882720" y="3809160"/>
              <a:ext cx="1407960" cy="13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flipH="1" flipV="1">
              <a:off x="2352960" y="4098600"/>
              <a:ext cx="1204200" cy="194040"/>
            </a:xfrm>
            <a:custGeom>
              <a:avLst/>
              <a:gdLst/>
              <a:ahLst/>
              <a:rect l="l" t="t" r="r" b="b"/>
              <a:pathLst>
                <a:path w="1707" h="385">
                  <a:moveTo>
                    <a:pt x="1707" y="156"/>
                  </a:moveTo>
                  <a:cubicBezTo>
                    <a:pt x="1564" y="190"/>
                    <a:pt x="1131" y="385"/>
                    <a:pt x="847" y="359"/>
                  </a:cubicBezTo>
                  <a:cubicBezTo>
                    <a:pt x="563" y="333"/>
                    <a:pt x="176" y="75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 rot="10800000">
              <a:off x="2289600" y="4550400"/>
              <a:ext cx="1266840" cy="260640"/>
            </a:xfrm>
            <a:custGeom>
              <a:avLst/>
              <a:gdLst/>
              <a:ahLst/>
              <a:rect l="l" t="t" r="r" b="b"/>
              <a:pathLst>
                <a:path w="1707" h="385">
                  <a:moveTo>
                    <a:pt x="1707" y="156"/>
                  </a:moveTo>
                  <a:cubicBezTo>
                    <a:pt x="1564" y="190"/>
                    <a:pt x="1131" y="385"/>
                    <a:pt x="847" y="359"/>
                  </a:cubicBezTo>
                  <a:cubicBezTo>
                    <a:pt x="563" y="333"/>
                    <a:pt x="176" y="75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8120" y="4982760"/>
              <a:ext cx="1625400" cy="86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aramond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aramond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Garamond"/>
                </a:rPr>
                <a:t>proto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14560" y="632772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64760" y="3577680"/>
              <a:ext cx="1077120" cy="406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Garamond"/>
                </a:rPr>
                <a:t>/bookdetai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64760" y="4156560"/>
              <a:ext cx="1077120" cy="406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Garamond"/>
                </a:rPr>
                <a:t>/bookcatalo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64760" y="4737240"/>
              <a:ext cx="1077120" cy="406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Garamond"/>
                </a:rPr>
                <a:t>/bookcash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64760" y="5316480"/>
              <a:ext cx="1077120" cy="406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Garamond"/>
                </a:rPr>
                <a:t>/bookrece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64760" y="5897160"/>
              <a:ext cx="1267200" cy="406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Garamond"/>
                </a:rPr>
                <a:t>/bookshowc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56360" y="4158000"/>
              <a:ext cx="1519920" cy="985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-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er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78880" y="3172320"/>
              <a:ext cx="1519920" cy="10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42240" y="3751200"/>
              <a:ext cx="1204200" cy="57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42240" y="4331880"/>
              <a:ext cx="1013760" cy="23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142240" y="4910760"/>
              <a:ext cx="1139760" cy="58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142240" y="5027040"/>
              <a:ext cx="1266840" cy="46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332320" y="5084640"/>
              <a:ext cx="1393920" cy="98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89EA-C3B8-4D1B-B22B-DD62184AF4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ared data interac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repository with 3 data item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sourceBund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t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hoppingC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cy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c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ef. read/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nd. def. read/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640" y="2595600"/>
            <a:ext cx="747072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9A51-A0FA-42D4-B261-AC97DB605C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dentified proble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3632040"/>
            <a:ext cx="82296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kStoreServlet is not executed fir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ullPointer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 retrieval of ‘messages’ data i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Filter/ReceiptServlet are executed before cart and currency are stored to the 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ullPointer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n retrieval of ‘cart’ and ‘currency’ data i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066680" y="1033560"/>
            <a:ext cx="7010640" cy="2624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556080" y="13334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556080" y="26290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300800" y="13334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300800" y="2268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00800" y="31338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348080" y="2052720"/>
            <a:ext cx="28728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659720" y="3276720"/>
            <a:ext cx="28728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587720" y="2413080"/>
            <a:ext cx="28764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587720" y="1549440"/>
            <a:ext cx="28764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916440" y="2773440"/>
            <a:ext cx="28728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124080" y="3276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7E10-953E-4E7D-8A03-4A17074AD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ired composition proper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 broken data dependencies on the shared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hared data item is only read after being written on the shared 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read interaction, the data item present on the shared repository is of the type expected by the read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5651640" y="3068640"/>
            <a:ext cx="2232000" cy="28908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llPointer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5084640"/>
            <a:ext cx="2232000" cy="289080"/>
          </a:xfrm>
          <a:prstGeom prst="rect">
            <a:avLst/>
          </a:prstGeom>
          <a:solidFill>
            <a:srgbClr val="00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Cast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781360"/>
            <a:ext cx="792360" cy="792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4869000"/>
            <a:ext cx="792360" cy="792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43120" y="604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0ABC-283E-4BDC-B5E2-C257093610E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oal and scope of the presented resea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93620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al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 run-time errors by formally guaranteeing the ‘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no broken data dependenci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’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op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onent-based software with indirect data sha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rministic and reactive software compos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ortant non-functional crite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asonable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licable to real-lif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4434-7AED-4B8E-845A-62738ADD7D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pendency analysis in GatorMai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or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-source webmail application built upon Str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K lines of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5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5 components reused in 52 request processing fl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69 hidden interactions with the shared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7 declarative control flow trans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2863-25B9-425F-A06C-6C0C47F5D3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lex dependency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osition: /saveAddresses.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765000" y="2305080"/>
          <a:ext cx="7921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2305080"/>
                    <a:ext cx="7921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DF87-398C-4833-9D9D-06185BFF14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tic verification of indirect data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tic and dynamic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2D5D-9EA4-47C9-AD21-992C366D2F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lex dependency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03360" y="1535040"/>
            <a:ext cx="8388360" cy="4989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627280" y="3500280"/>
            <a:ext cx="4321080" cy="1152720"/>
          </a:xfrm>
          <a:prstGeom prst="rect">
            <a:avLst/>
          </a:prstGeom>
          <a:solidFill>
            <a:srgbClr val="99cc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1 of the 52 compositions in Gator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107 interactions with the shared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aramond"/>
              </a:rPr>
              <a:t>10 control flow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7E56-AA79-4716-8B88-C6284AA4CF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511200" y="2319480"/>
            <a:ext cx="7032600" cy="500040"/>
          </a:xfrm>
          <a:prstGeom prst="rect">
            <a:avLst/>
          </a:prstGeom>
          <a:solidFill>
            <a:srgbClr val="336699">
              <a:alpha val="5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tic verification of indirect data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lution ov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atorMail validation experi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Static and dynamic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Related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Conclusion and 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55B5-CEE8-4427-BA60-409A93BA3D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pproach uses static verification to guarantee that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 broken data dependencies proper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s in a given 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ication is based on component contracts instead component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inte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ally verify composition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CDDB-632B-4D94-A878-6A87DEC533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ution 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845480" y="2057400"/>
          <a:ext cx="7570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5480" y="2057400"/>
                    <a:ext cx="757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95280" y="249228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457992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92360" y="3573360"/>
            <a:ext cx="1439640" cy="576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38560" y="2276640"/>
            <a:ext cx="194472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38560" y="4437000"/>
            <a:ext cx="194472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sitio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50920" y="2779560"/>
            <a:ext cx="201636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4869000"/>
            <a:ext cx="194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227640" y="2781360"/>
            <a:ext cx="1079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27640" y="4940280"/>
            <a:ext cx="1079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32000" y="3933720"/>
            <a:ext cx="100656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132000" y="3068640"/>
            <a:ext cx="100836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845480" y="4157640"/>
          <a:ext cx="75708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5480" y="4157640"/>
                    <a:ext cx="7570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6404040" y="1123920"/>
            <a:ext cx="50328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08400" y="110016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 artif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04040" y="1436760"/>
            <a:ext cx="503280" cy="2160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07680" y="141300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ed artif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30960" y="1052640"/>
            <a:ext cx="1727280" cy="64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87A4-06C2-45FB-8B64-8E78C49332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onent contrac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the component’s interactions with the shared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the possible declarative 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956040" y="1971720"/>
            <a:ext cx="42148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115920"/>
            <a:ext cx="2089440" cy="865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128080" y="189000"/>
          <a:ext cx="18720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18900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300720" y="272880"/>
            <a:ext cx="397080" cy="1508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00720" y="673200"/>
            <a:ext cx="397080" cy="149040"/>
          </a:xfrm>
          <a:prstGeom prst="rect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40560" y="479520"/>
            <a:ext cx="377640" cy="1490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83520" y="217440"/>
            <a:ext cx="509400" cy="26208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83520" y="636480"/>
            <a:ext cx="509400" cy="2620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35600" y="347760"/>
            <a:ext cx="528840" cy="14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35600" y="747720"/>
            <a:ext cx="5097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831080" y="349200"/>
            <a:ext cx="2826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31080" y="766800"/>
            <a:ext cx="2826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018200" y="404280"/>
            <a:ext cx="265320" cy="1112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128080" y="669960"/>
          <a:ext cx="187200" cy="2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080" y="66996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7018200" y="590400"/>
            <a:ext cx="265320" cy="1130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6320" y="3500280"/>
            <a:ext cx="3864240" cy="851040"/>
          </a:xfrm>
          <a:custGeom>
            <a:avLst/>
            <a:gdLst/>
            <a:ahLst/>
            <a:rect l="l" t="t" r="r" b="b"/>
            <a:pathLst>
              <a:path w="5194" h="1137">
                <a:moveTo>
                  <a:pt x="5194" y="569"/>
                </a:moveTo>
                <a:lnTo>
                  <a:pt x="5193" y="553"/>
                </a:lnTo>
                <a:lnTo>
                  <a:pt x="5190" y="540"/>
                </a:lnTo>
                <a:lnTo>
                  <a:pt x="5186" y="524"/>
                </a:lnTo>
                <a:lnTo>
                  <a:pt x="5180" y="511"/>
                </a:lnTo>
                <a:lnTo>
                  <a:pt x="5173" y="497"/>
                </a:lnTo>
                <a:lnTo>
                  <a:pt x="5164" y="481"/>
                </a:lnTo>
                <a:lnTo>
                  <a:pt x="5154" y="468"/>
                </a:lnTo>
                <a:lnTo>
                  <a:pt x="5141" y="454"/>
                </a:lnTo>
                <a:lnTo>
                  <a:pt x="5127" y="440"/>
                </a:lnTo>
                <a:lnTo>
                  <a:pt x="5112" y="427"/>
                </a:lnTo>
                <a:lnTo>
                  <a:pt x="5095" y="413"/>
                </a:lnTo>
                <a:lnTo>
                  <a:pt x="5077" y="399"/>
                </a:lnTo>
                <a:lnTo>
                  <a:pt x="5058" y="387"/>
                </a:lnTo>
                <a:lnTo>
                  <a:pt x="5037" y="373"/>
                </a:lnTo>
                <a:lnTo>
                  <a:pt x="5014" y="360"/>
                </a:lnTo>
                <a:lnTo>
                  <a:pt x="4991" y="348"/>
                </a:lnTo>
                <a:lnTo>
                  <a:pt x="4965" y="335"/>
                </a:lnTo>
                <a:lnTo>
                  <a:pt x="4937" y="322"/>
                </a:lnTo>
                <a:lnTo>
                  <a:pt x="4910" y="310"/>
                </a:lnTo>
                <a:lnTo>
                  <a:pt x="4880" y="298"/>
                </a:lnTo>
                <a:lnTo>
                  <a:pt x="4850" y="286"/>
                </a:lnTo>
                <a:lnTo>
                  <a:pt x="4819" y="274"/>
                </a:lnTo>
                <a:lnTo>
                  <a:pt x="4785" y="262"/>
                </a:lnTo>
                <a:lnTo>
                  <a:pt x="4750" y="250"/>
                </a:lnTo>
                <a:lnTo>
                  <a:pt x="4715" y="240"/>
                </a:lnTo>
                <a:lnTo>
                  <a:pt x="4678" y="229"/>
                </a:lnTo>
                <a:lnTo>
                  <a:pt x="4640" y="217"/>
                </a:lnTo>
                <a:lnTo>
                  <a:pt x="4601" y="207"/>
                </a:lnTo>
                <a:lnTo>
                  <a:pt x="4560" y="197"/>
                </a:lnTo>
                <a:lnTo>
                  <a:pt x="4520" y="186"/>
                </a:lnTo>
                <a:lnTo>
                  <a:pt x="4477" y="177"/>
                </a:lnTo>
                <a:lnTo>
                  <a:pt x="4433" y="167"/>
                </a:lnTo>
                <a:lnTo>
                  <a:pt x="4389" y="157"/>
                </a:lnTo>
                <a:lnTo>
                  <a:pt x="4344" y="148"/>
                </a:lnTo>
                <a:lnTo>
                  <a:pt x="4297" y="139"/>
                </a:lnTo>
                <a:lnTo>
                  <a:pt x="4249" y="130"/>
                </a:lnTo>
                <a:lnTo>
                  <a:pt x="4200" y="122"/>
                </a:lnTo>
                <a:lnTo>
                  <a:pt x="4151" y="113"/>
                </a:lnTo>
                <a:lnTo>
                  <a:pt x="4049" y="98"/>
                </a:lnTo>
                <a:lnTo>
                  <a:pt x="3943" y="82"/>
                </a:lnTo>
                <a:lnTo>
                  <a:pt x="3834" y="68"/>
                </a:lnTo>
                <a:lnTo>
                  <a:pt x="3723" y="56"/>
                </a:lnTo>
                <a:lnTo>
                  <a:pt x="3608" y="44"/>
                </a:lnTo>
                <a:lnTo>
                  <a:pt x="3489" y="34"/>
                </a:lnTo>
                <a:lnTo>
                  <a:pt x="3369" y="26"/>
                </a:lnTo>
                <a:lnTo>
                  <a:pt x="3246" y="18"/>
                </a:lnTo>
                <a:lnTo>
                  <a:pt x="3121" y="12"/>
                </a:lnTo>
                <a:lnTo>
                  <a:pt x="2992" y="7"/>
                </a:lnTo>
                <a:lnTo>
                  <a:pt x="2862" y="3"/>
                </a:lnTo>
                <a:lnTo>
                  <a:pt x="2731" y="2"/>
                </a:lnTo>
                <a:lnTo>
                  <a:pt x="2597" y="0"/>
                </a:lnTo>
                <a:lnTo>
                  <a:pt x="2463" y="2"/>
                </a:lnTo>
                <a:lnTo>
                  <a:pt x="2332" y="3"/>
                </a:lnTo>
                <a:lnTo>
                  <a:pt x="2202" y="7"/>
                </a:lnTo>
                <a:lnTo>
                  <a:pt x="2074" y="12"/>
                </a:lnTo>
                <a:lnTo>
                  <a:pt x="1948" y="18"/>
                </a:lnTo>
                <a:lnTo>
                  <a:pt x="1825" y="26"/>
                </a:lnTo>
                <a:lnTo>
                  <a:pt x="1703" y="34"/>
                </a:lnTo>
                <a:lnTo>
                  <a:pt x="1586" y="44"/>
                </a:lnTo>
                <a:lnTo>
                  <a:pt x="1472" y="56"/>
                </a:lnTo>
                <a:lnTo>
                  <a:pt x="1359" y="68"/>
                </a:lnTo>
                <a:lnTo>
                  <a:pt x="1251" y="82"/>
                </a:lnTo>
                <a:lnTo>
                  <a:pt x="1145" y="98"/>
                </a:lnTo>
                <a:lnTo>
                  <a:pt x="1043" y="113"/>
                </a:lnTo>
                <a:lnTo>
                  <a:pt x="994" y="122"/>
                </a:lnTo>
                <a:lnTo>
                  <a:pt x="945" y="130"/>
                </a:lnTo>
                <a:lnTo>
                  <a:pt x="898" y="139"/>
                </a:lnTo>
                <a:lnTo>
                  <a:pt x="850" y="148"/>
                </a:lnTo>
                <a:lnTo>
                  <a:pt x="806" y="157"/>
                </a:lnTo>
                <a:lnTo>
                  <a:pt x="761" y="167"/>
                </a:lnTo>
                <a:lnTo>
                  <a:pt x="718" y="177"/>
                </a:lnTo>
                <a:lnTo>
                  <a:pt x="674" y="186"/>
                </a:lnTo>
                <a:lnTo>
                  <a:pt x="634" y="197"/>
                </a:lnTo>
                <a:lnTo>
                  <a:pt x="593" y="207"/>
                </a:lnTo>
                <a:lnTo>
                  <a:pt x="554" y="217"/>
                </a:lnTo>
                <a:lnTo>
                  <a:pt x="515" y="229"/>
                </a:lnTo>
                <a:lnTo>
                  <a:pt x="479" y="240"/>
                </a:lnTo>
                <a:lnTo>
                  <a:pt x="444" y="250"/>
                </a:lnTo>
                <a:lnTo>
                  <a:pt x="409" y="262"/>
                </a:lnTo>
                <a:lnTo>
                  <a:pt x="376" y="274"/>
                </a:lnTo>
                <a:lnTo>
                  <a:pt x="343" y="286"/>
                </a:lnTo>
                <a:lnTo>
                  <a:pt x="313" y="298"/>
                </a:lnTo>
                <a:lnTo>
                  <a:pt x="283" y="310"/>
                </a:lnTo>
                <a:lnTo>
                  <a:pt x="255" y="322"/>
                </a:lnTo>
                <a:lnTo>
                  <a:pt x="229" y="335"/>
                </a:lnTo>
                <a:lnTo>
                  <a:pt x="204" y="348"/>
                </a:lnTo>
                <a:lnTo>
                  <a:pt x="180" y="360"/>
                </a:lnTo>
                <a:lnTo>
                  <a:pt x="158" y="373"/>
                </a:lnTo>
                <a:lnTo>
                  <a:pt x="137" y="387"/>
                </a:lnTo>
                <a:lnTo>
                  <a:pt x="117" y="399"/>
                </a:lnTo>
                <a:lnTo>
                  <a:pt x="98" y="413"/>
                </a:lnTo>
                <a:lnTo>
                  <a:pt x="81" y="427"/>
                </a:lnTo>
                <a:lnTo>
                  <a:pt x="66" y="440"/>
                </a:lnTo>
                <a:lnTo>
                  <a:pt x="53" y="454"/>
                </a:lnTo>
                <a:lnTo>
                  <a:pt x="40" y="468"/>
                </a:lnTo>
                <a:lnTo>
                  <a:pt x="29" y="481"/>
                </a:lnTo>
                <a:lnTo>
                  <a:pt x="21" y="497"/>
                </a:lnTo>
                <a:lnTo>
                  <a:pt x="12" y="511"/>
                </a:lnTo>
                <a:lnTo>
                  <a:pt x="7" y="524"/>
                </a:lnTo>
                <a:lnTo>
                  <a:pt x="3" y="540"/>
                </a:lnTo>
                <a:lnTo>
                  <a:pt x="0" y="553"/>
                </a:lnTo>
                <a:lnTo>
                  <a:pt x="0" y="569"/>
                </a:lnTo>
                <a:lnTo>
                  <a:pt x="0" y="584"/>
                </a:lnTo>
                <a:lnTo>
                  <a:pt x="3" y="598"/>
                </a:lnTo>
                <a:lnTo>
                  <a:pt x="7" y="613"/>
                </a:lnTo>
                <a:lnTo>
                  <a:pt x="12" y="627"/>
                </a:lnTo>
                <a:lnTo>
                  <a:pt x="21" y="641"/>
                </a:lnTo>
                <a:lnTo>
                  <a:pt x="29" y="656"/>
                </a:lnTo>
                <a:lnTo>
                  <a:pt x="40" y="670"/>
                </a:lnTo>
                <a:lnTo>
                  <a:pt x="53" y="684"/>
                </a:lnTo>
                <a:lnTo>
                  <a:pt x="66" y="697"/>
                </a:lnTo>
                <a:lnTo>
                  <a:pt x="81" y="710"/>
                </a:lnTo>
                <a:lnTo>
                  <a:pt x="98" y="724"/>
                </a:lnTo>
                <a:lnTo>
                  <a:pt x="116" y="738"/>
                </a:lnTo>
                <a:lnTo>
                  <a:pt x="135" y="750"/>
                </a:lnTo>
                <a:lnTo>
                  <a:pt x="158" y="764"/>
                </a:lnTo>
                <a:lnTo>
                  <a:pt x="180" y="777"/>
                </a:lnTo>
                <a:lnTo>
                  <a:pt x="204" y="790"/>
                </a:lnTo>
                <a:lnTo>
                  <a:pt x="229" y="802"/>
                </a:lnTo>
                <a:lnTo>
                  <a:pt x="255" y="815"/>
                </a:lnTo>
                <a:lnTo>
                  <a:pt x="283" y="828"/>
                </a:lnTo>
                <a:lnTo>
                  <a:pt x="313" y="840"/>
                </a:lnTo>
                <a:lnTo>
                  <a:pt x="343" y="852"/>
                </a:lnTo>
                <a:lnTo>
                  <a:pt x="376" y="863"/>
                </a:lnTo>
                <a:lnTo>
                  <a:pt x="409" y="876"/>
                </a:lnTo>
                <a:lnTo>
                  <a:pt x="443" y="887"/>
                </a:lnTo>
                <a:lnTo>
                  <a:pt x="479" y="898"/>
                </a:lnTo>
                <a:lnTo>
                  <a:pt x="515" y="908"/>
                </a:lnTo>
                <a:lnTo>
                  <a:pt x="553" y="920"/>
                </a:lnTo>
                <a:lnTo>
                  <a:pt x="593" y="930"/>
                </a:lnTo>
                <a:lnTo>
                  <a:pt x="632" y="941"/>
                </a:lnTo>
                <a:lnTo>
                  <a:pt x="674" y="951"/>
                </a:lnTo>
                <a:lnTo>
                  <a:pt x="716" y="960"/>
                </a:lnTo>
                <a:lnTo>
                  <a:pt x="761" y="970"/>
                </a:lnTo>
                <a:lnTo>
                  <a:pt x="804" y="980"/>
                </a:lnTo>
                <a:lnTo>
                  <a:pt x="850" y="989"/>
                </a:lnTo>
                <a:lnTo>
                  <a:pt x="898" y="998"/>
                </a:lnTo>
                <a:lnTo>
                  <a:pt x="945" y="1007"/>
                </a:lnTo>
                <a:lnTo>
                  <a:pt x="993" y="1016"/>
                </a:lnTo>
                <a:lnTo>
                  <a:pt x="1043" y="1025"/>
                </a:lnTo>
                <a:lnTo>
                  <a:pt x="1145" y="1040"/>
                </a:lnTo>
                <a:lnTo>
                  <a:pt x="1250" y="1055"/>
                </a:lnTo>
                <a:lnTo>
                  <a:pt x="1359" y="1069"/>
                </a:lnTo>
                <a:lnTo>
                  <a:pt x="1470" y="1081"/>
                </a:lnTo>
                <a:lnTo>
                  <a:pt x="1586" y="1093"/>
                </a:lnTo>
                <a:lnTo>
                  <a:pt x="1703" y="1103"/>
                </a:lnTo>
                <a:lnTo>
                  <a:pt x="1825" y="1112"/>
                </a:lnTo>
                <a:lnTo>
                  <a:pt x="1948" y="1119"/>
                </a:lnTo>
                <a:lnTo>
                  <a:pt x="2074" y="1126"/>
                </a:lnTo>
                <a:lnTo>
                  <a:pt x="2202" y="1131"/>
                </a:lnTo>
                <a:lnTo>
                  <a:pt x="2332" y="1134"/>
                </a:lnTo>
                <a:lnTo>
                  <a:pt x="2463" y="1136"/>
                </a:lnTo>
                <a:lnTo>
                  <a:pt x="2597" y="1137"/>
                </a:lnTo>
                <a:lnTo>
                  <a:pt x="2730" y="1136"/>
                </a:lnTo>
                <a:lnTo>
                  <a:pt x="2862" y="1134"/>
                </a:lnTo>
                <a:lnTo>
                  <a:pt x="2992" y="1131"/>
                </a:lnTo>
                <a:lnTo>
                  <a:pt x="3121" y="1126"/>
                </a:lnTo>
                <a:lnTo>
                  <a:pt x="3246" y="1119"/>
                </a:lnTo>
                <a:lnTo>
                  <a:pt x="3369" y="1112"/>
                </a:lnTo>
                <a:lnTo>
                  <a:pt x="3489" y="1103"/>
                </a:lnTo>
                <a:lnTo>
                  <a:pt x="3608" y="1093"/>
                </a:lnTo>
                <a:lnTo>
                  <a:pt x="3723" y="1081"/>
                </a:lnTo>
                <a:lnTo>
                  <a:pt x="3834" y="1069"/>
                </a:lnTo>
                <a:lnTo>
                  <a:pt x="3943" y="1055"/>
                </a:lnTo>
                <a:lnTo>
                  <a:pt x="4049" y="1040"/>
                </a:lnTo>
                <a:lnTo>
                  <a:pt x="4151" y="1025"/>
                </a:lnTo>
                <a:lnTo>
                  <a:pt x="4200" y="1016"/>
                </a:lnTo>
                <a:lnTo>
                  <a:pt x="4249" y="1007"/>
                </a:lnTo>
                <a:lnTo>
                  <a:pt x="4297" y="998"/>
                </a:lnTo>
                <a:lnTo>
                  <a:pt x="4343" y="989"/>
                </a:lnTo>
                <a:lnTo>
                  <a:pt x="4389" y="980"/>
                </a:lnTo>
                <a:lnTo>
                  <a:pt x="4433" y="970"/>
                </a:lnTo>
                <a:lnTo>
                  <a:pt x="4477" y="960"/>
                </a:lnTo>
                <a:lnTo>
                  <a:pt x="4520" y="951"/>
                </a:lnTo>
                <a:lnTo>
                  <a:pt x="4560" y="941"/>
                </a:lnTo>
                <a:lnTo>
                  <a:pt x="4601" y="930"/>
                </a:lnTo>
                <a:lnTo>
                  <a:pt x="4640" y="920"/>
                </a:lnTo>
                <a:lnTo>
                  <a:pt x="4678" y="908"/>
                </a:lnTo>
                <a:lnTo>
                  <a:pt x="4715" y="898"/>
                </a:lnTo>
                <a:lnTo>
                  <a:pt x="4750" y="887"/>
                </a:lnTo>
                <a:lnTo>
                  <a:pt x="4785" y="876"/>
                </a:lnTo>
                <a:lnTo>
                  <a:pt x="4817" y="863"/>
                </a:lnTo>
                <a:lnTo>
                  <a:pt x="4850" y="852"/>
                </a:lnTo>
                <a:lnTo>
                  <a:pt x="4880" y="840"/>
                </a:lnTo>
                <a:lnTo>
                  <a:pt x="4910" y="828"/>
                </a:lnTo>
                <a:lnTo>
                  <a:pt x="4937" y="815"/>
                </a:lnTo>
                <a:lnTo>
                  <a:pt x="4964" y="802"/>
                </a:lnTo>
                <a:lnTo>
                  <a:pt x="4991" y="790"/>
                </a:lnTo>
                <a:lnTo>
                  <a:pt x="5014" y="777"/>
                </a:lnTo>
                <a:lnTo>
                  <a:pt x="5037" y="764"/>
                </a:lnTo>
                <a:lnTo>
                  <a:pt x="5058" y="750"/>
                </a:lnTo>
                <a:lnTo>
                  <a:pt x="5077" y="738"/>
                </a:lnTo>
                <a:lnTo>
                  <a:pt x="5095" y="724"/>
                </a:lnTo>
                <a:lnTo>
                  <a:pt x="5112" y="710"/>
                </a:lnTo>
                <a:lnTo>
                  <a:pt x="5127" y="697"/>
                </a:lnTo>
                <a:lnTo>
                  <a:pt x="5141" y="684"/>
                </a:lnTo>
                <a:lnTo>
                  <a:pt x="5154" y="670"/>
                </a:lnTo>
                <a:lnTo>
                  <a:pt x="5164" y="656"/>
                </a:lnTo>
                <a:lnTo>
                  <a:pt x="5173" y="641"/>
                </a:lnTo>
                <a:lnTo>
                  <a:pt x="5180" y="627"/>
                </a:lnTo>
                <a:lnTo>
                  <a:pt x="5186" y="613"/>
                </a:lnTo>
                <a:lnTo>
                  <a:pt x="5190" y="598"/>
                </a:lnTo>
                <a:lnTo>
                  <a:pt x="5193" y="584"/>
                </a:lnTo>
                <a:lnTo>
                  <a:pt x="5194" y="56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76320" y="3500280"/>
            <a:ext cx="3864240" cy="851040"/>
          </a:xfrm>
          <a:custGeom>
            <a:avLst/>
            <a:gdLst/>
            <a:ahLst/>
            <a:rect l="l" t="t" r="r" b="b"/>
            <a:pathLst>
              <a:path w="5194" h="1137">
                <a:moveTo>
                  <a:pt x="5194" y="569"/>
                </a:moveTo>
                <a:lnTo>
                  <a:pt x="5193" y="553"/>
                </a:lnTo>
                <a:lnTo>
                  <a:pt x="5190" y="540"/>
                </a:lnTo>
                <a:lnTo>
                  <a:pt x="5186" y="524"/>
                </a:lnTo>
                <a:lnTo>
                  <a:pt x="5180" y="511"/>
                </a:lnTo>
                <a:lnTo>
                  <a:pt x="5173" y="497"/>
                </a:lnTo>
                <a:lnTo>
                  <a:pt x="5164" y="481"/>
                </a:lnTo>
                <a:lnTo>
                  <a:pt x="5154" y="468"/>
                </a:lnTo>
                <a:lnTo>
                  <a:pt x="5141" y="454"/>
                </a:lnTo>
                <a:lnTo>
                  <a:pt x="5127" y="440"/>
                </a:lnTo>
                <a:lnTo>
                  <a:pt x="5112" y="427"/>
                </a:lnTo>
                <a:lnTo>
                  <a:pt x="5095" y="413"/>
                </a:lnTo>
                <a:lnTo>
                  <a:pt x="5077" y="399"/>
                </a:lnTo>
                <a:lnTo>
                  <a:pt x="5058" y="387"/>
                </a:lnTo>
                <a:lnTo>
                  <a:pt x="5037" y="373"/>
                </a:lnTo>
                <a:lnTo>
                  <a:pt x="5014" y="360"/>
                </a:lnTo>
                <a:lnTo>
                  <a:pt x="4991" y="348"/>
                </a:lnTo>
                <a:lnTo>
                  <a:pt x="4965" y="335"/>
                </a:lnTo>
                <a:lnTo>
                  <a:pt x="4937" y="322"/>
                </a:lnTo>
                <a:lnTo>
                  <a:pt x="4910" y="310"/>
                </a:lnTo>
                <a:lnTo>
                  <a:pt x="4880" y="298"/>
                </a:lnTo>
                <a:lnTo>
                  <a:pt x="4850" y="286"/>
                </a:lnTo>
                <a:lnTo>
                  <a:pt x="4819" y="274"/>
                </a:lnTo>
                <a:lnTo>
                  <a:pt x="4785" y="262"/>
                </a:lnTo>
                <a:lnTo>
                  <a:pt x="4750" y="250"/>
                </a:lnTo>
                <a:lnTo>
                  <a:pt x="4715" y="240"/>
                </a:lnTo>
                <a:lnTo>
                  <a:pt x="4678" y="229"/>
                </a:lnTo>
                <a:lnTo>
                  <a:pt x="4640" y="217"/>
                </a:lnTo>
                <a:lnTo>
                  <a:pt x="4601" y="207"/>
                </a:lnTo>
                <a:lnTo>
                  <a:pt x="4560" y="197"/>
                </a:lnTo>
                <a:lnTo>
                  <a:pt x="4520" y="186"/>
                </a:lnTo>
                <a:lnTo>
                  <a:pt x="4477" y="177"/>
                </a:lnTo>
                <a:lnTo>
                  <a:pt x="4433" y="167"/>
                </a:lnTo>
                <a:lnTo>
                  <a:pt x="4389" y="157"/>
                </a:lnTo>
                <a:lnTo>
                  <a:pt x="4344" y="148"/>
                </a:lnTo>
                <a:lnTo>
                  <a:pt x="4297" y="139"/>
                </a:lnTo>
                <a:lnTo>
                  <a:pt x="4249" y="130"/>
                </a:lnTo>
                <a:lnTo>
                  <a:pt x="4200" y="122"/>
                </a:lnTo>
                <a:lnTo>
                  <a:pt x="4151" y="113"/>
                </a:lnTo>
                <a:lnTo>
                  <a:pt x="4049" y="98"/>
                </a:lnTo>
                <a:lnTo>
                  <a:pt x="3943" y="82"/>
                </a:lnTo>
                <a:lnTo>
                  <a:pt x="3834" y="68"/>
                </a:lnTo>
                <a:lnTo>
                  <a:pt x="3723" y="56"/>
                </a:lnTo>
                <a:lnTo>
                  <a:pt x="3608" y="44"/>
                </a:lnTo>
                <a:lnTo>
                  <a:pt x="3489" y="34"/>
                </a:lnTo>
                <a:lnTo>
                  <a:pt x="3369" y="26"/>
                </a:lnTo>
                <a:lnTo>
                  <a:pt x="3246" y="18"/>
                </a:lnTo>
                <a:lnTo>
                  <a:pt x="3121" y="12"/>
                </a:lnTo>
                <a:lnTo>
                  <a:pt x="2992" y="7"/>
                </a:lnTo>
                <a:lnTo>
                  <a:pt x="2862" y="3"/>
                </a:lnTo>
                <a:lnTo>
                  <a:pt x="2731" y="2"/>
                </a:lnTo>
                <a:lnTo>
                  <a:pt x="2597" y="0"/>
                </a:lnTo>
                <a:lnTo>
                  <a:pt x="2463" y="2"/>
                </a:lnTo>
                <a:lnTo>
                  <a:pt x="2332" y="3"/>
                </a:lnTo>
                <a:lnTo>
                  <a:pt x="2202" y="7"/>
                </a:lnTo>
                <a:lnTo>
                  <a:pt x="2074" y="12"/>
                </a:lnTo>
                <a:lnTo>
                  <a:pt x="1948" y="18"/>
                </a:lnTo>
                <a:lnTo>
                  <a:pt x="1825" y="26"/>
                </a:lnTo>
                <a:lnTo>
                  <a:pt x="1703" y="34"/>
                </a:lnTo>
                <a:lnTo>
                  <a:pt x="1586" y="44"/>
                </a:lnTo>
                <a:lnTo>
                  <a:pt x="1472" y="56"/>
                </a:lnTo>
                <a:lnTo>
                  <a:pt x="1359" y="68"/>
                </a:lnTo>
                <a:lnTo>
                  <a:pt x="1251" y="82"/>
                </a:lnTo>
                <a:lnTo>
                  <a:pt x="1145" y="98"/>
                </a:lnTo>
                <a:lnTo>
                  <a:pt x="1043" y="113"/>
                </a:lnTo>
                <a:lnTo>
                  <a:pt x="994" y="122"/>
                </a:lnTo>
                <a:lnTo>
                  <a:pt x="945" y="130"/>
                </a:lnTo>
                <a:lnTo>
                  <a:pt x="898" y="139"/>
                </a:lnTo>
                <a:lnTo>
                  <a:pt x="850" y="148"/>
                </a:lnTo>
                <a:lnTo>
                  <a:pt x="806" y="157"/>
                </a:lnTo>
                <a:lnTo>
                  <a:pt x="761" y="167"/>
                </a:lnTo>
                <a:lnTo>
                  <a:pt x="718" y="177"/>
                </a:lnTo>
                <a:lnTo>
                  <a:pt x="674" y="186"/>
                </a:lnTo>
                <a:lnTo>
                  <a:pt x="634" y="197"/>
                </a:lnTo>
                <a:lnTo>
                  <a:pt x="593" y="207"/>
                </a:lnTo>
                <a:lnTo>
                  <a:pt x="554" y="217"/>
                </a:lnTo>
                <a:lnTo>
                  <a:pt x="515" y="229"/>
                </a:lnTo>
                <a:lnTo>
                  <a:pt x="479" y="240"/>
                </a:lnTo>
                <a:lnTo>
                  <a:pt x="444" y="250"/>
                </a:lnTo>
                <a:lnTo>
                  <a:pt x="409" y="262"/>
                </a:lnTo>
                <a:lnTo>
                  <a:pt x="376" y="274"/>
                </a:lnTo>
                <a:lnTo>
                  <a:pt x="343" y="286"/>
                </a:lnTo>
                <a:lnTo>
                  <a:pt x="313" y="298"/>
                </a:lnTo>
                <a:lnTo>
                  <a:pt x="283" y="310"/>
                </a:lnTo>
                <a:lnTo>
                  <a:pt x="255" y="322"/>
                </a:lnTo>
                <a:lnTo>
                  <a:pt x="229" y="335"/>
                </a:lnTo>
                <a:lnTo>
                  <a:pt x="204" y="348"/>
                </a:lnTo>
                <a:lnTo>
                  <a:pt x="180" y="360"/>
                </a:lnTo>
                <a:lnTo>
                  <a:pt x="158" y="373"/>
                </a:lnTo>
                <a:lnTo>
                  <a:pt x="137" y="387"/>
                </a:lnTo>
                <a:lnTo>
                  <a:pt x="117" y="399"/>
                </a:lnTo>
                <a:lnTo>
                  <a:pt x="98" y="413"/>
                </a:lnTo>
                <a:lnTo>
                  <a:pt x="81" y="427"/>
                </a:lnTo>
                <a:lnTo>
                  <a:pt x="66" y="440"/>
                </a:lnTo>
                <a:lnTo>
                  <a:pt x="53" y="454"/>
                </a:lnTo>
                <a:lnTo>
                  <a:pt x="40" y="468"/>
                </a:lnTo>
                <a:lnTo>
                  <a:pt x="29" y="481"/>
                </a:lnTo>
                <a:lnTo>
                  <a:pt x="21" y="497"/>
                </a:lnTo>
                <a:lnTo>
                  <a:pt x="12" y="511"/>
                </a:lnTo>
                <a:lnTo>
                  <a:pt x="7" y="524"/>
                </a:lnTo>
                <a:lnTo>
                  <a:pt x="3" y="540"/>
                </a:lnTo>
                <a:lnTo>
                  <a:pt x="0" y="553"/>
                </a:lnTo>
                <a:lnTo>
                  <a:pt x="0" y="569"/>
                </a:lnTo>
                <a:lnTo>
                  <a:pt x="0" y="584"/>
                </a:lnTo>
                <a:lnTo>
                  <a:pt x="3" y="598"/>
                </a:lnTo>
                <a:lnTo>
                  <a:pt x="7" y="613"/>
                </a:lnTo>
                <a:lnTo>
                  <a:pt x="12" y="627"/>
                </a:lnTo>
                <a:lnTo>
                  <a:pt x="21" y="641"/>
                </a:lnTo>
                <a:lnTo>
                  <a:pt x="29" y="656"/>
                </a:lnTo>
                <a:lnTo>
                  <a:pt x="40" y="670"/>
                </a:lnTo>
                <a:lnTo>
                  <a:pt x="53" y="684"/>
                </a:lnTo>
                <a:lnTo>
                  <a:pt x="66" y="697"/>
                </a:lnTo>
                <a:lnTo>
                  <a:pt x="81" y="710"/>
                </a:lnTo>
                <a:lnTo>
                  <a:pt x="98" y="724"/>
                </a:lnTo>
                <a:lnTo>
                  <a:pt x="116" y="738"/>
                </a:lnTo>
                <a:lnTo>
                  <a:pt x="135" y="750"/>
                </a:lnTo>
                <a:lnTo>
                  <a:pt x="158" y="764"/>
                </a:lnTo>
                <a:lnTo>
                  <a:pt x="180" y="777"/>
                </a:lnTo>
                <a:lnTo>
                  <a:pt x="204" y="790"/>
                </a:lnTo>
                <a:lnTo>
                  <a:pt x="229" y="802"/>
                </a:lnTo>
                <a:lnTo>
                  <a:pt x="255" y="815"/>
                </a:lnTo>
                <a:lnTo>
                  <a:pt x="283" y="828"/>
                </a:lnTo>
                <a:lnTo>
                  <a:pt x="313" y="840"/>
                </a:lnTo>
                <a:lnTo>
                  <a:pt x="343" y="852"/>
                </a:lnTo>
                <a:lnTo>
                  <a:pt x="376" y="863"/>
                </a:lnTo>
                <a:lnTo>
                  <a:pt x="409" y="876"/>
                </a:lnTo>
                <a:lnTo>
                  <a:pt x="443" y="887"/>
                </a:lnTo>
                <a:lnTo>
                  <a:pt x="479" y="898"/>
                </a:lnTo>
                <a:lnTo>
                  <a:pt x="515" y="908"/>
                </a:lnTo>
                <a:lnTo>
                  <a:pt x="553" y="920"/>
                </a:lnTo>
                <a:lnTo>
                  <a:pt x="593" y="930"/>
                </a:lnTo>
                <a:lnTo>
                  <a:pt x="632" y="941"/>
                </a:lnTo>
                <a:lnTo>
                  <a:pt x="674" y="951"/>
                </a:lnTo>
                <a:lnTo>
                  <a:pt x="716" y="960"/>
                </a:lnTo>
                <a:lnTo>
                  <a:pt x="761" y="970"/>
                </a:lnTo>
                <a:lnTo>
                  <a:pt x="804" y="980"/>
                </a:lnTo>
                <a:lnTo>
                  <a:pt x="850" y="989"/>
                </a:lnTo>
                <a:lnTo>
                  <a:pt x="898" y="998"/>
                </a:lnTo>
                <a:lnTo>
                  <a:pt x="945" y="1007"/>
                </a:lnTo>
                <a:lnTo>
                  <a:pt x="993" y="1016"/>
                </a:lnTo>
                <a:lnTo>
                  <a:pt x="1043" y="1025"/>
                </a:lnTo>
                <a:lnTo>
                  <a:pt x="1145" y="1040"/>
                </a:lnTo>
                <a:lnTo>
                  <a:pt x="1250" y="1055"/>
                </a:lnTo>
                <a:lnTo>
                  <a:pt x="1359" y="1069"/>
                </a:lnTo>
                <a:lnTo>
                  <a:pt x="1470" y="1081"/>
                </a:lnTo>
                <a:lnTo>
                  <a:pt x="1586" y="1093"/>
                </a:lnTo>
                <a:lnTo>
                  <a:pt x="1703" y="1103"/>
                </a:lnTo>
                <a:lnTo>
                  <a:pt x="1825" y="1112"/>
                </a:lnTo>
                <a:lnTo>
                  <a:pt x="1948" y="1119"/>
                </a:lnTo>
                <a:lnTo>
                  <a:pt x="2074" y="1126"/>
                </a:lnTo>
                <a:lnTo>
                  <a:pt x="2202" y="1131"/>
                </a:lnTo>
                <a:lnTo>
                  <a:pt x="2332" y="1134"/>
                </a:lnTo>
                <a:lnTo>
                  <a:pt x="2463" y="1136"/>
                </a:lnTo>
                <a:lnTo>
                  <a:pt x="2597" y="1137"/>
                </a:lnTo>
                <a:lnTo>
                  <a:pt x="2730" y="1136"/>
                </a:lnTo>
                <a:lnTo>
                  <a:pt x="2862" y="1134"/>
                </a:lnTo>
                <a:lnTo>
                  <a:pt x="2992" y="1131"/>
                </a:lnTo>
                <a:lnTo>
                  <a:pt x="3121" y="1126"/>
                </a:lnTo>
                <a:lnTo>
                  <a:pt x="3246" y="1119"/>
                </a:lnTo>
                <a:lnTo>
                  <a:pt x="3369" y="1112"/>
                </a:lnTo>
                <a:lnTo>
                  <a:pt x="3489" y="1103"/>
                </a:lnTo>
                <a:lnTo>
                  <a:pt x="3608" y="1093"/>
                </a:lnTo>
                <a:lnTo>
                  <a:pt x="3723" y="1081"/>
                </a:lnTo>
                <a:lnTo>
                  <a:pt x="3834" y="1069"/>
                </a:lnTo>
                <a:lnTo>
                  <a:pt x="3943" y="1055"/>
                </a:lnTo>
                <a:lnTo>
                  <a:pt x="4049" y="1040"/>
                </a:lnTo>
                <a:lnTo>
                  <a:pt x="4151" y="1025"/>
                </a:lnTo>
                <a:lnTo>
                  <a:pt x="4200" y="1016"/>
                </a:lnTo>
                <a:lnTo>
                  <a:pt x="4249" y="1007"/>
                </a:lnTo>
                <a:lnTo>
                  <a:pt x="4297" y="998"/>
                </a:lnTo>
                <a:lnTo>
                  <a:pt x="4343" y="989"/>
                </a:lnTo>
                <a:lnTo>
                  <a:pt x="4389" y="980"/>
                </a:lnTo>
                <a:lnTo>
                  <a:pt x="4433" y="970"/>
                </a:lnTo>
                <a:lnTo>
                  <a:pt x="4477" y="960"/>
                </a:lnTo>
                <a:lnTo>
                  <a:pt x="4520" y="951"/>
                </a:lnTo>
                <a:lnTo>
                  <a:pt x="4560" y="941"/>
                </a:lnTo>
                <a:lnTo>
                  <a:pt x="4601" y="930"/>
                </a:lnTo>
                <a:lnTo>
                  <a:pt x="4640" y="920"/>
                </a:lnTo>
                <a:lnTo>
                  <a:pt x="4678" y="908"/>
                </a:lnTo>
                <a:lnTo>
                  <a:pt x="4715" y="898"/>
                </a:lnTo>
                <a:lnTo>
                  <a:pt x="4750" y="887"/>
                </a:lnTo>
                <a:lnTo>
                  <a:pt x="4785" y="876"/>
                </a:lnTo>
                <a:lnTo>
                  <a:pt x="4817" y="863"/>
                </a:lnTo>
                <a:lnTo>
                  <a:pt x="4850" y="852"/>
                </a:lnTo>
                <a:lnTo>
                  <a:pt x="4880" y="840"/>
                </a:lnTo>
                <a:lnTo>
                  <a:pt x="4910" y="828"/>
                </a:lnTo>
                <a:lnTo>
                  <a:pt x="4937" y="815"/>
                </a:lnTo>
                <a:lnTo>
                  <a:pt x="4964" y="802"/>
                </a:lnTo>
                <a:lnTo>
                  <a:pt x="4991" y="790"/>
                </a:lnTo>
                <a:lnTo>
                  <a:pt x="5014" y="777"/>
                </a:lnTo>
                <a:lnTo>
                  <a:pt x="5037" y="764"/>
                </a:lnTo>
                <a:lnTo>
                  <a:pt x="5058" y="750"/>
                </a:lnTo>
                <a:lnTo>
                  <a:pt x="5077" y="738"/>
                </a:lnTo>
                <a:lnTo>
                  <a:pt x="5095" y="724"/>
                </a:lnTo>
                <a:lnTo>
                  <a:pt x="5112" y="710"/>
                </a:lnTo>
                <a:lnTo>
                  <a:pt x="5127" y="697"/>
                </a:lnTo>
                <a:lnTo>
                  <a:pt x="5141" y="684"/>
                </a:lnTo>
                <a:lnTo>
                  <a:pt x="5154" y="670"/>
                </a:lnTo>
                <a:lnTo>
                  <a:pt x="5164" y="656"/>
                </a:lnTo>
                <a:lnTo>
                  <a:pt x="5173" y="641"/>
                </a:lnTo>
                <a:lnTo>
                  <a:pt x="5180" y="627"/>
                </a:lnTo>
                <a:lnTo>
                  <a:pt x="5186" y="613"/>
                </a:lnTo>
                <a:lnTo>
                  <a:pt x="5190" y="598"/>
                </a:lnTo>
                <a:lnTo>
                  <a:pt x="5193" y="584"/>
                </a:lnTo>
                <a:lnTo>
                  <a:pt x="5194" y="5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4005360"/>
            <a:ext cx="214560" cy="617400"/>
          </a:xfrm>
          <a:custGeom>
            <a:avLst/>
            <a:gdLst/>
            <a:ahLst/>
            <a:rect l="l" t="t" r="r" b="b"/>
            <a:pathLst>
              <a:path w="287" h="825">
                <a:moveTo>
                  <a:pt x="241" y="5"/>
                </a:moveTo>
                <a:lnTo>
                  <a:pt x="251" y="32"/>
                </a:lnTo>
                <a:lnTo>
                  <a:pt x="260" y="59"/>
                </a:lnTo>
                <a:lnTo>
                  <a:pt x="266" y="87"/>
                </a:lnTo>
                <a:lnTo>
                  <a:pt x="273" y="114"/>
                </a:lnTo>
                <a:lnTo>
                  <a:pt x="279" y="141"/>
                </a:lnTo>
                <a:lnTo>
                  <a:pt x="282" y="169"/>
                </a:lnTo>
                <a:lnTo>
                  <a:pt x="283" y="183"/>
                </a:lnTo>
                <a:lnTo>
                  <a:pt x="283" y="186"/>
                </a:lnTo>
                <a:lnTo>
                  <a:pt x="282" y="187"/>
                </a:lnTo>
                <a:lnTo>
                  <a:pt x="280" y="188"/>
                </a:lnTo>
                <a:lnTo>
                  <a:pt x="278" y="189"/>
                </a:lnTo>
                <a:lnTo>
                  <a:pt x="275" y="189"/>
                </a:lnTo>
                <a:lnTo>
                  <a:pt x="272" y="188"/>
                </a:lnTo>
                <a:lnTo>
                  <a:pt x="271" y="187"/>
                </a:lnTo>
                <a:lnTo>
                  <a:pt x="271" y="184"/>
                </a:lnTo>
                <a:lnTo>
                  <a:pt x="269" y="172"/>
                </a:lnTo>
                <a:lnTo>
                  <a:pt x="265" y="144"/>
                </a:lnTo>
                <a:lnTo>
                  <a:pt x="260" y="116"/>
                </a:lnTo>
                <a:lnTo>
                  <a:pt x="254" y="90"/>
                </a:lnTo>
                <a:lnTo>
                  <a:pt x="247" y="62"/>
                </a:lnTo>
                <a:lnTo>
                  <a:pt x="237" y="35"/>
                </a:lnTo>
                <a:lnTo>
                  <a:pt x="227" y="9"/>
                </a:lnTo>
                <a:lnTo>
                  <a:pt x="227" y="6"/>
                </a:lnTo>
                <a:lnTo>
                  <a:pt x="229" y="4"/>
                </a:lnTo>
                <a:lnTo>
                  <a:pt x="230" y="1"/>
                </a:lnTo>
                <a:lnTo>
                  <a:pt x="233" y="0"/>
                </a:lnTo>
                <a:lnTo>
                  <a:pt x="234" y="0"/>
                </a:lnTo>
                <a:lnTo>
                  <a:pt x="237" y="1"/>
                </a:lnTo>
                <a:lnTo>
                  <a:pt x="240" y="2"/>
                </a:lnTo>
                <a:lnTo>
                  <a:pt x="241" y="5"/>
                </a:lnTo>
                <a:lnTo>
                  <a:pt x="241" y="5"/>
                </a:lnTo>
                <a:close/>
                <a:moveTo>
                  <a:pt x="287" y="293"/>
                </a:moveTo>
                <a:lnTo>
                  <a:pt x="286" y="308"/>
                </a:lnTo>
                <a:lnTo>
                  <a:pt x="283" y="336"/>
                </a:lnTo>
                <a:lnTo>
                  <a:pt x="279" y="364"/>
                </a:lnTo>
                <a:lnTo>
                  <a:pt x="275" y="391"/>
                </a:lnTo>
                <a:lnTo>
                  <a:pt x="269" y="418"/>
                </a:lnTo>
                <a:lnTo>
                  <a:pt x="262" y="445"/>
                </a:lnTo>
                <a:lnTo>
                  <a:pt x="254" y="471"/>
                </a:lnTo>
                <a:lnTo>
                  <a:pt x="254" y="474"/>
                </a:lnTo>
                <a:lnTo>
                  <a:pt x="253" y="475"/>
                </a:lnTo>
                <a:lnTo>
                  <a:pt x="250" y="477"/>
                </a:lnTo>
                <a:lnTo>
                  <a:pt x="247" y="477"/>
                </a:lnTo>
                <a:lnTo>
                  <a:pt x="246" y="477"/>
                </a:lnTo>
                <a:lnTo>
                  <a:pt x="243" y="476"/>
                </a:lnTo>
                <a:lnTo>
                  <a:pt x="241" y="474"/>
                </a:lnTo>
                <a:lnTo>
                  <a:pt x="240" y="472"/>
                </a:lnTo>
                <a:lnTo>
                  <a:pt x="240" y="470"/>
                </a:lnTo>
                <a:lnTo>
                  <a:pt x="241" y="469"/>
                </a:lnTo>
                <a:lnTo>
                  <a:pt x="248" y="442"/>
                </a:lnTo>
                <a:lnTo>
                  <a:pt x="255" y="415"/>
                </a:lnTo>
                <a:lnTo>
                  <a:pt x="261" y="389"/>
                </a:lnTo>
                <a:lnTo>
                  <a:pt x="266" y="362"/>
                </a:lnTo>
                <a:lnTo>
                  <a:pt x="269" y="336"/>
                </a:lnTo>
                <a:lnTo>
                  <a:pt x="272" y="308"/>
                </a:lnTo>
                <a:lnTo>
                  <a:pt x="273" y="292"/>
                </a:lnTo>
                <a:lnTo>
                  <a:pt x="273" y="290"/>
                </a:lnTo>
                <a:lnTo>
                  <a:pt x="275" y="288"/>
                </a:lnTo>
                <a:lnTo>
                  <a:pt x="278" y="287"/>
                </a:lnTo>
                <a:lnTo>
                  <a:pt x="280" y="287"/>
                </a:lnTo>
                <a:lnTo>
                  <a:pt x="283" y="287"/>
                </a:lnTo>
                <a:lnTo>
                  <a:pt x="285" y="288"/>
                </a:lnTo>
                <a:lnTo>
                  <a:pt x="286" y="290"/>
                </a:lnTo>
                <a:lnTo>
                  <a:pt x="287" y="293"/>
                </a:lnTo>
                <a:lnTo>
                  <a:pt x="287" y="293"/>
                </a:lnTo>
                <a:close/>
                <a:moveTo>
                  <a:pt x="211" y="576"/>
                </a:moveTo>
                <a:lnTo>
                  <a:pt x="198" y="600"/>
                </a:lnTo>
                <a:lnTo>
                  <a:pt x="184" y="625"/>
                </a:lnTo>
                <a:lnTo>
                  <a:pt x="169" y="649"/>
                </a:lnTo>
                <a:lnTo>
                  <a:pt x="152" y="673"/>
                </a:lnTo>
                <a:lnTo>
                  <a:pt x="135" y="696"/>
                </a:lnTo>
                <a:lnTo>
                  <a:pt x="117" y="719"/>
                </a:lnTo>
                <a:lnTo>
                  <a:pt x="106" y="733"/>
                </a:lnTo>
                <a:lnTo>
                  <a:pt x="103" y="734"/>
                </a:lnTo>
                <a:lnTo>
                  <a:pt x="100" y="734"/>
                </a:lnTo>
                <a:lnTo>
                  <a:pt x="99" y="734"/>
                </a:lnTo>
                <a:lnTo>
                  <a:pt x="96" y="734"/>
                </a:lnTo>
                <a:lnTo>
                  <a:pt x="95" y="731"/>
                </a:lnTo>
                <a:lnTo>
                  <a:pt x="93" y="729"/>
                </a:lnTo>
                <a:lnTo>
                  <a:pt x="93" y="726"/>
                </a:lnTo>
                <a:lnTo>
                  <a:pt x="95" y="725"/>
                </a:lnTo>
                <a:lnTo>
                  <a:pt x="106" y="711"/>
                </a:lnTo>
                <a:lnTo>
                  <a:pt x="124" y="690"/>
                </a:lnTo>
                <a:lnTo>
                  <a:pt x="141" y="667"/>
                </a:lnTo>
                <a:lnTo>
                  <a:pt x="158" y="643"/>
                </a:lnTo>
                <a:lnTo>
                  <a:pt x="172" y="619"/>
                </a:lnTo>
                <a:lnTo>
                  <a:pt x="186" y="595"/>
                </a:lnTo>
                <a:lnTo>
                  <a:pt x="198" y="571"/>
                </a:lnTo>
                <a:lnTo>
                  <a:pt x="199" y="570"/>
                </a:lnTo>
                <a:lnTo>
                  <a:pt x="202" y="568"/>
                </a:lnTo>
                <a:lnTo>
                  <a:pt x="205" y="567"/>
                </a:lnTo>
                <a:lnTo>
                  <a:pt x="208" y="568"/>
                </a:lnTo>
                <a:lnTo>
                  <a:pt x="209" y="570"/>
                </a:lnTo>
                <a:lnTo>
                  <a:pt x="211" y="572"/>
                </a:lnTo>
                <a:lnTo>
                  <a:pt x="212" y="573"/>
                </a:lnTo>
                <a:lnTo>
                  <a:pt x="211" y="576"/>
                </a:lnTo>
                <a:lnTo>
                  <a:pt x="211" y="576"/>
                </a:lnTo>
                <a:close/>
                <a:moveTo>
                  <a:pt x="24" y="813"/>
                </a:moveTo>
                <a:lnTo>
                  <a:pt x="12" y="823"/>
                </a:lnTo>
                <a:lnTo>
                  <a:pt x="10" y="825"/>
                </a:lnTo>
                <a:lnTo>
                  <a:pt x="7" y="825"/>
                </a:lnTo>
                <a:lnTo>
                  <a:pt x="4" y="825"/>
                </a:lnTo>
                <a:lnTo>
                  <a:pt x="3" y="823"/>
                </a:lnTo>
                <a:lnTo>
                  <a:pt x="1" y="821"/>
                </a:lnTo>
                <a:lnTo>
                  <a:pt x="0" y="818"/>
                </a:lnTo>
                <a:lnTo>
                  <a:pt x="1" y="817"/>
                </a:lnTo>
                <a:lnTo>
                  <a:pt x="3" y="815"/>
                </a:lnTo>
                <a:lnTo>
                  <a:pt x="14" y="804"/>
                </a:lnTo>
                <a:lnTo>
                  <a:pt x="17" y="803"/>
                </a:lnTo>
                <a:lnTo>
                  <a:pt x="19" y="803"/>
                </a:lnTo>
                <a:lnTo>
                  <a:pt x="22" y="803"/>
                </a:lnTo>
                <a:lnTo>
                  <a:pt x="24" y="804"/>
                </a:lnTo>
                <a:lnTo>
                  <a:pt x="25" y="807"/>
                </a:lnTo>
                <a:lnTo>
                  <a:pt x="25" y="810"/>
                </a:lnTo>
                <a:lnTo>
                  <a:pt x="25" y="811"/>
                </a:lnTo>
                <a:lnTo>
                  <a:pt x="24" y="813"/>
                </a:lnTo>
                <a:lnTo>
                  <a:pt x="24" y="81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48200" y="4579920"/>
            <a:ext cx="98640" cy="84240"/>
          </a:xfrm>
          <a:custGeom>
            <a:avLst/>
            <a:gdLst/>
            <a:ahLst/>
            <a:rect l="l" t="t" r="r" b="b"/>
            <a:pathLst>
              <a:path w="133" h="111">
                <a:moveTo>
                  <a:pt x="133" y="86"/>
                </a:moveTo>
                <a:lnTo>
                  <a:pt x="0" y="111"/>
                </a:lnTo>
                <a:lnTo>
                  <a:pt x="58" y="0"/>
                </a:lnTo>
                <a:lnTo>
                  <a:pt x="133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73560" y="4005360"/>
            <a:ext cx="1874880" cy="1423800"/>
          </a:xfrm>
          <a:custGeom>
            <a:avLst/>
            <a:gdLst/>
            <a:ahLst/>
            <a:rect l="l" t="t" r="r" b="b"/>
            <a:pathLst>
              <a:path w="2522" h="1901">
                <a:moveTo>
                  <a:pt x="10" y="0"/>
                </a:moveTo>
                <a:lnTo>
                  <a:pt x="111" y="30"/>
                </a:lnTo>
                <a:lnTo>
                  <a:pt x="200" y="58"/>
                </a:lnTo>
                <a:lnTo>
                  <a:pt x="203" y="59"/>
                </a:lnTo>
                <a:lnTo>
                  <a:pt x="204" y="61"/>
                </a:lnTo>
                <a:lnTo>
                  <a:pt x="204" y="63"/>
                </a:lnTo>
                <a:lnTo>
                  <a:pt x="204" y="66"/>
                </a:lnTo>
                <a:lnTo>
                  <a:pt x="203" y="68"/>
                </a:lnTo>
                <a:lnTo>
                  <a:pt x="201" y="69"/>
                </a:lnTo>
                <a:lnTo>
                  <a:pt x="199" y="69"/>
                </a:lnTo>
                <a:lnTo>
                  <a:pt x="196" y="69"/>
                </a:lnTo>
                <a:lnTo>
                  <a:pt x="107" y="42"/>
                </a:lnTo>
                <a:lnTo>
                  <a:pt x="6" y="13"/>
                </a:lnTo>
                <a:lnTo>
                  <a:pt x="3" y="11"/>
                </a:lnTo>
                <a:lnTo>
                  <a:pt x="2" y="9"/>
                </a:lnTo>
                <a:lnTo>
                  <a:pt x="0" y="6"/>
                </a:lnTo>
                <a:lnTo>
                  <a:pt x="0" y="5"/>
                </a:lnTo>
                <a:lnTo>
                  <a:pt x="2" y="2"/>
                </a:lnTo>
                <a:lnTo>
                  <a:pt x="5" y="1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close/>
                <a:moveTo>
                  <a:pt x="313" y="96"/>
                </a:moveTo>
                <a:lnTo>
                  <a:pt x="407" y="130"/>
                </a:lnTo>
                <a:lnTo>
                  <a:pt x="499" y="167"/>
                </a:lnTo>
                <a:lnTo>
                  <a:pt x="502" y="168"/>
                </a:lnTo>
                <a:lnTo>
                  <a:pt x="503" y="169"/>
                </a:lnTo>
                <a:lnTo>
                  <a:pt x="503" y="172"/>
                </a:lnTo>
                <a:lnTo>
                  <a:pt x="503" y="174"/>
                </a:lnTo>
                <a:lnTo>
                  <a:pt x="502" y="177"/>
                </a:lnTo>
                <a:lnTo>
                  <a:pt x="499" y="178"/>
                </a:lnTo>
                <a:lnTo>
                  <a:pt x="496" y="178"/>
                </a:lnTo>
                <a:lnTo>
                  <a:pt x="495" y="178"/>
                </a:lnTo>
                <a:lnTo>
                  <a:pt x="403" y="141"/>
                </a:lnTo>
                <a:lnTo>
                  <a:pt x="309" y="107"/>
                </a:lnTo>
                <a:lnTo>
                  <a:pt x="306" y="106"/>
                </a:lnTo>
                <a:lnTo>
                  <a:pt x="305" y="104"/>
                </a:lnTo>
                <a:lnTo>
                  <a:pt x="305" y="102"/>
                </a:lnTo>
                <a:lnTo>
                  <a:pt x="305" y="100"/>
                </a:lnTo>
                <a:lnTo>
                  <a:pt x="306" y="97"/>
                </a:lnTo>
                <a:lnTo>
                  <a:pt x="309" y="96"/>
                </a:lnTo>
                <a:lnTo>
                  <a:pt x="310" y="96"/>
                </a:lnTo>
                <a:lnTo>
                  <a:pt x="313" y="96"/>
                </a:lnTo>
                <a:lnTo>
                  <a:pt x="313" y="96"/>
                </a:lnTo>
                <a:close/>
                <a:moveTo>
                  <a:pt x="609" y="212"/>
                </a:moveTo>
                <a:lnTo>
                  <a:pt x="693" y="250"/>
                </a:lnTo>
                <a:lnTo>
                  <a:pt x="787" y="294"/>
                </a:lnTo>
                <a:lnTo>
                  <a:pt x="788" y="296"/>
                </a:lnTo>
                <a:lnTo>
                  <a:pt x="791" y="297"/>
                </a:lnTo>
                <a:lnTo>
                  <a:pt x="791" y="299"/>
                </a:lnTo>
                <a:lnTo>
                  <a:pt x="792" y="302"/>
                </a:lnTo>
                <a:lnTo>
                  <a:pt x="791" y="304"/>
                </a:lnTo>
                <a:lnTo>
                  <a:pt x="789" y="306"/>
                </a:lnTo>
                <a:lnTo>
                  <a:pt x="787" y="307"/>
                </a:lnTo>
                <a:lnTo>
                  <a:pt x="784" y="307"/>
                </a:lnTo>
                <a:lnTo>
                  <a:pt x="782" y="307"/>
                </a:lnTo>
                <a:lnTo>
                  <a:pt x="780" y="306"/>
                </a:lnTo>
                <a:lnTo>
                  <a:pt x="687" y="261"/>
                </a:lnTo>
                <a:lnTo>
                  <a:pt x="604" y="224"/>
                </a:lnTo>
                <a:lnTo>
                  <a:pt x="601" y="222"/>
                </a:lnTo>
                <a:lnTo>
                  <a:pt x="599" y="220"/>
                </a:lnTo>
                <a:lnTo>
                  <a:pt x="599" y="217"/>
                </a:lnTo>
                <a:lnTo>
                  <a:pt x="599" y="216"/>
                </a:lnTo>
                <a:lnTo>
                  <a:pt x="601" y="213"/>
                </a:lnTo>
                <a:lnTo>
                  <a:pt x="604" y="212"/>
                </a:lnTo>
                <a:lnTo>
                  <a:pt x="606" y="212"/>
                </a:lnTo>
                <a:lnTo>
                  <a:pt x="609" y="212"/>
                </a:lnTo>
                <a:lnTo>
                  <a:pt x="609" y="212"/>
                </a:lnTo>
                <a:close/>
                <a:moveTo>
                  <a:pt x="894" y="350"/>
                </a:moveTo>
                <a:lnTo>
                  <a:pt x="967" y="389"/>
                </a:lnTo>
                <a:lnTo>
                  <a:pt x="1056" y="438"/>
                </a:lnTo>
                <a:lnTo>
                  <a:pt x="1066" y="445"/>
                </a:lnTo>
                <a:lnTo>
                  <a:pt x="1067" y="446"/>
                </a:lnTo>
                <a:lnTo>
                  <a:pt x="1069" y="448"/>
                </a:lnTo>
                <a:lnTo>
                  <a:pt x="1069" y="451"/>
                </a:lnTo>
                <a:lnTo>
                  <a:pt x="1067" y="452"/>
                </a:lnTo>
                <a:lnTo>
                  <a:pt x="1066" y="455"/>
                </a:lnTo>
                <a:lnTo>
                  <a:pt x="1063" y="455"/>
                </a:lnTo>
                <a:lnTo>
                  <a:pt x="1060" y="455"/>
                </a:lnTo>
                <a:lnTo>
                  <a:pt x="1057" y="455"/>
                </a:lnTo>
                <a:lnTo>
                  <a:pt x="1049" y="450"/>
                </a:lnTo>
                <a:lnTo>
                  <a:pt x="961" y="399"/>
                </a:lnTo>
                <a:lnTo>
                  <a:pt x="887" y="360"/>
                </a:lnTo>
                <a:lnTo>
                  <a:pt x="884" y="357"/>
                </a:lnTo>
                <a:lnTo>
                  <a:pt x="884" y="356"/>
                </a:lnTo>
                <a:lnTo>
                  <a:pt x="883" y="354"/>
                </a:lnTo>
                <a:lnTo>
                  <a:pt x="884" y="351"/>
                </a:lnTo>
                <a:lnTo>
                  <a:pt x="886" y="350"/>
                </a:lnTo>
                <a:lnTo>
                  <a:pt x="888" y="349"/>
                </a:lnTo>
                <a:lnTo>
                  <a:pt x="891" y="349"/>
                </a:lnTo>
                <a:lnTo>
                  <a:pt x="894" y="350"/>
                </a:lnTo>
                <a:lnTo>
                  <a:pt x="894" y="350"/>
                </a:lnTo>
                <a:close/>
                <a:moveTo>
                  <a:pt x="1166" y="505"/>
                </a:moveTo>
                <a:lnTo>
                  <a:pt x="1229" y="544"/>
                </a:lnTo>
                <a:lnTo>
                  <a:pt x="1313" y="600"/>
                </a:lnTo>
                <a:lnTo>
                  <a:pt x="1330" y="611"/>
                </a:lnTo>
                <a:lnTo>
                  <a:pt x="1331" y="614"/>
                </a:lnTo>
                <a:lnTo>
                  <a:pt x="1331" y="615"/>
                </a:lnTo>
                <a:lnTo>
                  <a:pt x="1331" y="618"/>
                </a:lnTo>
                <a:lnTo>
                  <a:pt x="1330" y="620"/>
                </a:lnTo>
                <a:lnTo>
                  <a:pt x="1328" y="621"/>
                </a:lnTo>
                <a:lnTo>
                  <a:pt x="1326" y="623"/>
                </a:lnTo>
                <a:lnTo>
                  <a:pt x="1323" y="623"/>
                </a:lnTo>
                <a:lnTo>
                  <a:pt x="1321" y="621"/>
                </a:lnTo>
                <a:lnTo>
                  <a:pt x="1305" y="610"/>
                </a:lnTo>
                <a:lnTo>
                  <a:pt x="1221" y="554"/>
                </a:lnTo>
                <a:lnTo>
                  <a:pt x="1158" y="515"/>
                </a:lnTo>
                <a:lnTo>
                  <a:pt x="1157" y="513"/>
                </a:lnTo>
                <a:lnTo>
                  <a:pt x="1155" y="510"/>
                </a:lnTo>
                <a:lnTo>
                  <a:pt x="1155" y="509"/>
                </a:lnTo>
                <a:lnTo>
                  <a:pt x="1157" y="506"/>
                </a:lnTo>
                <a:lnTo>
                  <a:pt x="1158" y="505"/>
                </a:lnTo>
                <a:lnTo>
                  <a:pt x="1161" y="504"/>
                </a:lnTo>
                <a:lnTo>
                  <a:pt x="1164" y="504"/>
                </a:lnTo>
                <a:lnTo>
                  <a:pt x="1166" y="505"/>
                </a:lnTo>
                <a:lnTo>
                  <a:pt x="1166" y="505"/>
                </a:lnTo>
                <a:close/>
                <a:moveTo>
                  <a:pt x="1425" y="679"/>
                </a:moveTo>
                <a:lnTo>
                  <a:pt x="1476" y="717"/>
                </a:lnTo>
                <a:lnTo>
                  <a:pt x="1556" y="778"/>
                </a:lnTo>
                <a:lnTo>
                  <a:pt x="1578" y="797"/>
                </a:lnTo>
                <a:lnTo>
                  <a:pt x="1580" y="798"/>
                </a:lnTo>
                <a:lnTo>
                  <a:pt x="1580" y="801"/>
                </a:lnTo>
                <a:lnTo>
                  <a:pt x="1580" y="803"/>
                </a:lnTo>
                <a:lnTo>
                  <a:pt x="1578" y="806"/>
                </a:lnTo>
                <a:lnTo>
                  <a:pt x="1577" y="807"/>
                </a:lnTo>
                <a:lnTo>
                  <a:pt x="1574" y="807"/>
                </a:lnTo>
                <a:lnTo>
                  <a:pt x="1571" y="807"/>
                </a:lnTo>
                <a:lnTo>
                  <a:pt x="1569" y="806"/>
                </a:lnTo>
                <a:lnTo>
                  <a:pt x="1546" y="788"/>
                </a:lnTo>
                <a:lnTo>
                  <a:pt x="1468" y="726"/>
                </a:lnTo>
                <a:lnTo>
                  <a:pt x="1416" y="688"/>
                </a:lnTo>
                <a:lnTo>
                  <a:pt x="1414" y="687"/>
                </a:lnTo>
                <a:lnTo>
                  <a:pt x="1414" y="685"/>
                </a:lnTo>
                <a:lnTo>
                  <a:pt x="1414" y="682"/>
                </a:lnTo>
                <a:lnTo>
                  <a:pt x="1415" y="679"/>
                </a:lnTo>
                <a:lnTo>
                  <a:pt x="1416" y="678"/>
                </a:lnTo>
                <a:lnTo>
                  <a:pt x="1419" y="678"/>
                </a:lnTo>
                <a:lnTo>
                  <a:pt x="1422" y="678"/>
                </a:lnTo>
                <a:lnTo>
                  <a:pt x="1425" y="679"/>
                </a:lnTo>
                <a:lnTo>
                  <a:pt x="1425" y="679"/>
                </a:lnTo>
                <a:close/>
                <a:moveTo>
                  <a:pt x="1668" y="870"/>
                </a:moveTo>
                <a:lnTo>
                  <a:pt x="1710" y="907"/>
                </a:lnTo>
                <a:lnTo>
                  <a:pt x="1784" y="972"/>
                </a:lnTo>
                <a:lnTo>
                  <a:pt x="1810" y="999"/>
                </a:lnTo>
                <a:lnTo>
                  <a:pt x="1811" y="1000"/>
                </a:lnTo>
                <a:lnTo>
                  <a:pt x="1813" y="1003"/>
                </a:lnTo>
                <a:lnTo>
                  <a:pt x="1811" y="1005"/>
                </a:lnTo>
                <a:lnTo>
                  <a:pt x="1810" y="1007"/>
                </a:lnTo>
                <a:lnTo>
                  <a:pt x="1807" y="1008"/>
                </a:lnTo>
                <a:lnTo>
                  <a:pt x="1806" y="1009"/>
                </a:lnTo>
                <a:lnTo>
                  <a:pt x="1803" y="1008"/>
                </a:lnTo>
                <a:lnTo>
                  <a:pt x="1800" y="1007"/>
                </a:lnTo>
                <a:lnTo>
                  <a:pt x="1774" y="981"/>
                </a:lnTo>
                <a:lnTo>
                  <a:pt x="1700" y="916"/>
                </a:lnTo>
                <a:lnTo>
                  <a:pt x="1658" y="879"/>
                </a:lnTo>
                <a:lnTo>
                  <a:pt x="1656" y="878"/>
                </a:lnTo>
                <a:lnTo>
                  <a:pt x="1655" y="875"/>
                </a:lnTo>
                <a:lnTo>
                  <a:pt x="1656" y="873"/>
                </a:lnTo>
                <a:lnTo>
                  <a:pt x="1658" y="870"/>
                </a:lnTo>
                <a:lnTo>
                  <a:pt x="1659" y="869"/>
                </a:lnTo>
                <a:lnTo>
                  <a:pt x="1662" y="869"/>
                </a:lnTo>
                <a:lnTo>
                  <a:pt x="1665" y="869"/>
                </a:lnTo>
                <a:lnTo>
                  <a:pt x="1668" y="870"/>
                </a:lnTo>
                <a:lnTo>
                  <a:pt x="1668" y="870"/>
                </a:lnTo>
                <a:close/>
                <a:moveTo>
                  <a:pt x="1892" y="1079"/>
                </a:moveTo>
                <a:lnTo>
                  <a:pt x="1926" y="1110"/>
                </a:lnTo>
                <a:lnTo>
                  <a:pt x="1994" y="1182"/>
                </a:lnTo>
                <a:lnTo>
                  <a:pt x="2025" y="1215"/>
                </a:lnTo>
                <a:lnTo>
                  <a:pt x="2027" y="1218"/>
                </a:lnTo>
                <a:lnTo>
                  <a:pt x="2027" y="1220"/>
                </a:lnTo>
                <a:lnTo>
                  <a:pt x="2025" y="1223"/>
                </a:lnTo>
                <a:lnTo>
                  <a:pt x="2024" y="1224"/>
                </a:lnTo>
                <a:lnTo>
                  <a:pt x="2022" y="1225"/>
                </a:lnTo>
                <a:lnTo>
                  <a:pt x="2020" y="1225"/>
                </a:lnTo>
                <a:lnTo>
                  <a:pt x="2017" y="1225"/>
                </a:lnTo>
                <a:lnTo>
                  <a:pt x="2015" y="1224"/>
                </a:lnTo>
                <a:lnTo>
                  <a:pt x="1985" y="1190"/>
                </a:lnTo>
                <a:lnTo>
                  <a:pt x="1916" y="1119"/>
                </a:lnTo>
                <a:lnTo>
                  <a:pt x="1883" y="1086"/>
                </a:lnTo>
                <a:lnTo>
                  <a:pt x="1881" y="1084"/>
                </a:lnTo>
                <a:lnTo>
                  <a:pt x="1881" y="1082"/>
                </a:lnTo>
                <a:lnTo>
                  <a:pt x="1881" y="1080"/>
                </a:lnTo>
                <a:lnTo>
                  <a:pt x="1884" y="1077"/>
                </a:lnTo>
                <a:lnTo>
                  <a:pt x="1886" y="1076"/>
                </a:lnTo>
                <a:lnTo>
                  <a:pt x="1888" y="1076"/>
                </a:lnTo>
                <a:lnTo>
                  <a:pt x="1891" y="1076"/>
                </a:lnTo>
                <a:lnTo>
                  <a:pt x="1892" y="1079"/>
                </a:lnTo>
                <a:lnTo>
                  <a:pt x="1892" y="1079"/>
                </a:lnTo>
                <a:close/>
                <a:moveTo>
                  <a:pt x="2101" y="1301"/>
                </a:moveTo>
                <a:lnTo>
                  <a:pt x="2126" y="1330"/>
                </a:lnTo>
                <a:lnTo>
                  <a:pt x="2189" y="1406"/>
                </a:lnTo>
                <a:lnTo>
                  <a:pt x="2221" y="1447"/>
                </a:lnTo>
                <a:lnTo>
                  <a:pt x="2222" y="1449"/>
                </a:lnTo>
                <a:lnTo>
                  <a:pt x="2222" y="1451"/>
                </a:lnTo>
                <a:lnTo>
                  <a:pt x="2221" y="1454"/>
                </a:lnTo>
                <a:lnTo>
                  <a:pt x="2219" y="1455"/>
                </a:lnTo>
                <a:lnTo>
                  <a:pt x="2216" y="1456"/>
                </a:lnTo>
                <a:lnTo>
                  <a:pt x="2215" y="1456"/>
                </a:lnTo>
                <a:lnTo>
                  <a:pt x="2212" y="1455"/>
                </a:lnTo>
                <a:lnTo>
                  <a:pt x="2209" y="1454"/>
                </a:lnTo>
                <a:lnTo>
                  <a:pt x="2177" y="1412"/>
                </a:lnTo>
                <a:lnTo>
                  <a:pt x="2116" y="1336"/>
                </a:lnTo>
                <a:lnTo>
                  <a:pt x="2091" y="1308"/>
                </a:lnTo>
                <a:lnTo>
                  <a:pt x="2089" y="1306"/>
                </a:lnTo>
                <a:lnTo>
                  <a:pt x="2089" y="1303"/>
                </a:lnTo>
                <a:lnTo>
                  <a:pt x="2089" y="1301"/>
                </a:lnTo>
                <a:lnTo>
                  <a:pt x="2092" y="1300"/>
                </a:lnTo>
                <a:lnTo>
                  <a:pt x="2094" y="1298"/>
                </a:lnTo>
                <a:lnTo>
                  <a:pt x="2096" y="1298"/>
                </a:lnTo>
                <a:lnTo>
                  <a:pt x="2099" y="1300"/>
                </a:lnTo>
                <a:lnTo>
                  <a:pt x="2101" y="1301"/>
                </a:lnTo>
                <a:lnTo>
                  <a:pt x="2101" y="1301"/>
                </a:lnTo>
                <a:close/>
                <a:moveTo>
                  <a:pt x="2289" y="1537"/>
                </a:moveTo>
                <a:lnTo>
                  <a:pt x="2309" y="1562"/>
                </a:lnTo>
                <a:lnTo>
                  <a:pt x="2364" y="1642"/>
                </a:lnTo>
                <a:lnTo>
                  <a:pt x="2397" y="1691"/>
                </a:lnTo>
                <a:lnTo>
                  <a:pt x="2398" y="1694"/>
                </a:lnTo>
                <a:lnTo>
                  <a:pt x="2398" y="1695"/>
                </a:lnTo>
                <a:lnTo>
                  <a:pt x="2397" y="1697"/>
                </a:lnTo>
                <a:lnTo>
                  <a:pt x="2395" y="1700"/>
                </a:lnTo>
                <a:lnTo>
                  <a:pt x="2392" y="1700"/>
                </a:lnTo>
                <a:lnTo>
                  <a:pt x="2390" y="1700"/>
                </a:lnTo>
                <a:lnTo>
                  <a:pt x="2387" y="1699"/>
                </a:lnTo>
                <a:lnTo>
                  <a:pt x="2385" y="1697"/>
                </a:lnTo>
                <a:lnTo>
                  <a:pt x="2353" y="1649"/>
                </a:lnTo>
                <a:lnTo>
                  <a:pt x="2297" y="1569"/>
                </a:lnTo>
                <a:lnTo>
                  <a:pt x="2278" y="1543"/>
                </a:lnTo>
                <a:lnTo>
                  <a:pt x="2278" y="1541"/>
                </a:lnTo>
                <a:lnTo>
                  <a:pt x="2276" y="1540"/>
                </a:lnTo>
                <a:lnTo>
                  <a:pt x="2278" y="1537"/>
                </a:lnTo>
                <a:lnTo>
                  <a:pt x="2281" y="1536"/>
                </a:lnTo>
                <a:lnTo>
                  <a:pt x="2282" y="1535"/>
                </a:lnTo>
                <a:lnTo>
                  <a:pt x="2285" y="1535"/>
                </a:lnTo>
                <a:lnTo>
                  <a:pt x="2288" y="1536"/>
                </a:lnTo>
                <a:lnTo>
                  <a:pt x="2289" y="1537"/>
                </a:lnTo>
                <a:lnTo>
                  <a:pt x="2289" y="1537"/>
                </a:lnTo>
                <a:close/>
                <a:moveTo>
                  <a:pt x="2458" y="1786"/>
                </a:moveTo>
                <a:lnTo>
                  <a:pt x="2471" y="1807"/>
                </a:lnTo>
                <a:lnTo>
                  <a:pt x="2521" y="1892"/>
                </a:lnTo>
                <a:lnTo>
                  <a:pt x="2522" y="1894"/>
                </a:lnTo>
                <a:lnTo>
                  <a:pt x="2522" y="1897"/>
                </a:lnTo>
                <a:lnTo>
                  <a:pt x="2521" y="1900"/>
                </a:lnTo>
                <a:lnTo>
                  <a:pt x="2518" y="1901"/>
                </a:lnTo>
                <a:lnTo>
                  <a:pt x="2515" y="1901"/>
                </a:lnTo>
                <a:lnTo>
                  <a:pt x="2514" y="1901"/>
                </a:lnTo>
                <a:lnTo>
                  <a:pt x="2511" y="1900"/>
                </a:lnTo>
                <a:lnTo>
                  <a:pt x="2510" y="1898"/>
                </a:lnTo>
                <a:lnTo>
                  <a:pt x="2459" y="1814"/>
                </a:lnTo>
                <a:lnTo>
                  <a:pt x="2445" y="1792"/>
                </a:lnTo>
                <a:lnTo>
                  <a:pt x="2444" y="1790"/>
                </a:lnTo>
                <a:lnTo>
                  <a:pt x="2445" y="1787"/>
                </a:lnTo>
                <a:lnTo>
                  <a:pt x="2445" y="1785"/>
                </a:lnTo>
                <a:lnTo>
                  <a:pt x="2448" y="1783"/>
                </a:lnTo>
                <a:lnTo>
                  <a:pt x="2451" y="1782"/>
                </a:lnTo>
                <a:lnTo>
                  <a:pt x="2454" y="1782"/>
                </a:lnTo>
                <a:lnTo>
                  <a:pt x="2455" y="1783"/>
                </a:lnTo>
                <a:lnTo>
                  <a:pt x="2458" y="1786"/>
                </a:lnTo>
                <a:lnTo>
                  <a:pt x="2458" y="178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99120" y="5397480"/>
            <a:ext cx="79560" cy="90360"/>
          </a:xfrm>
          <a:custGeom>
            <a:avLst/>
            <a:gdLst/>
            <a:ahLst/>
            <a:rect l="l" t="t" r="r" b="b"/>
            <a:pathLst>
              <a:path w="108" h="121">
                <a:moveTo>
                  <a:pt x="108" y="0"/>
                </a:moveTo>
                <a:lnTo>
                  <a:pt x="108" y="121"/>
                </a:lnTo>
                <a:lnTo>
                  <a:pt x="0" y="48"/>
                </a:lnTo>
                <a:lnTo>
                  <a:pt x="10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73560" y="3987720"/>
            <a:ext cx="1859040" cy="627120"/>
          </a:xfrm>
          <a:custGeom>
            <a:avLst/>
            <a:gdLst/>
            <a:ahLst/>
            <a:rect l="l" t="t" r="r" b="b"/>
            <a:pathLst>
              <a:path w="2500" h="837">
                <a:moveTo>
                  <a:pt x="6" y="25"/>
                </a:moveTo>
                <a:lnTo>
                  <a:pt x="93" y="15"/>
                </a:lnTo>
                <a:lnTo>
                  <a:pt x="181" y="9"/>
                </a:lnTo>
                <a:lnTo>
                  <a:pt x="207" y="6"/>
                </a:lnTo>
                <a:lnTo>
                  <a:pt x="210" y="6"/>
                </a:lnTo>
                <a:lnTo>
                  <a:pt x="211" y="7"/>
                </a:lnTo>
                <a:lnTo>
                  <a:pt x="213" y="10"/>
                </a:lnTo>
                <a:lnTo>
                  <a:pt x="214" y="12"/>
                </a:lnTo>
                <a:lnTo>
                  <a:pt x="214" y="15"/>
                </a:lnTo>
                <a:lnTo>
                  <a:pt x="213" y="16"/>
                </a:lnTo>
                <a:lnTo>
                  <a:pt x="210" y="17"/>
                </a:lnTo>
                <a:lnTo>
                  <a:pt x="208" y="19"/>
                </a:lnTo>
                <a:lnTo>
                  <a:pt x="182" y="20"/>
                </a:lnTo>
                <a:lnTo>
                  <a:pt x="95" y="27"/>
                </a:lnTo>
                <a:lnTo>
                  <a:pt x="9" y="38"/>
                </a:lnTo>
                <a:lnTo>
                  <a:pt x="6" y="38"/>
                </a:lnTo>
                <a:lnTo>
                  <a:pt x="3" y="36"/>
                </a:lnTo>
                <a:lnTo>
                  <a:pt x="2" y="34"/>
                </a:lnTo>
                <a:lnTo>
                  <a:pt x="0" y="33"/>
                </a:lnTo>
                <a:lnTo>
                  <a:pt x="0" y="30"/>
                </a:lnTo>
                <a:lnTo>
                  <a:pt x="2" y="27"/>
                </a:lnTo>
                <a:lnTo>
                  <a:pt x="5" y="26"/>
                </a:lnTo>
                <a:lnTo>
                  <a:pt x="6" y="25"/>
                </a:lnTo>
                <a:lnTo>
                  <a:pt x="6" y="25"/>
                </a:lnTo>
                <a:close/>
                <a:moveTo>
                  <a:pt x="327" y="1"/>
                </a:moveTo>
                <a:lnTo>
                  <a:pt x="354" y="0"/>
                </a:lnTo>
                <a:lnTo>
                  <a:pt x="439" y="0"/>
                </a:lnTo>
                <a:lnTo>
                  <a:pt x="525" y="2"/>
                </a:lnTo>
                <a:lnTo>
                  <a:pt x="530" y="2"/>
                </a:lnTo>
                <a:lnTo>
                  <a:pt x="532" y="2"/>
                </a:lnTo>
                <a:lnTo>
                  <a:pt x="534" y="3"/>
                </a:lnTo>
                <a:lnTo>
                  <a:pt x="535" y="6"/>
                </a:lnTo>
                <a:lnTo>
                  <a:pt x="535" y="9"/>
                </a:lnTo>
                <a:lnTo>
                  <a:pt x="535" y="11"/>
                </a:lnTo>
                <a:lnTo>
                  <a:pt x="534" y="12"/>
                </a:lnTo>
                <a:lnTo>
                  <a:pt x="531" y="14"/>
                </a:lnTo>
                <a:lnTo>
                  <a:pt x="528" y="15"/>
                </a:lnTo>
                <a:lnTo>
                  <a:pt x="525" y="14"/>
                </a:lnTo>
                <a:lnTo>
                  <a:pt x="440" y="12"/>
                </a:lnTo>
                <a:lnTo>
                  <a:pt x="354" y="12"/>
                </a:lnTo>
                <a:lnTo>
                  <a:pt x="329" y="14"/>
                </a:lnTo>
                <a:lnTo>
                  <a:pt x="326" y="12"/>
                </a:lnTo>
                <a:lnTo>
                  <a:pt x="323" y="11"/>
                </a:lnTo>
                <a:lnTo>
                  <a:pt x="322" y="10"/>
                </a:lnTo>
                <a:lnTo>
                  <a:pt x="322" y="7"/>
                </a:lnTo>
                <a:lnTo>
                  <a:pt x="322" y="5"/>
                </a:lnTo>
                <a:lnTo>
                  <a:pt x="323" y="2"/>
                </a:lnTo>
                <a:lnTo>
                  <a:pt x="324" y="1"/>
                </a:lnTo>
                <a:lnTo>
                  <a:pt x="327" y="1"/>
                </a:lnTo>
                <a:lnTo>
                  <a:pt x="327" y="1"/>
                </a:lnTo>
                <a:close/>
                <a:moveTo>
                  <a:pt x="650" y="10"/>
                </a:moveTo>
                <a:lnTo>
                  <a:pt x="697" y="14"/>
                </a:lnTo>
                <a:lnTo>
                  <a:pt x="782" y="22"/>
                </a:lnTo>
                <a:lnTo>
                  <a:pt x="849" y="31"/>
                </a:lnTo>
                <a:lnTo>
                  <a:pt x="852" y="33"/>
                </a:lnTo>
                <a:lnTo>
                  <a:pt x="854" y="34"/>
                </a:lnTo>
                <a:lnTo>
                  <a:pt x="855" y="35"/>
                </a:lnTo>
                <a:lnTo>
                  <a:pt x="855" y="38"/>
                </a:lnTo>
                <a:lnTo>
                  <a:pt x="855" y="40"/>
                </a:lnTo>
                <a:lnTo>
                  <a:pt x="852" y="43"/>
                </a:lnTo>
                <a:lnTo>
                  <a:pt x="851" y="43"/>
                </a:lnTo>
                <a:lnTo>
                  <a:pt x="848" y="44"/>
                </a:lnTo>
                <a:lnTo>
                  <a:pt x="781" y="34"/>
                </a:lnTo>
                <a:lnTo>
                  <a:pt x="696" y="25"/>
                </a:lnTo>
                <a:lnTo>
                  <a:pt x="648" y="21"/>
                </a:lnTo>
                <a:lnTo>
                  <a:pt x="646" y="21"/>
                </a:lnTo>
                <a:lnTo>
                  <a:pt x="644" y="19"/>
                </a:lnTo>
                <a:lnTo>
                  <a:pt x="643" y="17"/>
                </a:lnTo>
                <a:lnTo>
                  <a:pt x="643" y="15"/>
                </a:lnTo>
                <a:lnTo>
                  <a:pt x="643" y="12"/>
                </a:lnTo>
                <a:lnTo>
                  <a:pt x="644" y="11"/>
                </a:lnTo>
                <a:lnTo>
                  <a:pt x="647" y="10"/>
                </a:lnTo>
                <a:lnTo>
                  <a:pt x="650" y="10"/>
                </a:lnTo>
                <a:lnTo>
                  <a:pt x="650" y="10"/>
                </a:lnTo>
                <a:close/>
                <a:moveTo>
                  <a:pt x="969" y="50"/>
                </a:moveTo>
                <a:lnTo>
                  <a:pt x="1034" y="63"/>
                </a:lnTo>
                <a:lnTo>
                  <a:pt x="1117" y="82"/>
                </a:lnTo>
                <a:lnTo>
                  <a:pt x="1165" y="93"/>
                </a:lnTo>
                <a:lnTo>
                  <a:pt x="1166" y="94"/>
                </a:lnTo>
                <a:lnTo>
                  <a:pt x="1169" y="96"/>
                </a:lnTo>
                <a:lnTo>
                  <a:pt x="1169" y="98"/>
                </a:lnTo>
                <a:lnTo>
                  <a:pt x="1169" y="101"/>
                </a:lnTo>
                <a:lnTo>
                  <a:pt x="1168" y="102"/>
                </a:lnTo>
                <a:lnTo>
                  <a:pt x="1166" y="105"/>
                </a:lnTo>
                <a:lnTo>
                  <a:pt x="1164" y="105"/>
                </a:lnTo>
                <a:lnTo>
                  <a:pt x="1161" y="105"/>
                </a:lnTo>
                <a:lnTo>
                  <a:pt x="1113" y="93"/>
                </a:lnTo>
                <a:lnTo>
                  <a:pt x="1031" y="75"/>
                </a:lnTo>
                <a:lnTo>
                  <a:pt x="967" y="63"/>
                </a:lnTo>
                <a:lnTo>
                  <a:pt x="964" y="62"/>
                </a:lnTo>
                <a:lnTo>
                  <a:pt x="963" y="60"/>
                </a:lnTo>
                <a:lnTo>
                  <a:pt x="961" y="58"/>
                </a:lnTo>
                <a:lnTo>
                  <a:pt x="961" y="55"/>
                </a:lnTo>
                <a:lnTo>
                  <a:pt x="963" y="53"/>
                </a:lnTo>
                <a:lnTo>
                  <a:pt x="964" y="51"/>
                </a:lnTo>
                <a:lnTo>
                  <a:pt x="967" y="50"/>
                </a:lnTo>
                <a:lnTo>
                  <a:pt x="969" y="50"/>
                </a:lnTo>
                <a:lnTo>
                  <a:pt x="969" y="50"/>
                </a:lnTo>
                <a:close/>
                <a:moveTo>
                  <a:pt x="1281" y="125"/>
                </a:moveTo>
                <a:lnTo>
                  <a:pt x="1360" y="149"/>
                </a:lnTo>
                <a:lnTo>
                  <a:pt x="1441" y="175"/>
                </a:lnTo>
                <a:lnTo>
                  <a:pt x="1471" y="187"/>
                </a:lnTo>
                <a:lnTo>
                  <a:pt x="1472" y="188"/>
                </a:lnTo>
                <a:lnTo>
                  <a:pt x="1474" y="189"/>
                </a:lnTo>
                <a:lnTo>
                  <a:pt x="1474" y="192"/>
                </a:lnTo>
                <a:lnTo>
                  <a:pt x="1474" y="194"/>
                </a:lnTo>
                <a:lnTo>
                  <a:pt x="1472" y="197"/>
                </a:lnTo>
                <a:lnTo>
                  <a:pt x="1469" y="198"/>
                </a:lnTo>
                <a:lnTo>
                  <a:pt x="1468" y="198"/>
                </a:lnTo>
                <a:lnTo>
                  <a:pt x="1465" y="198"/>
                </a:lnTo>
                <a:lnTo>
                  <a:pt x="1436" y="187"/>
                </a:lnTo>
                <a:lnTo>
                  <a:pt x="1356" y="160"/>
                </a:lnTo>
                <a:lnTo>
                  <a:pt x="1277" y="136"/>
                </a:lnTo>
                <a:lnTo>
                  <a:pt x="1274" y="135"/>
                </a:lnTo>
                <a:lnTo>
                  <a:pt x="1272" y="132"/>
                </a:lnTo>
                <a:lnTo>
                  <a:pt x="1272" y="130"/>
                </a:lnTo>
                <a:lnTo>
                  <a:pt x="1272" y="129"/>
                </a:lnTo>
                <a:lnTo>
                  <a:pt x="1274" y="126"/>
                </a:lnTo>
                <a:lnTo>
                  <a:pt x="1275" y="125"/>
                </a:lnTo>
                <a:lnTo>
                  <a:pt x="1278" y="123"/>
                </a:lnTo>
                <a:lnTo>
                  <a:pt x="1281" y="125"/>
                </a:lnTo>
                <a:lnTo>
                  <a:pt x="1281" y="125"/>
                </a:lnTo>
                <a:close/>
                <a:moveTo>
                  <a:pt x="1581" y="230"/>
                </a:moveTo>
                <a:lnTo>
                  <a:pt x="1598" y="236"/>
                </a:lnTo>
                <a:lnTo>
                  <a:pt x="1675" y="269"/>
                </a:lnTo>
                <a:lnTo>
                  <a:pt x="1750" y="304"/>
                </a:lnTo>
                <a:lnTo>
                  <a:pt x="1763" y="310"/>
                </a:lnTo>
                <a:lnTo>
                  <a:pt x="1764" y="312"/>
                </a:lnTo>
                <a:lnTo>
                  <a:pt x="1765" y="314"/>
                </a:lnTo>
                <a:lnTo>
                  <a:pt x="1765" y="317"/>
                </a:lnTo>
                <a:lnTo>
                  <a:pt x="1764" y="319"/>
                </a:lnTo>
                <a:lnTo>
                  <a:pt x="1763" y="321"/>
                </a:lnTo>
                <a:lnTo>
                  <a:pt x="1760" y="322"/>
                </a:lnTo>
                <a:lnTo>
                  <a:pt x="1758" y="322"/>
                </a:lnTo>
                <a:lnTo>
                  <a:pt x="1756" y="321"/>
                </a:lnTo>
                <a:lnTo>
                  <a:pt x="1744" y="315"/>
                </a:lnTo>
                <a:lnTo>
                  <a:pt x="1669" y="280"/>
                </a:lnTo>
                <a:lnTo>
                  <a:pt x="1592" y="247"/>
                </a:lnTo>
                <a:lnTo>
                  <a:pt x="1576" y="241"/>
                </a:lnTo>
                <a:lnTo>
                  <a:pt x="1574" y="238"/>
                </a:lnTo>
                <a:lnTo>
                  <a:pt x="1573" y="237"/>
                </a:lnTo>
                <a:lnTo>
                  <a:pt x="1571" y="235"/>
                </a:lnTo>
                <a:lnTo>
                  <a:pt x="1573" y="232"/>
                </a:lnTo>
                <a:lnTo>
                  <a:pt x="1574" y="231"/>
                </a:lnTo>
                <a:lnTo>
                  <a:pt x="1576" y="230"/>
                </a:lnTo>
                <a:lnTo>
                  <a:pt x="1578" y="228"/>
                </a:lnTo>
                <a:lnTo>
                  <a:pt x="1581" y="230"/>
                </a:lnTo>
                <a:lnTo>
                  <a:pt x="1581" y="230"/>
                </a:lnTo>
                <a:close/>
                <a:moveTo>
                  <a:pt x="1867" y="365"/>
                </a:moveTo>
                <a:lnTo>
                  <a:pt x="1898" y="381"/>
                </a:lnTo>
                <a:lnTo>
                  <a:pt x="1971" y="423"/>
                </a:lnTo>
                <a:lnTo>
                  <a:pt x="2036" y="463"/>
                </a:lnTo>
                <a:lnTo>
                  <a:pt x="2038" y="464"/>
                </a:lnTo>
                <a:lnTo>
                  <a:pt x="2039" y="467"/>
                </a:lnTo>
                <a:lnTo>
                  <a:pt x="2039" y="470"/>
                </a:lnTo>
                <a:lnTo>
                  <a:pt x="2038" y="472"/>
                </a:lnTo>
                <a:lnTo>
                  <a:pt x="2036" y="473"/>
                </a:lnTo>
                <a:lnTo>
                  <a:pt x="2034" y="475"/>
                </a:lnTo>
                <a:lnTo>
                  <a:pt x="2031" y="475"/>
                </a:lnTo>
                <a:lnTo>
                  <a:pt x="2028" y="473"/>
                </a:lnTo>
                <a:lnTo>
                  <a:pt x="1964" y="433"/>
                </a:lnTo>
                <a:lnTo>
                  <a:pt x="1891" y="393"/>
                </a:lnTo>
                <a:lnTo>
                  <a:pt x="1860" y="375"/>
                </a:lnTo>
                <a:lnTo>
                  <a:pt x="1858" y="374"/>
                </a:lnTo>
                <a:lnTo>
                  <a:pt x="1856" y="371"/>
                </a:lnTo>
                <a:lnTo>
                  <a:pt x="1856" y="369"/>
                </a:lnTo>
                <a:lnTo>
                  <a:pt x="1858" y="367"/>
                </a:lnTo>
                <a:lnTo>
                  <a:pt x="1859" y="365"/>
                </a:lnTo>
                <a:lnTo>
                  <a:pt x="1862" y="363"/>
                </a:lnTo>
                <a:lnTo>
                  <a:pt x="1865" y="363"/>
                </a:lnTo>
                <a:lnTo>
                  <a:pt x="1867" y="365"/>
                </a:lnTo>
                <a:lnTo>
                  <a:pt x="1867" y="365"/>
                </a:lnTo>
                <a:close/>
                <a:moveTo>
                  <a:pt x="2134" y="528"/>
                </a:moveTo>
                <a:lnTo>
                  <a:pt x="2180" y="560"/>
                </a:lnTo>
                <a:lnTo>
                  <a:pt x="2246" y="610"/>
                </a:lnTo>
                <a:lnTo>
                  <a:pt x="2289" y="644"/>
                </a:lnTo>
                <a:lnTo>
                  <a:pt x="2290" y="645"/>
                </a:lnTo>
                <a:lnTo>
                  <a:pt x="2292" y="648"/>
                </a:lnTo>
                <a:lnTo>
                  <a:pt x="2292" y="650"/>
                </a:lnTo>
                <a:lnTo>
                  <a:pt x="2290" y="653"/>
                </a:lnTo>
                <a:lnTo>
                  <a:pt x="2288" y="654"/>
                </a:lnTo>
                <a:lnTo>
                  <a:pt x="2285" y="654"/>
                </a:lnTo>
                <a:lnTo>
                  <a:pt x="2282" y="654"/>
                </a:lnTo>
                <a:lnTo>
                  <a:pt x="2281" y="653"/>
                </a:lnTo>
                <a:lnTo>
                  <a:pt x="2237" y="619"/>
                </a:lnTo>
                <a:lnTo>
                  <a:pt x="2172" y="569"/>
                </a:lnTo>
                <a:lnTo>
                  <a:pt x="2126" y="538"/>
                </a:lnTo>
                <a:lnTo>
                  <a:pt x="2124" y="535"/>
                </a:lnTo>
                <a:lnTo>
                  <a:pt x="2123" y="534"/>
                </a:lnTo>
                <a:lnTo>
                  <a:pt x="2123" y="531"/>
                </a:lnTo>
                <a:lnTo>
                  <a:pt x="2124" y="529"/>
                </a:lnTo>
                <a:lnTo>
                  <a:pt x="2126" y="528"/>
                </a:lnTo>
                <a:lnTo>
                  <a:pt x="2128" y="526"/>
                </a:lnTo>
                <a:lnTo>
                  <a:pt x="2131" y="526"/>
                </a:lnTo>
                <a:lnTo>
                  <a:pt x="2134" y="528"/>
                </a:lnTo>
                <a:lnTo>
                  <a:pt x="2134" y="528"/>
                </a:lnTo>
                <a:close/>
                <a:moveTo>
                  <a:pt x="2378" y="718"/>
                </a:moveTo>
                <a:lnTo>
                  <a:pt x="2437" y="770"/>
                </a:lnTo>
                <a:lnTo>
                  <a:pt x="2497" y="827"/>
                </a:lnTo>
                <a:lnTo>
                  <a:pt x="2499" y="829"/>
                </a:lnTo>
                <a:lnTo>
                  <a:pt x="2500" y="832"/>
                </a:lnTo>
                <a:lnTo>
                  <a:pt x="2499" y="833"/>
                </a:lnTo>
                <a:lnTo>
                  <a:pt x="2497" y="836"/>
                </a:lnTo>
                <a:lnTo>
                  <a:pt x="2494" y="837"/>
                </a:lnTo>
                <a:lnTo>
                  <a:pt x="2493" y="837"/>
                </a:lnTo>
                <a:lnTo>
                  <a:pt x="2490" y="837"/>
                </a:lnTo>
                <a:lnTo>
                  <a:pt x="2487" y="836"/>
                </a:lnTo>
                <a:lnTo>
                  <a:pt x="2427" y="779"/>
                </a:lnTo>
                <a:lnTo>
                  <a:pt x="2369" y="726"/>
                </a:lnTo>
                <a:lnTo>
                  <a:pt x="2367" y="725"/>
                </a:lnTo>
                <a:lnTo>
                  <a:pt x="2367" y="722"/>
                </a:lnTo>
                <a:lnTo>
                  <a:pt x="2367" y="720"/>
                </a:lnTo>
                <a:lnTo>
                  <a:pt x="2369" y="718"/>
                </a:lnTo>
                <a:lnTo>
                  <a:pt x="2371" y="716"/>
                </a:lnTo>
                <a:lnTo>
                  <a:pt x="2374" y="716"/>
                </a:lnTo>
                <a:lnTo>
                  <a:pt x="2376" y="716"/>
                </a:lnTo>
                <a:lnTo>
                  <a:pt x="2378" y="718"/>
                </a:lnTo>
                <a:lnTo>
                  <a:pt x="2378" y="718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86520" y="4575240"/>
            <a:ext cx="92160" cy="87120"/>
          </a:xfrm>
          <a:custGeom>
            <a:avLst/>
            <a:gdLst/>
            <a:ahLst/>
            <a:rect l="l" t="t" r="r" b="b"/>
            <a:pathLst>
              <a:path w="126" h="118">
                <a:moveTo>
                  <a:pt x="91" y="0"/>
                </a:moveTo>
                <a:lnTo>
                  <a:pt x="126" y="118"/>
                </a:lnTo>
                <a:lnTo>
                  <a:pt x="0" y="72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29000" y="4005360"/>
            <a:ext cx="3591000" cy="1447560"/>
          </a:xfrm>
          <a:custGeom>
            <a:avLst/>
            <a:gdLst/>
            <a:ahLst/>
            <a:rect l="l" t="t" r="r" b="b"/>
            <a:pathLst>
              <a:path w="4828" h="1934">
                <a:moveTo>
                  <a:pt x="9" y="0"/>
                </a:moveTo>
                <a:lnTo>
                  <a:pt x="169" y="38"/>
                </a:lnTo>
                <a:lnTo>
                  <a:pt x="204" y="47"/>
                </a:lnTo>
                <a:lnTo>
                  <a:pt x="206" y="48"/>
                </a:lnTo>
                <a:lnTo>
                  <a:pt x="207" y="49"/>
                </a:lnTo>
                <a:lnTo>
                  <a:pt x="209" y="52"/>
                </a:lnTo>
                <a:lnTo>
                  <a:pt x="209" y="54"/>
                </a:lnTo>
                <a:lnTo>
                  <a:pt x="207" y="56"/>
                </a:lnTo>
                <a:lnTo>
                  <a:pt x="206" y="58"/>
                </a:lnTo>
                <a:lnTo>
                  <a:pt x="203" y="58"/>
                </a:lnTo>
                <a:lnTo>
                  <a:pt x="200" y="58"/>
                </a:lnTo>
                <a:lnTo>
                  <a:pt x="167" y="50"/>
                </a:lnTo>
                <a:lnTo>
                  <a:pt x="6" y="13"/>
                </a:lnTo>
                <a:lnTo>
                  <a:pt x="3" y="11"/>
                </a:lnTo>
                <a:lnTo>
                  <a:pt x="2" y="9"/>
                </a:lnTo>
                <a:lnTo>
                  <a:pt x="0" y="8"/>
                </a:lnTo>
                <a:lnTo>
                  <a:pt x="0" y="5"/>
                </a:lnTo>
                <a:lnTo>
                  <a:pt x="2" y="2"/>
                </a:lnTo>
                <a:lnTo>
                  <a:pt x="5" y="1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close/>
                <a:moveTo>
                  <a:pt x="320" y="76"/>
                </a:moveTo>
                <a:lnTo>
                  <a:pt x="329" y="77"/>
                </a:lnTo>
                <a:lnTo>
                  <a:pt x="488" y="119"/>
                </a:lnTo>
                <a:lnTo>
                  <a:pt x="514" y="125"/>
                </a:lnTo>
                <a:lnTo>
                  <a:pt x="516" y="126"/>
                </a:lnTo>
                <a:lnTo>
                  <a:pt x="517" y="128"/>
                </a:lnTo>
                <a:lnTo>
                  <a:pt x="519" y="130"/>
                </a:lnTo>
                <a:lnTo>
                  <a:pt x="519" y="133"/>
                </a:lnTo>
                <a:lnTo>
                  <a:pt x="517" y="135"/>
                </a:lnTo>
                <a:lnTo>
                  <a:pt x="514" y="136"/>
                </a:lnTo>
                <a:lnTo>
                  <a:pt x="513" y="136"/>
                </a:lnTo>
                <a:lnTo>
                  <a:pt x="510" y="136"/>
                </a:lnTo>
                <a:lnTo>
                  <a:pt x="485" y="130"/>
                </a:lnTo>
                <a:lnTo>
                  <a:pt x="326" y="90"/>
                </a:lnTo>
                <a:lnTo>
                  <a:pt x="316" y="87"/>
                </a:lnTo>
                <a:lnTo>
                  <a:pt x="315" y="86"/>
                </a:lnTo>
                <a:lnTo>
                  <a:pt x="312" y="85"/>
                </a:lnTo>
                <a:lnTo>
                  <a:pt x="312" y="82"/>
                </a:lnTo>
                <a:lnTo>
                  <a:pt x="312" y="80"/>
                </a:lnTo>
                <a:lnTo>
                  <a:pt x="313" y="77"/>
                </a:lnTo>
                <a:lnTo>
                  <a:pt x="315" y="76"/>
                </a:lnTo>
                <a:lnTo>
                  <a:pt x="317" y="74"/>
                </a:lnTo>
                <a:lnTo>
                  <a:pt x="320" y="76"/>
                </a:lnTo>
                <a:lnTo>
                  <a:pt x="320" y="76"/>
                </a:lnTo>
                <a:close/>
                <a:moveTo>
                  <a:pt x="629" y="157"/>
                </a:moveTo>
                <a:lnTo>
                  <a:pt x="647" y="160"/>
                </a:lnTo>
                <a:lnTo>
                  <a:pt x="805" y="205"/>
                </a:lnTo>
                <a:lnTo>
                  <a:pt x="822" y="210"/>
                </a:lnTo>
                <a:lnTo>
                  <a:pt x="824" y="210"/>
                </a:lnTo>
                <a:lnTo>
                  <a:pt x="826" y="212"/>
                </a:lnTo>
                <a:lnTo>
                  <a:pt x="826" y="215"/>
                </a:lnTo>
                <a:lnTo>
                  <a:pt x="826" y="217"/>
                </a:lnTo>
                <a:lnTo>
                  <a:pt x="824" y="218"/>
                </a:lnTo>
                <a:lnTo>
                  <a:pt x="823" y="220"/>
                </a:lnTo>
                <a:lnTo>
                  <a:pt x="820" y="221"/>
                </a:lnTo>
                <a:lnTo>
                  <a:pt x="817" y="221"/>
                </a:lnTo>
                <a:lnTo>
                  <a:pt x="801" y="216"/>
                </a:lnTo>
                <a:lnTo>
                  <a:pt x="643" y="172"/>
                </a:lnTo>
                <a:lnTo>
                  <a:pt x="626" y="168"/>
                </a:lnTo>
                <a:lnTo>
                  <a:pt x="623" y="167"/>
                </a:lnTo>
                <a:lnTo>
                  <a:pt x="622" y="164"/>
                </a:lnTo>
                <a:lnTo>
                  <a:pt x="620" y="163"/>
                </a:lnTo>
                <a:lnTo>
                  <a:pt x="620" y="160"/>
                </a:lnTo>
                <a:lnTo>
                  <a:pt x="622" y="158"/>
                </a:lnTo>
                <a:lnTo>
                  <a:pt x="625" y="157"/>
                </a:lnTo>
                <a:lnTo>
                  <a:pt x="626" y="155"/>
                </a:lnTo>
                <a:lnTo>
                  <a:pt x="629" y="157"/>
                </a:lnTo>
                <a:lnTo>
                  <a:pt x="629" y="157"/>
                </a:lnTo>
                <a:close/>
                <a:moveTo>
                  <a:pt x="937" y="242"/>
                </a:moveTo>
                <a:lnTo>
                  <a:pt x="963" y="250"/>
                </a:lnTo>
                <a:lnTo>
                  <a:pt x="1119" y="296"/>
                </a:lnTo>
                <a:lnTo>
                  <a:pt x="1129" y="299"/>
                </a:lnTo>
                <a:lnTo>
                  <a:pt x="1130" y="299"/>
                </a:lnTo>
                <a:lnTo>
                  <a:pt x="1132" y="302"/>
                </a:lnTo>
                <a:lnTo>
                  <a:pt x="1133" y="304"/>
                </a:lnTo>
                <a:lnTo>
                  <a:pt x="1133" y="307"/>
                </a:lnTo>
                <a:lnTo>
                  <a:pt x="1130" y="308"/>
                </a:lnTo>
                <a:lnTo>
                  <a:pt x="1129" y="309"/>
                </a:lnTo>
                <a:lnTo>
                  <a:pt x="1126" y="311"/>
                </a:lnTo>
                <a:lnTo>
                  <a:pt x="1123" y="311"/>
                </a:lnTo>
                <a:lnTo>
                  <a:pt x="1115" y="308"/>
                </a:lnTo>
                <a:lnTo>
                  <a:pt x="958" y="261"/>
                </a:lnTo>
                <a:lnTo>
                  <a:pt x="933" y="254"/>
                </a:lnTo>
                <a:lnTo>
                  <a:pt x="930" y="253"/>
                </a:lnTo>
                <a:lnTo>
                  <a:pt x="929" y="250"/>
                </a:lnTo>
                <a:lnTo>
                  <a:pt x="928" y="249"/>
                </a:lnTo>
                <a:lnTo>
                  <a:pt x="929" y="246"/>
                </a:lnTo>
                <a:lnTo>
                  <a:pt x="929" y="244"/>
                </a:lnTo>
                <a:lnTo>
                  <a:pt x="932" y="242"/>
                </a:lnTo>
                <a:lnTo>
                  <a:pt x="935" y="241"/>
                </a:lnTo>
                <a:lnTo>
                  <a:pt x="937" y="242"/>
                </a:lnTo>
                <a:lnTo>
                  <a:pt x="937" y="242"/>
                </a:lnTo>
                <a:close/>
                <a:moveTo>
                  <a:pt x="1242" y="333"/>
                </a:moveTo>
                <a:lnTo>
                  <a:pt x="1275" y="345"/>
                </a:lnTo>
                <a:lnTo>
                  <a:pt x="1432" y="394"/>
                </a:lnTo>
                <a:lnTo>
                  <a:pt x="1432" y="394"/>
                </a:lnTo>
                <a:lnTo>
                  <a:pt x="1435" y="395"/>
                </a:lnTo>
                <a:lnTo>
                  <a:pt x="1436" y="397"/>
                </a:lnTo>
                <a:lnTo>
                  <a:pt x="1436" y="399"/>
                </a:lnTo>
                <a:lnTo>
                  <a:pt x="1436" y="402"/>
                </a:lnTo>
                <a:lnTo>
                  <a:pt x="1435" y="404"/>
                </a:lnTo>
                <a:lnTo>
                  <a:pt x="1433" y="405"/>
                </a:lnTo>
                <a:lnTo>
                  <a:pt x="1430" y="405"/>
                </a:lnTo>
                <a:lnTo>
                  <a:pt x="1428" y="405"/>
                </a:lnTo>
                <a:lnTo>
                  <a:pt x="1428" y="405"/>
                </a:lnTo>
                <a:lnTo>
                  <a:pt x="1271" y="356"/>
                </a:lnTo>
                <a:lnTo>
                  <a:pt x="1238" y="345"/>
                </a:lnTo>
                <a:lnTo>
                  <a:pt x="1236" y="344"/>
                </a:lnTo>
                <a:lnTo>
                  <a:pt x="1233" y="342"/>
                </a:lnTo>
                <a:lnTo>
                  <a:pt x="1233" y="340"/>
                </a:lnTo>
                <a:lnTo>
                  <a:pt x="1233" y="337"/>
                </a:lnTo>
                <a:lnTo>
                  <a:pt x="1235" y="336"/>
                </a:lnTo>
                <a:lnTo>
                  <a:pt x="1238" y="335"/>
                </a:lnTo>
                <a:lnTo>
                  <a:pt x="1239" y="333"/>
                </a:lnTo>
                <a:lnTo>
                  <a:pt x="1242" y="333"/>
                </a:lnTo>
                <a:lnTo>
                  <a:pt x="1242" y="333"/>
                </a:lnTo>
                <a:close/>
                <a:moveTo>
                  <a:pt x="1546" y="431"/>
                </a:moveTo>
                <a:lnTo>
                  <a:pt x="1587" y="445"/>
                </a:lnTo>
                <a:lnTo>
                  <a:pt x="1735" y="495"/>
                </a:lnTo>
                <a:lnTo>
                  <a:pt x="1736" y="496"/>
                </a:lnTo>
                <a:lnTo>
                  <a:pt x="1738" y="498"/>
                </a:lnTo>
                <a:lnTo>
                  <a:pt x="1739" y="500"/>
                </a:lnTo>
                <a:lnTo>
                  <a:pt x="1738" y="503"/>
                </a:lnTo>
                <a:lnTo>
                  <a:pt x="1736" y="504"/>
                </a:lnTo>
                <a:lnTo>
                  <a:pt x="1735" y="505"/>
                </a:lnTo>
                <a:lnTo>
                  <a:pt x="1732" y="506"/>
                </a:lnTo>
                <a:lnTo>
                  <a:pt x="1729" y="506"/>
                </a:lnTo>
                <a:lnTo>
                  <a:pt x="1583" y="456"/>
                </a:lnTo>
                <a:lnTo>
                  <a:pt x="1541" y="442"/>
                </a:lnTo>
                <a:lnTo>
                  <a:pt x="1539" y="441"/>
                </a:lnTo>
                <a:lnTo>
                  <a:pt x="1538" y="439"/>
                </a:lnTo>
                <a:lnTo>
                  <a:pt x="1537" y="437"/>
                </a:lnTo>
                <a:lnTo>
                  <a:pt x="1537" y="434"/>
                </a:lnTo>
                <a:lnTo>
                  <a:pt x="1538" y="433"/>
                </a:lnTo>
                <a:lnTo>
                  <a:pt x="1541" y="432"/>
                </a:lnTo>
                <a:lnTo>
                  <a:pt x="1543" y="431"/>
                </a:lnTo>
                <a:lnTo>
                  <a:pt x="1546" y="431"/>
                </a:lnTo>
                <a:lnTo>
                  <a:pt x="1546" y="431"/>
                </a:lnTo>
                <a:close/>
                <a:moveTo>
                  <a:pt x="1846" y="534"/>
                </a:moveTo>
                <a:lnTo>
                  <a:pt x="1895" y="551"/>
                </a:lnTo>
                <a:lnTo>
                  <a:pt x="2034" y="601"/>
                </a:lnTo>
                <a:lnTo>
                  <a:pt x="2036" y="602"/>
                </a:lnTo>
                <a:lnTo>
                  <a:pt x="2038" y="604"/>
                </a:lnTo>
                <a:lnTo>
                  <a:pt x="2038" y="606"/>
                </a:lnTo>
                <a:lnTo>
                  <a:pt x="2038" y="609"/>
                </a:lnTo>
                <a:lnTo>
                  <a:pt x="2036" y="611"/>
                </a:lnTo>
                <a:lnTo>
                  <a:pt x="2034" y="613"/>
                </a:lnTo>
                <a:lnTo>
                  <a:pt x="2031" y="613"/>
                </a:lnTo>
                <a:lnTo>
                  <a:pt x="2029" y="613"/>
                </a:lnTo>
                <a:lnTo>
                  <a:pt x="1891" y="562"/>
                </a:lnTo>
                <a:lnTo>
                  <a:pt x="1842" y="546"/>
                </a:lnTo>
                <a:lnTo>
                  <a:pt x="1840" y="544"/>
                </a:lnTo>
                <a:lnTo>
                  <a:pt x="1838" y="542"/>
                </a:lnTo>
                <a:lnTo>
                  <a:pt x="1838" y="539"/>
                </a:lnTo>
                <a:lnTo>
                  <a:pt x="1838" y="538"/>
                </a:lnTo>
                <a:lnTo>
                  <a:pt x="1840" y="535"/>
                </a:lnTo>
                <a:lnTo>
                  <a:pt x="1841" y="534"/>
                </a:lnTo>
                <a:lnTo>
                  <a:pt x="1844" y="533"/>
                </a:lnTo>
                <a:lnTo>
                  <a:pt x="1846" y="534"/>
                </a:lnTo>
                <a:lnTo>
                  <a:pt x="1846" y="534"/>
                </a:lnTo>
                <a:close/>
                <a:moveTo>
                  <a:pt x="2145" y="643"/>
                </a:moveTo>
                <a:lnTo>
                  <a:pt x="2201" y="663"/>
                </a:lnTo>
                <a:lnTo>
                  <a:pt x="2331" y="712"/>
                </a:lnTo>
                <a:lnTo>
                  <a:pt x="2334" y="714"/>
                </a:lnTo>
                <a:lnTo>
                  <a:pt x="2334" y="716"/>
                </a:lnTo>
                <a:lnTo>
                  <a:pt x="2335" y="719"/>
                </a:lnTo>
                <a:lnTo>
                  <a:pt x="2335" y="721"/>
                </a:lnTo>
                <a:lnTo>
                  <a:pt x="2332" y="722"/>
                </a:lnTo>
                <a:lnTo>
                  <a:pt x="2331" y="724"/>
                </a:lnTo>
                <a:lnTo>
                  <a:pt x="2328" y="724"/>
                </a:lnTo>
                <a:lnTo>
                  <a:pt x="2325" y="724"/>
                </a:lnTo>
                <a:lnTo>
                  <a:pt x="2197" y="674"/>
                </a:lnTo>
                <a:lnTo>
                  <a:pt x="2141" y="653"/>
                </a:lnTo>
                <a:lnTo>
                  <a:pt x="2138" y="652"/>
                </a:lnTo>
                <a:lnTo>
                  <a:pt x="2137" y="650"/>
                </a:lnTo>
                <a:lnTo>
                  <a:pt x="2136" y="648"/>
                </a:lnTo>
                <a:lnTo>
                  <a:pt x="2137" y="645"/>
                </a:lnTo>
                <a:lnTo>
                  <a:pt x="2138" y="644"/>
                </a:lnTo>
                <a:lnTo>
                  <a:pt x="2140" y="643"/>
                </a:lnTo>
                <a:lnTo>
                  <a:pt x="2143" y="642"/>
                </a:lnTo>
                <a:lnTo>
                  <a:pt x="2145" y="643"/>
                </a:lnTo>
                <a:lnTo>
                  <a:pt x="2145" y="643"/>
                </a:lnTo>
                <a:close/>
                <a:moveTo>
                  <a:pt x="2441" y="757"/>
                </a:moveTo>
                <a:lnTo>
                  <a:pt x="2506" y="781"/>
                </a:lnTo>
                <a:lnTo>
                  <a:pt x="2626" y="830"/>
                </a:lnTo>
                <a:lnTo>
                  <a:pt x="2627" y="831"/>
                </a:lnTo>
                <a:lnTo>
                  <a:pt x="2628" y="834"/>
                </a:lnTo>
                <a:lnTo>
                  <a:pt x="2630" y="835"/>
                </a:lnTo>
                <a:lnTo>
                  <a:pt x="2628" y="837"/>
                </a:lnTo>
                <a:lnTo>
                  <a:pt x="2627" y="840"/>
                </a:lnTo>
                <a:lnTo>
                  <a:pt x="2626" y="841"/>
                </a:lnTo>
                <a:lnTo>
                  <a:pt x="2623" y="841"/>
                </a:lnTo>
                <a:lnTo>
                  <a:pt x="2620" y="841"/>
                </a:lnTo>
                <a:lnTo>
                  <a:pt x="2500" y="792"/>
                </a:lnTo>
                <a:lnTo>
                  <a:pt x="2437" y="767"/>
                </a:lnTo>
                <a:lnTo>
                  <a:pt x="2434" y="765"/>
                </a:lnTo>
                <a:lnTo>
                  <a:pt x="2433" y="764"/>
                </a:lnTo>
                <a:lnTo>
                  <a:pt x="2433" y="762"/>
                </a:lnTo>
                <a:lnTo>
                  <a:pt x="2433" y="759"/>
                </a:lnTo>
                <a:lnTo>
                  <a:pt x="2434" y="757"/>
                </a:lnTo>
                <a:lnTo>
                  <a:pt x="2437" y="755"/>
                </a:lnTo>
                <a:lnTo>
                  <a:pt x="2439" y="755"/>
                </a:lnTo>
                <a:lnTo>
                  <a:pt x="2441" y="757"/>
                </a:lnTo>
                <a:lnTo>
                  <a:pt x="2441" y="757"/>
                </a:lnTo>
                <a:close/>
                <a:moveTo>
                  <a:pt x="2736" y="875"/>
                </a:moveTo>
                <a:lnTo>
                  <a:pt x="2806" y="904"/>
                </a:lnTo>
                <a:lnTo>
                  <a:pt x="2918" y="952"/>
                </a:lnTo>
                <a:lnTo>
                  <a:pt x="2920" y="954"/>
                </a:lnTo>
                <a:lnTo>
                  <a:pt x="2922" y="956"/>
                </a:lnTo>
                <a:lnTo>
                  <a:pt x="2922" y="957"/>
                </a:lnTo>
                <a:lnTo>
                  <a:pt x="2920" y="960"/>
                </a:lnTo>
                <a:lnTo>
                  <a:pt x="2919" y="962"/>
                </a:lnTo>
                <a:lnTo>
                  <a:pt x="2918" y="964"/>
                </a:lnTo>
                <a:lnTo>
                  <a:pt x="2915" y="964"/>
                </a:lnTo>
                <a:lnTo>
                  <a:pt x="2912" y="964"/>
                </a:lnTo>
                <a:lnTo>
                  <a:pt x="2800" y="916"/>
                </a:lnTo>
                <a:lnTo>
                  <a:pt x="2730" y="887"/>
                </a:lnTo>
                <a:lnTo>
                  <a:pt x="2728" y="884"/>
                </a:lnTo>
                <a:lnTo>
                  <a:pt x="2726" y="883"/>
                </a:lnTo>
                <a:lnTo>
                  <a:pt x="2726" y="880"/>
                </a:lnTo>
                <a:lnTo>
                  <a:pt x="2726" y="878"/>
                </a:lnTo>
                <a:lnTo>
                  <a:pt x="2728" y="876"/>
                </a:lnTo>
                <a:lnTo>
                  <a:pt x="2730" y="875"/>
                </a:lnTo>
                <a:lnTo>
                  <a:pt x="2733" y="874"/>
                </a:lnTo>
                <a:lnTo>
                  <a:pt x="2736" y="875"/>
                </a:lnTo>
                <a:lnTo>
                  <a:pt x="2736" y="875"/>
                </a:lnTo>
                <a:close/>
                <a:moveTo>
                  <a:pt x="3026" y="999"/>
                </a:moveTo>
                <a:lnTo>
                  <a:pt x="3103" y="1033"/>
                </a:lnTo>
                <a:lnTo>
                  <a:pt x="3207" y="1080"/>
                </a:lnTo>
                <a:lnTo>
                  <a:pt x="3209" y="1081"/>
                </a:lnTo>
                <a:lnTo>
                  <a:pt x="3211" y="1084"/>
                </a:lnTo>
                <a:lnTo>
                  <a:pt x="3211" y="1086"/>
                </a:lnTo>
                <a:lnTo>
                  <a:pt x="3209" y="1089"/>
                </a:lnTo>
                <a:lnTo>
                  <a:pt x="3208" y="1090"/>
                </a:lnTo>
                <a:lnTo>
                  <a:pt x="3207" y="1091"/>
                </a:lnTo>
                <a:lnTo>
                  <a:pt x="3204" y="1091"/>
                </a:lnTo>
                <a:lnTo>
                  <a:pt x="3201" y="1091"/>
                </a:lnTo>
                <a:lnTo>
                  <a:pt x="3098" y="1044"/>
                </a:lnTo>
                <a:lnTo>
                  <a:pt x="3021" y="1010"/>
                </a:lnTo>
                <a:lnTo>
                  <a:pt x="3018" y="1009"/>
                </a:lnTo>
                <a:lnTo>
                  <a:pt x="3017" y="1007"/>
                </a:lnTo>
                <a:lnTo>
                  <a:pt x="3017" y="1004"/>
                </a:lnTo>
                <a:lnTo>
                  <a:pt x="3018" y="1003"/>
                </a:lnTo>
                <a:lnTo>
                  <a:pt x="3019" y="1000"/>
                </a:lnTo>
                <a:lnTo>
                  <a:pt x="3021" y="999"/>
                </a:lnTo>
                <a:lnTo>
                  <a:pt x="3024" y="999"/>
                </a:lnTo>
                <a:lnTo>
                  <a:pt x="3026" y="999"/>
                </a:lnTo>
                <a:lnTo>
                  <a:pt x="3026" y="999"/>
                </a:lnTo>
                <a:close/>
                <a:moveTo>
                  <a:pt x="3314" y="1129"/>
                </a:moveTo>
                <a:lnTo>
                  <a:pt x="3398" y="1168"/>
                </a:lnTo>
                <a:lnTo>
                  <a:pt x="3493" y="1212"/>
                </a:lnTo>
                <a:lnTo>
                  <a:pt x="3496" y="1214"/>
                </a:lnTo>
                <a:lnTo>
                  <a:pt x="3497" y="1216"/>
                </a:lnTo>
                <a:lnTo>
                  <a:pt x="3497" y="1219"/>
                </a:lnTo>
                <a:lnTo>
                  <a:pt x="3496" y="1221"/>
                </a:lnTo>
                <a:lnTo>
                  <a:pt x="3494" y="1223"/>
                </a:lnTo>
                <a:lnTo>
                  <a:pt x="3491" y="1224"/>
                </a:lnTo>
                <a:lnTo>
                  <a:pt x="3490" y="1224"/>
                </a:lnTo>
                <a:lnTo>
                  <a:pt x="3487" y="1224"/>
                </a:lnTo>
                <a:lnTo>
                  <a:pt x="3392" y="1178"/>
                </a:lnTo>
                <a:lnTo>
                  <a:pt x="3309" y="1140"/>
                </a:lnTo>
                <a:lnTo>
                  <a:pt x="3306" y="1138"/>
                </a:lnTo>
                <a:lnTo>
                  <a:pt x="3306" y="1137"/>
                </a:lnTo>
                <a:lnTo>
                  <a:pt x="3304" y="1134"/>
                </a:lnTo>
                <a:lnTo>
                  <a:pt x="3306" y="1132"/>
                </a:lnTo>
                <a:lnTo>
                  <a:pt x="3307" y="1130"/>
                </a:lnTo>
                <a:lnTo>
                  <a:pt x="3310" y="1129"/>
                </a:lnTo>
                <a:lnTo>
                  <a:pt x="3311" y="1128"/>
                </a:lnTo>
                <a:lnTo>
                  <a:pt x="3314" y="1129"/>
                </a:lnTo>
                <a:lnTo>
                  <a:pt x="3314" y="1129"/>
                </a:lnTo>
                <a:close/>
                <a:moveTo>
                  <a:pt x="3600" y="1264"/>
                </a:moveTo>
                <a:lnTo>
                  <a:pt x="3690" y="1308"/>
                </a:lnTo>
                <a:lnTo>
                  <a:pt x="3776" y="1351"/>
                </a:lnTo>
                <a:lnTo>
                  <a:pt x="3779" y="1353"/>
                </a:lnTo>
                <a:lnTo>
                  <a:pt x="3779" y="1355"/>
                </a:lnTo>
                <a:lnTo>
                  <a:pt x="3780" y="1356"/>
                </a:lnTo>
                <a:lnTo>
                  <a:pt x="3779" y="1359"/>
                </a:lnTo>
                <a:lnTo>
                  <a:pt x="3778" y="1361"/>
                </a:lnTo>
                <a:lnTo>
                  <a:pt x="3775" y="1361"/>
                </a:lnTo>
                <a:lnTo>
                  <a:pt x="3772" y="1363"/>
                </a:lnTo>
                <a:lnTo>
                  <a:pt x="3771" y="1361"/>
                </a:lnTo>
                <a:lnTo>
                  <a:pt x="3684" y="1319"/>
                </a:lnTo>
                <a:lnTo>
                  <a:pt x="3593" y="1274"/>
                </a:lnTo>
                <a:lnTo>
                  <a:pt x="3592" y="1273"/>
                </a:lnTo>
                <a:lnTo>
                  <a:pt x="3591" y="1271"/>
                </a:lnTo>
                <a:lnTo>
                  <a:pt x="3589" y="1269"/>
                </a:lnTo>
                <a:lnTo>
                  <a:pt x="3591" y="1267"/>
                </a:lnTo>
                <a:lnTo>
                  <a:pt x="3592" y="1264"/>
                </a:lnTo>
                <a:lnTo>
                  <a:pt x="3595" y="1263"/>
                </a:lnTo>
                <a:lnTo>
                  <a:pt x="3598" y="1263"/>
                </a:lnTo>
                <a:lnTo>
                  <a:pt x="3600" y="1264"/>
                </a:lnTo>
                <a:lnTo>
                  <a:pt x="3600" y="1264"/>
                </a:lnTo>
                <a:close/>
                <a:moveTo>
                  <a:pt x="3882" y="1404"/>
                </a:moveTo>
                <a:lnTo>
                  <a:pt x="3979" y="1454"/>
                </a:lnTo>
                <a:lnTo>
                  <a:pt x="4057" y="1494"/>
                </a:lnTo>
                <a:lnTo>
                  <a:pt x="4058" y="1495"/>
                </a:lnTo>
                <a:lnTo>
                  <a:pt x="4060" y="1498"/>
                </a:lnTo>
                <a:lnTo>
                  <a:pt x="4060" y="1500"/>
                </a:lnTo>
                <a:lnTo>
                  <a:pt x="4060" y="1503"/>
                </a:lnTo>
                <a:lnTo>
                  <a:pt x="4057" y="1504"/>
                </a:lnTo>
                <a:lnTo>
                  <a:pt x="4056" y="1505"/>
                </a:lnTo>
                <a:lnTo>
                  <a:pt x="4053" y="1505"/>
                </a:lnTo>
                <a:lnTo>
                  <a:pt x="4050" y="1505"/>
                </a:lnTo>
                <a:lnTo>
                  <a:pt x="3972" y="1464"/>
                </a:lnTo>
                <a:lnTo>
                  <a:pt x="3875" y="1415"/>
                </a:lnTo>
                <a:lnTo>
                  <a:pt x="3873" y="1413"/>
                </a:lnTo>
                <a:lnTo>
                  <a:pt x="3873" y="1411"/>
                </a:lnTo>
                <a:lnTo>
                  <a:pt x="3871" y="1408"/>
                </a:lnTo>
                <a:lnTo>
                  <a:pt x="3873" y="1407"/>
                </a:lnTo>
                <a:lnTo>
                  <a:pt x="3874" y="1404"/>
                </a:lnTo>
                <a:lnTo>
                  <a:pt x="3877" y="1403"/>
                </a:lnTo>
                <a:lnTo>
                  <a:pt x="3880" y="1403"/>
                </a:lnTo>
                <a:lnTo>
                  <a:pt x="3882" y="1404"/>
                </a:lnTo>
                <a:lnTo>
                  <a:pt x="3882" y="1404"/>
                </a:lnTo>
                <a:close/>
                <a:moveTo>
                  <a:pt x="4160" y="1550"/>
                </a:moveTo>
                <a:lnTo>
                  <a:pt x="4264" y="1604"/>
                </a:lnTo>
                <a:lnTo>
                  <a:pt x="4333" y="1643"/>
                </a:lnTo>
                <a:lnTo>
                  <a:pt x="4335" y="1644"/>
                </a:lnTo>
                <a:lnTo>
                  <a:pt x="4336" y="1647"/>
                </a:lnTo>
                <a:lnTo>
                  <a:pt x="4336" y="1648"/>
                </a:lnTo>
                <a:lnTo>
                  <a:pt x="4336" y="1651"/>
                </a:lnTo>
                <a:lnTo>
                  <a:pt x="4333" y="1653"/>
                </a:lnTo>
                <a:lnTo>
                  <a:pt x="4332" y="1653"/>
                </a:lnTo>
                <a:lnTo>
                  <a:pt x="4329" y="1653"/>
                </a:lnTo>
                <a:lnTo>
                  <a:pt x="4326" y="1653"/>
                </a:lnTo>
                <a:lnTo>
                  <a:pt x="4257" y="1615"/>
                </a:lnTo>
                <a:lnTo>
                  <a:pt x="4155" y="1560"/>
                </a:lnTo>
                <a:lnTo>
                  <a:pt x="4152" y="1559"/>
                </a:lnTo>
                <a:lnTo>
                  <a:pt x="4151" y="1556"/>
                </a:lnTo>
                <a:lnTo>
                  <a:pt x="4151" y="1553"/>
                </a:lnTo>
                <a:lnTo>
                  <a:pt x="4152" y="1552"/>
                </a:lnTo>
                <a:lnTo>
                  <a:pt x="4153" y="1550"/>
                </a:lnTo>
                <a:lnTo>
                  <a:pt x="4156" y="1548"/>
                </a:lnTo>
                <a:lnTo>
                  <a:pt x="4159" y="1548"/>
                </a:lnTo>
                <a:lnTo>
                  <a:pt x="4160" y="1550"/>
                </a:lnTo>
                <a:lnTo>
                  <a:pt x="4160" y="1550"/>
                </a:lnTo>
                <a:close/>
                <a:moveTo>
                  <a:pt x="4437" y="1700"/>
                </a:moveTo>
                <a:lnTo>
                  <a:pt x="4546" y="1761"/>
                </a:lnTo>
                <a:lnTo>
                  <a:pt x="4607" y="1796"/>
                </a:lnTo>
                <a:lnTo>
                  <a:pt x="4609" y="1797"/>
                </a:lnTo>
                <a:lnTo>
                  <a:pt x="4610" y="1800"/>
                </a:lnTo>
                <a:lnTo>
                  <a:pt x="4610" y="1802"/>
                </a:lnTo>
                <a:lnTo>
                  <a:pt x="4610" y="1805"/>
                </a:lnTo>
                <a:lnTo>
                  <a:pt x="4607" y="1806"/>
                </a:lnTo>
                <a:lnTo>
                  <a:pt x="4604" y="1807"/>
                </a:lnTo>
                <a:lnTo>
                  <a:pt x="4603" y="1807"/>
                </a:lnTo>
                <a:lnTo>
                  <a:pt x="4600" y="1806"/>
                </a:lnTo>
                <a:lnTo>
                  <a:pt x="4539" y="1771"/>
                </a:lnTo>
                <a:lnTo>
                  <a:pt x="4430" y="1710"/>
                </a:lnTo>
                <a:lnTo>
                  <a:pt x="4427" y="1709"/>
                </a:lnTo>
                <a:lnTo>
                  <a:pt x="4427" y="1706"/>
                </a:lnTo>
                <a:lnTo>
                  <a:pt x="4427" y="1704"/>
                </a:lnTo>
                <a:lnTo>
                  <a:pt x="4427" y="1701"/>
                </a:lnTo>
                <a:lnTo>
                  <a:pt x="4428" y="1700"/>
                </a:lnTo>
                <a:lnTo>
                  <a:pt x="4431" y="1699"/>
                </a:lnTo>
                <a:lnTo>
                  <a:pt x="4434" y="1699"/>
                </a:lnTo>
                <a:lnTo>
                  <a:pt x="4437" y="1700"/>
                </a:lnTo>
                <a:lnTo>
                  <a:pt x="4437" y="1700"/>
                </a:lnTo>
                <a:close/>
                <a:moveTo>
                  <a:pt x="4709" y="1855"/>
                </a:moveTo>
                <a:lnTo>
                  <a:pt x="4825" y="1922"/>
                </a:lnTo>
                <a:lnTo>
                  <a:pt x="4826" y="1925"/>
                </a:lnTo>
                <a:lnTo>
                  <a:pt x="4828" y="1926"/>
                </a:lnTo>
                <a:lnTo>
                  <a:pt x="4828" y="1929"/>
                </a:lnTo>
                <a:lnTo>
                  <a:pt x="4826" y="1931"/>
                </a:lnTo>
                <a:lnTo>
                  <a:pt x="4825" y="1932"/>
                </a:lnTo>
                <a:lnTo>
                  <a:pt x="4822" y="1934"/>
                </a:lnTo>
                <a:lnTo>
                  <a:pt x="4819" y="1934"/>
                </a:lnTo>
                <a:lnTo>
                  <a:pt x="4817" y="1932"/>
                </a:lnTo>
                <a:lnTo>
                  <a:pt x="4702" y="1865"/>
                </a:lnTo>
                <a:lnTo>
                  <a:pt x="4699" y="1863"/>
                </a:lnTo>
                <a:lnTo>
                  <a:pt x="4698" y="1862"/>
                </a:lnTo>
                <a:lnTo>
                  <a:pt x="4699" y="1859"/>
                </a:lnTo>
                <a:lnTo>
                  <a:pt x="4699" y="1857"/>
                </a:lnTo>
                <a:lnTo>
                  <a:pt x="4701" y="1855"/>
                </a:lnTo>
                <a:lnTo>
                  <a:pt x="4703" y="1854"/>
                </a:lnTo>
                <a:lnTo>
                  <a:pt x="4706" y="1854"/>
                </a:lnTo>
                <a:lnTo>
                  <a:pt x="4709" y="1855"/>
                </a:lnTo>
                <a:lnTo>
                  <a:pt x="4709" y="185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78600" y="5408640"/>
            <a:ext cx="100080" cy="79200"/>
          </a:xfrm>
          <a:custGeom>
            <a:avLst/>
            <a:gdLst/>
            <a:ahLst/>
            <a:rect l="l" t="t" r="r" b="b"/>
            <a:pathLst>
              <a:path w="134" h="106">
                <a:moveTo>
                  <a:pt x="67" y="0"/>
                </a:moveTo>
                <a:lnTo>
                  <a:pt x="134" y="106"/>
                </a:lnTo>
                <a:lnTo>
                  <a:pt x="0" y="91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35200" y="4005360"/>
            <a:ext cx="1487520" cy="663480"/>
          </a:xfrm>
          <a:custGeom>
            <a:avLst/>
            <a:gdLst/>
            <a:ahLst/>
            <a:rect l="l" t="t" r="r" b="b"/>
            <a:pathLst>
              <a:path w="2001" h="886">
                <a:moveTo>
                  <a:pt x="1" y="876"/>
                </a:moveTo>
                <a:lnTo>
                  <a:pt x="47" y="826"/>
                </a:lnTo>
                <a:lnTo>
                  <a:pt x="95" y="776"/>
                </a:lnTo>
                <a:lnTo>
                  <a:pt x="134" y="739"/>
                </a:lnTo>
                <a:lnTo>
                  <a:pt x="135" y="737"/>
                </a:lnTo>
                <a:lnTo>
                  <a:pt x="138" y="736"/>
                </a:lnTo>
                <a:lnTo>
                  <a:pt x="141" y="737"/>
                </a:lnTo>
                <a:lnTo>
                  <a:pt x="142" y="739"/>
                </a:lnTo>
                <a:lnTo>
                  <a:pt x="145" y="740"/>
                </a:lnTo>
                <a:lnTo>
                  <a:pt x="145" y="742"/>
                </a:lnTo>
                <a:lnTo>
                  <a:pt x="145" y="745"/>
                </a:lnTo>
                <a:lnTo>
                  <a:pt x="143" y="747"/>
                </a:lnTo>
                <a:lnTo>
                  <a:pt x="104" y="784"/>
                </a:lnTo>
                <a:lnTo>
                  <a:pt x="57" y="833"/>
                </a:lnTo>
                <a:lnTo>
                  <a:pt x="11" y="884"/>
                </a:lnTo>
                <a:lnTo>
                  <a:pt x="9" y="885"/>
                </a:lnTo>
                <a:lnTo>
                  <a:pt x="7" y="886"/>
                </a:lnTo>
                <a:lnTo>
                  <a:pt x="4" y="886"/>
                </a:lnTo>
                <a:lnTo>
                  <a:pt x="2" y="885"/>
                </a:lnTo>
                <a:lnTo>
                  <a:pt x="0" y="883"/>
                </a:lnTo>
                <a:lnTo>
                  <a:pt x="0" y="880"/>
                </a:lnTo>
                <a:lnTo>
                  <a:pt x="0" y="879"/>
                </a:lnTo>
                <a:lnTo>
                  <a:pt x="1" y="876"/>
                </a:lnTo>
                <a:lnTo>
                  <a:pt x="1" y="876"/>
                </a:lnTo>
                <a:close/>
                <a:moveTo>
                  <a:pt x="219" y="660"/>
                </a:moveTo>
                <a:lnTo>
                  <a:pt x="245" y="636"/>
                </a:lnTo>
                <a:lnTo>
                  <a:pt x="298" y="592"/>
                </a:lnTo>
                <a:lnTo>
                  <a:pt x="353" y="550"/>
                </a:lnTo>
                <a:lnTo>
                  <a:pt x="368" y="539"/>
                </a:lnTo>
                <a:lnTo>
                  <a:pt x="371" y="538"/>
                </a:lnTo>
                <a:lnTo>
                  <a:pt x="372" y="538"/>
                </a:lnTo>
                <a:lnTo>
                  <a:pt x="375" y="538"/>
                </a:lnTo>
                <a:lnTo>
                  <a:pt x="378" y="540"/>
                </a:lnTo>
                <a:lnTo>
                  <a:pt x="379" y="542"/>
                </a:lnTo>
                <a:lnTo>
                  <a:pt x="379" y="544"/>
                </a:lnTo>
                <a:lnTo>
                  <a:pt x="378" y="547"/>
                </a:lnTo>
                <a:lnTo>
                  <a:pt x="377" y="548"/>
                </a:lnTo>
                <a:lnTo>
                  <a:pt x="361" y="559"/>
                </a:lnTo>
                <a:lnTo>
                  <a:pt x="308" y="602"/>
                </a:lnTo>
                <a:lnTo>
                  <a:pt x="255" y="645"/>
                </a:lnTo>
                <a:lnTo>
                  <a:pt x="227" y="669"/>
                </a:lnTo>
                <a:lnTo>
                  <a:pt x="226" y="670"/>
                </a:lnTo>
                <a:lnTo>
                  <a:pt x="223" y="672"/>
                </a:lnTo>
                <a:lnTo>
                  <a:pt x="220" y="670"/>
                </a:lnTo>
                <a:lnTo>
                  <a:pt x="218" y="669"/>
                </a:lnTo>
                <a:lnTo>
                  <a:pt x="216" y="667"/>
                </a:lnTo>
                <a:lnTo>
                  <a:pt x="216" y="665"/>
                </a:lnTo>
                <a:lnTo>
                  <a:pt x="216" y="663"/>
                </a:lnTo>
                <a:lnTo>
                  <a:pt x="219" y="660"/>
                </a:lnTo>
                <a:lnTo>
                  <a:pt x="219" y="660"/>
                </a:lnTo>
                <a:close/>
                <a:moveTo>
                  <a:pt x="463" y="471"/>
                </a:moveTo>
                <a:lnTo>
                  <a:pt x="465" y="470"/>
                </a:lnTo>
                <a:lnTo>
                  <a:pt x="522" y="432"/>
                </a:lnTo>
                <a:lnTo>
                  <a:pt x="581" y="395"/>
                </a:lnTo>
                <a:lnTo>
                  <a:pt x="628" y="367"/>
                </a:lnTo>
                <a:lnTo>
                  <a:pt x="631" y="366"/>
                </a:lnTo>
                <a:lnTo>
                  <a:pt x="634" y="366"/>
                </a:lnTo>
                <a:lnTo>
                  <a:pt x="636" y="367"/>
                </a:lnTo>
                <a:lnTo>
                  <a:pt x="638" y="369"/>
                </a:lnTo>
                <a:lnTo>
                  <a:pt x="639" y="371"/>
                </a:lnTo>
                <a:lnTo>
                  <a:pt x="639" y="374"/>
                </a:lnTo>
                <a:lnTo>
                  <a:pt x="638" y="376"/>
                </a:lnTo>
                <a:lnTo>
                  <a:pt x="636" y="377"/>
                </a:lnTo>
                <a:lnTo>
                  <a:pt x="589" y="405"/>
                </a:lnTo>
                <a:lnTo>
                  <a:pt x="530" y="442"/>
                </a:lnTo>
                <a:lnTo>
                  <a:pt x="473" y="480"/>
                </a:lnTo>
                <a:lnTo>
                  <a:pt x="472" y="481"/>
                </a:lnTo>
                <a:lnTo>
                  <a:pt x="469" y="481"/>
                </a:lnTo>
                <a:lnTo>
                  <a:pt x="466" y="482"/>
                </a:lnTo>
                <a:lnTo>
                  <a:pt x="463" y="481"/>
                </a:lnTo>
                <a:lnTo>
                  <a:pt x="462" y="480"/>
                </a:lnTo>
                <a:lnTo>
                  <a:pt x="460" y="477"/>
                </a:lnTo>
                <a:lnTo>
                  <a:pt x="460" y="475"/>
                </a:lnTo>
                <a:lnTo>
                  <a:pt x="460" y="473"/>
                </a:lnTo>
                <a:lnTo>
                  <a:pt x="463" y="471"/>
                </a:lnTo>
                <a:lnTo>
                  <a:pt x="463" y="471"/>
                </a:lnTo>
                <a:close/>
                <a:moveTo>
                  <a:pt x="733" y="310"/>
                </a:moveTo>
                <a:lnTo>
                  <a:pt x="762" y="295"/>
                </a:lnTo>
                <a:lnTo>
                  <a:pt x="825" y="265"/>
                </a:lnTo>
                <a:lnTo>
                  <a:pt x="889" y="236"/>
                </a:lnTo>
                <a:lnTo>
                  <a:pt x="910" y="226"/>
                </a:lnTo>
                <a:lnTo>
                  <a:pt x="913" y="226"/>
                </a:lnTo>
                <a:lnTo>
                  <a:pt x="916" y="226"/>
                </a:lnTo>
                <a:lnTo>
                  <a:pt x="918" y="227"/>
                </a:lnTo>
                <a:lnTo>
                  <a:pt x="920" y="230"/>
                </a:lnTo>
                <a:lnTo>
                  <a:pt x="920" y="231"/>
                </a:lnTo>
                <a:lnTo>
                  <a:pt x="920" y="233"/>
                </a:lnTo>
                <a:lnTo>
                  <a:pt x="918" y="236"/>
                </a:lnTo>
                <a:lnTo>
                  <a:pt x="917" y="237"/>
                </a:lnTo>
                <a:lnTo>
                  <a:pt x="895" y="246"/>
                </a:lnTo>
                <a:lnTo>
                  <a:pt x="832" y="275"/>
                </a:lnTo>
                <a:lnTo>
                  <a:pt x="769" y="305"/>
                </a:lnTo>
                <a:lnTo>
                  <a:pt x="738" y="321"/>
                </a:lnTo>
                <a:lnTo>
                  <a:pt x="736" y="322"/>
                </a:lnTo>
                <a:lnTo>
                  <a:pt x="734" y="322"/>
                </a:lnTo>
                <a:lnTo>
                  <a:pt x="731" y="321"/>
                </a:lnTo>
                <a:lnTo>
                  <a:pt x="730" y="319"/>
                </a:lnTo>
                <a:lnTo>
                  <a:pt x="729" y="317"/>
                </a:lnTo>
                <a:lnTo>
                  <a:pt x="729" y="314"/>
                </a:lnTo>
                <a:lnTo>
                  <a:pt x="730" y="312"/>
                </a:lnTo>
                <a:lnTo>
                  <a:pt x="733" y="310"/>
                </a:lnTo>
                <a:lnTo>
                  <a:pt x="733" y="310"/>
                </a:lnTo>
                <a:close/>
                <a:moveTo>
                  <a:pt x="1022" y="182"/>
                </a:moveTo>
                <a:lnTo>
                  <a:pt x="1083" y="159"/>
                </a:lnTo>
                <a:lnTo>
                  <a:pt x="1150" y="136"/>
                </a:lnTo>
                <a:lnTo>
                  <a:pt x="1210" y="117"/>
                </a:lnTo>
                <a:lnTo>
                  <a:pt x="1213" y="117"/>
                </a:lnTo>
                <a:lnTo>
                  <a:pt x="1215" y="118"/>
                </a:lnTo>
                <a:lnTo>
                  <a:pt x="1217" y="120"/>
                </a:lnTo>
                <a:lnTo>
                  <a:pt x="1219" y="121"/>
                </a:lnTo>
                <a:lnTo>
                  <a:pt x="1219" y="123"/>
                </a:lnTo>
                <a:lnTo>
                  <a:pt x="1219" y="126"/>
                </a:lnTo>
                <a:lnTo>
                  <a:pt x="1216" y="129"/>
                </a:lnTo>
                <a:lnTo>
                  <a:pt x="1215" y="130"/>
                </a:lnTo>
                <a:lnTo>
                  <a:pt x="1154" y="147"/>
                </a:lnTo>
                <a:lnTo>
                  <a:pt x="1089" y="170"/>
                </a:lnTo>
                <a:lnTo>
                  <a:pt x="1026" y="193"/>
                </a:lnTo>
                <a:lnTo>
                  <a:pt x="1023" y="193"/>
                </a:lnTo>
                <a:lnTo>
                  <a:pt x="1020" y="193"/>
                </a:lnTo>
                <a:lnTo>
                  <a:pt x="1019" y="192"/>
                </a:lnTo>
                <a:lnTo>
                  <a:pt x="1018" y="189"/>
                </a:lnTo>
                <a:lnTo>
                  <a:pt x="1018" y="187"/>
                </a:lnTo>
                <a:lnTo>
                  <a:pt x="1018" y="184"/>
                </a:lnTo>
                <a:lnTo>
                  <a:pt x="1019" y="183"/>
                </a:lnTo>
                <a:lnTo>
                  <a:pt x="1022" y="182"/>
                </a:lnTo>
                <a:lnTo>
                  <a:pt x="1022" y="182"/>
                </a:lnTo>
                <a:close/>
                <a:moveTo>
                  <a:pt x="1326" y="86"/>
                </a:moveTo>
                <a:lnTo>
                  <a:pt x="1354" y="79"/>
                </a:lnTo>
                <a:lnTo>
                  <a:pt x="1424" y="63"/>
                </a:lnTo>
                <a:lnTo>
                  <a:pt x="1494" y="49"/>
                </a:lnTo>
                <a:lnTo>
                  <a:pt x="1522" y="44"/>
                </a:lnTo>
                <a:lnTo>
                  <a:pt x="1525" y="44"/>
                </a:lnTo>
                <a:lnTo>
                  <a:pt x="1527" y="45"/>
                </a:lnTo>
                <a:lnTo>
                  <a:pt x="1529" y="46"/>
                </a:lnTo>
                <a:lnTo>
                  <a:pt x="1530" y="49"/>
                </a:lnTo>
                <a:lnTo>
                  <a:pt x="1530" y="51"/>
                </a:lnTo>
                <a:lnTo>
                  <a:pt x="1529" y="53"/>
                </a:lnTo>
                <a:lnTo>
                  <a:pt x="1527" y="55"/>
                </a:lnTo>
                <a:lnTo>
                  <a:pt x="1525" y="55"/>
                </a:lnTo>
                <a:lnTo>
                  <a:pt x="1497" y="60"/>
                </a:lnTo>
                <a:lnTo>
                  <a:pt x="1427" y="74"/>
                </a:lnTo>
                <a:lnTo>
                  <a:pt x="1358" y="91"/>
                </a:lnTo>
                <a:lnTo>
                  <a:pt x="1329" y="98"/>
                </a:lnTo>
                <a:lnTo>
                  <a:pt x="1326" y="98"/>
                </a:lnTo>
                <a:lnTo>
                  <a:pt x="1325" y="97"/>
                </a:lnTo>
                <a:lnTo>
                  <a:pt x="1322" y="96"/>
                </a:lnTo>
                <a:lnTo>
                  <a:pt x="1321" y="93"/>
                </a:lnTo>
                <a:lnTo>
                  <a:pt x="1321" y="91"/>
                </a:lnTo>
                <a:lnTo>
                  <a:pt x="1322" y="89"/>
                </a:lnTo>
                <a:lnTo>
                  <a:pt x="1323" y="87"/>
                </a:lnTo>
                <a:lnTo>
                  <a:pt x="1326" y="86"/>
                </a:lnTo>
                <a:lnTo>
                  <a:pt x="1326" y="86"/>
                </a:lnTo>
                <a:close/>
                <a:moveTo>
                  <a:pt x="1642" y="25"/>
                </a:moveTo>
                <a:lnTo>
                  <a:pt x="1706" y="17"/>
                </a:lnTo>
                <a:lnTo>
                  <a:pt x="1777" y="10"/>
                </a:lnTo>
                <a:lnTo>
                  <a:pt x="1841" y="6"/>
                </a:lnTo>
                <a:lnTo>
                  <a:pt x="1844" y="6"/>
                </a:lnTo>
                <a:lnTo>
                  <a:pt x="1846" y="7"/>
                </a:lnTo>
                <a:lnTo>
                  <a:pt x="1847" y="9"/>
                </a:lnTo>
                <a:lnTo>
                  <a:pt x="1848" y="11"/>
                </a:lnTo>
                <a:lnTo>
                  <a:pt x="1848" y="14"/>
                </a:lnTo>
                <a:lnTo>
                  <a:pt x="1847" y="16"/>
                </a:lnTo>
                <a:lnTo>
                  <a:pt x="1844" y="17"/>
                </a:lnTo>
                <a:lnTo>
                  <a:pt x="1843" y="17"/>
                </a:lnTo>
                <a:lnTo>
                  <a:pt x="1779" y="22"/>
                </a:lnTo>
                <a:lnTo>
                  <a:pt x="1707" y="30"/>
                </a:lnTo>
                <a:lnTo>
                  <a:pt x="1643" y="38"/>
                </a:lnTo>
                <a:lnTo>
                  <a:pt x="1640" y="38"/>
                </a:lnTo>
                <a:lnTo>
                  <a:pt x="1638" y="36"/>
                </a:lnTo>
                <a:lnTo>
                  <a:pt x="1636" y="34"/>
                </a:lnTo>
                <a:lnTo>
                  <a:pt x="1635" y="33"/>
                </a:lnTo>
                <a:lnTo>
                  <a:pt x="1635" y="30"/>
                </a:lnTo>
                <a:lnTo>
                  <a:pt x="1636" y="27"/>
                </a:lnTo>
                <a:lnTo>
                  <a:pt x="1639" y="26"/>
                </a:lnTo>
                <a:lnTo>
                  <a:pt x="1642" y="25"/>
                </a:lnTo>
                <a:lnTo>
                  <a:pt x="1642" y="25"/>
                </a:lnTo>
                <a:close/>
                <a:moveTo>
                  <a:pt x="1962" y="1"/>
                </a:moveTo>
                <a:lnTo>
                  <a:pt x="1994" y="0"/>
                </a:lnTo>
                <a:lnTo>
                  <a:pt x="1996" y="1"/>
                </a:lnTo>
                <a:lnTo>
                  <a:pt x="1999" y="2"/>
                </a:lnTo>
                <a:lnTo>
                  <a:pt x="2001" y="3"/>
                </a:lnTo>
                <a:lnTo>
                  <a:pt x="2001" y="6"/>
                </a:lnTo>
                <a:lnTo>
                  <a:pt x="2001" y="9"/>
                </a:lnTo>
                <a:lnTo>
                  <a:pt x="1999" y="10"/>
                </a:lnTo>
                <a:lnTo>
                  <a:pt x="1996" y="12"/>
                </a:lnTo>
                <a:lnTo>
                  <a:pt x="1995" y="12"/>
                </a:lnTo>
                <a:lnTo>
                  <a:pt x="1963" y="14"/>
                </a:lnTo>
                <a:lnTo>
                  <a:pt x="1960" y="12"/>
                </a:lnTo>
                <a:lnTo>
                  <a:pt x="1957" y="11"/>
                </a:lnTo>
                <a:lnTo>
                  <a:pt x="1956" y="10"/>
                </a:lnTo>
                <a:lnTo>
                  <a:pt x="1956" y="7"/>
                </a:lnTo>
                <a:lnTo>
                  <a:pt x="1956" y="5"/>
                </a:lnTo>
                <a:lnTo>
                  <a:pt x="1957" y="2"/>
                </a:lnTo>
                <a:lnTo>
                  <a:pt x="1960" y="1"/>
                </a:lnTo>
                <a:lnTo>
                  <a:pt x="1962" y="1"/>
                </a:lnTo>
                <a:lnTo>
                  <a:pt x="1962" y="1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3933720"/>
            <a:ext cx="129960" cy="181080"/>
          </a:xfrm>
          <a:custGeom>
            <a:avLst/>
            <a:gdLst/>
            <a:ahLst/>
            <a:rect l="l" t="t" r="r" b="b"/>
            <a:pathLst>
              <a:path w="122" h="108">
                <a:moveTo>
                  <a:pt x="2" y="0"/>
                </a:moveTo>
                <a:lnTo>
                  <a:pt x="122" y="55"/>
                </a:lnTo>
                <a:lnTo>
                  <a:pt x="0" y="108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168640" y="4030560"/>
            <a:ext cx="476280" cy="649440"/>
          </a:xfrm>
          <a:custGeom>
            <a:avLst/>
            <a:gdLst/>
            <a:ahLst/>
            <a:rect l="l" t="t" r="r" b="b"/>
            <a:pathLst>
              <a:path w="639" h="867">
                <a:moveTo>
                  <a:pt x="635" y="852"/>
                </a:moveTo>
                <a:lnTo>
                  <a:pt x="610" y="857"/>
                </a:lnTo>
                <a:lnTo>
                  <a:pt x="585" y="861"/>
                </a:lnTo>
                <a:lnTo>
                  <a:pt x="560" y="865"/>
                </a:lnTo>
                <a:lnTo>
                  <a:pt x="535" y="866"/>
                </a:lnTo>
                <a:lnTo>
                  <a:pt x="509" y="867"/>
                </a:lnTo>
                <a:lnTo>
                  <a:pt x="484" y="867"/>
                </a:lnTo>
                <a:lnTo>
                  <a:pt x="459" y="866"/>
                </a:lnTo>
                <a:lnTo>
                  <a:pt x="435" y="864"/>
                </a:lnTo>
                <a:lnTo>
                  <a:pt x="433" y="864"/>
                </a:lnTo>
                <a:lnTo>
                  <a:pt x="430" y="862"/>
                </a:lnTo>
                <a:lnTo>
                  <a:pt x="428" y="861"/>
                </a:lnTo>
                <a:lnTo>
                  <a:pt x="427" y="859"/>
                </a:lnTo>
                <a:lnTo>
                  <a:pt x="427" y="856"/>
                </a:lnTo>
                <a:lnTo>
                  <a:pt x="428" y="854"/>
                </a:lnTo>
                <a:lnTo>
                  <a:pt x="430" y="852"/>
                </a:lnTo>
                <a:lnTo>
                  <a:pt x="433" y="851"/>
                </a:lnTo>
                <a:lnTo>
                  <a:pt x="435" y="851"/>
                </a:lnTo>
                <a:lnTo>
                  <a:pt x="437" y="851"/>
                </a:lnTo>
                <a:lnTo>
                  <a:pt x="460" y="854"/>
                </a:lnTo>
                <a:lnTo>
                  <a:pt x="484" y="855"/>
                </a:lnTo>
                <a:lnTo>
                  <a:pt x="508" y="856"/>
                </a:lnTo>
                <a:lnTo>
                  <a:pt x="533" y="855"/>
                </a:lnTo>
                <a:lnTo>
                  <a:pt x="557" y="852"/>
                </a:lnTo>
                <a:lnTo>
                  <a:pt x="582" y="850"/>
                </a:lnTo>
                <a:lnTo>
                  <a:pt x="607" y="846"/>
                </a:lnTo>
                <a:lnTo>
                  <a:pt x="632" y="840"/>
                </a:lnTo>
                <a:lnTo>
                  <a:pt x="634" y="840"/>
                </a:lnTo>
                <a:lnTo>
                  <a:pt x="636" y="841"/>
                </a:lnTo>
                <a:lnTo>
                  <a:pt x="639" y="842"/>
                </a:lnTo>
                <a:lnTo>
                  <a:pt x="639" y="845"/>
                </a:lnTo>
                <a:lnTo>
                  <a:pt x="639" y="847"/>
                </a:lnTo>
                <a:lnTo>
                  <a:pt x="639" y="849"/>
                </a:lnTo>
                <a:lnTo>
                  <a:pt x="638" y="851"/>
                </a:lnTo>
                <a:lnTo>
                  <a:pt x="635" y="852"/>
                </a:lnTo>
                <a:lnTo>
                  <a:pt x="635" y="852"/>
                </a:lnTo>
                <a:close/>
                <a:moveTo>
                  <a:pt x="315" y="835"/>
                </a:moveTo>
                <a:lnTo>
                  <a:pt x="294" y="827"/>
                </a:lnTo>
                <a:lnTo>
                  <a:pt x="273" y="817"/>
                </a:lnTo>
                <a:lnTo>
                  <a:pt x="251" y="807"/>
                </a:lnTo>
                <a:lnTo>
                  <a:pt x="230" y="795"/>
                </a:lnTo>
                <a:lnTo>
                  <a:pt x="211" y="783"/>
                </a:lnTo>
                <a:lnTo>
                  <a:pt x="191" y="770"/>
                </a:lnTo>
                <a:lnTo>
                  <a:pt x="173" y="756"/>
                </a:lnTo>
                <a:lnTo>
                  <a:pt x="155" y="741"/>
                </a:lnTo>
                <a:lnTo>
                  <a:pt x="146" y="735"/>
                </a:lnTo>
                <a:lnTo>
                  <a:pt x="145" y="732"/>
                </a:lnTo>
                <a:lnTo>
                  <a:pt x="144" y="730"/>
                </a:lnTo>
                <a:lnTo>
                  <a:pt x="145" y="727"/>
                </a:lnTo>
                <a:lnTo>
                  <a:pt x="146" y="726"/>
                </a:lnTo>
                <a:lnTo>
                  <a:pt x="148" y="725"/>
                </a:lnTo>
                <a:lnTo>
                  <a:pt x="151" y="724"/>
                </a:lnTo>
                <a:lnTo>
                  <a:pt x="153" y="725"/>
                </a:lnTo>
                <a:lnTo>
                  <a:pt x="156" y="726"/>
                </a:lnTo>
                <a:lnTo>
                  <a:pt x="163" y="732"/>
                </a:lnTo>
                <a:lnTo>
                  <a:pt x="181" y="748"/>
                </a:lnTo>
                <a:lnTo>
                  <a:pt x="199" y="760"/>
                </a:lnTo>
                <a:lnTo>
                  <a:pt x="218" y="774"/>
                </a:lnTo>
                <a:lnTo>
                  <a:pt x="237" y="785"/>
                </a:lnTo>
                <a:lnTo>
                  <a:pt x="258" y="797"/>
                </a:lnTo>
                <a:lnTo>
                  <a:pt x="279" y="807"/>
                </a:lnTo>
                <a:lnTo>
                  <a:pt x="300" y="816"/>
                </a:lnTo>
                <a:lnTo>
                  <a:pt x="321" y="823"/>
                </a:lnTo>
                <a:lnTo>
                  <a:pt x="322" y="825"/>
                </a:lnTo>
                <a:lnTo>
                  <a:pt x="324" y="827"/>
                </a:lnTo>
                <a:lnTo>
                  <a:pt x="324" y="830"/>
                </a:lnTo>
                <a:lnTo>
                  <a:pt x="324" y="832"/>
                </a:lnTo>
                <a:lnTo>
                  <a:pt x="322" y="833"/>
                </a:lnTo>
                <a:lnTo>
                  <a:pt x="319" y="835"/>
                </a:lnTo>
                <a:lnTo>
                  <a:pt x="318" y="836"/>
                </a:lnTo>
                <a:lnTo>
                  <a:pt x="315" y="835"/>
                </a:lnTo>
                <a:lnTo>
                  <a:pt x="315" y="835"/>
                </a:lnTo>
                <a:close/>
                <a:moveTo>
                  <a:pt x="71" y="648"/>
                </a:moveTo>
                <a:lnTo>
                  <a:pt x="64" y="636"/>
                </a:lnTo>
                <a:lnTo>
                  <a:pt x="51" y="616"/>
                </a:lnTo>
                <a:lnTo>
                  <a:pt x="40" y="596"/>
                </a:lnTo>
                <a:lnTo>
                  <a:pt x="30" y="574"/>
                </a:lnTo>
                <a:lnTo>
                  <a:pt x="22" y="553"/>
                </a:lnTo>
                <a:lnTo>
                  <a:pt x="15" y="530"/>
                </a:lnTo>
                <a:lnTo>
                  <a:pt x="9" y="510"/>
                </a:lnTo>
                <a:lnTo>
                  <a:pt x="5" y="491"/>
                </a:lnTo>
                <a:lnTo>
                  <a:pt x="2" y="475"/>
                </a:lnTo>
                <a:lnTo>
                  <a:pt x="2" y="473"/>
                </a:lnTo>
                <a:lnTo>
                  <a:pt x="4" y="471"/>
                </a:lnTo>
                <a:lnTo>
                  <a:pt x="5" y="470"/>
                </a:lnTo>
                <a:lnTo>
                  <a:pt x="8" y="468"/>
                </a:lnTo>
                <a:lnTo>
                  <a:pt x="11" y="468"/>
                </a:lnTo>
                <a:lnTo>
                  <a:pt x="14" y="470"/>
                </a:lnTo>
                <a:lnTo>
                  <a:pt x="15" y="471"/>
                </a:lnTo>
                <a:lnTo>
                  <a:pt x="15" y="473"/>
                </a:lnTo>
                <a:lnTo>
                  <a:pt x="18" y="489"/>
                </a:lnTo>
                <a:lnTo>
                  <a:pt x="22" y="508"/>
                </a:lnTo>
                <a:lnTo>
                  <a:pt x="28" y="526"/>
                </a:lnTo>
                <a:lnTo>
                  <a:pt x="35" y="549"/>
                </a:lnTo>
                <a:lnTo>
                  <a:pt x="43" y="569"/>
                </a:lnTo>
                <a:lnTo>
                  <a:pt x="53" y="591"/>
                </a:lnTo>
                <a:lnTo>
                  <a:pt x="64" y="611"/>
                </a:lnTo>
                <a:lnTo>
                  <a:pt x="75" y="630"/>
                </a:lnTo>
                <a:lnTo>
                  <a:pt x="82" y="641"/>
                </a:lnTo>
                <a:lnTo>
                  <a:pt x="83" y="644"/>
                </a:lnTo>
                <a:lnTo>
                  <a:pt x="83" y="646"/>
                </a:lnTo>
                <a:lnTo>
                  <a:pt x="82" y="648"/>
                </a:lnTo>
                <a:lnTo>
                  <a:pt x="79" y="650"/>
                </a:lnTo>
                <a:lnTo>
                  <a:pt x="78" y="650"/>
                </a:lnTo>
                <a:lnTo>
                  <a:pt x="75" y="650"/>
                </a:lnTo>
                <a:lnTo>
                  <a:pt x="72" y="649"/>
                </a:lnTo>
                <a:lnTo>
                  <a:pt x="71" y="648"/>
                </a:lnTo>
                <a:lnTo>
                  <a:pt x="71" y="648"/>
                </a:lnTo>
                <a:close/>
                <a:moveTo>
                  <a:pt x="0" y="365"/>
                </a:moveTo>
                <a:lnTo>
                  <a:pt x="1" y="352"/>
                </a:lnTo>
                <a:lnTo>
                  <a:pt x="5" y="333"/>
                </a:lnTo>
                <a:lnTo>
                  <a:pt x="8" y="314"/>
                </a:lnTo>
                <a:lnTo>
                  <a:pt x="14" y="295"/>
                </a:lnTo>
                <a:lnTo>
                  <a:pt x="19" y="276"/>
                </a:lnTo>
                <a:lnTo>
                  <a:pt x="26" y="259"/>
                </a:lnTo>
                <a:lnTo>
                  <a:pt x="33" y="241"/>
                </a:lnTo>
                <a:lnTo>
                  <a:pt x="42" y="223"/>
                </a:lnTo>
                <a:lnTo>
                  <a:pt x="51" y="206"/>
                </a:lnTo>
                <a:lnTo>
                  <a:pt x="60" y="191"/>
                </a:lnTo>
                <a:lnTo>
                  <a:pt x="61" y="188"/>
                </a:lnTo>
                <a:lnTo>
                  <a:pt x="64" y="187"/>
                </a:lnTo>
                <a:lnTo>
                  <a:pt x="67" y="187"/>
                </a:lnTo>
                <a:lnTo>
                  <a:pt x="70" y="188"/>
                </a:lnTo>
                <a:lnTo>
                  <a:pt x="71" y="189"/>
                </a:lnTo>
                <a:lnTo>
                  <a:pt x="72" y="192"/>
                </a:lnTo>
                <a:lnTo>
                  <a:pt x="72" y="193"/>
                </a:lnTo>
                <a:lnTo>
                  <a:pt x="72" y="196"/>
                </a:lnTo>
                <a:lnTo>
                  <a:pt x="64" y="211"/>
                </a:lnTo>
                <a:lnTo>
                  <a:pt x="54" y="227"/>
                </a:lnTo>
                <a:lnTo>
                  <a:pt x="46" y="245"/>
                </a:lnTo>
                <a:lnTo>
                  <a:pt x="39" y="263"/>
                </a:lnTo>
                <a:lnTo>
                  <a:pt x="32" y="280"/>
                </a:lnTo>
                <a:lnTo>
                  <a:pt x="26" y="298"/>
                </a:lnTo>
                <a:lnTo>
                  <a:pt x="22" y="317"/>
                </a:lnTo>
                <a:lnTo>
                  <a:pt x="18" y="336"/>
                </a:lnTo>
                <a:lnTo>
                  <a:pt x="15" y="353"/>
                </a:lnTo>
                <a:lnTo>
                  <a:pt x="14" y="366"/>
                </a:lnTo>
                <a:lnTo>
                  <a:pt x="12" y="369"/>
                </a:lnTo>
                <a:lnTo>
                  <a:pt x="11" y="370"/>
                </a:lnTo>
                <a:lnTo>
                  <a:pt x="8" y="371"/>
                </a:lnTo>
                <a:lnTo>
                  <a:pt x="5" y="371"/>
                </a:lnTo>
                <a:lnTo>
                  <a:pt x="4" y="371"/>
                </a:lnTo>
                <a:lnTo>
                  <a:pt x="1" y="370"/>
                </a:lnTo>
                <a:lnTo>
                  <a:pt x="0" y="367"/>
                </a:lnTo>
                <a:lnTo>
                  <a:pt x="0" y="365"/>
                </a:lnTo>
                <a:lnTo>
                  <a:pt x="0" y="365"/>
                </a:lnTo>
                <a:close/>
                <a:moveTo>
                  <a:pt x="131" y="101"/>
                </a:moveTo>
                <a:lnTo>
                  <a:pt x="138" y="95"/>
                </a:lnTo>
                <a:lnTo>
                  <a:pt x="152" y="81"/>
                </a:lnTo>
                <a:lnTo>
                  <a:pt x="169" y="68"/>
                </a:lnTo>
                <a:lnTo>
                  <a:pt x="185" y="55"/>
                </a:lnTo>
                <a:lnTo>
                  <a:pt x="202" y="43"/>
                </a:lnTo>
                <a:lnTo>
                  <a:pt x="220" y="31"/>
                </a:lnTo>
                <a:lnTo>
                  <a:pt x="240" y="20"/>
                </a:lnTo>
                <a:lnTo>
                  <a:pt x="258" y="10"/>
                </a:lnTo>
                <a:lnTo>
                  <a:pt x="279" y="1"/>
                </a:lnTo>
                <a:lnTo>
                  <a:pt x="282" y="0"/>
                </a:lnTo>
                <a:lnTo>
                  <a:pt x="283" y="0"/>
                </a:lnTo>
                <a:lnTo>
                  <a:pt x="286" y="1"/>
                </a:lnTo>
                <a:lnTo>
                  <a:pt x="287" y="4"/>
                </a:lnTo>
                <a:lnTo>
                  <a:pt x="289" y="6"/>
                </a:lnTo>
                <a:lnTo>
                  <a:pt x="289" y="9"/>
                </a:lnTo>
                <a:lnTo>
                  <a:pt x="287" y="10"/>
                </a:lnTo>
                <a:lnTo>
                  <a:pt x="285" y="11"/>
                </a:lnTo>
                <a:lnTo>
                  <a:pt x="265" y="21"/>
                </a:lnTo>
                <a:lnTo>
                  <a:pt x="247" y="30"/>
                </a:lnTo>
                <a:lnTo>
                  <a:pt x="229" y="41"/>
                </a:lnTo>
                <a:lnTo>
                  <a:pt x="211" y="53"/>
                </a:lnTo>
                <a:lnTo>
                  <a:pt x="194" y="64"/>
                </a:lnTo>
                <a:lnTo>
                  <a:pt x="177" y="77"/>
                </a:lnTo>
                <a:lnTo>
                  <a:pt x="162" y="89"/>
                </a:lnTo>
                <a:lnTo>
                  <a:pt x="148" y="103"/>
                </a:lnTo>
                <a:lnTo>
                  <a:pt x="141" y="108"/>
                </a:lnTo>
                <a:lnTo>
                  <a:pt x="139" y="110"/>
                </a:lnTo>
                <a:lnTo>
                  <a:pt x="137" y="111"/>
                </a:lnTo>
                <a:lnTo>
                  <a:pt x="134" y="111"/>
                </a:lnTo>
                <a:lnTo>
                  <a:pt x="132" y="110"/>
                </a:lnTo>
                <a:lnTo>
                  <a:pt x="130" y="107"/>
                </a:lnTo>
                <a:lnTo>
                  <a:pt x="130" y="105"/>
                </a:lnTo>
                <a:lnTo>
                  <a:pt x="130" y="102"/>
                </a:lnTo>
                <a:lnTo>
                  <a:pt x="131" y="101"/>
                </a:lnTo>
                <a:lnTo>
                  <a:pt x="131" y="101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68360" y="3933720"/>
            <a:ext cx="216000" cy="216000"/>
          </a:xfrm>
          <a:custGeom>
            <a:avLst/>
            <a:gdLst/>
            <a:ahLst/>
            <a:rect l="l" t="t" r="r" b="b"/>
            <a:pathLst>
              <a:path w="134" h="103">
                <a:moveTo>
                  <a:pt x="0" y="0"/>
                </a:moveTo>
                <a:lnTo>
                  <a:pt x="134" y="14"/>
                </a:lnTo>
                <a:lnTo>
                  <a:pt x="42" y="10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71640" y="4932360"/>
            <a:ext cx="1000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62000" y="4890960"/>
            <a:ext cx="88920" cy="82800"/>
          </a:xfrm>
          <a:custGeom>
            <a:avLst/>
            <a:gdLst/>
            <a:ahLst/>
            <a:rect l="l" t="t" r="r" b="b"/>
            <a:pathLst>
              <a:path w="122" h="110">
                <a:moveTo>
                  <a:pt x="0" y="0"/>
                </a:moveTo>
                <a:lnTo>
                  <a:pt x="122" y="54"/>
                </a:lnTo>
                <a:lnTo>
                  <a:pt x="0" y="1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74720" y="4842000"/>
            <a:ext cx="196920" cy="179280"/>
          </a:xfrm>
          <a:custGeom>
            <a:avLst/>
            <a:gdLst/>
            <a:ahLst/>
            <a:rect l="l" t="t" r="r" b="b"/>
            <a:pathLst>
              <a:path w="264" h="238">
                <a:moveTo>
                  <a:pt x="0" y="118"/>
                </a:moveTo>
                <a:lnTo>
                  <a:pt x="1" y="107"/>
                </a:lnTo>
                <a:lnTo>
                  <a:pt x="3" y="94"/>
                </a:lnTo>
                <a:lnTo>
                  <a:pt x="7" y="83"/>
                </a:lnTo>
                <a:lnTo>
                  <a:pt x="11" y="73"/>
                </a:lnTo>
                <a:lnTo>
                  <a:pt x="17" y="62"/>
                </a:lnTo>
                <a:lnTo>
                  <a:pt x="22" y="53"/>
                </a:lnTo>
                <a:lnTo>
                  <a:pt x="30" y="43"/>
                </a:lnTo>
                <a:lnTo>
                  <a:pt x="39" y="35"/>
                </a:lnTo>
                <a:lnTo>
                  <a:pt x="49" y="26"/>
                </a:lnTo>
                <a:lnTo>
                  <a:pt x="58" y="20"/>
                </a:lnTo>
                <a:lnTo>
                  <a:pt x="70" y="14"/>
                </a:lnTo>
                <a:lnTo>
                  <a:pt x="81" y="9"/>
                </a:lnTo>
                <a:lnTo>
                  <a:pt x="93" y="5"/>
                </a:lnTo>
                <a:lnTo>
                  <a:pt x="106" y="2"/>
                </a:lnTo>
                <a:lnTo>
                  <a:pt x="118" y="0"/>
                </a:lnTo>
                <a:lnTo>
                  <a:pt x="132" y="0"/>
                </a:lnTo>
                <a:lnTo>
                  <a:pt x="146" y="0"/>
                </a:lnTo>
                <a:lnTo>
                  <a:pt x="159" y="2"/>
                </a:lnTo>
                <a:lnTo>
                  <a:pt x="172" y="5"/>
                </a:lnTo>
                <a:lnTo>
                  <a:pt x="184" y="9"/>
                </a:lnTo>
                <a:lnTo>
                  <a:pt x="195" y="14"/>
                </a:lnTo>
                <a:lnTo>
                  <a:pt x="206" y="20"/>
                </a:lnTo>
                <a:lnTo>
                  <a:pt x="216" y="26"/>
                </a:lnTo>
                <a:lnTo>
                  <a:pt x="226" y="35"/>
                </a:lnTo>
                <a:lnTo>
                  <a:pt x="234" y="43"/>
                </a:lnTo>
                <a:lnTo>
                  <a:pt x="241" y="53"/>
                </a:lnTo>
                <a:lnTo>
                  <a:pt x="248" y="62"/>
                </a:lnTo>
                <a:lnTo>
                  <a:pt x="254" y="73"/>
                </a:lnTo>
                <a:lnTo>
                  <a:pt x="258" y="83"/>
                </a:lnTo>
                <a:lnTo>
                  <a:pt x="261" y="94"/>
                </a:lnTo>
                <a:lnTo>
                  <a:pt x="264" y="107"/>
                </a:lnTo>
                <a:lnTo>
                  <a:pt x="264" y="118"/>
                </a:lnTo>
                <a:lnTo>
                  <a:pt x="264" y="118"/>
                </a:lnTo>
                <a:lnTo>
                  <a:pt x="264" y="131"/>
                </a:lnTo>
                <a:lnTo>
                  <a:pt x="261" y="142"/>
                </a:lnTo>
                <a:lnTo>
                  <a:pt x="258" y="154"/>
                </a:lnTo>
                <a:lnTo>
                  <a:pt x="254" y="165"/>
                </a:lnTo>
                <a:lnTo>
                  <a:pt x="248" y="175"/>
                </a:lnTo>
                <a:lnTo>
                  <a:pt x="241" y="185"/>
                </a:lnTo>
                <a:lnTo>
                  <a:pt x="234" y="194"/>
                </a:lnTo>
                <a:lnTo>
                  <a:pt x="226" y="203"/>
                </a:lnTo>
                <a:lnTo>
                  <a:pt x="216" y="211"/>
                </a:lnTo>
                <a:lnTo>
                  <a:pt x="206" y="218"/>
                </a:lnTo>
                <a:lnTo>
                  <a:pt x="195" y="223"/>
                </a:lnTo>
                <a:lnTo>
                  <a:pt x="184" y="228"/>
                </a:lnTo>
                <a:lnTo>
                  <a:pt x="172" y="233"/>
                </a:lnTo>
                <a:lnTo>
                  <a:pt x="159" y="236"/>
                </a:lnTo>
                <a:lnTo>
                  <a:pt x="146" y="237"/>
                </a:lnTo>
                <a:lnTo>
                  <a:pt x="132" y="238"/>
                </a:lnTo>
                <a:lnTo>
                  <a:pt x="118" y="237"/>
                </a:lnTo>
                <a:lnTo>
                  <a:pt x="106" y="236"/>
                </a:lnTo>
                <a:lnTo>
                  <a:pt x="93" y="233"/>
                </a:lnTo>
                <a:lnTo>
                  <a:pt x="81" y="228"/>
                </a:lnTo>
                <a:lnTo>
                  <a:pt x="70" y="223"/>
                </a:lnTo>
                <a:lnTo>
                  <a:pt x="58" y="218"/>
                </a:lnTo>
                <a:lnTo>
                  <a:pt x="49" y="211"/>
                </a:lnTo>
                <a:lnTo>
                  <a:pt x="39" y="203"/>
                </a:lnTo>
                <a:lnTo>
                  <a:pt x="30" y="194"/>
                </a:lnTo>
                <a:lnTo>
                  <a:pt x="22" y="185"/>
                </a:lnTo>
                <a:lnTo>
                  <a:pt x="17" y="175"/>
                </a:lnTo>
                <a:lnTo>
                  <a:pt x="11" y="165"/>
                </a:lnTo>
                <a:lnTo>
                  <a:pt x="7" y="154"/>
                </a:lnTo>
                <a:lnTo>
                  <a:pt x="3" y="142"/>
                </a:lnTo>
                <a:lnTo>
                  <a:pt x="1" y="131"/>
                </a:lnTo>
                <a:lnTo>
                  <a:pt x="0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4720" y="4842000"/>
            <a:ext cx="196920" cy="179280"/>
          </a:xfrm>
          <a:custGeom>
            <a:avLst/>
            <a:gdLst/>
            <a:ahLst/>
            <a:rect l="l" t="t" r="r" b="b"/>
            <a:pathLst>
              <a:path w="264" h="238">
                <a:moveTo>
                  <a:pt x="132" y="0"/>
                </a:moveTo>
                <a:lnTo>
                  <a:pt x="0" y="118"/>
                </a:lnTo>
                <a:lnTo>
                  <a:pt x="132" y="238"/>
                </a:lnTo>
                <a:lnTo>
                  <a:pt x="264" y="118"/>
                </a:lnTo>
                <a:lnTo>
                  <a:pt x="132" y="0"/>
                </a:lnTo>
                <a:lnTo>
                  <a:pt x="1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720" y="4842000"/>
            <a:ext cx="196920" cy="179280"/>
          </a:xfrm>
          <a:custGeom>
            <a:avLst/>
            <a:gdLst/>
            <a:ahLst/>
            <a:rect l="l" t="t" r="r" b="b"/>
            <a:pathLst>
              <a:path w="264" h="238">
                <a:moveTo>
                  <a:pt x="0" y="118"/>
                </a:moveTo>
                <a:lnTo>
                  <a:pt x="1" y="107"/>
                </a:lnTo>
                <a:lnTo>
                  <a:pt x="3" y="94"/>
                </a:lnTo>
                <a:lnTo>
                  <a:pt x="7" y="83"/>
                </a:lnTo>
                <a:lnTo>
                  <a:pt x="11" y="73"/>
                </a:lnTo>
                <a:lnTo>
                  <a:pt x="17" y="62"/>
                </a:lnTo>
                <a:lnTo>
                  <a:pt x="22" y="53"/>
                </a:lnTo>
                <a:lnTo>
                  <a:pt x="30" y="43"/>
                </a:lnTo>
                <a:lnTo>
                  <a:pt x="39" y="35"/>
                </a:lnTo>
                <a:lnTo>
                  <a:pt x="49" y="26"/>
                </a:lnTo>
                <a:lnTo>
                  <a:pt x="58" y="20"/>
                </a:lnTo>
                <a:lnTo>
                  <a:pt x="70" y="14"/>
                </a:lnTo>
                <a:lnTo>
                  <a:pt x="81" y="9"/>
                </a:lnTo>
                <a:lnTo>
                  <a:pt x="93" y="5"/>
                </a:lnTo>
                <a:lnTo>
                  <a:pt x="106" y="2"/>
                </a:lnTo>
                <a:lnTo>
                  <a:pt x="118" y="0"/>
                </a:lnTo>
                <a:lnTo>
                  <a:pt x="132" y="0"/>
                </a:lnTo>
                <a:lnTo>
                  <a:pt x="146" y="0"/>
                </a:lnTo>
                <a:lnTo>
                  <a:pt x="159" y="2"/>
                </a:lnTo>
                <a:lnTo>
                  <a:pt x="172" y="5"/>
                </a:lnTo>
                <a:lnTo>
                  <a:pt x="184" y="9"/>
                </a:lnTo>
                <a:lnTo>
                  <a:pt x="195" y="14"/>
                </a:lnTo>
                <a:lnTo>
                  <a:pt x="206" y="20"/>
                </a:lnTo>
                <a:lnTo>
                  <a:pt x="216" y="26"/>
                </a:lnTo>
                <a:lnTo>
                  <a:pt x="226" y="35"/>
                </a:lnTo>
                <a:lnTo>
                  <a:pt x="234" y="43"/>
                </a:lnTo>
                <a:lnTo>
                  <a:pt x="241" y="53"/>
                </a:lnTo>
                <a:lnTo>
                  <a:pt x="248" y="62"/>
                </a:lnTo>
                <a:lnTo>
                  <a:pt x="254" y="73"/>
                </a:lnTo>
                <a:lnTo>
                  <a:pt x="258" y="83"/>
                </a:lnTo>
                <a:lnTo>
                  <a:pt x="261" y="94"/>
                </a:lnTo>
                <a:lnTo>
                  <a:pt x="264" y="107"/>
                </a:lnTo>
                <a:lnTo>
                  <a:pt x="264" y="118"/>
                </a:lnTo>
                <a:lnTo>
                  <a:pt x="264" y="118"/>
                </a:lnTo>
                <a:lnTo>
                  <a:pt x="264" y="131"/>
                </a:lnTo>
                <a:lnTo>
                  <a:pt x="261" y="142"/>
                </a:lnTo>
                <a:lnTo>
                  <a:pt x="258" y="154"/>
                </a:lnTo>
                <a:lnTo>
                  <a:pt x="254" y="165"/>
                </a:lnTo>
                <a:lnTo>
                  <a:pt x="248" y="175"/>
                </a:lnTo>
                <a:lnTo>
                  <a:pt x="241" y="185"/>
                </a:lnTo>
                <a:lnTo>
                  <a:pt x="234" y="194"/>
                </a:lnTo>
                <a:lnTo>
                  <a:pt x="226" y="203"/>
                </a:lnTo>
                <a:lnTo>
                  <a:pt x="216" y="211"/>
                </a:lnTo>
                <a:lnTo>
                  <a:pt x="206" y="218"/>
                </a:lnTo>
                <a:lnTo>
                  <a:pt x="195" y="223"/>
                </a:lnTo>
                <a:lnTo>
                  <a:pt x="184" y="228"/>
                </a:lnTo>
                <a:lnTo>
                  <a:pt x="172" y="233"/>
                </a:lnTo>
                <a:lnTo>
                  <a:pt x="159" y="236"/>
                </a:lnTo>
                <a:lnTo>
                  <a:pt x="146" y="237"/>
                </a:lnTo>
                <a:lnTo>
                  <a:pt x="132" y="238"/>
                </a:lnTo>
                <a:lnTo>
                  <a:pt x="118" y="237"/>
                </a:lnTo>
                <a:lnTo>
                  <a:pt x="106" y="236"/>
                </a:lnTo>
                <a:lnTo>
                  <a:pt x="93" y="233"/>
                </a:lnTo>
                <a:lnTo>
                  <a:pt x="81" y="228"/>
                </a:lnTo>
                <a:lnTo>
                  <a:pt x="70" y="223"/>
                </a:lnTo>
                <a:lnTo>
                  <a:pt x="58" y="218"/>
                </a:lnTo>
                <a:lnTo>
                  <a:pt x="49" y="211"/>
                </a:lnTo>
                <a:lnTo>
                  <a:pt x="39" y="203"/>
                </a:lnTo>
                <a:lnTo>
                  <a:pt x="30" y="194"/>
                </a:lnTo>
                <a:lnTo>
                  <a:pt x="22" y="185"/>
                </a:lnTo>
                <a:lnTo>
                  <a:pt x="17" y="175"/>
                </a:lnTo>
                <a:lnTo>
                  <a:pt x="11" y="165"/>
                </a:lnTo>
                <a:lnTo>
                  <a:pt x="7" y="154"/>
                </a:lnTo>
                <a:lnTo>
                  <a:pt x="3" y="142"/>
                </a:lnTo>
                <a:lnTo>
                  <a:pt x="1" y="131"/>
                </a:lnTo>
                <a:lnTo>
                  <a:pt x="0" y="118"/>
                </a:lnTo>
                <a:lnTo>
                  <a:pt x="0" y="11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5440" y="4710240"/>
            <a:ext cx="723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4840" y="4710240"/>
            <a:ext cx="1480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d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4664160"/>
            <a:ext cx="1177920" cy="534960"/>
          </a:xfrm>
          <a:custGeom>
            <a:avLst/>
            <a:gdLst/>
            <a:ahLst/>
            <a:rect l="l" t="t" r="r" b="b"/>
            <a:pathLst>
              <a:path w="1583" h="716">
                <a:moveTo>
                  <a:pt x="264" y="716"/>
                </a:moveTo>
                <a:lnTo>
                  <a:pt x="1319" y="716"/>
                </a:lnTo>
                <a:lnTo>
                  <a:pt x="1332" y="716"/>
                </a:lnTo>
                <a:lnTo>
                  <a:pt x="1346" y="715"/>
                </a:lnTo>
                <a:lnTo>
                  <a:pt x="1359" y="714"/>
                </a:lnTo>
                <a:lnTo>
                  <a:pt x="1373" y="711"/>
                </a:lnTo>
                <a:lnTo>
                  <a:pt x="1385" y="709"/>
                </a:lnTo>
                <a:lnTo>
                  <a:pt x="1398" y="705"/>
                </a:lnTo>
                <a:lnTo>
                  <a:pt x="1410" y="701"/>
                </a:lnTo>
                <a:lnTo>
                  <a:pt x="1421" y="697"/>
                </a:lnTo>
                <a:lnTo>
                  <a:pt x="1434" y="692"/>
                </a:lnTo>
                <a:lnTo>
                  <a:pt x="1445" y="687"/>
                </a:lnTo>
                <a:lnTo>
                  <a:pt x="1456" y="681"/>
                </a:lnTo>
                <a:lnTo>
                  <a:pt x="1466" y="674"/>
                </a:lnTo>
                <a:lnTo>
                  <a:pt x="1477" y="668"/>
                </a:lnTo>
                <a:lnTo>
                  <a:pt x="1487" y="662"/>
                </a:lnTo>
                <a:lnTo>
                  <a:pt x="1497" y="654"/>
                </a:lnTo>
                <a:lnTo>
                  <a:pt x="1505" y="645"/>
                </a:lnTo>
                <a:lnTo>
                  <a:pt x="1515" y="638"/>
                </a:lnTo>
                <a:lnTo>
                  <a:pt x="1522" y="629"/>
                </a:lnTo>
                <a:lnTo>
                  <a:pt x="1530" y="620"/>
                </a:lnTo>
                <a:lnTo>
                  <a:pt x="1537" y="610"/>
                </a:lnTo>
                <a:lnTo>
                  <a:pt x="1544" y="601"/>
                </a:lnTo>
                <a:lnTo>
                  <a:pt x="1551" y="591"/>
                </a:lnTo>
                <a:lnTo>
                  <a:pt x="1557" y="581"/>
                </a:lnTo>
                <a:lnTo>
                  <a:pt x="1562" y="570"/>
                </a:lnTo>
                <a:lnTo>
                  <a:pt x="1567" y="560"/>
                </a:lnTo>
                <a:lnTo>
                  <a:pt x="1571" y="548"/>
                </a:lnTo>
                <a:lnTo>
                  <a:pt x="1575" y="537"/>
                </a:lnTo>
                <a:lnTo>
                  <a:pt x="1578" y="525"/>
                </a:lnTo>
                <a:lnTo>
                  <a:pt x="1579" y="514"/>
                </a:lnTo>
                <a:lnTo>
                  <a:pt x="1582" y="501"/>
                </a:lnTo>
                <a:lnTo>
                  <a:pt x="1582" y="490"/>
                </a:lnTo>
                <a:lnTo>
                  <a:pt x="1583" y="477"/>
                </a:lnTo>
                <a:lnTo>
                  <a:pt x="1583" y="477"/>
                </a:lnTo>
                <a:lnTo>
                  <a:pt x="1583" y="239"/>
                </a:lnTo>
                <a:lnTo>
                  <a:pt x="1582" y="226"/>
                </a:lnTo>
                <a:lnTo>
                  <a:pt x="1582" y="215"/>
                </a:lnTo>
                <a:lnTo>
                  <a:pt x="1579" y="202"/>
                </a:lnTo>
                <a:lnTo>
                  <a:pt x="1578" y="191"/>
                </a:lnTo>
                <a:lnTo>
                  <a:pt x="1575" y="179"/>
                </a:lnTo>
                <a:lnTo>
                  <a:pt x="1571" y="168"/>
                </a:lnTo>
                <a:lnTo>
                  <a:pt x="1567" y="157"/>
                </a:lnTo>
                <a:lnTo>
                  <a:pt x="1562" y="145"/>
                </a:lnTo>
                <a:lnTo>
                  <a:pt x="1557" y="135"/>
                </a:lnTo>
                <a:lnTo>
                  <a:pt x="1551" y="125"/>
                </a:lnTo>
                <a:lnTo>
                  <a:pt x="1544" y="115"/>
                </a:lnTo>
                <a:lnTo>
                  <a:pt x="1537" y="105"/>
                </a:lnTo>
                <a:lnTo>
                  <a:pt x="1530" y="96"/>
                </a:lnTo>
                <a:lnTo>
                  <a:pt x="1522" y="87"/>
                </a:lnTo>
                <a:lnTo>
                  <a:pt x="1515" y="78"/>
                </a:lnTo>
                <a:lnTo>
                  <a:pt x="1505" y="69"/>
                </a:lnTo>
                <a:lnTo>
                  <a:pt x="1497" y="62"/>
                </a:lnTo>
                <a:lnTo>
                  <a:pt x="1487" y="54"/>
                </a:lnTo>
                <a:lnTo>
                  <a:pt x="1477" y="47"/>
                </a:lnTo>
                <a:lnTo>
                  <a:pt x="1466" y="40"/>
                </a:lnTo>
                <a:lnTo>
                  <a:pt x="1456" y="34"/>
                </a:lnTo>
                <a:lnTo>
                  <a:pt x="1445" y="29"/>
                </a:lnTo>
                <a:lnTo>
                  <a:pt x="1434" y="24"/>
                </a:lnTo>
                <a:lnTo>
                  <a:pt x="1421" y="19"/>
                </a:lnTo>
                <a:lnTo>
                  <a:pt x="1410" y="14"/>
                </a:lnTo>
                <a:lnTo>
                  <a:pt x="1398" y="10"/>
                </a:lnTo>
                <a:lnTo>
                  <a:pt x="1385" y="8"/>
                </a:lnTo>
                <a:lnTo>
                  <a:pt x="1373" y="5"/>
                </a:lnTo>
                <a:lnTo>
                  <a:pt x="1359" y="3"/>
                </a:lnTo>
                <a:lnTo>
                  <a:pt x="1346" y="1"/>
                </a:lnTo>
                <a:lnTo>
                  <a:pt x="1332" y="0"/>
                </a:lnTo>
                <a:lnTo>
                  <a:pt x="1319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3"/>
                </a:lnTo>
                <a:lnTo>
                  <a:pt x="211" y="5"/>
                </a:lnTo>
                <a:lnTo>
                  <a:pt x="198" y="8"/>
                </a:lnTo>
                <a:lnTo>
                  <a:pt x="186" y="10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0"/>
                </a:lnTo>
                <a:lnTo>
                  <a:pt x="106" y="47"/>
                </a:lnTo>
                <a:lnTo>
                  <a:pt x="96" y="54"/>
                </a:lnTo>
                <a:lnTo>
                  <a:pt x="86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2" y="96"/>
                </a:lnTo>
                <a:lnTo>
                  <a:pt x="45" y="105"/>
                </a:lnTo>
                <a:lnTo>
                  <a:pt x="38" y="115"/>
                </a:lnTo>
                <a:lnTo>
                  <a:pt x="32" y="125"/>
                </a:lnTo>
                <a:lnTo>
                  <a:pt x="25" y="135"/>
                </a:lnTo>
                <a:lnTo>
                  <a:pt x="21" y="145"/>
                </a:lnTo>
                <a:lnTo>
                  <a:pt x="15" y="157"/>
                </a:lnTo>
                <a:lnTo>
                  <a:pt x="11" y="168"/>
                </a:lnTo>
                <a:lnTo>
                  <a:pt x="8" y="179"/>
                </a:lnTo>
                <a:lnTo>
                  <a:pt x="5" y="191"/>
                </a:lnTo>
                <a:lnTo>
                  <a:pt x="3" y="202"/>
                </a:lnTo>
                <a:lnTo>
                  <a:pt x="1" y="215"/>
                </a:lnTo>
                <a:lnTo>
                  <a:pt x="0" y="226"/>
                </a:lnTo>
                <a:lnTo>
                  <a:pt x="0" y="239"/>
                </a:lnTo>
                <a:lnTo>
                  <a:pt x="0" y="239"/>
                </a:lnTo>
                <a:lnTo>
                  <a:pt x="0" y="477"/>
                </a:lnTo>
                <a:lnTo>
                  <a:pt x="0" y="490"/>
                </a:lnTo>
                <a:lnTo>
                  <a:pt x="1" y="501"/>
                </a:lnTo>
                <a:lnTo>
                  <a:pt x="3" y="514"/>
                </a:lnTo>
                <a:lnTo>
                  <a:pt x="5" y="525"/>
                </a:lnTo>
                <a:lnTo>
                  <a:pt x="8" y="537"/>
                </a:lnTo>
                <a:lnTo>
                  <a:pt x="11" y="548"/>
                </a:lnTo>
                <a:lnTo>
                  <a:pt x="15" y="560"/>
                </a:lnTo>
                <a:lnTo>
                  <a:pt x="21" y="570"/>
                </a:lnTo>
                <a:lnTo>
                  <a:pt x="25" y="581"/>
                </a:lnTo>
                <a:lnTo>
                  <a:pt x="32" y="591"/>
                </a:lnTo>
                <a:lnTo>
                  <a:pt x="38" y="601"/>
                </a:lnTo>
                <a:lnTo>
                  <a:pt x="45" y="610"/>
                </a:lnTo>
                <a:lnTo>
                  <a:pt x="52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6" y="654"/>
                </a:lnTo>
                <a:lnTo>
                  <a:pt x="96" y="662"/>
                </a:lnTo>
                <a:lnTo>
                  <a:pt x="106" y="668"/>
                </a:lnTo>
                <a:lnTo>
                  <a:pt x="116" y="674"/>
                </a:lnTo>
                <a:lnTo>
                  <a:pt x="127" y="681"/>
                </a:lnTo>
                <a:lnTo>
                  <a:pt x="138" y="687"/>
                </a:lnTo>
                <a:lnTo>
                  <a:pt x="149" y="692"/>
                </a:lnTo>
                <a:lnTo>
                  <a:pt x="160" y="697"/>
                </a:lnTo>
                <a:lnTo>
                  <a:pt x="173" y="701"/>
                </a:lnTo>
                <a:lnTo>
                  <a:pt x="186" y="705"/>
                </a:lnTo>
                <a:lnTo>
                  <a:pt x="198" y="709"/>
                </a:lnTo>
                <a:lnTo>
                  <a:pt x="211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50920" y="4664160"/>
            <a:ext cx="1177920" cy="534960"/>
          </a:xfrm>
          <a:custGeom>
            <a:avLst/>
            <a:gdLst/>
            <a:ahLst/>
            <a:rect l="l" t="t" r="r" b="b"/>
            <a:pathLst>
              <a:path w="1583" h="716">
                <a:moveTo>
                  <a:pt x="264" y="716"/>
                </a:moveTo>
                <a:lnTo>
                  <a:pt x="1319" y="716"/>
                </a:lnTo>
                <a:lnTo>
                  <a:pt x="1332" y="716"/>
                </a:lnTo>
                <a:lnTo>
                  <a:pt x="1346" y="715"/>
                </a:lnTo>
                <a:lnTo>
                  <a:pt x="1359" y="714"/>
                </a:lnTo>
                <a:lnTo>
                  <a:pt x="1373" y="711"/>
                </a:lnTo>
                <a:lnTo>
                  <a:pt x="1385" y="709"/>
                </a:lnTo>
                <a:lnTo>
                  <a:pt x="1398" y="705"/>
                </a:lnTo>
                <a:lnTo>
                  <a:pt x="1410" y="701"/>
                </a:lnTo>
                <a:lnTo>
                  <a:pt x="1421" y="697"/>
                </a:lnTo>
                <a:lnTo>
                  <a:pt x="1434" y="692"/>
                </a:lnTo>
                <a:lnTo>
                  <a:pt x="1445" y="687"/>
                </a:lnTo>
                <a:lnTo>
                  <a:pt x="1456" y="681"/>
                </a:lnTo>
                <a:lnTo>
                  <a:pt x="1466" y="674"/>
                </a:lnTo>
                <a:lnTo>
                  <a:pt x="1477" y="668"/>
                </a:lnTo>
                <a:lnTo>
                  <a:pt x="1487" y="662"/>
                </a:lnTo>
                <a:lnTo>
                  <a:pt x="1497" y="654"/>
                </a:lnTo>
                <a:lnTo>
                  <a:pt x="1505" y="645"/>
                </a:lnTo>
                <a:lnTo>
                  <a:pt x="1515" y="638"/>
                </a:lnTo>
                <a:lnTo>
                  <a:pt x="1522" y="629"/>
                </a:lnTo>
                <a:lnTo>
                  <a:pt x="1530" y="620"/>
                </a:lnTo>
                <a:lnTo>
                  <a:pt x="1537" y="610"/>
                </a:lnTo>
                <a:lnTo>
                  <a:pt x="1544" y="601"/>
                </a:lnTo>
                <a:lnTo>
                  <a:pt x="1551" y="591"/>
                </a:lnTo>
                <a:lnTo>
                  <a:pt x="1557" y="581"/>
                </a:lnTo>
                <a:lnTo>
                  <a:pt x="1562" y="570"/>
                </a:lnTo>
                <a:lnTo>
                  <a:pt x="1567" y="560"/>
                </a:lnTo>
                <a:lnTo>
                  <a:pt x="1571" y="548"/>
                </a:lnTo>
                <a:lnTo>
                  <a:pt x="1575" y="537"/>
                </a:lnTo>
                <a:lnTo>
                  <a:pt x="1578" y="525"/>
                </a:lnTo>
                <a:lnTo>
                  <a:pt x="1579" y="514"/>
                </a:lnTo>
                <a:lnTo>
                  <a:pt x="1582" y="501"/>
                </a:lnTo>
                <a:lnTo>
                  <a:pt x="1582" y="490"/>
                </a:lnTo>
                <a:lnTo>
                  <a:pt x="1583" y="477"/>
                </a:lnTo>
                <a:lnTo>
                  <a:pt x="1583" y="477"/>
                </a:lnTo>
                <a:lnTo>
                  <a:pt x="1583" y="239"/>
                </a:lnTo>
                <a:lnTo>
                  <a:pt x="1582" y="226"/>
                </a:lnTo>
                <a:lnTo>
                  <a:pt x="1582" y="215"/>
                </a:lnTo>
                <a:lnTo>
                  <a:pt x="1579" y="202"/>
                </a:lnTo>
                <a:lnTo>
                  <a:pt x="1578" y="191"/>
                </a:lnTo>
                <a:lnTo>
                  <a:pt x="1575" y="179"/>
                </a:lnTo>
                <a:lnTo>
                  <a:pt x="1571" y="168"/>
                </a:lnTo>
                <a:lnTo>
                  <a:pt x="1567" y="157"/>
                </a:lnTo>
                <a:lnTo>
                  <a:pt x="1562" y="145"/>
                </a:lnTo>
                <a:lnTo>
                  <a:pt x="1557" y="135"/>
                </a:lnTo>
                <a:lnTo>
                  <a:pt x="1551" y="125"/>
                </a:lnTo>
                <a:lnTo>
                  <a:pt x="1544" y="115"/>
                </a:lnTo>
                <a:lnTo>
                  <a:pt x="1537" y="105"/>
                </a:lnTo>
                <a:lnTo>
                  <a:pt x="1530" y="96"/>
                </a:lnTo>
                <a:lnTo>
                  <a:pt x="1522" y="87"/>
                </a:lnTo>
                <a:lnTo>
                  <a:pt x="1515" y="78"/>
                </a:lnTo>
                <a:lnTo>
                  <a:pt x="1505" y="69"/>
                </a:lnTo>
                <a:lnTo>
                  <a:pt x="1497" y="62"/>
                </a:lnTo>
                <a:lnTo>
                  <a:pt x="1487" y="54"/>
                </a:lnTo>
                <a:lnTo>
                  <a:pt x="1477" y="47"/>
                </a:lnTo>
                <a:lnTo>
                  <a:pt x="1466" y="40"/>
                </a:lnTo>
                <a:lnTo>
                  <a:pt x="1456" y="34"/>
                </a:lnTo>
                <a:lnTo>
                  <a:pt x="1445" y="29"/>
                </a:lnTo>
                <a:lnTo>
                  <a:pt x="1434" y="24"/>
                </a:lnTo>
                <a:lnTo>
                  <a:pt x="1421" y="19"/>
                </a:lnTo>
                <a:lnTo>
                  <a:pt x="1410" y="14"/>
                </a:lnTo>
                <a:lnTo>
                  <a:pt x="1398" y="10"/>
                </a:lnTo>
                <a:lnTo>
                  <a:pt x="1385" y="8"/>
                </a:lnTo>
                <a:lnTo>
                  <a:pt x="1373" y="5"/>
                </a:lnTo>
                <a:lnTo>
                  <a:pt x="1359" y="3"/>
                </a:lnTo>
                <a:lnTo>
                  <a:pt x="1346" y="1"/>
                </a:lnTo>
                <a:lnTo>
                  <a:pt x="1332" y="0"/>
                </a:lnTo>
                <a:lnTo>
                  <a:pt x="1319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3"/>
                </a:lnTo>
                <a:lnTo>
                  <a:pt x="211" y="5"/>
                </a:lnTo>
                <a:lnTo>
                  <a:pt x="198" y="8"/>
                </a:lnTo>
                <a:lnTo>
                  <a:pt x="186" y="10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0"/>
                </a:lnTo>
                <a:lnTo>
                  <a:pt x="106" y="47"/>
                </a:lnTo>
                <a:lnTo>
                  <a:pt x="96" y="54"/>
                </a:lnTo>
                <a:lnTo>
                  <a:pt x="86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2" y="96"/>
                </a:lnTo>
                <a:lnTo>
                  <a:pt x="45" y="105"/>
                </a:lnTo>
                <a:lnTo>
                  <a:pt x="38" y="115"/>
                </a:lnTo>
                <a:lnTo>
                  <a:pt x="32" y="125"/>
                </a:lnTo>
                <a:lnTo>
                  <a:pt x="25" y="135"/>
                </a:lnTo>
                <a:lnTo>
                  <a:pt x="21" y="145"/>
                </a:lnTo>
                <a:lnTo>
                  <a:pt x="15" y="157"/>
                </a:lnTo>
                <a:lnTo>
                  <a:pt x="11" y="168"/>
                </a:lnTo>
                <a:lnTo>
                  <a:pt x="8" y="179"/>
                </a:lnTo>
                <a:lnTo>
                  <a:pt x="5" y="191"/>
                </a:lnTo>
                <a:lnTo>
                  <a:pt x="3" y="202"/>
                </a:lnTo>
                <a:lnTo>
                  <a:pt x="1" y="215"/>
                </a:lnTo>
                <a:lnTo>
                  <a:pt x="0" y="226"/>
                </a:lnTo>
                <a:lnTo>
                  <a:pt x="0" y="239"/>
                </a:lnTo>
                <a:lnTo>
                  <a:pt x="0" y="239"/>
                </a:lnTo>
                <a:lnTo>
                  <a:pt x="0" y="477"/>
                </a:lnTo>
                <a:lnTo>
                  <a:pt x="0" y="490"/>
                </a:lnTo>
                <a:lnTo>
                  <a:pt x="1" y="501"/>
                </a:lnTo>
                <a:lnTo>
                  <a:pt x="3" y="514"/>
                </a:lnTo>
                <a:lnTo>
                  <a:pt x="5" y="525"/>
                </a:lnTo>
                <a:lnTo>
                  <a:pt x="8" y="537"/>
                </a:lnTo>
                <a:lnTo>
                  <a:pt x="11" y="548"/>
                </a:lnTo>
                <a:lnTo>
                  <a:pt x="15" y="560"/>
                </a:lnTo>
                <a:lnTo>
                  <a:pt x="21" y="570"/>
                </a:lnTo>
                <a:lnTo>
                  <a:pt x="25" y="581"/>
                </a:lnTo>
                <a:lnTo>
                  <a:pt x="32" y="591"/>
                </a:lnTo>
                <a:lnTo>
                  <a:pt x="38" y="601"/>
                </a:lnTo>
                <a:lnTo>
                  <a:pt x="45" y="610"/>
                </a:lnTo>
                <a:lnTo>
                  <a:pt x="52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6" y="654"/>
                </a:lnTo>
                <a:lnTo>
                  <a:pt x="96" y="662"/>
                </a:lnTo>
                <a:lnTo>
                  <a:pt x="106" y="668"/>
                </a:lnTo>
                <a:lnTo>
                  <a:pt x="116" y="674"/>
                </a:lnTo>
                <a:lnTo>
                  <a:pt x="127" y="681"/>
                </a:lnTo>
                <a:lnTo>
                  <a:pt x="138" y="687"/>
                </a:lnTo>
                <a:lnTo>
                  <a:pt x="149" y="692"/>
                </a:lnTo>
                <a:lnTo>
                  <a:pt x="160" y="697"/>
                </a:lnTo>
                <a:lnTo>
                  <a:pt x="173" y="701"/>
                </a:lnTo>
                <a:lnTo>
                  <a:pt x="186" y="705"/>
                </a:lnTo>
                <a:lnTo>
                  <a:pt x="198" y="709"/>
                </a:lnTo>
                <a:lnTo>
                  <a:pt x="211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</a:path>
            </a:pathLst>
          </a:custGeom>
          <a:solidFill>
            <a:srgbClr val="99cc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86400" y="4746600"/>
            <a:ext cx="162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300" spc="-1" strike="noStrike">
                <a:solidFill>
                  <a:srgbClr val="000000"/>
                </a:solidFill>
                <a:latin typeface="Arial"/>
              </a:rPr>
              <a:t>AddMee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92320" y="4929120"/>
            <a:ext cx="1192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3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06760" y="4664160"/>
            <a:ext cx="1082880" cy="534960"/>
          </a:xfrm>
          <a:custGeom>
            <a:avLst/>
            <a:gdLst/>
            <a:ahLst/>
            <a:rect l="l" t="t" r="r" b="b"/>
            <a:pathLst>
              <a:path w="1456" h="716">
                <a:moveTo>
                  <a:pt x="264" y="716"/>
                </a:moveTo>
                <a:lnTo>
                  <a:pt x="1192" y="716"/>
                </a:lnTo>
                <a:lnTo>
                  <a:pt x="1206" y="716"/>
                </a:lnTo>
                <a:lnTo>
                  <a:pt x="1219" y="715"/>
                </a:lnTo>
                <a:lnTo>
                  <a:pt x="1233" y="714"/>
                </a:lnTo>
                <a:lnTo>
                  <a:pt x="1245" y="711"/>
                </a:lnTo>
                <a:lnTo>
                  <a:pt x="1258" y="709"/>
                </a:lnTo>
                <a:lnTo>
                  <a:pt x="1271" y="705"/>
                </a:lnTo>
                <a:lnTo>
                  <a:pt x="1283" y="701"/>
                </a:lnTo>
                <a:lnTo>
                  <a:pt x="1294" y="697"/>
                </a:lnTo>
                <a:lnTo>
                  <a:pt x="1307" y="692"/>
                </a:lnTo>
                <a:lnTo>
                  <a:pt x="1318" y="687"/>
                </a:lnTo>
                <a:lnTo>
                  <a:pt x="1329" y="681"/>
                </a:lnTo>
                <a:lnTo>
                  <a:pt x="1340" y="676"/>
                </a:lnTo>
                <a:lnTo>
                  <a:pt x="1350" y="668"/>
                </a:lnTo>
                <a:lnTo>
                  <a:pt x="1360" y="662"/>
                </a:lnTo>
                <a:lnTo>
                  <a:pt x="1370" y="654"/>
                </a:lnTo>
                <a:lnTo>
                  <a:pt x="1379" y="645"/>
                </a:lnTo>
                <a:lnTo>
                  <a:pt x="1388" y="638"/>
                </a:lnTo>
                <a:lnTo>
                  <a:pt x="1396" y="629"/>
                </a:lnTo>
                <a:lnTo>
                  <a:pt x="1403" y="620"/>
                </a:lnTo>
                <a:lnTo>
                  <a:pt x="1412" y="610"/>
                </a:lnTo>
                <a:lnTo>
                  <a:pt x="1419" y="601"/>
                </a:lnTo>
                <a:lnTo>
                  <a:pt x="1424" y="591"/>
                </a:lnTo>
                <a:lnTo>
                  <a:pt x="1430" y="581"/>
                </a:lnTo>
                <a:lnTo>
                  <a:pt x="1435" y="570"/>
                </a:lnTo>
                <a:lnTo>
                  <a:pt x="1440" y="560"/>
                </a:lnTo>
                <a:lnTo>
                  <a:pt x="1444" y="548"/>
                </a:lnTo>
                <a:lnTo>
                  <a:pt x="1448" y="537"/>
                </a:lnTo>
                <a:lnTo>
                  <a:pt x="1451" y="525"/>
                </a:lnTo>
                <a:lnTo>
                  <a:pt x="1454" y="514"/>
                </a:lnTo>
                <a:lnTo>
                  <a:pt x="1455" y="501"/>
                </a:lnTo>
                <a:lnTo>
                  <a:pt x="1456" y="490"/>
                </a:lnTo>
                <a:lnTo>
                  <a:pt x="1456" y="477"/>
                </a:lnTo>
                <a:lnTo>
                  <a:pt x="1456" y="477"/>
                </a:lnTo>
                <a:lnTo>
                  <a:pt x="1456" y="477"/>
                </a:lnTo>
                <a:lnTo>
                  <a:pt x="1456" y="239"/>
                </a:lnTo>
                <a:lnTo>
                  <a:pt x="1456" y="226"/>
                </a:lnTo>
                <a:lnTo>
                  <a:pt x="1455" y="215"/>
                </a:lnTo>
                <a:lnTo>
                  <a:pt x="1454" y="202"/>
                </a:lnTo>
                <a:lnTo>
                  <a:pt x="1451" y="191"/>
                </a:lnTo>
                <a:lnTo>
                  <a:pt x="1448" y="179"/>
                </a:lnTo>
                <a:lnTo>
                  <a:pt x="1444" y="168"/>
                </a:lnTo>
                <a:lnTo>
                  <a:pt x="1440" y="157"/>
                </a:lnTo>
                <a:lnTo>
                  <a:pt x="1435" y="145"/>
                </a:lnTo>
                <a:lnTo>
                  <a:pt x="1430" y="135"/>
                </a:lnTo>
                <a:lnTo>
                  <a:pt x="1424" y="125"/>
                </a:lnTo>
                <a:lnTo>
                  <a:pt x="1419" y="115"/>
                </a:lnTo>
                <a:lnTo>
                  <a:pt x="1412" y="105"/>
                </a:lnTo>
                <a:lnTo>
                  <a:pt x="1403" y="96"/>
                </a:lnTo>
                <a:lnTo>
                  <a:pt x="1396" y="87"/>
                </a:lnTo>
                <a:lnTo>
                  <a:pt x="1388" y="78"/>
                </a:lnTo>
                <a:lnTo>
                  <a:pt x="1379" y="69"/>
                </a:lnTo>
                <a:lnTo>
                  <a:pt x="1370" y="62"/>
                </a:lnTo>
                <a:lnTo>
                  <a:pt x="1360" y="54"/>
                </a:lnTo>
                <a:lnTo>
                  <a:pt x="1350" y="48"/>
                </a:lnTo>
                <a:lnTo>
                  <a:pt x="1340" y="40"/>
                </a:lnTo>
                <a:lnTo>
                  <a:pt x="1329" y="34"/>
                </a:lnTo>
                <a:lnTo>
                  <a:pt x="1318" y="29"/>
                </a:lnTo>
                <a:lnTo>
                  <a:pt x="1307" y="24"/>
                </a:lnTo>
                <a:lnTo>
                  <a:pt x="1296" y="19"/>
                </a:lnTo>
                <a:lnTo>
                  <a:pt x="1283" y="14"/>
                </a:lnTo>
                <a:lnTo>
                  <a:pt x="1271" y="11"/>
                </a:lnTo>
                <a:lnTo>
                  <a:pt x="1258" y="8"/>
                </a:lnTo>
                <a:lnTo>
                  <a:pt x="1245" y="5"/>
                </a:lnTo>
                <a:lnTo>
                  <a:pt x="1233" y="3"/>
                </a:lnTo>
                <a:lnTo>
                  <a:pt x="1219" y="1"/>
                </a:lnTo>
                <a:lnTo>
                  <a:pt x="1206" y="0"/>
                </a:lnTo>
                <a:lnTo>
                  <a:pt x="1192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3"/>
                </a:lnTo>
                <a:lnTo>
                  <a:pt x="209" y="5"/>
                </a:lnTo>
                <a:lnTo>
                  <a:pt x="197" y="8"/>
                </a:lnTo>
                <a:lnTo>
                  <a:pt x="184" y="11"/>
                </a:lnTo>
                <a:lnTo>
                  <a:pt x="172" y="14"/>
                </a:lnTo>
                <a:lnTo>
                  <a:pt x="160" y="19"/>
                </a:lnTo>
                <a:lnTo>
                  <a:pt x="149" y="24"/>
                </a:lnTo>
                <a:lnTo>
                  <a:pt x="137" y="29"/>
                </a:lnTo>
                <a:lnTo>
                  <a:pt x="126" y="34"/>
                </a:lnTo>
                <a:lnTo>
                  <a:pt x="116" y="40"/>
                </a:lnTo>
                <a:lnTo>
                  <a:pt x="105" y="48"/>
                </a:lnTo>
                <a:lnTo>
                  <a:pt x="95" y="54"/>
                </a:lnTo>
                <a:lnTo>
                  <a:pt x="85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2" y="96"/>
                </a:lnTo>
                <a:lnTo>
                  <a:pt x="45" y="105"/>
                </a:lnTo>
                <a:lnTo>
                  <a:pt x="38" y="115"/>
                </a:lnTo>
                <a:lnTo>
                  <a:pt x="31" y="125"/>
                </a:lnTo>
                <a:lnTo>
                  <a:pt x="25" y="135"/>
                </a:lnTo>
                <a:lnTo>
                  <a:pt x="19" y="145"/>
                </a:lnTo>
                <a:lnTo>
                  <a:pt x="15" y="157"/>
                </a:lnTo>
                <a:lnTo>
                  <a:pt x="11" y="168"/>
                </a:lnTo>
                <a:lnTo>
                  <a:pt x="7" y="179"/>
                </a:lnTo>
                <a:lnTo>
                  <a:pt x="4" y="191"/>
                </a:lnTo>
                <a:lnTo>
                  <a:pt x="3" y="202"/>
                </a:lnTo>
                <a:lnTo>
                  <a:pt x="0" y="215"/>
                </a:lnTo>
                <a:lnTo>
                  <a:pt x="0" y="226"/>
                </a:lnTo>
                <a:lnTo>
                  <a:pt x="0" y="239"/>
                </a:lnTo>
                <a:lnTo>
                  <a:pt x="0" y="239"/>
                </a:lnTo>
                <a:lnTo>
                  <a:pt x="0" y="477"/>
                </a:lnTo>
                <a:lnTo>
                  <a:pt x="0" y="490"/>
                </a:lnTo>
                <a:lnTo>
                  <a:pt x="0" y="501"/>
                </a:lnTo>
                <a:lnTo>
                  <a:pt x="3" y="514"/>
                </a:lnTo>
                <a:lnTo>
                  <a:pt x="4" y="525"/>
                </a:lnTo>
                <a:lnTo>
                  <a:pt x="7" y="537"/>
                </a:lnTo>
                <a:lnTo>
                  <a:pt x="11" y="548"/>
                </a:lnTo>
                <a:lnTo>
                  <a:pt x="15" y="560"/>
                </a:lnTo>
                <a:lnTo>
                  <a:pt x="19" y="570"/>
                </a:lnTo>
                <a:lnTo>
                  <a:pt x="25" y="581"/>
                </a:lnTo>
                <a:lnTo>
                  <a:pt x="31" y="591"/>
                </a:lnTo>
                <a:lnTo>
                  <a:pt x="38" y="601"/>
                </a:lnTo>
                <a:lnTo>
                  <a:pt x="45" y="610"/>
                </a:lnTo>
                <a:lnTo>
                  <a:pt x="52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5" y="654"/>
                </a:lnTo>
                <a:lnTo>
                  <a:pt x="95" y="662"/>
                </a:lnTo>
                <a:lnTo>
                  <a:pt x="105" y="668"/>
                </a:lnTo>
                <a:lnTo>
                  <a:pt x="116" y="676"/>
                </a:lnTo>
                <a:lnTo>
                  <a:pt x="126" y="681"/>
                </a:lnTo>
                <a:lnTo>
                  <a:pt x="137" y="687"/>
                </a:lnTo>
                <a:lnTo>
                  <a:pt x="149" y="692"/>
                </a:lnTo>
                <a:lnTo>
                  <a:pt x="160" y="697"/>
                </a:lnTo>
                <a:lnTo>
                  <a:pt x="172" y="701"/>
                </a:lnTo>
                <a:lnTo>
                  <a:pt x="184" y="705"/>
                </a:lnTo>
                <a:lnTo>
                  <a:pt x="197" y="709"/>
                </a:lnTo>
                <a:lnTo>
                  <a:pt x="209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06760" y="4664160"/>
            <a:ext cx="1082880" cy="534960"/>
          </a:xfrm>
          <a:custGeom>
            <a:avLst/>
            <a:gdLst/>
            <a:ahLst/>
            <a:rect l="l" t="t" r="r" b="b"/>
            <a:pathLst>
              <a:path w="1456" h="716">
                <a:moveTo>
                  <a:pt x="264" y="716"/>
                </a:moveTo>
                <a:lnTo>
                  <a:pt x="1192" y="716"/>
                </a:lnTo>
                <a:lnTo>
                  <a:pt x="1206" y="716"/>
                </a:lnTo>
                <a:lnTo>
                  <a:pt x="1219" y="715"/>
                </a:lnTo>
                <a:lnTo>
                  <a:pt x="1233" y="714"/>
                </a:lnTo>
                <a:lnTo>
                  <a:pt x="1245" y="711"/>
                </a:lnTo>
                <a:lnTo>
                  <a:pt x="1258" y="709"/>
                </a:lnTo>
                <a:lnTo>
                  <a:pt x="1271" y="705"/>
                </a:lnTo>
                <a:lnTo>
                  <a:pt x="1283" y="701"/>
                </a:lnTo>
                <a:lnTo>
                  <a:pt x="1294" y="697"/>
                </a:lnTo>
                <a:lnTo>
                  <a:pt x="1307" y="692"/>
                </a:lnTo>
                <a:lnTo>
                  <a:pt x="1318" y="687"/>
                </a:lnTo>
                <a:lnTo>
                  <a:pt x="1329" y="681"/>
                </a:lnTo>
                <a:lnTo>
                  <a:pt x="1340" y="676"/>
                </a:lnTo>
                <a:lnTo>
                  <a:pt x="1350" y="668"/>
                </a:lnTo>
                <a:lnTo>
                  <a:pt x="1360" y="662"/>
                </a:lnTo>
                <a:lnTo>
                  <a:pt x="1370" y="654"/>
                </a:lnTo>
                <a:lnTo>
                  <a:pt x="1379" y="645"/>
                </a:lnTo>
                <a:lnTo>
                  <a:pt x="1388" y="638"/>
                </a:lnTo>
                <a:lnTo>
                  <a:pt x="1396" y="629"/>
                </a:lnTo>
                <a:lnTo>
                  <a:pt x="1403" y="620"/>
                </a:lnTo>
                <a:lnTo>
                  <a:pt x="1412" y="610"/>
                </a:lnTo>
                <a:lnTo>
                  <a:pt x="1419" y="601"/>
                </a:lnTo>
                <a:lnTo>
                  <a:pt x="1424" y="591"/>
                </a:lnTo>
                <a:lnTo>
                  <a:pt x="1430" y="581"/>
                </a:lnTo>
                <a:lnTo>
                  <a:pt x="1435" y="570"/>
                </a:lnTo>
                <a:lnTo>
                  <a:pt x="1440" y="560"/>
                </a:lnTo>
                <a:lnTo>
                  <a:pt x="1444" y="548"/>
                </a:lnTo>
                <a:lnTo>
                  <a:pt x="1448" y="537"/>
                </a:lnTo>
                <a:lnTo>
                  <a:pt x="1451" y="525"/>
                </a:lnTo>
                <a:lnTo>
                  <a:pt x="1454" y="514"/>
                </a:lnTo>
                <a:lnTo>
                  <a:pt x="1455" y="501"/>
                </a:lnTo>
                <a:lnTo>
                  <a:pt x="1456" y="490"/>
                </a:lnTo>
                <a:lnTo>
                  <a:pt x="1456" y="477"/>
                </a:lnTo>
                <a:lnTo>
                  <a:pt x="1456" y="477"/>
                </a:lnTo>
                <a:lnTo>
                  <a:pt x="1456" y="477"/>
                </a:lnTo>
                <a:lnTo>
                  <a:pt x="1456" y="239"/>
                </a:lnTo>
                <a:lnTo>
                  <a:pt x="1456" y="226"/>
                </a:lnTo>
                <a:lnTo>
                  <a:pt x="1455" y="215"/>
                </a:lnTo>
                <a:lnTo>
                  <a:pt x="1454" y="202"/>
                </a:lnTo>
                <a:lnTo>
                  <a:pt x="1451" y="191"/>
                </a:lnTo>
                <a:lnTo>
                  <a:pt x="1448" y="179"/>
                </a:lnTo>
                <a:lnTo>
                  <a:pt x="1444" y="168"/>
                </a:lnTo>
                <a:lnTo>
                  <a:pt x="1440" y="157"/>
                </a:lnTo>
                <a:lnTo>
                  <a:pt x="1435" y="145"/>
                </a:lnTo>
                <a:lnTo>
                  <a:pt x="1430" y="135"/>
                </a:lnTo>
                <a:lnTo>
                  <a:pt x="1424" y="125"/>
                </a:lnTo>
                <a:lnTo>
                  <a:pt x="1419" y="115"/>
                </a:lnTo>
                <a:lnTo>
                  <a:pt x="1412" y="105"/>
                </a:lnTo>
                <a:lnTo>
                  <a:pt x="1403" y="96"/>
                </a:lnTo>
                <a:lnTo>
                  <a:pt x="1396" y="87"/>
                </a:lnTo>
                <a:lnTo>
                  <a:pt x="1388" y="78"/>
                </a:lnTo>
                <a:lnTo>
                  <a:pt x="1379" y="69"/>
                </a:lnTo>
                <a:lnTo>
                  <a:pt x="1370" y="62"/>
                </a:lnTo>
                <a:lnTo>
                  <a:pt x="1360" y="54"/>
                </a:lnTo>
                <a:lnTo>
                  <a:pt x="1350" y="48"/>
                </a:lnTo>
                <a:lnTo>
                  <a:pt x="1340" y="40"/>
                </a:lnTo>
                <a:lnTo>
                  <a:pt x="1329" y="34"/>
                </a:lnTo>
                <a:lnTo>
                  <a:pt x="1318" y="29"/>
                </a:lnTo>
                <a:lnTo>
                  <a:pt x="1307" y="24"/>
                </a:lnTo>
                <a:lnTo>
                  <a:pt x="1296" y="19"/>
                </a:lnTo>
                <a:lnTo>
                  <a:pt x="1283" y="14"/>
                </a:lnTo>
                <a:lnTo>
                  <a:pt x="1271" y="11"/>
                </a:lnTo>
                <a:lnTo>
                  <a:pt x="1258" y="8"/>
                </a:lnTo>
                <a:lnTo>
                  <a:pt x="1245" y="5"/>
                </a:lnTo>
                <a:lnTo>
                  <a:pt x="1233" y="3"/>
                </a:lnTo>
                <a:lnTo>
                  <a:pt x="1219" y="1"/>
                </a:lnTo>
                <a:lnTo>
                  <a:pt x="1206" y="0"/>
                </a:lnTo>
                <a:lnTo>
                  <a:pt x="1192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3"/>
                </a:lnTo>
                <a:lnTo>
                  <a:pt x="209" y="5"/>
                </a:lnTo>
                <a:lnTo>
                  <a:pt x="197" y="8"/>
                </a:lnTo>
                <a:lnTo>
                  <a:pt x="184" y="11"/>
                </a:lnTo>
                <a:lnTo>
                  <a:pt x="172" y="14"/>
                </a:lnTo>
                <a:lnTo>
                  <a:pt x="160" y="19"/>
                </a:lnTo>
                <a:lnTo>
                  <a:pt x="149" y="24"/>
                </a:lnTo>
                <a:lnTo>
                  <a:pt x="137" y="29"/>
                </a:lnTo>
                <a:lnTo>
                  <a:pt x="126" y="34"/>
                </a:lnTo>
                <a:lnTo>
                  <a:pt x="116" y="40"/>
                </a:lnTo>
                <a:lnTo>
                  <a:pt x="105" y="48"/>
                </a:lnTo>
                <a:lnTo>
                  <a:pt x="95" y="54"/>
                </a:lnTo>
                <a:lnTo>
                  <a:pt x="85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2" y="96"/>
                </a:lnTo>
                <a:lnTo>
                  <a:pt x="45" y="105"/>
                </a:lnTo>
                <a:lnTo>
                  <a:pt x="38" y="115"/>
                </a:lnTo>
                <a:lnTo>
                  <a:pt x="31" y="125"/>
                </a:lnTo>
                <a:lnTo>
                  <a:pt x="25" y="135"/>
                </a:lnTo>
                <a:lnTo>
                  <a:pt x="19" y="145"/>
                </a:lnTo>
                <a:lnTo>
                  <a:pt x="15" y="157"/>
                </a:lnTo>
                <a:lnTo>
                  <a:pt x="11" y="168"/>
                </a:lnTo>
                <a:lnTo>
                  <a:pt x="7" y="179"/>
                </a:lnTo>
                <a:lnTo>
                  <a:pt x="4" y="191"/>
                </a:lnTo>
                <a:lnTo>
                  <a:pt x="3" y="202"/>
                </a:lnTo>
                <a:lnTo>
                  <a:pt x="0" y="215"/>
                </a:lnTo>
                <a:lnTo>
                  <a:pt x="0" y="226"/>
                </a:lnTo>
                <a:lnTo>
                  <a:pt x="0" y="239"/>
                </a:lnTo>
                <a:lnTo>
                  <a:pt x="0" y="239"/>
                </a:lnTo>
                <a:lnTo>
                  <a:pt x="0" y="477"/>
                </a:lnTo>
                <a:lnTo>
                  <a:pt x="0" y="490"/>
                </a:lnTo>
                <a:lnTo>
                  <a:pt x="0" y="501"/>
                </a:lnTo>
                <a:lnTo>
                  <a:pt x="3" y="514"/>
                </a:lnTo>
                <a:lnTo>
                  <a:pt x="4" y="525"/>
                </a:lnTo>
                <a:lnTo>
                  <a:pt x="7" y="537"/>
                </a:lnTo>
                <a:lnTo>
                  <a:pt x="11" y="548"/>
                </a:lnTo>
                <a:lnTo>
                  <a:pt x="15" y="560"/>
                </a:lnTo>
                <a:lnTo>
                  <a:pt x="19" y="570"/>
                </a:lnTo>
                <a:lnTo>
                  <a:pt x="25" y="581"/>
                </a:lnTo>
                <a:lnTo>
                  <a:pt x="31" y="591"/>
                </a:lnTo>
                <a:lnTo>
                  <a:pt x="38" y="601"/>
                </a:lnTo>
                <a:lnTo>
                  <a:pt x="45" y="610"/>
                </a:lnTo>
                <a:lnTo>
                  <a:pt x="52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5" y="654"/>
                </a:lnTo>
                <a:lnTo>
                  <a:pt x="95" y="662"/>
                </a:lnTo>
                <a:lnTo>
                  <a:pt x="105" y="668"/>
                </a:lnTo>
                <a:lnTo>
                  <a:pt x="116" y="676"/>
                </a:lnTo>
                <a:lnTo>
                  <a:pt x="126" y="681"/>
                </a:lnTo>
                <a:lnTo>
                  <a:pt x="137" y="687"/>
                </a:lnTo>
                <a:lnTo>
                  <a:pt x="149" y="692"/>
                </a:lnTo>
                <a:lnTo>
                  <a:pt x="160" y="697"/>
                </a:lnTo>
                <a:lnTo>
                  <a:pt x="172" y="701"/>
                </a:lnTo>
                <a:lnTo>
                  <a:pt x="184" y="705"/>
                </a:lnTo>
                <a:lnTo>
                  <a:pt x="197" y="709"/>
                </a:lnTo>
                <a:lnTo>
                  <a:pt x="209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78880" y="4761000"/>
            <a:ext cx="1648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mailNot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84000" y="4927680"/>
            <a:ext cx="1433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tion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86480" y="4662360"/>
            <a:ext cx="1184400" cy="534960"/>
          </a:xfrm>
          <a:custGeom>
            <a:avLst/>
            <a:gdLst/>
            <a:ahLst/>
            <a:rect l="l" t="t" r="r" b="b"/>
            <a:pathLst>
              <a:path w="1592" h="716">
                <a:moveTo>
                  <a:pt x="264" y="716"/>
                </a:moveTo>
                <a:lnTo>
                  <a:pt x="1328" y="716"/>
                </a:lnTo>
                <a:lnTo>
                  <a:pt x="1342" y="716"/>
                </a:lnTo>
                <a:lnTo>
                  <a:pt x="1354" y="715"/>
                </a:lnTo>
                <a:lnTo>
                  <a:pt x="1368" y="713"/>
                </a:lnTo>
                <a:lnTo>
                  <a:pt x="1381" y="711"/>
                </a:lnTo>
                <a:lnTo>
                  <a:pt x="1393" y="708"/>
                </a:lnTo>
                <a:lnTo>
                  <a:pt x="1406" y="705"/>
                </a:lnTo>
                <a:lnTo>
                  <a:pt x="1419" y="701"/>
                </a:lnTo>
                <a:lnTo>
                  <a:pt x="1430" y="697"/>
                </a:lnTo>
                <a:lnTo>
                  <a:pt x="1442" y="692"/>
                </a:lnTo>
                <a:lnTo>
                  <a:pt x="1453" y="687"/>
                </a:lnTo>
                <a:lnTo>
                  <a:pt x="1465" y="681"/>
                </a:lnTo>
                <a:lnTo>
                  <a:pt x="1476" y="675"/>
                </a:lnTo>
                <a:lnTo>
                  <a:pt x="1486" y="668"/>
                </a:lnTo>
                <a:lnTo>
                  <a:pt x="1495" y="662"/>
                </a:lnTo>
                <a:lnTo>
                  <a:pt x="1505" y="654"/>
                </a:lnTo>
                <a:lnTo>
                  <a:pt x="1515" y="645"/>
                </a:lnTo>
                <a:lnTo>
                  <a:pt x="1523" y="638"/>
                </a:lnTo>
                <a:lnTo>
                  <a:pt x="1532" y="629"/>
                </a:lnTo>
                <a:lnTo>
                  <a:pt x="1539" y="620"/>
                </a:lnTo>
                <a:lnTo>
                  <a:pt x="1547" y="610"/>
                </a:lnTo>
                <a:lnTo>
                  <a:pt x="1554" y="601"/>
                </a:lnTo>
                <a:lnTo>
                  <a:pt x="1560" y="591"/>
                </a:lnTo>
                <a:lnTo>
                  <a:pt x="1565" y="581"/>
                </a:lnTo>
                <a:lnTo>
                  <a:pt x="1571" y="569"/>
                </a:lnTo>
                <a:lnTo>
                  <a:pt x="1575" y="559"/>
                </a:lnTo>
                <a:lnTo>
                  <a:pt x="1579" y="548"/>
                </a:lnTo>
                <a:lnTo>
                  <a:pt x="1583" y="537"/>
                </a:lnTo>
                <a:lnTo>
                  <a:pt x="1586" y="525"/>
                </a:lnTo>
                <a:lnTo>
                  <a:pt x="1589" y="514"/>
                </a:lnTo>
                <a:lnTo>
                  <a:pt x="1590" y="501"/>
                </a:lnTo>
                <a:lnTo>
                  <a:pt x="1592" y="490"/>
                </a:lnTo>
                <a:lnTo>
                  <a:pt x="1592" y="477"/>
                </a:lnTo>
                <a:lnTo>
                  <a:pt x="1592" y="477"/>
                </a:lnTo>
                <a:lnTo>
                  <a:pt x="1592" y="477"/>
                </a:lnTo>
                <a:lnTo>
                  <a:pt x="1592" y="238"/>
                </a:lnTo>
                <a:lnTo>
                  <a:pt x="1592" y="226"/>
                </a:lnTo>
                <a:lnTo>
                  <a:pt x="1590" y="214"/>
                </a:lnTo>
                <a:lnTo>
                  <a:pt x="1589" y="202"/>
                </a:lnTo>
                <a:lnTo>
                  <a:pt x="1586" y="190"/>
                </a:lnTo>
                <a:lnTo>
                  <a:pt x="1583" y="179"/>
                </a:lnTo>
                <a:lnTo>
                  <a:pt x="1579" y="168"/>
                </a:lnTo>
                <a:lnTo>
                  <a:pt x="1575" y="156"/>
                </a:lnTo>
                <a:lnTo>
                  <a:pt x="1571" y="145"/>
                </a:lnTo>
                <a:lnTo>
                  <a:pt x="1565" y="135"/>
                </a:lnTo>
                <a:lnTo>
                  <a:pt x="1560" y="125"/>
                </a:lnTo>
                <a:lnTo>
                  <a:pt x="1554" y="115"/>
                </a:lnTo>
                <a:lnTo>
                  <a:pt x="1547" y="105"/>
                </a:lnTo>
                <a:lnTo>
                  <a:pt x="1539" y="96"/>
                </a:lnTo>
                <a:lnTo>
                  <a:pt x="1532" y="87"/>
                </a:lnTo>
                <a:lnTo>
                  <a:pt x="1523" y="78"/>
                </a:lnTo>
                <a:lnTo>
                  <a:pt x="1515" y="69"/>
                </a:lnTo>
                <a:lnTo>
                  <a:pt x="1505" y="62"/>
                </a:lnTo>
                <a:lnTo>
                  <a:pt x="1495" y="54"/>
                </a:lnTo>
                <a:lnTo>
                  <a:pt x="1486" y="48"/>
                </a:lnTo>
                <a:lnTo>
                  <a:pt x="1476" y="40"/>
                </a:lnTo>
                <a:lnTo>
                  <a:pt x="1465" y="34"/>
                </a:lnTo>
                <a:lnTo>
                  <a:pt x="1453" y="29"/>
                </a:lnTo>
                <a:lnTo>
                  <a:pt x="1442" y="24"/>
                </a:lnTo>
                <a:lnTo>
                  <a:pt x="1431" y="19"/>
                </a:lnTo>
                <a:lnTo>
                  <a:pt x="1419" y="14"/>
                </a:lnTo>
                <a:lnTo>
                  <a:pt x="1406" y="11"/>
                </a:lnTo>
                <a:lnTo>
                  <a:pt x="1393" y="7"/>
                </a:lnTo>
                <a:lnTo>
                  <a:pt x="1381" y="5"/>
                </a:lnTo>
                <a:lnTo>
                  <a:pt x="1368" y="2"/>
                </a:lnTo>
                <a:lnTo>
                  <a:pt x="1354" y="1"/>
                </a:lnTo>
                <a:lnTo>
                  <a:pt x="1342" y="0"/>
                </a:lnTo>
                <a:lnTo>
                  <a:pt x="1328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2"/>
                </a:lnTo>
                <a:lnTo>
                  <a:pt x="211" y="5"/>
                </a:lnTo>
                <a:lnTo>
                  <a:pt x="198" y="7"/>
                </a:lnTo>
                <a:lnTo>
                  <a:pt x="186" y="11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0"/>
                </a:lnTo>
                <a:lnTo>
                  <a:pt x="106" y="48"/>
                </a:lnTo>
                <a:lnTo>
                  <a:pt x="96" y="54"/>
                </a:lnTo>
                <a:lnTo>
                  <a:pt x="86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1" y="96"/>
                </a:lnTo>
                <a:lnTo>
                  <a:pt x="44" y="105"/>
                </a:lnTo>
                <a:lnTo>
                  <a:pt x="38" y="115"/>
                </a:lnTo>
                <a:lnTo>
                  <a:pt x="32" y="125"/>
                </a:lnTo>
                <a:lnTo>
                  <a:pt x="26" y="135"/>
                </a:lnTo>
                <a:lnTo>
                  <a:pt x="21" y="145"/>
                </a:lnTo>
                <a:lnTo>
                  <a:pt x="15" y="156"/>
                </a:lnTo>
                <a:lnTo>
                  <a:pt x="11" y="168"/>
                </a:lnTo>
                <a:lnTo>
                  <a:pt x="8" y="179"/>
                </a:lnTo>
                <a:lnTo>
                  <a:pt x="5" y="190"/>
                </a:lnTo>
                <a:lnTo>
                  <a:pt x="3" y="202"/>
                </a:lnTo>
                <a:lnTo>
                  <a:pt x="1" y="214"/>
                </a:lnTo>
                <a:lnTo>
                  <a:pt x="0" y="226"/>
                </a:lnTo>
                <a:lnTo>
                  <a:pt x="0" y="238"/>
                </a:lnTo>
                <a:lnTo>
                  <a:pt x="0" y="238"/>
                </a:lnTo>
                <a:lnTo>
                  <a:pt x="0" y="477"/>
                </a:lnTo>
                <a:lnTo>
                  <a:pt x="0" y="490"/>
                </a:lnTo>
                <a:lnTo>
                  <a:pt x="1" y="501"/>
                </a:lnTo>
                <a:lnTo>
                  <a:pt x="3" y="514"/>
                </a:lnTo>
                <a:lnTo>
                  <a:pt x="5" y="525"/>
                </a:lnTo>
                <a:lnTo>
                  <a:pt x="8" y="537"/>
                </a:lnTo>
                <a:lnTo>
                  <a:pt x="11" y="548"/>
                </a:lnTo>
                <a:lnTo>
                  <a:pt x="15" y="559"/>
                </a:lnTo>
                <a:lnTo>
                  <a:pt x="21" y="569"/>
                </a:lnTo>
                <a:lnTo>
                  <a:pt x="25" y="581"/>
                </a:lnTo>
                <a:lnTo>
                  <a:pt x="32" y="591"/>
                </a:lnTo>
                <a:lnTo>
                  <a:pt x="38" y="601"/>
                </a:lnTo>
                <a:lnTo>
                  <a:pt x="44" y="610"/>
                </a:lnTo>
                <a:lnTo>
                  <a:pt x="51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6" y="654"/>
                </a:lnTo>
                <a:lnTo>
                  <a:pt x="96" y="662"/>
                </a:lnTo>
                <a:lnTo>
                  <a:pt x="106" y="668"/>
                </a:lnTo>
                <a:lnTo>
                  <a:pt x="116" y="675"/>
                </a:lnTo>
                <a:lnTo>
                  <a:pt x="127" y="681"/>
                </a:lnTo>
                <a:lnTo>
                  <a:pt x="138" y="687"/>
                </a:lnTo>
                <a:lnTo>
                  <a:pt x="149" y="692"/>
                </a:lnTo>
                <a:lnTo>
                  <a:pt x="160" y="697"/>
                </a:lnTo>
                <a:lnTo>
                  <a:pt x="173" y="701"/>
                </a:lnTo>
                <a:lnTo>
                  <a:pt x="186" y="705"/>
                </a:lnTo>
                <a:lnTo>
                  <a:pt x="198" y="708"/>
                </a:lnTo>
                <a:lnTo>
                  <a:pt x="211" y="711"/>
                </a:lnTo>
                <a:lnTo>
                  <a:pt x="223" y="713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86480" y="4662360"/>
            <a:ext cx="1184400" cy="534960"/>
          </a:xfrm>
          <a:custGeom>
            <a:avLst/>
            <a:gdLst/>
            <a:ahLst/>
            <a:rect l="l" t="t" r="r" b="b"/>
            <a:pathLst>
              <a:path w="1592" h="716">
                <a:moveTo>
                  <a:pt x="264" y="716"/>
                </a:moveTo>
                <a:lnTo>
                  <a:pt x="1328" y="716"/>
                </a:lnTo>
                <a:lnTo>
                  <a:pt x="1342" y="716"/>
                </a:lnTo>
                <a:lnTo>
                  <a:pt x="1354" y="715"/>
                </a:lnTo>
                <a:lnTo>
                  <a:pt x="1368" y="713"/>
                </a:lnTo>
                <a:lnTo>
                  <a:pt x="1381" y="711"/>
                </a:lnTo>
                <a:lnTo>
                  <a:pt x="1393" y="708"/>
                </a:lnTo>
                <a:lnTo>
                  <a:pt x="1406" y="705"/>
                </a:lnTo>
                <a:lnTo>
                  <a:pt x="1419" y="701"/>
                </a:lnTo>
                <a:lnTo>
                  <a:pt x="1430" y="697"/>
                </a:lnTo>
                <a:lnTo>
                  <a:pt x="1442" y="692"/>
                </a:lnTo>
                <a:lnTo>
                  <a:pt x="1453" y="687"/>
                </a:lnTo>
                <a:lnTo>
                  <a:pt x="1465" y="681"/>
                </a:lnTo>
                <a:lnTo>
                  <a:pt x="1476" y="675"/>
                </a:lnTo>
                <a:lnTo>
                  <a:pt x="1486" y="668"/>
                </a:lnTo>
                <a:lnTo>
                  <a:pt x="1495" y="662"/>
                </a:lnTo>
                <a:lnTo>
                  <a:pt x="1505" y="654"/>
                </a:lnTo>
                <a:lnTo>
                  <a:pt x="1515" y="645"/>
                </a:lnTo>
                <a:lnTo>
                  <a:pt x="1523" y="638"/>
                </a:lnTo>
                <a:lnTo>
                  <a:pt x="1532" y="629"/>
                </a:lnTo>
                <a:lnTo>
                  <a:pt x="1539" y="620"/>
                </a:lnTo>
                <a:lnTo>
                  <a:pt x="1547" y="610"/>
                </a:lnTo>
                <a:lnTo>
                  <a:pt x="1554" y="601"/>
                </a:lnTo>
                <a:lnTo>
                  <a:pt x="1560" y="591"/>
                </a:lnTo>
                <a:lnTo>
                  <a:pt x="1565" y="581"/>
                </a:lnTo>
                <a:lnTo>
                  <a:pt x="1571" y="569"/>
                </a:lnTo>
                <a:lnTo>
                  <a:pt x="1575" y="559"/>
                </a:lnTo>
                <a:lnTo>
                  <a:pt x="1579" y="548"/>
                </a:lnTo>
                <a:lnTo>
                  <a:pt x="1583" y="537"/>
                </a:lnTo>
                <a:lnTo>
                  <a:pt x="1586" y="525"/>
                </a:lnTo>
                <a:lnTo>
                  <a:pt x="1589" y="514"/>
                </a:lnTo>
                <a:lnTo>
                  <a:pt x="1590" y="501"/>
                </a:lnTo>
                <a:lnTo>
                  <a:pt x="1592" y="490"/>
                </a:lnTo>
                <a:lnTo>
                  <a:pt x="1592" y="477"/>
                </a:lnTo>
                <a:lnTo>
                  <a:pt x="1592" y="477"/>
                </a:lnTo>
                <a:lnTo>
                  <a:pt x="1592" y="477"/>
                </a:lnTo>
                <a:lnTo>
                  <a:pt x="1592" y="238"/>
                </a:lnTo>
                <a:lnTo>
                  <a:pt x="1592" y="226"/>
                </a:lnTo>
                <a:lnTo>
                  <a:pt x="1590" y="214"/>
                </a:lnTo>
                <a:lnTo>
                  <a:pt x="1589" y="202"/>
                </a:lnTo>
                <a:lnTo>
                  <a:pt x="1586" y="190"/>
                </a:lnTo>
                <a:lnTo>
                  <a:pt x="1583" y="179"/>
                </a:lnTo>
                <a:lnTo>
                  <a:pt x="1579" y="168"/>
                </a:lnTo>
                <a:lnTo>
                  <a:pt x="1575" y="156"/>
                </a:lnTo>
                <a:lnTo>
                  <a:pt x="1571" y="145"/>
                </a:lnTo>
                <a:lnTo>
                  <a:pt x="1565" y="135"/>
                </a:lnTo>
                <a:lnTo>
                  <a:pt x="1560" y="125"/>
                </a:lnTo>
                <a:lnTo>
                  <a:pt x="1554" y="115"/>
                </a:lnTo>
                <a:lnTo>
                  <a:pt x="1547" y="105"/>
                </a:lnTo>
                <a:lnTo>
                  <a:pt x="1539" y="96"/>
                </a:lnTo>
                <a:lnTo>
                  <a:pt x="1532" y="87"/>
                </a:lnTo>
                <a:lnTo>
                  <a:pt x="1523" y="78"/>
                </a:lnTo>
                <a:lnTo>
                  <a:pt x="1515" y="69"/>
                </a:lnTo>
                <a:lnTo>
                  <a:pt x="1505" y="62"/>
                </a:lnTo>
                <a:lnTo>
                  <a:pt x="1495" y="54"/>
                </a:lnTo>
                <a:lnTo>
                  <a:pt x="1486" y="48"/>
                </a:lnTo>
                <a:lnTo>
                  <a:pt x="1476" y="40"/>
                </a:lnTo>
                <a:lnTo>
                  <a:pt x="1465" y="34"/>
                </a:lnTo>
                <a:lnTo>
                  <a:pt x="1453" y="29"/>
                </a:lnTo>
                <a:lnTo>
                  <a:pt x="1442" y="24"/>
                </a:lnTo>
                <a:lnTo>
                  <a:pt x="1431" y="19"/>
                </a:lnTo>
                <a:lnTo>
                  <a:pt x="1419" y="14"/>
                </a:lnTo>
                <a:lnTo>
                  <a:pt x="1406" y="11"/>
                </a:lnTo>
                <a:lnTo>
                  <a:pt x="1393" y="7"/>
                </a:lnTo>
                <a:lnTo>
                  <a:pt x="1381" y="5"/>
                </a:lnTo>
                <a:lnTo>
                  <a:pt x="1368" y="2"/>
                </a:lnTo>
                <a:lnTo>
                  <a:pt x="1354" y="1"/>
                </a:lnTo>
                <a:lnTo>
                  <a:pt x="1342" y="0"/>
                </a:lnTo>
                <a:lnTo>
                  <a:pt x="1328" y="0"/>
                </a:lnTo>
                <a:lnTo>
                  <a:pt x="264" y="0"/>
                </a:lnTo>
                <a:lnTo>
                  <a:pt x="250" y="0"/>
                </a:lnTo>
                <a:lnTo>
                  <a:pt x="236" y="1"/>
                </a:lnTo>
                <a:lnTo>
                  <a:pt x="223" y="2"/>
                </a:lnTo>
                <a:lnTo>
                  <a:pt x="211" y="5"/>
                </a:lnTo>
                <a:lnTo>
                  <a:pt x="198" y="7"/>
                </a:lnTo>
                <a:lnTo>
                  <a:pt x="186" y="11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0"/>
                </a:lnTo>
                <a:lnTo>
                  <a:pt x="106" y="48"/>
                </a:lnTo>
                <a:lnTo>
                  <a:pt x="96" y="54"/>
                </a:lnTo>
                <a:lnTo>
                  <a:pt x="86" y="62"/>
                </a:lnTo>
                <a:lnTo>
                  <a:pt x="77" y="69"/>
                </a:lnTo>
                <a:lnTo>
                  <a:pt x="68" y="78"/>
                </a:lnTo>
                <a:lnTo>
                  <a:pt x="60" y="87"/>
                </a:lnTo>
                <a:lnTo>
                  <a:pt x="51" y="96"/>
                </a:lnTo>
                <a:lnTo>
                  <a:pt x="44" y="105"/>
                </a:lnTo>
                <a:lnTo>
                  <a:pt x="38" y="115"/>
                </a:lnTo>
                <a:lnTo>
                  <a:pt x="32" y="125"/>
                </a:lnTo>
                <a:lnTo>
                  <a:pt x="26" y="135"/>
                </a:lnTo>
                <a:lnTo>
                  <a:pt x="21" y="145"/>
                </a:lnTo>
                <a:lnTo>
                  <a:pt x="15" y="156"/>
                </a:lnTo>
                <a:lnTo>
                  <a:pt x="11" y="168"/>
                </a:lnTo>
                <a:lnTo>
                  <a:pt x="8" y="179"/>
                </a:lnTo>
                <a:lnTo>
                  <a:pt x="5" y="190"/>
                </a:lnTo>
                <a:lnTo>
                  <a:pt x="3" y="202"/>
                </a:lnTo>
                <a:lnTo>
                  <a:pt x="1" y="214"/>
                </a:lnTo>
                <a:lnTo>
                  <a:pt x="0" y="226"/>
                </a:lnTo>
                <a:lnTo>
                  <a:pt x="0" y="238"/>
                </a:lnTo>
                <a:lnTo>
                  <a:pt x="0" y="238"/>
                </a:lnTo>
                <a:lnTo>
                  <a:pt x="0" y="477"/>
                </a:lnTo>
                <a:lnTo>
                  <a:pt x="0" y="490"/>
                </a:lnTo>
                <a:lnTo>
                  <a:pt x="1" y="501"/>
                </a:lnTo>
                <a:lnTo>
                  <a:pt x="3" y="514"/>
                </a:lnTo>
                <a:lnTo>
                  <a:pt x="5" y="525"/>
                </a:lnTo>
                <a:lnTo>
                  <a:pt x="8" y="537"/>
                </a:lnTo>
                <a:lnTo>
                  <a:pt x="11" y="548"/>
                </a:lnTo>
                <a:lnTo>
                  <a:pt x="15" y="559"/>
                </a:lnTo>
                <a:lnTo>
                  <a:pt x="21" y="569"/>
                </a:lnTo>
                <a:lnTo>
                  <a:pt x="25" y="581"/>
                </a:lnTo>
                <a:lnTo>
                  <a:pt x="32" y="591"/>
                </a:lnTo>
                <a:lnTo>
                  <a:pt x="38" y="601"/>
                </a:lnTo>
                <a:lnTo>
                  <a:pt x="44" y="610"/>
                </a:lnTo>
                <a:lnTo>
                  <a:pt x="51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5"/>
                </a:lnTo>
                <a:lnTo>
                  <a:pt x="86" y="654"/>
                </a:lnTo>
                <a:lnTo>
                  <a:pt x="96" y="662"/>
                </a:lnTo>
                <a:lnTo>
                  <a:pt x="106" y="668"/>
                </a:lnTo>
                <a:lnTo>
                  <a:pt x="116" y="675"/>
                </a:lnTo>
                <a:lnTo>
                  <a:pt x="127" y="681"/>
                </a:lnTo>
                <a:lnTo>
                  <a:pt x="138" y="687"/>
                </a:lnTo>
                <a:lnTo>
                  <a:pt x="149" y="692"/>
                </a:lnTo>
                <a:lnTo>
                  <a:pt x="160" y="697"/>
                </a:lnTo>
                <a:lnTo>
                  <a:pt x="173" y="701"/>
                </a:lnTo>
                <a:lnTo>
                  <a:pt x="186" y="705"/>
                </a:lnTo>
                <a:lnTo>
                  <a:pt x="198" y="708"/>
                </a:lnTo>
                <a:lnTo>
                  <a:pt x="211" y="711"/>
                </a:lnTo>
                <a:lnTo>
                  <a:pt x="223" y="713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72280" y="4759200"/>
            <a:ext cx="1730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de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11040" y="4925880"/>
            <a:ext cx="1029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89640" y="4932360"/>
            <a:ext cx="919080" cy="1440"/>
          </a:xfrm>
          <a:custGeom>
            <a:avLst/>
            <a:gdLst/>
            <a:ahLst/>
            <a:rect l="l" t="t" r="r" b="b"/>
            <a:pathLst>
              <a:path w="1235" h="2">
                <a:moveTo>
                  <a:pt x="0" y="2"/>
                </a:moveTo>
                <a:lnTo>
                  <a:pt x="252" y="2"/>
                </a:lnTo>
                <a:lnTo>
                  <a:pt x="252" y="0"/>
                </a:lnTo>
                <a:lnTo>
                  <a:pt x="123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97560" y="4889520"/>
            <a:ext cx="88920" cy="82440"/>
          </a:xfrm>
          <a:custGeom>
            <a:avLst/>
            <a:gdLst/>
            <a:ahLst/>
            <a:rect l="l" t="t" r="r" b="b"/>
            <a:pathLst>
              <a:path w="120" h="110">
                <a:moveTo>
                  <a:pt x="0" y="0"/>
                </a:moveTo>
                <a:lnTo>
                  <a:pt x="120" y="55"/>
                </a:lnTo>
                <a:lnTo>
                  <a:pt x="0" y="1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08520" y="4848120"/>
            <a:ext cx="66384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0640" y="4848120"/>
            <a:ext cx="1285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28840" y="4932360"/>
            <a:ext cx="1100160" cy="144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16400" y="4890960"/>
            <a:ext cx="88920" cy="82800"/>
          </a:xfrm>
          <a:custGeom>
            <a:avLst/>
            <a:gdLst/>
            <a:ahLst/>
            <a:rect l="l" t="t" r="r" b="b"/>
            <a:pathLst>
              <a:path w="120" h="110">
                <a:moveTo>
                  <a:pt x="0" y="0"/>
                </a:moveTo>
                <a:lnTo>
                  <a:pt x="120" y="54"/>
                </a:lnTo>
                <a:lnTo>
                  <a:pt x="0" y="11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38440" y="4848120"/>
            <a:ext cx="67320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20560" y="4849920"/>
            <a:ext cx="1285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ff"/>
                </a:solidFill>
                <a:latin typeface="Arial"/>
              </a:rPr>
              <a:t>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28840" y="4932360"/>
            <a:ext cx="3179880" cy="824040"/>
          </a:xfrm>
          <a:custGeom>
            <a:avLst/>
            <a:gdLst/>
            <a:ahLst/>
            <a:rect l="l" t="t" r="r" b="b"/>
            <a:pathLst>
              <a:path w="4275" h="1101">
                <a:moveTo>
                  <a:pt x="0" y="0"/>
                </a:moveTo>
                <a:lnTo>
                  <a:pt x="252" y="0"/>
                </a:lnTo>
                <a:lnTo>
                  <a:pt x="252" y="1101"/>
                </a:lnTo>
                <a:lnTo>
                  <a:pt x="4275" y="1101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97560" y="5715000"/>
            <a:ext cx="88920" cy="82440"/>
          </a:xfrm>
          <a:custGeom>
            <a:avLst/>
            <a:gdLst/>
            <a:ahLst/>
            <a:rect l="l" t="t" r="r" b="b"/>
            <a:pathLst>
              <a:path w="120" h="110">
                <a:moveTo>
                  <a:pt x="0" y="0"/>
                </a:moveTo>
                <a:lnTo>
                  <a:pt x="120" y="56"/>
                </a:lnTo>
                <a:lnTo>
                  <a:pt x="0" y="11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02000" y="5672160"/>
            <a:ext cx="27000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93480" y="5672160"/>
            <a:ext cx="9014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ff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86480" y="5487840"/>
            <a:ext cx="1184400" cy="536760"/>
          </a:xfrm>
          <a:custGeom>
            <a:avLst/>
            <a:gdLst/>
            <a:ahLst/>
            <a:rect l="l" t="t" r="r" b="b"/>
            <a:pathLst>
              <a:path w="1592" h="716">
                <a:moveTo>
                  <a:pt x="264" y="716"/>
                </a:moveTo>
                <a:lnTo>
                  <a:pt x="1328" y="716"/>
                </a:lnTo>
                <a:lnTo>
                  <a:pt x="1342" y="716"/>
                </a:lnTo>
                <a:lnTo>
                  <a:pt x="1354" y="715"/>
                </a:lnTo>
                <a:lnTo>
                  <a:pt x="1368" y="714"/>
                </a:lnTo>
                <a:lnTo>
                  <a:pt x="1381" y="711"/>
                </a:lnTo>
                <a:lnTo>
                  <a:pt x="1393" y="709"/>
                </a:lnTo>
                <a:lnTo>
                  <a:pt x="1406" y="706"/>
                </a:lnTo>
                <a:lnTo>
                  <a:pt x="1419" y="703"/>
                </a:lnTo>
                <a:lnTo>
                  <a:pt x="1430" y="698"/>
                </a:lnTo>
                <a:lnTo>
                  <a:pt x="1442" y="692"/>
                </a:lnTo>
                <a:lnTo>
                  <a:pt x="1453" y="687"/>
                </a:lnTo>
                <a:lnTo>
                  <a:pt x="1465" y="682"/>
                </a:lnTo>
                <a:lnTo>
                  <a:pt x="1476" y="676"/>
                </a:lnTo>
                <a:lnTo>
                  <a:pt x="1486" y="668"/>
                </a:lnTo>
                <a:lnTo>
                  <a:pt x="1495" y="662"/>
                </a:lnTo>
                <a:lnTo>
                  <a:pt x="1505" y="655"/>
                </a:lnTo>
                <a:lnTo>
                  <a:pt x="1515" y="647"/>
                </a:lnTo>
                <a:lnTo>
                  <a:pt x="1523" y="638"/>
                </a:lnTo>
                <a:lnTo>
                  <a:pt x="1532" y="629"/>
                </a:lnTo>
                <a:lnTo>
                  <a:pt x="1539" y="620"/>
                </a:lnTo>
                <a:lnTo>
                  <a:pt x="1547" y="612"/>
                </a:lnTo>
                <a:lnTo>
                  <a:pt x="1554" y="602"/>
                </a:lnTo>
                <a:lnTo>
                  <a:pt x="1560" y="591"/>
                </a:lnTo>
                <a:lnTo>
                  <a:pt x="1565" y="581"/>
                </a:lnTo>
                <a:lnTo>
                  <a:pt x="1571" y="571"/>
                </a:lnTo>
                <a:lnTo>
                  <a:pt x="1575" y="560"/>
                </a:lnTo>
                <a:lnTo>
                  <a:pt x="1579" y="548"/>
                </a:lnTo>
                <a:lnTo>
                  <a:pt x="1583" y="537"/>
                </a:lnTo>
                <a:lnTo>
                  <a:pt x="1586" y="526"/>
                </a:lnTo>
                <a:lnTo>
                  <a:pt x="1589" y="514"/>
                </a:lnTo>
                <a:lnTo>
                  <a:pt x="1590" y="502"/>
                </a:lnTo>
                <a:lnTo>
                  <a:pt x="1592" y="490"/>
                </a:lnTo>
                <a:lnTo>
                  <a:pt x="1592" y="478"/>
                </a:lnTo>
                <a:lnTo>
                  <a:pt x="1592" y="478"/>
                </a:lnTo>
                <a:lnTo>
                  <a:pt x="1592" y="478"/>
                </a:lnTo>
                <a:lnTo>
                  <a:pt x="1592" y="239"/>
                </a:lnTo>
                <a:lnTo>
                  <a:pt x="1592" y="226"/>
                </a:lnTo>
                <a:lnTo>
                  <a:pt x="1590" y="215"/>
                </a:lnTo>
                <a:lnTo>
                  <a:pt x="1589" y="202"/>
                </a:lnTo>
                <a:lnTo>
                  <a:pt x="1586" y="191"/>
                </a:lnTo>
                <a:lnTo>
                  <a:pt x="1583" y="180"/>
                </a:lnTo>
                <a:lnTo>
                  <a:pt x="1579" y="168"/>
                </a:lnTo>
                <a:lnTo>
                  <a:pt x="1575" y="157"/>
                </a:lnTo>
                <a:lnTo>
                  <a:pt x="1571" y="146"/>
                </a:lnTo>
                <a:lnTo>
                  <a:pt x="1565" y="135"/>
                </a:lnTo>
                <a:lnTo>
                  <a:pt x="1560" y="125"/>
                </a:lnTo>
                <a:lnTo>
                  <a:pt x="1554" y="115"/>
                </a:lnTo>
                <a:lnTo>
                  <a:pt x="1547" y="105"/>
                </a:lnTo>
                <a:lnTo>
                  <a:pt x="1539" y="96"/>
                </a:lnTo>
                <a:lnTo>
                  <a:pt x="1532" y="88"/>
                </a:lnTo>
                <a:lnTo>
                  <a:pt x="1523" y="79"/>
                </a:lnTo>
                <a:lnTo>
                  <a:pt x="1515" y="70"/>
                </a:lnTo>
                <a:lnTo>
                  <a:pt x="1505" y="62"/>
                </a:lnTo>
                <a:lnTo>
                  <a:pt x="1495" y="55"/>
                </a:lnTo>
                <a:lnTo>
                  <a:pt x="1486" y="48"/>
                </a:lnTo>
                <a:lnTo>
                  <a:pt x="1476" y="41"/>
                </a:lnTo>
                <a:lnTo>
                  <a:pt x="1465" y="34"/>
                </a:lnTo>
                <a:lnTo>
                  <a:pt x="1453" y="29"/>
                </a:lnTo>
                <a:lnTo>
                  <a:pt x="1442" y="24"/>
                </a:lnTo>
                <a:lnTo>
                  <a:pt x="1431" y="19"/>
                </a:lnTo>
                <a:lnTo>
                  <a:pt x="1419" y="14"/>
                </a:lnTo>
                <a:lnTo>
                  <a:pt x="1406" y="12"/>
                </a:lnTo>
                <a:lnTo>
                  <a:pt x="1393" y="8"/>
                </a:lnTo>
                <a:lnTo>
                  <a:pt x="1381" y="5"/>
                </a:lnTo>
                <a:lnTo>
                  <a:pt x="1368" y="3"/>
                </a:lnTo>
                <a:lnTo>
                  <a:pt x="1354" y="2"/>
                </a:lnTo>
                <a:lnTo>
                  <a:pt x="1342" y="0"/>
                </a:lnTo>
                <a:lnTo>
                  <a:pt x="1328" y="0"/>
                </a:lnTo>
                <a:lnTo>
                  <a:pt x="264" y="0"/>
                </a:lnTo>
                <a:lnTo>
                  <a:pt x="250" y="0"/>
                </a:lnTo>
                <a:lnTo>
                  <a:pt x="236" y="2"/>
                </a:lnTo>
                <a:lnTo>
                  <a:pt x="223" y="3"/>
                </a:lnTo>
                <a:lnTo>
                  <a:pt x="211" y="5"/>
                </a:lnTo>
                <a:lnTo>
                  <a:pt x="198" y="8"/>
                </a:lnTo>
                <a:lnTo>
                  <a:pt x="186" y="12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1"/>
                </a:lnTo>
                <a:lnTo>
                  <a:pt x="106" y="48"/>
                </a:lnTo>
                <a:lnTo>
                  <a:pt x="96" y="55"/>
                </a:lnTo>
                <a:lnTo>
                  <a:pt x="86" y="62"/>
                </a:lnTo>
                <a:lnTo>
                  <a:pt x="77" y="70"/>
                </a:lnTo>
                <a:lnTo>
                  <a:pt x="68" y="79"/>
                </a:lnTo>
                <a:lnTo>
                  <a:pt x="60" y="88"/>
                </a:lnTo>
                <a:lnTo>
                  <a:pt x="51" y="96"/>
                </a:lnTo>
                <a:lnTo>
                  <a:pt x="44" y="105"/>
                </a:lnTo>
                <a:lnTo>
                  <a:pt x="38" y="115"/>
                </a:lnTo>
                <a:lnTo>
                  <a:pt x="32" y="125"/>
                </a:lnTo>
                <a:lnTo>
                  <a:pt x="26" y="135"/>
                </a:lnTo>
                <a:lnTo>
                  <a:pt x="21" y="146"/>
                </a:lnTo>
                <a:lnTo>
                  <a:pt x="15" y="157"/>
                </a:lnTo>
                <a:lnTo>
                  <a:pt x="11" y="168"/>
                </a:lnTo>
                <a:lnTo>
                  <a:pt x="8" y="180"/>
                </a:lnTo>
                <a:lnTo>
                  <a:pt x="5" y="191"/>
                </a:lnTo>
                <a:lnTo>
                  <a:pt x="3" y="202"/>
                </a:lnTo>
                <a:lnTo>
                  <a:pt x="1" y="215"/>
                </a:lnTo>
                <a:lnTo>
                  <a:pt x="0" y="226"/>
                </a:lnTo>
                <a:lnTo>
                  <a:pt x="0" y="239"/>
                </a:lnTo>
                <a:lnTo>
                  <a:pt x="0" y="478"/>
                </a:lnTo>
                <a:lnTo>
                  <a:pt x="0" y="490"/>
                </a:lnTo>
                <a:lnTo>
                  <a:pt x="1" y="502"/>
                </a:lnTo>
                <a:lnTo>
                  <a:pt x="3" y="514"/>
                </a:lnTo>
                <a:lnTo>
                  <a:pt x="5" y="526"/>
                </a:lnTo>
                <a:lnTo>
                  <a:pt x="8" y="537"/>
                </a:lnTo>
                <a:lnTo>
                  <a:pt x="11" y="548"/>
                </a:lnTo>
                <a:lnTo>
                  <a:pt x="15" y="560"/>
                </a:lnTo>
                <a:lnTo>
                  <a:pt x="21" y="571"/>
                </a:lnTo>
                <a:lnTo>
                  <a:pt x="25" y="581"/>
                </a:lnTo>
                <a:lnTo>
                  <a:pt x="32" y="591"/>
                </a:lnTo>
                <a:lnTo>
                  <a:pt x="38" y="602"/>
                </a:lnTo>
                <a:lnTo>
                  <a:pt x="44" y="612"/>
                </a:lnTo>
                <a:lnTo>
                  <a:pt x="51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7"/>
                </a:lnTo>
                <a:lnTo>
                  <a:pt x="86" y="655"/>
                </a:lnTo>
                <a:lnTo>
                  <a:pt x="96" y="662"/>
                </a:lnTo>
                <a:lnTo>
                  <a:pt x="106" y="668"/>
                </a:lnTo>
                <a:lnTo>
                  <a:pt x="116" y="676"/>
                </a:lnTo>
                <a:lnTo>
                  <a:pt x="127" y="682"/>
                </a:lnTo>
                <a:lnTo>
                  <a:pt x="138" y="687"/>
                </a:lnTo>
                <a:lnTo>
                  <a:pt x="149" y="692"/>
                </a:lnTo>
                <a:lnTo>
                  <a:pt x="160" y="698"/>
                </a:lnTo>
                <a:lnTo>
                  <a:pt x="173" y="703"/>
                </a:lnTo>
                <a:lnTo>
                  <a:pt x="186" y="706"/>
                </a:lnTo>
                <a:lnTo>
                  <a:pt x="198" y="709"/>
                </a:lnTo>
                <a:lnTo>
                  <a:pt x="211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86480" y="5487840"/>
            <a:ext cx="1184400" cy="536760"/>
          </a:xfrm>
          <a:custGeom>
            <a:avLst/>
            <a:gdLst/>
            <a:ahLst/>
            <a:rect l="l" t="t" r="r" b="b"/>
            <a:pathLst>
              <a:path w="1592" h="716">
                <a:moveTo>
                  <a:pt x="264" y="716"/>
                </a:moveTo>
                <a:lnTo>
                  <a:pt x="1328" y="716"/>
                </a:lnTo>
                <a:lnTo>
                  <a:pt x="1342" y="716"/>
                </a:lnTo>
                <a:lnTo>
                  <a:pt x="1354" y="715"/>
                </a:lnTo>
                <a:lnTo>
                  <a:pt x="1368" y="714"/>
                </a:lnTo>
                <a:lnTo>
                  <a:pt x="1381" y="711"/>
                </a:lnTo>
                <a:lnTo>
                  <a:pt x="1393" y="709"/>
                </a:lnTo>
                <a:lnTo>
                  <a:pt x="1406" y="706"/>
                </a:lnTo>
                <a:lnTo>
                  <a:pt x="1419" y="703"/>
                </a:lnTo>
                <a:lnTo>
                  <a:pt x="1430" y="698"/>
                </a:lnTo>
                <a:lnTo>
                  <a:pt x="1442" y="692"/>
                </a:lnTo>
                <a:lnTo>
                  <a:pt x="1453" y="687"/>
                </a:lnTo>
                <a:lnTo>
                  <a:pt x="1465" y="682"/>
                </a:lnTo>
                <a:lnTo>
                  <a:pt x="1476" y="676"/>
                </a:lnTo>
                <a:lnTo>
                  <a:pt x="1486" y="668"/>
                </a:lnTo>
                <a:lnTo>
                  <a:pt x="1495" y="662"/>
                </a:lnTo>
                <a:lnTo>
                  <a:pt x="1505" y="655"/>
                </a:lnTo>
                <a:lnTo>
                  <a:pt x="1515" y="647"/>
                </a:lnTo>
                <a:lnTo>
                  <a:pt x="1523" y="638"/>
                </a:lnTo>
                <a:lnTo>
                  <a:pt x="1532" y="629"/>
                </a:lnTo>
                <a:lnTo>
                  <a:pt x="1539" y="620"/>
                </a:lnTo>
                <a:lnTo>
                  <a:pt x="1547" y="612"/>
                </a:lnTo>
                <a:lnTo>
                  <a:pt x="1554" y="602"/>
                </a:lnTo>
                <a:lnTo>
                  <a:pt x="1560" y="591"/>
                </a:lnTo>
                <a:lnTo>
                  <a:pt x="1565" y="581"/>
                </a:lnTo>
                <a:lnTo>
                  <a:pt x="1571" y="571"/>
                </a:lnTo>
                <a:lnTo>
                  <a:pt x="1575" y="560"/>
                </a:lnTo>
                <a:lnTo>
                  <a:pt x="1579" y="548"/>
                </a:lnTo>
                <a:lnTo>
                  <a:pt x="1583" y="537"/>
                </a:lnTo>
                <a:lnTo>
                  <a:pt x="1586" y="526"/>
                </a:lnTo>
                <a:lnTo>
                  <a:pt x="1589" y="514"/>
                </a:lnTo>
                <a:lnTo>
                  <a:pt x="1590" y="502"/>
                </a:lnTo>
                <a:lnTo>
                  <a:pt x="1592" y="490"/>
                </a:lnTo>
                <a:lnTo>
                  <a:pt x="1592" y="478"/>
                </a:lnTo>
                <a:lnTo>
                  <a:pt x="1592" y="478"/>
                </a:lnTo>
                <a:lnTo>
                  <a:pt x="1592" y="478"/>
                </a:lnTo>
                <a:lnTo>
                  <a:pt x="1592" y="239"/>
                </a:lnTo>
                <a:lnTo>
                  <a:pt x="1592" y="226"/>
                </a:lnTo>
                <a:lnTo>
                  <a:pt x="1590" y="215"/>
                </a:lnTo>
                <a:lnTo>
                  <a:pt x="1589" y="202"/>
                </a:lnTo>
                <a:lnTo>
                  <a:pt x="1586" y="191"/>
                </a:lnTo>
                <a:lnTo>
                  <a:pt x="1583" y="180"/>
                </a:lnTo>
                <a:lnTo>
                  <a:pt x="1579" y="168"/>
                </a:lnTo>
                <a:lnTo>
                  <a:pt x="1575" y="157"/>
                </a:lnTo>
                <a:lnTo>
                  <a:pt x="1571" y="146"/>
                </a:lnTo>
                <a:lnTo>
                  <a:pt x="1565" y="135"/>
                </a:lnTo>
                <a:lnTo>
                  <a:pt x="1560" y="125"/>
                </a:lnTo>
                <a:lnTo>
                  <a:pt x="1554" y="115"/>
                </a:lnTo>
                <a:lnTo>
                  <a:pt x="1547" y="105"/>
                </a:lnTo>
                <a:lnTo>
                  <a:pt x="1539" y="96"/>
                </a:lnTo>
                <a:lnTo>
                  <a:pt x="1532" y="88"/>
                </a:lnTo>
                <a:lnTo>
                  <a:pt x="1523" y="79"/>
                </a:lnTo>
                <a:lnTo>
                  <a:pt x="1515" y="70"/>
                </a:lnTo>
                <a:lnTo>
                  <a:pt x="1505" y="62"/>
                </a:lnTo>
                <a:lnTo>
                  <a:pt x="1495" y="55"/>
                </a:lnTo>
                <a:lnTo>
                  <a:pt x="1486" y="48"/>
                </a:lnTo>
                <a:lnTo>
                  <a:pt x="1476" y="41"/>
                </a:lnTo>
                <a:lnTo>
                  <a:pt x="1465" y="34"/>
                </a:lnTo>
                <a:lnTo>
                  <a:pt x="1453" y="29"/>
                </a:lnTo>
                <a:lnTo>
                  <a:pt x="1442" y="24"/>
                </a:lnTo>
                <a:lnTo>
                  <a:pt x="1431" y="19"/>
                </a:lnTo>
                <a:lnTo>
                  <a:pt x="1419" y="14"/>
                </a:lnTo>
                <a:lnTo>
                  <a:pt x="1406" y="12"/>
                </a:lnTo>
                <a:lnTo>
                  <a:pt x="1393" y="8"/>
                </a:lnTo>
                <a:lnTo>
                  <a:pt x="1381" y="5"/>
                </a:lnTo>
                <a:lnTo>
                  <a:pt x="1368" y="3"/>
                </a:lnTo>
                <a:lnTo>
                  <a:pt x="1354" y="2"/>
                </a:lnTo>
                <a:lnTo>
                  <a:pt x="1342" y="0"/>
                </a:lnTo>
                <a:lnTo>
                  <a:pt x="1328" y="0"/>
                </a:lnTo>
                <a:lnTo>
                  <a:pt x="264" y="0"/>
                </a:lnTo>
                <a:lnTo>
                  <a:pt x="250" y="0"/>
                </a:lnTo>
                <a:lnTo>
                  <a:pt x="236" y="2"/>
                </a:lnTo>
                <a:lnTo>
                  <a:pt x="223" y="3"/>
                </a:lnTo>
                <a:lnTo>
                  <a:pt x="211" y="5"/>
                </a:lnTo>
                <a:lnTo>
                  <a:pt x="198" y="8"/>
                </a:lnTo>
                <a:lnTo>
                  <a:pt x="186" y="12"/>
                </a:lnTo>
                <a:lnTo>
                  <a:pt x="173" y="14"/>
                </a:lnTo>
                <a:lnTo>
                  <a:pt x="160" y="19"/>
                </a:lnTo>
                <a:lnTo>
                  <a:pt x="149" y="24"/>
                </a:lnTo>
                <a:lnTo>
                  <a:pt x="138" y="29"/>
                </a:lnTo>
                <a:lnTo>
                  <a:pt x="127" y="34"/>
                </a:lnTo>
                <a:lnTo>
                  <a:pt x="116" y="41"/>
                </a:lnTo>
                <a:lnTo>
                  <a:pt x="106" y="48"/>
                </a:lnTo>
                <a:lnTo>
                  <a:pt x="96" y="55"/>
                </a:lnTo>
                <a:lnTo>
                  <a:pt x="86" y="62"/>
                </a:lnTo>
                <a:lnTo>
                  <a:pt x="77" y="70"/>
                </a:lnTo>
                <a:lnTo>
                  <a:pt x="68" y="79"/>
                </a:lnTo>
                <a:lnTo>
                  <a:pt x="60" y="88"/>
                </a:lnTo>
                <a:lnTo>
                  <a:pt x="51" y="96"/>
                </a:lnTo>
                <a:lnTo>
                  <a:pt x="44" y="105"/>
                </a:lnTo>
                <a:lnTo>
                  <a:pt x="38" y="115"/>
                </a:lnTo>
                <a:lnTo>
                  <a:pt x="32" y="125"/>
                </a:lnTo>
                <a:lnTo>
                  <a:pt x="26" y="135"/>
                </a:lnTo>
                <a:lnTo>
                  <a:pt x="21" y="146"/>
                </a:lnTo>
                <a:lnTo>
                  <a:pt x="15" y="157"/>
                </a:lnTo>
                <a:lnTo>
                  <a:pt x="11" y="168"/>
                </a:lnTo>
                <a:lnTo>
                  <a:pt x="8" y="180"/>
                </a:lnTo>
                <a:lnTo>
                  <a:pt x="5" y="191"/>
                </a:lnTo>
                <a:lnTo>
                  <a:pt x="3" y="202"/>
                </a:lnTo>
                <a:lnTo>
                  <a:pt x="1" y="215"/>
                </a:lnTo>
                <a:lnTo>
                  <a:pt x="0" y="226"/>
                </a:lnTo>
                <a:lnTo>
                  <a:pt x="0" y="239"/>
                </a:lnTo>
                <a:lnTo>
                  <a:pt x="0" y="478"/>
                </a:lnTo>
                <a:lnTo>
                  <a:pt x="0" y="490"/>
                </a:lnTo>
                <a:lnTo>
                  <a:pt x="1" y="502"/>
                </a:lnTo>
                <a:lnTo>
                  <a:pt x="3" y="514"/>
                </a:lnTo>
                <a:lnTo>
                  <a:pt x="5" y="526"/>
                </a:lnTo>
                <a:lnTo>
                  <a:pt x="8" y="537"/>
                </a:lnTo>
                <a:lnTo>
                  <a:pt x="11" y="548"/>
                </a:lnTo>
                <a:lnTo>
                  <a:pt x="15" y="560"/>
                </a:lnTo>
                <a:lnTo>
                  <a:pt x="21" y="571"/>
                </a:lnTo>
                <a:lnTo>
                  <a:pt x="25" y="581"/>
                </a:lnTo>
                <a:lnTo>
                  <a:pt x="32" y="591"/>
                </a:lnTo>
                <a:lnTo>
                  <a:pt x="38" y="602"/>
                </a:lnTo>
                <a:lnTo>
                  <a:pt x="44" y="612"/>
                </a:lnTo>
                <a:lnTo>
                  <a:pt x="51" y="620"/>
                </a:lnTo>
                <a:lnTo>
                  <a:pt x="60" y="629"/>
                </a:lnTo>
                <a:lnTo>
                  <a:pt x="68" y="638"/>
                </a:lnTo>
                <a:lnTo>
                  <a:pt x="77" y="647"/>
                </a:lnTo>
                <a:lnTo>
                  <a:pt x="86" y="655"/>
                </a:lnTo>
                <a:lnTo>
                  <a:pt x="96" y="662"/>
                </a:lnTo>
                <a:lnTo>
                  <a:pt x="106" y="668"/>
                </a:lnTo>
                <a:lnTo>
                  <a:pt x="116" y="676"/>
                </a:lnTo>
                <a:lnTo>
                  <a:pt x="127" y="682"/>
                </a:lnTo>
                <a:lnTo>
                  <a:pt x="138" y="687"/>
                </a:lnTo>
                <a:lnTo>
                  <a:pt x="149" y="692"/>
                </a:lnTo>
                <a:lnTo>
                  <a:pt x="160" y="698"/>
                </a:lnTo>
                <a:lnTo>
                  <a:pt x="173" y="703"/>
                </a:lnTo>
                <a:lnTo>
                  <a:pt x="186" y="706"/>
                </a:lnTo>
                <a:lnTo>
                  <a:pt x="198" y="709"/>
                </a:lnTo>
                <a:lnTo>
                  <a:pt x="211" y="711"/>
                </a:lnTo>
                <a:lnTo>
                  <a:pt x="223" y="714"/>
                </a:lnTo>
                <a:lnTo>
                  <a:pt x="236" y="715"/>
                </a:lnTo>
                <a:lnTo>
                  <a:pt x="250" y="716"/>
                </a:lnTo>
                <a:lnTo>
                  <a:pt x="264" y="716"/>
                </a:lnTo>
                <a:lnTo>
                  <a:pt x="264" y="7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56880" y="5586480"/>
            <a:ext cx="1551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96120" y="5751360"/>
            <a:ext cx="1471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ailed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97240" y="3840120"/>
            <a:ext cx="9828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97240" y="3840120"/>
            <a:ext cx="982800" cy="339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04360" y="3922560"/>
            <a:ext cx="1265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52680" y="3840120"/>
            <a:ext cx="98100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52680" y="3840120"/>
            <a:ext cx="981000" cy="339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37480" y="3922560"/>
            <a:ext cx="1308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fl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57600" y="3516480"/>
            <a:ext cx="2228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ared data 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09280" y="3683160"/>
            <a:ext cx="2535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sociated with the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EFA6-810C-4F3D-A5DD-258E72087C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2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MeetingAction contrac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ically translated into Java Modeling Language (J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3213000"/>
            <a:ext cx="8280360" cy="273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ublic class AddMeetingAction extends Ac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//@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//@ requires request !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//@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ensures request.getDataItem("meeting") instanceof Meet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//@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ensures \result == "fail" ==&gt; request.getDataItem("conflicts") instanceof Vec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//@ </a:t>
            </a: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ensures \result == "success" || \result == "fail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ublic String execute(Request request, Form for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26920" y="1195560"/>
            <a:ext cx="7021800" cy="1081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//spec: forwards {“success”, “fail”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//spec: writes {Meeting meeting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//spec: on forward == “fail” also writes {Vector conflicts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6165720"/>
            <a:ext cx="7772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rder to be verified by existing verific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27640" y="115920"/>
            <a:ext cx="2089440" cy="865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8128080" y="189000"/>
          <a:ext cx="18720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18900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6300720" y="272880"/>
            <a:ext cx="397080" cy="1508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00720" y="673200"/>
            <a:ext cx="397080" cy="149040"/>
          </a:xfrm>
          <a:prstGeom prst="rect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40560" y="479520"/>
            <a:ext cx="377640" cy="1490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83520" y="217440"/>
            <a:ext cx="509400" cy="26208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83520" y="636480"/>
            <a:ext cx="509400" cy="2620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735600" y="347760"/>
            <a:ext cx="528840" cy="14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35600" y="747720"/>
            <a:ext cx="5097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31080" y="349200"/>
            <a:ext cx="2826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31080" y="766800"/>
            <a:ext cx="2826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7018200" y="404280"/>
            <a:ext cx="265320" cy="1112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8128080" y="669960"/>
          <a:ext cx="187200" cy="2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080" y="66996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7018200" y="590400"/>
            <a:ext cx="265320" cy="1130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709A-7D6D-48C8-A9AD-E1DA0C6D74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osition-specific verific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id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if the composition property holds for each possible execution path in the 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re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composition-specific check method, enrolling the possible run-time execution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isting verification tools to verify the composition property for each exec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6227640" y="115920"/>
            <a:ext cx="2089440" cy="865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128080" y="189000"/>
          <a:ext cx="18720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18900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6300720" y="272880"/>
            <a:ext cx="397080" cy="150840"/>
          </a:xfrm>
          <a:prstGeom prst="rect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00720" y="673200"/>
            <a:ext cx="397080" cy="1490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40560" y="479520"/>
            <a:ext cx="377640" cy="1490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83520" y="217440"/>
            <a:ext cx="509400" cy="2620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283520" y="636480"/>
            <a:ext cx="509400" cy="26208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35600" y="347760"/>
            <a:ext cx="528840" cy="1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35600" y="747720"/>
            <a:ext cx="50976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831080" y="349200"/>
            <a:ext cx="2826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831080" y="766800"/>
            <a:ext cx="2826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018200" y="404280"/>
            <a:ext cx="265320" cy="1112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8128080" y="669960"/>
          <a:ext cx="187200" cy="2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080" y="66996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7018200" y="590400"/>
            <a:ext cx="265320" cy="1130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5280" y="208764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92360" y="1081080"/>
            <a:ext cx="1439640" cy="576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38560" y="1944720"/>
            <a:ext cx="194472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sitio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50920" y="2376360"/>
            <a:ext cx="194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27640" y="2448000"/>
            <a:ext cx="1079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32000" y="1441440"/>
            <a:ext cx="100656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358040" y="2073240"/>
          <a:ext cx="71604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58040" y="2073240"/>
                    <a:ext cx="7160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2925-927E-4F90-A656-7957D2E635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828720" y="4941720"/>
            <a:ext cx="7056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rolling the execution path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ion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971640" y="1587600"/>
            <a:ext cx="7416720" cy="3051000"/>
            <a:chOff x="971640" y="1587600"/>
            <a:chExt cx="7416720" cy="3051000"/>
          </a:xfrm>
        </p:grpSpPr>
        <p:sp>
          <p:nvSpPr>
            <p:cNvPr id="511" name=""/>
            <p:cNvSpPr/>
            <p:nvPr/>
          </p:nvSpPr>
          <p:spPr>
            <a:xfrm>
              <a:off x="971640" y="1652040"/>
              <a:ext cx="7416720" cy="29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1083600" y="1587600"/>
              <a:ext cx="7108920" cy="273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"/>
          <p:cNvSpPr/>
          <p:nvPr/>
        </p:nvSpPr>
        <p:spPr>
          <a:xfrm>
            <a:off x="2268360" y="5084640"/>
            <a:ext cx="1079640" cy="576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29080" y="5084640"/>
            <a:ext cx="1079640" cy="576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EmailNot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ion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9800" y="5084640"/>
            <a:ext cx="1079280" cy="576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89800" y="5950080"/>
            <a:ext cx="107928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ailed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48000" y="5373720"/>
            <a:ext cx="1071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508720" y="5373720"/>
            <a:ext cx="1071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348000" y="5516640"/>
            <a:ext cx="3232080" cy="720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89080" y="5373720"/>
            <a:ext cx="1071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272200" y="5111640"/>
            <a:ext cx="1434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aramond"/>
              </a:rPr>
              <a:t>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29880" y="5734080"/>
            <a:ext cx="1121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aramond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11480" y="5084640"/>
            <a:ext cx="1434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9840" indent="-33984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aramond"/>
              </a:rPr>
              <a:t>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27640" y="115920"/>
            <a:ext cx="2089440" cy="865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128080" y="189000"/>
          <a:ext cx="187200" cy="23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8080" y="18900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6300720" y="272880"/>
            <a:ext cx="397080" cy="150840"/>
          </a:xfrm>
          <a:prstGeom prst="rect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00720" y="673200"/>
            <a:ext cx="397080" cy="1490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40560" y="479520"/>
            <a:ext cx="377640" cy="1490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283520" y="217440"/>
            <a:ext cx="509400" cy="2620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283520" y="636480"/>
            <a:ext cx="509400" cy="26208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35600" y="347760"/>
            <a:ext cx="528840" cy="1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35600" y="747720"/>
            <a:ext cx="50976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31080" y="349200"/>
            <a:ext cx="2826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31080" y="766800"/>
            <a:ext cx="2826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018200" y="404280"/>
            <a:ext cx="265320" cy="1112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128080" y="669960"/>
          <a:ext cx="187200" cy="23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28080" y="66996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7018200" y="590400"/>
            <a:ext cx="265320" cy="1130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B8BE-1F3B-4E6F-8647-52E4FEF475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rolling the execution path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58720" y="1143000"/>
            <a:ext cx="7823160" cy="5334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//@ requires request !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ublic void check_addMeeting(Request request, Form form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ddMeetingAction addMeetingAction = new AddMeetingA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EmailNotificationAction emailNotificationAction = new EmailNotificationActio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ddedMeetingView addedMeetingView = new AddedMeetingView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ailedAddedMeetingView failedAddedMeetingView = new FailedAddedMeetingView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Garamond"/>
              </a:rPr>
              <a:t>String forward1 =</a:t>
            </a: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Garamond"/>
              </a:rPr>
              <a:t>addMeetingAction.execute(request,for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Garamond"/>
              </a:rPr>
              <a:t>if(forward1.equals("success")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Garamond"/>
              </a:rPr>
              <a:t>String forward2 =</a:t>
            </a: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Garamond"/>
              </a:rPr>
              <a:t>emailNotificationAction.execute(request,for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Garamond"/>
              </a:rPr>
              <a:t>if(forward2.equals("success")){</a:t>
            </a: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              </a:t>
            </a:r>
            <a:r>
              <a:rPr b="0" lang="en-US" sz="1600" spc="-1" strike="noStrike">
                <a:solidFill>
                  <a:srgbClr val="ff0000"/>
                </a:solidFill>
                <a:latin typeface="Garamond"/>
              </a:rPr>
              <a:t>addedMeetingView.execute(request,for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Garamond"/>
              </a:rPr>
              <a:t>} else { //@ unreachabl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Garamond"/>
              </a:rPr>
              <a:t>} else if(forward1.equals("fail")){</a:t>
            </a: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           </a:t>
            </a:r>
            <a:r>
              <a:rPr b="0" lang="en-US" sz="1600" spc="-1" strike="noStrike">
                <a:solidFill>
                  <a:srgbClr val="ff0000"/>
                </a:solidFill>
                <a:latin typeface="Garamond"/>
              </a:rPr>
              <a:t>failedAddedMeetingView.execute(request,for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Garamond"/>
              </a:rPr>
              <a:t>} else { //@ unreachabl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227640" y="115920"/>
            <a:ext cx="2089440" cy="865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8128080" y="189000"/>
          <a:ext cx="18720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18900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6300720" y="272880"/>
            <a:ext cx="397080" cy="150840"/>
          </a:xfrm>
          <a:prstGeom prst="rect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00720" y="673200"/>
            <a:ext cx="397080" cy="1490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40560" y="479520"/>
            <a:ext cx="377640" cy="14904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283520" y="217440"/>
            <a:ext cx="509400" cy="26208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283520" y="636480"/>
            <a:ext cx="509400" cy="26208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35600" y="347760"/>
            <a:ext cx="528840" cy="1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735600" y="747720"/>
            <a:ext cx="50976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831080" y="349200"/>
            <a:ext cx="2826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831080" y="766800"/>
            <a:ext cx="2826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018200" y="404280"/>
            <a:ext cx="265320" cy="1112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128080" y="669960"/>
          <a:ext cx="187200" cy="2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080" y="669960"/>
                    <a:ext cx="1872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7018200" y="590400"/>
            <a:ext cx="265320" cy="1130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C1DA-17F5-4AC0-BF8E-6F16A9984F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type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p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ML as intermediate specification langu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r problem-specific contracts are automatically translated into J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C/Java2 as static verification t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sition-specific verification is automatically generated from the deployment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C/Java2 as static verification t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on the GatorMail webmail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approach was applicable with only some slight refin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8957-46EB-4EEA-8522-A8E6A696C5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1720" y="1295280"/>
            <a:ext cx="2516400" cy="533520"/>
          </a:xfrm>
          <a:prstGeom prst="rect">
            <a:avLst/>
          </a:prstGeom>
          <a:solidFill>
            <a:srgbClr val="336699">
              <a:alpha val="5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Static verification of indirect data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Static and dynamic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7BEF-F079-4BFE-9002-F1FF1C0553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riment resul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ML annotation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most 4 lines of problem-specific an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ication performa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r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erification takes up at 700 seconds pe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D05F-6E5A-44BB-A09A-12CAF4B2C61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re able to guarantee the desired composition properties in a given 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minimal formal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existing reason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reasonable amount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to real-lif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le to larger applications (if the complexity of the individual components remains equival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9671-5163-420B-B562-1BD2DF9A31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2844720"/>
            <a:ext cx="5334120" cy="507960"/>
          </a:xfrm>
          <a:prstGeom prst="rect">
            <a:avLst/>
          </a:prstGeom>
          <a:solidFill>
            <a:srgbClr val="336699">
              <a:alpha val="5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Static verification of indirect data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tic and dynamic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lution ov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uke’s BookStore validation experi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80FB-F90C-4004-8E1D-ACA1CE3591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pproach uses static and dynamic verification to guarantee that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 broken data dependencies proper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s in a given, reactive 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inte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ally verify composition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force underlying assumptions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AA69-267F-4667-9709-B2F4A738FD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ution 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7845480" y="2057400"/>
          <a:ext cx="7570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5480" y="2057400"/>
                    <a:ext cx="757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395280" y="162864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280" y="371628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35280" y="4581360"/>
            <a:ext cx="1511280" cy="576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nded clien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537372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line 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35280" y="2492280"/>
            <a:ext cx="1439640" cy="576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138560" y="2276640"/>
            <a:ext cx="194472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38560" y="5157720"/>
            <a:ext cx="194472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38560" y="3573360"/>
            <a:ext cx="194472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050920" y="1916280"/>
            <a:ext cx="208764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50920" y="4005360"/>
            <a:ext cx="194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050920" y="5661000"/>
            <a:ext cx="1943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27640" y="2781360"/>
            <a:ext cx="1079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27640" y="4076640"/>
            <a:ext cx="1079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227640" y="5661000"/>
            <a:ext cx="1079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27280" y="3213000"/>
            <a:ext cx="151128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19640" y="4941720"/>
            <a:ext cx="71892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419640" y="4365360"/>
            <a:ext cx="71892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46560" y="27813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7845480" y="3402000"/>
          <a:ext cx="75708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5480" y="3402000"/>
                    <a:ext cx="7570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7378560" y="5229360"/>
          <a:ext cx="685800" cy="90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78560" y="5229360"/>
                    <a:ext cx="68580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6404040" y="1123920"/>
            <a:ext cx="503280" cy="21600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08400" y="110016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 artif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404040" y="1436760"/>
            <a:ext cx="503280" cy="2160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07680" y="141300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ed artif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330960" y="1052640"/>
            <a:ext cx="1727280" cy="64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1C10-9467-420D-9549-3A69C542AC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227640" y="115920"/>
            <a:ext cx="2089440" cy="1297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7596360" y="2166840"/>
          <a:ext cx="71568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2166840"/>
                    <a:ext cx="7156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539640" y="162864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79640" y="2492280"/>
            <a:ext cx="1440000" cy="576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427640" y="2276640"/>
            <a:ext cx="194472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95640" y="1916280"/>
            <a:ext cx="208728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372360" y="2781360"/>
            <a:ext cx="1079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490920" y="278136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8094600" y="363600"/>
          <a:ext cx="189000" cy="19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94600" y="363600"/>
                    <a:ext cx="189000" cy="1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300720" y="189000"/>
            <a:ext cx="376200" cy="1458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300720" y="71928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61080" y="93996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300720" y="1139760"/>
            <a:ext cx="376200" cy="14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59640" y="407880"/>
            <a:ext cx="358560" cy="1476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232760" y="352440"/>
            <a:ext cx="485640" cy="25704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2760" y="1085760"/>
            <a:ext cx="485640" cy="255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232760" y="682560"/>
            <a:ext cx="485640" cy="2574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262080"/>
            <a:ext cx="520920" cy="12852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11840" y="792000"/>
            <a:ext cx="486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11840" y="1212840"/>
            <a:ext cx="486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753320" y="482760"/>
            <a:ext cx="27000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53320" y="809640"/>
            <a:ext cx="270000" cy="144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53320" y="1212840"/>
            <a:ext cx="270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6560" y="590400"/>
            <a:ext cx="376200" cy="14796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3080" y="1052640"/>
            <a:ext cx="139680" cy="871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093080" y="883800"/>
            <a:ext cx="139680" cy="9684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35840" y="482760"/>
            <a:ext cx="17928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8094600" y="682560"/>
          <a:ext cx="189000" cy="1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94600" y="682560"/>
                    <a:ext cx="189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8094600" y="1103400"/>
          <a:ext cx="189000" cy="1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94600" y="1103400"/>
                    <a:ext cx="1890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57200" y="3860640"/>
            <a:ext cx="771516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 contracts specify interactions with the shared reposi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116000" y="4869000"/>
            <a:ext cx="662472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//spec: reads {ResourceBundle messages, Nullable&lt;ShoppingCart&gt;car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ullable&lt;Currency&gt; currency} from sess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//spec: writes {cart == null =&gt; ShoppingCart cart} on sess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//spec: possible writes {currency == null =&gt; Currency currency} on sess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2012-C03C-41F3-8B7B-D7F600238E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6227640" y="115920"/>
            <a:ext cx="2089440" cy="1297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7596360" y="2314440"/>
          <a:ext cx="75708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2314440"/>
                    <a:ext cx="75708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7840" y="3962160"/>
            <a:ext cx="8148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e all possible client-server interactions that comply to the intended client/serv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tatic verification to formally guarantee th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 broken data dependency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 viola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39640" y="242100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50920" y="3429000"/>
            <a:ext cx="1511280" cy="576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nded clien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79640" y="1197000"/>
            <a:ext cx="1440000" cy="576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82920" y="2278080"/>
            <a:ext cx="194472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195640" y="2709720"/>
            <a:ext cx="1942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372360" y="2781360"/>
            <a:ext cx="1079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771640" y="1917720"/>
            <a:ext cx="151128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698920" y="3069720"/>
            <a:ext cx="1584000" cy="28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094600" y="363600"/>
          <a:ext cx="189000" cy="19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94600" y="363600"/>
                    <a:ext cx="189000" cy="1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6300720" y="18900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300720" y="719280"/>
            <a:ext cx="376200" cy="1458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645240" y="939960"/>
            <a:ext cx="376200" cy="1458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00720" y="1139760"/>
            <a:ext cx="376200" cy="14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59640" y="407880"/>
            <a:ext cx="358560" cy="1476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232760" y="352440"/>
            <a:ext cx="485640" cy="257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232760" y="1085760"/>
            <a:ext cx="485640" cy="255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232760" y="682560"/>
            <a:ext cx="485640" cy="25740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11840" y="262080"/>
            <a:ext cx="520920" cy="1285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11840" y="792000"/>
            <a:ext cx="48600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711840" y="1212840"/>
            <a:ext cx="486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53320" y="482760"/>
            <a:ext cx="270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753320" y="809640"/>
            <a:ext cx="270000" cy="1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753320" y="1212840"/>
            <a:ext cx="270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856560" y="590400"/>
            <a:ext cx="376200" cy="1479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093080" y="1052640"/>
            <a:ext cx="139680" cy="871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7093080" y="883800"/>
            <a:ext cx="139680" cy="968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035840" y="482760"/>
            <a:ext cx="17928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8094600" y="682560"/>
          <a:ext cx="189000" cy="1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94600" y="682560"/>
                    <a:ext cx="189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8094600" y="1103400"/>
          <a:ext cx="189000" cy="1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94600" y="1103400"/>
                    <a:ext cx="1890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6999-1E5E-4336-ADAA-71D305A13A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227640" y="115920"/>
            <a:ext cx="2089440" cy="1297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562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nded client/server protoco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662040" y="1558800"/>
          <a:ext cx="794232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79423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755640" y="4724280"/>
            <a:ext cx="7128000" cy="1368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TOCOL := /bookstore + SERVLET A  + RECE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CEIPT := ( SERVLET B + SERVLET  + /orderfilter + /bookreceipt ) | n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RVLET := SERVLET A | SERVLE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RVLET A := /bookstore | /bookdetails | /bookshowcart | /banner | n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RVLET B := /bookcatalog | /bookcash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8094600" y="363600"/>
          <a:ext cx="189000" cy="19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94600" y="363600"/>
                    <a:ext cx="189000" cy="1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300720" y="18900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300720" y="719280"/>
            <a:ext cx="376200" cy="1458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645240" y="939960"/>
            <a:ext cx="376200" cy="1458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300720" y="1139760"/>
            <a:ext cx="376200" cy="14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59640" y="407880"/>
            <a:ext cx="358560" cy="1476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232760" y="352440"/>
            <a:ext cx="485640" cy="257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232760" y="1085760"/>
            <a:ext cx="485640" cy="255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232760" y="682560"/>
            <a:ext cx="485640" cy="25740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11840" y="262080"/>
            <a:ext cx="520920" cy="1285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711840" y="792000"/>
            <a:ext cx="48600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11840" y="1212840"/>
            <a:ext cx="486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753320" y="482760"/>
            <a:ext cx="270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53320" y="809640"/>
            <a:ext cx="270000" cy="1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753320" y="1212840"/>
            <a:ext cx="270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856560" y="590400"/>
            <a:ext cx="376200" cy="1479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093080" y="1052640"/>
            <a:ext cx="139680" cy="871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093080" y="883800"/>
            <a:ext cx="139680" cy="968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035840" y="482760"/>
            <a:ext cx="17928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8094600" y="682560"/>
          <a:ext cx="189000" cy="1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94600" y="682560"/>
                    <a:ext cx="189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8094600" y="1103400"/>
          <a:ext cx="189000" cy="1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94600" y="1103400"/>
                    <a:ext cx="1890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B9B8-37D9-4AE3-A5C9-DE3580FABC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227640" y="115920"/>
            <a:ext cx="2089440" cy="1297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562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plication-specific verific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1333440" y="1557360"/>
            <a:ext cx="5399280" cy="4724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//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if (random.nextBoolean()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witch(random.nextInt()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se 0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cashier .doGet(request,response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efault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catalog.doGet(request,response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while(random.nextBoolean()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witch(random.nextInt()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se 0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showcart.doGet(request,response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se 1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catalog.doGet(request,response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se 2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cashier .doGet(request,response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se 3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bookstore.doGet(request,response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case 4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bookdetail.doGet(request,response)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efault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//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8094600" y="363600"/>
          <a:ext cx="189000" cy="1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4600" y="363600"/>
                    <a:ext cx="189000" cy="1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/>
          <p:nvPr/>
        </p:nvSpPr>
        <p:spPr>
          <a:xfrm>
            <a:off x="6300720" y="18900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300720" y="719280"/>
            <a:ext cx="376200" cy="1458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645240" y="939960"/>
            <a:ext cx="376200" cy="1458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300720" y="1139760"/>
            <a:ext cx="376200" cy="14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659640" y="407880"/>
            <a:ext cx="358560" cy="1476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232760" y="352440"/>
            <a:ext cx="485640" cy="257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232760" y="1085760"/>
            <a:ext cx="485640" cy="255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32760" y="682560"/>
            <a:ext cx="485640" cy="25740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11840" y="262080"/>
            <a:ext cx="520920" cy="1285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711840" y="792000"/>
            <a:ext cx="48600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711840" y="1212840"/>
            <a:ext cx="486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753320" y="482760"/>
            <a:ext cx="270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53320" y="809640"/>
            <a:ext cx="270000" cy="1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753320" y="1212840"/>
            <a:ext cx="270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56560" y="590400"/>
            <a:ext cx="376200" cy="1479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93080" y="1052640"/>
            <a:ext cx="139680" cy="871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7093080" y="883800"/>
            <a:ext cx="139680" cy="968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35840" y="482760"/>
            <a:ext cx="17928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8094600" y="682560"/>
          <a:ext cx="189000" cy="1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94600" y="682560"/>
                    <a:ext cx="189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8094600" y="1103400"/>
          <a:ext cx="189000" cy="1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94600" y="1103400"/>
                    <a:ext cx="1890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658B-FCF3-4159-A4BD-1685B5D8BA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6227640" y="115920"/>
            <a:ext cx="2089440" cy="1297080"/>
          </a:xfrm>
          <a:prstGeom prst="rect">
            <a:avLst/>
          </a:prstGeom>
          <a:solidFill>
            <a:srgbClr val="3366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7875720" y="2057400"/>
          <a:ext cx="75564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5720" y="2057400"/>
                    <a:ext cx="7556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3790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traffic to the intended client/serv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use of a Web Application Firewall (WAF) in protecting against forceful brow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1693800" y="1557360"/>
            <a:ext cx="1511280" cy="576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nded clien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96720" y="2349360"/>
            <a:ext cx="1511280" cy="57636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line we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40360" y="2133720"/>
            <a:ext cx="1944360" cy="1008000"/>
          </a:xfrm>
          <a:prstGeom prst="ellipse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2720" y="2637000"/>
            <a:ext cx="1942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229440" y="2637000"/>
            <a:ext cx="1079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5080" y="1916280"/>
            <a:ext cx="935280" cy="43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8094600" y="363600"/>
          <a:ext cx="189000" cy="19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94600" y="363600"/>
                    <a:ext cx="189000" cy="1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6300720" y="18900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300720" y="71928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645240" y="939960"/>
            <a:ext cx="376200" cy="1458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300720" y="1139760"/>
            <a:ext cx="376200" cy="147600"/>
          </a:xfrm>
          <a:prstGeom prst="rect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659640" y="407880"/>
            <a:ext cx="358560" cy="14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32760" y="352440"/>
            <a:ext cx="485640" cy="257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232760" y="1085760"/>
            <a:ext cx="485640" cy="255600"/>
          </a:xfrm>
          <a:prstGeom prst="ellipse">
            <a:avLst/>
          </a:prstGeom>
          <a:solidFill>
            <a:srgbClr val="3366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232760" y="682560"/>
            <a:ext cx="485640" cy="2574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711840" y="262080"/>
            <a:ext cx="520920" cy="1285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11840" y="792000"/>
            <a:ext cx="486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11840" y="1212840"/>
            <a:ext cx="48600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753320" y="482760"/>
            <a:ext cx="27000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753320" y="809640"/>
            <a:ext cx="270000" cy="144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53320" y="1212840"/>
            <a:ext cx="270000" cy="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856560" y="590400"/>
            <a:ext cx="376200" cy="14796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093080" y="1052640"/>
            <a:ext cx="139680" cy="8712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7093080" y="883800"/>
            <a:ext cx="139680" cy="9684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35840" y="482760"/>
            <a:ext cx="17928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8094600" y="682560"/>
          <a:ext cx="189000" cy="1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94600" y="682560"/>
                    <a:ext cx="189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8094600" y="1103400"/>
          <a:ext cx="189000" cy="1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94600" y="1103400"/>
                    <a:ext cx="1890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7984-055E-4FFE-8813-5487DDBF0B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triNet Research group (K.U.Leu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ftware engineering group with focus on distributed softwar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rge taskforce on software security (+- 25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dentity management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at the languag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at the application and middleware lev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e software engineering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y to find a balance betwe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asic and applied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actical hands-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C7A7-B18F-48AA-9820-680BE9064B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91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b Application Firewal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 web applications a.o. against forceful browsing (cf. WAF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implementation-agno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ormal guarantee that they protect against exploits targeting implementation b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762120" y="860400"/>
          <a:ext cx="6629400" cy="24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60400"/>
                    <a:ext cx="66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1719720" y="6508800"/>
            <a:ext cx="57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Background – Problem statement –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olution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 – Evaluation - 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8813880" y="363600"/>
          <a:ext cx="189000" cy="19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13880" y="363600"/>
                    <a:ext cx="189000" cy="1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"/>
          <p:cNvSpPr/>
          <p:nvPr/>
        </p:nvSpPr>
        <p:spPr>
          <a:xfrm>
            <a:off x="7020000" y="18900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020000" y="719280"/>
            <a:ext cx="376200" cy="14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364520" y="939960"/>
            <a:ext cx="376200" cy="145800"/>
          </a:xfrm>
          <a:prstGeom prst="rect">
            <a:avLst/>
          </a:prstGeom>
          <a:solidFill>
            <a:srgbClr val="0099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020000" y="1139760"/>
            <a:ext cx="376200" cy="147600"/>
          </a:xfrm>
          <a:prstGeom prst="rect">
            <a:avLst/>
          </a:prstGeom>
          <a:solidFill>
            <a:srgbClr val="0099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378560" y="407880"/>
            <a:ext cx="358920" cy="14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51680" y="352440"/>
            <a:ext cx="486000" cy="2570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951680" y="1085760"/>
            <a:ext cx="486000" cy="255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51680" y="682560"/>
            <a:ext cx="486000" cy="2574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431120" y="262080"/>
            <a:ext cx="520560" cy="12852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431120" y="792000"/>
            <a:ext cx="48564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431120" y="1212840"/>
            <a:ext cx="48564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472600" y="482760"/>
            <a:ext cx="26964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472600" y="809640"/>
            <a:ext cx="269640" cy="144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472600" y="1212840"/>
            <a:ext cx="26964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575480" y="590400"/>
            <a:ext cx="376200" cy="14796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812000" y="1052640"/>
            <a:ext cx="139680" cy="871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812000" y="883800"/>
            <a:ext cx="139680" cy="9684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754760" y="482760"/>
            <a:ext cx="179640" cy="0"/>
          </a:xfrm>
          <a:prstGeom prst="line">
            <a:avLst/>
          </a:prstGeom>
          <a:ln w="190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8813880" y="682560"/>
          <a:ext cx="189000" cy="1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13880" y="682560"/>
                    <a:ext cx="189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8813880" y="1103400"/>
          <a:ext cx="189000" cy="19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13880" y="1103400"/>
                    <a:ext cx="1890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794B-48F0-40BD-8927-7693197336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type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p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ML as intermediate specification langu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r problem-specific contracts are automatically translated into J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C/Java2 as static verification t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-specific verification is automatically generated from the EBNF protocol specif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C/Java2 as static verification to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p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2EE filter as a proof-of-concept flow enforcement W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on the Duke’s BookStore application from the J2EE 1.4 tuto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153B-E16B-41B3-9866-2DB4850B158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riment resul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otation overhe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most 4 lines in our problem-specific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ication performa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verification took at most 4 minutes p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1A8A-D87B-4A50-A313-AA4E5F00A4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riment resul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-time overhe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quence of 1000 visi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average 6 requests per s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% of the users applied forceful brow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run-time overhead of 1.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ari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previous prototype without static verification, a run-time overhead of approximately 20% was meas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5F80-1036-4660-9858-5E17966811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are able to guarantee the desired composition properties in a given, reactive 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th minimal formal spec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ing existing reasoning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a reasonable amount of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posed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licable to real-lif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alable to larger applications (if the complexity of the individual components and the protocol remains equival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leverage WAFs to protect application-specific implementation bu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873C-41A0-4CC8-B0CE-FE7A3FA88FC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511200" y="3429000"/>
            <a:ext cx="2232000" cy="423720"/>
          </a:xfrm>
          <a:prstGeom prst="rect">
            <a:avLst/>
          </a:prstGeom>
          <a:solidFill>
            <a:srgbClr val="336699">
              <a:alpha val="5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Static verification of indirect data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c0c0"/>
                </a:solidFill>
                <a:latin typeface="Tahoma"/>
              </a:rPr>
              <a:t>Static and dynamic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A726-9BEE-4825-8B4C-38A0D430EC5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tribu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ib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 improved the reliability and security of web applications b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uaranteeing th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o broken data dependencies proper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pplying static verification in deterministic software compos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bining of static and dynamic verification in reactive software compos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id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alidation in both deterministic and reactive software compos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 annotation 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asonable verification time (static &amp; dynami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pplicable to real-life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FA63-0BCA-400A-A64F-68C09A763D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uture work: short ter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93620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pport concurrent server processing by adding a fine-grained concurrenc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mple model: introduce lock per user s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ore fine-grained: maximise parallelism based on disjunct interactions with the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rich the intended client/server protocol by incorporating input parameters and cook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mally verify the effectiveness of applied input validation checks, e.g. in WA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7D60-A886-4312-AD0E-4EE12110F44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uture work: longer ter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lorise research in a developer’s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ecification inference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tocol inference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ful feedback to the develo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gration into 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neralise the approach of problem-specific annotation and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lication to other composition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osability of different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are to alternative approaches, such as pluggable typ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7C88-2251-42DA-91A2-96557E35AC3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777777"/>
                </a:solidFill>
                <a:latin typeface="Tahoma"/>
              </a:rPr>
              <a:t>Formal absence of implementation bugs in web applications:</a:t>
            </a:r>
            <a:r>
              <a:rPr b="1" lang="en-IE" sz="2800" spc="-1" strike="noStrike">
                <a:solidFill>
                  <a:srgbClr val="777777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IE" sz="2500" spc="-1" strike="noStrike">
                <a:solidFill>
                  <a:srgbClr val="777777"/>
                </a:solidFill>
                <a:latin typeface="Tahoma"/>
              </a:rPr>
              <a:t>A case study on indirect data sharing</a:t>
            </a:r>
            <a:endParaRPr b="1" lang="en-US" sz="25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343400" y="3260520"/>
            <a:ext cx="37339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Lieven Desmet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DistriNet Research Group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ahoma"/>
              </a:rPr>
              <a:t>Katholieke Universiteit Leuven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Lieven.Desmet@cs.kuleuven.be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+32 16 32 79 53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1517760" y="4648320"/>
            <a:ext cx="158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BeLux 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May 10</a:t>
            </a:r>
            <a:r>
              <a:rPr b="0" lang="en-US" sz="1600" spc="-1" strike="noStrike" baseline="30000">
                <a:solidFill>
                  <a:srgbClr val="777777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,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ackground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earch on applying formal techniques in (web) application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urrency control &amp; deadlock pre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Access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ffer overflow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direct data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We try to improve software security by a.o. improving the reliability of the software system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A08E-E7EC-4F17-9994-443527CC08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mal verification in web applications resea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15184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tection against injection attacks and X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27972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un-time tain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79640" indent="-11448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ietraszek and Vanden Berghe (2005), Nguyen-Tuong et al. (2005), Halder et al. (2005), 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27972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79640" indent="-11448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Livshits and Lam (2005), Jovanovic et al. (2005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27972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bination of static information flow analysis and run-time guard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79640" indent="-11448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Huang et al. (200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rewall configuration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27972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istency between different firewalls and IDS configu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79640" indent="-11448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Uribe and Cheung (2004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-27972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ule consistency and re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79640" indent="-11448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Golnabi et al. (2006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851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25720" y="5943600"/>
            <a:ext cx="754308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esting overview: </a:t>
            </a:r>
            <a:r>
              <a:rPr b="0" i="1" lang="en-GB" sz="1800" spc="-1" strike="noStrike">
                <a:solidFill>
                  <a:srgbClr val="333399"/>
                </a:solidFill>
                <a:latin typeface="Times New Roman"/>
              </a:rPr>
              <a:t>http://suif.stanford.edu/~livshits/work/griffin/lit-topic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665E-52FF-4DA7-A63A-619B86687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ext of this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oftware sys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t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d of reusabl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architectural patterns to achieve loose coupl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-and-filter sty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-centered sty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A4BE-D809-4D07-B3FA-2337E4AD6A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ipe-and-filter sty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ftware is composed as a chain of components (filters), connected to each other by means of p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vocation chain (control flow) follows the pi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flow follows the invocation chain by passing parameters at each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ase the composition, uniform interfaces are often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548080"/>
            <a:ext cx="1143000" cy="38088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225520"/>
            <a:ext cx="1143000" cy="3812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548080"/>
            <a:ext cx="1143000" cy="38088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895480"/>
            <a:ext cx="1143000" cy="38124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2548080"/>
            <a:ext cx="1143000" cy="380880"/>
          </a:xfrm>
          <a:prstGeom prst="rect">
            <a:avLst/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624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776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8526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403360"/>
            <a:ext cx="606600" cy="220680"/>
          </a:xfrm>
          <a:custGeom>
            <a:avLst/>
            <a:gdLst/>
            <a:ahLst/>
            <a:rect l="l" t="t" r="r" b="b"/>
            <a:pathLst>
              <a:path w="382" h="139">
                <a:moveTo>
                  <a:pt x="0" y="139"/>
                </a:moveTo>
                <a:lnTo>
                  <a:pt x="192" y="134"/>
                </a:lnTo>
                <a:lnTo>
                  <a:pt x="192" y="0"/>
                </a:lnTo>
                <a:lnTo>
                  <a:pt x="38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743200" y="2851920"/>
            <a:ext cx="606600" cy="220680"/>
          </a:xfrm>
          <a:custGeom>
            <a:avLst/>
            <a:gdLst/>
            <a:ahLst/>
            <a:rect l="l" t="t" r="r" b="b"/>
            <a:pathLst>
              <a:path w="382" h="139">
                <a:moveTo>
                  <a:pt x="0" y="139"/>
                </a:moveTo>
                <a:lnTo>
                  <a:pt x="192" y="134"/>
                </a:lnTo>
                <a:lnTo>
                  <a:pt x="192" y="0"/>
                </a:lnTo>
                <a:lnTo>
                  <a:pt x="38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852640"/>
            <a:ext cx="606600" cy="220680"/>
          </a:xfrm>
          <a:custGeom>
            <a:avLst/>
            <a:gdLst/>
            <a:ahLst/>
            <a:rect l="l" t="t" r="r" b="b"/>
            <a:pathLst>
              <a:path w="382" h="139">
                <a:moveTo>
                  <a:pt x="0" y="139"/>
                </a:moveTo>
                <a:lnTo>
                  <a:pt x="192" y="134"/>
                </a:lnTo>
                <a:lnTo>
                  <a:pt x="192" y="0"/>
                </a:lnTo>
                <a:lnTo>
                  <a:pt x="38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495680" y="2394720"/>
            <a:ext cx="606600" cy="220680"/>
          </a:xfrm>
          <a:custGeom>
            <a:avLst/>
            <a:gdLst/>
            <a:ahLst/>
            <a:rect l="l" t="t" r="r" b="b"/>
            <a:pathLst>
              <a:path w="382" h="139">
                <a:moveTo>
                  <a:pt x="0" y="139"/>
                </a:moveTo>
                <a:lnTo>
                  <a:pt x="192" y="134"/>
                </a:lnTo>
                <a:lnTo>
                  <a:pt x="192" y="0"/>
                </a:lnTo>
                <a:lnTo>
                  <a:pt x="38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01000" y="2776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84240" y="2463840"/>
            <a:ext cx="360360" cy="2160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F8C7-03F1-430C-ACAA-4C4AA318FB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4.07407E-006 C 0.02256 0.01343 0.04513 0.02685 0.09166 0.02222 C 0.13819 0.01759 0.21475 -0.02731 0.27968 -0.02731 C 0.34461 -0.02731 0.4144 0.01389 0.48159 0.02222 C 0.54878 0.03056 0.63107 0.02569 0.68333 0.02338 C 0.73559 0.02106 0.77413 0.01111 0.79548 0.00856 E">
                                      <p:cBhvr>
                                        <p:cTn id="6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irect data sha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-centered sty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entral data 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onents can read and write data to the 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onents share data through the shared data reposi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411280" y="3994200"/>
            <a:ext cx="3744720" cy="2603520"/>
            <a:chOff x="2411280" y="3994200"/>
            <a:chExt cx="3744720" cy="2603520"/>
          </a:xfrm>
        </p:grpSpPr>
        <p:sp>
          <p:nvSpPr>
            <p:cNvPr id="144" name=""/>
            <p:cNvSpPr/>
            <p:nvPr/>
          </p:nvSpPr>
          <p:spPr>
            <a:xfrm>
              <a:off x="2541240" y="3994200"/>
              <a:ext cx="3476880" cy="2603520"/>
            </a:xfrm>
            <a:prstGeom prst="roundRect">
              <a:avLst>
                <a:gd name="adj" fmla="val 6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92080" y="4924440"/>
              <a:ext cx="1370160" cy="625680"/>
            </a:xfrm>
            <a:prstGeom prst="roundRect">
              <a:avLst>
                <a:gd name="adj" fmla="val 22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711240" y="4953240"/>
              <a:ext cx="1076040" cy="270000"/>
              <a:chOff x="3711240" y="4953240"/>
              <a:chExt cx="1076040" cy="270000"/>
            </a:xfrm>
          </p:grpSpPr>
          <p:sp>
            <p:nvSpPr>
              <p:cNvPr id="147" name=""/>
              <p:cNvSpPr/>
              <p:nvPr/>
            </p:nvSpPr>
            <p:spPr>
              <a:xfrm>
                <a:off x="3711240" y="4953240"/>
                <a:ext cx="952920" cy="268200"/>
              </a:xfrm>
              <a:prstGeom prst="roundRect">
                <a:avLst>
                  <a:gd name="adj" fmla="val 58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11240" y="4953240"/>
                <a:ext cx="1076040" cy="270000"/>
              </a:xfrm>
              <a:prstGeom prst="roundRect">
                <a:avLst>
                  <a:gd name="adj" fmla="val 58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1f1a17"/>
                    </a:solidFill>
                    <a:latin typeface="Arial Narrow"/>
                  </a:rPr>
                  <a:t>Shared dat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763800" y="5222880"/>
              <a:ext cx="868680" cy="270000"/>
              <a:chOff x="3763800" y="5222880"/>
              <a:chExt cx="868680" cy="270000"/>
            </a:xfrm>
          </p:grpSpPr>
          <p:sp>
            <p:nvSpPr>
              <p:cNvPr id="150" name=""/>
              <p:cNvSpPr/>
              <p:nvPr/>
            </p:nvSpPr>
            <p:spPr>
              <a:xfrm>
                <a:off x="3763800" y="5222880"/>
                <a:ext cx="793080" cy="269640"/>
              </a:xfrm>
              <a:prstGeom prst="roundRect">
                <a:avLst>
                  <a:gd name="adj" fmla="val 58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763800" y="5222880"/>
                <a:ext cx="868680" cy="270000"/>
              </a:xfrm>
              <a:prstGeom prst="roundRect">
                <a:avLst>
                  <a:gd name="adj" fmla="val 58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1f1a17"/>
                    </a:solidFill>
                    <a:latin typeface="Arial Narrow"/>
                  </a:rPr>
                  <a:t>repository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292200" y="4778640"/>
              <a:ext cx="103320" cy="102960"/>
            </a:xfrm>
            <a:custGeom>
              <a:avLst/>
              <a:gdLst/>
              <a:ahLst/>
              <a:rect l="l" t="t" r="r" b="b"/>
              <a:pathLst>
                <a:path w="313" h="287">
                  <a:moveTo>
                    <a:pt x="0" y="0"/>
                  </a:moveTo>
                  <a:lnTo>
                    <a:pt x="312" y="93"/>
                  </a:lnTo>
                  <a:lnTo>
                    <a:pt x="312" y="93"/>
                  </a:lnTo>
                  <a:lnTo>
                    <a:pt x="307" y="94"/>
                  </a:lnTo>
                  <a:lnTo>
                    <a:pt x="303" y="96"/>
                  </a:lnTo>
                  <a:lnTo>
                    <a:pt x="299" y="98"/>
                  </a:lnTo>
                  <a:lnTo>
                    <a:pt x="295" y="100"/>
                  </a:lnTo>
                  <a:lnTo>
                    <a:pt x="292" y="103"/>
                  </a:lnTo>
                  <a:lnTo>
                    <a:pt x="287" y="105"/>
                  </a:lnTo>
                  <a:lnTo>
                    <a:pt x="284" y="106"/>
                  </a:lnTo>
                  <a:lnTo>
                    <a:pt x="280" y="108"/>
                  </a:lnTo>
                  <a:lnTo>
                    <a:pt x="276" y="110"/>
                  </a:lnTo>
                  <a:lnTo>
                    <a:pt x="272" y="112"/>
                  </a:lnTo>
                  <a:lnTo>
                    <a:pt x="269" y="114"/>
                  </a:lnTo>
                  <a:lnTo>
                    <a:pt x="266" y="117"/>
                  </a:lnTo>
                  <a:lnTo>
                    <a:pt x="262" y="119"/>
                  </a:lnTo>
                  <a:lnTo>
                    <a:pt x="258" y="121"/>
                  </a:lnTo>
                  <a:lnTo>
                    <a:pt x="255" y="123"/>
                  </a:lnTo>
                  <a:lnTo>
                    <a:pt x="252" y="126"/>
                  </a:lnTo>
                  <a:lnTo>
                    <a:pt x="248" y="128"/>
                  </a:lnTo>
                  <a:lnTo>
                    <a:pt x="245" y="131"/>
                  </a:lnTo>
                  <a:lnTo>
                    <a:pt x="242" y="133"/>
                  </a:lnTo>
                  <a:lnTo>
                    <a:pt x="239" y="136"/>
                  </a:lnTo>
                  <a:lnTo>
                    <a:pt x="236" y="138"/>
                  </a:lnTo>
                  <a:lnTo>
                    <a:pt x="232" y="140"/>
                  </a:lnTo>
                  <a:lnTo>
                    <a:pt x="229" y="143"/>
                  </a:lnTo>
                  <a:lnTo>
                    <a:pt x="227" y="146"/>
                  </a:lnTo>
                  <a:lnTo>
                    <a:pt x="224" y="149"/>
                  </a:lnTo>
                  <a:lnTo>
                    <a:pt x="220" y="152"/>
                  </a:lnTo>
                  <a:lnTo>
                    <a:pt x="218" y="155"/>
                  </a:lnTo>
                  <a:lnTo>
                    <a:pt x="215" y="157"/>
                  </a:lnTo>
                  <a:lnTo>
                    <a:pt x="213" y="160"/>
                  </a:lnTo>
                  <a:lnTo>
                    <a:pt x="210" y="163"/>
                  </a:lnTo>
                  <a:lnTo>
                    <a:pt x="206" y="166"/>
                  </a:lnTo>
                  <a:lnTo>
                    <a:pt x="204" y="169"/>
                  </a:lnTo>
                  <a:lnTo>
                    <a:pt x="201" y="172"/>
                  </a:lnTo>
                  <a:lnTo>
                    <a:pt x="199" y="175"/>
                  </a:lnTo>
                  <a:lnTo>
                    <a:pt x="195" y="178"/>
                  </a:lnTo>
                  <a:lnTo>
                    <a:pt x="193" y="182"/>
                  </a:lnTo>
                  <a:lnTo>
                    <a:pt x="191" y="185"/>
                  </a:lnTo>
                  <a:lnTo>
                    <a:pt x="189" y="188"/>
                  </a:lnTo>
                  <a:lnTo>
                    <a:pt x="187" y="191"/>
                  </a:lnTo>
                  <a:lnTo>
                    <a:pt x="185" y="195"/>
                  </a:lnTo>
                  <a:lnTo>
                    <a:pt x="182" y="198"/>
                  </a:lnTo>
                  <a:lnTo>
                    <a:pt x="180" y="201"/>
                  </a:lnTo>
                  <a:lnTo>
                    <a:pt x="178" y="204"/>
                  </a:lnTo>
                  <a:lnTo>
                    <a:pt x="176" y="208"/>
                  </a:lnTo>
                  <a:lnTo>
                    <a:pt x="174" y="212"/>
                  </a:lnTo>
                  <a:lnTo>
                    <a:pt x="172" y="215"/>
                  </a:lnTo>
                  <a:lnTo>
                    <a:pt x="170" y="219"/>
                  </a:lnTo>
                  <a:lnTo>
                    <a:pt x="168" y="222"/>
                  </a:lnTo>
                  <a:lnTo>
                    <a:pt x="166" y="226"/>
                  </a:lnTo>
                  <a:lnTo>
                    <a:pt x="164" y="229"/>
                  </a:lnTo>
                  <a:lnTo>
                    <a:pt x="163" y="234"/>
                  </a:lnTo>
                  <a:lnTo>
                    <a:pt x="161" y="238"/>
                  </a:lnTo>
                  <a:lnTo>
                    <a:pt x="160" y="241"/>
                  </a:lnTo>
                  <a:lnTo>
                    <a:pt x="158" y="245"/>
                  </a:lnTo>
                  <a:lnTo>
                    <a:pt x="157" y="249"/>
                  </a:lnTo>
                  <a:lnTo>
                    <a:pt x="155" y="253"/>
                  </a:lnTo>
                  <a:lnTo>
                    <a:pt x="154" y="257"/>
                  </a:lnTo>
                  <a:lnTo>
                    <a:pt x="152" y="261"/>
                  </a:lnTo>
                  <a:lnTo>
                    <a:pt x="151" y="265"/>
                  </a:lnTo>
                  <a:lnTo>
                    <a:pt x="150" y="269"/>
                  </a:lnTo>
                  <a:lnTo>
                    <a:pt x="149" y="273"/>
                  </a:lnTo>
                  <a:lnTo>
                    <a:pt x="147" y="278"/>
                  </a:lnTo>
                  <a:lnTo>
                    <a:pt x="147" y="281"/>
                  </a:lnTo>
                  <a:lnTo>
                    <a:pt x="145" y="28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5680" y="4807080"/>
              <a:ext cx="212760" cy="20160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648" y="527"/>
                  </a:moveTo>
                  <a:lnTo>
                    <a:pt x="27" y="0"/>
                  </a:lnTo>
                  <a:lnTo>
                    <a:pt x="0" y="31"/>
                  </a:lnTo>
                  <a:lnTo>
                    <a:pt x="621" y="560"/>
                  </a:lnTo>
                  <a:lnTo>
                    <a:pt x="648" y="527"/>
                  </a:lnTo>
                  <a:lnTo>
                    <a:pt x="648" y="527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70040" y="4932360"/>
              <a:ext cx="100080" cy="10332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309" y="291"/>
                  </a:moveTo>
                  <a:lnTo>
                    <a:pt x="164" y="0"/>
                  </a:lnTo>
                  <a:lnTo>
                    <a:pt x="164" y="0"/>
                  </a:lnTo>
                  <a:lnTo>
                    <a:pt x="163" y="5"/>
                  </a:lnTo>
                  <a:lnTo>
                    <a:pt x="162" y="8"/>
                  </a:lnTo>
                  <a:lnTo>
                    <a:pt x="161" y="13"/>
                  </a:lnTo>
                  <a:lnTo>
                    <a:pt x="160" y="17"/>
                  </a:lnTo>
                  <a:lnTo>
                    <a:pt x="158" y="21"/>
                  </a:lnTo>
                  <a:lnTo>
                    <a:pt x="157" y="26"/>
                  </a:lnTo>
                  <a:lnTo>
                    <a:pt x="155" y="30"/>
                  </a:lnTo>
                  <a:lnTo>
                    <a:pt x="154" y="34"/>
                  </a:lnTo>
                  <a:lnTo>
                    <a:pt x="153" y="38"/>
                  </a:lnTo>
                  <a:lnTo>
                    <a:pt x="151" y="41"/>
                  </a:lnTo>
                  <a:lnTo>
                    <a:pt x="150" y="46"/>
                  </a:lnTo>
                  <a:lnTo>
                    <a:pt x="148" y="49"/>
                  </a:lnTo>
                  <a:lnTo>
                    <a:pt x="146" y="53"/>
                  </a:lnTo>
                  <a:lnTo>
                    <a:pt x="145" y="57"/>
                  </a:lnTo>
                  <a:lnTo>
                    <a:pt x="143" y="61"/>
                  </a:lnTo>
                  <a:lnTo>
                    <a:pt x="141" y="64"/>
                  </a:lnTo>
                  <a:lnTo>
                    <a:pt x="139" y="69"/>
                  </a:lnTo>
                  <a:lnTo>
                    <a:pt x="138" y="72"/>
                  </a:lnTo>
                  <a:lnTo>
                    <a:pt x="136" y="75"/>
                  </a:lnTo>
                  <a:lnTo>
                    <a:pt x="134" y="79"/>
                  </a:lnTo>
                  <a:lnTo>
                    <a:pt x="132" y="83"/>
                  </a:lnTo>
                  <a:lnTo>
                    <a:pt x="129" y="86"/>
                  </a:lnTo>
                  <a:lnTo>
                    <a:pt x="127" y="89"/>
                  </a:lnTo>
                  <a:lnTo>
                    <a:pt x="125" y="92"/>
                  </a:lnTo>
                  <a:lnTo>
                    <a:pt x="123" y="97"/>
                  </a:lnTo>
                  <a:lnTo>
                    <a:pt x="121" y="99"/>
                  </a:lnTo>
                  <a:lnTo>
                    <a:pt x="119" y="103"/>
                  </a:lnTo>
                  <a:lnTo>
                    <a:pt x="116" y="106"/>
                  </a:lnTo>
                  <a:lnTo>
                    <a:pt x="114" y="110"/>
                  </a:lnTo>
                  <a:lnTo>
                    <a:pt x="111" y="113"/>
                  </a:lnTo>
                  <a:lnTo>
                    <a:pt x="109" y="115"/>
                  </a:lnTo>
                  <a:lnTo>
                    <a:pt x="106" y="118"/>
                  </a:lnTo>
                  <a:lnTo>
                    <a:pt x="103" y="122"/>
                  </a:lnTo>
                  <a:lnTo>
                    <a:pt x="100" y="125"/>
                  </a:lnTo>
                  <a:lnTo>
                    <a:pt x="98" y="128"/>
                  </a:lnTo>
                  <a:lnTo>
                    <a:pt x="95" y="131"/>
                  </a:lnTo>
                  <a:lnTo>
                    <a:pt x="93" y="133"/>
                  </a:lnTo>
                  <a:lnTo>
                    <a:pt x="90" y="136"/>
                  </a:lnTo>
                  <a:lnTo>
                    <a:pt x="87" y="139"/>
                  </a:lnTo>
                  <a:lnTo>
                    <a:pt x="84" y="142"/>
                  </a:lnTo>
                  <a:lnTo>
                    <a:pt x="81" y="145"/>
                  </a:lnTo>
                  <a:lnTo>
                    <a:pt x="78" y="147"/>
                  </a:lnTo>
                  <a:lnTo>
                    <a:pt x="75" y="150"/>
                  </a:lnTo>
                  <a:lnTo>
                    <a:pt x="72" y="153"/>
                  </a:lnTo>
                  <a:lnTo>
                    <a:pt x="69" y="155"/>
                  </a:lnTo>
                  <a:lnTo>
                    <a:pt x="66" y="157"/>
                  </a:lnTo>
                  <a:lnTo>
                    <a:pt x="62" y="160"/>
                  </a:lnTo>
                  <a:lnTo>
                    <a:pt x="59" y="163"/>
                  </a:lnTo>
                  <a:lnTo>
                    <a:pt x="56" y="165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5" y="171"/>
                  </a:lnTo>
                  <a:lnTo>
                    <a:pt x="42" y="174"/>
                  </a:lnTo>
                  <a:lnTo>
                    <a:pt x="39" y="176"/>
                  </a:lnTo>
                  <a:lnTo>
                    <a:pt x="34" y="178"/>
                  </a:lnTo>
                  <a:lnTo>
                    <a:pt x="31" y="180"/>
                  </a:lnTo>
                  <a:lnTo>
                    <a:pt x="27" y="183"/>
                  </a:lnTo>
                  <a:lnTo>
                    <a:pt x="23" y="185"/>
                  </a:lnTo>
                  <a:lnTo>
                    <a:pt x="19" y="187"/>
                  </a:lnTo>
                  <a:lnTo>
                    <a:pt x="16" y="188"/>
                  </a:lnTo>
                  <a:lnTo>
                    <a:pt x="12" y="190"/>
                  </a:lnTo>
                  <a:lnTo>
                    <a:pt x="8" y="192"/>
                  </a:lnTo>
                  <a:lnTo>
                    <a:pt x="4" y="194"/>
                  </a:lnTo>
                  <a:lnTo>
                    <a:pt x="0" y="195"/>
                  </a:lnTo>
                  <a:lnTo>
                    <a:pt x="309" y="291"/>
                  </a:lnTo>
                  <a:lnTo>
                    <a:pt x="309" y="291"/>
                  </a:lnTo>
                  <a:lnTo>
                    <a:pt x="309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62400" y="4768920"/>
              <a:ext cx="100080" cy="10476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308" y="0"/>
                  </a:moveTo>
                  <a:lnTo>
                    <a:pt x="164" y="291"/>
                  </a:lnTo>
                  <a:lnTo>
                    <a:pt x="164" y="291"/>
                  </a:lnTo>
                  <a:lnTo>
                    <a:pt x="163" y="286"/>
                  </a:lnTo>
                  <a:lnTo>
                    <a:pt x="161" y="283"/>
                  </a:lnTo>
                  <a:lnTo>
                    <a:pt x="161" y="279"/>
                  </a:lnTo>
                  <a:lnTo>
                    <a:pt x="160" y="274"/>
                  </a:lnTo>
                  <a:lnTo>
                    <a:pt x="158" y="270"/>
                  </a:lnTo>
                  <a:lnTo>
                    <a:pt x="157" y="266"/>
                  </a:lnTo>
                  <a:lnTo>
                    <a:pt x="155" y="262"/>
                  </a:lnTo>
                  <a:lnTo>
                    <a:pt x="154" y="258"/>
                  </a:lnTo>
                  <a:lnTo>
                    <a:pt x="153" y="254"/>
                  </a:lnTo>
                  <a:lnTo>
                    <a:pt x="151" y="250"/>
                  </a:lnTo>
                  <a:lnTo>
                    <a:pt x="149" y="246"/>
                  </a:lnTo>
                  <a:lnTo>
                    <a:pt x="147" y="242"/>
                  </a:lnTo>
                  <a:lnTo>
                    <a:pt x="146" y="238"/>
                  </a:lnTo>
                  <a:lnTo>
                    <a:pt x="144" y="234"/>
                  </a:lnTo>
                  <a:lnTo>
                    <a:pt x="142" y="230"/>
                  </a:lnTo>
                  <a:lnTo>
                    <a:pt x="141" y="227"/>
                  </a:lnTo>
                  <a:lnTo>
                    <a:pt x="139" y="223"/>
                  </a:lnTo>
                  <a:lnTo>
                    <a:pt x="137" y="219"/>
                  </a:lnTo>
                  <a:lnTo>
                    <a:pt x="135" y="216"/>
                  </a:lnTo>
                  <a:lnTo>
                    <a:pt x="134" y="213"/>
                  </a:lnTo>
                  <a:lnTo>
                    <a:pt x="131" y="208"/>
                  </a:lnTo>
                  <a:lnTo>
                    <a:pt x="128" y="205"/>
                  </a:lnTo>
                  <a:lnTo>
                    <a:pt x="127" y="202"/>
                  </a:lnTo>
                  <a:lnTo>
                    <a:pt x="125" y="199"/>
                  </a:lnTo>
                  <a:lnTo>
                    <a:pt x="123" y="195"/>
                  </a:lnTo>
                  <a:lnTo>
                    <a:pt x="120" y="192"/>
                  </a:lnTo>
                  <a:lnTo>
                    <a:pt x="118" y="188"/>
                  </a:lnTo>
                  <a:lnTo>
                    <a:pt x="115" y="185"/>
                  </a:lnTo>
                  <a:lnTo>
                    <a:pt x="113" y="181"/>
                  </a:lnTo>
                  <a:lnTo>
                    <a:pt x="111" y="179"/>
                  </a:lnTo>
                  <a:lnTo>
                    <a:pt x="108" y="176"/>
                  </a:lnTo>
                  <a:lnTo>
                    <a:pt x="106" y="173"/>
                  </a:lnTo>
                  <a:lnTo>
                    <a:pt x="102" y="169"/>
                  </a:lnTo>
                  <a:lnTo>
                    <a:pt x="100" y="166"/>
                  </a:lnTo>
                  <a:lnTo>
                    <a:pt x="97" y="164"/>
                  </a:lnTo>
                  <a:lnTo>
                    <a:pt x="95" y="160"/>
                  </a:lnTo>
                  <a:lnTo>
                    <a:pt x="92" y="158"/>
                  </a:lnTo>
                  <a:lnTo>
                    <a:pt x="89" y="155"/>
                  </a:lnTo>
                  <a:lnTo>
                    <a:pt x="86" y="152"/>
                  </a:lnTo>
                  <a:lnTo>
                    <a:pt x="83" y="150"/>
                  </a:lnTo>
                  <a:lnTo>
                    <a:pt x="80" y="147"/>
                  </a:lnTo>
                  <a:lnTo>
                    <a:pt x="78" y="145"/>
                  </a:lnTo>
                  <a:lnTo>
                    <a:pt x="74" y="141"/>
                  </a:lnTo>
                  <a:lnTo>
                    <a:pt x="71" y="139"/>
                  </a:lnTo>
                  <a:lnTo>
                    <a:pt x="68" y="136"/>
                  </a:lnTo>
                  <a:lnTo>
                    <a:pt x="65" y="134"/>
                  </a:lnTo>
                  <a:lnTo>
                    <a:pt x="61" y="131"/>
                  </a:lnTo>
                  <a:lnTo>
                    <a:pt x="58" y="129"/>
                  </a:lnTo>
                  <a:lnTo>
                    <a:pt x="55" y="126"/>
                  </a:lnTo>
                  <a:lnTo>
                    <a:pt x="52" y="124"/>
                  </a:lnTo>
                  <a:lnTo>
                    <a:pt x="47" y="122"/>
                  </a:lnTo>
                  <a:lnTo>
                    <a:pt x="44" y="120"/>
                  </a:lnTo>
                  <a:lnTo>
                    <a:pt x="41" y="117"/>
                  </a:lnTo>
                  <a:lnTo>
                    <a:pt x="37" y="115"/>
                  </a:lnTo>
                  <a:lnTo>
                    <a:pt x="33" y="113"/>
                  </a:lnTo>
                  <a:lnTo>
                    <a:pt x="30" y="111"/>
                  </a:lnTo>
                  <a:lnTo>
                    <a:pt x="26" y="109"/>
                  </a:lnTo>
                  <a:lnTo>
                    <a:pt x="22" y="107"/>
                  </a:lnTo>
                  <a:lnTo>
                    <a:pt x="18" y="105"/>
                  </a:lnTo>
                  <a:lnTo>
                    <a:pt x="14" y="103"/>
                  </a:lnTo>
                  <a:lnTo>
                    <a:pt x="11" y="101"/>
                  </a:lnTo>
                  <a:lnTo>
                    <a:pt x="6" y="99"/>
                  </a:lnTo>
                  <a:lnTo>
                    <a:pt x="2" y="97"/>
                  </a:lnTo>
                  <a:lnTo>
                    <a:pt x="0" y="96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6240" y="4797720"/>
              <a:ext cx="212760" cy="20160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27" y="560"/>
                  </a:moveTo>
                  <a:lnTo>
                    <a:pt x="648" y="30"/>
                  </a:lnTo>
                  <a:lnTo>
                    <a:pt x="621" y="0"/>
                  </a:lnTo>
                  <a:lnTo>
                    <a:pt x="0" y="527"/>
                  </a:lnTo>
                  <a:lnTo>
                    <a:pt x="27" y="560"/>
                  </a:lnTo>
                  <a:lnTo>
                    <a:pt x="27" y="56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1320" y="4924440"/>
              <a:ext cx="103320" cy="10476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291"/>
                  </a:moveTo>
                  <a:lnTo>
                    <a:pt x="309" y="195"/>
                  </a:lnTo>
                  <a:lnTo>
                    <a:pt x="309" y="195"/>
                  </a:lnTo>
                  <a:lnTo>
                    <a:pt x="306" y="193"/>
                  </a:lnTo>
                  <a:lnTo>
                    <a:pt x="302" y="191"/>
                  </a:lnTo>
                  <a:lnTo>
                    <a:pt x="297" y="190"/>
                  </a:lnTo>
                  <a:lnTo>
                    <a:pt x="294" y="188"/>
                  </a:lnTo>
                  <a:lnTo>
                    <a:pt x="290" y="186"/>
                  </a:lnTo>
                  <a:lnTo>
                    <a:pt x="285" y="184"/>
                  </a:lnTo>
                  <a:lnTo>
                    <a:pt x="282" y="182"/>
                  </a:lnTo>
                  <a:lnTo>
                    <a:pt x="278" y="180"/>
                  </a:lnTo>
                  <a:lnTo>
                    <a:pt x="275" y="178"/>
                  </a:lnTo>
                  <a:lnTo>
                    <a:pt x="271" y="176"/>
                  </a:lnTo>
                  <a:lnTo>
                    <a:pt x="268" y="173"/>
                  </a:lnTo>
                  <a:lnTo>
                    <a:pt x="264" y="171"/>
                  </a:lnTo>
                  <a:lnTo>
                    <a:pt x="260" y="169"/>
                  </a:lnTo>
                  <a:lnTo>
                    <a:pt x="257" y="167"/>
                  </a:lnTo>
                  <a:lnTo>
                    <a:pt x="254" y="164"/>
                  </a:lnTo>
                  <a:lnTo>
                    <a:pt x="251" y="162"/>
                  </a:lnTo>
                  <a:lnTo>
                    <a:pt x="247" y="159"/>
                  </a:lnTo>
                  <a:lnTo>
                    <a:pt x="244" y="157"/>
                  </a:lnTo>
                  <a:lnTo>
                    <a:pt x="240" y="155"/>
                  </a:lnTo>
                  <a:lnTo>
                    <a:pt x="237" y="152"/>
                  </a:lnTo>
                  <a:lnTo>
                    <a:pt x="233" y="150"/>
                  </a:lnTo>
                  <a:lnTo>
                    <a:pt x="231" y="147"/>
                  </a:lnTo>
                  <a:lnTo>
                    <a:pt x="228" y="143"/>
                  </a:lnTo>
                  <a:lnTo>
                    <a:pt x="225" y="141"/>
                  </a:lnTo>
                  <a:lnTo>
                    <a:pt x="222" y="138"/>
                  </a:lnTo>
                  <a:lnTo>
                    <a:pt x="219" y="136"/>
                  </a:lnTo>
                  <a:lnTo>
                    <a:pt x="216" y="132"/>
                  </a:lnTo>
                  <a:lnTo>
                    <a:pt x="213" y="129"/>
                  </a:lnTo>
                  <a:lnTo>
                    <a:pt x="211" y="127"/>
                  </a:lnTo>
                  <a:lnTo>
                    <a:pt x="207" y="124"/>
                  </a:lnTo>
                  <a:lnTo>
                    <a:pt x="205" y="121"/>
                  </a:lnTo>
                  <a:lnTo>
                    <a:pt x="202" y="117"/>
                  </a:lnTo>
                  <a:lnTo>
                    <a:pt x="200" y="115"/>
                  </a:lnTo>
                  <a:lnTo>
                    <a:pt x="198" y="112"/>
                  </a:lnTo>
                  <a:lnTo>
                    <a:pt x="195" y="109"/>
                  </a:lnTo>
                  <a:lnTo>
                    <a:pt x="192" y="105"/>
                  </a:lnTo>
                  <a:lnTo>
                    <a:pt x="190" y="102"/>
                  </a:lnTo>
                  <a:lnTo>
                    <a:pt x="188" y="99"/>
                  </a:lnTo>
                  <a:lnTo>
                    <a:pt x="186" y="96"/>
                  </a:lnTo>
                  <a:lnTo>
                    <a:pt x="184" y="92"/>
                  </a:lnTo>
                  <a:lnTo>
                    <a:pt x="181" y="89"/>
                  </a:lnTo>
                  <a:lnTo>
                    <a:pt x="179" y="85"/>
                  </a:lnTo>
                  <a:lnTo>
                    <a:pt x="177" y="82"/>
                  </a:lnTo>
                  <a:lnTo>
                    <a:pt x="175" y="78"/>
                  </a:lnTo>
                  <a:lnTo>
                    <a:pt x="173" y="75"/>
                  </a:lnTo>
                  <a:lnTo>
                    <a:pt x="171" y="71"/>
                  </a:lnTo>
                  <a:lnTo>
                    <a:pt x="169" y="67"/>
                  </a:lnTo>
                  <a:lnTo>
                    <a:pt x="167" y="63"/>
                  </a:lnTo>
                  <a:lnTo>
                    <a:pt x="166" y="60"/>
                  </a:lnTo>
                  <a:lnTo>
                    <a:pt x="164" y="56"/>
                  </a:lnTo>
                  <a:lnTo>
                    <a:pt x="162" y="52"/>
                  </a:lnTo>
                  <a:lnTo>
                    <a:pt x="161" y="48"/>
                  </a:lnTo>
                  <a:lnTo>
                    <a:pt x="159" y="45"/>
                  </a:lnTo>
                  <a:lnTo>
                    <a:pt x="157" y="41"/>
                  </a:lnTo>
                  <a:lnTo>
                    <a:pt x="156" y="37"/>
                  </a:lnTo>
                  <a:lnTo>
                    <a:pt x="154" y="33"/>
                  </a:lnTo>
                  <a:lnTo>
                    <a:pt x="153" y="29"/>
                  </a:lnTo>
                  <a:lnTo>
                    <a:pt x="151" y="25"/>
                  </a:lnTo>
                  <a:lnTo>
                    <a:pt x="150" y="20"/>
                  </a:lnTo>
                  <a:lnTo>
                    <a:pt x="149" y="16"/>
                  </a:lnTo>
                  <a:lnTo>
                    <a:pt x="148" y="12"/>
                  </a:lnTo>
                  <a:lnTo>
                    <a:pt x="147" y="8"/>
                  </a:lnTo>
                  <a:lnTo>
                    <a:pt x="145" y="4"/>
                  </a:lnTo>
                  <a:lnTo>
                    <a:pt x="145" y="0"/>
                  </a:lnTo>
                  <a:lnTo>
                    <a:pt x="0" y="291"/>
                  </a:lnTo>
                  <a:lnTo>
                    <a:pt x="0" y="291"/>
                  </a:lnTo>
                  <a:lnTo>
                    <a:pt x="0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92200" y="5580360"/>
              <a:ext cx="103320" cy="101520"/>
            </a:xfrm>
            <a:custGeom>
              <a:avLst/>
              <a:gdLst/>
              <a:ahLst/>
              <a:rect l="l" t="t" r="r" b="b"/>
              <a:pathLst>
                <a:path w="313" h="288">
                  <a:moveTo>
                    <a:pt x="0" y="287"/>
                  </a:moveTo>
                  <a:lnTo>
                    <a:pt x="145" y="0"/>
                  </a:lnTo>
                  <a:lnTo>
                    <a:pt x="145" y="0"/>
                  </a:lnTo>
                  <a:lnTo>
                    <a:pt x="147" y="4"/>
                  </a:lnTo>
                  <a:lnTo>
                    <a:pt x="147" y="8"/>
                  </a:lnTo>
                  <a:lnTo>
                    <a:pt x="149" y="13"/>
                  </a:lnTo>
                  <a:lnTo>
                    <a:pt x="150" y="16"/>
                  </a:lnTo>
                  <a:lnTo>
                    <a:pt x="151" y="20"/>
                  </a:lnTo>
                  <a:lnTo>
                    <a:pt x="152" y="25"/>
                  </a:lnTo>
                  <a:lnTo>
                    <a:pt x="154" y="29"/>
                  </a:lnTo>
                  <a:lnTo>
                    <a:pt x="155" y="33"/>
                  </a:lnTo>
                  <a:lnTo>
                    <a:pt x="157" y="37"/>
                  </a:lnTo>
                  <a:lnTo>
                    <a:pt x="158" y="41"/>
                  </a:lnTo>
                  <a:lnTo>
                    <a:pt x="160" y="44"/>
                  </a:lnTo>
                  <a:lnTo>
                    <a:pt x="161" y="48"/>
                  </a:lnTo>
                  <a:lnTo>
                    <a:pt x="163" y="52"/>
                  </a:lnTo>
                  <a:lnTo>
                    <a:pt x="164" y="56"/>
                  </a:lnTo>
                  <a:lnTo>
                    <a:pt x="166" y="59"/>
                  </a:lnTo>
                  <a:lnTo>
                    <a:pt x="168" y="63"/>
                  </a:lnTo>
                  <a:lnTo>
                    <a:pt x="170" y="67"/>
                  </a:lnTo>
                  <a:lnTo>
                    <a:pt x="172" y="70"/>
                  </a:lnTo>
                  <a:lnTo>
                    <a:pt x="174" y="74"/>
                  </a:lnTo>
                  <a:lnTo>
                    <a:pt x="176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2" y="87"/>
                  </a:lnTo>
                  <a:lnTo>
                    <a:pt x="185" y="91"/>
                  </a:lnTo>
                  <a:lnTo>
                    <a:pt x="187" y="94"/>
                  </a:lnTo>
                  <a:lnTo>
                    <a:pt x="189" y="97"/>
                  </a:lnTo>
                  <a:lnTo>
                    <a:pt x="191" y="101"/>
                  </a:lnTo>
                  <a:lnTo>
                    <a:pt x="193" y="104"/>
                  </a:lnTo>
                  <a:lnTo>
                    <a:pt x="195" y="107"/>
                  </a:lnTo>
                  <a:lnTo>
                    <a:pt x="199" y="111"/>
                  </a:lnTo>
                  <a:lnTo>
                    <a:pt x="201" y="113"/>
                  </a:lnTo>
                  <a:lnTo>
                    <a:pt x="204" y="117"/>
                  </a:lnTo>
                  <a:lnTo>
                    <a:pt x="206" y="119"/>
                  </a:lnTo>
                  <a:lnTo>
                    <a:pt x="210" y="122"/>
                  </a:lnTo>
                  <a:lnTo>
                    <a:pt x="213" y="125"/>
                  </a:lnTo>
                  <a:lnTo>
                    <a:pt x="215" y="128"/>
                  </a:lnTo>
                  <a:lnTo>
                    <a:pt x="218" y="131"/>
                  </a:lnTo>
                  <a:lnTo>
                    <a:pt x="220" y="134"/>
                  </a:lnTo>
                  <a:lnTo>
                    <a:pt x="224" y="137"/>
                  </a:lnTo>
                  <a:lnTo>
                    <a:pt x="227" y="139"/>
                  </a:lnTo>
                  <a:lnTo>
                    <a:pt x="229" y="143"/>
                  </a:lnTo>
                  <a:lnTo>
                    <a:pt x="232" y="145"/>
                  </a:lnTo>
                  <a:lnTo>
                    <a:pt x="236" y="148"/>
                  </a:lnTo>
                  <a:lnTo>
                    <a:pt x="239" y="150"/>
                  </a:lnTo>
                  <a:lnTo>
                    <a:pt x="242" y="152"/>
                  </a:lnTo>
                  <a:lnTo>
                    <a:pt x="245" y="154"/>
                  </a:lnTo>
                  <a:lnTo>
                    <a:pt x="248" y="158"/>
                  </a:lnTo>
                  <a:lnTo>
                    <a:pt x="252" y="159"/>
                  </a:lnTo>
                  <a:lnTo>
                    <a:pt x="255" y="162"/>
                  </a:lnTo>
                  <a:lnTo>
                    <a:pt x="258" y="165"/>
                  </a:lnTo>
                  <a:lnTo>
                    <a:pt x="262" y="166"/>
                  </a:lnTo>
                  <a:lnTo>
                    <a:pt x="266" y="169"/>
                  </a:lnTo>
                  <a:lnTo>
                    <a:pt x="269" y="171"/>
                  </a:lnTo>
                  <a:lnTo>
                    <a:pt x="272" y="173"/>
                  </a:lnTo>
                  <a:lnTo>
                    <a:pt x="276" y="175"/>
                  </a:lnTo>
                  <a:lnTo>
                    <a:pt x="280" y="177"/>
                  </a:lnTo>
                  <a:lnTo>
                    <a:pt x="284" y="179"/>
                  </a:lnTo>
                  <a:lnTo>
                    <a:pt x="287" y="181"/>
                  </a:lnTo>
                  <a:lnTo>
                    <a:pt x="292" y="183"/>
                  </a:lnTo>
                  <a:lnTo>
                    <a:pt x="295" y="185"/>
                  </a:lnTo>
                  <a:lnTo>
                    <a:pt x="299" y="187"/>
                  </a:lnTo>
                  <a:lnTo>
                    <a:pt x="303" y="189"/>
                  </a:lnTo>
                  <a:lnTo>
                    <a:pt x="307" y="191"/>
                  </a:lnTo>
                  <a:lnTo>
                    <a:pt x="312" y="192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5680" y="5454720"/>
              <a:ext cx="212760" cy="20016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621" y="0"/>
                  </a:moveTo>
                  <a:lnTo>
                    <a:pt x="0" y="528"/>
                  </a:lnTo>
                  <a:lnTo>
                    <a:pt x="27" y="560"/>
                  </a:lnTo>
                  <a:lnTo>
                    <a:pt x="648" y="32"/>
                  </a:lnTo>
                  <a:lnTo>
                    <a:pt x="621" y="0"/>
                  </a:lnTo>
                  <a:lnTo>
                    <a:pt x="621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70040" y="5424480"/>
              <a:ext cx="100080" cy="10476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309" y="0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4" y="97"/>
                  </a:lnTo>
                  <a:lnTo>
                    <a:pt x="8" y="99"/>
                  </a:lnTo>
                  <a:lnTo>
                    <a:pt x="12" y="101"/>
                  </a:lnTo>
                  <a:lnTo>
                    <a:pt x="16" y="103"/>
                  </a:lnTo>
                  <a:lnTo>
                    <a:pt x="19" y="105"/>
                  </a:lnTo>
                  <a:lnTo>
                    <a:pt x="23" y="106"/>
                  </a:lnTo>
                  <a:lnTo>
                    <a:pt x="27" y="109"/>
                  </a:lnTo>
                  <a:lnTo>
                    <a:pt x="31" y="111"/>
                  </a:lnTo>
                  <a:lnTo>
                    <a:pt x="34" y="113"/>
                  </a:lnTo>
                  <a:lnTo>
                    <a:pt x="39" y="115"/>
                  </a:lnTo>
                  <a:lnTo>
                    <a:pt x="42" y="117"/>
                  </a:lnTo>
                  <a:lnTo>
                    <a:pt x="45" y="120"/>
                  </a:lnTo>
                  <a:lnTo>
                    <a:pt x="49" y="122"/>
                  </a:lnTo>
                  <a:lnTo>
                    <a:pt x="52" y="124"/>
                  </a:lnTo>
                  <a:lnTo>
                    <a:pt x="56" y="126"/>
                  </a:lnTo>
                  <a:lnTo>
                    <a:pt x="59" y="129"/>
                  </a:lnTo>
                  <a:lnTo>
                    <a:pt x="62" y="131"/>
                  </a:lnTo>
                  <a:lnTo>
                    <a:pt x="66" y="134"/>
                  </a:lnTo>
                  <a:lnTo>
                    <a:pt x="69" y="136"/>
                  </a:lnTo>
                  <a:lnTo>
                    <a:pt x="72" y="138"/>
                  </a:lnTo>
                  <a:lnTo>
                    <a:pt x="75" y="141"/>
                  </a:lnTo>
                  <a:lnTo>
                    <a:pt x="78" y="144"/>
                  </a:lnTo>
                  <a:lnTo>
                    <a:pt x="81" y="146"/>
                  </a:lnTo>
                  <a:lnTo>
                    <a:pt x="84" y="149"/>
                  </a:lnTo>
                  <a:lnTo>
                    <a:pt x="87" y="152"/>
                  </a:lnTo>
                  <a:lnTo>
                    <a:pt x="90" y="155"/>
                  </a:lnTo>
                  <a:lnTo>
                    <a:pt x="93" y="158"/>
                  </a:lnTo>
                  <a:lnTo>
                    <a:pt x="95" y="160"/>
                  </a:lnTo>
                  <a:lnTo>
                    <a:pt x="98" y="164"/>
                  </a:lnTo>
                  <a:lnTo>
                    <a:pt x="100" y="167"/>
                  </a:lnTo>
                  <a:lnTo>
                    <a:pt x="103" y="169"/>
                  </a:lnTo>
                  <a:lnTo>
                    <a:pt x="106" y="173"/>
                  </a:lnTo>
                  <a:lnTo>
                    <a:pt x="109" y="176"/>
                  </a:lnTo>
                  <a:lnTo>
                    <a:pt x="111" y="178"/>
                  </a:lnTo>
                  <a:lnTo>
                    <a:pt x="114" y="182"/>
                  </a:lnTo>
                  <a:lnTo>
                    <a:pt x="116" y="185"/>
                  </a:lnTo>
                  <a:lnTo>
                    <a:pt x="119" y="188"/>
                  </a:lnTo>
                  <a:lnTo>
                    <a:pt x="121" y="192"/>
                  </a:lnTo>
                  <a:lnTo>
                    <a:pt x="123" y="195"/>
                  </a:lnTo>
                  <a:lnTo>
                    <a:pt x="125" y="199"/>
                  </a:lnTo>
                  <a:lnTo>
                    <a:pt x="127" y="202"/>
                  </a:lnTo>
                  <a:lnTo>
                    <a:pt x="129" y="205"/>
                  </a:lnTo>
                  <a:lnTo>
                    <a:pt x="132" y="209"/>
                  </a:lnTo>
                  <a:lnTo>
                    <a:pt x="134" y="212"/>
                  </a:lnTo>
                  <a:lnTo>
                    <a:pt x="136" y="216"/>
                  </a:lnTo>
                  <a:lnTo>
                    <a:pt x="138" y="219"/>
                  </a:lnTo>
                  <a:lnTo>
                    <a:pt x="139" y="223"/>
                  </a:lnTo>
                  <a:lnTo>
                    <a:pt x="141" y="227"/>
                  </a:lnTo>
                  <a:lnTo>
                    <a:pt x="143" y="230"/>
                  </a:lnTo>
                  <a:lnTo>
                    <a:pt x="145" y="234"/>
                  </a:lnTo>
                  <a:lnTo>
                    <a:pt x="146" y="238"/>
                  </a:lnTo>
                  <a:lnTo>
                    <a:pt x="148" y="242"/>
                  </a:lnTo>
                  <a:lnTo>
                    <a:pt x="150" y="246"/>
                  </a:lnTo>
                  <a:lnTo>
                    <a:pt x="151" y="250"/>
                  </a:lnTo>
                  <a:lnTo>
                    <a:pt x="153" y="253"/>
                  </a:lnTo>
                  <a:lnTo>
                    <a:pt x="154" y="257"/>
                  </a:lnTo>
                  <a:lnTo>
                    <a:pt x="155" y="262"/>
                  </a:lnTo>
                  <a:lnTo>
                    <a:pt x="157" y="266"/>
                  </a:lnTo>
                  <a:lnTo>
                    <a:pt x="158" y="270"/>
                  </a:lnTo>
                  <a:lnTo>
                    <a:pt x="160" y="274"/>
                  </a:lnTo>
                  <a:lnTo>
                    <a:pt x="161" y="278"/>
                  </a:lnTo>
                  <a:lnTo>
                    <a:pt x="162" y="283"/>
                  </a:lnTo>
                  <a:lnTo>
                    <a:pt x="163" y="287"/>
                  </a:lnTo>
                  <a:lnTo>
                    <a:pt x="164" y="291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0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2400" y="5589720"/>
              <a:ext cx="100080" cy="101520"/>
            </a:xfrm>
            <a:custGeom>
              <a:avLst/>
              <a:gdLst/>
              <a:ahLst/>
              <a:rect l="l" t="t" r="r" b="b"/>
              <a:pathLst>
                <a:path w="309" h="287">
                  <a:moveTo>
                    <a:pt x="308" y="286"/>
                  </a:moveTo>
                  <a:lnTo>
                    <a:pt x="0" y="191"/>
                  </a:lnTo>
                  <a:lnTo>
                    <a:pt x="0" y="191"/>
                  </a:lnTo>
                  <a:lnTo>
                    <a:pt x="2" y="190"/>
                  </a:lnTo>
                  <a:lnTo>
                    <a:pt x="6" y="188"/>
                  </a:lnTo>
                  <a:lnTo>
                    <a:pt x="11" y="186"/>
                  </a:lnTo>
                  <a:lnTo>
                    <a:pt x="14" y="185"/>
                  </a:lnTo>
                  <a:lnTo>
                    <a:pt x="18" y="183"/>
                  </a:lnTo>
                  <a:lnTo>
                    <a:pt x="22" y="180"/>
                  </a:lnTo>
                  <a:lnTo>
                    <a:pt x="26" y="178"/>
                  </a:lnTo>
                  <a:lnTo>
                    <a:pt x="30" y="176"/>
                  </a:lnTo>
                  <a:lnTo>
                    <a:pt x="33" y="175"/>
                  </a:lnTo>
                  <a:lnTo>
                    <a:pt x="37" y="173"/>
                  </a:lnTo>
                  <a:lnTo>
                    <a:pt x="41" y="171"/>
                  </a:lnTo>
                  <a:lnTo>
                    <a:pt x="44" y="168"/>
                  </a:lnTo>
                  <a:lnTo>
                    <a:pt x="47" y="166"/>
                  </a:lnTo>
                  <a:lnTo>
                    <a:pt x="52" y="163"/>
                  </a:lnTo>
                  <a:lnTo>
                    <a:pt x="55" y="161"/>
                  </a:lnTo>
                  <a:lnTo>
                    <a:pt x="58" y="159"/>
                  </a:lnTo>
                  <a:lnTo>
                    <a:pt x="61" y="157"/>
                  </a:lnTo>
                  <a:lnTo>
                    <a:pt x="65" y="154"/>
                  </a:lnTo>
                  <a:lnTo>
                    <a:pt x="68" y="151"/>
                  </a:lnTo>
                  <a:lnTo>
                    <a:pt x="71" y="149"/>
                  </a:lnTo>
                  <a:lnTo>
                    <a:pt x="74" y="146"/>
                  </a:lnTo>
                  <a:lnTo>
                    <a:pt x="78" y="145"/>
                  </a:lnTo>
                  <a:lnTo>
                    <a:pt x="80" y="141"/>
                  </a:lnTo>
                  <a:lnTo>
                    <a:pt x="83" y="138"/>
                  </a:lnTo>
                  <a:lnTo>
                    <a:pt x="86" y="136"/>
                  </a:lnTo>
                  <a:lnTo>
                    <a:pt x="89" y="133"/>
                  </a:lnTo>
                  <a:lnTo>
                    <a:pt x="92" y="131"/>
                  </a:lnTo>
                  <a:lnTo>
                    <a:pt x="95" y="128"/>
                  </a:lnTo>
                  <a:lnTo>
                    <a:pt x="97" y="125"/>
                  </a:lnTo>
                  <a:lnTo>
                    <a:pt x="100" y="122"/>
                  </a:lnTo>
                  <a:lnTo>
                    <a:pt x="102" y="119"/>
                  </a:lnTo>
                  <a:lnTo>
                    <a:pt x="106" y="116"/>
                  </a:lnTo>
                  <a:lnTo>
                    <a:pt x="108" y="113"/>
                  </a:lnTo>
                  <a:lnTo>
                    <a:pt x="111" y="110"/>
                  </a:lnTo>
                  <a:lnTo>
                    <a:pt x="113" y="107"/>
                  </a:lnTo>
                  <a:lnTo>
                    <a:pt x="115" y="104"/>
                  </a:lnTo>
                  <a:lnTo>
                    <a:pt x="118" y="100"/>
                  </a:lnTo>
                  <a:lnTo>
                    <a:pt x="120" y="97"/>
                  </a:lnTo>
                  <a:lnTo>
                    <a:pt x="123" y="94"/>
                  </a:lnTo>
                  <a:lnTo>
                    <a:pt x="125" y="91"/>
                  </a:lnTo>
                  <a:lnTo>
                    <a:pt x="127" y="87"/>
                  </a:lnTo>
                  <a:lnTo>
                    <a:pt x="128" y="84"/>
                  </a:lnTo>
                  <a:lnTo>
                    <a:pt x="131" y="81"/>
                  </a:lnTo>
                  <a:lnTo>
                    <a:pt x="134" y="77"/>
                  </a:lnTo>
                  <a:lnTo>
                    <a:pt x="135" y="73"/>
                  </a:lnTo>
                  <a:lnTo>
                    <a:pt x="137" y="70"/>
                  </a:lnTo>
                  <a:lnTo>
                    <a:pt x="139" y="66"/>
                  </a:lnTo>
                  <a:lnTo>
                    <a:pt x="141" y="63"/>
                  </a:lnTo>
                  <a:lnTo>
                    <a:pt x="142" y="59"/>
                  </a:lnTo>
                  <a:lnTo>
                    <a:pt x="144" y="56"/>
                  </a:lnTo>
                  <a:lnTo>
                    <a:pt x="146" y="52"/>
                  </a:lnTo>
                  <a:lnTo>
                    <a:pt x="147" y="48"/>
                  </a:lnTo>
                  <a:lnTo>
                    <a:pt x="149" y="44"/>
                  </a:lnTo>
                  <a:lnTo>
                    <a:pt x="151" y="40"/>
                  </a:lnTo>
                  <a:lnTo>
                    <a:pt x="153" y="36"/>
                  </a:lnTo>
                  <a:lnTo>
                    <a:pt x="154" y="32"/>
                  </a:lnTo>
                  <a:lnTo>
                    <a:pt x="155" y="28"/>
                  </a:lnTo>
                  <a:lnTo>
                    <a:pt x="157" y="25"/>
                  </a:lnTo>
                  <a:lnTo>
                    <a:pt x="158" y="20"/>
                  </a:lnTo>
                  <a:lnTo>
                    <a:pt x="160" y="16"/>
                  </a:lnTo>
                  <a:lnTo>
                    <a:pt x="161" y="13"/>
                  </a:lnTo>
                  <a:lnTo>
                    <a:pt x="161" y="8"/>
                  </a:lnTo>
                  <a:lnTo>
                    <a:pt x="163" y="4"/>
                  </a:lnTo>
                  <a:lnTo>
                    <a:pt x="164" y="0"/>
                  </a:lnTo>
                  <a:lnTo>
                    <a:pt x="308" y="286"/>
                  </a:lnTo>
                  <a:lnTo>
                    <a:pt x="308" y="286"/>
                  </a:lnTo>
                  <a:lnTo>
                    <a:pt x="308" y="2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16240" y="5462640"/>
              <a:ext cx="212760" cy="20016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0" y="31"/>
                  </a:moveTo>
                  <a:lnTo>
                    <a:pt x="621" y="560"/>
                  </a:lnTo>
                  <a:lnTo>
                    <a:pt x="648" y="528"/>
                  </a:lnTo>
                  <a:lnTo>
                    <a:pt x="27" y="0"/>
                  </a:lnTo>
                  <a:lnTo>
                    <a:pt x="0" y="31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81320" y="5434200"/>
              <a:ext cx="103320" cy="103320"/>
            </a:xfrm>
            <a:custGeom>
              <a:avLst/>
              <a:gdLst/>
              <a:ahLst/>
              <a:rect l="l" t="t" r="r" b="b"/>
              <a:pathLst>
                <a:path w="310" h="287">
                  <a:moveTo>
                    <a:pt x="0" y="0"/>
                  </a:moveTo>
                  <a:lnTo>
                    <a:pt x="145" y="286"/>
                  </a:lnTo>
                  <a:lnTo>
                    <a:pt x="145" y="286"/>
                  </a:lnTo>
                  <a:lnTo>
                    <a:pt x="145" y="283"/>
                  </a:lnTo>
                  <a:lnTo>
                    <a:pt x="147" y="278"/>
                  </a:lnTo>
                  <a:lnTo>
                    <a:pt x="148" y="274"/>
                  </a:lnTo>
                  <a:lnTo>
                    <a:pt x="149" y="270"/>
                  </a:lnTo>
                  <a:lnTo>
                    <a:pt x="150" y="266"/>
                  </a:lnTo>
                  <a:lnTo>
                    <a:pt x="151" y="261"/>
                  </a:lnTo>
                  <a:lnTo>
                    <a:pt x="153" y="258"/>
                  </a:lnTo>
                  <a:lnTo>
                    <a:pt x="154" y="253"/>
                  </a:lnTo>
                  <a:lnTo>
                    <a:pt x="156" y="250"/>
                  </a:lnTo>
                  <a:lnTo>
                    <a:pt x="157" y="246"/>
                  </a:lnTo>
                  <a:lnTo>
                    <a:pt x="159" y="241"/>
                  </a:lnTo>
                  <a:lnTo>
                    <a:pt x="161" y="238"/>
                  </a:lnTo>
                  <a:lnTo>
                    <a:pt x="162" y="234"/>
                  </a:lnTo>
                  <a:lnTo>
                    <a:pt x="164" y="231"/>
                  </a:lnTo>
                  <a:lnTo>
                    <a:pt x="166" y="226"/>
                  </a:lnTo>
                  <a:lnTo>
                    <a:pt x="167" y="223"/>
                  </a:lnTo>
                  <a:lnTo>
                    <a:pt x="169" y="219"/>
                  </a:lnTo>
                  <a:lnTo>
                    <a:pt x="171" y="216"/>
                  </a:lnTo>
                  <a:lnTo>
                    <a:pt x="173" y="212"/>
                  </a:lnTo>
                  <a:lnTo>
                    <a:pt x="175" y="209"/>
                  </a:lnTo>
                  <a:lnTo>
                    <a:pt x="177" y="206"/>
                  </a:lnTo>
                  <a:lnTo>
                    <a:pt x="179" y="202"/>
                  </a:lnTo>
                  <a:lnTo>
                    <a:pt x="181" y="199"/>
                  </a:lnTo>
                  <a:lnTo>
                    <a:pt x="184" y="195"/>
                  </a:lnTo>
                  <a:lnTo>
                    <a:pt x="186" y="192"/>
                  </a:lnTo>
                  <a:lnTo>
                    <a:pt x="188" y="188"/>
                  </a:lnTo>
                  <a:lnTo>
                    <a:pt x="190" y="185"/>
                  </a:lnTo>
                  <a:lnTo>
                    <a:pt x="192" y="182"/>
                  </a:lnTo>
                  <a:lnTo>
                    <a:pt x="195" y="179"/>
                  </a:lnTo>
                  <a:lnTo>
                    <a:pt x="198" y="176"/>
                  </a:lnTo>
                  <a:lnTo>
                    <a:pt x="200" y="172"/>
                  </a:lnTo>
                  <a:lnTo>
                    <a:pt x="202" y="170"/>
                  </a:lnTo>
                  <a:lnTo>
                    <a:pt x="205" y="167"/>
                  </a:lnTo>
                  <a:lnTo>
                    <a:pt x="207" y="164"/>
                  </a:lnTo>
                  <a:lnTo>
                    <a:pt x="211" y="161"/>
                  </a:lnTo>
                  <a:lnTo>
                    <a:pt x="213" y="158"/>
                  </a:lnTo>
                  <a:lnTo>
                    <a:pt x="216" y="156"/>
                  </a:lnTo>
                  <a:lnTo>
                    <a:pt x="219" y="152"/>
                  </a:lnTo>
                  <a:lnTo>
                    <a:pt x="222" y="149"/>
                  </a:lnTo>
                  <a:lnTo>
                    <a:pt x="225" y="147"/>
                  </a:lnTo>
                  <a:lnTo>
                    <a:pt x="228" y="144"/>
                  </a:lnTo>
                  <a:lnTo>
                    <a:pt x="231" y="142"/>
                  </a:lnTo>
                  <a:lnTo>
                    <a:pt x="233" y="139"/>
                  </a:lnTo>
                  <a:lnTo>
                    <a:pt x="237" y="136"/>
                  </a:lnTo>
                  <a:lnTo>
                    <a:pt x="240" y="134"/>
                  </a:lnTo>
                  <a:lnTo>
                    <a:pt x="244" y="132"/>
                  </a:lnTo>
                  <a:lnTo>
                    <a:pt x="247" y="129"/>
                  </a:lnTo>
                  <a:lnTo>
                    <a:pt x="251" y="127"/>
                  </a:lnTo>
                  <a:lnTo>
                    <a:pt x="254" y="124"/>
                  </a:lnTo>
                  <a:lnTo>
                    <a:pt x="257" y="122"/>
                  </a:lnTo>
                  <a:lnTo>
                    <a:pt x="260" y="120"/>
                  </a:lnTo>
                  <a:lnTo>
                    <a:pt x="264" y="117"/>
                  </a:lnTo>
                  <a:lnTo>
                    <a:pt x="268" y="115"/>
                  </a:lnTo>
                  <a:lnTo>
                    <a:pt x="271" y="114"/>
                  </a:lnTo>
                  <a:lnTo>
                    <a:pt x="275" y="111"/>
                  </a:lnTo>
                  <a:lnTo>
                    <a:pt x="278" y="109"/>
                  </a:lnTo>
                  <a:lnTo>
                    <a:pt x="282" y="107"/>
                  </a:lnTo>
                  <a:lnTo>
                    <a:pt x="286" y="105"/>
                  </a:lnTo>
                  <a:lnTo>
                    <a:pt x="290" y="103"/>
                  </a:lnTo>
                  <a:lnTo>
                    <a:pt x="294" y="101"/>
                  </a:lnTo>
                  <a:lnTo>
                    <a:pt x="297" y="100"/>
                  </a:lnTo>
                  <a:lnTo>
                    <a:pt x="302" y="97"/>
                  </a:lnTo>
                  <a:lnTo>
                    <a:pt x="306" y="95"/>
                  </a:lnTo>
                  <a:lnTo>
                    <a:pt x="309" y="9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2160" y="4526280"/>
              <a:ext cx="85680" cy="106200"/>
            </a:xfrm>
            <a:custGeom>
              <a:avLst/>
              <a:gdLst/>
              <a:ahLst/>
              <a:rect l="l" t="t" r="r" b="b"/>
              <a:pathLst>
                <a:path w="260" h="301">
                  <a:moveTo>
                    <a:pt x="122" y="0"/>
                  </a:moveTo>
                  <a:lnTo>
                    <a:pt x="259" y="295"/>
                  </a:lnTo>
                  <a:lnTo>
                    <a:pt x="259" y="295"/>
                  </a:lnTo>
                  <a:lnTo>
                    <a:pt x="255" y="293"/>
                  </a:lnTo>
                  <a:lnTo>
                    <a:pt x="251" y="291"/>
                  </a:lnTo>
                  <a:lnTo>
                    <a:pt x="246" y="289"/>
                  </a:lnTo>
                  <a:lnTo>
                    <a:pt x="242" y="288"/>
                  </a:lnTo>
                  <a:lnTo>
                    <a:pt x="238" y="286"/>
                  </a:lnTo>
                  <a:lnTo>
                    <a:pt x="234" y="285"/>
                  </a:lnTo>
                  <a:lnTo>
                    <a:pt x="230" y="283"/>
                  </a:lnTo>
                  <a:lnTo>
                    <a:pt x="226" y="281"/>
                  </a:lnTo>
                  <a:lnTo>
                    <a:pt x="222" y="280"/>
                  </a:lnTo>
                  <a:lnTo>
                    <a:pt x="218" y="279"/>
                  </a:lnTo>
                  <a:lnTo>
                    <a:pt x="214" y="277"/>
                  </a:lnTo>
                  <a:lnTo>
                    <a:pt x="210" y="276"/>
                  </a:lnTo>
                  <a:lnTo>
                    <a:pt x="206" y="275"/>
                  </a:lnTo>
                  <a:lnTo>
                    <a:pt x="202" y="274"/>
                  </a:lnTo>
                  <a:lnTo>
                    <a:pt x="198" y="273"/>
                  </a:lnTo>
                  <a:lnTo>
                    <a:pt x="193" y="273"/>
                  </a:lnTo>
                  <a:lnTo>
                    <a:pt x="190" y="271"/>
                  </a:lnTo>
                  <a:lnTo>
                    <a:pt x="186" y="271"/>
                  </a:lnTo>
                  <a:lnTo>
                    <a:pt x="182" y="270"/>
                  </a:lnTo>
                  <a:lnTo>
                    <a:pt x="178" y="269"/>
                  </a:lnTo>
                  <a:lnTo>
                    <a:pt x="174" y="269"/>
                  </a:lnTo>
                  <a:lnTo>
                    <a:pt x="169" y="268"/>
                  </a:lnTo>
                  <a:lnTo>
                    <a:pt x="164" y="268"/>
                  </a:lnTo>
                  <a:lnTo>
                    <a:pt x="161" y="268"/>
                  </a:lnTo>
                  <a:lnTo>
                    <a:pt x="157" y="267"/>
                  </a:lnTo>
                  <a:lnTo>
                    <a:pt x="152" y="267"/>
                  </a:lnTo>
                  <a:lnTo>
                    <a:pt x="148" y="266"/>
                  </a:lnTo>
                  <a:lnTo>
                    <a:pt x="145" y="266"/>
                  </a:lnTo>
                  <a:lnTo>
                    <a:pt x="141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29" y="266"/>
                  </a:lnTo>
                  <a:lnTo>
                    <a:pt x="124" y="266"/>
                  </a:lnTo>
                  <a:lnTo>
                    <a:pt x="120" y="266"/>
                  </a:lnTo>
                  <a:lnTo>
                    <a:pt x="117" y="267"/>
                  </a:lnTo>
                  <a:lnTo>
                    <a:pt x="112" y="267"/>
                  </a:lnTo>
                  <a:lnTo>
                    <a:pt x="108" y="268"/>
                  </a:lnTo>
                  <a:lnTo>
                    <a:pt x="104" y="268"/>
                  </a:lnTo>
                  <a:lnTo>
                    <a:pt x="101" y="268"/>
                  </a:lnTo>
                  <a:lnTo>
                    <a:pt x="96" y="269"/>
                  </a:lnTo>
                  <a:lnTo>
                    <a:pt x="92" y="269"/>
                  </a:lnTo>
                  <a:lnTo>
                    <a:pt x="89" y="270"/>
                  </a:lnTo>
                  <a:lnTo>
                    <a:pt x="83" y="271"/>
                  </a:lnTo>
                  <a:lnTo>
                    <a:pt x="79" y="271"/>
                  </a:lnTo>
                  <a:lnTo>
                    <a:pt x="75" y="273"/>
                  </a:lnTo>
                  <a:lnTo>
                    <a:pt x="71" y="273"/>
                  </a:lnTo>
                  <a:lnTo>
                    <a:pt x="67" y="275"/>
                  </a:lnTo>
                  <a:lnTo>
                    <a:pt x="63" y="275"/>
                  </a:lnTo>
                  <a:lnTo>
                    <a:pt x="59" y="276"/>
                  </a:lnTo>
                  <a:lnTo>
                    <a:pt x="55" y="278"/>
                  </a:lnTo>
                  <a:lnTo>
                    <a:pt x="51" y="279"/>
                  </a:lnTo>
                  <a:lnTo>
                    <a:pt x="47" y="280"/>
                  </a:lnTo>
                  <a:lnTo>
                    <a:pt x="43" y="281"/>
                  </a:lnTo>
                  <a:lnTo>
                    <a:pt x="39" y="283"/>
                  </a:lnTo>
                  <a:lnTo>
                    <a:pt x="36" y="285"/>
                  </a:lnTo>
                  <a:lnTo>
                    <a:pt x="31" y="286"/>
                  </a:lnTo>
                  <a:lnTo>
                    <a:pt x="28" y="288"/>
                  </a:lnTo>
                  <a:lnTo>
                    <a:pt x="24" y="289"/>
                  </a:lnTo>
                  <a:lnTo>
                    <a:pt x="20" y="291"/>
                  </a:lnTo>
                  <a:lnTo>
                    <a:pt x="15" y="294"/>
                  </a:lnTo>
                  <a:lnTo>
                    <a:pt x="12" y="295"/>
                  </a:lnTo>
                  <a:lnTo>
                    <a:pt x="8" y="297"/>
                  </a:lnTo>
                  <a:lnTo>
                    <a:pt x="3" y="299"/>
                  </a:lnTo>
                  <a:lnTo>
                    <a:pt x="0" y="30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7080" y="4578480"/>
              <a:ext cx="19080" cy="279360"/>
            </a:xfrm>
            <a:custGeom>
              <a:avLst/>
              <a:gdLst/>
              <a:ahLst/>
              <a:rect l="l" t="t" r="r" b="b"/>
              <a:pathLst>
                <a:path w="63" h="781">
                  <a:moveTo>
                    <a:pt x="62" y="779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18" y="780"/>
                  </a:lnTo>
                  <a:lnTo>
                    <a:pt x="62" y="779"/>
                  </a:lnTo>
                  <a:lnTo>
                    <a:pt x="62" y="779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36840" y="4745160"/>
              <a:ext cx="82440" cy="108000"/>
            </a:xfrm>
            <a:custGeom>
              <a:avLst/>
              <a:gdLst/>
              <a:ahLst/>
              <a:rect l="l" t="t" r="r" b="b"/>
              <a:pathLst>
                <a:path w="253" h="301">
                  <a:moveTo>
                    <a:pt x="133" y="300"/>
                  </a:moveTo>
                  <a:lnTo>
                    <a:pt x="252" y="0"/>
                  </a:lnTo>
                  <a:lnTo>
                    <a:pt x="252" y="0"/>
                  </a:lnTo>
                  <a:lnTo>
                    <a:pt x="249" y="1"/>
                  </a:lnTo>
                  <a:lnTo>
                    <a:pt x="245" y="3"/>
                  </a:lnTo>
                  <a:lnTo>
                    <a:pt x="241" y="5"/>
                  </a:lnTo>
                  <a:lnTo>
                    <a:pt x="237" y="7"/>
                  </a:lnTo>
                  <a:lnTo>
                    <a:pt x="234" y="10"/>
                  </a:lnTo>
                  <a:lnTo>
                    <a:pt x="229" y="11"/>
                  </a:lnTo>
                  <a:lnTo>
                    <a:pt x="225" y="13"/>
                  </a:lnTo>
                  <a:lnTo>
                    <a:pt x="222" y="14"/>
                  </a:lnTo>
                  <a:lnTo>
                    <a:pt x="217" y="15"/>
                  </a:lnTo>
                  <a:lnTo>
                    <a:pt x="213" y="17"/>
                  </a:lnTo>
                  <a:lnTo>
                    <a:pt x="210" y="18"/>
                  </a:lnTo>
                  <a:lnTo>
                    <a:pt x="206" y="20"/>
                  </a:lnTo>
                  <a:lnTo>
                    <a:pt x="202" y="21"/>
                  </a:lnTo>
                  <a:lnTo>
                    <a:pt x="198" y="23"/>
                  </a:lnTo>
                  <a:lnTo>
                    <a:pt x="194" y="24"/>
                  </a:lnTo>
                  <a:lnTo>
                    <a:pt x="190" y="25"/>
                  </a:lnTo>
                  <a:lnTo>
                    <a:pt x="186" y="26"/>
                  </a:lnTo>
                  <a:lnTo>
                    <a:pt x="182" y="27"/>
                  </a:lnTo>
                  <a:lnTo>
                    <a:pt x="178" y="28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6" y="30"/>
                  </a:lnTo>
                  <a:lnTo>
                    <a:pt x="162" y="31"/>
                  </a:lnTo>
                  <a:lnTo>
                    <a:pt x="158" y="31"/>
                  </a:lnTo>
                  <a:lnTo>
                    <a:pt x="155" y="32"/>
                  </a:lnTo>
                  <a:lnTo>
                    <a:pt x="151" y="32"/>
                  </a:lnTo>
                  <a:lnTo>
                    <a:pt x="147" y="33"/>
                  </a:lnTo>
                  <a:lnTo>
                    <a:pt x="143" y="33"/>
                  </a:lnTo>
                  <a:lnTo>
                    <a:pt x="139" y="34"/>
                  </a:lnTo>
                  <a:lnTo>
                    <a:pt x="135" y="34"/>
                  </a:lnTo>
                  <a:lnTo>
                    <a:pt x="131" y="34"/>
                  </a:lnTo>
                  <a:lnTo>
                    <a:pt x="127" y="34"/>
                  </a:lnTo>
                  <a:lnTo>
                    <a:pt x="123" y="34"/>
                  </a:lnTo>
                  <a:lnTo>
                    <a:pt x="119" y="34"/>
                  </a:lnTo>
                  <a:lnTo>
                    <a:pt x="115" y="34"/>
                  </a:lnTo>
                  <a:lnTo>
                    <a:pt x="111" y="34"/>
                  </a:lnTo>
                  <a:lnTo>
                    <a:pt x="107" y="34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5" y="33"/>
                  </a:lnTo>
                  <a:lnTo>
                    <a:pt x="91" y="32"/>
                  </a:lnTo>
                  <a:lnTo>
                    <a:pt x="88" y="32"/>
                  </a:lnTo>
                  <a:lnTo>
                    <a:pt x="83" y="31"/>
                  </a:lnTo>
                  <a:lnTo>
                    <a:pt x="79" y="31"/>
                  </a:lnTo>
                  <a:lnTo>
                    <a:pt x="76" y="30"/>
                  </a:lnTo>
                  <a:lnTo>
                    <a:pt x="71" y="29"/>
                  </a:lnTo>
                  <a:lnTo>
                    <a:pt x="67" y="29"/>
                  </a:lnTo>
                  <a:lnTo>
                    <a:pt x="63" y="28"/>
                  </a:lnTo>
                  <a:lnTo>
                    <a:pt x="59" y="27"/>
                  </a:lnTo>
                  <a:lnTo>
                    <a:pt x="55" y="26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4"/>
                  </a:lnTo>
                  <a:lnTo>
                    <a:pt x="15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3" y="7"/>
                  </a:lnTo>
                  <a:lnTo>
                    <a:pt x="0" y="5"/>
                  </a:lnTo>
                  <a:lnTo>
                    <a:pt x="133" y="300"/>
                  </a:lnTo>
                  <a:lnTo>
                    <a:pt x="133" y="300"/>
                  </a:lnTo>
                  <a:lnTo>
                    <a:pt x="133" y="3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2160" y="5578560"/>
              <a:ext cx="85680" cy="106560"/>
            </a:xfrm>
            <a:custGeom>
              <a:avLst/>
              <a:gdLst/>
              <a:ahLst/>
              <a:rect l="l" t="t" r="r" b="b"/>
              <a:pathLst>
                <a:path w="260" h="301">
                  <a:moveTo>
                    <a:pt x="122" y="0"/>
                  </a:moveTo>
                  <a:lnTo>
                    <a:pt x="259" y="294"/>
                  </a:lnTo>
                  <a:lnTo>
                    <a:pt x="259" y="294"/>
                  </a:lnTo>
                  <a:lnTo>
                    <a:pt x="255" y="292"/>
                  </a:lnTo>
                  <a:lnTo>
                    <a:pt x="251" y="290"/>
                  </a:lnTo>
                  <a:lnTo>
                    <a:pt x="246" y="288"/>
                  </a:lnTo>
                  <a:lnTo>
                    <a:pt x="242" y="287"/>
                  </a:lnTo>
                  <a:lnTo>
                    <a:pt x="238" y="285"/>
                  </a:lnTo>
                  <a:lnTo>
                    <a:pt x="234" y="284"/>
                  </a:lnTo>
                  <a:lnTo>
                    <a:pt x="230" y="283"/>
                  </a:lnTo>
                  <a:lnTo>
                    <a:pt x="226" y="281"/>
                  </a:lnTo>
                  <a:lnTo>
                    <a:pt x="222" y="280"/>
                  </a:lnTo>
                  <a:lnTo>
                    <a:pt x="218" y="278"/>
                  </a:lnTo>
                  <a:lnTo>
                    <a:pt x="214" y="277"/>
                  </a:lnTo>
                  <a:lnTo>
                    <a:pt x="210" y="276"/>
                  </a:lnTo>
                  <a:lnTo>
                    <a:pt x="206" y="275"/>
                  </a:lnTo>
                  <a:lnTo>
                    <a:pt x="202" y="274"/>
                  </a:lnTo>
                  <a:lnTo>
                    <a:pt x="198" y="273"/>
                  </a:lnTo>
                  <a:lnTo>
                    <a:pt x="193" y="272"/>
                  </a:lnTo>
                  <a:lnTo>
                    <a:pt x="190" y="271"/>
                  </a:lnTo>
                  <a:lnTo>
                    <a:pt x="186" y="270"/>
                  </a:lnTo>
                  <a:lnTo>
                    <a:pt x="182" y="269"/>
                  </a:lnTo>
                  <a:lnTo>
                    <a:pt x="178" y="269"/>
                  </a:lnTo>
                  <a:lnTo>
                    <a:pt x="174" y="268"/>
                  </a:lnTo>
                  <a:lnTo>
                    <a:pt x="169" y="267"/>
                  </a:lnTo>
                  <a:lnTo>
                    <a:pt x="164" y="267"/>
                  </a:lnTo>
                  <a:lnTo>
                    <a:pt x="161" y="266"/>
                  </a:lnTo>
                  <a:lnTo>
                    <a:pt x="157" y="266"/>
                  </a:lnTo>
                  <a:lnTo>
                    <a:pt x="152" y="266"/>
                  </a:lnTo>
                  <a:lnTo>
                    <a:pt x="148" y="266"/>
                  </a:lnTo>
                  <a:lnTo>
                    <a:pt x="145" y="265"/>
                  </a:lnTo>
                  <a:lnTo>
                    <a:pt x="141" y="265"/>
                  </a:lnTo>
                  <a:lnTo>
                    <a:pt x="136" y="265"/>
                  </a:lnTo>
                  <a:lnTo>
                    <a:pt x="133" y="265"/>
                  </a:lnTo>
                  <a:lnTo>
                    <a:pt x="129" y="265"/>
                  </a:lnTo>
                  <a:lnTo>
                    <a:pt x="124" y="265"/>
                  </a:lnTo>
                  <a:lnTo>
                    <a:pt x="120" y="266"/>
                  </a:lnTo>
                  <a:lnTo>
                    <a:pt x="117" y="266"/>
                  </a:lnTo>
                  <a:lnTo>
                    <a:pt x="112" y="266"/>
                  </a:lnTo>
                  <a:lnTo>
                    <a:pt x="108" y="266"/>
                  </a:lnTo>
                  <a:lnTo>
                    <a:pt x="104" y="267"/>
                  </a:lnTo>
                  <a:lnTo>
                    <a:pt x="101" y="267"/>
                  </a:lnTo>
                  <a:lnTo>
                    <a:pt x="96" y="268"/>
                  </a:lnTo>
                  <a:lnTo>
                    <a:pt x="92" y="269"/>
                  </a:lnTo>
                  <a:lnTo>
                    <a:pt x="89" y="269"/>
                  </a:lnTo>
                  <a:lnTo>
                    <a:pt x="83" y="270"/>
                  </a:lnTo>
                  <a:lnTo>
                    <a:pt x="79" y="271"/>
                  </a:lnTo>
                  <a:lnTo>
                    <a:pt x="75" y="272"/>
                  </a:lnTo>
                  <a:lnTo>
                    <a:pt x="71" y="273"/>
                  </a:lnTo>
                  <a:lnTo>
                    <a:pt x="67" y="274"/>
                  </a:lnTo>
                  <a:lnTo>
                    <a:pt x="63" y="275"/>
                  </a:lnTo>
                  <a:lnTo>
                    <a:pt x="59" y="276"/>
                  </a:lnTo>
                  <a:lnTo>
                    <a:pt x="55" y="277"/>
                  </a:lnTo>
                  <a:lnTo>
                    <a:pt x="51" y="278"/>
                  </a:lnTo>
                  <a:lnTo>
                    <a:pt x="47" y="280"/>
                  </a:lnTo>
                  <a:lnTo>
                    <a:pt x="43" y="281"/>
                  </a:lnTo>
                  <a:lnTo>
                    <a:pt x="39" y="283"/>
                  </a:lnTo>
                  <a:lnTo>
                    <a:pt x="36" y="284"/>
                  </a:lnTo>
                  <a:lnTo>
                    <a:pt x="31" y="286"/>
                  </a:lnTo>
                  <a:lnTo>
                    <a:pt x="28" y="287"/>
                  </a:lnTo>
                  <a:lnTo>
                    <a:pt x="24" y="288"/>
                  </a:lnTo>
                  <a:lnTo>
                    <a:pt x="20" y="290"/>
                  </a:lnTo>
                  <a:lnTo>
                    <a:pt x="15" y="292"/>
                  </a:lnTo>
                  <a:lnTo>
                    <a:pt x="12" y="294"/>
                  </a:lnTo>
                  <a:lnTo>
                    <a:pt x="8" y="297"/>
                  </a:lnTo>
                  <a:lnTo>
                    <a:pt x="3" y="299"/>
                  </a:lnTo>
                  <a:lnTo>
                    <a:pt x="0" y="30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5632560"/>
              <a:ext cx="19080" cy="277920"/>
            </a:xfrm>
            <a:custGeom>
              <a:avLst/>
              <a:gdLst/>
              <a:ahLst/>
              <a:rect l="l" t="t" r="r" b="b"/>
              <a:pathLst>
                <a:path w="63" h="781">
                  <a:moveTo>
                    <a:pt x="62" y="780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18" y="780"/>
                  </a:lnTo>
                  <a:lnTo>
                    <a:pt x="62" y="780"/>
                  </a:lnTo>
                  <a:lnTo>
                    <a:pt x="62" y="78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36840" y="5856480"/>
              <a:ext cx="82440" cy="108000"/>
            </a:xfrm>
            <a:custGeom>
              <a:avLst/>
              <a:gdLst/>
              <a:ahLst/>
              <a:rect l="l" t="t" r="r" b="b"/>
              <a:pathLst>
                <a:path w="253" h="301">
                  <a:moveTo>
                    <a:pt x="133" y="300"/>
                  </a:moveTo>
                  <a:lnTo>
                    <a:pt x="252" y="0"/>
                  </a:lnTo>
                  <a:lnTo>
                    <a:pt x="252" y="0"/>
                  </a:lnTo>
                  <a:lnTo>
                    <a:pt x="249" y="2"/>
                  </a:lnTo>
                  <a:lnTo>
                    <a:pt x="245" y="4"/>
                  </a:lnTo>
                  <a:lnTo>
                    <a:pt x="241" y="6"/>
                  </a:lnTo>
                  <a:lnTo>
                    <a:pt x="237" y="8"/>
                  </a:lnTo>
                  <a:lnTo>
                    <a:pt x="234" y="10"/>
                  </a:lnTo>
                  <a:lnTo>
                    <a:pt x="229" y="11"/>
                  </a:lnTo>
                  <a:lnTo>
                    <a:pt x="225" y="13"/>
                  </a:lnTo>
                  <a:lnTo>
                    <a:pt x="222" y="15"/>
                  </a:lnTo>
                  <a:lnTo>
                    <a:pt x="217" y="17"/>
                  </a:lnTo>
                  <a:lnTo>
                    <a:pt x="213" y="18"/>
                  </a:lnTo>
                  <a:lnTo>
                    <a:pt x="210" y="19"/>
                  </a:lnTo>
                  <a:lnTo>
                    <a:pt x="206" y="20"/>
                  </a:lnTo>
                  <a:lnTo>
                    <a:pt x="202" y="22"/>
                  </a:lnTo>
                  <a:lnTo>
                    <a:pt x="198" y="23"/>
                  </a:lnTo>
                  <a:lnTo>
                    <a:pt x="194" y="24"/>
                  </a:lnTo>
                  <a:lnTo>
                    <a:pt x="190" y="25"/>
                  </a:lnTo>
                  <a:lnTo>
                    <a:pt x="186" y="26"/>
                  </a:lnTo>
                  <a:lnTo>
                    <a:pt x="182" y="28"/>
                  </a:lnTo>
                  <a:lnTo>
                    <a:pt x="178" y="29"/>
                  </a:lnTo>
                  <a:lnTo>
                    <a:pt x="174" y="29"/>
                  </a:lnTo>
                  <a:lnTo>
                    <a:pt x="170" y="31"/>
                  </a:lnTo>
                  <a:lnTo>
                    <a:pt x="166" y="31"/>
                  </a:lnTo>
                  <a:lnTo>
                    <a:pt x="162" y="32"/>
                  </a:lnTo>
                  <a:lnTo>
                    <a:pt x="158" y="32"/>
                  </a:lnTo>
                  <a:lnTo>
                    <a:pt x="155" y="32"/>
                  </a:lnTo>
                  <a:lnTo>
                    <a:pt x="151" y="33"/>
                  </a:lnTo>
                  <a:lnTo>
                    <a:pt x="147" y="34"/>
                  </a:lnTo>
                  <a:lnTo>
                    <a:pt x="143" y="34"/>
                  </a:lnTo>
                  <a:lnTo>
                    <a:pt x="139" y="34"/>
                  </a:lnTo>
                  <a:lnTo>
                    <a:pt x="135" y="34"/>
                  </a:lnTo>
                  <a:lnTo>
                    <a:pt x="131" y="35"/>
                  </a:lnTo>
                  <a:lnTo>
                    <a:pt x="127" y="35"/>
                  </a:lnTo>
                  <a:lnTo>
                    <a:pt x="123" y="35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1" y="35"/>
                  </a:lnTo>
                  <a:lnTo>
                    <a:pt x="107" y="34"/>
                  </a:lnTo>
                  <a:lnTo>
                    <a:pt x="103" y="34"/>
                  </a:lnTo>
                  <a:lnTo>
                    <a:pt x="100" y="34"/>
                  </a:lnTo>
                  <a:lnTo>
                    <a:pt x="95" y="34"/>
                  </a:lnTo>
                  <a:lnTo>
                    <a:pt x="91" y="33"/>
                  </a:lnTo>
                  <a:lnTo>
                    <a:pt x="88" y="33"/>
                  </a:lnTo>
                  <a:lnTo>
                    <a:pt x="83" y="32"/>
                  </a:lnTo>
                  <a:lnTo>
                    <a:pt x="79" y="32"/>
                  </a:lnTo>
                  <a:lnTo>
                    <a:pt x="76" y="31"/>
                  </a:lnTo>
                  <a:lnTo>
                    <a:pt x="71" y="31"/>
                  </a:lnTo>
                  <a:lnTo>
                    <a:pt x="67" y="29"/>
                  </a:lnTo>
                  <a:lnTo>
                    <a:pt x="63" y="29"/>
                  </a:lnTo>
                  <a:lnTo>
                    <a:pt x="59" y="28"/>
                  </a:lnTo>
                  <a:lnTo>
                    <a:pt x="55" y="26"/>
                  </a:lnTo>
                  <a:lnTo>
                    <a:pt x="51" y="25"/>
                  </a:lnTo>
                  <a:lnTo>
                    <a:pt x="47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1" y="19"/>
                  </a:lnTo>
                  <a:lnTo>
                    <a:pt x="27" y="18"/>
                  </a:lnTo>
                  <a:lnTo>
                    <a:pt x="23" y="17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1" y="12"/>
                  </a:lnTo>
                  <a:lnTo>
                    <a:pt x="8" y="10"/>
                  </a:lnTo>
                  <a:lnTo>
                    <a:pt x="3" y="8"/>
                  </a:lnTo>
                  <a:lnTo>
                    <a:pt x="0" y="6"/>
                  </a:lnTo>
                  <a:lnTo>
                    <a:pt x="133" y="300"/>
                  </a:lnTo>
                  <a:lnTo>
                    <a:pt x="133" y="300"/>
                  </a:lnTo>
                  <a:lnTo>
                    <a:pt x="133" y="3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7400" y="5996160"/>
              <a:ext cx="853920" cy="4269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aramond"/>
                </a:rPr>
                <a:t>Co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57400" y="4064040"/>
              <a:ext cx="853920" cy="43020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aramond"/>
                </a:rPr>
                <a:t>Co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00280" y="4565880"/>
              <a:ext cx="855720" cy="43020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aramond"/>
                </a:rPr>
                <a:t>Co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00280" y="5494320"/>
              <a:ext cx="855720" cy="4287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aramond"/>
                </a:rPr>
                <a:t>Co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11280" y="4565880"/>
              <a:ext cx="855360" cy="43020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aramond"/>
                </a:rPr>
                <a:t>Co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11280" y="5494320"/>
              <a:ext cx="855360" cy="42876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39840" indent="-339840" algn="ctr">
                <a:lnSpc>
                  <a:spcPct val="93000"/>
                </a:lnSpc>
                <a:spcBef>
                  <a:spcPts val="700"/>
                </a:spcBef>
                <a:tabLst>
                  <a:tab algn="l" pos="0"/>
                  <a:tab algn="l" pos="45396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Garamond"/>
                </a:rPr>
                <a:t>Co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B09D-08E2-44C0-BDBD-E90E01B46F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Sebastien Deleersnyder</cp:lastModifiedBy>
  <dcterms:modified xsi:type="dcterms:W3CDTF">2007-05-10T15:03:54Z</dcterms:modified>
  <cp:revision>17</cp:revision>
  <dc:subject>Application Security</dc:subject>
  <dc:title>OWASP Plan - Strawman</dc:title>
</cp:coreProperties>
</file>