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D94D-BD6E-4164-8BCE-020ED5FB40C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1602-84E5-4881-AE1A-C5476E39F1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9C7D-A70D-44F8-B118-03F4ABAF2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0785-B1E2-4969-96EB-357F948EF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672F-CDC3-4F9A-9B86-932EB1D86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3EDA-E309-4F2E-BFC8-3D2A7C145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A5FA-F389-4B3F-A585-DFD3D8EDF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7C6-6CB3-4ADD-A591-EE6D63B1A4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046-E27F-467C-9849-5F379F0C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4C5-CE75-4932-9EBF-62EC2387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07D-C8B8-4012-9935-A3524D8E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61B-F2F8-431E-92E6-4B0C73DE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99C9-9D63-4E48-8140-D84C6D5300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DAF-A1F4-4E48-83BB-3E5C564A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78B-1F05-4446-AC99-96A52D86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222-3ED8-486B-A511-DE275B68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A7A-B554-442F-88A2-5AF3965B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7DC-B505-4907-ACF4-DAA67DAA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C1C-8EDA-4019-AD2D-BC8F450A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A01-7CBE-4716-B22E-E5B06AD5A0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3AD4-4418-4A8E-970A-62B5B66A39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FB25-F0DA-43C4-8650-FB3898187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A6E9-9262-4FAA-B54F-2E01314F6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1780-AA56-4C5E-B1D1-26B111E66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B3D8-A622-47F1-A393-28593EF01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7750-7914-4ACD-91F4-8B424037A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6463-98E9-454E-83B0-35E4A3FFD44A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Newlogo67B.png"/>
          <p:cNvPicPr/>
          <p:nvPr/>
        </p:nvPicPr>
        <p:blipFill>
          <a:blip r:embed="rId3"/>
          <a:stretch/>
        </p:blipFill>
        <p:spPr>
          <a:xfrm>
            <a:off x="0" y="6324480"/>
            <a:ext cx="220968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5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owasp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9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0"/>
          <p:cNvSpPr/>
          <p:nvPr/>
        </p:nvSpPr>
        <p:spPr>
          <a:xfrm rot="10800000">
            <a:off x="7385040" y="266652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3"/>
          <p:cNvSpPr/>
          <p:nvPr/>
        </p:nvSpPr>
        <p:spPr>
          <a:xfrm>
            <a:off x="4572000" y="228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OWASP Conferenc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9" descr="Newlogo67B.png"/>
          <p:cNvPicPr/>
          <p:nvPr/>
        </p:nvPicPr>
        <p:blipFill>
          <a:blip r:embed="rId3"/>
          <a:stretch/>
        </p:blipFill>
        <p:spPr>
          <a:xfrm>
            <a:off x="228600" y="6019920"/>
            <a:ext cx="320976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0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Newlogo67B.png"/>
          <p:cNvPicPr/>
          <p:nvPr/>
        </p:nvPicPr>
        <p:blipFill>
          <a:blip r:embed="rId3"/>
          <a:stretch/>
        </p:blipFill>
        <p:spPr>
          <a:xfrm>
            <a:off x="0" y="6324480"/>
            <a:ext cx="2209680" cy="333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"/>
          <p:cNvSpPr/>
          <p:nvPr/>
        </p:nvSpPr>
        <p:spPr>
          <a:xfrm>
            <a:off x="0" y="0"/>
            <a:ext cx="4143240" cy="6858000"/>
          </a:xfrm>
          <a:prstGeom prst="rect">
            <a:avLst/>
          </a:prstGeom>
          <a:solidFill>
            <a:srgbClr val="6f7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0"/>
          <p:cNvGrpSpPr/>
          <p:nvPr/>
        </p:nvGrpSpPr>
        <p:grpSpPr>
          <a:xfrm>
            <a:off x="255600" y="3733920"/>
            <a:ext cx="3571920" cy="1805040"/>
            <a:chOff x="255600" y="3733920"/>
            <a:chExt cx="3571920" cy="1805040"/>
          </a:xfrm>
        </p:grpSpPr>
        <p:pic>
          <p:nvPicPr>
            <p:cNvPr id="109" name="Picture 2" descr="C:\Documents and Settings\User\My Documents\Checkmarx\Images\logo1.png"/>
            <p:cNvPicPr/>
            <p:nvPr/>
          </p:nvPicPr>
          <p:blipFill>
            <a:blip r:embed="rId4"/>
            <a:srcRect l="0" t="0" r="0" b="34958"/>
            <a:stretch/>
          </p:blipFill>
          <p:spPr>
            <a:xfrm>
              <a:off x="336600" y="3733920"/>
              <a:ext cx="3473640" cy="98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C:\DOCUME~1\User\LOCALS~1\Temp\Rar$DR02.171\logos\3.png"/>
            <p:cNvPicPr/>
            <p:nvPr/>
          </p:nvPicPr>
          <p:blipFill>
            <a:blip r:embed="rId5"/>
            <a:srcRect l="22890" t="0" r="0" b="0"/>
            <a:stretch/>
          </p:blipFill>
          <p:spPr>
            <a:xfrm>
              <a:off x="255600" y="4572000"/>
              <a:ext cx="3571920" cy="96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2"/>
          </p:nvPr>
        </p:nvSpPr>
        <p:spPr>
          <a:xfrm>
            <a:off x="1763280" y="6382800"/>
            <a:ext cx="42483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heckmarx Confidential and Proprietary -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365B-486A-4C38-B53B-63BC3B33578C}" type="slidenum">
              <a:rPr b="1" lang="he-IL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0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Newlogo67B.png"/>
          <p:cNvPicPr/>
          <p:nvPr/>
        </p:nvPicPr>
        <p:blipFill>
          <a:blip r:embed="rId3"/>
          <a:stretch/>
        </p:blipFill>
        <p:spPr>
          <a:xfrm>
            <a:off x="0" y="6324480"/>
            <a:ext cx="2209680" cy="333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"/>
          <p:cNvSpPr/>
          <p:nvPr/>
        </p:nvSpPr>
        <p:spPr>
          <a:xfrm>
            <a:off x="0" y="614376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3cd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0" y="6093000"/>
            <a:ext cx="9144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9f8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Documents and Settings\User\My Documents\Checkmarx\Images\logo1.png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7823160" y="6215040"/>
            <a:ext cx="1150920" cy="5000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0" y="63468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heckmarx Confidential and Proprietary -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3"/>
          <p:cNvSpPr/>
          <p:nvPr/>
        </p:nvSpPr>
        <p:spPr>
          <a:xfrm flipH="1" flipV="1">
            <a:off x="1452600" y="1123920"/>
            <a:ext cx="7572240" cy="1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3"/>
          <p:cNvSpPr/>
          <p:nvPr/>
        </p:nvSpPr>
        <p:spPr>
          <a:xfrm flipH="1" flipV="1">
            <a:off x="1452600" y="1125000"/>
            <a:ext cx="7572240" cy="180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s.kuleuven.be/~lieven/AppSec2008/images/owasp-logo.gif&amp;imgrefurl=http://www.cs.kuleuven.be/~lieven/AppSec2008/&amp;h=125&amp;w=125&amp;sz=10&amp;hl=iw&amp;start=3&amp;um=1&amp;tbnid=UC6cjMBsHQQQyM:&amp;tbnh=90&amp;tbnw=90&amp;prev=/images?q=owasp&amp;um=1&amp;hl=iw&amp;lr=&amp;rls=com.microsoft:he:IE-SearchBox&amp;rlz=1I7IBMA&amp;sa=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Application Security – </a:t>
            </a:r>
            <a:br>
              <a:rPr sz="2800"/>
            </a:b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The code analysis wa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Maty Sim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C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Checkmarx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e SQL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bo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746280" y="2479680"/>
            <a:ext cx="7848360" cy="2376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=inpu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isValid(dat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SqlCommand cmd = new SqlComm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SELECT * FROM users WHERE age = “ + data, c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rol Dependence Grap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s CF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OC has its own vert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B is directed by edge A iff the execution if B depends on the execution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rol Dependence Graph (cont.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1700280"/>
            <a:ext cx="2303640" cy="4581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j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i &lt; 1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i == 3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=j*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= j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i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 ("%d\n", 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 ("%d,n", 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2"/>
          <p:cNvGraphicFramePr/>
          <p:nvPr/>
        </p:nvGraphicFramePr>
        <p:xfrm>
          <a:off x="2411280" y="1628640"/>
          <a:ext cx="665640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628640"/>
                    <a:ext cx="66564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hat is the benefit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uper-imposing graphs?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 b = tru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(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Command(x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li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 relevant subset of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187280" y="2997360"/>
            <a:ext cx="3384720" cy="3385800"/>
          </a:xfrm>
          <a:prstGeom prst="rect">
            <a:avLst/>
          </a:prstGeom>
          <a:solidFill>
            <a:srgbClr val="878787"/>
          </a:solidFill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i &lt; 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i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 (“%d\n”, 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 (“%d\n”, 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3708360" y="5805360"/>
            <a:ext cx="1655640" cy="287640"/>
          </a:xfrm>
          <a:prstGeom prst="leftArrow">
            <a:avLst>
              <a:gd name="adj1" fmla="val 50000"/>
              <a:gd name="adj2" fmla="val 143899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li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 relevant subset of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87280" y="2997360"/>
            <a:ext cx="3384720" cy="3385800"/>
          </a:xfrm>
          <a:prstGeom prst="rect">
            <a:avLst/>
          </a:prstGeom>
          <a:solidFill>
            <a:srgbClr val="878787"/>
          </a:solidFill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3c15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void main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int i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while (i &lt; 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i = i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 (“%d\n”, 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printf (“%d\n”, 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3708360" y="5805360"/>
            <a:ext cx="1655640" cy="287640"/>
          </a:xfrm>
          <a:prstGeom prst="leftArrow">
            <a:avLst>
              <a:gd name="adj1" fmla="val 50000"/>
              <a:gd name="adj2" fmla="val 143899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D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4572000" y="285264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116000" y="256536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2843280" y="321300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572000" y="371628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i&lt;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156360" y="371628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(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7667640" y="371628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724360" y="515772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3780000" y="5157720"/>
            <a:ext cx="129672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+=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11"/>
          <p:cNvCxnSpPr>
            <a:stCxn id="262" idx="0"/>
            <a:endCxn id="261" idx="2"/>
          </p:cNvCxnSpPr>
          <p:nvPr/>
        </p:nvCxnSpPr>
        <p:spPr>
          <a:xfrm>
            <a:off x="1765440" y="2565000"/>
            <a:ext cx="3456720" cy="86436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70" name="AutoShape 12"/>
          <p:cNvCxnSpPr>
            <a:stCxn id="263" idx="0"/>
            <a:endCxn id="261" idx="2"/>
          </p:cNvCxnSpPr>
          <p:nvPr/>
        </p:nvCxnSpPr>
        <p:spPr>
          <a:xfrm>
            <a:off x="3492000" y="3213000"/>
            <a:ext cx="1729800" cy="21672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71" name="AutoShape 13"/>
          <p:cNvCxnSpPr>
            <a:stCxn id="264" idx="0"/>
            <a:endCxn id="261" idx="2"/>
          </p:cNvCxnSpPr>
          <p:nvPr/>
        </p:nvCxnSpPr>
        <p:spPr>
          <a:xfrm flipV="1">
            <a:off x="5221080" y="3428640"/>
            <a:ext cx="1080" cy="2880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72" name="AutoShape 14"/>
          <p:cNvCxnSpPr>
            <a:stCxn id="265" idx="0"/>
            <a:endCxn id="261" idx="2"/>
          </p:cNvCxnSpPr>
          <p:nvPr/>
        </p:nvCxnSpPr>
        <p:spPr>
          <a:xfrm flipH="1" flipV="1">
            <a:off x="5221080" y="3428640"/>
            <a:ext cx="1584720" cy="2880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73" name="AutoShape 15"/>
          <p:cNvCxnSpPr>
            <a:stCxn id="266" idx="0"/>
            <a:endCxn id="261" idx="2"/>
          </p:cNvCxnSpPr>
          <p:nvPr/>
        </p:nvCxnSpPr>
        <p:spPr>
          <a:xfrm flipH="1" flipV="1">
            <a:off x="5220720" y="3428640"/>
            <a:ext cx="3096360" cy="2880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74" name="AutoShape 16"/>
          <p:cNvCxnSpPr>
            <a:stCxn id="268" idx="0"/>
            <a:endCxn id="264" idx="2"/>
          </p:cNvCxnSpPr>
          <p:nvPr/>
        </p:nvCxnSpPr>
        <p:spPr>
          <a:xfrm flipV="1">
            <a:off x="4428720" y="4291920"/>
            <a:ext cx="793080" cy="8658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75" name="AutoShape 17"/>
          <p:cNvCxnSpPr>
            <a:stCxn id="267" idx="0"/>
            <a:endCxn id="264" idx="2"/>
          </p:cNvCxnSpPr>
          <p:nvPr/>
        </p:nvCxnSpPr>
        <p:spPr>
          <a:xfrm flipH="1" flipV="1">
            <a:off x="5221080" y="4291920"/>
            <a:ext cx="1152720" cy="8658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F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56536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2843280" y="321300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4572000" y="371628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i&lt;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156360" y="371628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(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667640" y="371628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724360" y="515772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780000" y="5157720"/>
            <a:ext cx="129672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+=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AutoShape 10"/>
          <p:cNvCxnSpPr>
            <a:stCxn id="284" idx="0"/>
            <a:endCxn id="278" idx="2"/>
          </p:cNvCxnSpPr>
          <p:nvPr/>
        </p:nvCxnSpPr>
        <p:spPr>
          <a:xfrm flipH="1" flipV="1">
            <a:off x="1764720" y="3141360"/>
            <a:ext cx="2664360" cy="201672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86" name="AutoShape 11"/>
          <p:cNvCxnSpPr>
            <a:stCxn id="284" idx="0"/>
            <a:endCxn id="279" idx="2"/>
          </p:cNvCxnSpPr>
          <p:nvPr/>
        </p:nvCxnSpPr>
        <p:spPr>
          <a:xfrm flipH="1" flipV="1">
            <a:off x="3492000" y="3788640"/>
            <a:ext cx="937440" cy="13690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87" name="AutoShape 12"/>
          <p:cNvCxnSpPr>
            <a:stCxn id="283" idx="0"/>
            <a:endCxn id="279" idx="2"/>
          </p:cNvCxnSpPr>
          <p:nvPr/>
        </p:nvCxnSpPr>
        <p:spPr>
          <a:xfrm flipH="1" flipV="1">
            <a:off x="3492000" y="3788640"/>
            <a:ext cx="2882160" cy="13690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88" name="AutoShape 13"/>
          <p:cNvCxnSpPr>
            <a:stCxn id="284" idx="3"/>
            <a:endCxn id="283" idx="1"/>
          </p:cNvCxnSpPr>
          <p:nvPr/>
        </p:nvCxnSpPr>
        <p:spPr>
          <a:xfrm>
            <a:off x="5076360" y="5446440"/>
            <a:ext cx="648360" cy="10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89" name="AutoShape 14"/>
          <p:cNvCxnSpPr>
            <a:stCxn id="281" idx="2"/>
            <a:endCxn id="284" idx="0"/>
          </p:cNvCxnSpPr>
          <p:nvPr/>
        </p:nvCxnSpPr>
        <p:spPr>
          <a:xfrm flipH="1">
            <a:off x="4428360" y="4292280"/>
            <a:ext cx="2377080" cy="8658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90" name="AutoShape 15"/>
          <p:cNvCxnSpPr>
            <a:stCxn id="280" idx="1"/>
            <a:endCxn id="279" idx="3"/>
          </p:cNvCxnSpPr>
          <p:nvPr/>
        </p:nvCxnSpPr>
        <p:spPr>
          <a:xfrm flipH="1" flipV="1">
            <a:off x="4139640" y="3501720"/>
            <a:ext cx="432360" cy="5040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91" name="AutoShape 16"/>
          <p:cNvCxnSpPr>
            <a:stCxn id="281" idx="0"/>
            <a:endCxn id="278" idx="0"/>
          </p:cNvCxnSpPr>
          <p:nvPr/>
        </p:nvCxnSpPr>
        <p:spPr>
          <a:xfrm flipH="1" flipV="1">
            <a:off x="1765080" y="2564640"/>
            <a:ext cx="5040720" cy="115164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92" name="AutoShape 17"/>
          <p:cNvCxnSpPr>
            <a:stCxn id="282" idx="0"/>
            <a:endCxn id="279" idx="3"/>
          </p:cNvCxnSpPr>
          <p:nvPr/>
        </p:nvCxnSpPr>
        <p:spPr>
          <a:xfrm flipH="1" flipV="1">
            <a:off x="4140000" y="3501360"/>
            <a:ext cx="4177440" cy="21492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93" name="AutoShape 18"/>
          <p:cNvCxnSpPr>
            <a:stCxn id="282" idx="2"/>
            <a:endCxn id="283" idx="3"/>
          </p:cNvCxnSpPr>
          <p:nvPr/>
        </p:nvCxnSpPr>
        <p:spPr>
          <a:xfrm flipH="1">
            <a:off x="7020720" y="4292640"/>
            <a:ext cx="1296360" cy="11548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  <p:cxnSp>
        <p:nvCxnSpPr>
          <p:cNvPr id="294" name="AutoShape 19"/>
          <p:cNvCxnSpPr>
            <a:stCxn id="280" idx="2"/>
            <a:endCxn id="283" idx="0"/>
          </p:cNvCxnSpPr>
          <p:nvPr/>
        </p:nvCxnSpPr>
        <p:spPr>
          <a:xfrm>
            <a:off x="5221080" y="4292280"/>
            <a:ext cx="1152720" cy="8658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head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DFG+CDG)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16000" y="256536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843280" y="321300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4572000" y="371628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i&lt;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6156360" y="371628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(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667640" y="3716280"/>
            <a:ext cx="1297080" cy="576360"/>
          </a:xfrm>
          <a:prstGeom prst="rect">
            <a:avLst/>
          </a:prstGeom>
          <a:solidFill>
            <a:srgbClr val="c6d9ea"/>
          </a:solidFill>
          <a:ln w="9360">
            <a:solidFill>
              <a:srgbClr val="a7b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724360" y="515772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780000" y="5157720"/>
            <a:ext cx="129672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+=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AutoShape 10"/>
          <p:cNvCxnSpPr>
            <a:stCxn id="303" idx="0"/>
            <a:endCxn id="297" idx="2"/>
          </p:cNvCxnSpPr>
          <p:nvPr/>
        </p:nvCxnSpPr>
        <p:spPr>
          <a:xfrm flipH="1" flipV="1">
            <a:off x="1764720" y="3141360"/>
            <a:ext cx="2664360" cy="201672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05" name="AutoShape 11"/>
          <p:cNvCxnSpPr>
            <a:stCxn id="303" idx="0"/>
            <a:endCxn id="298" idx="2"/>
          </p:cNvCxnSpPr>
          <p:nvPr/>
        </p:nvCxnSpPr>
        <p:spPr>
          <a:xfrm flipH="1" flipV="1">
            <a:off x="3492000" y="3788640"/>
            <a:ext cx="937440" cy="13690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06" name="AutoShape 12"/>
          <p:cNvCxnSpPr>
            <a:stCxn id="302" idx="0"/>
            <a:endCxn id="298" idx="2"/>
          </p:cNvCxnSpPr>
          <p:nvPr/>
        </p:nvCxnSpPr>
        <p:spPr>
          <a:xfrm flipH="1" flipV="1">
            <a:off x="3492000" y="3788640"/>
            <a:ext cx="2882160" cy="13690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07" name="AutoShape 13"/>
          <p:cNvCxnSpPr>
            <a:stCxn id="303" idx="3"/>
            <a:endCxn id="302" idx="1"/>
          </p:cNvCxnSpPr>
          <p:nvPr/>
        </p:nvCxnSpPr>
        <p:spPr>
          <a:xfrm>
            <a:off x="5076360" y="5446440"/>
            <a:ext cx="648360" cy="10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08" name="AutoShape 14"/>
          <p:cNvCxnSpPr>
            <a:stCxn id="300" idx="2"/>
            <a:endCxn id="303" idx="0"/>
          </p:cNvCxnSpPr>
          <p:nvPr/>
        </p:nvCxnSpPr>
        <p:spPr>
          <a:xfrm flipH="1">
            <a:off x="4428360" y="4292280"/>
            <a:ext cx="2377080" cy="8658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09" name="AutoShape 15"/>
          <p:cNvCxnSpPr>
            <a:stCxn id="299" idx="1"/>
            <a:endCxn id="298" idx="3"/>
          </p:cNvCxnSpPr>
          <p:nvPr/>
        </p:nvCxnSpPr>
        <p:spPr>
          <a:xfrm flipH="1" flipV="1">
            <a:off x="4139640" y="3501720"/>
            <a:ext cx="432360" cy="50400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  <p:cxnSp>
        <p:nvCxnSpPr>
          <p:cNvPr id="310" name="AutoShape 16"/>
          <p:cNvCxnSpPr>
            <a:stCxn id="300" idx="0"/>
            <a:endCxn id="297" idx="0"/>
          </p:cNvCxnSpPr>
          <p:nvPr/>
        </p:nvCxnSpPr>
        <p:spPr>
          <a:xfrm flipH="1" flipV="1">
            <a:off x="1765080" y="2564640"/>
            <a:ext cx="5040720" cy="115164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11" name="AutoShape 17"/>
          <p:cNvCxnSpPr>
            <a:stCxn id="301" idx="0"/>
            <a:endCxn id="298" idx="3"/>
          </p:cNvCxnSpPr>
          <p:nvPr/>
        </p:nvCxnSpPr>
        <p:spPr>
          <a:xfrm flipH="1" flipV="1">
            <a:off x="4140000" y="3501360"/>
            <a:ext cx="4177440" cy="21492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  <p:cxnSp>
        <p:nvCxnSpPr>
          <p:cNvPr id="312" name="AutoShape 18"/>
          <p:cNvCxnSpPr>
            <a:stCxn id="301" idx="2"/>
            <a:endCxn id="302" idx="3"/>
          </p:cNvCxnSpPr>
          <p:nvPr/>
        </p:nvCxnSpPr>
        <p:spPr>
          <a:xfrm flipH="1">
            <a:off x="7020720" y="4292640"/>
            <a:ext cx="1296360" cy="115488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  <p:cxnSp>
        <p:nvCxnSpPr>
          <p:cNvPr id="313" name="AutoShape 19"/>
          <p:cNvCxnSpPr>
            <a:stCxn id="299" idx="2"/>
            <a:endCxn id="302" idx="0"/>
          </p:cNvCxnSpPr>
          <p:nvPr/>
        </p:nvCxnSpPr>
        <p:spPr>
          <a:xfrm>
            <a:off x="5221080" y="4292280"/>
            <a:ext cx="1152720" cy="86580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  <p:cxnSp>
        <p:nvCxnSpPr>
          <p:cNvPr id="314" name="AutoShape 20"/>
          <p:cNvCxnSpPr/>
          <p:nvPr/>
        </p:nvCxnSpPr>
        <p:spPr>
          <a:xfrm flipV="1">
            <a:off x="4572000" y="4291920"/>
            <a:ext cx="792720" cy="8658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15" name="AutoShape 21"/>
          <p:cNvCxnSpPr/>
          <p:nvPr/>
        </p:nvCxnSpPr>
        <p:spPr>
          <a:xfrm flipH="1" flipV="1">
            <a:off x="5363640" y="4291920"/>
            <a:ext cx="1153440" cy="86580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DFG+CDG)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116000" y="256536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843280" y="3213000"/>
            <a:ext cx="1297080" cy="576360"/>
          </a:xfrm>
          <a:prstGeom prst="rect">
            <a:avLst/>
          </a:prstGeom>
          <a:solidFill>
            <a:srgbClr val="c6d9ea"/>
          </a:solidFill>
          <a:ln w="9360">
            <a:solidFill>
              <a:srgbClr val="a7b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572000" y="3716280"/>
            <a:ext cx="1297080" cy="576360"/>
          </a:xfrm>
          <a:prstGeom prst="rect">
            <a:avLst/>
          </a:prstGeom>
          <a:solidFill>
            <a:srgbClr val="c6d9ea"/>
          </a:solidFill>
          <a:ln w="9360">
            <a:solidFill>
              <a:srgbClr val="a7b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i&lt;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156360" y="3716280"/>
            <a:ext cx="129708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(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667640" y="3716280"/>
            <a:ext cx="1297080" cy="576360"/>
          </a:xfrm>
          <a:prstGeom prst="rect">
            <a:avLst/>
          </a:prstGeom>
          <a:solidFill>
            <a:srgbClr val="c6d9ea"/>
          </a:solidFill>
          <a:ln w="9360">
            <a:solidFill>
              <a:srgbClr val="a7b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5724360" y="5157720"/>
            <a:ext cx="1297080" cy="576360"/>
          </a:xfrm>
          <a:prstGeom prst="rect">
            <a:avLst/>
          </a:prstGeom>
          <a:solidFill>
            <a:srgbClr val="c6d9ea"/>
          </a:solidFill>
          <a:ln w="9360">
            <a:solidFill>
              <a:srgbClr val="a7b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3780000" y="5157720"/>
            <a:ext cx="1296720" cy="576360"/>
          </a:xfrm>
          <a:prstGeom prst="rect">
            <a:avLst/>
          </a:prstGeom>
          <a:solidFill>
            <a:srgbClr val="e7eac6"/>
          </a:solidFill>
          <a:ln w="9360">
            <a:solidFill>
              <a:srgbClr val="cdc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+=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0"/>
          <p:cNvCxnSpPr>
            <a:stCxn id="324" idx="0"/>
            <a:endCxn id="318" idx="2"/>
          </p:cNvCxnSpPr>
          <p:nvPr/>
        </p:nvCxnSpPr>
        <p:spPr>
          <a:xfrm flipH="1" flipV="1">
            <a:off x="1764720" y="3141360"/>
            <a:ext cx="2664360" cy="201672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26" name="AutoShape 11"/>
          <p:cNvCxnSpPr>
            <a:stCxn id="324" idx="0"/>
            <a:endCxn id="319" idx="2"/>
          </p:cNvCxnSpPr>
          <p:nvPr/>
        </p:nvCxnSpPr>
        <p:spPr>
          <a:xfrm flipH="1" flipV="1">
            <a:off x="3492000" y="3788640"/>
            <a:ext cx="937440" cy="13690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27" name="AutoShape 12"/>
          <p:cNvCxnSpPr>
            <a:stCxn id="323" idx="0"/>
            <a:endCxn id="319" idx="2"/>
          </p:cNvCxnSpPr>
          <p:nvPr/>
        </p:nvCxnSpPr>
        <p:spPr>
          <a:xfrm flipH="1" flipV="1">
            <a:off x="3492000" y="3788640"/>
            <a:ext cx="2882160" cy="13690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28" name="AutoShape 13"/>
          <p:cNvCxnSpPr>
            <a:stCxn id="324" idx="3"/>
            <a:endCxn id="323" idx="1"/>
          </p:cNvCxnSpPr>
          <p:nvPr/>
        </p:nvCxnSpPr>
        <p:spPr>
          <a:xfrm>
            <a:off x="5076360" y="5446440"/>
            <a:ext cx="648360" cy="108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29" name="AutoShape 14"/>
          <p:cNvCxnSpPr>
            <a:stCxn id="321" idx="2"/>
            <a:endCxn id="324" idx="0"/>
          </p:cNvCxnSpPr>
          <p:nvPr/>
        </p:nvCxnSpPr>
        <p:spPr>
          <a:xfrm flipH="1">
            <a:off x="4428360" y="4292280"/>
            <a:ext cx="2377080" cy="8658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30" name="AutoShape 15"/>
          <p:cNvCxnSpPr>
            <a:stCxn id="320" idx="1"/>
            <a:endCxn id="319" idx="3"/>
          </p:cNvCxnSpPr>
          <p:nvPr/>
        </p:nvCxnSpPr>
        <p:spPr>
          <a:xfrm flipH="1" flipV="1">
            <a:off x="4139640" y="3501720"/>
            <a:ext cx="432360" cy="50400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  <p:cxnSp>
        <p:nvCxnSpPr>
          <p:cNvPr id="331" name="AutoShape 16"/>
          <p:cNvCxnSpPr>
            <a:stCxn id="321" idx="0"/>
            <a:endCxn id="318" idx="0"/>
          </p:cNvCxnSpPr>
          <p:nvPr/>
        </p:nvCxnSpPr>
        <p:spPr>
          <a:xfrm flipH="1" flipV="1">
            <a:off x="1765080" y="2564640"/>
            <a:ext cx="5040720" cy="115164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32" name="AutoShape 17"/>
          <p:cNvCxnSpPr>
            <a:stCxn id="322" idx="0"/>
            <a:endCxn id="319" idx="3"/>
          </p:cNvCxnSpPr>
          <p:nvPr/>
        </p:nvCxnSpPr>
        <p:spPr>
          <a:xfrm flipH="1" flipV="1">
            <a:off x="4140000" y="3501360"/>
            <a:ext cx="4177440" cy="21492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  <p:cxnSp>
        <p:nvCxnSpPr>
          <p:cNvPr id="333" name="AutoShape 18"/>
          <p:cNvCxnSpPr>
            <a:stCxn id="322" idx="2"/>
            <a:endCxn id="323" idx="3"/>
          </p:cNvCxnSpPr>
          <p:nvPr/>
        </p:nvCxnSpPr>
        <p:spPr>
          <a:xfrm flipH="1">
            <a:off x="7020720" y="4292640"/>
            <a:ext cx="1296360" cy="115488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  <p:cxnSp>
        <p:nvCxnSpPr>
          <p:cNvPr id="334" name="AutoShape 19"/>
          <p:cNvCxnSpPr>
            <a:stCxn id="320" idx="2"/>
            <a:endCxn id="323" idx="0"/>
          </p:cNvCxnSpPr>
          <p:nvPr/>
        </p:nvCxnSpPr>
        <p:spPr>
          <a:xfrm>
            <a:off x="5221080" y="4292280"/>
            <a:ext cx="1152720" cy="86580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  <p:cxnSp>
        <p:nvCxnSpPr>
          <p:cNvPr id="335" name="AutoShape 20"/>
          <p:cNvCxnSpPr/>
          <p:nvPr/>
        </p:nvCxnSpPr>
        <p:spPr>
          <a:xfrm flipV="1">
            <a:off x="4572000" y="4291920"/>
            <a:ext cx="792720" cy="865800"/>
          </a:xfrm>
          <a:prstGeom prst="straightConnector1">
            <a:avLst/>
          </a:prstGeom>
          <a:ln w="28440">
            <a:solidFill>
              <a:srgbClr val="cdc7a7"/>
            </a:solidFill>
            <a:miter/>
            <a:tailEnd len="med" type="triangle" w="med"/>
          </a:ln>
        </p:spPr>
      </p:cxnSp>
      <p:cxnSp>
        <p:nvCxnSpPr>
          <p:cNvPr id="336" name="AutoShape 21"/>
          <p:cNvCxnSpPr/>
          <p:nvPr/>
        </p:nvCxnSpPr>
        <p:spPr>
          <a:xfrm flipH="1" flipV="1">
            <a:off x="5363640" y="4291920"/>
            <a:ext cx="1153440" cy="865800"/>
          </a:xfrm>
          <a:prstGeom prst="straightConnector1">
            <a:avLst/>
          </a:prstGeom>
          <a:ln w="28440">
            <a:solidFill>
              <a:srgbClr val="a7bbcd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s and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secu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FixSql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res = "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.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 =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 re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Execute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Reader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foo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s1,s2,s3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= FixSql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= s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 = s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secu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76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FixSql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res = "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.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 =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 re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Execute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Reader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foo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s1,s2,s3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= FixSql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= s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 = s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2890800" y="5491080"/>
            <a:ext cx="719280" cy="216000"/>
          </a:xfrm>
          <a:prstGeom prst="leftArrow">
            <a:avLst>
              <a:gd name="adj1" fmla="val 50000"/>
              <a:gd name="adj2" fmla="val 83250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595680" y="53481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2917800" y="4857840"/>
            <a:ext cx="719280" cy="215640"/>
          </a:xfrm>
          <a:prstGeom prst="leftArrow">
            <a:avLst>
              <a:gd name="adj1" fmla="val 50000"/>
              <a:gd name="adj2" fmla="val 83389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622680" y="47149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917800" y="4572000"/>
            <a:ext cx="719280" cy="216000"/>
          </a:xfrm>
          <a:prstGeom prst="leftArrow">
            <a:avLst>
              <a:gd name="adj1" fmla="val 50000"/>
              <a:gd name="adj2" fmla="val 83250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622680" y="4429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2928960" y="4286160"/>
            <a:ext cx="719280" cy="216000"/>
          </a:xfrm>
          <a:prstGeom prst="leftArrow">
            <a:avLst>
              <a:gd name="adj1" fmla="val 50000"/>
              <a:gd name="adj2" fmla="val 83250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633840" y="41432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secu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980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FixSql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res = "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.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 =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 re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Execute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Reader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foo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s1,s2,s3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1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2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3 = FixSql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1 = s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 = s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890800" y="5491080"/>
            <a:ext cx="719280" cy="216000"/>
          </a:xfrm>
          <a:prstGeom prst="leftArrow">
            <a:avLst>
              <a:gd name="adj1" fmla="val 50000"/>
              <a:gd name="adj2" fmla="val 83250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595680" y="53481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2917800" y="4857840"/>
            <a:ext cx="719280" cy="215640"/>
          </a:xfrm>
          <a:prstGeom prst="leftArrow">
            <a:avLst>
              <a:gd name="adj1" fmla="val 50000"/>
              <a:gd name="adj2" fmla="val 83389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622680" y="47149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2917800" y="4572000"/>
            <a:ext cx="719280" cy="216000"/>
          </a:xfrm>
          <a:prstGeom prst="leftArrow">
            <a:avLst>
              <a:gd name="adj1" fmla="val 50000"/>
              <a:gd name="adj2" fmla="val 83250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622680" y="4429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2928960" y="4286160"/>
            <a:ext cx="719280" cy="216000"/>
          </a:xfrm>
          <a:prstGeom prst="leftArrow">
            <a:avLst>
              <a:gd name="adj1" fmla="val 50000"/>
              <a:gd name="adj2" fmla="val 83250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633840" y="41432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secu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FixSql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res = "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.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 =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 re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Execute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Reader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foo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s1,s2,s3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1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2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3 = FixSql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1 = s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 = s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2890800" y="1471680"/>
            <a:ext cx="719280" cy="216000"/>
          </a:xfrm>
          <a:prstGeom prst="leftArrow">
            <a:avLst>
              <a:gd name="adj1" fmla="val 50000"/>
              <a:gd name="adj2" fmla="val 83250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3595680" y="134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secu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8838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FixSql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res = "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.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 =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 re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Execute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Reader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foo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s1,s2,s3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1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2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s3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= FixSql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Execute(s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e004a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e004a"/>
                </a:solidFill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s1 = s3;</a:t>
            </a:r>
            <a:br>
              <a:rPr sz="1600"/>
            </a:br>
            <a:r>
              <a:rPr b="0" i="1" lang="en-US" sz="1600" spc="-1" strike="noStrike">
                <a:solidFill>
                  <a:srgbClr val="00b050"/>
                </a:solidFill>
                <a:latin typeface="Tahoma"/>
              </a:rPr>
              <a:t>s2 = s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2666880" y="2133720"/>
            <a:ext cx="719280" cy="215640"/>
          </a:xfrm>
          <a:prstGeom prst="leftArrow">
            <a:avLst>
              <a:gd name="adj1" fmla="val 50000"/>
              <a:gd name="adj2" fmla="val 83389"/>
            </a:avLst>
          </a:prstGeom>
          <a:solidFill>
            <a:srgbClr val="e1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657600" y="1981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secu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80820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FixSql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res = "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.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 =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 re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Execute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Reader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foo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s1,s2,s3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1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2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s3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= FixSql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Execute(s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e004a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e004a"/>
                </a:solidFill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s1 = s3;</a:t>
            </a:r>
            <a:br>
              <a:rPr sz="1600"/>
            </a:br>
            <a:r>
              <a:rPr b="0" i="1" lang="en-US" sz="1600" spc="-1" strike="noStrike">
                <a:solidFill>
                  <a:srgbClr val="00b050"/>
                </a:solidFill>
                <a:latin typeface="Tahoma"/>
              </a:rPr>
              <a:t>s2 = s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995640" y="256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pping on “Exec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secu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7621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FixSql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res = "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.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 =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 re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Execute(string 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Reader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foo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ing s1,s2,s3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 = Inp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= FixSql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Execute(s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= s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 = s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Tahoma"/>
              </a:rPr>
              <a:t>Execute(s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995640" y="256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pping on “Exec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EE4-CFF9-4FCD-838C-208F21E7745D}" type="slidenum">
              <a:rPr b="0" lang="he-IL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6"/>
          <p:cNvGrpSpPr/>
          <p:nvPr/>
        </p:nvGrpSpPr>
        <p:grpSpPr>
          <a:xfrm>
            <a:off x="3048120" y="2819520"/>
            <a:ext cx="4620960" cy="2226960"/>
            <a:chOff x="3048120" y="2819520"/>
            <a:chExt cx="4620960" cy="2226960"/>
          </a:xfrm>
        </p:grpSpPr>
        <p:sp>
          <p:nvSpPr>
            <p:cNvPr id="375" name="Text Box 4"/>
            <p:cNvSpPr/>
            <p:nvPr/>
          </p:nvSpPr>
          <p:spPr>
            <a:xfrm>
              <a:off x="3048120" y="2855520"/>
              <a:ext cx="462096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7840" indent="950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5"/>
            <p:cNvSpPr/>
            <p:nvPr/>
          </p:nvSpPr>
          <p:spPr>
            <a:xfrm>
              <a:off x="3048120" y="2819520"/>
              <a:ext cx="4620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Verdana"/>
                </a:rPr>
                <a:t>Thank yo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0" lang="en-US" sz="2800" spc="-1" strike="noStrike">
                  <a:solidFill>
                    <a:srgbClr val="333333"/>
                  </a:solidFill>
                  <a:latin typeface="Verdana"/>
                </a:rPr>
                <a:t>Maty Siman</a:t>
              </a:r>
              <a:br>
                <a:rPr sz="2800"/>
              </a:br>
              <a:r>
                <a:rPr b="0" lang="en-US" sz="2800" spc="-1" strike="noStrike">
                  <a:solidFill>
                    <a:srgbClr val="333333"/>
                  </a:solidFill>
                  <a:latin typeface="Verdana"/>
                </a:rPr>
                <a:t>maty@checkmarx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6"/>
          <p:cNvGrpSpPr/>
          <p:nvPr/>
        </p:nvGrpSpPr>
        <p:grpSpPr>
          <a:xfrm>
            <a:off x="5929200" y="4214880"/>
            <a:ext cx="3167280" cy="1331280"/>
            <a:chOff x="5929200" y="4214880"/>
            <a:chExt cx="3167280" cy="1331280"/>
          </a:xfrm>
        </p:grpSpPr>
        <p:sp>
          <p:nvSpPr>
            <p:cNvPr id="378" name="Text Box 4"/>
            <p:cNvSpPr/>
            <p:nvPr/>
          </p:nvSpPr>
          <p:spPr>
            <a:xfrm>
              <a:off x="5929200" y="4214880"/>
              <a:ext cx="3167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7840" indent="950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5929200" y="4751280"/>
              <a:ext cx="31672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Verdana"/>
                </a:rPr>
                <a:t>OWAS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Verdana"/>
                </a:rPr>
                <a:t>September 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14" descr="http://tbn0.google.com/images?q=tbn:UC6cjMBsHQQQyM:http://www.cs.kuleuven.be/~lieven/AppSec2008/images/owasp-logo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9720" y="37861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 Flow Grap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s the flow of data through 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OC has its own vert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represent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fluence of data in the source vertex on the data in the destination vertex (therefore, assignment statements are source vertex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 Flow Graph (cont.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8000" y="1484280"/>
            <a:ext cx="2303280" cy="4581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j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i &lt; 1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i == 3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=j*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= j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i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 ("%d\n", 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 ("%d,n", 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487600" y="1557360"/>
          <a:ext cx="665640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7600" y="1557360"/>
                    <a:ext cx="665640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procedure Data Flow Grap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0" name="Object 7"/>
          <p:cNvGraphicFramePr/>
          <p:nvPr/>
        </p:nvGraphicFramePr>
        <p:xfrm>
          <a:off x="2487600" y="1557360"/>
          <a:ext cx="665640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7600" y="1557360"/>
                    <a:ext cx="665640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108000" y="1484280"/>
            <a:ext cx="2303280" cy="4581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 = calc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b = calc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calc(int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urn i*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procedure Data Flow Grap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Object 7"/>
          <p:cNvGraphicFramePr/>
          <p:nvPr/>
        </p:nvGraphicFramePr>
        <p:xfrm>
          <a:off x="2487600" y="1557360"/>
          <a:ext cx="665640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7600" y="1557360"/>
                    <a:ext cx="665640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4"/>
          <p:cNvSpPr/>
          <p:nvPr/>
        </p:nvSpPr>
        <p:spPr>
          <a:xfrm>
            <a:off x="108000" y="1484280"/>
            <a:ext cx="2303280" cy="4581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 = calc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b = calc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calc(int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urn i*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inted value propag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457200" y="1214280"/>
            <a:ext cx="82296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used for many vulnera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QL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X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ored X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econd Order SQL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Log fo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ome types of rac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LDAP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omman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irectory tra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ight Brace 3"/>
          <p:cNvSpPr/>
          <p:nvPr/>
        </p:nvSpPr>
        <p:spPr>
          <a:xfrm>
            <a:off x="5572080" y="1785960"/>
            <a:ext cx="571680" cy="4357800"/>
          </a:xfrm>
          <a:custGeom>
            <a:avLst/>
            <a:gdLst>
              <a:gd name="textAreaLeft" fmla="*/ 0 w 571680"/>
              <a:gd name="textAreaRight" fmla="*/ 206280 w 571680"/>
              <a:gd name="textAreaTop" fmla="*/ 216720 h 4357800"/>
              <a:gd name="textAreaBottom" fmla="*/ 4141080 h 43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18"/>
                  <a:pt x="10800" y="3435"/>
                </a:cubicBezTo>
                <a:lnTo>
                  <a:pt x="10800" y="7365"/>
                </a:lnTo>
                <a:cubicBezTo>
                  <a:pt x="10800" y="9083"/>
                  <a:pt x="16200" y="10800"/>
                  <a:pt x="21600" y="10800"/>
                </a:cubicBezTo>
                <a:cubicBezTo>
                  <a:pt x="16200" y="10800"/>
                  <a:pt x="10800" y="12518"/>
                  <a:pt x="10800" y="14235"/>
                </a:cubicBezTo>
                <a:lnTo>
                  <a:pt x="10800" y="18165"/>
                </a:lnTo>
                <a:cubicBezTo>
                  <a:pt x="10800" y="1988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6143760" y="2786040"/>
            <a:ext cx="300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cd06"/>
                </a:solidFill>
                <a:latin typeface="Arial"/>
              </a:rPr>
              <a:t>Inp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5d0d"/>
                </a:solidFill>
                <a:latin typeface="Arial"/>
              </a:rPr>
              <a:t> Data influencing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cd06"/>
                </a:solidFill>
                <a:latin typeface="Arial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5d0d"/>
                </a:solidFill>
                <a:latin typeface="Arial"/>
              </a:rPr>
              <a:t>And not sanitiz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cd06"/>
                </a:solidFill>
                <a:latin typeface="Arial"/>
              </a:rPr>
              <a:t>YY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t 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57200" y="1600200"/>
            <a:ext cx="82296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any many many many many mor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lve - Code most comp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Access to the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d again - SQL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746280" y="2479680"/>
            <a:ext cx="7848360" cy="2376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Connection con = (acquire conne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.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Command cmd = new Sql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SELECT * FROM users WHERE name = @userName", c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Parame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Add("@userName", userNam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DataReader rdr = cmd.ExecuteRea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0:02:23Z</dcterms:created>
  <dc:creator>Amichai Shulman</dc:creator>
  <dc:description/>
  <dc:language>en-US</dc:language>
  <cp:lastModifiedBy>Ofer Shezaf</cp:lastModifiedBy>
  <dcterms:modified xsi:type="dcterms:W3CDTF">2008-09-23T22:46:04Z</dcterms:modified>
  <cp:revision>249</cp:revision>
  <dc:subject/>
  <dc:title>Web Application Security and Search Engines - Beyond Google Hacking</dc:title>
</cp:coreProperties>
</file>