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0BD-938F-49DE-8A4F-FA426B3A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0A1-5395-4848-AAC3-17B431F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A1E797-9FB7-4CF2-8A5C-E9D571A0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EC6A6-3209-4789-A0F2-1818BB7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976DC-4422-40F6-B235-2D88774D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45B46-2D5A-4930-B602-9F4A502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0A1A02-5F3F-46BD-97CE-E02D475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86419E-7848-4AC9-BFC3-2A36EB3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4C31FD-F3E1-4469-B825-E2B8F5A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EEADC6-707E-4516-B9ED-4566B3A9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141C8-102B-43C1-9807-76C8326D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E6C-CBC5-4E81-8919-4B38FB10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E20-C003-4F54-B35F-B2F6817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C01B-7C47-4207-80E0-10CFBF7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B1F9-10BC-4B17-BDD9-2552660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8431D-54A8-4EC5-81BD-6E4F14E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C4E1A-F394-4FCF-8261-8B9CC7D5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8C4D5-E4A2-4175-A523-165F238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BD61-D7B3-4955-8D49-131C8A3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739D2-82CC-44E8-A292-E0D2BFEB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256-D4EA-4AFC-BB1B-3CDF8C1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1651-A9D0-40CA-9E06-F9313D6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2F5E-C024-4B33-8C8B-BB3D8FA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3A24E-1092-42BE-BC57-264C52DD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9036B-08CC-44FD-B2FE-81181500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8F062-7044-41E7-8B95-A34E8FC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C38C-C172-40AD-B16B-552DBB1E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51BF-B3A1-46BA-BE9C-8DA9BE93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F134-B175-4FC8-8495-494D29B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1BCA-D6EB-49C0-AD23-FA70A0E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EBD1-5AC6-4E40-B52E-4CF3442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135-4154-41C7-A188-53EB527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28AD-DA51-49AA-867B-71CFC18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D591-1D04-422B-AA34-1C7FF4A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3C6E-EA5E-49E3-AB85-B71E474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DAD7-F9D1-4920-BD4A-986A2E1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65EF-0DC0-449C-9223-BD54544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F579-70EF-4996-97BB-5BE727C3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EA65-D33B-49CE-AC48-22FBC585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091A9-07B1-4653-8F37-99D5EBFF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682E9-715E-488D-B1B0-03AF3147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AAA51-41F2-4FC2-B3F4-D62CD35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4E4-EF5C-4DEE-A90D-B5907DC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5B51A-D700-4E40-8F30-0FD2352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6ED88-5BEF-4283-91AB-17F3DAA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EF8CF-76FF-45E5-906A-C659B07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BB2A8-4453-40EA-8B7D-5FD3763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6C5A7-C0EC-48CA-9823-B3A615D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17BBF-530D-4DE0-8EA7-D5F6997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58885-29F6-4F79-BFC1-8F8B509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B37E0-6AB8-463B-983D-C742D71B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7AFA4-15E6-4A20-9402-886843D0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729F-6E6B-446C-8FCC-54A1A2B4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4DB-0612-4EB2-BB79-29712EBB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6B46-0680-4C7C-A848-7579A9C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00E8A-407C-4670-BE4A-9DA03E5A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3CE4-CC88-478A-A801-AF43015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948E-D99E-4C45-BD2E-8E9DAE8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A7D1B-9C73-4949-BEC4-D0B781C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021F-7BF6-4E1F-AB3D-3BCB0D0D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7537-8F27-404F-80FE-9B980C4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0E8A4-E07F-48C1-82D1-9240A8A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9441-D558-4FC8-BD67-66E47859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62A9-23CF-4080-89D0-3E927FC0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CFE-8B96-4ED0-8DD4-5311B8E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F813-4F2B-463D-BC04-39EBE27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59A4-FF70-478D-B966-8F537BA9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F78B-8D45-49F6-8AD1-355D1A50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684E-A5A6-41B7-A4FA-71C742F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FF0D4-F15A-4B58-AAEC-D1D3B68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4D1A-4907-41BB-AED3-C4C1EAE8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5840-FF2E-4D1F-A4D3-1847900A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FDD80-4300-44A8-8A7F-BF73137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2C4C-A084-4198-9024-750E273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5460-DF46-4508-A5F9-D7A6D7C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14E-C089-4403-9CDF-5CC6C7A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3A08-2CA4-424E-B1B7-0EB4367A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7024E-1717-4071-86B8-06B54817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F5F8-3F27-4719-A058-4D62A2E5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DC26-629B-4245-A9AF-49BF252B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56B7-FF8A-40C8-B63C-C1F1123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A6AD-0BE8-4793-A769-C234D0AC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FD3B-3F1F-4735-AEDB-7DF4022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EA0C-B909-46EA-AC8D-B10AF8F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AB93-1CBC-4E6E-988F-0107BB58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9702-75E1-4E46-A1A3-644DE75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77D-4C60-44D8-8F71-C845AD4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B639-555E-481F-B69C-4489BE5A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B727-EDD0-4A49-A1A3-0C0B9A22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8A1C-EF57-4AA2-8332-04F476F6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89F0-6DEF-4DE3-8247-B89F567B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7B6A9-60EE-43AB-8514-EADCC075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36AB4-A1C1-4D79-B4E9-FACD59B4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72E7D-90FA-4ED4-95C0-8C63FA56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F820A-015C-4F13-B7C8-C9EDB971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2C2FC-3BFD-4D8B-8A83-F1F18DA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B3EC5-69A9-4B10-AB91-65B3158D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741-96E0-4B58-8E35-FC73E6E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73F7B-8542-405D-9474-3146554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6DC2E-DDCE-4F8F-9848-E4E12D6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85755-C1F3-46D9-AB8C-24E962C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6BD0F-BEF1-43D9-B292-96F4BDB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7E68A-28A5-4260-BDB9-54C20593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4ECB3B-8F3F-4E79-90CE-1D7F431F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81427-238F-4A01-822C-6CD558B1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CB28E-230B-4A9F-85FA-81E5A40F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543F8-1119-466E-8299-B408DEF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3A710-C30D-4F67-93C1-9230E73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1EF9-8263-45FD-9884-3EA1C847AB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6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1D2-E96C-45B7-898E-08D254C7EE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D20-5335-4E26-A52D-3D97137E74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A6B-CFBE-4D8B-8BDD-1F0D47E69C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D2F2-958C-4333-8E2F-60C566C6F8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526-F8C6-4008-A676-B72FE171E3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378-056A-4980-968C-B4F0F87EDF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6F2-4FF1-41A2-8638-553FEAA3D2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D82-3F3D-4797-ADC1-0F4D18C20F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zeleet.com/security.htm" TargetMode="External"/><Relationship Id="rId3" Type="http://schemas.openxmlformats.org/officeDocument/2006/relationships/hyperlink" Target="mailto:hidejo@gmail.com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7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b application securit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zeleet.com/security.htm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nline String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Extract out unicode and ascii strings from binary files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Quick and accessible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Thought it was cool :-P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4114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6840" y="1646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kes it one click operation to map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gain it’s available anywhere with web access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Nothing surprising but fun tool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Lesson: Don’t share photos taken with phone! j/k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4510080" y="1776240"/>
            <a:ext cx="4329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View State Decoder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llows you to peek inside what’s inside ViewState data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emystifies content of viewstate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llows you to see a tree view of all the property values in viewstate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ny server side sensitive info inside?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ny questionable property being stored?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433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40640" cy="151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el free to use it for authorized pen-test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zeleet.com/security.htm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ver 20+ tools (including bookmarklet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you have tools you’d like to see online please shoot me a mai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idejo@gmail.com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40640" cy="1512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b security tools that are on the web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ave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uild a clean interface (Based on JQuery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essible anywher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 other pen-test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ptimized for IE for now (personal project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87640" y="1523880"/>
            <a:ext cx="5346720" cy="5029200"/>
          </a:xfrm>
          <a:prstGeom prst="rect">
            <a:avLst/>
          </a:prstGeom>
          <a:ln w="0">
            <a:noFill/>
          </a:ln>
        </p:spPr>
      </p:pic>
      <p:sp>
        <p:nvSpPr>
          <p:cNvPr id="400" name="Oval 3"/>
          <p:cNvSpPr/>
          <p:nvPr/>
        </p:nvSpPr>
        <p:spPr>
          <a:xfrm>
            <a:off x="2362320" y="2286000"/>
            <a:ext cx="30456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2087640" y="1523880"/>
            <a:ext cx="5346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3052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SRF POC Helper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utomates x-domain post via link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Linked page auto-submits form to make x-domain post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emonstrates CSRF in POST just as dangerous as GET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792600" cy="3505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551480" y="1981080"/>
            <a:ext cx="3813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eb Text Converter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Generates Encoded Payloads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ave time! 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Accessible!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Encoders supports: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Various base entity encoding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Url encoding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Various base script encoding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Base 64 encoding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Obfuscated Ascii encoding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Regular UTF-7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Comprehensive UTF-7</a:t>
            </a: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8527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Heap Spray Wiz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prays your heap with default payload to run calc.exe or provide your own shellcode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eant to be used with AX tools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Configure how much heap memory you want to spray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akes it one click process to spray with working payload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746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Html Test Too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Render various content in the browser using arbitrary content-type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ifferent browsers treat different mime-types differently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Browsers sniff based on content-type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Flirting with mime-type paper by Blake Frantz.  Great paper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anity check mime-type behavior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595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1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eb Bug Too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at does it do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Creates temporary web bug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Record hits to a page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ave time reusing web bug.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87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53:34Z</dcterms:created>
  <dc:creator/>
  <dc:description/>
  <dc:language>en-US</dc:language>
  <cp:lastModifiedBy/>
  <dcterms:modified xsi:type="dcterms:W3CDTF">2010-02-04T06:53:58Z</dcterms:modified>
  <cp:revision>1</cp:revision>
  <dc:subject/>
  <dc:title/>
</cp:coreProperties>
</file>