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0AE-2706-4927-A494-75101444EA3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Flash movie run as outer or inner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NF == Potentially Dangerous Native Functions (credit of name to Stefa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-&gt;JS call any JS function in order to interacts with 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-&gt;AS Call ActionScript function or get/set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 object could be available in &lt;Frame&gt; or &lt;IFrame&gt; tag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0735-7344-4D6F-AB3A-7D85DE0FE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73CD-A3DB-4F1A-8170-F2478A3E8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C6EC-F28F-4EC1-8B0F-8944F6808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0302-C06D-4E7C-9D45-C20214526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528E-66BE-4B04-B3EA-FD80D2F98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0A65-6290-4B57-BBD6-2FC11F796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84AA-07C3-4447-8EDC-E9D33652B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1494-ADC6-4E4B-A47E-534E6F1BC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7CB4-BC49-4759-B5F5-65EA9E212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A9FA-F9D3-4D49-9C5A-2A884BAD0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F904-09F5-4BEA-98CC-4BFB14EC1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C877-8C06-44B1-BE82-3E0F43A28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000" spc="-1" strike="noStrike">
                <a:solidFill>
                  <a:srgbClr val="969696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DB14-1B57-48D4-B1E2-73156A400B5A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bachar@il.ibm.com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Automated Crawling &amp; Security Testing of Flash/Flex Web Applications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Ronen Bachar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Organization: IB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email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rbachar@il.ibm.com</a:t>
            </a:r>
            <a:r>
              <a:rPr b="0" lang="en-US" sz="1600" spc="-1" strike="noStrike" u="sng">
                <a:solidFill>
                  <a:srgbClr val="969696"/>
                </a:solidFill>
                <a:uFillTx/>
                <a:latin typeface="Tahoma"/>
              </a:rPr>
              <a:t>	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Phone: 09-9629852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552320" y="46483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14/9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00200" y="990720"/>
            <a:ext cx="1600200" cy="1600200"/>
            <a:chOff x="1600200" y="990720"/>
            <a:chExt cx="1600200" cy="16002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600200" y="9907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2438280" y="182880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llenges of Crawling Flas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properly test Flash/Flex-based applications, we have to crawl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 server-side end-points (new UR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 client-side states and logic (Flash Application tre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play the Flash movie in its “native”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sh movie runs in the original HTM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wser - include JavaScript engine (for JS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sh intera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Flash Player plug-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e must support dynamic content too (where script creates content on the fly), par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 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enoug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45C0-802B-4121-81B6-B957A4D6C9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llenges of Crawling Flash (Cont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 in Flash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vigation in Flash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nd Crawling (soundless, no pop-ups, no visu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inline movie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Flash Player is designed only to play movies, its programming interface is lim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D399-EA19-4EFD-86FF-542E6BED88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e Management in Flash applic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 Applications are primarily based on animation. We encounter the follow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do we identify/define “application state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t the current st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ing out that the current state is over/id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 define “state” as “GUI Object” container,  i.e. Movie Clips, Buttons &amp; Text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euristics &amp; Flash Plug-in gives us hints that the player is “idl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BF0A-8AE9-45E3-9C10-1B493F1FA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on in Flash Applica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avigate Flash application in its native fl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ill hard to define correct “functional flow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ild application tree (each node represents a sta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t current state details (GUI Objects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ctivate each GUI object according to typ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utton – click on it, move mouse over a button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xtField – fill it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vieClip – click o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Navigating between states through Flas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navigating back is not 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to store and play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90E0-687E-411F-87C3-F778FD622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pplication 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49240" y="1371600"/>
            <a:ext cx="7608960" cy="3962520"/>
            <a:chOff x="849240" y="1371600"/>
            <a:chExt cx="7608960" cy="3962520"/>
          </a:xfrm>
        </p:grpSpPr>
        <p:cxnSp>
          <p:nvCxnSpPr>
            <p:cNvPr id="155" name="_s122933"/>
            <p:cNvCxnSpPr>
              <a:stCxn id="156" idx="0"/>
              <a:endCxn id="157" idx="1"/>
            </p:cNvCxnSpPr>
            <p:nvPr/>
          </p:nvCxnSpPr>
          <p:spPr>
            <a:xfrm flipH="1" flipV="1" rot="5400000">
              <a:off x="3715200" y="3319560"/>
              <a:ext cx="1328040" cy="996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22931"/>
            <p:cNvCxnSpPr>
              <a:stCxn id="159" idx="0"/>
              <a:endCxn id="157" idx="2"/>
            </p:cNvCxnSpPr>
            <p:nvPr/>
          </p:nvCxnSpPr>
          <p:spPr>
            <a:xfrm flipV="1">
              <a:off x="5710320" y="3580560"/>
              <a:ext cx="2160" cy="90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22916"/>
            <p:cNvCxnSpPr>
              <a:stCxn id="161" idx="0"/>
              <a:endCxn id="162" idx="2"/>
            </p:cNvCxnSpPr>
            <p:nvPr/>
          </p:nvCxnSpPr>
          <p:spPr>
            <a:xfrm flipV="1">
              <a:off x="1682280" y="3657240"/>
              <a:ext cx="2520" cy="51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22914"/>
            <p:cNvCxnSpPr>
              <a:stCxn id="164" idx="0"/>
              <a:endCxn id="157" idx="3"/>
            </p:cNvCxnSpPr>
            <p:nvPr/>
          </p:nvCxnSpPr>
          <p:spPr>
            <a:xfrm flipV="1" rot="16200000">
              <a:off x="6420960" y="3274200"/>
              <a:ext cx="1326240" cy="108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22909"/>
            <p:cNvCxnSpPr>
              <a:stCxn id="157" idx="0"/>
              <a:endCxn id="166" idx="3"/>
            </p:cNvCxnSpPr>
            <p:nvPr/>
          </p:nvCxnSpPr>
          <p:spPr>
            <a:xfrm flipV="1" rot="16200000">
              <a:off x="4748400" y="1765440"/>
              <a:ext cx="929520" cy="99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22908"/>
            <p:cNvCxnSpPr>
              <a:endCxn id="166" idx="1"/>
            </p:cNvCxnSpPr>
            <p:nvPr/>
          </p:nvCxnSpPr>
          <p:spPr>
            <a:xfrm flipH="1" flipV="1" rot="5400000">
              <a:off x="1470600" y="2003760"/>
              <a:ext cx="1783440" cy="13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22904"/>
            <p:cNvSpPr/>
            <p:nvPr/>
          </p:nvSpPr>
          <p:spPr>
            <a:xfrm>
              <a:off x="3048120" y="1371600"/>
              <a:ext cx="1668240" cy="85392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2905"/>
            <p:cNvSpPr/>
            <p:nvPr/>
          </p:nvSpPr>
          <p:spPr>
            <a:xfrm>
              <a:off x="849240" y="2803680"/>
              <a:ext cx="1665360" cy="853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tate 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2906"/>
            <p:cNvSpPr/>
            <p:nvPr/>
          </p:nvSpPr>
          <p:spPr>
            <a:xfrm>
              <a:off x="4876920" y="2727360"/>
              <a:ext cx="1665000" cy="853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tate 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1    B2    MC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22913"/>
            <p:cNvSpPr/>
            <p:nvPr/>
          </p:nvSpPr>
          <p:spPr>
            <a:xfrm>
              <a:off x="6792840" y="4479840"/>
              <a:ext cx="1665360" cy="854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 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2915"/>
            <p:cNvSpPr/>
            <p:nvPr/>
          </p:nvSpPr>
          <p:spPr>
            <a:xfrm>
              <a:off x="849240" y="4175280"/>
              <a:ext cx="1665360" cy="853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2930"/>
            <p:cNvSpPr/>
            <p:nvPr/>
          </p:nvSpPr>
          <p:spPr>
            <a:xfrm>
              <a:off x="4876920" y="4481640"/>
              <a:ext cx="1666800" cy="85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22932"/>
            <p:cNvSpPr/>
            <p:nvPr/>
          </p:nvSpPr>
          <p:spPr>
            <a:xfrm>
              <a:off x="3048120" y="4481640"/>
              <a:ext cx="1665000" cy="85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CAF0-42E2-42D2-B58B-EAEE5D2057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9960" y="1257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ntrolled Flash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 parameters (from 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ttp://domain/movie.swf?param1=valu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Vars (from 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param name="FlashVars" value=“param1=value1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nstantiated variables (from Action Scri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getURL (clickTag,'_self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 potentially dangerous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controlled Flash parameters are used ins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DNFs (getURL, loadMovie, loadVariabl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sequences leading to potentially dangerou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e with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sting Flash Applic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1AC2-2954-4420-B6C0-A40516E3E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sting Flash Applications (ctd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tation - Inject values to the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SS: parm1=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javascript:window.open(‘http://my.site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SF: param2=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www.movie.sw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shing: param3=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www.my.sit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relevant sequence belongs to mutated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test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wser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Scrip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AF55-BF6D-4B9D-BD0F-B9D160652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sting AMF Parame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erver-s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F-speaking end-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standard parameter tampering techniques on AMF message fields: XSS, SQLi, HTTP Response Splitting, Command Executio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575160"/>
            <a:ext cx="3648240" cy="2114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V="1">
            <a:off x="2057400" y="5245200"/>
            <a:ext cx="8380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00600" y="3575160"/>
            <a:ext cx="3648240" cy="2114280"/>
            <a:chOff x="4800600" y="3575160"/>
            <a:chExt cx="3648240" cy="21142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4800600" y="3575160"/>
              <a:ext cx="364824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058880" y="5270400"/>
              <a:ext cx="9320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Verdana"/>
                </a:rPr>
                <a:t>' having 1=1-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769080" y="5180760"/>
              <a:ext cx="14479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809880" y="4572000"/>
            <a:ext cx="1067040" cy="3808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401"/>
          </a:solidFill>
          <a:ln w="25560">
            <a:solidFill>
              <a:srgbClr val="000000"/>
            </a:solidFill>
            <a:miter/>
          </a:ln>
          <a:effectLst>
            <a:outerShdw dist="52300" dir="62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04840" y="574668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iginal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6120" y="57531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tated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344A-86EA-4686-8D24-FEE1FCB90F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view of security risks in Flash/Flex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XSS Through Fl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ad &amp; Write access to HTML page or javascript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XS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ad &amp; Write access to SWF loader or HTML or javascript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hishing Through Fl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MF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SS, SQ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ross Domain Promiscuous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ad &amp; Write access to HTML page or javascript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B4AB-57F7-4969-A06A-BA11450231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Networking” set to ‘internal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criptAccess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t to ‘samedomain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data validation on variables sent to UR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ing access with “crossdomain.xm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scommand or ExternalInterface.call Instead of "javascript: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sett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Flash movie for Flash Player 8 or la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mit trace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A95C-BB4B-4017-9737-FE91042862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to Flash/Flex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vel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 data format and its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Flash Testing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d Craw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of security risks in Flash/Flex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4304-CF0C-4605-93BA-F58026F8E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more secure SWF web applications: http://www.adobe.com/devnet/flashplayer/articles/secure_swf_apps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be Flash Player 9 Security: http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be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net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player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cles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_player_9_security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 0 Specification: http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load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media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s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0_spec_12120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 3 Specification: http://download.macromedia.com/pub/labs/amf/amf3_spec_121207.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ng Flash Applications (Stefano Di Paola / OWASP): http://www.wisec.it/en/Docs/flash_App_testing_Owasp07.pd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0042-B32C-4003-8EC3-339184BEFE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/Flex 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Gulim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Developed by Macromedia (now Adob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Flash is used to create animations, ads, and various Web components, to integrate video into web pages and, more recently, to develop 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Can be consumed as web page element or standalone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ncludes Scripting languages - Action Script 1, 2 &amp;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Gulim"/>
              </a:rPr>
              <a:t>Flash play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Runs Flash content (SWF file form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Available as a plug-in for browsers (such as Mozilla Firefox and Internet Explorer) or as standalone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Each version is completely backward-compat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655B-6F3C-4D36-8348-DB0D222BC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/Flex Introduction (ctd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Gulim"/>
              </a:rPr>
              <a:t>Fle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 provides a framework for developing RIAs that run in Flash P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 of forcing applications into the “animation” model, developers can program real applications using MXML (XML document) for layout user-interface components, and Action Script for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Flash Player v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File Format (SW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only Action Script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JAX-lik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5ECD-DF34-465E-A3A6-753456CD3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/Flex Introduction (ctd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lash movie is embedded in Web pa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Flas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 DOM: interacts with DOM by executing JavaScript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JavaScript (HTML Hos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 Flash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14600" y="3317760"/>
            <a:ext cx="4038480" cy="3311640"/>
            <a:chOff x="2514600" y="3317760"/>
            <a:chExt cx="4038480" cy="3311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2514600" y="3317760"/>
              <a:ext cx="403848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5740560" y="3352680"/>
              <a:ext cx="660240" cy="6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863800" y="3492360"/>
              <a:ext cx="24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ost (Brows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683160" y="4311720"/>
              <a:ext cx="264132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5816520" y="435600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48040" y="4394160"/>
              <a:ext cx="14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lash P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1240" y="5880240"/>
              <a:ext cx="137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lash Mov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WF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4381560" y="505476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F2C8-46E1-4B47-B8C5-C99394EF7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in HTML p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6440" y="1736640"/>
            <a:ext cx="8931240" cy="36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EF7B-A3E2-469B-ABE3-699C9DEFF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MF - ActionScript Message Forma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nary messag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primarily to exchange data between Flash/Flex application and server side component, by serializing Action Script data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Connection uses AMF to send messages to a server to asynchronously invoke remote services (R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 0, 3 - require Flash Playe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F protocol specification is available (see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ing AMF format is crucial for manipulating (fuzzing) applications that use AM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DF8E-6790-43A8-8CD2-62C009DC33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MF Format Descrip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: 0,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(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: Serialized data (bina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(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RI: Service name/Respons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e URI: /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: Serialized data (bina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65960" y="3808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4B2D-83FD-4345-BDC7-EA7BAAC38E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MF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943360" cy="1822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960" y="9907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300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5680" y="3886200"/>
            <a:ext cx="4105440" cy="2378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20800" y="457200"/>
            <a:ext cx="20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0880"/>
            <a:ext cx="0" cy="60962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48320" y="1047600"/>
            <a:ext cx="3654360" cy="46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7EDC-57BB-43D9-B8F5-E1F6082322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Ronen</cp:lastModifiedBy>
  <dcterms:modified xsi:type="dcterms:W3CDTF">2008-09-14T12:07:07Z</dcterms:modified>
  <cp:revision>409</cp:revision>
  <dc:subject>Application Security</dc:subject>
  <dc:title>OWASP Plan - Strawman</dc:title>
</cp:coreProperties>
</file>